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6A45-5A36-4EE2-BF4E-789FC810B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 | State Rankings of Health Services Regulation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CE8C-4885-4DFC-B857-777ECF658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7FF-EAF1-4363-B9C6-44075B9A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41E-FC3E-42D5-94EE-0F18715D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778-72DB-475C-AED9-62FB8BE7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3EF-59BC-4A07-96FC-4E8E961D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5E2-0976-4F72-8EF5-BFE43779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938-0436-4ECC-95FD-078DF544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850-FFCC-4295-9B00-2F225388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65D-5709-406F-AF69-D8BBA8D2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325-EF7F-40E3-9CFE-DE8A3970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104-E5E4-4946-8117-51B761C9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E75-BB24-42BB-B7C6-4EF3ACC5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925-F547-40DE-9988-86119555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ED0F-7A33-4738-A6EC-1DF9C3BD6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4_3.png"/>
          <p:cNvPicPr/>
          <p:nvPr/>
        </p:nvPicPr>
        <p:blipFill>
          <a:blip r:embed="rId1"/>
          <a:stretch/>
        </p:blipFill>
        <p:spPr>
          <a:xfrm>
            <a:off x="912960" y="571680"/>
            <a:ext cx="6935760" cy="51973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447920" y="7621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4.3--State Rankings of Health Services regulation, 2007 (1=lea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09480" y="585144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raham J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dex of Health Ownersh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3rd Edition. Pacific Research Institute. 2009. http://www.pacificresearch.org/docLib/20090720_IHOP_3_2009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22:45:09Z</dcterms:created>
  <dc:creator>Jia Yao</dc:creator>
  <dc:description/>
  <dc:language>en-US</dc:language>
  <cp:lastModifiedBy>Jia Yao</cp:lastModifiedBy>
  <dcterms:modified xsi:type="dcterms:W3CDTF">2013-09-09T22:45:55Z</dcterms:modified>
  <cp:revision>1</cp:revision>
  <dc:subject/>
  <dc:title>PowerPoint Presentation</dc:title>
</cp:coreProperties>
</file>