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523C-331F-41CA-B641-F9A4C7D9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DC5-BC4F-4279-BB53-79E19E85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EF6E-40AB-4253-819D-61B05BA0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E66-8B54-4353-8EAB-AA008E17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01C4-91A4-4513-8293-18042712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9C6-2EBA-474D-B9E3-7878BE18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423F-8B55-4357-A701-E39E087C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87C3-1FEF-4D41-AD55-75759C2D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3A90-728C-4415-A43A-250ECE28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0ACE-4DF0-463D-8045-4A7CC218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7F98-A591-46DA-AEE3-69D302CC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5C0-44C8-4C19-994A-328D5A8E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F8CA-915F-47C0-8B81-9EBE4DAE4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152280"/>
            <a:ext cx="90313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9Z</dcterms:modified>
  <cp:revision>39</cp:revision>
  <dc:subject/>
  <dc:title>PowerPoint Presentation</dc:title>
</cp:coreProperties>
</file>