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4A5-D91D-47AD-A3A4-7ABE4285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18EB-1DF4-4657-97BB-839BA823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B74-A6AA-408F-8812-142F18FD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71C-E692-4233-90E4-8F1B0692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A55-97E5-4615-A28C-0794906C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1A69-97C7-4DA4-A6C0-705079CB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0E5-1A0B-4B80-A280-A0E483D8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7B5-387B-488C-81E7-9CD34B06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E5E-4F59-4FDB-82EB-CDFB2C58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FC3-0920-453B-8579-5F2FA85D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43E-53D1-4E32-9F3F-4957E8B0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54C-427E-4985-811A-B82F635B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5463-50E6-4FB4-9454-37DC251A3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9280"/>
            <a:ext cx="9131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3Z</dcterms:modified>
  <cp:revision>20</cp:revision>
  <dc:subject/>
  <dc:title>PowerPoint Presentation</dc:title>
</cp:coreProperties>
</file>