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1CE7-9AA2-42F8-8BEE-37FD4B79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3FF2-2B80-4F61-8617-B5CC9FFC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6F5-ED8E-444E-B612-3CCF3834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EEE-F9CC-45F2-921C-62AFCF64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1F1-BA12-492B-AC59-84A64086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31F-BA3B-410E-B101-F34CDD57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61C-1EE1-45D0-9505-0F8BABB8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7CB-7B78-4CDF-9382-79D6B9A4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797-F980-4A7D-A8F2-43C5395D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C7B-6811-4C32-B7BF-93B31EC0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3FA-B93E-4FAB-92FA-85CC78A6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8CD-39D6-40F3-8D04-2A18472E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B088-542C-4B6D-BB98-D80F77992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152280"/>
            <a:ext cx="907740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2Z</dcterms:modified>
  <cp:revision>31</cp:revision>
  <dc:subject/>
  <dc:title>PowerPoint Presentation</dc:title>
</cp:coreProperties>
</file>