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EB4B-9FCA-40CB-A5C2-CDF4E87F6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DC27-FBC7-4EDC-90F8-AB06C35BFD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a |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A6C-0FA3-4DA7-A106-70F91239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3EF-68BC-44C4-9F29-0D08FE66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2A81-A39B-4441-88AC-F97AD974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723-3361-46BE-9E8C-D4E1895D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39A3-A67E-450F-88EF-5141D341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1F61-6540-46EB-9370-9BC2D959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424F-B2B1-47C9-8A5A-22AE4BA4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5BB9-C3CB-49A8-AEB8-6A6D4DE9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A8EC-7AFD-46CE-B88A-958F3A0F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0A1E-226E-451A-A155-C99825F6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4999-6ABF-4F90-9A89-89D2B249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2F8-4CC3-4F7B-86E1-D8B0CDD9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6215-FEFF-468E-8006-CA437FF7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72B7-9363-4B77-A3A0-20408357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63F2-6A08-4C11-998F-6F9DD21B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C8BD-753C-406C-8E42-533F126E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A39F-9517-45F4-B50C-7E0F4C53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65A-96E5-47E1-ABFA-DD6A3181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5CA-CDC3-4246-812E-BC6728E8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B5B3-E837-43DA-98D1-54A1AEE0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D36-D41D-4147-B694-93C5B759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0D1-F241-4674-8123-DE869F73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2ED-048D-4959-8398-FD93DD69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CC8-95F9-444C-A31D-EF367572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9106-99EB-40FE-8FE2-B0ABE21B2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5097-9A49-4521-81F0-0202AEC8A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a | Out-of-pocket spending is similar among the uninsured and privately insured, but the former receive much more subsidized car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028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380880" y="5610240"/>
            <a:ext cx="855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a | Out-of-pocket spending is similar among the uninsured and privately insured, but the former receive much more subsidized care</dc:description>
  <dc:language>en-US</dc:language>
  <cp:lastModifiedBy>Jia Yao</cp:lastModifiedBy>
  <cp:lastPrinted>2002-05-16T21:44:34Z</cp:lastPrinted>
  <dcterms:modified xsi:type="dcterms:W3CDTF">2013-09-04T21:04:1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a | Out-of-pocket spending is similar among the uninsured and privately insured, but the former receive much more subsidized care</vt:lpwstr>
  </property>
</Properties>
</file>