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764E-7AE8-448A-A7B2-CAE94AEDC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E5B0-8FF0-431F-8433-BF726A38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BABC-7407-49C1-B2DC-6EDBCC829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9EDF-B637-4F93-8BF1-C9DA28886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5F8B-1BD4-4034-9CA1-3AEFDB05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C471-8041-46B2-BB4F-495FFAF8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7137-D7B5-4693-9EFC-5F0199C9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DB29-CCEF-4008-A8D7-9B5CAB24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7694-D352-4B19-89E0-4EC15916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FADC-0EF9-481B-974D-C4E59FB0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2921-07A2-4218-9EAA-AE1E907C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5025-6617-4B99-8BCB-8B572E7D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DE11-FD03-44A8-902E-7A105CCD91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93680"/>
            <a:ext cx="909468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0Z</dcterms:modified>
  <cp:revision>12</cp:revision>
  <dc:subject/>
  <dc:title>PowerPoint Presentation</dc:title>
</cp:coreProperties>
</file>