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FC55-B5A9-489F-9E11-782FB3D7B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F734-DE06-4E28-B43B-324EB97BF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64A-CB45-4C4E-97F4-201F9496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5F7-0B4A-4E92-B163-5509546C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CA6-388C-4B7F-BCB4-0B5D65DA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450-DE06-443E-98B1-44A12164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A3A-73FA-43A0-A45F-360B6FA7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7BA-F79C-4A52-936B-4804A14B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C73-A1A3-4F20-BBC5-EF521CFE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D1B-DBA9-4F59-A71C-056C6B31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120-5FA2-40F7-B9BC-7C280496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E1B-5FAF-4D70-B88F-3E69CCC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EF0-CA51-48EA-8CF5-19DEC347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A7A-E260-457B-9CA2-C86AF31A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9384-834F-4704-B12F-50A3836A6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1_a.png"/>
          <p:cNvPicPr/>
          <p:nvPr/>
        </p:nvPicPr>
        <p:blipFill>
          <a:blip r:embed="rId1"/>
          <a:stretch/>
        </p:blipFill>
        <p:spPr>
          <a:xfrm>
            <a:off x="1219320" y="5716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5238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11a--State Health Rankings, 2009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676520" y="582480"/>
            <a:ext cx="5790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5b | State Health Rankings, 2009 (1=Best)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38280" y="57592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/>
  <dc:language>en-US</dc:language>
  <cp:lastModifiedBy>Jia Yao</cp:lastModifiedBy>
  <dcterms:modified xsi:type="dcterms:W3CDTF">2013-09-06T15:41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/>
  </property>
</Properties>
</file>