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BD90-867F-473A-B0DE-4C9DC1BC6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5A | AVERAGE ANNUAL WORK HOURS FOR SELECTED COMPONENTS OF THE HEALTH SECTOR,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EBAD-0620-4DEB-8D27-056DD3670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9E40-D6A6-45D9-8681-94BBE2F6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27F5-C375-4A9C-87C5-5127AB93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A1CB-2317-4274-9FFE-E69B63E8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A0BF-7E02-4160-B8C6-E1AFAEC7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162F-7EE1-42D4-8709-780F3806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1CCA-438E-48CC-9B87-6D428438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36D5-0B7F-41C3-8DDA-9F82B762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D0C5-FB02-41D7-AB30-75B3A7BF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8925-17DC-4133-A720-2267D908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8220-E776-4142-800B-AE4CD27E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E943-6298-410F-AAE5-2CF6324A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2FF2-33CD-4BF8-BE8B-0715D345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D1DA-C647-4578-BDBA-CA03F1457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5a | Across the health services industry, annual hours per worker are shorter than in private business or general econom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91960" y="1549440"/>
            <a:ext cx="856008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447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hours of work per employee (200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5a | Across the health services industry, annual hours per worker are shorter than in private business or general economy </dc:description>
  <dc:language>en-US</dc:language>
  <cp:lastModifiedBy>Jia Yao</cp:lastModifiedBy>
  <dcterms:modified xsi:type="dcterms:W3CDTF">2013-09-06T15:04:11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5a | Across the health services industry, annual hours per worker are shorter than in private business or general economy </vt:lpwstr>
  </property>
</Properties>
</file>