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B6C-B85F-4E08-91A7-3019A6F6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45D-1DA2-42EE-B32B-499F6326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D91-4AF6-4A8E-AEAF-09329AD9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4A0-9EFA-4929-97AF-9FADDDB6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4AF-055C-4CAF-9010-3164395E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27B-202C-4D2D-B9FF-E61C30D2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475-A808-49F4-9E4A-30C9DC39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2AF-3A4D-4663-8C2F-62855ADD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BA3-4AE8-425A-9F41-5456C19E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018-21D2-4739-B741-DAB0AE43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129-44D9-484B-880C-B335A79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FA3-680A-428E-B696-5C422284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1C63-1A2C-4F11-9401-004E3F944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4520" y="0"/>
            <a:ext cx="899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1Z</dcterms:modified>
  <cp:revision>8</cp:revision>
  <dc:subject/>
  <dc:title>PowerPoint Presentation</dc:title>
</cp:coreProperties>
</file>