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54B2-BB0D-41D4-9797-0ADB54B5D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1F9C-0630-4968-89C2-8D4D6874D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C9A1-5876-4EC5-800E-3323D58F3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EDE5-6709-4497-BED1-4B7DE4759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5FE0-78C1-49A5-AFAD-22C7A06A1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8765-3602-4BB5-B32E-CB54414EB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1166-8522-4699-BBD4-EA27211C0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85CA-C6B2-48BB-909C-39A1AE20F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58BE-2BF4-4DC0-A852-801B47763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1BC8-E043-42C7-9693-93FB6329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9A14-2346-4FF0-8831-BA845613E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2259-22FD-41DF-BFE1-C030A39A8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53002-B204-434C-B8A8-AE545077B3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84240" y="990720"/>
            <a:ext cx="89755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19Z</dcterms:modified>
  <cp:revision>43</cp:revision>
  <dc:subject/>
  <dc:title>PowerPoint Presentation</dc:title>
</cp:coreProperties>
</file>