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7CDD-F66F-4FB7-ADF8-70A5A845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9F0-AA5F-4AFA-892A-9F92918B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990-01A3-405A-BF33-26DF408A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4F2-4D16-4E7D-BE2F-DB45267A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6EF-11CE-4EF2-815A-B1BA7754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5F2-2B65-418F-8FB2-476CD208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A76-F275-4E2B-B76C-C37BBF5E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12E-37F6-4F75-9C06-71FC109F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4DF-E6B0-4175-B1F7-AA4E2242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26D-45C3-4BA2-A1FA-C428BB77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3E7-0379-47D3-B3A6-7937DA7D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2C8-ADF1-4B28-B833-36E6BD3C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618B-678C-4ABA-8E47-80BEB99BF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1000" y="1066680"/>
            <a:ext cx="898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8Z</dcterms:modified>
  <cp:revision>40</cp:revision>
  <dc:subject/>
  <dc:title>PowerPoint Presentation</dc:title>
</cp:coreProperties>
</file>