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DD4-F504-4FD9-B893-5DD89E48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772-6868-4D0A-8577-FDF47924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A54-1E98-4D82-9ACB-E81AA5C6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E4D-0865-4286-AB12-67C2C205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084-CE55-4DF4-9C8F-F85FBC30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93E-1FBF-46E0-8512-DE287F4E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6CD-B801-4482-B1CA-40AE0508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8D9-293E-4239-A6CF-50326770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63C-2546-499B-AAC0-AA84AF33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4D4-0600-4ED0-B134-7CFC68D5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4C2-488D-4C25-8AD7-E914CC07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CDB-8344-45E7-928D-AF40D1C7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EAE0-DEFF-47CA-B24E-1702E1A50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9400"/>
            <a:ext cx="899136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1:18Z</dcterms:modified>
  <cp:revision>6</cp:revision>
  <dc:subject/>
  <dc:title>PowerPoint Presentation</dc:title>
</cp:coreProperties>
</file>