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7F6-397E-417A-833D-E2090C8C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7E7-1FB8-4623-8A73-FC966A52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D6F-72D1-415A-87E1-1DA5A47A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5BD-4DE3-4827-95AB-DDA29647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8D2-84AD-4A73-96B2-63BC51C8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7CF-3E49-4F9C-BB0D-8C3A3E0D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D59-9045-43E9-8C27-70797CA4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B74-EC08-453B-B4FC-E5C75E52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643-9FAC-4AC6-AEAF-C2479792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0EF-8AB7-4758-B3EA-EB05891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C78-D111-4B37-B221-17615C59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1D0-C1DF-4C00-8B31-8FEE49C0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BCB3-F0DC-4F83-9BF1-017593A2D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6480"/>
            <a:ext cx="8999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8Z</dcterms:modified>
  <cp:revision>31</cp:revision>
  <dc:subject/>
  <dc:title>PowerPoint Presentation</dc:title>
</cp:coreProperties>
</file>