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B57-E193-46B1-8F62-52D180F1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E54-32EA-49F6-85F8-7BCADA63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F1F-BF5A-41B3-A7D6-13467EEA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160-F72F-41E3-9DB4-372D156E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E92-AD4C-468B-8F99-0AFE28A6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5E3-7C31-4CA4-97E4-1C5A5D10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848-9AF0-486C-AED1-4BEA0DB1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0F1-C256-4F48-BCFB-1152B32B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51F-B796-4D5E-9B74-AB665755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CDE-71C2-47AE-A73F-82E80960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E27-C9A9-44FB-BB88-67B35D51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7A1B-66B6-4B9A-A2DA-50B2282D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3C61-14B8-4968-9AB4-85DEEA0D6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3Z</dcterms:modified>
  <cp:revision>8</cp:revision>
  <dc:subject/>
  <dc:title>PowerPoint Presentation</dc:title>
</cp:coreProperties>
</file>