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28CA-2198-41A9-BC39-055D5C686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164C-398B-4AB8-AC7B-1F9783055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9b | Government Health Spending (all levels) as Percentage of GDP, 2002 and 20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Source: Kotlikoff and Hagist, Who’s Going Broke? Comparing Healthcare Costs in Ten OECD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NBER Working Paper 1183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E9D-0A61-4DC3-BDB0-359E1DB3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4D4-B8BB-4513-A11A-C421CCC3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C1C-3BA2-4550-9597-74C01038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C100-5CE1-40E5-8F5E-463C1A1B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1874-A6E3-440B-9949-9018CBAB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0C4E-E528-4176-BBA5-D68D584A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E7F0-A32E-4BAE-B70E-4541FDC4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E7B5-362D-44B3-BB65-A5131F83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49D7-CBA6-4D98-8E07-49C64D32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F1D4-6BF3-42ED-AD14-A2714571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264C-217B-4F12-9796-A6100519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7A27-0499-4EC3-90E0-BA9286D8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746D-31FE-47BE-9942-543CAA35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B56B-BF1F-4802-953C-C8CF54A2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7241-5B69-48A0-A0C5-1A0702E0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946F-E4C9-4478-A768-3646367D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A78D-B7F2-4BAE-B40A-8A08BE8F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738-E6F9-46A6-BDFE-35C173B8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DE5-04BC-442E-9CED-AED88CE9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445-127B-4E40-BF30-C6874A75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BC1-6A39-4C47-BC64-1E75F70E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DD1C-A257-481E-AE24-7074404F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D41-ECD3-4221-B334-5F8BB6EC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33C-12A0-4856-8AD8-AAF91E49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75BC-14DE-4CA7-B001-BA5451BC25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5DE3-AB7C-48BD-98B0-0356425C5A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380880" y="1397160"/>
            <a:ext cx="8377200" cy="4927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447840" y="5715000"/>
            <a:ext cx="869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igures calculated assuming age-adjusted health benefit rates grow at historic rates for 60 yea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b | But rapid growth in government-paid health care threatens to eradicate this margin of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286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76720" y="6095880"/>
            <a:ext cx="79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gist C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L Kotlikoff. Who’s Going Broke? Comparing Healthcare Costs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 OECD Countri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BER Working Pap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11833. December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2209680" y="5334120"/>
            <a:ext cx="5486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overnment health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b | But rapid growth in government-paid health care threatens to eradicate this margin of advantage</dc:description>
  <dc:language>en-US</dc:language>
  <cp:lastModifiedBy>Jia Yao</cp:lastModifiedBy>
  <dcterms:modified xsi:type="dcterms:W3CDTF">2013-09-23T19:14:4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b | But rapid growth in government-paid health care threatens to eradicate this margin of advantage</vt:lpwstr>
  </property>
</Properties>
</file>