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E94-3739-4F1F-9F72-E9CB1F97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6CC-81B7-412F-BA7D-85260FE7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E65-9F75-40B8-9091-C56701CE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1CF-4644-4B6F-BD37-176706F7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54E-3A70-43E2-8795-54A14FFC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C251-F091-4A71-9DD9-7E9ED7B7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002-7C0C-4618-84C7-8B6260D8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DBF-035E-4E2A-A03C-D73B0029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D62-6820-476F-8B7B-D2774615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964-894F-4709-A710-7B7D8276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729-7DD1-41BE-8C1E-20D35290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E685-5A95-411E-B28C-56D0FE64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7850-C236-4042-9071-B933B32FF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3000" y="0"/>
            <a:ext cx="86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5Z</dcterms:modified>
  <cp:revision>22</cp:revision>
  <dc:subject/>
  <dc:title>PowerPoint Presentation</dc:title>
</cp:coreProperties>
</file>