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4DDD-1F1A-46C7-98BD-4CAA17832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CA27-6894-4B7B-A334-D64DFE34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2DDD-A28A-4F81-AACB-094F34464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280F-4A95-4A65-AB6D-278B0382E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B862-8435-46F4-B631-D5FEFD52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4DF2-70FA-4DC2-AFC9-0C9F7DBF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489C-DB84-411A-8460-A5B014FD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71B7-3624-425E-93CB-AAB546C5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7436-959D-47F3-BF79-9B2AED16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1185-F2D3-44A2-A745-30EA4940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7381-63A4-4124-81E2-56711528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22B0-0084-4602-AAC3-DF9A60DE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6B76-CE87-42ED-BC53-4661B9E75B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2600" y="304920"/>
            <a:ext cx="9131400" cy="62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9:41Z</dcterms:modified>
  <cp:revision>37</cp:revision>
  <dc:subject/>
  <dc:title>PowerPoint Presentation</dc:title>
</cp:coreProperties>
</file>