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442B-E278-4B21-936B-379BAF2C9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a | Multifactor Productivity Growth in Health Services, 1990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3437-811F-4EEE-8677-EBD7533D1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6D5-8A0E-4971-8FF9-ABB78ACA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8F9-5B6A-49A7-868F-76F5EEFF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E7A-BF0D-4884-A4A0-D47A583A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B078-0372-4F0A-973A-7379602F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F74-7507-434D-B1DD-5CE125A9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609-A94B-46A0-8EED-73CB1B48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80B-6150-487A-A4A5-021C09DD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F5F-ADF2-4A5C-9646-4139D6C5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2CA-F486-46B8-9CA0-C805FD34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8A9-9D4A-41B6-90BF-30B23984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5A3-131A-451B-A749-57571ECA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8E6-1BE6-4988-BE38-7E6E2FAF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0FC2-FA3B-4807-AA14-09C9F1BE9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a | Multifactor productivity growth has steadily increased in ambulatory care over two decades but still is negative for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rate of change in multifactor produ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a | Multifactor productivity growth has steadily increased in ambulatory care over two decades but still is negative for health facilities</dc:description>
  <dc:language>en-US</dc:language>
  <cp:lastModifiedBy>Jia Yao</cp:lastModifiedBy>
  <dcterms:modified xsi:type="dcterms:W3CDTF">2013-09-06T14:59:35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a | Multifactor productivity growth has steadily increased in ambulatory care over two decades but still is negative for health facilities</vt:lpwstr>
  </property>
</Properties>
</file>