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FAD8-432C-40D2-82ED-F3560D0CE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c | Output per Hour and Output per Unit of Input Indexes (1987=100), Medical Equipment and Pharmaceutical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E230-F5C7-429D-AC73-FECC5B210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071-F0A7-4F53-A565-61F118FE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B70-12E0-4D59-AF36-9436F2D9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356-1D54-464E-95D3-29D3FCC5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9A8-4DAA-4861-8A00-0BC4EAC0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45B-3502-46E1-B736-F9C9378A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538-2F76-4F99-8F38-02DE45E0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8FB-AB5B-4744-92F3-E44E89BA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B3F-A0A1-47EB-B48D-5966CC43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2B6-F40F-47CC-8BE5-5EE0EC3D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391-B367-4D88-BF56-C7254714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A9B-147D-4D1F-9B86-4AEFA95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0DA-BC0F-4EC9-A86B-1B4848A5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40A1-8C38-49E6-9B9B-E270D4F16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c.  Productivity has grown much faster in the medical device industry than the pharmaceutical industry, where output per unit of input is f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c.  Productivity has grown much faster in the medical device industry than the pharmaceutical industry, where output per unit of input is falling</dc:description>
  <dc:language>en-US</dc:language>
  <cp:lastModifiedBy>Jia Yao</cp:lastModifiedBy>
  <dcterms:modified xsi:type="dcterms:W3CDTF">2013-09-06T14:59:1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c.  Productivity has grown much faster in the medical device industry than the pharmaceutical industry, where output per unit of input is falling</vt:lpwstr>
  </property>
</Properties>
</file>