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7A8-5B46-48DF-B386-1391CF80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B16-805F-4F16-B032-265CB4FF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41B-EF93-405F-B946-41B2071E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CD0-09D8-4637-9FE5-DDC2E411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DD9-0E39-4C5B-AD0A-CA3A0104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D60-50FE-414F-B0DA-07D1B27A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6C1-6194-4394-8E77-96256189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FB4-D36B-429C-8CB4-1DA746D4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D96-984E-4075-B858-7770FC51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E67-7013-4ADC-96F3-CC220185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93D-6B97-4F10-91C8-E4E53D23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2F4-5B2C-4992-8FEA-F75968A4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B57F-4EF9-4174-BFDB-C18B5511E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52280"/>
            <a:ext cx="9017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7Z</dcterms:modified>
  <cp:revision>45</cp:revision>
  <dc:subject/>
  <dc:title>PowerPoint Presentation</dc:title>
</cp:coreProperties>
</file>