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16B8-AE68-44E7-AA87-AD9559E2D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AC36-9060-4811-AC2A-C7C41ABC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673A-D800-4FDD-ADE3-4DB595D6D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4CF0-0589-4154-A750-CB2EB4A2F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2F1E-4A30-4EF8-BA4E-8A05A946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63F7-5E3A-42E1-A085-B57ACDA9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76BF-56CE-4F83-B0B0-8CBF7F81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C2B2-19D3-4810-9BD2-A6DEA3A1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DB45-3D22-4153-BEEE-7C0736F4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497B-1FDB-4B76-8CF5-42F3B03D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AAEC-C024-4979-A7BE-73CC477F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FB74-C6B9-40A0-B973-1B9686AF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C038-6F92-42C5-8E28-336B8E8080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160"/>
            <a:ext cx="915984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4Z</dcterms:modified>
  <cp:revision>8</cp:revision>
  <dc:subject/>
  <dc:title>PowerPoint Presentation</dc:title>
</cp:coreProperties>
</file>