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7AB-38EB-40F2-A556-1E6D774D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A9A-C7F9-4368-A40F-170EA548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1FCC-ECFA-4A5A-869A-D3A81BB3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5D8-A955-4427-B150-B4E88865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BE15-3CE5-4A16-92C2-568B0FF6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5B1-1CFF-4553-9676-2F1488B9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9453-06AD-477F-A7F1-3EE46E0C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088-77C2-4D53-A7A5-9C34BD49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421-A796-4192-B523-C6F13C94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2CE-22BB-4E4C-99F2-A8889C2C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550-709E-4878-9A05-DD9235EF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C1E-9D19-4012-8A9A-6BC80346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E140-BB7F-4263-930A-ECF1421AC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7480" y="838080"/>
            <a:ext cx="8969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5Z</dcterms:modified>
  <cp:revision>45</cp:revision>
  <dc:subject/>
  <dc:title>PowerPoint Presentation</dc:title>
</cp:coreProperties>
</file>