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A4F1-C48C-4CE6-B33A-94D29495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B |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BEBF-CB9F-4DEA-979C-1FAB91234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F17-DE64-4FCB-8535-0C20DD79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BE4-05AF-448D-84FB-E1CDDC1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C5D-C5D8-4B9F-A4F9-C99D6088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38B-F66A-4F38-8389-5CB12D85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1CC1-F681-4C69-B974-DB61D1CC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A586-B9F9-4CD5-B535-18E1B9D1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921A-87D3-42A5-A056-E55A2A44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45F8-1638-4D99-B724-8577A890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7B4-4619-4277-804C-DAB6AB91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5AEC-14D2-4A20-AD2D-904D2707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FB3B-E6EF-4EC4-BA16-16D1E587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B0D-343A-4197-87A8-C988B555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1450-EEE1-4F07-957B-EFA46939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4427-9977-4822-B2C6-ACEFA655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A4ED-7EEB-4FE6-8E56-F36DB601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B164-24D7-4133-B7B5-F230456F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C7D6-51CD-4048-A42F-A23AF79C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63B-D770-4CAC-8A6C-7DB3C775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4BE-B2A0-4EA7-86CE-F3D5F2F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B81-58DB-48A3-9379-77B64960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5E6-8C98-44F3-928E-A8692180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89C-70F7-42AC-AC1B-8DED257F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67E-0E6A-4BA7-B61A-2537C10A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1CA-82AB-4256-855A-7DFB86B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DD28-7B67-461F-A740-FA362226BD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02D0-E9E6-4865-9EFE-3D6332DB1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b | Real household spending on health has increased much more rapidly in elderly households than i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207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b | Real household spending on health has increased much more rapidly in elderly households than in non-elderly households</dc:description>
  <dc:language>en-US</dc:language>
  <cp:lastModifiedBy>Jia Yao</cp:lastModifiedBy>
  <dcterms:modified xsi:type="dcterms:W3CDTF">2013-09-23T17:01:3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b | Real household spending on health has increased much more rapidly in elderly households than in non-elderly households</vt:lpwstr>
  </property>
</Properties>
</file>