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BFD4-C103-467F-838F-D5AF7CF02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073C-9E54-4026-9931-2EF73B22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D25C-FED5-4422-83FF-F6DA25261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FC09-FA8A-40A5-A5A3-92B7D245A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F4C6-DA3A-4072-BFAF-AEC12C28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3695-74DB-425F-B0AA-CAFF4804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4C88-8E31-4256-9FC0-E481410F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3113-ACD9-475B-B2E9-F8ADC867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75BA-9660-46DF-8F8F-EA9533E2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1BF3-C10F-4988-9F66-400D1A7A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C428-8C68-4662-A6A3-801C565A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4A78-D6B9-46A4-B7F3-4D9AE1E2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7CDC-27B8-4E2A-8B76-F35B8FF5E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9840" y="228600"/>
            <a:ext cx="9004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4:30Z</dcterms:modified>
  <cp:revision>39</cp:revision>
  <dc:subject/>
  <dc:title>PowerPoint Presentation</dc:title>
</cp:coreProperties>
</file>