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7CF-3156-41DB-86C7-38A2CE59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965-2925-445D-9B0F-DA7FE52F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484-EAB7-49AA-B0E7-2A737E36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A94-E648-48E0-8BCB-0D063C59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287-B13C-464C-8BB7-C414EFEE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763-73ED-4D24-BCCA-9348CAA3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39F-3CB4-4B08-84EF-07748F67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7A1-D92E-4B90-BE7B-145C273A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89F-6D47-453A-A15B-7F40CFA5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ECB-C401-48DE-BF02-D2AE2523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59D-D6DB-4304-9488-397E7A70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19F-C07E-45BC-AD3B-0F328C1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9E2C-CF39-418B-8F6F-E1164124C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52280"/>
            <a:ext cx="903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1Z</dcterms:modified>
  <cp:revision>31</cp:revision>
  <dc:subject/>
  <dc:title>PowerPoint Presentation</dc:title>
</cp:coreProperties>
</file>