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58FC-5994-4B76-BDA1-4DF592CD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7FD-6F7C-4652-8E98-0670C251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E12-F466-4FA9-ABAF-5A0BD030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83A-8615-4F5B-8E0D-84CB4FC9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611-1331-4979-B92B-F73DB3F4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3075-F267-4745-BECD-1BD25B77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D254-A5EE-467F-941F-8E548001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A4E-A239-47E4-B038-6D7A8327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2BE-920F-4FFD-B56E-A9DC13DB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6E87-7F7B-4AB7-84F8-28F57C42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4977-404C-451E-A20F-EB005276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4327-F647-410C-B596-4B7D7FAB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94DE-688E-41D0-811B-4FF22C4DC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355680"/>
            <a:ext cx="9107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7Z</dcterms:modified>
  <cp:revision>37</cp:revision>
  <dc:subject/>
  <dc:title>PowerPoint Presentation</dc:title>
</cp:coreProperties>
</file>