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E04B-D683-47D5-A35C-4179B8D52C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1.4A | RATIO OF PHYSICIAN COMPENSATION TO GDP PER CAPITA, GENERALISTS AND SPECIALISTS, U.S. AND OECD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3FE0-E253-409D-BDAC-818A882D3F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2286-4757-49FC-92A2-7C797BF4F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DB97-B46E-4DD4-9332-827DD241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C259-30F0-41F1-8D54-8EA263942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FAE5-6944-4EAF-B576-518EB8536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2DEF-3AA1-4755-8F7C-9EC6614C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0455-E2B5-4BF4-B89D-1600D991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48B7-139F-416F-8D8A-FDA8CEB0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0D58-9513-47ED-940A-B00C5C08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AED8-310C-4BFC-B70D-A7260A54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9D15-A766-4706-9E63-915AC53A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FBD7-9BAF-4852-9EBB-67ED0FAC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E43C-33AE-4C73-9F03-38DB6E34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E474-B648-46D8-B1A0-F899564074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1.4a | Physicians and nurses are paid relatively more in the U.S. than in other OECD countries, but the largest pay differential is for specialis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10640" y="1371600"/>
            <a:ext cx="652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io of annual compensation to own country GDP per capita (20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4a | Physicians and nurses are paid relatively more in the U.S. than in other OECD countries, but the largest pay differential is for specialists </dc:description>
  <dc:language>en-US</dc:language>
  <cp:lastModifiedBy>Jia Yao</cp:lastModifiedBy>
  <dcterms:modified xsi:type="dcterms:W3CDTF">2013-09-06T15:08:49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4a | Physicians and nurses are paid relatively more in the U.S. than in other OECD countries, but the largest pay differential is for specialists </vt:lpwstr>
  </property>
</Properties>
</file>