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039E-D99E-402F-BF79-869C22B0D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4A | INFORMATION CAPITAL STOCK, HEALTH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05FB-5DDF-4274-9BA1-C14437EE1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176-CC43-4B1D-9164-A86046BC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C4E-503E-4FAB-BAE0-AE4333FE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2D8-5688-453F-8D51-7E0AD3F3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3D0-E09F-4191-9567-6E799AFF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C5C-2760-4341-A10A-5B1FB4B7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172-0DEB-4508-9762-FE9E333E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D68-1370-4A65-AB5A-2E696F18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31E-95B8-477C-88C6-2648D88F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838-48D6-40E3-ACB3-58E56B6E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7E8-35A6-4240-9C04-925D27AC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F4B-6834-4A97-A6C6-C32A72A7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C5B-8BB6-40E0-8230-87E436BE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15B1-0304-48DD-99BF-84131E002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a | Information capital stock in the health services sector has quadrupled during the past  two deca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6360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5627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residential care facilities. It does not include pharmaceuticals or medical devices. Howev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 office equip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medical and nonmedical instruments used in the health services subsec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a | Information capital stock in the health services sector has quadrupled during the past  two decades </dc:description>
  <dc:language>en-US</dc:language>
  <cp:lastModifiedBy>Jia Yao</cp:lastModifiedBy>
  <dcterms:modified xsi:type="dcterms:W3CDTF">2013-09-06T15:00:4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a | Information capital stock in the health services sector has quadrupled during the past  two decades </vt:lpwstr>
  </property>
</Properties>
</file>