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53B-CCFD-4B10-BE6B-B1BE39B0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232-6F90-44B8-AC71-5612C36C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8AA-41E9-4978-A988-D36B3439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51E-FB66-484A-8110-F50FA17E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847-69AA-4200-A00B-C687E452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E4D-FD54-4C20-83EE-78854539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D47-83E5-46B2-AED9-EA92FD17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5BD-6ADA-47C2-A131-316E6960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B3A-B204-493C-8319-60E7AB00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036-A12F-40BA-A52D-77CE589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9C8-1F97-4CAF-9512-D8305745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DEC-2017-48D5-8C15-1446B0A6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AE06-6EDC-4DB5-A303-54F1085E9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1Z</dcterms:modified>
  <cp:revision>39</cp:revision>
  <dc:subject/>
  <dc:title>PowerPoint Presentation</dc:title>
</cp:coreProperties>
</file>