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2D0-FE72-4F56-AB41-B93B1D59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FE0-9CB5-4345-BE02-9B38DA6D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0BF-3579-4D46-8B18-EE433BEB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078-2FBE-4262-BCE7-0CE9BF30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575-6CB9-4CAE-9478-A8C50CF5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CDE-C718-413E-8564-F8A1FD92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5DF-A6DD-47F8-88B6-E870D4A5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2A2-EDB9-4383-90A6-6BA517FD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8C4-4688-4FE9-A4B2-55AF5E17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EA9-A9DA-44EC-9CA2-12A74083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02B-3759-44D2-84F1-DEE7F66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0C3-F0F2-4723-8582-B392052B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AA99-8CA3-4295-B33E-4CC004AE4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4Z</dcterms:modified>
  <cp:revision>12</cp:revision>
  <dc:subject/>
  <dc:title>PowerPoint Presentation</dc:title>
</cp:coreProperties>
</file>