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5654-81E7-46DC-B954-0323F71B6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A | HEALTH INSURANCE COVERAGE, NON-ELDERLY ADULTS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75AC-ABB9-4CCE-BD24-D3CCAB453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B3C-C5A8-49AE-8D88-36484E83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457-0D02-4114-883B-2975135D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F84-1AED-4A29-87BB-44373B76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DF9-6B67-4A8D-A958-20CB39E4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4AF-29B1-4B37-AE56-6FDC40A7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573-6318-488C-B36F-76A297FA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182-364C-4584-AA7C-32FDE1CD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23D-365B-4265-B2E0-756CA285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9DF-3CA1-4DBF-ADBD-86DD8710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5E6-AD8C-4558-B272-E9EFC13A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B1A-9B3A-4540-B940-4C924F71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91F0-AC65-4769-9DBB-FDF02088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26CD-FCA5-4484-B7AF-E405E2AC9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a | Most non-elderly rely on private health insurance coverage, typically through an employer health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177840" y="863640"/>
            <a:ext cx="8559720" cy="5892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590400" y="1219320"/>
            <a:ext cx="76201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a | Most non-elderly rely on private health insurance coverage, typically through an employer health plan</dc:description>
  <dc:language>en-US</dc:language>
  <cp:lastModifiedBy>Jia Yao</cp:lastModifiedBy>
  <dcterms:modified xsi:type="dcterms:W3CDTF">2013-09-06T14:06:2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a | Most non-elderly rely on private health insurance coverage, typically through an employer health plan</vt:lpwstr>
  </property>
</Properties>
</file>