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5047-A8BA-41A5-A4ED-95E69CBB2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C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2CE7-7005-4A89-AE57-632BFD0A1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BC6-4313-4EBA-9D35-D6EEEA43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98F-A7BD-4912-900C-DEA797C6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71D-B3B2-41B3-B7BC-7CA3C7AF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354-1AA9-4F91-80D3-6C2BC84F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7DC-BCB7-4DA6-AD21-F4B8AFB5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F08-CB22-42EA-ACD1-9DD093FC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AFE-C4F4-4F19-BBB9-D44673EF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17A-0BF9-4FC6-8201-D00A3209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93A-1063-42F9-8C66-3A3DC62C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B18-E959-415E-9289-AB94DAB5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8DA-5839-4A5E-B3A1-44B441E0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9A50-06F6-4871-B2B4-29C8A295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2928-00B8-4D9D-AF7D-97022DB0A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c |  In the goods-producing area of the health sector, most employees work in medium or large-siz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1015920"/>
            <a:ext cx="8560080" cy="5892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employees within an industry working in firm size show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c |  In the goods-producing area of the health sector, most employees work in medium or large-size firms</dc:description>
  <dc:language>en-US</dc:language>
  <cp:lastModifiedBy>Jia Yao</cp:lastModifiedBy>
  <dcterms:modified xsi:type="dcterms:W3CDTF">2013-09-06T15:22:51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c |  In the goods-producing area of the health sector, most employees work in medium or large-size firms</vt:lpwstr>
  </property>
</Properties>
</file>