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2AA-EAAA-4653-8546-997C6395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C65-E778-47B0-897E-5A1E6639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CC4-73BF-46A4-A245-B589DAF8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B3F-DD85-443C-BF32-3D9B77BF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5C4-DD63-4167-9760-FAE746EA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134-1529-4294-B3AB-1B63308E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33C-EA88-4E38-98C3-1C46C380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435-A902-4BB2-B88C-92091EDB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D28-E215-417E-8DA0-A54CE7F6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75E-DCF4-4A6E-A157-73BED29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5F5-EE61-41A1-B735-D015C182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C52-28AA-463C-B472-E36FE13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EE0F-59A4-4D1E-8CAC-38C45DA17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080" y="152280"/>
            <a:ext cx="8997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6Z</dcterms:modified>
  <cp:revision>37</cp:revision>
  <dc:subject/>
  <dc:title>PowerPoint Presentation</dc:title>
</cp:coreProperties>
</file>