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AA9-C18D-47B0-97B4-85757EC6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C2C-161C-46AA-AC6E-42272767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AA5-8150-4CC2-B832-F1862D55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757-4735-4757-A493-B45943F3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558-C669-47CB-8860-B407DD9D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0E3-8FCB-49DF-9B41-B2E4F117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634-9022-4DE7-B8D7-C2503586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BDC-B19C-4442-994F-E54A6382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C20-4638-48F6-9947-0E93DF91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7FB-5891-4AC7-AF79-16981CEF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3E1-3F30-4E2E-9DB1-981B96C2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010-E38E-47C3-A421-116A1BB7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15ED-53E9-4C4D-9911-4A7724807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317600"/>
            <a:ext cx="90248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7Z</dcterms:modified>
  <cp:revision>37</cp:revision>
  <dc:subject/>
  <dc:title>PowerPoint Presentation</dc:title>
</cp:coreProperties>
</file>