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EC26-01AB-49E6-BF41-A1188705B1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2A | DISTRIBUTION OF PHARMACEUTICAL R&amp;D EXPENDITURES AMONG TOP 10 OECD NATIONS FUNDING PHARMACEUTICAL R&amp;D, BY COUNTRY, 1990, 2000 AND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5C81-6A2F-4BA5-B6F5-052D47B20A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3EEE-E1F2-489B-B6E8-2C912CC82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2A5F-EE25-4A12-8B68-320810F6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2DED-FAB6-492C-B025-1C1FDF6CE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3462-D7F4-4CC7-9E0D-69081D94A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AA36-97AF-4FD1-8D22-996949E7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D0F0-25B1-4D05-A388-B315913E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1E5B-D3EF-4CFA-A51F-2A252D0A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91B2-370F-46C4-AD44-5C1D648F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5672-0C3F-4EFF-846B-2C2AC2F0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8B99-F11F-411E-8278-9357C446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2162-8E64-482E-9167-8D3C1680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5972-D642-416F-92FA-10244023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1D7D-3EC9-4B0D-A2AE-26A83C9147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8.2a | Among the top 10 global funders of pharmaceutical R&amp;D, the U.S. accounts for more than half to two-thirds of total sp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509840" y="4724280"/>
            <a:ext cx="58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op 10 global funders of pharmaceutical  research and develop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(ranked by 2006 R&amp;D expenditures in U.S. dollars PP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56640" y="1371600"/>
            <a:ext cx="38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aggregate R&amp;D expendi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447840" y="5486400"/>
            <a:ext cx="79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not reported for selected years in selected countries. Shares are of summed totals for countries that reported da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2a | Among the top 10 global funders of pharmaceutical R&amp;D, the U.S. accounts for more than half to two-thirds of total spending</dc:description>
  <dc:language>en-US</dc:language>
  <cp:lastModifiedBy>Jia Yao</cp:lastModifiedBy>
  <dcterms:modified xsi:type="dcterms:W3CDTF">2013-09-06T15:33:55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2a | Among the top 10 global funders of pharmaceutical R&amp;D, the U.S. accounts for more than half to two-thirds of total spending</vt:lpwstr>
  </property>
</Properties>
</file>