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39D1-0BD7-4EE9-9B91-655A45A14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B | ESTIMATED DEATHS IN UNITED STATES, BY UNDERLYING CAUSE, 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70C4-3D70-49D1-88DD-3F89B89E9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9E6-BDF7-4C9A-8FF4-78A5E3B8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8AC-DA58-42B7-BF39-F3B6F925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70B-F8D4-43C0-829A-331B0502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572-17E1-4891-AA9D-2F12D0CD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E01-CC3D-4E58-9977-386873F4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F99-6DCE-4923-95C0-436E6801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6F4-FEA9-4707-85DB-8DD7B65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8BF-17D2-4ABD-808C-9E236E2E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956-28FB-4922-8434-36968AC7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324-0288-4757-AEA9-60E5D8C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D6C-9A90-4B53-972A-3856C7D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935-74CF-4D53-8A60-ECF83A21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D110-3844-4CF1-9776-8275E591D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b | Changes in behavior/lifestyle would have a sizable impact on mortality rates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90169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518148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U.S. death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b | Changes in behavior/lifestyle would have a sizable impact on mortality rates in the U.S.</dc:description>
  <dc:language>en-US</dc:language>
  <cp:lastModifiedBy>Jia Yao</cp:lastModifiedBy>
  <dcterms:modified xsi:type="dcterms:W3CDTF">2013-09-06T15:41:2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b | Changes in behavior/lifestyle would have a sizable impact on mortality rates in the U.S.</vt:lpwstr>
  </property>
</Properties>
</file>