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1B8CC-E607-4583-A704-E2741F89EA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8.7C | TRENDS IN PROFITABILITY: RETURN ON EQUITY AMONG FORTUNE 500 PUBLICLY TRADED FIRMS FOR </a:t>
            </a: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PHARMACEUTICALS AND MEDICAL PRODUCTS &amp; EQUIPMENT </a:t>
            </a: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INDUSTRIES, 2005-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B9DA0-D261-4940-BFD5-AF140261C1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39CA9-1CF5-4055-B85F-89B6F0B6E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D3138-C59C-40EC-A8DF-B9F346DBD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A5D29-912C-4B00-A3F6-A6DA040FA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978C3-6998-44C1-9209-08B083723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6BBAE-1EBD-4182-9B54-C497C48D3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C7B02-EB61-4B1D-A7E1-A7B028555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621FF-F301-4C48-8426-6AC3B3594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E0724-B49E-4F1E-8089-D272C53EE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3FEC4-E21D-424C-ADFD-C7389C039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68DF2-8175-4838-8891-9429E2363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4A712-C682-4487-B277-480F04F5D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8A1CD-DCA8-4AF1-B3F5-90B39A447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429FD-9F1D-43F3-820F-1EF1CE4ADB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53416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8.7c | Both pharmaceuticals and medical products have somewhat lower industry rankings on return on equity than other measures of profi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092240"/>
            <a:ext cx="8788320" cy="55879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6"/>
          <p:cNvSpPr/>
          <p:nvPr/>
        </p:nvSpPr>
        <p:spPr>
          <a:xfrm>
            <a:off x="578880" y="1143000"/>
            <a:ext cx="662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ofits as a Percent of Equity (ROE), Fortune 500 Publicly Traded Compan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1"/>
          <p:cNvSpPr/>
          <p:nvPr/>
        </p:nvSpPr>
        <p:spPr>
          <a:xfrm>
            <a:off x="541440" y="5345280"/>
            <a:ext cx="83437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ote: data labels indicate industry’s ranking on ROE for year shown (rankings not available for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2009-11). While the number varies slightly by year and profitability measure, roughly 50 industries ar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cluded in each ranking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5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8"/>
          <p:cNvSpPr/>
          <p:nvPr/>
        </p:nvSpPr>
        <p:spPr>
          <a:xfrm>
            <a:off x="533520" y="6342120"/>
            <a:ext cx="8343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: Fortune. </a:t>
            </a: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Fortune 500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. Available at: http://money.cnn.com/magazines/fortune/fortune500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9T21:34:12Z</dcterms:created>
  <dc:creator>Trinity Technical Services</dc:creator>
  <dc:description>8.7c | Both pharmaceuticals and medical products have somewhat lower industry rankings on return on equity than other measures of profit</dc:description>
  <dc:language>en-US</dc:language>
  <cp:lastModifiedBy>Jia Yao</cp:lastModifiedBy>
  <dcterms:modified xsi:type="dcterms:W3CDTF">2013-09-06T14:17:17Z</dcterms:modified>
  <cp:revision>930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8.7c | Both pharmaceuticals and medical products have somewhat lower industry rankings on return on equity than other measures of profit</vt:lpwstr>
  </property>
</Properties>
</file>