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399E-84B4-49C4-90E6-A4056DE74B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2.1B | TRENDS IN CONCENTRATION OF MEDICAL EXPENDITURES, 1928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40F8-430A-49C9-A2BC-423BA891DE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18FC-4173-4AE6-91B1-1B1101B3C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387E-DC0F-44D2-A4A1-49C46BA2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518E-09E9-46D1-BEBD-B8A357321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0516-5AFA-4873-8AE7-A2022A0F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49AA-806B-44C6-B06D-F89EC9EE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1B2A-AF49-4CC6-A738-C4955224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9515-2312-414D-A3C6-98A03D74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8E5A-CCF4-4E59-AD6D-824EC3D7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E8C5-55C8-49ED-B9CC-2461D335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1B5D-6633-4239-9269-90CA280C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FCCA-E875-43C6-A690-0DA46E97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A9A0-1AB4-448A-A165-07D07E0D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4875-C370-4407-8663-EFC3B3F80D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1b | The concentration of health spending has been quite stable over decades, but there is some indication it has declined recen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549440"/>
            <a:ext cx="90169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3600" y="1523880"/>
            <a:ext cx="56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total annual health spending accounted for by gro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1b | The concentration of health spending has been quite stable over decades, but there is some indication it has declined recently</dc:description>
  <dc:language>en-US</dc:language>
  <cp:lastModifiedBy>Jia Yao</cp:lastModifiedBy>
  <dcterms:modified xsi:type="dcterms:W3CDTF">2013-09-06T15:12:52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1b | The concentration of health spending has been quite stable over decades, but there is some indication it has declined recently</vt:lpwstr>
  </property>
</Properties>
</file>