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808-DA68-4AA9-A10C-C0342E83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958-ED4B-43A0-A864-5FC87BDA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C6D-3681-4253-820C-905AC3D7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46B-48FD-42B9-B09A-0C3C749F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729-7BBA-4E05-A70B-7AD01455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47A-922A-41DA-95F0-A9BDEBB7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C1D1-8EA1-4B36-8AF3-45269262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215-2E09-4529-9163-4CD357BC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092-C389-48AB-8274-E1EBA7BD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6B0-3708-42FA-BC13-4EFAAD21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11F-FEAB-4EC1-9734-7A586F37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F176-929C-4130-9D02-0B3B65B5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FD4A-C2AD-4BE7-B942-5DF46CB6C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8Z</dcterms:modified>
  <cp:revision>14</cp:revision>
  <dc:subject/>
  <dc:title>PowerPoint Presentation</dc:title>
</cp:coreProperties>
</file>