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25FA-D807-49E6-83FC-F60C318C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547E-9F45-42A2-B467-99EAD88D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BCD2-0716-4B89-8BD2-D912FC8A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8E20-811D-49DD-8B74-042045EE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AD6D-F55E-4481-A5D8-003021F8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8FB-9BA7-45F6-9FCF-B75C55D1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D989-7BDD-4426-8AE8-B78CBE20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3CB6-36B0-4D1B-B5A4-254EFC54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4860-A494-4B9A-875B-F790FA2D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4304-4AC1-4CC9-8E54-B2668B50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B943-CC34-4A56-84E6-5392359D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A2B1-3C4A-4177-9BFC-7836777C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DE53-3041-4F6B-BF7D-FD0DE7E4A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65480" y="0"/>
            <a:ext cx="461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8Z</dcterms:modified>
  <cp:revision>38</cp:revision>
  <dc:subject/>
  <dc:title>PowerPoint Presentation</dc:title>
</cp:coreProperties>
</file>