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C05-F44C-4793-BF69-D5B828E3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4CB-E6C8-4DC5-985B-659585C1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E31-1946-49CF-B0AE-83B54F2B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1BB-B171-45CD-9886-B54EF728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496-93DB-4F2F-9D91-8DDDEBBA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301-0415-49E7-AD48-C857FE50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2E15-1833-457D-974E-A58EDE3E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65CD-7B0E-43D7-90BA-F7628929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7B5-9A73-4E6A-8FC8-0D9ABE32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EAA-FE35-4FA7-A590-0F5A7EB1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02A7-11C1-4E1E-B3AC-5213ED63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358-7DE3-4CCC-8E30-0DBA42A7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D7C0-E793-49F0-8E04-2AEDAA4B8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95560"/>
            <a:ext cx="90964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8Z</dcterms:modified>
  <cp:revision>18</cp:revision>
  <dc:subject/>
  <dc:title>PowerPoint Presentation</dc:title>
</cp:coreProperties>
</file>