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BEFB-352E-4C9D-ABB8-A857A2F98B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936E-BF0D-4941-83F2-A9CE059043F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4b | DISTRIBUTION OF PERSONAL HEALTH CARE EXPENDITURES BY SELECTED TYPE OF SERVICE, 1929-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CE49-781F-4BF8-A011-0F1B67F45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1818-5465-426D-A364-5F2B6171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2FFC-1051-4956-9568-FD128F139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D5C0-88EA-489D-936E-C13252D78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DEF9-A7D2-4BA5-A449-81C605E68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8AD5-3B01-4697-8327-5C0247E1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FD0E7-219F-45A5-8F90-D028F777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1727-CD4A-4836-B316-90539589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E7A6A-A3DE-4F7E-97AB-C67463BA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9431-0CBE-484D-96A6-685B56BA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410C-6D36-4385-8CC0-D917F8ED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48D8-389C-4378-ABAB-89160A0C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5441-8AB2-4FA7-8B35-02B8D536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4145B-6D7C-427D-AD1E-B9ECBCFB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BE6D-0D88-44CB-AFAC-543656F8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43C4-6227-4BAD-BF7E-4093037D8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BFB26-B7CA-40DF-BABF-70301B09C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A4A9-3D55-4E57-8692-DAEE4BF2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7A6F-159E-4423-A8D3-80F427C2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8F2B-0186-4F8B-9C65-56F73A52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5E34-E621-4752-B554-8B1C5D37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93B7-1581-4085-A247-B357D176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95FD-77B3-4661-9F53-787D4D8B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81F7-1B9E-4D90-B3D4-42C27A66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7B0A-0DAC-4F91-AE41-FA8288F63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117D-FDB4-4A1D-AE37-D1415B4E78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4b | While the share of PCHE accounted for by dental services has declined steadily, trends for other components are more mixed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4b | While the share of PCHE accounted for by dental services has declined steadily, trends for other components are more mixed </dc:description>
  <dc:language>en-US</dc:language>
  <cp:lastModifiedBy>Jia Yao</cp:lastModifiedBy>
  <cp:lastPrinted>2002-05-16T21:44:34Z</cp:lastPrinted>
  <dcterms:modified xsi:type="dcterms:W3CDTF">2013-09-04T18:13:23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4b | While the share of PCHE accounted for by dental services has declined steadily, trends for other components are more mixed </vt:lpwstr>
  </property>
</Properties>
</file>