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D92D-3B1D-41D7-9251-881BB20FD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A | PERCENTAGE OF WORKERS AGED TWENTY-FIVE TO SIXTY-FOUR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A933-04D0-4BF7-AE9A-C23D50D30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F42-6060-4EB7-B1F9-A6F8DAD7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A5B-C1C5-42CB-9C2F-1220D61A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000-B270-4C60-9F4C-A3DA2630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5EF-4D7D-444A-8661-1E0CBA91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575-F69B-4FE4-A428-15D7A6C8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4BA-F39D-4C8F-9D62-8059457F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32D-6D1A-4FA5-8C46-3185C76C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EC4-EBC5-4575-BA1B-8AED3A9B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A71-8CE8-4812-A0B5-EAD1D85E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3D1-C1B8-4C80-A865-41ECFA0C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525-7956-4AFE-AA04-E281651A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A27-211A-48EF-915B-28C37DC1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29BA-6D42-4E38-B20C-9BC589A05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a | For both men and women, education levels are much higher in health services than among other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388800" y="1393920"/>
            <a:ext cx="8577360" cy="5514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55680"/>
            <a:ext cx="19051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with education level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a | For both men and women, education levels are much higher in health services than among other workers</dc:description>
  <dc:language>en-US</dc:language>
  <cp:lastModifiedBy>Jia Yao</cp:lastModifiedBy>
  <dcterms:modified xsi:type="dcterms:W3CDTF">2013-09-06T14:59:14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a | For both men and women, education levels are much higher in health services than among other workers</vt:lpwstr>
  </property>
</Properties>
</file>