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FAF-D13D-4D8D-9696-7DF3575D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E76-898D-41A0-8C42-7545B05F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FF7-EF03-4ECA-B1B3-0CF88EB0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57E-7699-4E76-8978-3D398FDA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9DF-CE0A-48E3-A429-1BA1334E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7B9-37A9-48E5-9616-B8814F05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C55-85DB-4462-A5F6-B519216D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7A6-7817-4D0B-A055-C9E913F8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AF2D-1C16-47BF-94F5-4CA4723B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164-D3B8-4F76-8E20-509DBA7D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879-5526-46DF-8416-FDE4D90E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B93-ABE9-4924-81AE-F26F0BBC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502F-32F9-4066-ADE7-43B758749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63680"/>
            <a:ext cx="91281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6Z</dcterms:modified>
  <cp:revision>16</cp:revision>
  <dc:subject/>
  <dc:title>PowerPoint Presentation</dc:title>
</cp:coreProperties>
</file>