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8BC1-B686-411B-BA85-9CA708A89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3159-607B-4EB2-A1A0-867F7832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B6F4-5FCE-498B-AACD-DDB996347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9DBD-4125-4DA2-B692-FAE19BBEE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C8C7-3114-4F6C-92ED-B2A1F397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C367-B621-4149-9B36-E39D284A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C0DD-C4E6-4203-BC87-7AA571B6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6F1A-5BD4-4965-9FC3-3A1C5D62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E9FC-1D99-48A1-B75A-B55EC972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B715-82B2-4273-8965-92F30B25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93C5-2F61-4FD6-B01B-057AD971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6807-DACA-4AA8-8C23-F9D95FA2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04F4-BFDE-4FDE-BDFE-EF1A4FD002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66600"/>
            <a:ext cx="914400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4Z</dcterms:modified>
  <cp:revision>18</cp:revision>
  <dc:subject/>
  <dc:title>PowerPoint Presentation</dc:title>
</cp:coreProperties>
</file>