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928F-0B61-4AEC-BE88-8C44F2886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b | Trends in Per Capita Income by Geographic Region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A787-430E-46F6-AE6B-DBA2609BE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E51-AC7F-495E-BE28-8AC53D89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B91-86AC-4753-ADA1-11D8F753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1D1-63DD-4A25-8809-1C5D5535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C37-E7AB-4026-9531-FDE1BC7F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3DE-982D-4C5F-A7E8-B4F8B41C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094-6ABF-48AC-B431-E40D2E6D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83D-8611-4430-A5DA-A6EAEC03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91A-6BE2-49BE-AD8F-5ED848ED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4AB-CF46-46DC-806A-63420E98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3A8-E1EF-41E0-944A-EAD70728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D68-2DC4-47AF-A212-678B9372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50B-56EF-480E-B974-84B9944C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7629-D882-4D92-8F3F-6D9F2BF33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b | Regional income disparities have narrowed considerably over the past 8 decades, but have widened somewhat since 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31840" y="1146240"/>
            <a:ext cx="8680320" cy="5479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143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Incom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b | Regional income disparities have narrowed considerably over the past 8 decades, but have widened somewhat since 1979</dc:description>
  <dc:language>en-US</dc:language>
  <cp:lastModifiedBy>Jia Yao</cp:lastModifiedBy>
  <dcterms:modified xsi:type="dcterms:W3CDTF">2013-09-06T15:13:2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b | Regional income disparities have narrowed considerably over the past 8 decades, but have widened somewhat since 1979</vt:lpwstr>
  </property>
</Properties>
</file>