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B05D-511C-4DD6-961B-F1B5DBAD6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2B | FEDERAL HEALTH EXPENDITURES WITH TRANSFER ADJUSTMENTS AS A PERCENTAGE OF TOTAL FEDERAL, STATE AND LOCAL HEALTH EXPENDITURES, 1929-20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A8BF-CC7D-4883-8E6E-EDBF42533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07D-C13A-4E8A-9EC9-1274A0F7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7C29-0CB4-4AFF-B948-4F9B293C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4887-70D8-4538-A37B-7467F414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930-94D5-455F-AFD6-FE7EE15C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158-99C3-415D-8260-4C2D69CC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5A2C-1EB1-462B-AB45-6E020234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5572-3A45-4CEA-999B-1DF16A51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926-D476-48A6-960C-4FCA1D88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159-A1C3-4553-812C-B8D1C2C7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B008-A2B3-4386-A682-919CD14C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79B8-3E5E-485B-8970-ACAF7BE7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0A4B-9FC5-4C58-A221-C12118A5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997E-F792-4923-8B6A-E46C2B894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2b | Taking into account Federal transfers to states for health, the Federal share of government health spending exceeds 70 perc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84440" y="1676520"/>
            <a:ext cx="459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ederal percentage of total government health expendit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2b | Taking into account Federal transfers to states for health, the Federal share of government health spending exceeds 70 percent </dc:description>
  <dc:language>en-US</dc:language>
  <cp:lastModifiedBy>Jia Yao</cp:lastModifiedBy>
  <dcterms:modified xsi:type="dcterms:W3CDTF">2013-09-06T13:59:32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2b | Taking into account Federal transfers to states for health, the Federal share of government health spending exceeds 70 percent </vt:lpwstr>
  </property>
</Properties>
</file>