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A16B-2B70-4D26-B8F6-B61F2037F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5609-EB34-42A1-BB28-1F7FB3B8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4EFB-E120-476C-89F3-1C59B34FC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5627-1A21-49C5-BD7F-24C95928C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2883-23EE-4036-9A23-1E908B4D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0E31-4D9E-4E55-8077-E1BA2D49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CD8D-DCDD-4401-9D87-24CE3AF4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4D17-1DA0-419A-8BDF-3F9114C7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67F9-FFFB-4EFB-84F9-91C154BE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9DEE-6B08-4379-AA28-D678A05D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201B-5549-415B-B768-05010EAE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CD51-6D70-4430-B4CF-F939D84E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EFD9-3E83-48E8-9C5B-39C973ABED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4400"/>
            <a:ext cx="901044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2Z</dcterms:modified>
  <cp:revision>22</cp:revision>
  <dc:subject/>
  <dc:title>PowerPoint Presentation</dc:title>
</cp:coreProperties>
</file>