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A40F-8A33-425D-A457-887AC470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8F06-84A0-4992-9306-E189D6E7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79B-05D9-445D-89EB-99EA908B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D690-101A-436C-B0FA-3F14ABD3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810A-914A-41C4-8F1C-B5F91D3A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968A-D2BE-4880-B742-CF1310A4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9D8F-18B8-4138-97D0-E0D0A060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0AD9-1E05-4392-A58B-899ECACE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CB1A-93A2-4235-AB3A-503CDF2D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F436-47D2-4269-9CF4-E6597639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2F4F-331B-4887-9B9E-F31F513B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27C9-B24E-4164-92CD-FD8FC23A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DB32-E5C9-4D7E-A6C8-798A42C6F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12840" y="54000"/>
            <a:ext cx="860256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5Z</dcterms:modified>
  <cp:revision>40</cp:revision>
  <dc:subject/>
  <dc:title>PowerPoint Presentation</dc:title>
</cp:coreProperties>
</file>