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491-DE8D-4C99-A472-FDE3F9FF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D0B0-6A5F-474E-A744-DB7766C9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1969-51FD-49BC-BD92-9623DA18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373-0132-4056-89C9-DD7E6927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AA4-1265-47AE-8465-7B42CEAC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2C7D-0899-4075-8EB7-22310950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289C-0076-4985-9239-49E0C424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60E7-F8B8-4D73-901D-964894F8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196-F82F-4AE9-8883-5DF064C6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217-43D1-4890-961D-91ED7E4D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A064-4AB0-4131-B12B-B3FCBCAB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582E-D14E-4982-BE03-1ACEE345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2ACF-6846-4D1B-925F-FE54E9F6B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42Z</dcterms:modified>
  <cp:revision>20</cp:revision>
  <dc:subject/>
  <dc:title>PowerPoint Presentation</dc:title>
</cp:coreProperties>
</file>