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6EDC-3D23-4367-9D8D-A59BD64C6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a | Hours-Adjusted Annualized Internal Rate of Return on Educational Investment Over a Working Lifetime, Selected Medical Specialties, 1955-19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FC2C-B1EA-4FCD-AFC8-3802FF41A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46A-4B82-4C66-B221-C4C82E6F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9E6-675E-4742-9084-E2749423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57D-F19C-473E-904A-EA45BD63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46CA-7F0D-4479-B08A-0F8047EB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389-01F5-4D9E-A733-066BFA83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7A4-61FF-4E09-8DC7-894182B5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AA5-5799-49FE-A0F2-D59D48A2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34B6-054D-4948-A94F-170E1FFF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189-3650-4285-A149-F98EF0F0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DBAB-3D2F-40F0-BA07-7DD3DDFC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CDCD-5065-4E3A-A230-68DE0BD1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048E-3F36-4981-9D3F-A23CDADE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77E6-99B7-496C-91C0-EB2BE89DB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5a | The annual rate of return to medical education appears for some specialists to generally have risen over many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5562720"/>
            <a:ext cx="81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that interval between years is not equal. Each year represents a different study. These studies have similar but not identical methodolog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0948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urs-adjusted annualized internal rate of return 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ucational investment over a working life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a | The annual rate of return to medical education appears for some specialists to generally have risen over many decades</dc:description>
  <dc:language>en-US</dc:language>
  <cp:lastModifiedBy>Jia Yao</cp:lastModifiedBy>
  <dcterms:modified xsi:type="dcterms:W3CDTF">2013-09-06T15:08:55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a | The annual rate of return to medical education appears for some specialists to generally have risen over many decades</vt:lpwstr>
  </property>
</Properties>
</file>