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BB94-0FDD-4194-BCB2-2E73B7BFD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A | MAJOR DETERMINANTS OF PREMATURE MORTALITY IN THE UNITED ST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0B5E-F24A-4958-A1B8-8F724AAFF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BD3-B027-480E-8D82-05AD4A96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C25-0191-4861-8CDB-708808B4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9F7-BE67-4768-85A9-93B95D9C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2804-F729-4095-BADE-2117DF9C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20B-90B8-4FB2-A2F8-90C22EE4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DCE-4308-4383-8E8B-D0BF86EC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B04-41C2-4754-B133-AEF1010A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A05-D273-484E-9FB4-195E9078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7FF-14DC-437B-9166-BFE70A51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572-675A-4415-AE15-4A84F07A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EFC-C727-4384-A3EF-6C752296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913-EE8F-423A-A85B-512AAB5E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E8C9-50E7-4EE7-8A18-6417524EE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a | Roughly half of premature mortality relates to behavior/lifestyle; only one-tenth relates to medical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329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015200" y="2971800"/>
            <a:ext cx="18205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j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ermina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m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rt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84920" y="5827680"/>
            <a:ext cx="86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epartment of Health, Education and Welfare. Office of the Surgeon Gene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y People: The Surgeon General’s Report on Health Promotion and Disease Preven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97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a | Roughly half of premature mortality relates to behavior/lifestyle; only one-tenth relates to medical care</dc:description>
  <dc:language>en-US</dc:language>
  <cp:lastModifiedBy>Jia Yao</cp:lastModifiedBy>
  <dcterms:modified xsi:type="dcterms:W3CDTF">2013-09-06T15:41:2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a | Roughly half of premature mortality relates to behavior/lifestyle; only one-tenth relates to medical care</vt:lpwstr>
  </property>
</Properties>
</file>