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57D99-96BB-4E37-8EAC-9C4768B35F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6B | RATIO OF NURSES TO PRACTICING PHYSICIANS IN SELECTED INDUSTRIALIZED COUNTRIES, 200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BFBBE-B59D-4444-912D-6F31739410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BC0A-59AC-4F98-93C6-EF76A80D3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B9E5-AC31-43D5-B45F-2F760632B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953F-1F8B-4C41-A113-47E001942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9143-D6F9-46F4-B798-13C925E3C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BA8D-5428-4423-A7D9-07583B5CE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3D19-0C01-4E0B-A4AB-22519CFDB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4D4B-01DF-4E3C-9BF4-8885BEE09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4DDD-DE25-4037-AE0C-0E553AB65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B505-0A47-443D-8F07-150CC3C94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D2B2-9B2A-4C8B-B5C0-8D8AA6192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4F88-2FD5-41FD-95FD-F639C784E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BA9A-6FFF-4764-ABDC-7969B8275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44B06-8A7B-486C-B26E-048A635ED4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19.6b | The ratio of practicing nurses to doctors in the U.S. is comparable to figures in other G7 n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254160" y="1549440"/>
            <a:ext cx="8635680" cy="459720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609480" y="1447920"/>
            <a:ext cx="563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tio of practicing nurses to practicing physicians (2004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641160" y="622764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6b | The ratio of practicing nurses to doctors in the U.S. is comparable to figures in other G7 nations</dc:description>
  <dc:language>en-US</dc:language>
  <cp:lastModifiedBy>Jia Yao</cp:lastModifiedBy>
  <dcterms:modified xsi:type="dcterms:W3CDTF">2013-09-06T15:40:59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6b | The ratio of practicing nurses to doctors in the U.S. is comparable to figures in other G7 nations</vt:lpwstr>
  </property>
</Properties>
</file>