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81C2-E0B9-4084-91C1-F2444084E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881E-9A91-40BC-B4E0-AEEEB5D3B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A44D-5A75-46A1-958C-5B0150FE5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5E59-C58E-4845-9A6B-8E3BB1805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AC28-A5D8-4964-B438-54D4F8806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725F-1B87-4C22-9BD8-DDA8B6361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B583-5819-4287-B2D3-ABEFFF470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365E-DC6C-434A-8345-0DE68D9D2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A99D-5DE9-4CD5-AA90-B0BFE41F9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BA79-3CAE-45C2-94DE-53116DFFB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0853-0841-43D6-8432-455495A8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0B6E-2997-4646-9051-8299D60A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CAB34-EE81-43DB-9446-6389738CE2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9360" y="152280"/>
            <a:ext cx="912528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2:07Z</dcterms:modified>
  <cp:revision>37</cp:revision>
  <dc:subject/>
  <dc:title>PowerPoint Presentation</dc:title>
</cp:coreProperties>
</file>