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B721-ED5D-48C6-99C6-6A06E94C0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6B | NATIONAL HEALTH SPENDING AND AVERAGE GROSS SAVING AS A PERCENTAGE OF GDP, G7 NATION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6C1E-056F-4471-852F-7FB0B5346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8BF-2DAD-4D8A-81C6-B9664910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A10-C610-4928-A96B-1C493E89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B81-E619-4373-A773-61B86C62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DDE-34E7-4DA9-B3C3-DDCAE9D5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EF3D-054D-438E-8E7B-3681F2A1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285-CCE3-4247-B794-2530B096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3A0-F06D-471E-A109-A45568F9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657-79BB-46DB-9E84-0918028C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3D6-1B79-42B2-8006-3AEF14BD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37E-1B0F-4196-9661-CCAF314F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E70-8797-46CF-B0E0-55A4EC24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1BB-8941-42F1-8A2B-BB04274C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4DE6-32B8-4CA3-B74A-3177C5977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6b | Health spending matches gross saving in the U.S.; in most other G7 countries, the national savings rate is much higher  than N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320840"/>
            <a:ext cx="848340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b | Health spending matches gross saving in the U.S.; in most other G7 countries, the national savings rate is much higher  than NHE</dc:description>
  <dc:language>en-US</dc:language>
  <cp:lastModifiedBy>Jia Yao</cp:lastModifiedBy>
  <dcterms:modified xsi:type="dcterms:W3CDTF">2013-09-06T14:59:3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b | Health spending matches gross saving in the U.S.; in most other G7 countries, the national savings rate is much higher  than NHE</vt:lpwstr>
  </property>
</Properties>
</file>