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2796-87B7-4B3B-AE17-DCBE23E0E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A | ANNUAL COMPENSATION PER FULL-TIME EQUIVALENT WORKER, HEALTH SERVICE INDUSTRY AND OTHER MAJOR INDUS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96A9-A24B-4934-94A4-512BB176E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A8E-36F8-4CBF-9E2C-E7E8D764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208-2FD8-4369-9E43-21691B1F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8A4-4D38-4D40-87FF-D1855A9D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D49-B3F2-44CF-B2E7-442CAF61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ADB-A882-4FE5-9396-6BB9D13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142-70FE-4F60-8A16-01C16C3C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62E-CFF1-40C5-9A5B-F0FE7EC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58E-8206-4963-A46A-192BC61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1B4-8BCC-49E5-92D9-BE445ED8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281-D094-4A48-9B9F-7E4D2172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9E7-BEF3-4BBE-B6F2-F2AADCAF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956-33D4-4A21-8ECA-943900DC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A83A-F8E3-4614-9893-586818CCB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2a | Average compensation in the health care industry is higher than in the rest of the service sector but lower than for public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279360" y="1015920"/>
            <a:ext cx="101599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a | Average compensation in the health care industry is higher than in the rest of the service sector but lower than for public employees</dc:description>
  <dc:language>en-US</dc:language>
  <cp:lastModifiedBy>Jia Yao</cp:lastModifiedBy>
  <dcterms:modified xsi:type="dcterms:W3CDTF">2013-09-06T15:08:36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a | Average compensation in the health care industry is higher than in the rest of the service sector but lower than for public employees</vt:lpwstr>
  </property>
</Properties>
</file>