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211-15C5-4E08-8246-D8AC394D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7BC-3153-4E81-8A76-35D00EE1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53DE-183F-4DA2-AE9A-6F5F6AB9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BC25-C74A-428F-BC32-A2DA1913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214-07E3-4B5E-95B3-2435D932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413-0D7B-4CF1-B3B6-0AE1B670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79B-7B2F-44D5-9579-3E2437C4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9D5-C5CF-4624-B0E1-23CE12C6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357-0F15-4DB5-9653-0E731043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9B8-4B4F-4FD4-91ED-A887214E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370-144D-4DA4-8BFD-EC6FAE09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658-5F00-4F04-8AB3-3AAD5019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268F-6A1D-4716-8A0A-04D729573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2360" y="0"/>
            <a:ext cx="62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3Z</dcterms:modified>
  <cp:revision>22</cp:revision>
  <dc:subject/>
  <dc:title>PowerPoint Presentation</dc:title>
</cp:coreProperties>
</file>