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6A2-7D30-4A44-999A-D16C7F93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044C-3290-45F2-90EB-E7C4B1E2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638-AAA0-411A-A521-4FC44CCF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616-733C-4C50-9CE3-80B58F74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D47-40AD-48F9-A422-C63A2C7F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3A1F-1DCE-417F-B171-33E6E591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EF0F-9A3F-4F4C-BD83-5B28CD2B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09D-F528-4054-BA79-8B8C12B8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53F-9B68-4884-96D7-A72157E4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7815-F574-4BFB-B013-3B7E8103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56BA-F765-45FA-8AA7-3452492C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BCE-B787-4C9D-ADE3-FFC11385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D299-0858-485F-A891-21829E296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91960" y="0"/>
            <a:ext cx="856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3Z</dcterms:modified>
  <cp:revision>37</cp:revision>
  <dc:subject/>
  <dc:title>PowerPoint Presentation</dc:title>
</cp:coreProperties>
</file>