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55CD-2FFC-4DF9-8788-7B8CB80B5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C | RATIO OF HEALTH-RELATED UNFUNDED LIABILITIES TO U.S. GDP AND HOUSEHOLD NET WORTH IN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33D2-F8EA-4B9C-A708-42819A1A2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988-9039-4160-ACF0-CD6A3C89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172-0C9D-4C20-B8BD-3ED317DF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330-598C-4C97-9D4C-205D89F2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2C0-F75D-4478-B78E-03E25C8F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ADA-A8F8-4236-BC96-5C766949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3D1-4A62-4BCF-A14B-0B66BF0A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8FB-8AA1-4F0E-937F-21B23676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D1E-07EF-48CE-A3DB-D9AEFA75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7E4-36A1-48CE-83D7-5730E76A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6E2-006C-4C3E-80DC-98BA1104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3A0-D9CF-491A-8BBB-ED3B3D9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588-EE1E-4C28-BF23-31CB4AC3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9A18-1897-4888-820A-C7FF1326E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c | Health-related unfunded liabilities alone are  at least double national income; in the long run, they exceed current U.S.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2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55480" y="1405080"/>
            <a:ext cx="1600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 of unfunded liabilities for Medicare and Medicaid relative to measure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2680" y="60372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funded liabilities calculated as of January 1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c | Health-related unfunded liabilities alone are  at least double national income; in the long run, they exceed current U.S. net worth</dc:description>
  <dc:language>en-US</dc:language>
  <cp:lastModifiedBy>Jia Yao</cp:lastModifiedBy>
  <dcterms:modified xsi:type="dcterms:W3CDTF">2013-09-23T19:14:3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c | Health-related unfunded liabilities alone are  at least double national income; in the long run, they exceed current U.S. net worth</vt:lpwstr>
  </property>
</Properties>
</file>