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93718-2FD8-433A-B9BE-17DE4767E8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9.6a | Personal Savings and Personal Health Consumption Expenditures as a Percent of Disposable Income, 1947-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FA4F4-8406-40A6-B802-071CFAE4E6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25FB-001E-428F-8ACF-33E97D386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C845-B838-4216-86BC-62E1A10A8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A345-4A5F-483F-90DF-3301C61C1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7994-36C6-42D0-8054-865709428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1090-1641-438A-944F-6E136C2F0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AB43-EB4B-4D0B-B903-9E8C47D6E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99EE-2CB1-42A1-A95D-3D0D5F8B6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CAE4-01B4-45E5-A8A3-0B5F16088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15BF-0FFF-4297-8207-64BD9B8EE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32A4-C320-46F8-99DD-25269FC3B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23A0-DD19-4E65-B067-72596951E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0544-95B6-4A65-85E1-3132D1FE7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43260-F7A5-4446-B246-23F0EF48D6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9.6a | The share of income going to personal health care and personal savings both increased prior to 1982, but savings generally declined thereaft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168560"/>
            <a:ext cx="8331120" cy="551160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685800" y="12193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disposable personal inco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6a | The share of income going to personal health care and personal savings both increased prior to 1982, but savings generally declined thereafter</dc:description>
  <dc:language>en-US</dc:language>
  <cp:lastModifiedBy>Jia Yao</cp:lastModifiedBy>
  <dcterms:modified xsi:type="dcterms:W3CDTF">2013-09-06T14:59:30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6a | The share of income going to personal health care and personal savings both increased prior to 1982, but savings generally declined thereafter</vt:lpwstr>
  </property>
</Properties>
</file>