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93CC-DF30-46D1-9F32-DAE3F1D352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9A | LIFE EXPECTANCY AT BIRTH WITH AND WITHOUT DEATHS RELATED TO VIOL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3846-BEE5-4C57-916A-700E45428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5398-7A6F-4DF8-A9B7-D375677A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43AB-2A47-4CA1-A9F8-1FD87E46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D1D8-BABD-41FB-8259-56F6ADDE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2F30-4274-4BD5-A7E4-86CCED3E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9517-4E72-40BC-92F4-8E8F60D9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9CE1-BB24-4FF9-B503-9F6E1311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2796-D11F-41CE-8FEA-4575AF29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3DE2-3292-447A-8AF9-5A2B0C20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B384-01EB-4775-802C-1D6B20F0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6CCE-BCEA-4B93-A807-474F7EF0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B2D2-003F-4887-AD43-4A5367D8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01E4-8A88-436D-8D18-1B09368F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82AE-EDF4-4E4C-9F65-8EC55B0A1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9a | Once higher-than-average U.S. rates of violent deaths have been taken into account, the U.S. leads the world in life expecta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4951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85880" y="12193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n Life Expectancy at Birth, 1980-199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61880" y="5410080"/>
            <a:ext cx="823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hsfeldt RL and JE Schneider. How Does the U.S. Health-Care System Comp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Systems in Other Countries? 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e Business of Health: How Does the U.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-Care System Compare to Systems in Other Countries?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erican Enterp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itute. Washington DC. 2006. http://www.aei.org/docLib/20061017_Ohsfeld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neiderPresentation.pdf (accessed November 3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447840" y="441972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Countries are ordered by standardized life expectancy derived by assigning ea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ntry the mean OECD fatal injury rate for the period shown; figures in parentheses denote ranking on unstandardized life expectancy at birt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9a | Once higher-than-average U.S. rates of violent deaths have been taken into account, the U.S. leads the world in life expectancy</dc:description>
  <dc:language>en-US</dc:language>
  <cp:lastModifiedBy>Jia Yao</cp:lastModifiedBy>
  <dcterms:modified xsi:type="dcterms:W3CDTF">2013-09-06T15:41:10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9a | Once higher-than-average U.S. rates of violent deaths have been taken into account, the U.S. leads the world in life expectancy</vt:lpwstr>
  </property>
</Properties>
</file>