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75BE-CE31-48BD-8759-7F43D9997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DD53-3E97-40D1-8698-655D8330695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5a | EXPENDITURES ON CHRONIC CONDITIONS FOR ADULTS AGE 18 AND OVER, BY AGE, 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1F76-DCBE-4DBC-BFF3-A87FC48B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9096-313F-42EC-B5E7-C0E879F6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BDE3-B6EF-4F10-A63C-9ACB39A41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2700-4BE3-4F95-9B9F-7C0E0C64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8916-B7A5-4BFC-8639-950AC999B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50C9-E9C0-4351-9415-7A32BBE2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333A-4001-4009-8F66-516330F0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B043-0958-46E6-9435-9DA4F021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EC8B-F88B-4E8E-A410-30718C69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0208-2D8E-4F4E-8A7C-4990F6D2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0E76-6EF0-4D9A-94D8-B092D425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147D-334E-413C-9F57-D7537920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755A-6EB7-4481-BC15-F3E705ED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B0F6-C7DB-4DF0-B6F9-1E582DC4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40F2-722E-4A07-9A01-3C1C06A0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1221-D648-4599-85AB-CB80DBA88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8DCF-BAF5-431A-8101-AD6340D0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E7F6-063B-4523-96BF-4620C485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B065-D142-4940-AEFA-655DE379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580A-C9E7-46D4-95EC-330E13F4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46C1-6883-4C01-B275-62DF6553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E787-0B9D-4713-BA27-098EE6CE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970F-0F7B-4CAE-8DF8-26DF7F84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A22B-BDAC-46F5-B444-F4A66033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1AC4-7C29-4DA2-AD7A-86A9B6EBF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9F34-AE96-4D3B-A4A4-C5C65F66B2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5a | About half of adult health spending is for chronic conditions; 90 percent of spending is on adults having at least 1 such condition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5a | About half of adult health spending is for chronic conditions; 90 percent of spending is on adults having at least 1 such condition</dc:description>
  <dc:language>en-US</dc:language>
  <cp:lastModifiedBy>Jia Yao</cp:lastModifiedBy>
  <cp:lastPrinted>2002-05-16T21:44:34Z</cp:lastPrinted>
  <dcterms:modified xsi:type="dcterms:W3CDTF">2013-09-04T18:13:25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5a | About half of adult health spending is for chronic conditions; 90 percent of spending is on adults having at least 1 such condition</vt:lpwstr>
  </property>
</Properties>
</file>