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4C12-DA66-42F6-AA7B-9F6AFB4E0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9ECC-9FC6-4805-9D55-6D6DBB784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30F9-D785-470F-A526-641CB57BF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23B7-E948-4A48-A15A-FC9BAC828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F5BD-4362-4DCE-A3AB-4D9C5AC79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D43A-AA04-406C-AF94-E938BDBF7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FAF1-4321-41B6-A03A-EE24243E7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0532-1ABB-446B-97B8-339140FA9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D4BD-8E68-401E-B70D-BA263E05F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D5A7-F900-407D-8A26-6D1491CA5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30DE-CAC4-4866-9294-D76EC6348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1019-8B61-4362-8C92-EA9453FEA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B46FB-5B79-4A72-A83C-BA2FDD6F7F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31680" y="360360"/>
            <a:ext cx="9112320" cy="611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4:51Z</dcterms:modified>
  <cp:revision>31</cp:revision>
  <dc:subject/>
  <dc:title>PowerPoint Presentation</dc:title>
</cp:coreProperties>
</file>