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73B-05FB-4BEF-86D1-F8EF4409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E6C-CF10-421B-B18F-8D204D89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6B9-C0B0-47B8-B990-88690667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39E-DB55-485F-93C8-D83B29BA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81FC-94AF-485F-B623-C89314CC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5EB-5FB5-4E85-8EBB-DCF296A5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4B96-088B-4711-826D-A1140AFB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065-9385-41C2-9C5A-F9F83AEF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531A-01BA-44A6-8DFA-7E25DBC2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4543-44B1-4C41-B533-2DEE02A1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B319-360A-4F8D-AE00-6D68C30E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728A-B5D2-4395-970A-D490548F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D60B-C34C-4AED-8481-7094A3DF1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480" y="152280"/>
            <a:ext cx="9023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3Z</dcterms:modified>
  <cp:revision>10</cp:revision>
  <dc:subject/>
  <dc:title>PowerPoint Presentation</dc:title>
</cp:coreProperties>
</file>