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8EB-7360-47B0-85B1-59D3DE25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BF8-A9FE-46C7-9826-9D0D3F98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5A9-0295-4629-BEB6-00235D59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E7F-19D4-4A0C-9C37-F4421F12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6D9-249D-431C-99F4-6E2AC8BB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F96-1E41-4D8F-B954-A9FA0C0A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724-2591-431B-88C9-2ABE230A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7D0-BAD9-4E30-AB26-66AFDFDD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65D-C8C6-4E32-AC73-C41AB301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6FC-424F-452A-8834-4508C3B7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1A0-D5FC-485F-97FF-EBFA06F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C8B-B8BF-40E8-A4AE-F8F718D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D646-23E3-44B3-922F-C00A88F07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3240" y="1219320"/>
            <a:ext cx="9147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4Z</dcterms:modified>
  <cp:revision>31</cp:revision>
  <dc:subject/>
  <dc:title>PowerPoint Presentation</dc:title>
</cp:coreProperties>
</file>