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9DC4-583B-46D5-B50B-1F3D870DE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0C0D-713C-420C-B2CD-718C28C15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ECCE-D61C-478D-9296-15170113E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BD56-5104-4689-A2B3-DA429BD9F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C259-7A48-46E9-A844-FB773AE42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262C-5D1A-4AE3-A29E-CE69B74A9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0E16-9F2D-4178-9147-4139FD175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1BAC-442A-4DA0-BD28-09DC36457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BD26-C930-4E20-877D-0032E26F7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B5B7-4FDE-4273-9C00-A392279D2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2A98-C003-4AD3-AF63-70FC9DF6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D537-797F-4D81-BBE1-72327AD8D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3F07F-C2DC-4C47-8F7A-857BC1647B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228600"/>
            <a:ext cx="914256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20Z</dcterms:modified>
  <cp:revision>37</cp:revision>
  <dc:subject/>
  <dc:title>PowerPoint Presentation</dc:title>
</cp:coreProperties>
</file>