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EBD-71C1-4AE9-A110-7F36270C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21F-8C76-460E-8833-36A54990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8FF-2DB9-4D4B-9370-22E675EB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AD8-2065-4197-9DAC-0E639CBB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5A4-A3D9-4DCF-AAD5-B0755F22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F74-28CC-47D1-926D-57CD486E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47C-DCED-4B37-B21C-D21C5BC6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05B-7A10-4D04-9A5D-5E8BAC69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504-AD20-47B4-B39E-B6CCB79C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904-1DC5-44AA-B2E0-6075FF11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8DB-1DD4-4D05-AA04-5A713B97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B46-3210-4C05-B0D4-C840201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CF2F-3CA7-4983-A4A7-3B9E3FFA4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6Z</dcterms:modified>
  <cp:revision>35</cp:revision>
  <dc:subject/>
  <dc:title>PowerPoint Presentation</dc:title>
</cp:coreProperties>
</file>