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168E-1C2A-48AB-9952-17F007F2A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EE2C-C52C-45D3-A494-8F038602BB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c | ADMINISTRATIVE EXPENSES OF PRIVATE HEALTH PLANS 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AFA-C012-4180-A7A9-92ADAC2B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B72-7E97-4A91-B7D9-2BCC600F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51A-8C76-445C-B87C-08C90C0F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4AF-4343-4C2A-B794-58816303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2891-C1EE-40F6-A680-5233D53A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C476-7B19-4E02-9BB6-0A5715A1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3B88-CE29-4C38-87BC-BD733897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802F-AC8D-41E6-B36D-8D4F93EE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63B-9A46-4BD2-85CA-53DE7A66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12D-95AD-43E8-8A91-81CC6E85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7BA6-8F79-4989-B81D-D33849AE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E22-4E00-4BA7-9B1E-5EA7642F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68D8-DD44-4957-B438-C5DF8396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3081-F792-43BD-8CED-3EFF1EC8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B3F1-A588-45FB-AF5D-8C41C7FC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8246-58FD-4481-896E-AC1E2C1E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A8DF-124C-4B49-A4AB-09A9A3B1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5CA-E2DE-4A4A-BBA2-350BA0EF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FE2-7A00-437F-8286-326F762D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8CB-C539-4C53-A725-58B41A4B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849-F293-4CA2-B19E-860068C7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CC3-56EB-42B7-950A-EFCEF77C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295-A248-4BB9-812A-5869917B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830-8BC9-4A48-AD22-63CF53A7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81E0-6585-4BC6-AF0C-009F4947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B349-494C-45F3-BA1F-CD7C7FCC7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c | On a per member per month basis, Medicare’s purported cost advantage over private plans is small or non-existent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c | On a per member per month basis, Medicare’s purported cost advantage over private plans is small or non-existent </dc:description>
  <dc:language>en-US</dc:language>
  <cp:lastModifiedBy>Jia Yao</cp:lastModifiedBy>
  <cp:lastPrinted>2002-05-16T21:44:34Z</cp:lastPrinted>
  <dcterms:modified xsi:type="dcterms:W3CDTF">2013-09-04T18:13:2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c | On a per member per month basis, Medicare’s purported cost advantage over private plans is small or non-existent </vt:lpwstr>
  </property>
</Properties>
</file>