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10FB-2B17-457E-A163-28DDA9526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6A | SPECIALISTS AS A PERCENT OF PRACTICING PHYSICIANS IN G7 COUNTRIES, 1994, 2000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98DD-43BA-4948-AB5C-D95FA4AF3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5801-BD3E-499F-8818-2C55E5EC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B4B4-AE9C-4F0F-ADAF-A395EECE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1FDF-8208-4A8F-917A-143D4177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AF0-F703-4652-97BD-1EDFCEE0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5039-538C-40D5-99AD-78A185A1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D2E-C5E1-4B53-BBAA-500F049A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9D4C-D0ED-4518-903F-34635F65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149-AB08-444C-A045-AFDC8B55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442-884E-42B2-BA4F-9268A328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E31-5C30-45A9-A0D8-96173A97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3F4-67CA-4687-81F3-0C1E2BE4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40F-691B-4068-B0A2-A6DC4D14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30D5-71EE-4600-BF96-745281298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6a |  The U.S. is not alone in relying heavily on specialty physician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4978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alists as a percentage of practicing physici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37920" y="629460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6a |  The U.S. is not alone in relying heavily on specialty physician care</dc:description>
  <dc:language>en-US</dc:language>
  <cp:lastModifiedBy>Jia Yao</cp:lastModifiedBy>
  <dcterms:modified xsi:type="dcterms:W3CDTF">2013-09-06T15:40:5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6a |  The U.S. is not alone in relying heavily on specialty physician care</vt:lpwstr>
  </property>
</Properties>
</file>