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87CA-9BEF-4A9E-92D0-629110CF4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B | COST PER LIFE YEAR AND "QUALITY-ADJUSTED" LIFE YEAR GAINED FROM INCREASED HEALTH SPENDING IN THE UNITED STATES, 1987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5D90-A570-49D2-A827-5109667E7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C83-93D1-4810-B971-097E7B5C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584F-E6C8-4F57-A246-95206F00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2F25-C623-43CF-9007-4B2770CE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E949-9B76-4A9C-BAD1-71B99E73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9B55-B391-4D3A-9587-7780B852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EA99-807D-43D0-98B9-C1F622FA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F06F-B639-4CE6-BAF8-BC22EFB5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0214-BAE2-4429-BD15-EEE084C2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D40C-69F7-45CD-983C-6B58896B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DBD4-D0DE-40FE-83AF-F2459F54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6B66-7A07-4DFE-B233-00CE5AB0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B6A6-3532-4177-9566-3847A669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3FEF-2973-4A4E-895F-1B907C81E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b | On average, increases in U.S. health spending appear to have provided reasonable value for the mo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320840"/>
            <a:ext cx="85597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820800" y="1371600"/>
            <a:ext cx="37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per life year gained (2000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25680" y="6029280"/>
            <a:ext cx="80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, A Rosen and S Vijan. The Value of Medical Spending in the Uni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s, 1960-2000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New England Journal of Medicin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6; 355(9):920–2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40440" y="5105520"/>
            <a:ext cx="78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spending per year of life gained is defined by the change in spending 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decade divided by the change over the decade in expected years of life at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es show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b | On average, increases in U.S. health spending appear to have provided reasonable value for the money</dc:description>
  <dc:language>en-US</dc:language>
  <cp:lastModifiedBy>Jia Yao</cp:lastModifiedBy>
  <dcterms:modified xsi:type="dcterms:W3CDTF">2013-09-06T15:40:36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b | On average, increases in U.S. health spending appear to have provided reasonable value for the money</vt:lpwstr>
  </property>
</Properties>
</file>