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BED1-C6E8-4C1F-915E-E92F3FECFD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4A | CORPORATE PROFITS BEFORE AND AFTER TAXES AS PERCENTAGES OF NATIONAL INCOME RELATED TO HEALTH CARE, 1963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59D0-C4EA-40B5-97EE-6783FD02F9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E5DD-201B-495F-8079-802BBD8C2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7065-7AD1-48C5-9989-D8470F4A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4E04-727D-420E-A4BA-C79570D2E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20A6-20BC-4EE9-B5A1-1A50A70E5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ABEC-4611-4B14-A5E0-F242D46E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195E-0BED-4538-A81F-49004D5B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D633-6EA8-4A39-88C5-9909CCAA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8DA0-C632-4DE5-A93A-C4F0DC37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4FF2-3D22-4531-B0E2-071A60EE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34DC-9161-4D19-9977-CF7094BA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54EB-3DF8-43A1-A26A-68F10626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9E8D-9798-4115-8E67-96F8AA60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D2E0-C780-48A6-999E-752261D679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4a | Health services profits have increased substantially since the advent of Medicare and Medicaid, but still are below aver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762120" y="144792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age of industry’s own national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4a | Health services profits have increased substantially since the advent of Medicare and Medicaid, but still are below average</dc:description>
  <dc:language>en-US</dc:language>
  <cp:lastModifiedBy>Jia Yao</cp:lastModifiedBy>
  <dcterms:modified xsi:type="dcterms:W3CDTF">2013-09-06T14:17:00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4a | Health services profits have increased substantially since the advent of Medicare and Medicaid, but still are below average</vt:lpwstr>
  </property>
</Properties>
</file>