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4725-3A98-4529-8954-3A5D2C45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DD8B-83D8-40AF-A0D6-DD37DCFF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A8F0-1EC5-4E09-BD7F-FCCD5906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4BDD-7345-416A-99CF-5D4233F5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B46D-C7E7-42F5-898D-0485B417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54BD-01DC-407A-9EEB-C5764467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8807-136D-4B4B-9E96-F8BAA33F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F3B4-5899-493F-842F-B2275486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7736-1C00-46A0-A44D-33C547CD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9FB5-3035-4351-B3AD-143BB501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39E9-5836-4FB5-AED4-762F2DAC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D24B-D91A-4916-A28C-77664E0D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C8C2-41AF-4AAA-B946-944C23F01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5160" y="533520"/>
            <a:ext cx="90136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20Z</dcterms:modified>
  <cp:revision>37</cp:revision>
  <dc:subject/>
  <dc:title>PowerPoint Presentation</dc:title>
</cp:coreProperties>
</file>