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03B3E-7507-4349-A717-6B91E36EA1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8.3B | HEALTH-RELATED FRINGE BENEFITS AS A PERCENTAGE OF NATIONAL INCOME BY TYPE, 1948-2009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F2A65-BDFD-473E-BD14-61F3E93C8E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820F5-56F0-41BD-A357-59ABA81F6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19C64-32BE-48A7-811E-9D250B3B2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4AB89-DDE0-45D6-9B6B-D0D4FA9E7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DBF2A-7EDA-421E-802F-15BBD85D4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547F0-6B53-481A-82CC-5EFB584A5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BCC31-E562-4665-8A3E-52089B71E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9BB7C-4A86-45B8-B1F1-0008E3D72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1D8AB-4EFD-442A-BBCF-2D0976802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AC5BF-F34F-4DCB-A8BB-FB99D3D71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83796-40A7-4577-89AC-68CACE868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29D8B-F1BC-402B-96AC-06875B8D9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8EDCF-ABF2-4B43-86F7-529D47188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474D4-6392-43AA-BF27-1543BE2291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8.3b | The health services share of owner income is nearly as high today as it was in 1929; the share for all other services has increas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101520" y="1244520"/>
            <a:ext cx="8864640" cy="520704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9T21:34:12Z</dcterms:created>
  <dc:creator>Trinity Technical Services</dc:creator>
  <dc:description>8.3b | The health services share of owner income is nearly as high today as it was in 1929; the share for all other services has increased </dc:description>
  <dc:language>en-US</dc:language>
  <cp:lastModifiedBy>Jia Yao</cp:lastModifiedBy>
  <dcterms:modified xsi:type="dcterms:W3CDTF">2013-09-06T14:16:58Z</dcterms:modified>
  <cp:revision>930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8.3b | The health services share of owner income is nearly as high today as it was in 1929; the share for all other services has increased </vt:lpwstr>
  </property>
</Properties>
</file>