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3542-8973-4D2D-8BAD-90828244F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2225-B4B3-482A-857C-0E021B83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033A-0D2D-4613-8BE3-0A5C9A505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6F25-C8AA-4014-9C35-68A827741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6F2A-5D27-46CE-94FB-2BFE96AF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A540-062B-4B99-BF05-538D23E1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DC9C-6CD6-4619-93C5-889F198F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EC2F-CC51-4DA9-BC6F-90BF93B4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80DC-EA8C-4909-AA7D-93976291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0850-CE00-48DD-AAB7-12CC7A44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71A8-6D51-490F-99F4-1BAEB045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2AD4-7760-4D58-8544-411F4EA8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9AAB-2985-4E02-AAAD-59757C8F0A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52280" y="-4680"/>
            <a:ext cx="883296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0:54Z</dcterms:modified>
  <cp:revision>30</cp:revision>
  <dc:subject/>
  <dc:title>PowerPoint Presentation</dc:title>
</cp:coreProperties>
</file>