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087-3E24-46B6-BC85-F1BC88FD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EDF1-A53F-415A-BE13-AF8AD5BE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159A-92C6-4879-B783-892961CF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8B5-AC3B-4DBB-A801-E343B951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ED0E-96C9-497C-B80C-2BC8F5C4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C0B-2597-46A6-8C2D-8B626CFB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5C2-4317-4D6F-A2CE-9114BFEE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287-9997-4F66-9E7F-7C0213A5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A5E-351F-4BB0-91FB-BF23B48F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D8BC-F94D-422E-ACFD-72F4EF3B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ECD-0ED5-4926-A2E2-2A12465A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37A2-137E-4227-99D7-53B500AE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6936-2F68-460A-9606-DF1665C69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0760" y="0"/>
            <a:ext cx="904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6Z</dcterms:modified>
  <cp:revision>37</cp:revision>
  <dc:subject/>
  <dc:title>PowerPoint Presentation</dc:title>
</cp:coreProperties>
</file>