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5DDC-82C0-42AF-9B77-65DFBBCB8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a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154A-DBE1-45E1-B2C5-231816EB9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E5C-B872-43DF-AFB1-62586616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4DB-D298-43E5-9866-72EA5F46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BD4-5766-4E33-B4C8-C03ED560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52C-47F5-423E-8C1A-ADAAC9EF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C01-B783-4E78-A43B-E9BDEC09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2EC-CFED-40D1-8A90-A3E30E2E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5B7-ECFE-4CBE-AD26-67D1AEAD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C24-5AC7-4D3C-BE45-A814023A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5EF-2FDE-45E3-BEE9-52D24546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914-35C5-42E4-8D9C-B57364A5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B2A-B4B4-48BF-A41F-EB3BCD57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427-4EA2-4639-ACD5-4D397BCE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1920-7119-4886-A01D-DA241976B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a | In terms of worker purchasing power, real hourly compensation in ambulatory health care matches changes in hourly output over the long ha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932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a | In terms of worker purchasing power, real hourly compensation in ambulatory health care matches changes in hourly output over the long haul </dc:description>
  <dc:language>en-US</dc:language>
  <cp:lastModifiedBy>Jia Yao</cp:lastModifiedBy>
  <dcterms:modified xsi:type="dcterms:W3CDTF">2013-09-06T15:08:4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a | In terms of worker purchasing power, real hourly compensation in ambulatory health care matches changes in hourly output over the long haul </vt:lpwstr>
  </property>
</Properties>
</file>