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7E5-ED24-4CFA-89D8-404EC811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930-3E0D-4D7B-B087-BB1FB6E2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0B5-FC8A-444C-AA96-C1D7A82D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901-277F-4A13-A04E-CBA27536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35B-CF7B-425C-B702-53D1C970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DCD-C9E0-41A6-B97C-59B5ED75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D04-192B-4C33-B510-351C91AE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1C0-0271-4BE7-9ACF-70D9E7C7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495-4D93-460E-98CF-F832FFFC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F45-4581-4819-8244-067E3D52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B40-D29D-4C2E-B028-71877E34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D3C-F0E1-4814-9339-897A12E6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2A88-EE76-4CC9-8B84-75F766961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76320"/>
            <a:ext cx="90946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7Z</dcterms:modified>
  <cp:revision>20</cp:revision>
  <dc:subject/>
  <dc:title>PowerPoint Presentation</dc:title>
</cp:coreProperties>
</file>