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B179-3497-40FA-9D4C-8A511DB2D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2A | YEARS OF POTENTIAL LIFE LOST BEFORE AGE 70 PER 100,000 POPULATION VS. HEALTH SPENDING PER PERSON IN SELECTED INDUSTRIALIZED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EBBA-4C3B-4F0F-9221-635490F37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B95-4A0D-493C-9E0E-E8345CE3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087-92E8-488C-B0DA-369C7143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60D-28FF-4D37-B0EC-72AB0060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F1C-AC3E-4D24-AAD7-561CBB3D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BED-DEF4-40A8-A698-60AABE09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439-203B-4867-86F6-1C67A1A6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55F-4584-4841-8746-B2C6DB47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ECF-17B1-4781-9AB2-E2A8200A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1215-0CB9-4BB2-A385-628D55D0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E2E-502D-4DAE-BEBD-30161089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491-10D7-45C2-95C9-8DFE21ED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3A3-FB0D-41A8-B7F0-29747066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5E6F-8751-4C15-8CB0-99B564923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2a | Years lost due to premature death are much higher in the U.S. than most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01520" y="1549440"/>
            <a:ext cx="88646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914400" y="5780160"/>
            <a:ext cx="69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person (U.S. purchasing power parity, 2006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2a | Years lost due to premature death are much higher in the U.S. than most other industrialized nations</dc:description>
  <dc:language>en-US</dc:language>
  <cp:lastModifiedBy>Jia Yao</cp:lastModifiedBy>
  <dcterms:modified xsi:type="dcterms:W3CDTF">2013-09-06T15:40:38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2a | Years lost due to premature death are much higher in the U.S. than most other industrialized nations</vt:lpwstr>
  </property>
</Properties>
</file>