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3BE4-3248-4EA4-8B56-2930FC1EB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5.2 | ANNUAL HEALTH EXPENDITURES AS A PERCENTAGE OF HOUSEHOLD NET WORTH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EDBC-D7FC-43AA-890F-08BC8E62C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C8D-42E5-4672-A618-445C5A3A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393-CCF9-4DC7-98EA-CE00F103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107-7A04-40CA-A740-75CA56AA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00A-DF39-4975-A554-A20AEFFE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D06-9441-4BA7-BD24-EC03F869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CC8-908A-4FFF-9E6A-3785F2C0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09E-3B31-4C9C-B008-D41976F4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EB1-2B6C-4729-B525-D5DB3406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0C1-2308-46BA-BDA2-79949D4A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805-D09B-4CF8-A15A-0AB2BF0B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9A0-08B4-4710-99C0-D61398F4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A63-D8CE-47F0-895D-EC5F852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6D44-A5D3-47D0-A7B1-940318C9A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2 | For low income families, the cost of having one member in the top 10 percent of health spending would exceed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ulated spending as a percentage of family net worth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simulated spending estimated assuming 1 family member had health spending in the top 1, 2, 5 or 10% of individuals ranked by expendi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2 | For low income families, the cost of having one member in the top 10 percent of health spending would exceed net worth</dc:description>
  <dc:language>en-US</dc:language>
  <cp:lastModifiedBy>Jia Yao</cp:lastModifiedBy>
  <dcterms:modified xsi:type="dcterms:W3CDTF">2013-09-06T15:26:03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2 | For low income families, the cost of having one member in the top 10 percent of health spending would exceed net worth</vt:lpwstr>
  </property>
</Properties>
</file>