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37F3-B366-42D5-B2CE-F164B134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E31-D3B3-4C78-8346-03CF7436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C017-6118-45F3-AF7C-CA32A413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00F-EE5E-4DC5-8B25-8DF530A1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973C-6AE9-41F5-9B1B-30C27F2A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82C8-542D-418A-BEC8-F8FB31CA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AEC7-98B7-494D-9B12-96ADF0CD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3862-1842-4698-A4E7-DCCA1325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024-8614-42E2-8AAD-C0E9958C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405-BCA0-44BF-9D45-C9D507AC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5C4E-77E6-4691-828A-3AD9BB48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CFDB-5117-49D9-A37E-59E76B58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59F0-DF70-42ED-BAAC-DE5ECA5C3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2560" y="228600"/>
            <a:ext cx="9038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2Z</dcterms:modified>
  <cp:revision>39</cp:revision>
  <dc:subject/>
  <dc:title>PowerPoint Presentation</dc:title>
</cp:coreProperties>
</file>