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D19C-C466-4ACC-91F1-D51AF5B6F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9A | REAL PER CAPITA NON-HEALTH SPENDING, BY HOUSEHOLDER AG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C23E-E46C-4CAC-B739-F9CEB55CF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28D-582E-496D-823C-5F94D6ED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2D5E-B91F-4AD6-BF50-6067DE17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FE71-3B26-4A77-9C3A-A295F50B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95D-5C7B-4E13-A3DB-D46C8626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9A31-2E8B-453C-B3F9-DD77EFAC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F780-12C7-4F8F-A9F0-602861C2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ECFD-5C85-4778-AC30-FDC92983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2B92-3913-43A1-95DF-70C900AE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939B-126F-4427-A5FA-3DC12522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07B5-0814-49B5-A8A8-BE7D86C2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38D5-C40E-4FDB-A0A4-706682BD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A1D-8231-4FE3-BCA9-B951A672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7954-2D43-4359-A895-BA650BCB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36AF-6368-4DAA-AF84-66134353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F72E-FD8F-457E-84D7-D06A5662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B2D1-9F8F-49D9-918B-3DC622FA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5113-31FF-45A6-8EDF-DBF7DF13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A56A-23D5-47D3-A988-9B10E5B8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81F3-5CBD-4FDE-B966-72350370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491-AF2D-4BA7-93A1-793561F2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7C29-641D-4E9B-B6F3-24F5ACB4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79A3-0EB6-4F26-97BE-2F6D8AFC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774-DE3F-41E6-B7D7-57990D61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2B22-B9EC-4447-AEB8-BF026ADE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572A-CC05-4C79-8196-8265E1ED54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F0AB-B3B4-4741-8D7F-91298828CE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9a | Real per capita non-health spending currently is higher in households headed by elderly people; this was not true in 19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388800" y="1092240"/>
            <a:ext cx="8348760" cy="1854000"/>
          </a:xfrm>
          <a:prstGeom prst="rect">
            <a:avLst/>
          </a:prstGeom>
          <a:ln w="0">
            <a:noFill/>
          </a:ln>
        </p:spPr>
      </p:pic>
      <p:pic>
        <p:nvPicPr>
          <p:cNvPr id="91" name="Chart 4" descr=""/>
          <p:cNvPicPr/>
          <p:nvPr/>
        </p:nvPicPr>
        <p:blipFill>
          <a:blip r:embed="rId2"/>
          <a:stretch/>
        </p:blipFill>
        <p:spPr>
          <a:xfrm>
            <a:off x="388800" y="2921040"/>
            <a:ext cx="8348760" cy="147312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762120" y="1371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98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572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0948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hart 9" descr=""/>
          <p:cNvPicPr/>
          <p:nvPr/>
        </p:nvPicPr>
        <p:blipFill>
          <a:blip r:embed="rId3"/>
          <a:stretch/>
        </p:blipFill>
        <p:spPr>
          <a:xfrm>
            <a:off x="388800" y="4292640"/>
            <a:ext cx="8634600" cy="2082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990720" y="617220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l per capita non-health spending (thousands of 2009 dollars using GDP price defla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1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9a | Real per capita non-health spending currently is higher in households headed by elderly people; this was not true in 1984</dc:description>
  <dc:language>en-US</dc:language>
  <cp:lastModifiedBy>Jia Yao</cp:lastModifiedBy>
  <dcterms:modified xsi:type="dcterms:W3CDTF">2013-09-23T17:02:09Z</dcterms:modified>
  <cp:revision>26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9a | Real per capita non-health spending currently is higher in households headed by elderly people; this was not true in 1984</vt:lpwstr>
  </property>
</Properties>
</file>