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6D7-2F22-4971-B887-61FA9641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8DE1-281E-4E0B-8FB4-BF97E91E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105-019F-4E57-B349-5485D618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FA2-EF3D-4E5F-9F90-F623F4C4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CCB-9924-4A34-8540-9BB6145C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E8F-194B-4E3A-9D0F-099DE690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078-9CE4-4708-A799-46EC8C70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EE45-C1B6-4F8C-89B4-A7F80929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9F47-61DF-453F-A15B-F5566AB9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4193-DA21-4E3B-BF18-6F3FE227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7B1-C152-4936-828C-E778320B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0E0-6224-4F17-A175-71790C87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64CC-1811-4332-A0C2-83E1CFA0D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0"/>
            <a:ext cx="892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6Z</dcterms:modified>
  <cp:revision>31</cp:revision>
  <dc:subject/>
  <dc:title>PowerPoint Presentation</dc:title>
</cp:coreProperties>
</file>