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29217-D944-47AC-B1F7-7BD0B80CB6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BB37E-F1B0-4DB5-B9C7-50CC4DEA147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Arial Narrow"/>
              </a:rPr>
              <a:t>2.3a | ADMINISTRATIVE EXPENSES OF U.S. PRIVATE HEALTH PLANS, 200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F3D6-AF68-441A-89A1-03D68C7CF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459F-76C0-4903-B974-2766F332F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F5F7-93C7-48D2-B29E-A61E4692D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42B6-5556-4905-BB64-774812543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B5F20-3E94-4194-BDE6-EECBC6DCD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E8ACE-5E82-4A4B-9E45-817B4D71D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9241F-24FD-44AE-8166-70F8A70F3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2344F-C493-4D4B-8403-01F26C91B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79E94-404E-4F6B-B3C6-F15828A3A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8D343-AA8B-49C7-B19D-51000FFC8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9B1B4-B879-463B-A714-0B65C688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DF41-6AC9-4774-B99F-2A78A4627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B188E-CD48-4833-84C0-237BB32A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DE7EB-DD8D-44F0-B201-D344BE3B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91BBE-DD99-4A6C-AAAE-FFBEF1C87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C86F7-4339-4384-B04B-2F539ED17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17511-F26B-4E60-97C5-7C3FBD7AF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F308-AC5E-4081-9CED-E1CD40467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6E40-B7C9-4955-AB2F-ADD16DD6F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76C9-698D-4C39-9B96-0AB4EC43E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40A2-5386-4E24-A2CE-5B0CB7D00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C723-0734-41D5-93F3-E1BA402D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2F62-E10A-454F-A76B-6CC2337F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E55D-6E3F-4A04-8F9F-9BA309CE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4ECDF-E738-4E55-92B8-C1EB642BD2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32AFA-D0CB-4049-B378-7DA5E477DB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2.3a | Due to economies of scale, administrative costs in the individual insurance market are at least twice as large as in the large group market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177840" y="787320"/>
            <a:ext cx="8969400" cy="4826160"/>
          </a:xfrm>
          <a:prstGeom prst="rect">
            <a:avLst/>
          </a:prstGeom>
          <a:ln w="0">
            <a:noFill/>
          </a:ln>
        </p:spPr>
      </p:pic>
      <p:sp>
        <p:nvSpPr>
          <p:cNvPr id="92" name="TextBox 1"/>
          <p:cNvSpPr/>
          <p:nvPr/>
        </p:nvSpPr>
        <p:spPr>
          <a:xfrm>
            <a:off x="457200" y="5562720"/>
            <a:ext cx="2933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ource: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herlock DB. 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Administrative Expenses of Health Plans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. Prepared for the Blue Cross Blu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hield Association. October 2009. Available at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ttp://www.bcbs.com/issues/uninsured/Sherlock-Report-FINAL.pdf (accessed February 2010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2.3a | Due to economies of scale, administrative costs in the individual insurance market are at least twice as large as in the large group market</dc:description>
  <dc:language>en-US</dc:language>
  <cp:lastModifiedBy>Jia Yao</cp:lastModifiedBy>
  <cp:lastPrinted>2002-05-16T21:44:34Z</cp:lastPrinted>
  <dcterms:modified xsi:type="dcterms:W3CDTF">2013-09-04T18:13:16Z</dcterms:modified>
  <cp:revision>346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2.3a | Due to economies of scale, administrative costs in the individual insurance market are at least twice as large as in the large group market</vt:lpwstr>
  </property>
</Properties>
</file>