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150E-1F2A-47E5-A87F-816115E99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A | 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B6EE-0CB6-4F62-B376-15F59977E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175-912E-4D7B-A90A-2D95DF8C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E78-33F6-4463-B854-A52BBDE1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289-40D4-4ED5-92B5-5F929F0A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4D0-EA54-4A13-BF41-32445AE6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3B7-725F-4C8C-AE19-A2306911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53D-9D42-43BA-A72F-91F94DB4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6C7-D9A3-4487-85A6-99759F28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9E9-3DD9-4EA2-8D82-6A75FF72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894-C10B-4727-A424-EF63821E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21D-D852-4279-B495-7C7A4ADC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067-4988-4F95-9B8C-A4ED1B50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0A6-56C1-4874-A179-B4A31497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D72A-F227-458A-8C12-B182C1BD1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a | The share of consumption spending devoted to health has grown faster in elderly households tha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2235240"/>
          </a:xfrm>
          <a:prstGeom prst="rect">
            <a:avLst/>
          </a:prstGeom>
          <a:ln w="0">
            <a:noFill/>
          </a:ln>
        </p:spPr>
      </p:pic>
      <p:pic>
        <p:nvPicPr>
          <p:cNvPr id="50" name="Chart 6" descr=""/>
          <p:cNvPicPr/>
          <p:nvPr/>
        </p:nvPicPr>
        <p:blipFill>
          <a:blip r:embed="rId2"/>
          <a:stretch/>
        </p:blipFill>
        <p:spPr>
          <a:xfrm>
            <a:off x="406440" y="3149640"/>
            <a:ext cx="8331120" cy="18540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3"/>
          <a:stretch/>
        </p:blipFill>
        <p:spPr>
          <a:xfrm>
            <a:off x="406440" y="4521240"/>
            <a:ext cx="8483400" cy="2387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a | The share of consumption spending devoted to health has grown faster in elderly households than non-elderly households</dc:description>
  <dc:language>en-US</dc:language>
  <cp:lastModifiedBy>Jia Yao</cp:lastModifiedBy>
  <dcterms:modified xsi:type="dcterms:W3CDTF">2013-09-06T14:06:34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a | The share of consumption spending devoted to health has grown faster in elderly households than non-elderly households</vt:lpwstr>
  </property>
</Properties>
</file>