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0EA3-A906-4967-89DF-52870078A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9F3E-09F8-4498-83E7-ABDCB094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EF1D-11CF-481E-93D6-AC335891F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E801-86C5-4805-BB39-3E4D0D74E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6119-CD96-4A60-B374-2DB8B17A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EAE4-9041-4160-B709-DEBB692B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7FCB-652E-4547-A6FE-80A2C902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7C47-3F62-48A9-A748-51B3C966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2DA6-E494-4B89-B96C-24CC432F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541A-10E1-4718-BC16-BB9C8865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6105-6090-4776-A128-4FCAF8ED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F163-62FD-4A16-B725-0F2F2082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3189-5BBC-4EA2-8570-3D98DD61AD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8680"/>
            <a:ext cx="912024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3Z</dcterms:modified>
  <cp:revision>18</cp:revision>
  <dc:subject/>
  <dc:title>PowerPoint Presentation</dc:title>
</cp:coreProperties>
</file>