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CBD-8941-4CD7-8591-BDC233EF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136-A333-4EB6-BF31-799666A6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4BD-AA7F-42DF-BC7C-DE8CC297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42C-8E2C-4938-8283-47EC4AE9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F28-2B1E-4675-8B2F-A7364463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5D4-7E08-4BEE-98DB-476D9B87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400-CF2B-4AB8-BB21-565BCE26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BC9-4352-4DC9-BEF1-8BA03B26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29A-8044-43C7-B720-6D9A93A6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F43-630C-4C4E-8D0E-50E39B74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F06-93BC-4D17-B33E-7E7ADD78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E67-869D-4619-9362-3F50B532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F061-D859-4602-BDFD-4159CF926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1Z</dcterms:modified>
  <cp:revision>43</cp:revision>
  <dc:subject/>
  <dc:title>PowerPoint Presentation</dc:title>
</cp:coreProperties>
</file>