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01D-52E1-401C-BACA-3A838776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F05-45C7-4D94-AFE2-0B6C4A75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7CC-546B-4B8B-BB97-52DF9E10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31D-AB7A-4FD1-8154-49D0A229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5E0-8E82-4EC1-BE33-B8DB695C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2EE-1D3B-4BAA-BF44-BAB0A2D2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B5E-541F-47FF-AEE3-3B0C7DC0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D0C-8856-4B26-8FF4-C4248105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37C-614E-41BB-A3F3-B0213699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65C-7B3A-419F-A5F2-C9BFFA94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916-8C5B-4F3E-BEC6-6D0B2BF9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0D4-60DB-45C3-A142-6CC570F6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2334-6F48-4A4E-9207-14D135933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6Z</dcterms:modified>
  <cp:revision>18</cp:revision>
  <dc:subject/>
  <dc:title>PowerPoint Presentation</dc:title>
</cp:coreProperties>
</file>