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EF30-D193-4CC0-9701-C6553D8ED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B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C695-3243-45AA-8B0E-E9A7A99DB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05E-299F-4025-83AD-B06D5678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E1D-BB77-4DE1-98C7-2B995E11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086-0DFA-4271-848F-3EFD79D5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B3C-D8C1-4058-82A8-3974FC0C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5EC-E0A6-48BD-B13A-2BDA0BFE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7CA-B402-42AB-9C05-89C9301E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048-8C3C-4FC1-8C37-B419ACE9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099-ED1C-4C95-BAF9-08BD91EF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EE7-6BF5-4151-B59C-118C70CF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56C-2ACF-4ECE-B895-DA8482F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41C-A2C7-4AFF-A3E6-00B4FAF9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383-47E3-4005-AA85-B0D95E54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F33A-3085-4DB4-A476-03DBC1716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b | More than half of hospital and health insurance employees work for firms with 500 or more work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939960"/>
            <a:ext cx="8560080" cy="5206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employees within an industry working in firm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b | More than half of hospital and health insurance employees work for firms with 500 or more workers </dc:description>
  <dc:language>en-US</dc:language>
  <cp:lastModifiedBy>Jia Yao</cp:lastModifiedBy>
  <dcterms:modified xsi:type="dcterms:W3CDTF">2013-09-06T15:22:49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b | More than half of hospital and health insurance employees work for firms with 500 or more workers </vt:lpwstr>
  </property>
</Properties>
</file>