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4FD-D20C-45F0-89CF-03B09446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A51-30A5-4D0B-A2C8-0698A9FF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A21-AE57-4C71-95DB-2045173A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EE1-0656-4A83-A5CD-F9921E4F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E8F-8893-42DA-A1DA-84363B04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2F1-C699-4FDC-A554-C7827235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8CE-193D-4E49-A818-3B036E8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ACF-7067-4EBD-80BE-1EEC73DD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A4D-5262-4E2C-A1A0-AD17E367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0F2-858E-4BB8-A536-22C8A80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7BF-A547-494E-9452-494248BA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E0D-EC65-42D2-B836-F78C875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AE5B-B710-4A0B-9215-B76719E13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6Z</dcterms:modified>
  <cp:revision>26</cp:revision>
  <dc:subject/>
  <dc:title>PowerPoint Presentation</dc:title>
</cp:coreProperties>
</file>