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8D5-95D4-42A7-9E44-C013D0ED6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.1a | Wage and Salary Supplements, by Type, as a Percentage of National Income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DA70-4844-4BBF-934C-1E512391E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DC6-00BF-4056-BAEB-76A92261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A5F-687C-4583-B3F8-7B4AF082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253-AD24-4CB9-8C3A-D54671E8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DF1-9FE1-4BD2-BB08-9165F2DD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39C-37A2-4C4E-ABE0-850AB883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0D4-B6ED-4D1A-BDEF-1015B143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B87-E0D9-49E3-95A4-900F3286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8A9-D22F-436E-83DB-E0DADA3A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5FB-CED0-4D25-86B1-50B5BB93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1B0-39BB-494B-B583-51D0D9F5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228-0C99-4ED8-B4A3-6D41183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646-26D5-4858-AF05-B0930C49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07E1-5439-471A-92EA-C6535E368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1a. Despite rapid growth in health-related supplements, employee compensation as a share of national income has declined since 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14200" y="957240"/>
            <a:ext cx="856008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5943600"/>
            <a:ext cx="84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: Health-related supplements include employer contributions to health-related social insurance  (Medicare Part A, workers’ compensation, temporary disability insurance) and private group health insuran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1a. Despite rapid growth in health-related supplements, employee compensation as a share of national income has declined since 1980</dc:description>
  <dc:language>en-US</dc:language>
  <cp:lastModifiedBy>Jia Yao</cp:lastModifiedBy>
  <dcterms:modified xsi:type="dcterms:W3CDTF">2013-09-06T14:16:4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1a. Despite rapid growth in health-related supplements, employee compensation as a share of national income has declined since 1980</vt:lpwstr>
  </property>
</Properties>
</file>