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6B97-3EE5-4522-87D2-6E3D2F83B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D61C-F4B1-4F2F-A47E-03E02B5A1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A11D-4670-4295-9831-B63001AEC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5386-30B1-4DA4-8FA9-BD74305DA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8534-60A9-40FF-BEFB-CBB7C89A5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45E9-CEED-4FA1-866F-63C5F2C38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532F-DC0B-45D0-BA15-4AC5A15D1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73E1-5B30-4F0D-BE4F-C0C93881E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4859-32E3-4A29-B878-8B43BFF63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31F4-603D-42C6-803E-210E92084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BD17-DA2E-4423-9F66-51B099434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11CA-7BA4-4D5F-8DFE-57912D0B9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9BF14-7796-474A-80E8-50546B907E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7920"/>
            <a:ext cx="900252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02Z</dcterms:modified>
  <cp:revision>18</cp:revision>
  <dc:subject/>
  <dc:title>PowerPoint Presentation</dc:title>
</cp:coreProperties>
</file>