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B5B-B6F5-4647-9280-FDE2C089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3E3-3F22-4325-A976-DABA60A1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67BD-462D-4FDA-ABB9-A392EC4A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529-7FA3-4EB1-A18B-288E79F9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11B-2140-41EB-B537-A3379A62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8ED-F68F-4CB7-9311-42AB3692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587-8B6E-4BDA-A420-9591996C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963-4C45-4EA4-8906-39813B51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672-AAF6-46E5-8BD1-C56978BA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DD4-F692-4799-B556-42489354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3C0-5120-423D-AD31-E80FFDDE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9C5-E8B9-450C-AF6F-6ECDE009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B982-66D9-4C2F-907B-91D948451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2680"/>
            <a:ext cx="914400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6Z</dcterms:modified>
  <cp:revision>6</cp:revision>
  <dc:subject/>
  <dc:title>PowerPoint Presentation</dc:title>
</cp:coreProperties>
</file>