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4F8-84ED-461F-B386-6EC2A029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F35-9AE7-4FAD-A52D-3EEAAF8B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AD4-DD71-49E8-9746-99C334A0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373-5E17-4D2E-B31F-4B50DA45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7014-0733-4B7F-83BA-4624E6DF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204-E9FB-4826-B90E-68A356CB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C23-4BBA-4C01-BF63-47DD1F61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EBB7-1BFF-42A8-9F39-8435A2BD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0BD-0DF6-4916-B85F-645CF5DC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08D-7D71-45D9-A0DF-2027DCC9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C04-58C5-4A45-BA4E-7EAADCAD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ABB-6711-43CF-95EE-F6C7D540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364E-76AB-4189-BD18-321806E5E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9072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9Z</dcterms:modified>
  <cp:revision>20</cp:revision>
  <dc:subject/>
  <dc:title>PowerPoint Presentation</dc:title>
</cp:coreProperties>
</file>