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CA8-10B6-4F08-8F71-FF0D059D5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3550-AB31-46EE-B825-4D65CB86B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2B | HEALTH SPENDING RELATIVE TO TOTAL SPENDING, HOUSEHOLDS, BUSINESSES AND GOVERN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D9B-70B4-4854-A426-86E8CE3C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021-4FBD-4D07-BC85-D6BAAD6D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9DA-F5A4-4C01-803A-2E5C12D8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F52-4C56-4233-9074-8F0FCDA7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94B5-7CFB-48A7-9187-B10FA177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71CC-A754-4A65-8DBB-50965E13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BF4F-AB1A-4D31-8AE6-352CA243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8BA4-9C51-4FA3-8573-1EA98602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F77F-D25A-4ECE-B17A-0EA04FD0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6869-1C3D-4F86-82E7-FCB47154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9D1D-9DC1-4D0F-B1BE-C1A258DF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2D8-A3E5-4B0B-BD73-350B229A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1BC2-8A43-4662-B188-39081D1E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84BF-7A79-4DBF-A63E-73F0271B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3CBB-C725-4A83-803B-7EE9C3A2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D055-C167-4150-A203-751AD666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26AB-229E-40A6-A97E-CD8E87B3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8D4-BBC9-42F0-97CB-B6FCE58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D49-F799-4810-83C1-EE8016C3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F1B-51C6-4CA0-8B12-7B347EA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E45-CA73-42BD-85F6-0A2516C3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E07-B5A3-4433-B623-C92E72C5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F31-8151-4C1A-BDE2-C467C65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6DE-BB53-4E0C-9A6B-393860E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E1C9-68A6-4A60-B1DA-668B9EE393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BE17-C86F-4919-A616-CA77217A1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2b | Business-paid health care has increased modestly relative to wages and salari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406440" y="5587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57200" y="914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: sponsor-paid  health spending to totals shown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79520" y="5562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 the framework of “health sponsors,” business health expenditures include the private employer share of health insurance premiums for workers and dependents, Medicare Part A and workers’ compensation, and industrial in-plant health serv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2b | Business-paid health care has increased modestly relative to wages and salaries  </dc:description>
  <dc:language>en-US</dc:language>
  <cp:lastModifiedBy>Jia Yao</cp:lastModifiedBy>
  <dcterms:modified xsi:type="dcterms:W3CDTF">2013-09-06T14:06:1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2b | Business-paid health care has increased modestly relative to wages and salaries  </vt:lpwstr>
  </property>
</Properties>
</file>