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74D8-D432-4FDD-9145-ED7F2D5C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832C-6F78-46FD-A19C-8ACD0907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9F3A-D643-4E50-9405-85AEB051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F584-AE3F-47E4-90A8-E54BD9FB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5548-010A-4E77-AAB1-27411D20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5ED9-8162-4B26-9395-59E15A72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5E5E-68E7-4E08-BF75-3577B224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F7E8-18FD-422E-AE98-4AA5B366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DC21-BD35-4E1F-9ED1-93857BE5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36D0-718A-4D1E-BE68-6A8221BE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4428-2C39-4A09-89AE-2BD00ED0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5735-8B70-47DE-926F-E8DD485A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DC06-B514-4FB2-A304-3A83D6A786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044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8Z</dcterms:modified>
  <cp:revision>31</cp:revision>
  <dc:subject/>
  <dc:title>PowerPoint Presentation</dc:title>
</cp:coreProperties>
</file>