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5A82-561A-4BDB-90E4-A6EE92843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A | CONCENTRATION OF MEDICAL EXPENDITURE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6651-CC83-47A3-AE81-2457BB0E7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222-B821-4681-95BD-0143CCF6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E60-74F1-46B5-BABA-0905CECF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B13-1AC7-4EE7-BDBD-91059F82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42F-A367-4B60-A0DC-4377F162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A56-E444-4D02-8D01-9B22C991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134-D3F3-41C5-BFE9-9B191AE2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529-C47E-43AB-9A3B-F91FD0A5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5DB-3E50-4201-BAF9-638BBE79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5A2-D8B3-4EDB-9E01-3CFE6412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420-3F72-4856-9816-98713AC2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EAA-6BE4-4BDE-A54C-96308B9F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990-FA0D-4FE2-8049-B584CAEA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1069-DF70-4845-9570-4E409EE1A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12.1a | Only 1 percent of the population accounts for about one quarter of health spending; 5 percent account for nearly hal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-50760" y="977760"/>
            <a:ext cx="8788320" cy="4902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29160" y="1160640"/>
            <a:ext cx="37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health spending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70360" y="116064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stimated per capita spending (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486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percentages are for the civilian, non-institutionalized population based on Me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enditures Panel Survey (MEPS) data for 2008.  2011 per capita spending has be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lculated from 2008 figures, adjusted to account for increased personal health spend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and to reduce differences between MEPS and National Health Expenditure estima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523880" y="50292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population ranked by annual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a | Only 1 percent of the population accounts for about one quarter of health spending; 5 percent account for nearly half</dc:description>
  <dc:language>en-US</dc:language>
  <cp:lastModifiedBy>Jia Yao</cp:lastModifiedBy>
  <dcterms:modified xsi:type="dcterms:W3CDTF">2013-09-06T15:12:4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a | Only 1 percent of the population accounts for about one quarter of health spending; 5 percent account for nearly half</vt:lpwstr>
  </property>
</Properties>
</file>