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6CA3-27B1-400C-BE34-1C2363073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A | SELF-REPORTED HEALTH STATUS OF ADULTS AGED 18 OR OLD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1B59-51C2-4C65-9A82-6AE11DD3E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49B-705D-4845-A2C0-CC880076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872-2708-4CDE-B1AB-2D213F45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6DE-9E40-46FB-B9B6-F97E0B43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BF1-2C51-4B73-A0A3-0AB221F3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0C1-6BB1-4E81-B638-A85D9C1B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0F5-CDF1-4E9D-AC70-94F60D2D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93F-66D0-48F1-8194-DC30B926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9FD-DD07-4303-9D2E-53D21A1A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142-5E37-44D2-97F0-9A1FC32F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F49-1E48-4744-B44F-D625CB41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F73-5F4E-407B-802A-272815B5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2C0-7950-447B-A211-96A2AF2B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31E7-BC5C-4534-9B38-AB7900A1D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3.3a | Based on self-reported health status, the percentage of people in fair or poor health is highest among the poor and near-po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a | Based on self-reported health status, the percentage of people in fair or poor health is highest among the poor and near-poor</dc:description>
  <dc:language>en-US</dc:language>
  <cp:lastModifiedBy>Jia Yao</cp:lastModifiedBy>
  <dcterms:modified xsi:type="dcterms:W3CDTF">2013-09-06T15:16:56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a | Based on self-reported health status, the percentage of people in fair or poor health is highest among the poor and near-poor</vt:lpwstr>
  </property>
</Properties>
</file>