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DC65-4CE8-4762-ADEA-85A642702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547C-5D9D-4000-98FF-143CE8DF51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b | Percentage Distribution of Personal Health Expenditures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70C-38B9-4F52-A4ED-A9B28E58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F68-D1EB-4EB2-9CCC-B3665A49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9CB-E7A1-4AFB-A4FB-6209277D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D9F-9311-4D1D-BA3F-44B61D21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D10A-77E1-4CB3-B685-2FBFA709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301A-DCA9-4A96-9026-C0714000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0DD5-14B3-4ADA-AA9E-742E217B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01C5-0315-4ECE-9BFD-B5E0DFEB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0E78-7B9F-40CA-81DC-7FF5B98E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0A3B-7410-4EB1-BC4F-292E7BB8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6EC4-EB81-4C25-9D57-EF94AF3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8FD-3DC4-47A2-A36B-F5055B9F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DC2F-B047-405E-AB63-64741DDC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9417-F254-470D-AFB2-FF4F14D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BBA6-2EEA-4588-8C25-AB260F2A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934D-83A2-42BC-8F1D-0FDA4BC0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B6FE-2AD0-48E3-9A9D-6B142A10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E50-C287-4D7B-A5BC-69B48C66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47C-892E-4987-9930-121D336D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77A-6E63-4A20-A330-D460D878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832-C703-4CCC-9E35-D646E319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DFB-DF61-485A-A309-A826E614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893-56D8-42B6-ACD0-CB7D4C5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EAE-C93D-4447-962A-707891C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EE30-A433-4844-B57F-99545A297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5AB6-3894-43D4-9CFC-0339CBFF7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b | Tax-financed health spending expanded more rapidly than private health insurance after 19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92" name="Straight Arrow Connector 5"/>
          <p:cNvCxnSpPr/>
          <p:nvPr/>
        </p:nvCxnSpPr>
        <p:spPr>
          <a:xfrm flipH="1" flipV="1">
            <a:off x="4038120" y="5028480"/>
            <a:ext cx="5342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Straight Connector 6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7"/>
          <p:cNvSpPr/>
          <p:nvPr/>
        </p:nvSpPr>
        <p:spPr>
          <a:xfrm flipV="1">
            <a:off x="152388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8"/>
          <p:cNvSpPr/>
          <p:nvPr/>
        </p:nvSpPr>
        <p:spPr>
          <a:xfrm flipV="1">
            <a:off x="342900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9"/>
          <p:cNvSpPr/>
          <p:nvPr/>
        </p:nvSpPr>
        <p:spPr>
          <a:xfrm flipV="1">
            <a:off x="434340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4"/>
          <p:cNvSpPr/>
          <p:nvPr/>
        </p:nvSpPr>
        <p:spPr>
          <a:xfrm flipV="1">
            <a:off x="6248520" y="1523520"/>
            <a:ext cx="0" cy="44960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5"/>
          <p:cNvSpPr/>
          <p:nvPr/>
        </p:nvSpPr>
        <p:spPr>
          <a:xfrm flipV="1">
            <a:off x="7238880" y="1523880"/>
            <a:ext cx="0" cy="46483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2"/>
          <p:cNvSpPr/>
          <p:nvPr/>
        </p:nvSpPr>
        <p:spPr>
          <a:xfrm flipV="1">
            <a:off x="533412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1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b | Tax-financed health spending expanded more rapidly than private health insurance after 1965</dc:description>
  <dc:language>en-US</dc:language>
  <cp:lastModifiedBy>Jia Yao</cp:lastModifiedBy>
  <cp:lastPrinted>2002-05-16T21:44:34Z</cp:lastPrinted>
  <dcterms:modified xsi:type="dcterms:W3CDTF">2013-09-04T21:03:5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b | Tax-financed health spending expanded more rapidly than private health insurance after 1965</vt:lpwstr>
  </property>
</Properties>
</file>