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29EA-543B-42C5-BC99-1CEFC399D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b | Monthly Premiums and Cost Sharing as Percentage of Average Monthly Social Security Benefit, 2010 and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AFAE-880A-4A70-B23B-E6D7E0067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DFAB-A11E-43F3-B6B0-8832B30E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0BC-D009-4143-A745-12A19B76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D32-AC72-4343-B183-0383C162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9E2-6286-4E7F-87FB-A6E6BFF6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763-3CEE-4EEB-917E-B3C1CCD0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2398-5247-46E8-8F1A-9BDCCE4A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8F5-C4FB-4E09-A7D6-D03BC7DA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2347-D354-430B-AD5B-975DC47E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150E-ED78-4379-A1E6-E9CB8B08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9698-614A-4BFA-8751-6535C3D5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251-3129-4700-B929-5EFB7F74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09B-C2CE-4D60-A0A3-974DE470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2ADB-38B6-450A-AD25-865D5A3CA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b The funding shortfall for major entitlements will amount to more than one third of taxable payroll within eight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788320" cy="5429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143000"/>
            <a:ext cx="1600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unfunded public sector liability as a percentage of taxable payro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57200" y="5715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unding shortfalls for Medicaid, Medicare Part B and Medicare Part D are calculated assuming the share of federal revenues devoted to these programs in 2007 represents societal willingness-to-pay for them. All figures based on CBO’s alternative fiscal scena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a The funding shortfall for major entitlements will amount to more than one third of taxable payroll within eight decades</dc:description>
  <dc:language>en-US</dc:language>
  <cp:lastModifiedBy>Jia Yao</cp:lastModifiedBy>
  <dcterms:modified xsi:type="dcterms:W3CDTF">2013-09-23T19:14:28Z</dcterms:modified>
  <cp:revision>64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a The funding shortfall for major entitlements will amount to more than one third of taxable payroll within eight decades</vt:lpwstr>
  </property>
</Properties>
</file>