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4421-58C2-4EF0-9D23-D53A4854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7BE1-7E66-4458-9491-1FAD1D48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FDBA-89CE-4EBA-AF47-BD987899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7138-CDB1-4DC3-B5ED-E8AA514E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1F9E-04DF-481D-9981-9DDE610B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7BAA-0F0B-427D-AFF5-946D9495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6386-9A99-4170-B221-E86E2C49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4FAA-A4A1-419B-A709-78C28ED8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D9A3-3B05-4F0B-8636-EF9705B4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8614-5823-4B4E-8E16-DFE7B63D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7784-165F-488C-B156-283D38F8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5EFD-56E8-4227-B5CD-0D36DA99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C60E-07CB-479E-A48D-FA3267EB9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5560" y="1523880"/>
            <a:ext cx="9092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7Z</dcterms:modified>
  <cp:revision>28</cp:revision>
  <dc:subject/>
  <dc:title>PowerPoint Presentation</dc:title>
</cp:coreProperties>
</file>