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A825-CC9B-4B18-B846-B6B5A57AC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3727-445E-4DE6-A0C6-17943972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DDE4-DD1B-46E5-A096-A2EB47350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6104-49A2-4765-9B31-59AF2080B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E155-3823-40BF-8155-F3D7D4AB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714B-5C69-472B-AAAB-ADD81BC6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1503-7112-46C7-8A9F-CC5C802B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4F96-C953-4E8B-BC0C-87DD3C44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3E47-54A2-4718-9435-DA2E47E3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8F6F-DA66-4413-B54C-1EABE186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7305-96B5-434F-A154-E56E8436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E22E-5EE9-43D1-900C-FDEE09CA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22D1-38E2-479F-81CC-9439AA9B38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044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4Z</dcterms:modified>
  <cp:revision>8</cp:revision>
  <dc:subject/>
  <dc:title>PowerPoint Presentation</dc:title>
</cp:coreProperties>
</file>