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D11E-90B0-441C-98D6-B36D9432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CB09-8CEB-4986-BCE3-C5F09732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5C1C-0D90-43C9-A971-F14CF002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01A6-23F8-46E2-8527-2B0744DA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A991-AE15-4EE9-BD37-5F6D31B8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47A8-CD8E-43EE-906F-39B84AF6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0DDD-7B3C-4A93-AFE4-7745FCB3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9C53-47E8-49B3-8047-E1DC19ED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4682-9481-427F-83CD-751ADA4C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709E-A64C-41A7-A4E8-711725DF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7891-91C3-489E-A6D8-711004A1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7BDE-4ADC-465F-BC34-E626109B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E306-54CA-4887-A2C4-0C89C5EF6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7000" y="304920"/>
            <a:ext cx="9090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2Z</dcterms:modified>
  <cp:revision>37</cp:revision>
  <dc:subject/>
  <dc:title>PowerPoint Presentation</dc:title>
</cp:coreProperties>
</file>