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045F-C52D-4D99-A112-BB6EDCCF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F37-D2DD-4656-82EA-B7998E14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E79-FF2E-4641-B68C-208F0943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33F-1FE4-44E8-8920-8C8ADA3C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65E-C49E-4D99-8C53-6610F4D7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728B-746E-445D-9543-72FAF75F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814F-B5B2-4B77-A49C-D530C236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36E-21F8-4C4C-82E9-7AD11930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BB10-CE21-4E21-A574-E4199D61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4BDE-027D-46A2-8652-A841AD88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E80-98E9-4A1E-B4B4-B8CF734F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DEE2-9B74-4DF4-919B-3DCB2EC2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00B7-DBAF-4790-89E9-FC85ACA0B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152280"/>
            <a:ext cx="90612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4Z</dcterms:modified>
  <cp:revision>39</cp:revision>
  <dc:subject/>
  <dc:title>PowerPoint Presentation</dc:title>
</cp:coreProperties>
</file>