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4267-6521-4B8C-AB54-28CBD5BF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1E8-0F5B-489D-9A7C-0456DDE3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FD9-31FD-4E8E-9904-94DFEC50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CD07-68C6-4B6F-B358-A757D185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F8A7-E942-46BC-BCCE-FC2A7409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B58-20A4-4411-9EB6-7E74690D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5CBA-A5A2-48D4-8929-96210F56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5D3E-E3A8-4210-AFC2-90F9F0B2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60BC-57E4-42C7-B532-AAD4B9BB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F9D7-886D-42CA-83F4-8EBE5BB0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37F4-9EDF-45DC-AD9D-AD18A815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3B0E-F338-4165-BD57-8E64524F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B06A-7BEB-42F1-A5F8-8B0C6B083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1160" y="990720"/>
            <a:ext cx="91216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0:52:45Z</dcterms:created>
  <dc:creator>Jia Yao</dc:creator>
  <dc:description/>
  <dc:language>en-US</dc:language>
  <cp:lastModifiedBy>Jia Yao</cp:lastModifiedBy>
  <dcterms:modified xsi:type="dcterms:W3CDTF">2013-09-06T20:54:08Z</dcterms:modified>
  <cp:revision>1</cp:revision>
  <dc:subject/>
  <dc:title>PowerPoint Presentation</dc:title>
</cp:coreProperties>
</file>