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79DF-98E6-47FB-AE9F-2561BA2446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6 | NUMBER OF UNINSURED AND PERCENT WITHOUT HEALTH INSURANCE, 1940-20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Tahoma"/>
              </a:rPr>
              <a:t>Source: Author’s estimates based on CPS, HIAA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07FB-335B-44D4-A8D9-E8CB96A95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11B7-C5EC-4C11-853F-FF0C7221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BCB-6E51-4001-BECF-811D9124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041E-EB7C-472E-AC5E-9663D868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D92C-E765-42CC-9F2A-7183A681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A5D7-2C33-46EE-855F-CD99A6BA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B4AF-B960-48D0-8F51-27D35523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2F4B-5940-4DB1-9763-C527CF7B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713B-1744-4676-B6DF-7AC6C641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DEE3-FB6D-48DD-8497-46710801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9001-2BD5-4009-ACD2-F81DB680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5231-DB48-4FDD-BF5E-1DB1C831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1890-6685-418F-9CA6-33F6B730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B2F6-CED3-46F3-A72A-45AF87BBA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6 | The risk of being uninsured has declined by more than 80 percent between 1940 and 201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8331120" cy="55116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1066680" y="914400"/>
            <a:ext cx="228600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325440" y="5943600"/>
            <a:ext cx="865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: Figures simulate the gross number of uninsured as if measured by today’s Curren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pulation Survey. No adjustments have been made for the 10 to 20% overcounting o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nsured by the CP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TextBox 1" descr=""/>
          <p:cNvPicPr/>
          <p:nvPr/>
        </p:nvPicPr>
        <p:blipFill>
          <a:blip r:embed="rId3"/>
          <a:stretch/>
        </p:blipFill>
        <p:spPr>
          <a:xfrm>
            <a:off x="4979880" y="914400"/>
            <a:ext cx="3140280" cy="512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6 | The risk of being uninsured has declined by more than 80 percent between 1940 and 2010 </dc:description>
  <dc:language>en-US</dc:language>
  <cp:lastModifiedBy>Jia Yao</cp:lastModifiedBy>
  <dcterms:modified xsi:type="dcterms:W3CDTF">2013-09-06T14:06:28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6 | The risk of being uninsured has declined by more than 80 percent between 1940 and 2010 </vt:lpwstr>
  </property>
</Properties>
</file>