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DC1-F055-4B12-8031-2F350F86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2C6-12BE-4505-A8C0-6CBE981C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5D7-A02E-42E6-AA04-DF5AF0A2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FFB-6D0A-46A0-B3B0-3AF10B2B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6BF-57CD-41DC-AD02-BFCB1D61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49F-31C8-43A4-A58A-AD2ACE43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67C-59D0-432F-81A3-978E2A48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313-BFEF-4E5F-88C1-F5E04398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F3A-DE71-4A29-9743-0D748979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049-9AF4-4F6B-A21A-7CA3AB17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994-67CE-4669-BB0B-0D3FDE3B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CF8-E76B-49CF-8AA8-E70C36B7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5115-F9F5-45CB-A67D-7EE8DA37F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3480" y="1066680"/>
            <a:ext cx="9077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6Z</dcterms:modified>
  <cp:revision>37</cp:revision>
  <dc:subject/>
  <dc:title>PowerPoint Presentation</dc:title>
</cp:coreProperties>
</file>