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339F-6A7B-4917-A4AE-7D843D5B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68BA-178C-454F-9C11-6378B032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390-8ECC-4975-9A01-2F344458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C989-B120-4555-8E9F-EFA3AC2C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C58F-1B19-43E8-9F3F-9AE05E53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584F-F6F5-4138-90A8-CEDCFCA6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6295-36BB-4B73-8A5F-A8EB439B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A988-89E8-4A8A-8448-04FFA9A2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04E6-D624-4EEF-9ADA-F5BA533B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5427-5145-4524-B5A7-240F203E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382C-DE88-4AA9-836A-6BF99AC0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3FD5-6402-4B79-A854-F990E8ED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4823-6A1C-4A0B-AC6E-E2889DE8B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65240" y="0"/>
            <a:ext cx="881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2Z</dcterms:modified>
  <cp:revision>37</cp:revision>
  <dc:subject/>
  <dc:title>PowerPoint Presentation</dc:title>
</cp:coreProperties>
</file>