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CF22-009A-4942-8555-C78E424F7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3.1a | Number of Persons Below Poverty Line, by Poverty Measure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2E53-93C9-4B09-BE82-E7A412C0D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1BD-7011-4370-8837-CA70D4DF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630-3E59-4408-96A7-34FC31A8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9841-A065-4DF9-92F5-3195B9F0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7DC-2923-4716-9334-09DF11EE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CB23-1783-42A8-8253-8741A4C8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A324-85FC-4E36-A2F9-29767A98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33A8-AC40-44C2-BCA4-52D2B7E5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D6FC-BE3E-4B92-BB75-41D10EC0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484-391B-4CB3-B08D-0DEBB598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C12F-A225-4D8F-85F3-8E53CEE5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1D86-1B03-41F1-8972-FDE045FF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5360-A125-4117-AD26-C84BCEC0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AE2E-2DB0-47CD-B501-E2C3559ED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1a | Taking into account medical expenditures decreases the estimated number below poverty by up to 4.5 million peo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tal number below poverty line, in million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1a | Taking into account medical expenditures decreases the estimated number below poverty by up to 4.5 million people </dc:description>
  <dc:language>en-US</dc:language>
  <cp:lastModifiedBy>Jia Yao</cp:lastModifiedBy>
  <dcterms:modified xsi:type="dcterms:W3CDTF">2013-09-06T15:16:48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1a | Taking into account medical expenditures decreases the estimated number below poverty by up to 4.5 million people </vt:lpwstr>
  </property>
</Properties>
</file>