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8B75-B7C1-4252-A1E0-AAEE4091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9EFB-760C-4D54-A1F3-3E5A0F26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8B1-8F48-474C-BDA5-AEDCFBA4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787F-AEA9-4253-97DA-E270E244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4310-84E1-49A8-AC6A-DF97F2C3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0081-D327-4631-89D5-7F648F0A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56DB-CB75-4550-875D-1E178DEC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1F6-17CC-4943-ACAF-DE599ADC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0353-C65A-4978-B861-FAE147CC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BF46-E6E9-4A1A-BF42-30635957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9E68-0937-4F22-8320-9FAE2C58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EFA-5044-4567-B5F0-E884119B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9433-6579-49E5-B314-288BA9E99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1440" y="228600"/>
            <a:ext cx="914544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0Z</dcterms:modified>
  <cp:revision>22</cp:revision>
  <dc:subject/>
  <dc:title>PowerPoint Presentation</dc:title>
</cp:coreProperties>
</file>