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266-3A8C-4C5B-B563-39E36363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F11-311A-44AA-BD4B-53825721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FFB-A24D-40B5-A623-E8BE653C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681-67AA-46F6-9C29-0370A18A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D84-B60A-47EA-8444-0DD637D7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E6D-83BF-47B1-BF09-926870A6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BE0-451F-4C25-AB7C-EB5997B4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E26-3D14-4083-A3E1-2A802EAC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5BA-A317-48E4-83B2-41278418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B30-E875-4717-A32B-BE3CEAB4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5B4-89FD-427C-A491-4126A8A2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B95-C9F7-4E31-BF4F-DB35ACD7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A97C-A5D7-4AB1-AE10-817BC6AC3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9844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8Z</dcterms:modified>
  <cp:revision>36</cp:revision>
  <dc:subject/>
  <dc:title>PowerPoint Presentation</dc:title>
</cp:coreProperties>
</file>