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EBE2-8597-4B80-8D8C-8E131BAC9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095C-8CD1-4294-BCCB-76A3322E32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9B | RATIO OF HEALTH SPENDING PER CAPITA FOR ELDERLY RELATIVE TO NON-ELDERLY IN SELECTED INDUSTRIALIZED COUNTRIES, 1960, 1984, AND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C363-C1E2-46CB-8BAD-BB347409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5316-0749-4BF3-AA24-59FBC029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79AE-AFA2-4A51-820D-F0A5693A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6B0A-F8DA-4609-B7DE-2C95DCE3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AE22-B696-45A7-A8BB-449F1060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0238-7314-4A68-B925-948A1CF1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75B2-4F86-430C-A88E-C745BC0F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8184-247E-4F15-9DC5-572B22D6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F6FF-91EC-496C-9226-AE641CC8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55B7-AC09-4869-9249-5BA6047F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1939-6EA7-4902-BFC0-8A8E872F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E896-612E-440F-AAC3-1F71998E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54AA-23BF-4AA0-B9C0-0EE096C0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8F1A-1D7B-493B-A662-E03C5399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AE61-4804-4BD6-9F7A-6D260F25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E22C-75CE-44A5-A35E-7D846B0A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4C42-1DA5-4B40-84A4-53DEFCF6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F776-E196-4F76-ABF5-88D5F373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14F7-FCD3-4840-B13E-12C8A44F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28F0-0AE9-4D6E-BCD3-0B57FFB3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A9A0-2377-4B68-B76A-E058BB85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A22F-E8AB-459F-932E-83B890BD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D9A4-7F31-44F6-8BB7-58316089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D3DC-13B9-421A-A4B2-9870CC15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23AE-753C-4980-999F-FDC3224529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9F58-D3E8-44E2-A4FC-B1610FDFFA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9b | The ratio of annual health spending for elderly relative to non-elderly is similar in U.S. and other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57200" y="602784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9b | The ratio of annual health spending for elderly relative to non-elderly is similar in U.S. and other countries</dc:description>
  <dc:language>en-US</dc:language>
  <cp:lastModifiedBy>Jia Yao</cp:lastModifiedBy>
  <dcterms:modified xsi:type="dcterms:W3CDTF">2013-09-06T14:06:4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9b | The ratio of annual health spending for elderly relative to non-elderly is similar in U.S. and other countries</vt:lpwstr>
  </property>
</Properties>
</file>