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A1CB-2EB0-4C44-AD29-2C000D4BF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6AE9-8306-4E08-80AB-22547FFDD2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b | TAX SUBSIDY AND PREMIUM AS A PERCENT OF AFTER-TAX INCOME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AA0-5D83-4C47-8D1E-C1E2D9D8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D56-856D-4E0D-A072-BC9BF468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B9F-4DFC-4160-AC60-4449B816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5C9-F52A-4E87-964C-982CBD33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98F6-3275-417D-B2BC-2C6B43AC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96C8-CF9F-474A-97C1-E148B0EF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9F1C-02B1-4664-BAE0-774F12AB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8B84-D6C0-4CD2-88F0-085A0212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35BD-E1D7-46B3-BE20-5009D607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6022-FA53-4175-85AB-0B508CFC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5B16-D2F5-4C6D-AFAA-38E07595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497-A049-4F86-9D35-8BB5CB7B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72EC-5E55-4C08-95A5-EBB406C7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60CC-D31D-4C78-A3A4-9B2C79B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92CA-58B4-48D9-9F50-7C22E340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A2AB-0338-492C-B478-DCB7B084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BF84-D7E5-41D4-A44B-04B9AE05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BED-A419-4431-B33D-F6A0E9C1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AF8-123F-4804-9A0D-4CD4D637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7E4-C31A-449A-928D-07F30244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E0D-B559-49BB-B460-8A3DDF7F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E2F-3703-4684-AD1A-CCBB8B3B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F3B-C5EF-4D05-A558-688726AF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8DB-7FB0-4465-A5A2-793BA8B6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9DF9-2B6E-48FF-AD23-5CCB1E4ED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7978-77F8-4D58-8513-88815973C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b | The share of income needed for health insurance rises sharply as income declines; the tax exclusion mitigates this only slightl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44600" y="787320"/>
            <a:ext cx="85215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12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b | The share of income needed for health insurance rises sharply as income declines; the tax exclusion mitigates this only slightly</dc:description>
  <dc:language>en-US</dc:language>
  <cp:lastModifiedBy>Jia Yao</cp:lastModifiedBy>
  <cp:lastPrinted>2002-05-16T21:44:34Z</cp:lastPrinted>
  <dcterms:modified xsi:type="dcterms:W3CDTF">2013-09-06T13:50:43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b | The share of income needed for health insurance rises sharply as income declines; the tax exclusion mitigates this only slightly</vt:lpwstr>
  </property>
</Properties>
</file>