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3509-1AA5-4DF1-BD3C-4E2B305BD5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7b | Trends in Health Spending as a Percent of Gross State Product, by Region, 1980-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653A-D133-4A3F-9FC2-880C471F87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701B-B9AC-403E-BC0F-BEA915F87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5286-031B-4CB4-B2D6-8EEA63A1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E74A-A695-40EB-93BC-581841F2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8866-5610-4632-BF23-BA89B0F8B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4ED4-DC50-4D73-A5F9-2E914BCD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294C-CBC2-4129-ABD0-47E7CDB1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DE6E-8A05-4345-8A6C-EF26BD47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0964-A713-4CD4-B41D-FB33636B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D09B-3862-44B2-A2F1-13AEF35F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2A42-826C-4536-BF46-7902DD0F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0324-1AFA-43C9-A445-93B2C1C4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A5D6-61D2-4B46-892A-963B2F78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011E-F1B0-4CAE-A8C3-5493AA80A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7b | In just in one quarter century, there have been large changes in the relative burden of health spending across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92240"/>
            <a:ext cx="87883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2952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health spending as a percent of gross state product (100=U.S. avera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7b | In just in one quarter century, there have been large changes in the relative burden of health spending across regions</dc:description>
  <dc:language>en-US</dc:language>
  <cp:lastModifiedBy>Jia Yao</cp:lastModifiedBy>
  <dcterms:modified xsi:type="dcterms:W3CDTF">2013-09-06T15:13:27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7b | In just in one quarter century, there have been large changes in the relative burden of health spending across regions</vt:lpwstr>
  </property>
</Properties>
</file>