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3A47-25EC-4A02-88F3-FDCB42DE8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E0E4-83BF-4DE0-BC9D-48FCE318A2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b | Percentage Distribution of Health Insurance Coverage, by Type and Age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10A-AAAE-449D-9E0D-E859451B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5FA-C5B3-4DBF-8223-481893E3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900-8B0C-4A19-B2D9-96093E28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BD2-4FCA-4CF4-89A4-EF9DDAA5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9DB9-DA2D-4A8E-BD9E-AB3441BE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67EE-5D21-4EDA-9DAC-D8CFA68B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F32C-61F8-4C3E-9734-4673D64D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63C1-8136-465D-961A-274DFF71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91AE-6DD1-4277-9F00-DC82384E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41B7-EAE4-4527-89D8-BA838956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8372-C99D-4081-815B-B9D15E08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384-342D-43E9-9E0C-9FB5B8EC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3CA2-0C98-4823-B5EF-CCC07AAD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8C59-3AE7-4093-BE97-1029F551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3440-E9E9-4731-ADF7-4A4F231E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CDD5-859E-43AC-A900-44A2FEBD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E2A8-8EDE-41BF-A635-B1A219FB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06D-EB47-4AF1-AE2C-4AF2079A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D48-5CEB-4148-903A-C81CCEA5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778-3488-4418-9794-228094CA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437-3285-4363-8578-2595260D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71BB-5939-4BB4-994D-DEDBA996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053-C95F-4A84-8524-10BD6353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6E3-5393-4869-B37A-C43A74FA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C682-77F0-480E-967D-61A3BE9E2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23F2-0386-4EAE-B8BF-23B97818B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2b | Children and the elderly rely much more on public health insurance than adults under age 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8760" y="70488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57200" y="6172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igures add to more than 100% for each age category due to individuals with more than one form of health insurance cover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2b | Children and the elderly rely much more on public health insurance than adults under age 65</dc:description>
  <dc:language>en-US</dc:language>
  <cp:lastModifiedBy>Jia Yao</cp:lastModifiedBy>
  <cp:lastPrinted>2002-05-16T21:44:34Z</cp:lastPrinted>
  <dcterms:modified xsi:type="dcterms:W3CDTF">2013-09-04T21:03:4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2b | Children and the elderly rely much more on public health insurance than adults under age 65</vt:lpwstr>
  </property>
</Properties>
</file>