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B0A-5E46-4EC5-B3F1-77D2E95B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B41-5568-4212-BCA4-598E373A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3E3-F42C-47FA-A3AA-B8DE5D5D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E460-044C-44DE-8646-4F90ADB2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0CA-2492-4A82-9050-76DD5D5F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39F3-7513-46A4-B8C0-E0C1ED56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E50-7266-4AB7-951C-E11C262E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6D0-BCAE-4AA1-8EBE-0D0FCEC2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989-893E-45CC-80F8-D34D1F1F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5BF-9A55-4E44-92B2-9511F19A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CE3-2505-4939-8A82-F78E4141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7CB-94BE-4595-A29B-66FA80C2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B7CB-BDCD-4013-8AB0-65BF614E2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1320" y="19080"/>
            <a:ext cx="4581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9Z</dcterms:modified>
  <cp:revision>6</cp:revision>
  <dc:subject/>
  <dc:title>PowerPoint Presentation</dc:title>
</cp:coreProperties>
</file>