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E9AC-A42E-4FE6-AC53-7BC00174D6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3A | PROPRIETORS' AND RENTAL INCOME AS A PERCENTAGE OF NATIONAL INCOME FOR SELECTED INDUSTRI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A7EB-553C-4BA2-BD61-C809226ECB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842A-B65C-4D38-A2CE-3B8266EB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060F-E4D6-414A-BD0A-16E7EAF3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D140-2893-4C5F-B201-B1CEC7B3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4DB9-6D4B-41C3-AC72-8CA30B3E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C191-6D0E-4893-962F-DC5CFB78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154-B296-401A-8313-47BE16D0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0073-916F-4D4B-A83B-4D53150A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F054-3082-4D7A-B2E1-924DDE12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8CE-FFA1-4E50-AA84-B39D6990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A84-B3AE-4FF6-AF7C-0C98697D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0CE1-F338-46CF-B3DC-BEE30105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4D0D-D4D7-475D-BD30-4B4DED89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6E2C-3323-4D81-B4F1-A66BB84B8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3a | The share of health-related national income accounted for by proprietors’ and rental income has declined dramatically over 5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5238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sector-specific national income to proprietors’ and rent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3a | The share of health-related national income accounted for by proprietors’ and rental income has declined dramatically over 5 decades</dc:description>
  <dc:language>en-US</dc:language>
  <cp:lastModifiedBy>Jia Yao</cp:lastModifiedBy>
  <dcterms:modified xsi:type="dcterms:W3CDTF">2013-09-06T14:16:56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3a | The share of health-related national income accounted for by proprietors’ and rental income has declined dramatically over 5 decades</vt:lpwstr>
  </property>
</Properties>
</file>