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E07D-4974-499D-B03C-1CB4029B7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4FED-1DF1-4446-AB39-19BE4582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25FB-5AE6-40CB-9EF9-C0750B255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2E5D-7F05-45D4-8D2E-802546C65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D9BA-F5DD-484F-8324-9185A964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E5A5-6B07-4037-94D9-1B6F637E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66F5-7233-41A3-8AAC-1561C02E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DEE2-4094-4919-96E4-2AB29635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1C8F-87DB-4DA0-B280-B4B258A6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7B65-ECC8-4D14-8A30-D6CBC01C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06FE-748B-44EA-B2C8-FBDB6DEA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F13D-EE1C-4AC1-AA1A-B7524C64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012A-064C-4D9B-A3E9-E24AAB6912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249200" y="0"/>
            <a:ext cx="664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1Z</dcterms:modified>
  <cp:revision>20</cp:revision>
  <dc:subject/>
  <dc:title>PowerPoint Presentation</dc:title>
</cp:coreProperties>
</file>