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2D9-9B75-427D-84C8-19335441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A3B-954E-4E94-8B29-F52D2201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40C-89CF-4EEF-A09D-B3686198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629-4620-4408-8DC7-D9F5F032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FC0-664E-4B31-896F-C1A803F4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0D9-F1D4-414A-8069-1073A0E0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1C9-C7CC-46FD-AEB5-DF814770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BDA-383C-4062-9303-7DCC5306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C2F-9200-4901-96F0-5B1AAFA1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086-B2B7-4804-98A6-195230EE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A37-328C-49BD-8BF8-93C755A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D13-5780-4ED8-9E68-2D2E9F88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0481-2288-430A-ABF9-D82536171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090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5Z</dcterms:modified>
  <cp:revision>14</cp:revision>
  <dc:subject/>
  <dc:title>PowerPoint Presentation</dc:title>
</cp:coreProperties>
</file>