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6F42-9E80-44DC-909E-F161966BE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B6F9-4D62-4911-994D-9B3AB1D1AB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9a | General Government Expenditures as a Percentage of GDP, 1993 and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27C5-F04C-4BB6-AF10-6BE6B312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F3C7-AF9F-4F5C-AFEA-00C93689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1BC8-C5DA-4DB8-8D18-F1268DFE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A988-2529-41E4-83C3-66DB5B6E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ADD7-819B-44EF-886D-034E15FB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BCD5-82B6-4FCA-B2AD-9FA6944C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472B-A5B5-406C-8FAC-B22EA969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4CD6-FCEB-4DAD-9381-B5BFBA4B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2370-1240-47AF-AD39-F9BCFA37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0D64-17F6-448E-B834-3D35AA0A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5CAB-EE9A-4C35-9715-2AFFE86A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015A-37F3-46F7-BC6B-4F6D7124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AA7A-0A43-4504-9CC6-8404A0B4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2FF8-5C69-48DF-B173-4BF707BE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7B3B-28FF-4481-BBC9-594FD11E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51C5-3929-4ED9-BBE4-2FD25DB2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7F4C-FEC9-49DB-95DF-11582EDE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EF01-29A0-4865-B03D-B669BB80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7326-CD8A-469F-97DD-4EC6E101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4220-E8A0-450C-B306-6ED4767B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B995-AFEC-4E5C-A56A-9CFA510E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C6E6-D1DE-4C08-8EEB-2E1DC40A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AFFC-4510-4511-9D6B-67141E08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260-F0AD-442C-A383-8CBADD56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3147-3066-4810-B9CE-90061FDDC6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F47F-9F26-4258-9532-06A8361ADE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9a | U.S. has a lower burden of government relative to its major G7 competi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380880" y="1924200"/>
            <a:ext cx="8377200" cy="4933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2209680" y="57913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eneral government spending (all levels) as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674280" y="623736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9a | U.S. has a lower burden of government relative to its major G7 competitors </dc:description>
  <dc:language>en-US</dc:language>
  <cp:lastModifiedBy>Jia Yao</cp:lastModifiedBy>
  <dcterms:modified xsi:type="dcterms:W3CDTF">2013-09-23T19:14:4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9a | U.S. has a lower burden of government relative to its major G7 competitors </vt:lpwstr>
  </property>
</Properties>
</file>