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6E7-7E21-4BF5-841F-02DDE74E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38D-2DF1-42A5-99EA-D27DE22C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691-B7F6-4222-9669-2E425349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865-9C34-47D4-AA45-BBB48A59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553-A525-49EC-A062-44897D87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317-7D9F-4250-8A5B-8219B1F0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B3D-00B3-4260-B7A7-032667D1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7C7-C4F1-452E-92FC-66A1021F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176-D460-4B0C-BE68-9D052828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673-E667-4A60-BCE0-A03184D2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B58-25AD-4B0F-9CAE-31BC546A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236-CB66-47D7-AB9E-88CC5A61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FDAE-F595-4DA1-B10F-AA8573CFE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3Z</dcterms:modified>
  <cp:revision>6</cp:revision>
  <dc:subject/>
  <dc:title>PowerPoint Presentation</dc:title>
</cp:coreProperties>
</file>