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DDB-C84A-4304-A21E-C9B80830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8CD-0648-489E-95CC-9067769B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5F9-2FF0-4D5E-861A-88DABE3C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F1C-ED92-4A98-A9F4-FB830F29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24C-D19C-41B2-8B48-ABB8CFC4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FD5-F9D8-4ABA-AF3C-8D524DC5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3D9-73E1-464A-A919-AFDBA608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752-3B6A-4846-BE67-4BDE9D05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C99-C458-4B04-B2EE-99B2C79C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32B-8FC1-4F86-ACE0-781FA05D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586-529E-40C6-AB6F-B5771E04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8A5-5781-4DE3-ADA9-908CE582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965B-2BD1-4835-B49C-D573B67CC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24080" y="0"/>
            <a:ext cx="649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2Z</dcterms:modified>
  <cp:revision>32</cp:revision>
  <dc:subject/>
  <dc:title>PowerPoint Presentation</dc:title>
</cp:coreProperties>
</file>