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2F6-CB0B-49C0-8C48-DA344445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AAD-1958-4B25-AC62-B070B0E1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BB4-7690-4526-BF1D-F646EB91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D76-1ADB-4D2C-8408-48A7BD07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D50-8DF0-41B2-A07E-AEE0D9A3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885-27FB-4817-9AE4-F022730B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7CC-0E17-448E-A684-766A27EA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0ED-5618-474D-8C79-FBC7654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ADB-8859-4AE2-BC31-9D2CC752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AA7-FE35-48AF-9284-49D220B5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CC2-E59E-4BD1-8F16-CE0DD986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598-D85F-45C5-BB58-57EDD91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EC27-630F-4AE2-914E-5FF1BD5DF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7Z</dcterms:modified>
  <cp:revision>37</cp:revision>
  <dc:subject/>
  <dc:title>PowerPoint Presentation</dc:title>
</cp:coreProperties>
</file>