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1632-DEC6-4C0F-8B19-0CD5759566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3b | Real Hourly Output and Real Hourly Compensation, Private Sector and Ambulatory Health Service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18C2-EBA8-479F-A902-78BCC73421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42B9-BA88-4799-AB04-8479E65C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052E-0D22-42B3-93ED-F12347E4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E400-FC4C-4087-A6E8-621EF11F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E0B9-5CE2-424C-BBDF-8053ACD3E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3B16-70ED-4419-8F13-860EF07D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151C-BA6C-4D0C-B16B-A1A3F20A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D389-FAE3-4857-9860-247BBF08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8265-8C60-46FF-84F1-63D6D1F2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97C3-BCEF-4F94-8089-41D026FA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0D70-5E76-4625-B48F-3E6E4066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556C-A28F-40CB-992C-131E9250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A3DE-32CC-4285-A1CD-2A72F486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00FC-2E32-4151-BC87-D8F314287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3b | Relative to the price of hourly output, real hourly compensation in ambulatory health care has fallen since 1992; it rose in private business overal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549440"/>
            <a:ext cx="871200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16680" y="144792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 (1987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3b | Relative to the price of hourly output, real hourly compensation in ambulatory health care has fallen since 1992; it rose in private business overall </dc:description>
  <dc:language>en-US</dc:language>
  <cp:lastModifiedBy>Jia Yao</cp:lastModifiedBy>
  <dcterms:modified xsi:type="dcterms:W3CDTF">2013-09-06T15:08:45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3b | Relative to the price of hourly output, real hourly compensation in ambulatory health care has fallen since 1992; it rose in private business overall </vt:lpwstr>
  </property>
</Properties>
</file>