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1809-5AEC-4834-9620-FBAF88D79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9A03-9CB1-4434-ABEB-3A60EE392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A | COMPONENTS OF PERSONAL CONSUMPTION EXPENDITUR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AFE-687E-4CF4-A60A-A375AEF2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565-8ADB-4049-A07F-C3AFDBAD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685-380A-4DE3-A057-5275B35C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B80-B008-4BDE-B4E0-78004DAA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3A1A-9ADF-4BAA-9FC6-851B1F88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D8B5-D32C-4591-BE65-1BC6273F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0B35-E7C0-473F-9045-5A711D8A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4981-5A30-4957-9210-4B6FB8F8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91AA-A15E-4748-A72C-A77FF563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BA98-0ED4-4000-82F3-EA03DB2F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20CC-EB22-4D35-AB04-59794B0A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6C0-901A-4BB3-9090-6C5F64E3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24A9-B7C3-4FA7-BD7C-22E74E1C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95F0-1BFB-4A13-ABFA-805A83A9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584A-B9C1-427A-B5E8-27ED3BA7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A9CA-E862-408D-B9F9-EA77FAF9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C832-3384-4255-B8AB-316CCB6C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E2E-761B-403D-90E6-E6D4CF0E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608-D523-48B1-AFA0-84F1B918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111-5552-4D5E-B184-04667685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5F9-BDC9-4F80-8837-2E7E7714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406-89D6-4356-ABC3-D804F1C5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CF2-2BE1-43F7-A37D-D623D6A6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76E-C6B7-468C-8D09-B9430658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6193-BD92-483D-8209-AC1856DBC9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2318-E988-4869-B1A6-D1994D25E1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a |</a:t>
            </a: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lth care is the second largest component of personal consumption spending by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5289120" y="5638680"/>
            <a:ext cx="32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sonal consumption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$10.1 Trillion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42756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a | Health care is the second largest component of personal consumption spending by families</dc:description>
  <dc:language>en-US</dc:language>
  <cp:lastModifiedBy>Jia Yao</cp:lastModifiedBy>
  <dcterms:modified xsi:type="dcterms:W3CDTF">2013-09-06T14:06:0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a | Health care is the second largest component of personal consumption spending by families</vt:lpwstr>
  </property>
</Properties>
</file>