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7DB7-2BC8-4DBD-902C-A7FE91F8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5E82-83D4-4A48-B326-B30C036B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3186-523B-482D-B9FE-CAB3B8400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027F-6D31-4005-B654-619DE9F56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0259-7803-46AE-825C-251DA27A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001E-4592-491D-8DBF-5871C44D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EE6F-F6E3-4229-9A97-8BADD2FD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8A43-DF6A-4ED9-9652-5AA7D93B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D99F-220C-4A24-9AAA-0580699F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E1CD-C3D5-4AE5-95AD-4B672275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ED31-3BC8-449F-B06D-752EFAB9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7781-109E-4B5B-9FC1-045B918D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9D3E-6FF8-424F-8D03-2351FF750F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52280" y="58680"/>
            <a:ext cx="876168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2Z</dcterms:modified>
  <cp:revision>8</cp:revision>
  <dc:subject/>
  <dc:title>PowerPoint Presentation</dc:title>
</cp:coreProperties>
</file>