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2795-FBE1-4005-B3CB-4FA42CF3F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2 | AVERAGE ANNUAL CHANGES IN HEALTH EXPENDITURES DURING ECONOMIC CONTRACTIONS, 196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9F1F-138C-45EC-9AA6-15072A7A9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0CF-4539-4953-BFC1-24D1C535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FCD-1560-4573-A833-514BC7BB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86C-196F-4D6B-88FE-865961A2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780-E535-41B8-9E7D-315EC4E9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12D-0481-45DD-930C-CE2E5A5D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B65-7C5B-4D6F-8582-5605D7C6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4BD-F1B9-4E10-B72B-E120DF59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48A-8E31-4840-B7E5-029BD30C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F61-4E50-4675-AC50-254A70EA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07E-D39E-4A45-8718-45DDA266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D06-C493-486F-A262-D4681CFC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FBF-4961-42DA-8ADB-A2BD6B6F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D875-243A-4B15-BAD3-278037EC5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2 | Medicaid spending occasionally is more counter-cyclical than other health spending, growing relatively faster in down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2 | Medicaid spending occasionally is more counter-cyclical than other health spending, growing relatively faster in downturns</dc:description>
  <dc:language>en-US</dc:language>
  <cp:lastModifiedBy>Jia Yao</cp:lastModifiedBy>
  <dcterms:modified xsi:type="dcterms:W3CDTF">2013-09-06T15:28:08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2 | Medicaid spending occasionally is more counter-cyclical than other health spending, growing relatively faster in downturns</vt:lpwstr>
  </property>
</Properties>
</file>