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54B-B7DA-4EC6-882C-918356F5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CD4-E68C-49A8-A816-0A0B556B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E1E-962D-49E5-8B16-25CACBEC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CA1-E0F0-46BA-BE5B-C307537F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606-0E6B-4667-9688-BA48781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6A5-A3FD-4572-9A96-1EEF43F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FFE-C054-4604-95A5-387EEA7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7C8-CAEC-4215-A7C6-E14A58F4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584-9DB2-4662-9E9C-10D175C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20F-C962-4123-91D2-E0B342BE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523-BE8C-407C-8C9F-753E2832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312-0054-408F-84CD-A99D14F7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811D-D807-4391-AE75-866B82153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2Z</dcterms:modified>
  <cp:revision>39</cp:revision>
  <dc:subject/>
  <dc:title>PowerPoint Presentation</dc:title>
</cp:coreProperties>
</file>