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DB0D-EC36-4563-8FD7-C9A792206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5a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Low, Median and High Estimates, 2000-20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2404-B021-4495-83AC-86C537C9F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CB6-9706-42E0-A109-382C126B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E44-8A53-4026-BCBC-43975AE5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EC3-44D6-4EC1-A2CE-D4C70E46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EF3-D0B9-42E8-A7B0-9F004649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C1C-5A6B-4434-B106-11DB6A1B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A01-2ED5-4EF3-B1BD-7275A4D4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D9F-C318-4B85-9CE4-14469D8D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E69-58A2-4EAD-9F1D-E0CD21C9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E7D-B5F5-4E43-9A5B-F7D8CD5D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A6F-E26F-45F1-BE8A-62C42AFD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593-A1D9-4A3C-A0DD-88AF62D0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20C-A98F-4D65-821A-8AF002EB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ED2A-4DEB-4E7B-A048-4A1B09DF1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5a | There is a huge amount of uncertainty in 75-year forecasts of Medicare or other health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7840" y="5786280"/>
            <a:ext cx="85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Lee, Ronald and Timothy Miller. An Approach to Forecasting Health Expenditu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pplication to the U.S. Medicare System. Health Services Research, Volume 37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5, October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21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74920" y="4429080"/>
            <a:ext cx="79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low and high estimates encompass a 95 percent probability interval. Giv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ertainty in future population, future health status, and growth in health-status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 per-beneficiary spending, the actual level of future spending is expected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within this interval 95 percent of the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a | There is a huge amount of uncertainty in 75-year forecasts of Medicare or other health spending</dc:description>
  <dc:language>en-US</dc:language>
  <cp:lastModifiedBy>Jia Yao</cp:lastModifiedBy>
  <dcterms:modified xsi:type="dcterms:W3CDTF">2013-09-23T19:14:2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a | There is a huge amount of uncertainty in 75-year forecasts of Medicare or other health spending</vt:lpwstr>
  </property>
</Properties>
</file>