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F31-6666-4ECE-828B-E39D3580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64F-08A8-46A9-9CFB-A213B9A7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AB1-2636-41DD-B31A-1FA181C0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5AE-EB88-4EA0-BD82-28742782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627-E52C-4124-8BE4-07852660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5FA-B68A-4F4A-BB93-FA9A1C28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5FF-9272-47CB-8B9D-1AD5E178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63E-ADBE-4703-9BE3-7977BDC5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1B7-DA36-4B94-A36C-BED34B0A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9F2-33B6-46D1-80FB-A9208AB8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A48-2A85-4629-A0A4-2D8561E9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345-3FA6-4DB9-B8FF-2236E201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8738-017F-4F1D-9472-E33CAB619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8680" y="0"/>
            <a:ext cx="902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4Z</dcterms:modified>
  <cp:revision>30</cp:revision>
  <dc:subject/>
  <dc:title>PowerPoint Presentation</dc:title>
</cp:coreProperties>
</file>