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C893-D854-41A5-8CBC-D73D25F6E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5B16-B721-4FA3-B4A3-27A286E09F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4a | Inflation-Adjusted Per Capita Expenditures, by Type (chained 2005 dolla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6F7C-EA19-4647-973B-31B964C1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8D06-4F20-44EF-9E09-7AA08522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222A-1BC6-4AEB-B067-A10EBE3E4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3721-EBB6-4EEC-87E5-259B77DF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D995-8813-46B3-9092-9AD139EA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6CFC-36DC-4431-BB25-22D67738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AF5B-D028-4C15-AF1A-4C0FA8B0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BC4F-906C-4B59-93BA-8635EF54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2DD3-B73D-4752-BD7B-E95E5C5E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4D2D-BFEB-4660-81F0-550F98E8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6872-B0B8-49B1-B629-9A543D3C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CB6D-73A8-4BF8-A86D-60B8377C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4041-6588-477A-AEB8-4152480A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DAF2-586A-4F70-A6E6-F53020FE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24CB-A63E-4D97-B30B-0B67EBBF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09ED-BDC3-4849-9151-33445458D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2215-FB02-4803-8CD6-91668907F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397B-528D-4D8C-AAAD-AED38285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6E5E-6A8F-4A33-A941-2EE214F8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2DCA-8836-4F39-ADA1-7A8CF010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D02F-87A8-4F09-A79F-D8D22DCB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264A-316C-41A3-B4B1-68182A76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B8AA-E91A-4512-850B-D054A6CF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FBB4-A881-492D-B3FD-83692569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0E53-B8E7-4758-805D-A326E036A1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43F1-9246-40AB-B2E5-28FE2D71FA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676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4a | Despite rising health spending and taxes, non-health personal spending per capita more than tripled from 1929 to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4a | Despite rising health spending and taxes, non-health personal spending per capita more than tripled from 1929 to 2009</dc:description>
  <dc:language>en-US</dc:language>
  <cp:lastModifiedBy>Jia Yao</cp:lastModifiedBy>
  <dcterms:modified xsi:type="dcterms:W3CDTF">2013-09-23T19:14:18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4a | Despite rising health spending and taxes, non-health personal spending per capita more than tripled from 1929 to 2009</vt:lpwstr>
  </property>
</Properties>
</file>