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81D3-7D00-49B7-9A52-2A57AD135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DBE0-CA47-4008-B476-1CEC5C99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0AA7-6D3D-4E19-878C-F8163678F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2AE9-B106-487C-A103-FC8B91DBA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F418-B278-4252-B920-219017C1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3A20-4469-4357-A147-C32A7232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409D-FF94-4438-8EB2-B6B94109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C62F-92C3-44DE-BE78-AB0FCE3E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A8B5-5705-43EC-A7AD-156AE618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AE84-1F32-4FBE-9D15-590AC1B6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A8D9-EDA3-462F-98F9-3FF3F6E2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8129-47D2-42C0-9C18-0506E480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219F-5F84-45BD-BF75-A843AF9B68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55600"/>
            <a:ext cx="914400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31Z</dcterms:modified>
  <cp:revision>33</cp:revision>
  <dc:subject/>
  <dc:title>PowerPoint Presentation</dc:title>
</cp:coreProperties>
</file>