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6C9A-C232-4863-8518-32540C878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a | Net Stock of R&amp;D Capital Compared to Productive Capital Stocks, Health Services and All Private Business, 1987-2007 (R&amp;D per $1,000 of Productive Capital Stoc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9673-1C6A-4A52-84A6-038F4A96E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9DC-CBAB-45CB-98DA-5FE00795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884-AB86-491A-B264-719A2872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370-0660-4237-9B9E-66E2F5C4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02B-F38A-4E9E-9E99-A1B0182E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400-8E78-43C8-9E44-C2440B39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497-A540-4C85-BA33-557009A8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CFF-0CD2-40CF-8E2A-48D3D6AF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F80-7F80-4FBD-88E9-75D84DBE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FF1-59F2-4293-B8AE-56F17621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EDF-55E3-4384-A4FA-1725C842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BAB-84CF-4E17-A754-75ABDC48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65E-B03B-42D8-A244-2314EA4C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EF61-F0BC-42FF-8E8F-A7169FA6C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a. | The ratio of R &amp; D capital to productive capital stocks is roughly five times as high in private business as in 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6019920"/>
            <a:ext cx="87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idential care facilities. It does not include pharmaceuticals or medical de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a. | The ratio of R &amp; D capital to productive capital stocks is roughly five times as high in private business as in health services</dc:description>
  <dc:language>en-US</dc:language>
  <cp:lastModifiedBy>Jia Yao</cp:lastModifiedBy>
  <dcterms:modified xsi:type="dcterms:W3CDTF">2013-09-06T15:00:4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a. | The ratio of R &amp; D capital to productive capital stocks is roughly five times as high in private business as in health services</vt:lpwstr>
  </property>
</Properties>
</file>