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7F0-FA8A-4C9A-8935-308FE649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EDA-E503-4CF8-A620-7FE84149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200-117C-4FED-B714-B8FC0C1D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3E5-C86C-433B-8623-E8B56B8E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0F4-AE26-4FA3-9B23-58B98F41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EC8-299A-4181-A927-A13F7187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58C-D7BA-4117-AF8C-DB3B0B2C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ACB-F4F6-42EF-96A7-5E091754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827-9F88-4CD8-AEC9-E67B97C5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F9E-C7B8-4772-85A1-C945E0DF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319-FAFC-48DB-B7E8-AF6C05DD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8A3-369F-4673-98C1-C1E26058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AEB0-FF38-4DE1-B0A5-5D7512E12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474920"/>
            <a:ext cx="90262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5Z</dcterms:modified>
  <cp:revision>35</cp:revision>
  <dc:subject/>
  <dc:title>PowerPoint Presentation</dc:title>
</cp:coreProperties>
</file>