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FA2D-5CDD-4A33-A84A-757DB4DA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AA8-31F4-40DF-8034-AED12A9E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C9C-B04C-4D37-B45C-0292B6A6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F0A-3F00-44FD-A84C-59CB6D28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6A4-1F28-4C33-A601-99B82D33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BB6-A71A-4660-A25D-C3A2DFE8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86DE-715F-4042-A2E6-182B68CD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F3A-65F7-458D-9CCD-0E4D417A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2C2-B9D1-4E17-9318-5C6840BF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1B2-3292-4BD7-80FA-12F0573E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740-71CA-4D1E-8EAA-E06D984A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C851-9A22-4AB8-B2A2-DDD7AD05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E360-8912-40C7-956E-84C770C0C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36440" y="1371600"/>
            <a:ext cx="887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8Z</dcterms:modified>
  <cp:revision>28</cp:revision>
  <dc:subject/>
  <dc:title>PowerPoint Presentation</dc:title>
</cp:coreProperties>
</file>