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1D326-35B3-4141-AC07-532AA7521B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23728-1C96-4F18-875B-70276F367B57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f7f7f"/>
                </a:solidFill>
                <a:latin typeface="Arial Narrow"/>
              </a:rPr>
              <a:t>4.1b | EMPLOYER CONTRIBUTIONS FOR HEALTH INSURANCE AS A PERCENT OF ALL EMPLOYER-PAID FRINGE BENEFITS, 1948-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F0CB4-4016-431C-841E-53B291907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F8CDE-6AC0-4394-B148-EA1E16E7D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030C0-DF52-43F2-BA29-BD02508C5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5FCFE-9750-48ED-A0AA-9D5744FFE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0DB53-7004-4A8D-B352-B0F7453BE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A6AE5-4018-4955-8C9A-3F7D560D8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97BFF-0FFA-4B65-8D58-48ECBB3B5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F6159-BE55-4C59-83A0-B4893A26C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C33B7-0DFE-4EC1-974F-71CCE85A2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3AC65-D96F-491C-BFA8-2E109E4BD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791F9-5C3B-4B44-95BB-2E339A1ED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76278-67AF-4FBF-8DF7-BCC3C476C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BF6DD-BBFA-4BF2-9566-7A226FA2D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5BFE7-7EAE-4EFC-AF25-63FC52B21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B9C6B-441A-4A2F-9593-756A27C0D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ADB12-7954-40FB-9D6A-BA1CBC049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917BD-D963-40F2-BBC3-8C7AC1E1E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4BFB5-BA4A-4E15-B5D8-BA7B4980D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4E58F-8CDF-43CC-89D3-A092FC803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8C848-3BDC-4BD3-BBC7-AAD48D272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2B141-E6CC-433F-80F6-958EB0262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F01AA-B104-43B3-B3DC-B66D8B89D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339DC-DA93-4DE9-98BC-995CC7E39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862BC-FA37-41DF-AC53-51BE95C07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657F4-52AC-4E93-88DB-830F6D8C35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6F049-F4DF-4FCC-A3A6-65110B6BAF7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Object 3" descr=""/>
          <p:cNvPicPr/>
          <p:nvPr/>
        </p:nvPicPr>
        <p:blipFill>
          <a:blip r:embed="rId1"/>
          <a:stretch/>
        </p:blipFill>
        <p:spPr>
          <a:xfrm>
            <a:off x="-50760" y="787320"/>
            <a:ext cx="9198000" cy="612144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61048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3"/>
                </a:solidFill>
                <a:latin typeface="Arial Narrow"/>
              </a:rPr>
              <a:t>4.1b | Health-related employer contributions have absorbed a growing share of supplements, now accounting for nearly half the total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TextBox 3"/>
          <p:cNvSpPr/>
          <p:nvPr/>
        </p:nvSpPr>
        <p:spPr>
          <a:xfrm rot="16200000">
            <a:off x="-2305440" y="37324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15T21:37:09Z</dcterms:created>
  <dc:creator>conoverc</dc:creator>
  <dc:description>4.1b | Health-related employer contributions have absorbed a growing share of supplements, now accounting for nearly half the total</dc:description>
  <dc:language>en-US</dc:language>
  <cp:lastModifiedBy>Jia Yao</cp:lastModifiedBy>
  <cp:lastPrinted>2002-05-16T21:44:34Z</cp:lastPrinted>
  <dcterms:modified xsi:type="dcterms:W3CDTF">2013-09-06T13:49:59Z</dcterms:modified>
  <cp:revision>945</cp:revision>
  <dc:subject/>
  <dc:title>Financing the U.S. Health System: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Financing the U.S. Health System: 1</vt:lpwstr>
  </property>
  <property fmtid="{D5CDD505-2E9C-101B-9397-08002B2CF9AE}" pid="3" name="SlideDescription">
    <vt:lpwstr>4.1b | Health-related employer contributions have absorbed a growing share of supplements, now accounting for nearly half the total</vt:lpwstr>
  </property>
</Properties>
</file>