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3C07-B692-4C3F-A41F-1FA1064EA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1C74-BA50-43EF-874A-DD774F729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3307-2957-4ADB-B638-5AD33F6BB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D8F0-7BC3-4F81-B4E3-2777A691E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E204-FD8A-479B-AE5E-029F660BF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F85B-CD5B-4C5D-8461-6E230BE57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70D7-1698-4D1C-8AFD-EF8E4F1D9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F25B-1B12-47A6-84B0-83B21CD27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D81A-B120-4611-A73E-55B9107D8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ADD7-8C42-4D88-8B24-6DCEF3B0D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D4C6-F6B6-40D9-9EDF-E59BCB8C0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2C4D-52AE-4571-9A6E-D22D51C12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1051E-E353-4253-BF53-5573F83C2E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76320" y="237960"/>
            <a:ext cx="9005760" cy="639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9:32Z</dcterms:modified>
  <cp:revision>26</cp:revision>
  <dc:subject/>
  <dc:title>PowerPoint Presentation</dc:title>
</cp:coreProperties>
</file>