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1216-B5A8-4A51-B442-EBDAB692A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7164-32A2-4262-B091-039998A62A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1a | EMPLOYER CONTRIBUTIONS FOR HEALTH INSURANCE AND OTHER FRINGE BENEFITS PER DOLLAR OF WAGES AND SALARIE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5007-AD7D-4736-AAD8-FA122655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377-D709-4545-86D0-5A5696D9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521-5736-4F46-91C7-815FFC0A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390F-C81F-4807-8030-2F8F6C41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96A7-9168-467B-B2AE-CCA717FB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0F74-A058-4290-BD23-DE4921FB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A1D3-6633-4266-B19F-F5176990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E1A6-16B4-40ED-B4E0-ECA10EAF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9F0C-E496-4A1E-A868-187E4ED2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E508-0FD4-440B-BD2D-11338D79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AEB8-0CE4-4ABE-ADCA-C89DB90F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C83-5E24-4EDF-8DB7-4A20F561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DD04-8EF1-42BE-8302-4C47383E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1A7C-178C-4CCA-A04F-4016DDDA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C2F4-BD36-4C09-815D-C614085D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5CD2-BBF2-43E3-A11F-235B9E06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1AE3-0034-4C13-869F-77728FC0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850-2763-4F95-AE02-9A7B5113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782-0F24-4918-B047-BDE9F2E9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F71-E6F8-4FB9-9B0A-1B7B3811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DE6-F4AC-453A-8021-72B1C780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F51-4C3F-4BFB-94B2-0638A1B5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565-A7D0-42AE-8CC5-D5735C7D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DAC4-37C0-4ABF-967D-01764670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D10A-F463-4D18-8156-BE4127AF7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878D-7B11-4AE8-ADE9-76738299AF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1a | Over six decades, both health and non-health supplements to wages and salaries have grown dramatically relative to worker pa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1a | Over six decades, both health and non-health supplements to wages and salaries have grown dramatically relative to worker pay</dc:description>
  <dc:language>en-US</dc:language>
  <cp:lastModifiedBy>Jia Yao</cp:lastModifiedBy>
  <cp:lastPrinted>2002-05-16T21:44:34Z</cp:lastPrinted>
  <dcterms:modified xsi:type="dcterms:W3CDTF">2013-09-06T13:49:57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1a | Over six decades, both health and non-health supplements to wages and salaries have grown dramatically relative to worker pay</vt:lpwstr>
  </property>
</Properties>
</file>