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7901-DBCD-42A1-A2DA-E3D0B4C00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7B | MEDICAID EXPENDITURES AS A PERCENT OF STATE AND LOCAL GOVERNMENT EXPENDITURES FOR THE HIGHEST AND LOWEST STATES (INCLUDING FEDERAL FUNDS)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366B-9CC6-4CDC-94DA-6B05A050C1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7B10-C2D4-4209-8B19-8DE3E252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4A8-2580-404E-ABB0-4B7CCA90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913E-C034-4C1A-9585-266A9E77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D80F-BC96-485D-A10F-8DE3AA89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F386-3FC2-42C3-AC51-E2492A33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314D-6A59-46E0-B7D4-E657A685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3DBE-1DC3-4B0F-A627-14621B97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055A-36E9-4F4B-8F35-D6F5C0CF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3C75-7DE4-45F6-9809-03514323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6F19-528D-4BA2-A7CF-42892ED5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DFA-A0CB-4126-9B31-CB810B71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416A-B5D1-447E-BA9E-1D87CFDA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6BCF-BC51-423D-ACD5-52F6B64E5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7b | The Medicaid share of state spending varies by a factor of 3 across sta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863640"/>
            <a:ext cx="8425080" cy="2616120"/>
          </a:xfrm>
          <a:prstGeom prst="rect">
            <a:avLst/>
          </a:prstGeom>
          <a:ln w="0">
            <a:noFill/>
          </a:ln>
        </p:spPr>
      </p:pic>
      <p:pic>
        <p:nvPicPr>
          <p:cNvPr id="50" name="Chart 4" descr=""/>
          <p:cNvPicPr/>
          <p:nvPr/>
        </p:nvPicPr>
        <p:blipFill>
          <a:blip r:embed="rId2"/>
          <a:stretch/>
        </p:blipFill>
        <p:spPr>
          <a:xfrm>
            <a:off x="388800" y="3149640"/>
            <a:ext cx="8196480" cy="307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2057400" y="5334120"/>
            <a:ext cx="556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edicaid percentage of total state/local government expenditures, including federal funds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7b | The Medicaid share of state spending varies by a factor of 3 across states </dc:description>
  <dc:language>en-US</dc:language>
  <cp:lastModifiedBy>Jia Yao</cp:lastModifiedBy>
  <dcterms:modified xsi:type="dcterms:W3CDTF">2013-09-06T13:59:46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7b | The Medicaid share of state spending varies by a factor of 3 across states </vt:lpwstr>
  </property>
</Properties>
</file>