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74A1-ED58-41DC-8DCE-5C9CAC90C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A | INDEX OF FIVE-YEAR CANCER SURVIVAL RATES (100=US) FOR SELECTED FEMALE CANCERS IN SELECTED INDUSTRIALIZED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F03C-619C-4B49-95B2-9DB672BD0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3A7-8DFB-43CC-A05F-290CC970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816-ACC0-4791-9990-DD3D5FCA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322-C633-4C61-B1E4-537F74F9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4FE-685B-46A7-A1E1-B8246233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87C-E14A-4DC9-9EF1-994B2CB5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A3B-5D65-43C1-AD54-9BF2D01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96F-56A1-44A2-A6E9-0751DA5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15B-03E8-4F7F-89E2-51E6B1A1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066-D763-48F7-8BCB-4E9833F8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2AA-ED09-46D7-A3DB-799EE00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7B1-A706-4615-A0A2-C7BF4E49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E04-741C-4D4F-ABF7-48160F1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26F8-E376-4956-AD86-715886188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a | The U.S. leads the world in female cancer survival rates for the leading causes of cancer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1371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ve-Year Female Cancer Survival Rate Indexes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3520" y="522756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a | The U.S. leads the world in female cancer survival rates for the leading causes of cancer deaths</dc:description>
  <dc:language>en-US</dc:language>
  <cp:lastModifiedBy>Jia Yao</cp:lastModifiedBy>
  <dcterms:modified xsi:type="dcterms:W3CDTF">2013-09-06T15:41:1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a | The U.S. leads the world in female cancer survival rates for the leading causes of cancer deaths</vt:lpwstr>
  </property>
</Properties>
</file>