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5B7D-78B6-47AD-A39C-EF3C9B3B5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2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F64C-245B-4303-B763-68EC328D5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374-8B88-43F6-8A5B-0CD42BD7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13D-4645-44FA-9CBD-F60678AC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61E-30EE-4BE5-882F-C2D83C66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4AE-D588-4CBB-BDC9-4CA5C033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C16-7DE8-4963-9329-FD73FF0A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AE8-3A16-409E-B6F7-73EB9FA5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412-E37B-47E7-BA87-C126C03D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B98-D143-4D94-8D63-1DC16F3A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653-E5A1-474D-8CA3-AFCFD255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DEF-CB34-427A-81AC-B4C258EF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151-EBA8-47BE-A0B8-D8B57D4B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4F7-2F50-4CAA-8250-0FC0F9F4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BB76-044B-432D-BC35-38F6AA353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2 | Most tax-exempt firms are voluntary non-profit agencies; government accounts for only about 10 percent in most  sub-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609480" y="60181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Medicare and Medicaid are categorized as government health plans. Percentages for health plan enrollment sum to more than 100% due to duplicate cover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2 | Most tax-exempt firms are voluntary non-profit agencies; government accounts for only about 10 percent in most  sub-sectors</dc:description>
  <dc:language>en-US</dc:language>
  <cp:lastModifiedBy>Jia Yao</cp:lastModifiedBy>
  <dcterms:modified xsi:type="dcterms:W3CDTF">2013-09-06T14:09:50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2 | Most tax-exempt firms are voluntary non-profit agencies; government accounts for only about 10 percent in most  sub-sectors</vt:lpwstr>
  </property>
</Properties>
</file>