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77425-2E08-4C6C-8C01-DC366FC4F3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3C9FA-ECD1-46A9-B34C-803250B7C54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5a | Percentage Distribution of Personal Health Care Expenditures, by Major Source of Financing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2533-446E-4441-B1BC-171C85CF1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54E7-4FB4-4118-ABD2-ED00EFF1E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62DD-9582-44C7-AF70-5CA9DB651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4C9F-6CDA-4057-B5D9-CB1942D3E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0974A-20AA-4C33-9C8B-2D3E0EF85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A7CA5-8FAF-43CF-B000-738E7FD39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2773C-9768-4633-8F90-52CF8C696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1E3F4-800B-4A3C-9DD8-39C5F923E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350F8-868A-4D83-A3FA-8AD8AD306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B6D75-6BB3-4B73-837F-BE1C51179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C46ED-E0C9-45D2-AB0E-D436714E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4FB2-0490-4E23-A86F-A5052CF33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E1E9A-F0DB-4AA6-A134-3831F7AC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0094F-7416-46BB-8AA7-C96723A3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CA9D0-DDFE-47DE-BFF6-5F68A529B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E5B56-620B-494F-AFF3-588A5274B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9130D-F991-4836-95A6-55D7FC453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5B1F-0575-473E-84A8-CCE82B83B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B7D6-DB4C-4186-A50B-27F43A363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E44B-BDB4-465D-ABB8-CFBDB6FDF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BE31-DC3F-41C5-9773-B51864000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C10D-84DF-456E-BC7D-238294EC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2C5A-FF94-4993-9B00-69179E24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2000-C300-48AD-9817-2BDD0271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AE5F5-2B82-4A1B-B1C8-66052C9F48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C412A-1ABB-4362-90E1-9D022083CD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5a | 1 in 7 dollars of personal health care spending now are paid for out-of-pocket compared to 7 in 8 dollars 80 years ago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5a | 1 in 7 dollars of personal health care spending now are paid for out-of-pocket compared to 7 in 8 dollars 80 years ago</dc:description>
  <dc:language>en-US</dc:language>
  <cp:lastModifiedBy>Jia Yao</cp:lastModifiedBy>
  <cp:lastPrinted>2002-05-16T21:44:34Z</cp:lastPrinted>
  <dcterms:modified xsi:type="dcterms:W3CDTF">2013-09-04T21:03:55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5a | 1 in 7 dollars of personal health care spending now are paid for out-of-pocket compared to 7 in 8 dollars 80 years ago</vt:lpwstr>
  </property>
</Properties>
</file>