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636-8218-4877-88A1-078ABD85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5AC-333B-4C75-BAF7-07D1D118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C78-D932-4F9E-A441-ACE2B9A2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721-470A-4BF2-BE51-134C22B0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6B3-07A6-41C5-B277-87147C27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D90-10BD-4F96-A849-C84C529F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E49-3CFC-4F91-8241-77766588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0EC-8B68-479B-9D90-A4D774C0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225-6735-4283-B766-DC910A77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8EC-C0D7-497B-BCE2-BE8EE8B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BC3-4C11-4CF1-86F4-A4980F4E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822-7ECB-4035-B794-A4C3BEFD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2950-2A2C-42EE-84D7-222149AE0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80" y="76320"/>
            <a:ext cx="9134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6Z</dcterms:modified>
  <cp:revision>30</cp:revision>
  <dc:subject/>
  <dc:title>PowerPoint Presentation</dc:title>
</cp:coreProperties>
</file>