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34D-C3FA-45E2-BE24-D8C5D783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129-37C2-4701-BCA3-97A9DC4B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28C-1590-4F21-A2ED-4611A616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6C2-FBFF-4241-B952-141B8977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F7F-5EDA-472A-AFDB-0A71C41F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BB8-D109-4A4F-A471-9FCEB925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20F-584B-4B45-9161-C759AD05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5B2-6002-4184-A759-3342B3F3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56F-945C-445D-B3A2-40DEFF26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068-B751-4954-807F-B487891B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443-DF5F-4FB7-B4E1-32809224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62E-19A5-40A5-ADF9-41718F96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0325-C31B-4EF3-9C6B-53465B4DF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4Z</dcterms:modified>
  <cp:revision>39</cp:revision>
  <dc:subject/>
  <dc:title>PowerPoint Presentation</dc:title>
</cp:coreProperties>
</file>