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CFA5C-96ED-4E9E-8F5D-3208BABFCBE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15.3 | </a:t>
            </a: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Percentage of Bankruptcies Related to Families with Medical Debts, 1994-9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7E1A8-6573-4216-B512-DFFB52AAEE7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0B1ED-8144-419C-8D19-B6BAD0A91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7A7AC-275C-46E6-81A9-3F8A91EBA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D3846-9C3F-4515-857C-A822CE93C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FD553-5308-4575-8B4F-675DB7554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C581F-0008-472A-8DDC-ECCE0113F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B613A-30E0-4F35-921F-9A78F3228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86E48-E6C9-48B1-8320-80BE3B025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18430-151F-4FCC-8D69-FE89F7222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CCB6D-0FF1-423F-ADF0-A11630EB8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ABB1E-8FA9-433B-A9CE-52C0E1BDF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EE4F5-7C5A-4AB8-936E-2CA7CB38A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07893-2F34-4D56-996D-66380D770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E3B26-03E9-48BD-B89D-3AB92044D5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5.3 | About one quarter of bankruptcies are related primarily to medical debts; medical debts are a factor in just over one thir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177840" y="1168560"/>
            <a:ext cx="8559720" cy="551160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417600" y="5759280"/>
            <a:ext cx="8534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Sourc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: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thur A.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edical Bills and Bankruptcy Filings.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merican Enterprise Institut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://www.aei.org/docLib/20060719_MedicalBillsAndBankruptcy.pdf (access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July 28, 2010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6"/>
          <p:cNvSpPr/>
          <p:nvPr/>
        </p:nvSpPr>
        <p:spPr>
          <a:xfrm>
            <a:off x="533520" y="1600200"/>
            <a:ext cx="761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ercentage of bankruptcies related to families with medical debts, 1994-9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5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9T14:15:23Z</dcterms:created>
  <dc:creator>Kristy</dc:creator>
  <dc:description>15.3 | About one quarter of bankruptcies are related primarily to medical debts; medical debts are a factor in just over one third </dc:description>
  <dc:language>en-US</dc:language>
  <cp:lastModifiedBy>Jia Yao</cp:lastModifiedBy>
  <dcterms:modified xsi:type="dcterms:W3CDTF">2013-09-06T15:26:05Z</dcterms:modified>
  <cp:revision>291</cp:revision>
  <dc:subject/>
  <dc:title>15.1 Household Net Worth, GDP and NHE, 1929-2009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15.1 Household Net Worth, GDP and NHE, 1929-2009</vt:lpwstr>
  </property>
  <property fmtid="{D5CDD505-2E9C-101B-9397-08002B2CF9AE}" pid="3" name="SlideDescription">
    <vt:lpwstr>15.3 | About one quarter of bankruptcies are related primarily to medical debts; medical debts are a factor in just over one third </vt:lpwstr>
  </property>
</Properties>
</file>