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57E5-DC47-41A5-A16E-9BA6462F3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5C3E-FB09-4472-81CA-41F57E888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C9D2-64A5-4E60-88D4-7BB7D735D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045F-2585-42FA-9FC2-946C7986C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C64F-3681-4D6D-89FA-612A758B1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68F4-1DD3-492A-A7C1-C5E65CC9D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6A55-4282-4558-AA29-1C7ACC35F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0524-9234-4FDC-8420-B61EDD913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A0D7-8B10-471B-A03F-486B5BCD0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2054-8408-410D-9749-379A2DA1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E68D-EAD8-4C63-8107-9CC0E1DE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6581-B3A2-49B8-9869-16D91D2E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BA2DF-54C4-49E9-88E9-18109448C8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6080" y="380880"/>
            <a:ext cx="905184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6:25Z</dcterms:modified>
  <cp:revision>31</cp:revision>
  <dc:subject/>
  <dc:title>PowerPoint Presentation</dc:title>
</cp:coreProperties>
</file>