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9672-F43A-47B9-89F5-155F39252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A | TOTAL WEIGHTED HEALTH EMPLOYMENT AS A PERCENTAGE OF POPUL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F5C4-1D2B-4302-82AA-C69B67DAA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325-0687-4365-B6C5-5535F945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DFD-02EC-4F32-A7E7-FEC66AB1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2F4-0AEE-42A2-A901-882972A6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49C-4374-46AA-87CA-3E80EA37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357-23A5-4246-AD22-7F2F96B6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F9D-1798-4CA2-82DD-9CC27702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328-67A6-4990-B9B3-5BBCA239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272-FCE2-4C45-8335-4BC790D8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5BB-9973-4994-858E-248F50C8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02B-739A-44C5-ABC2-7D9E9356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3D7-BC25-4791-8467-971D788F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33B-8F1C-4587-952E-DE01F238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5CC5-0FC9-4B93-BA4A-302B05D74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3a | The opportunity cost of medical workers is only slightly higher in the U.S. relative to the rest of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2952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ighted health employment as percentage of total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495288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figures are calculated by multiplying the number of general practitioners, specialists and all other doctors times their respective weight and adding this to the total number of non-physician health sector employees. The weights were calculated as the average ratio of compensation for doctors relative to nurses for 9 countries (6 shown plus the  3 more with the highest level of health spending per capita: Netherlands, Norway and Switzerland).  The ratios were: 1.8 for GPs, 2.8 for specialists and 3.0 for all other M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a | The opportunity cost of medical workers is only slightly higher in the U.S. relative to the rest of the G7</dc:description>
  <dc:language>en-US</dc:language>
  <cp:lastModifiedBy>Jia Yao</cp:lastModifiedBy>
  <dcterms:modified xsi:type="dcterms:W3CDTF">2013-09-06T15:03:57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a | The opportunity cost of medical workers is only slightly higher in the U.S. relative to the rest of the G7</vt:lpwstr>
  </property>
</Properties>
</file>