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CA60-42E4-453C-804B-24D63525D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A | TRENDS IN PROFITABILITY: RETURN ON REVENUE AMONG FORTUNE 500 PUBLICLY TRADED FIRMS FOR PHARMACEUTICALS AND MEDICAL PRODUCTS &amp; EQUIPMENT 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488E-5F35-46C8-9775-6C24A9B45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55C-E96D-4394-8AA0-93B67DDB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DF3B-0389-406D-82ED-677DCD60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953F-5111-44A5-97A3-601F26D5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AB4-D94E-4CB6-989E-5343A44B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48C-7D45-4D36-9FF3-6590C39C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D119-DA19-473E-B509-BD8CC33E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16EF-01D8-454E-B850-B3B1CDA3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75D-B155-41D1-909B-17807B6F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CD5-D573-49CA-9EFE-57162F86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1E9-55F5-471F-A8C7-5923C2A4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B4C-28D4-4BFB-8C6E-8C048823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D670-192B-4A00-8028-F9D19956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FD06-1882-45B8-9F3E-ED1DB3EE4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8.7a | Pharmaceuticals and medical devices typically rank in the top 10 among all industries in their return on reven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7883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08680" y="1219320"/>
            <a:ext cx="66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revenue (ROR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275440"/>
            <a:ext cx="834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R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a | Pharmaceuticals and medical devices typically rank in the top 10 among all industries in their return on revenue</dc:description>
  <dc:language>en-US</dc:language>
  <cp:lastModifiedBy>Jia Yao</cp:lastModifiedBy>
  <dcterms:modified xsi:type="dcterms:W3CDTF">2013-09-06T14:29:04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a | Pharmaceuticals and medical devices typically rank in the top 10 among all industries in their return on revenue</vt:lpwstr>
  </property>
</Properties>
</file>