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23FC-0911-46F4-9B30-727C39C4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E8CF-0C66-4218-B775-24D23A38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F522-D905-4CFC-A8C5-2C07FB71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59D8-24EA-4CC7-BC85-6F3CD75D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702C-CE4A-4A58-9F38-E4BB1907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4D8C-AA30-4D2E-BA80-CB5DBFF0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2892-34C7-482A-8217-245DE038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7250-4CFC-44B8-93EF-90719DF4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C10B-8640-4AED-AEA4-160F48E4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5DD3-561F-4F99-93B0-805FF8CA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7F57-F15E-4E82-89DA-0AC62EB0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FCAD-BD7E-493F-B273-1A775990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E02B-A99C-4032-A077-4A454BD07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5160" y="152280"/>
            <a:ext cx="9078840" cy="659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02Z</dcterms:modified>
  <cp:revision>31</cp:revision>
  <dc:subject/>
  <dc:title>PowerPoint Presentation</dc:title>
</cp:coreProperties>
</file>