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8AA-A8EE-4D54-8990-E8E79FA5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878-2887-44E9-B461-D0DF0F9F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BC6-6CAD-454D-895A-14887DDF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52C-BD99-4152-966F-40CAE05E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29F-2284-4AFE-97D2-EE77B62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33C-6D42-48BE-B450-56CDC914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A8C-A84D-4D8E-9DFF-1FDD26EB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C80-9D3E-475F-90FB-34081157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3D7-8AED-4F71-8D0D-F09C25A0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6AE-59D2-449A-B659-E9E07B28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8F7-16A4-4574-9F2D-90A26C16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D4E-8546-47C5-BD24-B7EFFF3B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CE6B-D822-4227-B726-B0F938C58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8Z</dcterms:modified>
  <cp:revision>37</cp:revision>
  <dc:subject/>
  <dc:title>PowerPoint Presentation</dc:title>
</cp:coreProperties>
</file>