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60E-8207-4916-9197-E8853E6E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508C-9C23-4F93-93B1-505A73C6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B0FA-ACAC-42E9-A5B0-B6BD78BE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C416-6F22-43E6-BFEA-0874A46F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F5C1-8E4C-43C4-9553-59D4CFDA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4A56-0476-43D1-8BE6-646EAB35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A5D-0346-40A2-9209-486D72D5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741-B8FF-424A-B34A-4A196417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BF01-2DF0-410B-B9B4-90025A95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4450-2918-432F-9B98-F96376F4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8705-8FA1-4A21-AF7A-84D2EB8F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65A8-2715-41CB-A1D5-5ABFBBE4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FFFD-0DAB-4457-B44C-AFD56A6A4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3920"/>
            <a:ext cx="913752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1Z</dcterms:modified>
  <cp:revision>10</cp:revision>
  <dc:subject/>
  <dc:title>PowerPoint Presentation</dc:title>
</cp:coreProperties>
</file>