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9C1A-1ECA-4937-9DB3-7884C1539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C | TRENDS IN PROFITABILITY: RETURN ON EQUITY AMONG FORTUNE 500 PUBLICLY TRADED FIRMS FOR HEALTH-RELATED SERVICES 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5D10-D2E8-4F57-AB1F-54275991B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9782-D18D-4CDC-BA90-4523A186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C6A-D67D-4325-BDA6-14237FE4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521-0F74-4E6B-96A0-2954B33C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E30-7C64-43A0-80D6-BFF673C1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1ED-3D93-4804-A535-1A5E9C02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28A-E062-4C89-9F62-2E67B7BA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F22-A5CD-4C31-8F81-1E4CDF09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E3A-AB74-45FC-B82A-F3D6021E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3AC-2983-420A-A65A-CF88063A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32D-6506-4952-A970-99D5F182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3AA-47AE-44FB-82C6-F2CBEBC1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525-8938-4C05-88CE-83160D4A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1471-485E-48E9-9834-70091E0D5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c | Return on equity generally exceeds 10 percent among health-related services indus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83920" y="1143000"/>
            <a:ext cx="64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equity (ROE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486400"/>
            <a:ext cx="83437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c | Return on equity generally exceeds 10 percent among health-related services industries</dc:description>
  <dc:language>en-US</dc:language>
  <cp:lastModifiedBy>Jia Yao</cp:lastModifiedBy>
  <dcterms:modified xsi:type="dcterms:W3CDTF">2013-09-06T14:17:11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c | Return on equity generally exceeds 10 percent among health-related services industries</vt:lpwstr>
  </property>
</Properties>
</file>