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F0C7-6D06-4DA0-AF3A-40AB6F5C7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2A | ALTERNATIVE MEASURES OF PRICE INFLATION FOR HEART ATTACK TREATMENT, 1983-199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6814-ECAA-4ED4-82F5-4193BB75B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6B8-DD7A-4F28-B772-C5D12E7F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F1D-EEDA-46D6-B21C-17165BE8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540-CF57-4844-8398-BD811C01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051-3044-4134-B09E-F3B21642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848-F6A4-4B48-A555-80D5580A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E95-651D-48F0-A3BA-995EBF50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D29-6168-4A1E-866F-A3AFFA36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397-A247-4068-8DC2-0639C3B3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3FD-9E33-4AD1-83D4-B8E48220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C0B-28EC-44B8-8B78-6F32995F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399-4941-4E79-8E24-87BFDDA7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FB8-71D2-4410-A494-AECE43B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B4C8-2B02-4266-90C1-597C45118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2a | The price of heart attack treatment rose by anywhere from under 10 percent to more than 35 percent depending on how prices are meas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983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73120" y="57960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M McClellan, JP Newhouse and D Rem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icing Heart At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eatments. Medical Care Output and Productiv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ational Bureau of 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. http://www.nber.org/chapters/c7634.pdf (accessed August 9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a | The price of heart attack treatment rose by anywhere from under 10 percent to more than 35 percent depending on how prices are measured</dc:description>
  <dc:language>en-US</dc:language>
  <cp:lastModifiedBy>Jia Yao</cp:lastModifiedBy>
  <dcterms:modified xsi:type="dcterms:W3CDTF">2013-09-06T15:31:43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a | The price of heart attack treatment rose by anywhere from under 10 percent to more than 35 percent depending on how prices are measured</vt:lpwstr>
  </property>
</Properties>
</file>