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0C35C-60CD-46FA-9237-82992E1533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4B | FEMALE PERCENTAGE OF ALL EMPLOYEES BY HEALTH SUB-SECTOR AND TOTAL CIVILIAN EMPLOYMENT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6A085-7AEE-45CB-8A3A-7DF8538957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5782-2512-473C-A273-B6E9FDFE9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062E-BD11-4675-B3AD-97D0F2D72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E1F6-D38E-4F84-B384-D705221B7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966F-45E9-47DB-92ED-2B8DD4539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F04E-32BC-40BB-A28E-F648F7F4F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325C-0178-47EA-A773-CFB99D474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F0F7-B91D-4D6A-851B-764AEB90B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6BF4-79B2-4C6C-8201-04D8BFEA2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0A53-253F-4739-870E-F74E0CD10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3CA4-6F20-44E5-9FBA-097CF6E0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E420-FF1B-4E3F-ADB8-F7FF02D2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C5EF-98BB-4222-BF9C-86025AC6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FFDD9-2A0D-4A57-B55D-1711024AAA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0.4b | Females tend to be concentrated more in healthcare support occupations than healthcare practitioner or technical occup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-50760" y="1092240"/>
            <a:ext cx="90169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4b | Females tend to be concentrated more in healthcare support occupations than healthcare practitioner or technical occupations</dc:description>
  <dc:language>en-US</dc:language>
  <cp:lastModifiedBy>Jia Yao</cp:lastModifiedBy>
  <dcterms:modified xsi:type="dcterms:W3CDTF">2013-09-06T15:04:08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4b | Females tend to be concentrated more in healthcare support occupations than healthcare practitioner or technical occupations</vt:lpwstr>
  </property>
</Properties>
</file>