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0AA-C359-4058-876C-FA01FA9B0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0CC-2FC1-437F-9F68-C3F2BD3E5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3EB-AC5E-4285-A7B7-B773E925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F05-8C5E-47BA-A828-290F4D1E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242-0EC4-49A7-9891-637117CB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D42-CF87-496A-849A-3AC04C28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AAE-3D76-4870-B36C-C4FACDAD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CEC-7DD0-42D6-B53A-DD690E5C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1E5-9B3B-4D6A-991D-A7EEF602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7BD-DF68-4D29-B36C-F92D4407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D6E-2BE1-4C77-8711-A5D52E00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3A8-C0F7-4FDC-928C-A30B36F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96D-96A9-4A12-AF3E-A05AB58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D52-6B7A-443E-8B94-A48C814A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F516-4621-46A7-8D5C-488BFF5DA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8.6a | Among health-related services, profit margins generally are highest for health plans and lowest for health care wholesal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67000" y="114300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eturn on revenu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Jia Yao</cp:lastModifiedBy>
  <dcterms:modified xsi:type="dcterms:W3CDTF">2013-09-06T14:17:0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