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E20-D445-4FA3-BCA6-680AFC5D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2FD-8CE9-483B-B1D0-A6CB1871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73C-2A37-4FB2-B5EB-F323A7C9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422-AB4D-4B23-9AFB-07E2258C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C18-BAB5-465D-9371-ACCB0A8A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74D-7839-4310-8684-364C8269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A08-8321-48D2-8593-7C2B2F4A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6F0-21B0-41BF-816B-0EFD641A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66D8-3048-455C-99B7-8D5F7D54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EF6C-D336-484E-A22D-011BA065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8325-199A-425B-9357-D54F7F57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4568-16BD-41F4-9DAD-377C25BF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A9DF-0B41-4F62-B6BC-491D7D1A0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3680" y="0"/>
            <a:ext cx="46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3Z</dcterms:modified>
  <cp:revision>30</cp:revision>
  <dc:subject/>
  <dc:title>PowerPoint Presentation</dc:title>
</cp:coreProperties>
</file>