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9339-04AD-4C53-B01D-7B32F2813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8A | COST OF MEDICAL TORT SYSTEM RELATIVE TO NATIONAL HEALTH EXPENDITUR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DF19-6776-4F99-98BA-F28F7B57C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199-4755-47C5-A492-643EA1CC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CFD-0B0C-483A-8359-BDBEE37A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1EB2-5396-4D97-8156-BD6C5DA2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488-243E-4742-B0B2-5B3A1508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721-CEE4-4FF9-B901-03D50130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87A-F04D-4328-A2EC-DD558A56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FEE-EBFD-48D9-B467-BD84536C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10A-C93D-4D75-999D-FBFC5421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CD5-A6D9-4BA8-81A5-536E68CC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4EE-C9DE-4285-B039-1BF43A87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D9A-ECF5-46F4-84A0-53B012E7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971E-179F-4E38-8F82-5E9A3B51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06C2-AA52-4684-80AA-8DE00299E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8a | The direct and indirect costs of the medical tort system amount to about 6 dollars for every 100 dollars of health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cost per $100 of national health expenditures (20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585360" y="5759280"/>
            <a:ext cx="843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onover CJ with EP Zeitl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Services Regulation Working Paper No. MTS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ushealthpolicygateway.files.wordpress.com/2009/06/mts1-medicaltortsyst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 (accessed August 3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8a | The direct and indirect costs of the medical tort system amount to about 6 dollars for every 100 dollars of health spending</dc:description>
  <dc:language>en-US</dc:language>
  <cp:lastModifiedBy>Jia Yao</cp:lastModifiedBy>
  <dcterms:modified xsi:type="dcterms:W3CDTF">2013-09-06T15:41:0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8a | The direct and indirect costs of the medical tort system amount to about 6 dollars for every 100 dollars of health spending</vt:lpwstr>
  </property>
</Properties>
</file>