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C0F-5139-4768-8D13-59C934D0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50A-26EC-4AD8-95EA-5C2426C1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0E2-C6E7-47AA-A6D1-8828D156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F64-9927-4F90-BC53-322C0D42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D9B-82F0-45FF-B648-B35A388F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0CD-643B-49D4-AB91-6FF8DDBE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4C9-FA66-431B-BFE6-ED538176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561-43AF-4AF8-AD27-453ECC41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3F3-1457-4C61-82F1-7AC5718F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A4F-094D-499D-9168-B3E0A4C1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4D1-E57B-410E-AA1E-EA0EB7D4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361-6F67-4286-8130-BFF94623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23A8-E5C5-4B1D-8B88-9CDC632FD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144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7Z</dcterms:modified>
  <cp:revision>30</cp:revision>
  <dc:subject/>
  <dc:title>PowerPoint Presentation</dc:title>
</cp:coreProperties>
</file>