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8E0D-FAEB-423F-A3B6-8209509B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0861-B63F-4D01-BD89-A73868D0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B51B-72F4-4680-B0E0-7F4A6B27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E60B-40D7-48F2-9E34-9A13EB8F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41D-A288-4F79-81AA-927786D2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B5F5-50BA-4590-8FDA-EFFCEDE0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2F63-9491-47AD-9E50-30268769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343-793E-4B50-B533-E72853B8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1810-FC32-4B00-9DB8-E7930BA0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B87E-B64C-4C37-AF9E-E178D454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3489-B9D2-4C5E-8349-87FC0724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052-6A48-4F6A-9A79-ECDD1322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80F4-FC8A-4856-81EE-2E9AFD48E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17440" y="0"/>
            <a:ext cx="870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9Z</dcterms:modified>
  <cp:revision>30</cp:revision>
  <dc:subject/>
  <dc:title>PowerPoint Presentation</dc:title>
</cp:coreProperties>
</file>