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11D-D68F-44C7-B7BA-39959924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AB9-2CEF-4286-A715-284115EE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D4F0-0A97-4017-8F5D-B0C66290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2C9-1664-4C1F-ABFF-6C65BDA0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5C8-08B4-4114-82D6-E40A9A73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D4B-A5BF-4B8C-BB2F-A484AD2A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D50-903F-4D3C-8602-D3E8FEBB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54C-8D5A-43B9-89E5-59066B6A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44C-A9D2-4202-8443-2CE26025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221-5993-4441-B0C1-E2926D6A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D7D-CD82-435A-8172-E2A8035E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493-F521-4E6A-BE92-DDE4B67F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8FA9-7846-4686-91D8-28E93B762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4Z</dcterms:modified>
  <cp:revision>14</cp:revision>
  <dc:subject/>
  <dc:title>PowerPoint Presentation</dc:title>
</cp:coreProperties>
</file>