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60E-4DF8-4BB3-BFEE-795A2E9E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21CA-BCBF-4B85-9688-BDF12426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EC72-2779-4B4E-B0D7-9402A8FA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FC6-19BD-4621-A6FC-BEFC2AE5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1FFC-B3D2-4E45-A9E7-B25E81A0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BFF8-8F5E-4FD3-A003-F2BE3FCC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DA5-CBC1-4716-87E7-FD7F63F1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D781-A6FA-4185-88C8-C71CF6C5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7AA9-3E23-4C89-AB2A-2B457337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4910-B431-4AD4-A5BF-B99E5A67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931-BF49-4401-8DEF-542858C5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DCA-C916-44BB-9506-0F93DA87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FFC3-25F9-491F-8D2E-E95505805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100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5Z</dcterms:modified>
  <cp:revision>28</cp:revision>
  <dc:subject/>
  <dc:title>PowerPoint Presentation</dc:title>
</cp:coreProperties>
</file>