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7EA-F371-475D-84BE-CE6C3598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404-7E63-4D20-A239-782270E6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40F-534B-40D1-A0AA-739142B1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C4B-6608-4959-A505-EF26A104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E40-0658-4364-B39D-BBBE3EBD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B05-DD0B-4CDE-AD9E-1165D648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EC6-1E84-4D68-97B3-41032409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4CF-FFFB-4E4D-BF70-C0D42E85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850-792F-494C-8D84-82C54F14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B40-1066-496B-9FB1-EFFB0D82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DD9-E99C-429F-B85A-153065D8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70F-26F4-4999-BA26-95E1E791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6E9F-049A-4846-8CEB-A3159E21C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4Z</dcterms:modified>
  <cp:revision>35</cp:revision>
  <dc:subject/>
  <dc:title>PowerPoint Presentation</dc:title>
</cp:coreProperties>
</file>