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75F-5725-4745-AC03-3A96DCBE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785-97DE-4EFF-A491-EC2CF4C3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B43-8616-4041-A5B0-15ADDC61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830-E1D2-491C-B09E-EB2C072B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FA6-5D48-4DD3-9A75-E8C65640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696-AD34-419D-B617-414D4C25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244-E522-403A-A263-EDE47094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23A-2A86-46D3-9552-79DF0DEC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CCD-887B-4102-BCF7-6016827E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354-57E2-4634-9B25-D7F0308B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0AA-84C0-475C-8E2E-F37F27FA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2C6-BFA3-43CB-939E-2E44C476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41F3-74D4-426B-8CF0-718EE7240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82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5Z</dcterms:modified>
  <cp:revision>35</cp:revision>
  <dc:subject/>
  <dc:title>PowerPoint Presentation</dc:title>
</cp:coreProperties>
</file>