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C79C9-37FD-46C9-A33F-C848D61008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2.4b | Per Capita Health Spending, by Major Age Category, 1977-200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75C0A-D95C-43D3-A2CC-D97DCBF703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5F54-381D-4912-B858-866A846A9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C8F8-B39B-4808-9760-08AB67D22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6F18-F310-4E67-A0E0-352B6C15D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2773-3451-43BE-9DE8-F15414403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BBA1-83B2-4303-8900-D1590ACFB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56C6-3655-4167-9E11-E3DC0DB05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BBDB-E149-49F4-81D5-7837B8006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9DD4-6B75-4833-9037-CB8332F74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5F5C-2563-4812-B5D6-30F58D629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6EAA-5B84-47BC-837D-733759180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711D-C868-4CA3-A27F-FBC1FC277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0525-0265-45BF-A005-025CB9A2E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F5B9F-D7F2-4123-9277-509B8137C7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2.4b The rate of increase in per capita health spending declined for all age groups between 1977 and 2004, though at varying ra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9021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533520" y="16002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ompound annual growth rate in per capita health spend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1T13:12:38Z</dcterms:created>
  <dc:creator>Kristy</dc:creator>
  <dc:description>12.4b The rate of increase in per capita health spending declined for all age groups between 1977 and 2004, though at varying rates</dc:description>
  <dc:language>en-US</dc:language>
  <cp:lastModifiedBy>Jia Yao</cp:lastModifiedBy>
  <dcterms:modified xsi:type="dcterms:W3CDTF">2013-09-06T15:13:12Z</dcterms:modified>
  <cp:revision>23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2.4b The rate of increase in per capita health spending declined for all age groups between 1977 and 2004, though at varying rates</vt:lpwstr>
  </property>
</Properties>
</file>