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CEF4-9EFB-4862-A31D-EEC0C2EFD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24C-5292-43BC-87A0-ED8D7C307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535-7364-41EA-A308-20EA9068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85F-E581-412F-AEDB-F9EAC254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364-0D2A-412B-B5E4-EE01CBA3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265-C66E-4055-8D70-84C4A892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66A-9EC3-4CAE-95DA-4E9F62E0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D75-78D6-47B4-AF15-47B118B2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9A7-F463-4A28-A406-85A665A0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A1D-99D7-4FFD-870A-1AA9741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25D-ECDB-4A4F-9410-0A37C86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CFE-3CB6-4D4C-9A74-69596F2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61E-DF5D-411C-918A-8D35A69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707-FF5F-44CF-9F69-3EC4C44E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8E2-3B80-4CBE-8FF5-172D6F29B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obesity/data/adult.html" TargetMode="External"/><Relationship Id="rId3" Type="http://schemas.openxmlformats.org/officeDocument/2006/relationships/hyperlink" Target="http://www.cdc.gov/obesity/data/ad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7.png"/>
          <p:cNvPicPr/>
          <p:nvPr/>
        </p:nvPicPr>
        <p:blipFill>
          <a:blip r:embed="rId1"/>
          <a:stretch/>
        </p:blipFill>
        <p:spPr>
          <a:xfrm>
            <a:off x="762120" y="4572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876240" y="5047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3720" y="606744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2009 State Obesity Rates, available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erweight and Obesity.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cdc.gov/obesity/data/adult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7:58Z</dcterms:created>
  <dc:creator>Jia Yao</dc:creator>
  <dc:description/>
  <dc:language>en-US</dc:language>
  <cp:lastModifiedBy>Jia Yao</cp:lastModifiedBy>
  <dcterms:modified xsi:type="dcterms:W3CDTF">2013-09-10T20:48:40Z</dcterms:modified>
  <cp:revision>1</cp:revision>
  <dc:subject/>
  <dc:title>PowerPoint Presentation</dc:title>
</cp:coreProperties>
</file>