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E8DD-BF61-4863-A837-73AE4CEC7B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5B | FEDERAL MEDICAID AND CHIP SPENDING PER POOR PERSON, SELECTED STATE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EE74-BA32-4BCF-8AB5-A543CB48A2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926E-1A0E-4666-AA6C-0E8AB0707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1546-FC49-4BBA-BE49-8BE2D15F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FDFB-D432-4977-BCA4-C4B498992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2160-89D9-4C67-8E96-D7D7BF45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4D83-DDD7-4277-9636-33440C9E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77B4-5893-4468-9C01-7E5024F9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7679-1AB5-42BB-BF85-4D8031B2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0D85-2990-4B01-84A3-B1168AD5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3B8D-10F0-4580-8104-46FF2F11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1253-715A-43F2-8B8D-CD7732AA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4282-B839-4638-8406-9319AB9A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85BB-B643-4EBA-8BAD-4690545E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5D57-D422-42B5-9D2D-AA2254268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5b | Federal Medicaid and CHIP spending per poor person varies widely by state, the amount does not decline as state income ri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237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2057400" y="58672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tates ranked by size of 2008 per capita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5b | Federal Medicaid and CHIP spending per poor person varies widely by state, the amount does not decline as state income rises</dc:description>
  <dc:language>en-US</dc:language>
  <cp:lastModifiedBy>Jia Yao</cp:lastModifiedBy>
  <dcterms:modified xsi:type="dcterms:W3CDTF">2013-09-06T13:59:41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5b | Federal Medicaid and CHIP spending per poor person varies widely by state, the amount does not decline as state income rises</vt:lpwstr>
  </property>
</Properties>
</file>