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5931-69A0-4EE9-8DC1-3354667C7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6 | TOTAL GENERAL GOVERNMENT EXPENDITURES AND PUBLIC EXPENDITURES ON HEALTH AS A PERCENT OF GDP FOR SELECTED INDUSTRIALIZED COUNTRIES, 199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A886-E3D7-4BF4-A4A6-415F3B1BE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9BA-8774-482C-B78C-F240E978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83A-8ECD-43FF-823E-68618596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0DA-8D0D-4687-97F1-71E0608B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393-FD3E-42D0-9E52-DA39F883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D94-FEDD-4E40-BDC4-CE0B9604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357-8E11-45D7-A2C5-66CC537C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F2E-D357-4F6A-A233-B28F82D3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489-EFCC-4976-BF63-58F2AFC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CB7-670B-4602-A7EF-C65EEB1B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7A8-91F5-471D-B779-0D1790C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5E3-30E5-4588-8D8F-E61910F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7EE-93B0-4A32-8BD7-608478E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D46E-C64E-4E10-ABA0-78A6DBCCC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6 | Lifetime Medicare benefits grew fastest for low income workers, yet even for high income workers, net lifetime benefits exceed $3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96800" y="1092240"/>
            <a:ext cx="833112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7560" y="5867280"/>
            <a:ext cx="80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teuerle CE and S Rennan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ocial Security and Medicare Taxes and Benefits Over a Lifetime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rban Institute. January 2011. http://www.taxpolicycenter.org/UploadedPDF/social-security-medicare-benefits-over-lifetime.pdf (accessed June 10, 201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7560" y="15048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 lifetime Medicare benefits (own benefits minus own taxes paid), 2004 dollars in thous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6 | Lifetime Medicare benefits grew fastest for low income workers, yet even for high income workers, net lifetime benefits exceed $30,000</dc:description>
  <dc:language>en-US</dc:language>
  <cp:lastModifiedBy>Jia Yao</cp:lastModifiedBy>
  <dcterms:modified xsi:type="dcterms:W3CDTF">2013-09-06T13:59:43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6 | Lifetime Medicare benefits grew fastest for low income workers, yet even for high income workers, net lifetime benefits exceed $30,000</vt:lpwstr>
  </property>
</Properties>
</file>