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20F-1FAC-4694-AAC7-4D8C98D1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A34-CE13-4E75-9C19-DD57269A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BAA-6C98-47D6-BAF8-9039E89A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EB5-F975-4E90-A55F-DB9A8B52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07F-D901-4486-9770-AB6BB02B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DBD-B6FA-4C66-A79B-7CD77DBC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26C-EB51-4B58-93D8-4A2A9658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4BD-52FB-4AA5-8DF2-C7C50468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474-81E9-4A79-AF76-84D0F031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EF6-D988-4243-9EE4-58B40C0E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8B6-401E-4B10-8417-936DD99E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1CB-F10F-41AC-94DC-5781B92B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E0F4-9B78-4ECE-8DED-D49571F23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8Z</dcterms:modified>
  <cp:revision>20</cp:revision>
  <dc:subject/>
  <dc:title>PowerPoint Presentation</dc:title>
</cp:coreProperties>
</file>