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918-554C-412A-B230-96A16A3F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27C-71EE-43DF-9F80-3C638607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841-9BC6-49A3-A2DB-5DEB30F0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D66C-2123-4FAA-A892-962E4B5B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34B-3623-4F1B-BE60-E2944635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8F9A-F455-4C4F-BDA3-B5997384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5DE-CD4A-4B91-9AF6-0495A41A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946C-5D90-46D1-BE11-32683B28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D92-DB18-4C5E-9027-DB33F7AE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C042-A244-4457-A9EA-FB3D93D6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3172-D73F-4FFB-AA51-312B97A3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4D4-A07A-44CF-939E-E5064D24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7DF9-E4C7-40B3-B3A9-2B7A32BE5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480" y="380880"/>
            <a:ext cx="9131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6Z</dcterms:modified>
  <cp:revision>39</cp:revision>
  <dc:subject/>
  <dc:title>PowerPoint Presentation</dc:title>
</cp:coreProperties>
</file>