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E73-22A0-4A71-BE92-B24BCEA7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72C-3EC9-4CC9-A662-ADB6584B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E9AC-B42B-4AA0-914C-E30E23F7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DCA-6C0A-4B27-A484-AC49E459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C9DF-18F9-4ABA-9E9C-18875845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FF15-9D77-457E-B16C-3D722663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237-DE6C-4A74-975C-C71D7AED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CC1-A173-41F9-BAFE-92EACD7E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0C2-D265-41DF-A3B3-1BF19B8A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FBC2-FFC9-44A2-BFD9-4D54B6B2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E9E-0AEA-4B7B-86E4-CC4A490D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D50-7BDA-4647-9B55-A439E94A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A0A2-DD60-40B7-B001-D5E0D3836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295280"/>
            <a:ext cx="8925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9Z</dcterms:modified>
  <cp:revision>39</cp:revision>
  <dc:subject/>
  <dc:title>PowerPoint Presentation</dc:title>
</cp:coreProperties>
</file>