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93AC-BE45-435E-95B0-93147DC1D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a | Annual Excess Cost  Growth in Per Capita Health Spending, 1975-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6A76-C6E2-4B6F-8211-C01980054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DD6-1DCE-48D5-8E5F-CB10AFC4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AE4-88A3-404C-A6A5-202D0E57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983-E719-4FC1-AF28-6C13A467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06A-F0F0-40B4-95FF-414A3F37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99C-36D8-4ECF-B6B1-6BB02B48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8F5-49BA-4E3D-BA77-E87F2634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B8E-DDAC-476F-B71D-BB77EB80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D04-87BF-43EA-B0A0-5FF76D1D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5BB-5138-41DF-8652-BFA8234D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BA7-CB77-4C30-A409-227EB711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AB1-AEA6-48CD-973B-BBE85064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D45-7FCD-4307-BFC7-D2123100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3B85-80D5-4E53-94BB-B622BBAD4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3a | Measured over long time periods, annualized growth in health costs  in excess of growth in GDP appears to be decli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3080" y="121932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excess cost  growth in per capita health spending, by starting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22360" y="4648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per capita health spending is adjusted for changes in age and gender. Also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 ending year after 2000 is 2007, not 2005. Thus, 5 year excess growth sta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year 2000 is for 2000-2007; 10 year excess growth starting in year 1995 is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5-2007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22360" y="5848200"/>
            <a:ext cx="861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Caldis, Todd G. The Long-Term Projection Assumptions for Medicare and Aggrega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tional Health Expenditures. Centers for Medicare and Medicaid Services, Office of th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uary, National Health Statistics Group, May 12,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a | Measured over long time periods, annualized growth in health costs  in excess of growth in GDP appears to be declining </dc:description>
  <dc:language>en-US</dc:language>
  <cp:lastModifiedBy>Jia Yao</cp:lastModifiedBy>
  <dcterms:modified xsi:type="dcterms:W3CDTF">2013-09-23T19:14:1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a | Measured over long time periods, annualized growth in health costs  in excess of growth in GDP appears to be declining </vt:lpwstr>
  </property>
</Properties>
</file>