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0433-328E-4183-86F1-C6611DCE2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4AE8-66A5-42D3-88EE-56E3407C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C4A5-B24A-4CEA-A6ED-0607534C3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3BB8-72C1-4F22-98AD-DA2612630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6E1B-9E8D-4DA6-A6AD-D6ED98E5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C892-D1DB-4F2D-AB4F-4019E622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FC56-30F1-46F1-B96B-E7D6AB8D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1B38-46F0-4173-AB88-2180BB5B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1E7A-696B-43CB-AAD4-46E0C74F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3666-24B7-46E3-ACAF-8057CBE6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43B5-1E70-4DE9-B2C0-6E4F2A64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5A6F-9C9C-4D1C-9C85-C69496B1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E12C-77CD-485A-B6FB-57A5B1FDCD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66600"/>
            <a:ext cx="914400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9Z</dcterms:modified>
  <cp:revision>10</cp:revision>
  <dc:subject/>
  <dc:title>PowerPoint Presentation</dc:title>
</cp:coreProperties>
</file>