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C0A-32C7-47D4-A1FF-CBBB27AB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E47F-C169-4B39-9BA8-D20F2F6A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34C7-E5E7-45E1-9FEF-40BE5C87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D5F2-3F32-4356-9FDC-80F2AC81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EBC-9292-477C-ADC3-3CD44682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2C9D-EDAF-4D45-8623-EE225E1B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55A9-3BA3-402F-9A7E-265E027D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7C54-0417-4099-B0EE-6D21D8A2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7F96-519A-425E-8164-6301AB41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2C0-06F2-4E79-98DC-D8962F87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8B85-5181-45A8-9F00-4B311014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7BC-AF48-44D5-954D-91E4B25A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C314-48E6-4E11-B1D5-779D723BC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60200" y="0"/>
            <a:ext cx="882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5Z</dcterms:modified>
  <cp:revision>37</cp:revision>
  <dc:subject/>
  <dc:title>PowerPoint Presentation</dc:title>
</cp:coreProperties>
</file>