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A090-48D6-4020-8612-6AA794C0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09BF-0331-4DFF-9460-246BB556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D3F4-1ECD-44E8-AF7F-2CBF203D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5D3F-7E11-4F02-A82E-9397607F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5181-7E05-4696-90BD-58171465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C778-0B6B-43DE-BBC0-E995EA10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C9F8-6759-4C2A-8EA5-20F43EA4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C47E-DEC3-4812-8A00-E37F581D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F2EA-D5AE-4147-A08F-DE965268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22C6-A7A2-4EFC-B02D-C652166A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8889-D300-48C9-A2B3-AA56AAC5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CEFB-D7A2-4BF0-9834-9FBD0EE9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FBC2-582C-4A08-95C6-6866F42AA5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9320" y="117360"/>
            <a:ext cx="9094680" cy="65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2Z</dcterms:modified>
  <cp:revision>37</cp:revision>
  <dc:subject/>
  <dc:title>PowerPoint Presentation</dc:title>
</cp:coreProperties>
</file>