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A42-559B-4702-8033-B521C353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46F0-D121-4BA1-A745-5860EB87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B415-76E2-4865-908F-2085ECFA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0E4D-95A3-4EF0-B2C9-1A3A24AD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9096-449C-4EB3-914D-0E2A0DE0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33B-19FA-47E0-A5B1-C0AE0A45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FD1-8CEE-4414-AA97-2EC3610F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071-F88B-45E2-9377-27E526FE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C38-1F9E-4D8C-80E4-B3795307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9DA-236D-4877-A9BE-B3C2A1F2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EC3-F4A5-4C76-91C8-0D87EF7C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068C-C475-4C26-BD88-801AC324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24DC-6F44-4985-8712-7BDFA096F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7920"/>
            <a:ext cx="91328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37:21Z</dcterms:modified>
  <cp:revision>4</cp:revision>
  <dc:subject/>
  <dc:title>PowerPoint Presentation</dc:title>
</cp:coreProperties>
</file>