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6DC7-92A3-4A56-926D-E6B149C2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7C32-4831-4961-ABDE-D40DAED3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4D8A-180E-4B34-A8AF-1FA028F38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7A49-F9AF-44E4-A7A7-6A4C3F99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CA01-EE2B-4DA7-9003-8B02F961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5D9C-8F83-4397-83E9-DBD3B51A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8340-AC8B-4530-8E1A-0B95B4A5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8EA6-3360-42BC-AE5D-26D9F141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BFFC-620D-4ECA-AC00-EEA0854F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2600-A69F-4343-B67B-23B1A75A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7751-5A5F-4D19-A377-A43EBFFF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65BD-2A91-47DE-A427-2B54C863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132E-BB03-4CB9-97B8-307406336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41360"/>
            <a:ext cx="906768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8Z</dcterms:modified>
  <cp:revision>31</cp:revision>
  <dc:subject/>
  <dc:title>PowerPoint Presentation</dc:title>
</cp:coreProperties>
</file>