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2AE6-E1BD-48DD-92C4-73CF5492B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B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CB9B-33F6-409B-BB7E-D9C34CB45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8FB-0500-4345-9480-27B76805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EB7-EC1E-4C54-BA9E-CBCEE63F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458-98C8-422D-A72F-D6D420D1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E56-860B-42FB-B9CF-B3FF8DFB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861-2130-4753-9413-65887A4F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543-2E3A-465A-A3B6-EB8E856E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A20-6AD3-4DC5-AF5D-AC827E3F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246-9A8D-44A3-B9F4-A90F8888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F79-67D7-46D8-AEBC-029EE7B4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B6C-2A1E-4A73-9D7B-BFCD2813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90C-6A46-4B0E-B342-977A600B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01C-196D-4B1F-AA1D-12CC160F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4749-D478-4BE8-BA50-6A5121D75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440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b | Gross operating surpluses—a very crude measure of profitability—are higher in ambulatory care than in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ss operating surplus (GOS)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410080"/>
            <a:ext cx="83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gross operating surplus (GOS) is the share of industry national income remaining after deducting compensation of employees and indirect business taxes (e.g., privilege licenses).  GOS is somewhat larger than pre-tax corporate profits since it includes net interest payments and adjustments for capital consumption and inventory valu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b | Gross operating surpluses—a very crude measure of profitability—are higher in ambulatory care than in health facilities</dc:description>
  <dc:language>en-US</dc:language>
  <cp:lastModifiedBy>Jia Yao</cp:lastModifiedBy>
  <dcterms:modified xsi:type="dcterms:W3CDTF">2013-09-06T14:17:0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b | Gross operating surpluses—a very crude measure of profitability—are higher in ambulatory care than in health facilities</vt:lpwstr>
  </property>
</Properties>
</file>