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A825-7A7F-4FFC-8215-A5B619BA2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621F-B7BC-4C07-8EC5-94D51181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5CDC-A4BA-4481-A383-3B0466CE4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6155-17E3-4767-85DD-A56C71932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B93F-8D03-4E18-B583-1D8AB39D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9F81-F287-4FBE-997E-42BC8A72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0D48-B00B-4B15-BAD2-B699FFA8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F682-127B-48B7-9E57-11F92B03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AE0F-E9BE-45D2-AD6D-6DDE66E0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F153-6600-4F24-ABFD-DDDEB80F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6734-353C-4141-977F-45E9BD5F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0759-38D8-42F2-B590-89C12E15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6A50-A1AE-4C38-81D5-3DCA935FE2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5Z</dcterms:modified>
  <cp:revision>39</cp:revision>
  <dc:subject/>
  <dc:title>PowerPoint Presentation</dc:title>
</cp:coreProperties>
</file>