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2C9-4EDE-4C00-AC44-62BD783B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6CE-EA9D-4F68-9E33-20DBF26F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1B3-1F76-4A42-8EA7-836CC158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EF3-F503-42B7-830F-7FEA9859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B07-A0C3-47B3-96A9-3A2A8AED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E3A-694F-438A-BDD3-8B0793C7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DA8-C492-4B04-A751-FE85B27C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158-4F30-4C03-8953-F027E752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5B5-CEB5-41B6-986F-2F2A586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698-0A04-4924-8948-388B9D68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067-23DC-4B4B-B63F-800092B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0C6-E16B-4630-AC73-C2F4574B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C948-0C48-457E-8786-4DBDCD8BB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1000" y="457200"/>
            <a:ext cx="898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0Z</dcterms:modified>
  <cp:revision>39</cp:revision>
  <dc:subject/>
  <dc:title>PowerPoint Presentation</dc:title>
</cp:coreProperties>
</file>