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7C81-16E8-4EAE-9E4A-5FFB6096A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40DF-799C-4BA3-AB8C-6C612F2AE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118-CCE7-4756-B763-3DBEAE0D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DB0-A8B4-4C18-BC06-13DEB0E7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727-3CBB-46E0-A71E-4FF33D24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EE1-9825-415C-B6FD-C55D633E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28E-9E1D-47AB-9E38-B6DADDB0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CC9-BE83-4364-966F-2AF8081E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306-EE25-4D53-9C97-95F4F35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121-8653-41B5-B2C4-AFC4537D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10D-0304-4B0D-993C-73BF5864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5D9-7989-4DDD-BB38-4CDD1F2E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650-E099-4908-9331-76726529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9A8-3F2F-4BFF-BA68-35DBF47B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70D4-760B-4F4B-A260-6D1A63CBD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3b | As a producing industry, the value added by health services has grown more rapidly than for goods or non-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lue added as percentage of private industry output (based on current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b | As a producing industry, the value added by health services has grown more rapidly than for goods or non-health services</dc:description>
  <dc:language>en-US</dc:language>
  <cp:lastModifiedBy>Jia Yao</cp:lastModifiedBy>
  <dcterms:modified xsi:type="dcterms:W3CDTF">2013-09-06T14:09:54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b | As a producing industry, the value added by health services has grown more rapidly than for goods or non-health services</vt:lpwstr>
  </property>
</Properties>
</file>