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C370-DA2E-4798-B230-60C5AC16E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B | MEDICAL MALPRACTICE PAYMENTS RELATIVE TO TOTAL NHE AND EXPENDITURES ON PHYSICIAN SERV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FA88-CC1D-4F5E-A3F8-9C9E648DE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3AA-A38B-4C2E-A382-573434A6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1E7-27CE-4DB4-9BC9-F8FC9724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770-B056-4D24-9DC7-12C4DDD7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8C8-9042-43BD-8622-FFCF1789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F60-7639-4B89-B330-37A8FE03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FBB-6F91-4CB5-BD00-5D23023A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DF0-BF18-454C-A141-8D3945ED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306-448C-44D9-8DDD-67B67091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9E9-6CC3-41FC-8719-7D4AEE0E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656-7C6B-4D7E-B117-D0414D8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D76-3E37-4BFB-86A5-36A2676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648-E1C7-471E-B751-9FFA40D4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E8E5-E9C5-4226-983A-A76841561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b | Medical liability payments as a share of total or physician spending peaked in the 1970’s and have declined through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l Malpractice Payments per $100 of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b | Medical liability payments as a share of total or physician spending peaked in the 1970’s and have declined through 2009</dc:description>
  <dc:language>en-US</dc:language>
  <cp:lastModifiedBy>Jia Yao</cp:lastModifiedBy>
  <dcterms:modified xsi:type="dcterms:W3CDTF">2013-09-06T15:41:0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b | Medical liability payments as a share of total or physician spending peaked in the 1970’s and have declined through 2009</vt:lpwstr>
  </property>
</Properties>
</file>