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DFB-4897-4CC5-B2B3-AC5BAD44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548-7BD0-4C66-9292-6FE4E445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932-FDA5-49C3-BA9A-8E72CB7F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24E-9D46-4FB1-BA47-D3A32690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882-9275-4D06-B7C3-0AAE0C11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734-0471-447A-8F3A-E5627B8C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4088-C855-4001-B882-E6BB62D3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6A7C-5714-467D-A1E7-1945F452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CF64-8994-4DC6-9990-2D8D368A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EA8-10D4-42C8-AFC1-BA1F5B5D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67B-CD40-4F1A-8306-E2668483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D35-BF82-4905-86B5-17E9C6B1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9234-E2CB-4408-8E56-64B65C649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57320"/>
            <a:ext cx="91249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3Z</dcterms:modified>
  <cp:revision>31</cp:revision>
  <dc:subject/>
  <dc:title>PowerPoint Presentation</dc:title>
</cp:coreProperties>
</file>