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21CF-E02D-4619-B657-73C149CB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A0FE-EEC4-45D3-95D7-BA256EEA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89BF-D77A-4918-B6B7-3E062F04E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3FE4-E2FC-46FD-AF80-B5E46E19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754E-D533-4298-A020-FC1A9AD5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E9CF-8663-446A-A04A-65C6C006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85E8-C4C8-4647-9877-896E3D17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C99E-0642-4340-8DB9-DA331E4D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D6B4-C30B-4AD2-8786-62F85EFD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C78A-3CFF-4458-AEFF-1161EB28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892D-9E6A-485F-94E8-63E33985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494F-6EB7-4F85-A5CA-E9E15295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B55D-B176-4559-BE4D-8CBA7C2D55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6668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31Z</dcterms:modified>
  <cp:revision>37</cp:revision>
  <dc:subject/>
  <dc:title>PowerPoint Presentation</dc:title>
</cp:coreProperties>
</file>