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5F40-59AB-48CC-900B-4C31A176F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1 | NET PRESENT VALUE OF LIFETIME EARNINGS AND STOCK OF HEALTH FOR AMERICAN NEWBORNS, BY SEX AND RACE/ETHNICITY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8F13-B8E0-4B28-B60C-442294E0E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EA7-B972-4A51-AB42-B75752CC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D3F-E11E-465A-A380-DF4956ED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954-4D92-4FD8-AE4D-F9272CA2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C9D-D8D0-4F83-B90D-82D64DF6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9F7F-F821-464A-BC20-9A24C297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262-DD5A-434F-9D9A-A2C62C70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193-23C2-4ED3-B534-26C8D819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968-886C-4F16-9D0D-A6BA27F5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FE5-08EB-4462-A450-CEBD4EAB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AFC-DEE0-45ED-834C-F523BECB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CA0-3A5E-45C9-AC80-27DACF8D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EC3-BEC6-476F-A9BD-D4A539E5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2ABC-F37A-4C09-92E5-3BA90A3BF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1 | The average American’s stock of health is several multiples of their lifetime ear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using 3 percent discount rate (millions of 2005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1 | The average American’s stock of health is several multiples of their lifetime earnings</dc:description>
  <dc:language>en-US</dc:language>
  <cp:lastModifiedBy>Jia Yao</cp:lastModifiedBy>
  <dcterms:modified xsi:type="dcterms:W3CDTF">2013-09-06T15:31:18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1 | The average American’s stock of health is several multiples of their lifetime earnings</vt:lpwstr>
  </property>
</Properties>
</file>