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C961-82AC-4F4E-971E-FDE1457E3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48E3-2F35-4F3C-AAF1-3B28BB4AE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3C2-2D48-463A-BE70-A0A4D1AC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FD3-90A4-4315-9BBE-0DA7C94C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B0E-B196-4E18-B8B3-2BDC047A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C45-1B71-4CF9-B636-2C50CC1B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EE5-37DB-4B0A-AEF1-6FAE4D1A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1F2-FA0E-4A8C-93C2-2670C35C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26A-425B-44AA-ABED-D87A188B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B99-AE2F-40C5-87F8-D6B5FC78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39F-3EFB-4481-B183-EAD93CB9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A85-056E-48CB-A5CA-6B1743B8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10F-FFF2-46DC-96DD-FE92F4A8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CAA-F898-453C-A3EF-9C06E325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7246-54AC-4F78-9CD2-637B57DC7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6b.png"/>
          <p:cNvPicPr/>
          <p:nvPr/>
        </p:nvPicPr>
        <p:blipFill>
          <a:blip r:embed="rId1"/>
          <a:stretch/>
        </p:blipFill>
        <p:spPr>
          <a:xfrm>
            <a:off x="1447920" y="380880"/>
            <a:ext cx="6819840" cy="51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19280" y="43344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c | Percent of adults age 15 and older who are daily smokers, United States,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77360" y="5495760"/>
            <a:ext cx="861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-Specific Prevalence of Cigarette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Smokeless Tobacco Use Among Adults --- United States, 2009.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rtality and Morbid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eekly Repo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ovember 5, 2010 / 59(43);1400-140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dc.gov/mmwr/preview/mmwrhtml/mm5943a2.ht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8:54Z</dcterms:created>
  <dc:creator>Jia Yao</dc:creator>
  <dc:description/>
  <dc:language>en-US</dc:language>
  <cp:lastModifiedBy>Jia Yao</cp:lastModifiedBy>
  <dcterms:modified xsi:type="dcterms:W3CDTF">2013-09-10T20:49:20Z</dcterms:modified>
  <cp:revision>1</cp:revision>
  <dc:subject/>
  <dc:title>PowerPoint Presentation</dc:title>
</cp:coreProperties>
</file>