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E449-5BF9-4067-9ADC-4A7FAEB4B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B276-39A7-48C1-A21E-9610E2FD1A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6 | DISTRIBUTION OF U.S. PHCE RELATED TO 15 BEHAVIOR, LIFESTYLE OR OTHER AVOIDABLE CAUSE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3CD-8977-42F8-962D-712A2CF5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1B1-4EDB-4A19-A227-C86CD7E3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690-DAC5-413A-BE52-49E48EDB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BF2-B0E5-47EB-B30E-6837C81C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9CAC-EC56-4C5C-B0F3-3018A21B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4652-2080-479F-8DED-BFC1FF87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AFCC-EAE2-4BE9-8C02-29991025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2365-E5EB-4195-9A8A-6CF9CB5E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F226-1C4F-477E-B950-B630060C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AECC-8EE5-49F8-8D91-D8C2D6DE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2A32-2ADF-4A23-9F3A-25E7C7F5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202-F4EA-4EB6-9D9D-CAABABE5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88BE-4067-4F88-8266-76DCA440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ABD0-FC38-4E96-AAFD-67C8A8D1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BA22-2C11-4DE1-AA39-D060E486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862A-FF48-4923-8A80-72881692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F15D-A1B1-4C3C-92EC-99A2B773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EB0-06E0-49A1-AE85-B63DBBF0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00B-2539-4E59-A2E2-4653CCA0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2A6-D01C-485D-BC58-9A805256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68F-42D4-4827-B943-EA40443F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C9D-EA00-4A44-ADE5-DADD22A1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9E5-FFFE-4A2B-B814-46D98F81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A25-239C-4F76-916E-A850037A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77A1-6642-4DCB-8CF0-8576A0EF9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91A5-DA66-4AF3-B5CE-1AEB4F586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Figure 2.6 | Probably half or more of health spending is related to behavior, lifestyle or other avoidable caus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660240" y="787320"/>
            <a:ext cx="98074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Figure 2.6 | Probably half or more of health spending is related to behavior, lifestyle or other avoidable causes</dc:description>
  <dc:language>en-US</dc:language>
  <cp:lastModifiedBy>Jia Yao</cp:lastModifiedBy>
  <cp:lastPrinted>2002-05-16T21:44:34Z</cp:lastPrinted>
  <dcterms:modified xsi:type="dcterms:W3CDTF">2013-09-04T18:13:29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Figure 2.6 | Probably half or more of health spending is related to behavior, lifestyle or other avoidable causes</vt:lpwstr>
  </property>
</Properties>
</file>