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96EC-5A34-4B76-96F7-6318BB63B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26F6-C611-45C8-BA4E-77971719D7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b | AVERAGE EXPENDITURES FOR TREATMENT OF ACUTE CONDITIONS, BY CHRONIC CONDITION STATUS AND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FB5-6B9A-4581-85CE-9BBFBE33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2A6-7B62-4BAC-B72A-2E664AE0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BAA-F279-4B26-88B7-39580BCD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17F-2CCE-4778-A343-2CC3B8BC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79DC-52C4-410C-AD98-E97BE37A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1D75-90B6-4970-B194-95342330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5CD7-E190-4937-AAB5-7F548B4A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B28A-1F46-4AA8-B450-91C6393B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9309-FC9C-4EC6-88F3-1079F310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4229-AA02-43B0-9B96-0E05FA6E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2D3B-4C1E-4F90-83C8-3E538CC2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46D-2AC6-4D20-9425-A068B230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0189-D863-4900-BB9F-B96F4C92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8722-E45E-43F7-9F66-AE6AF472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B926-B8D6-4C7B-9153-C1A2AE1D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4C9E-038C-469F-A856-AF86BBDD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22DD-E2C9-496E-BD73-3ED7633B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704-AFE0-4FC0-A63A-1E63094A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F72-DE0E-4777-87BB-A03812AA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B81-0206-42C3-9863-A0E3DD33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DE2-3E41-42B4-BF70-746CC0D9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801-E46F-449B-86DC-3F3B2B03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0B7-8F2C-452D-B6E1-EA82587B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6D7-BB95-47FD-B56B-7326C3D3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6B53-5951-4746-9395-18B614A60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C4D4-3C9E-413E-B460-AD479CED7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b | Compared to those without chronic illness, annual health costs are 2 to 3 times as high for adults with one or more chronic condition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304920" y="5810400"/>
            <a:ext cx="293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: Machlin S, JW Cohen and K Beauregard. Health Care Expenses for Adults with Chronic Conditions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5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tatistical Brief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#203. May 2008. Agency for Healthcare Research and Quality. Rockville MD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eps.ahrq.gov/mepsweb/data_files/publications/st203.pdf (accessed November 14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b | Compared to those without chronic illness, annual health costs are 2 to 3 times as high for adults with one or more chronic conditions</dc:description>
  <dc:language>en-US</dc:language>
  <cp:lastModifiedBy>Jia Yao</cp:lastModifiedBy>
  <cp:lastPrinted>2002-05-16T21:44:34Z</cp:lastPrinted>
  <dcterms:modified xsi:type="dcterms:W3CDTF">2013-09-04T18:13:27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b | Compared to those without chronic illness, annual health costs are 2 to 3 times as high for adults with one or more chronic conditions</vt:lpwstr>
  </property>
</Properties>
</file>