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DE4F-3640-43AC-833B-BB09F05EE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2A16-06A1-41F0-A3AA-AFD92F88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A50B-753E-41DF-AAC7-AD96DFBEA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75A3-7C25-4415-B470-49A64274D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F800-2579-4BA5-91B2-0A3F6CA7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C46D-2739-4B3A-AE91-9269602D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70C0-6B60-4A13-82A1-498AB329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AEF5-1080-45CD-8DC6-8B3E43E0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EE11-D89D-4787-B64C-ED283344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E35E-B667-44F4-AA56-7A5BD82C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96B1-63A3-4659-A3D6-7A955C0D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2256-72E0-458B-830C-CD8A7757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0143-7B63-45FB-8E48-D7BBF690ED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25280" y="1295280"/>
            <a:ext cx="8893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51Z</dcterms:modified>
  <cp:revision>26</cp:revision>
  <dc:subject/>
  <dc:title>PowerPoint Presentation</dc:title>
</cp:coreProperties>
</file>