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16FE-EEC0-4FA5-B513-E85664556F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3B | PERCENTAGE OF METROPOLITAN STATISTICAL AREAS WITH CONCENTRATED OR HIGHLY CONCENTRATED HEALTH SECTOR MARKETS, BY TYPE OF MARKET, 1994-1999, 2000-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F326-BE4D-4651-B67F-8A524147D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964E-75AA-43B7-868F-F4D3ECB1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E6EA-DDAF-4889-8456-D7FAAF9F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D46B-E5E9-4A73-970E-27A24238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6625-A308-42E5-A3E6-00348C15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A1BE-EAD1-400D-80E5-DBA9DDC3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EE33-52FA-41B5-AC52-3069407C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E41C-2CCA-40BA-9E3F-0045BE89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DB2E-BD7D-4EB3-B916-94B6CF62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A3A0-1900-4D9B-B3D5-A4872B97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C20E-4769-443D-8F5D-9D4B1718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910C-5BE7-4D75-AAA4-E06ADD15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8467-4971-4251-B0FD-F52198CF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4D62-5250-49EC-9828-6B4F57E4B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2b | It appears that concentration is rising in both the hospital industry and HMO indus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71200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457200" y="1523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Metropolitan Statistical Areas with concentrated or highly concentrated marke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17600" y="579132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Shen YC, VY Wu and G Melnick. Trends in Hospital Cost and Revenue, 1994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5: How Are They Related to HMO Penetration, Concentration, and For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 Ownership? Health Services Research 2010; 45(1):42–6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7200" y="45720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at the time of this analysis, the threshold for “highly concentrated” was a Herfindahl-Hirschman Index score of 1,800 or above; “concentrated” is defined as an HHI of 1,000-1,800. Since August, 2010, the FTC has the first threshold at a score of 2,500 or above and the second at 1,500-2,50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2b | It appears that concentration is rising in both the hospital industry and HMO industry</dc:description>
  <dc:language>en-US</dc:language>
  <cp:lastModifiedBy>Jia Yao</cp:lastModifiedBy>
  <dcterms:modified xsi:type="dcterms:W3CDTF">2013-09-06T15:22:54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2b | It appears that concentration is rising in both the hospital industry and HMO industry</vt:lpwstr>
  </property>
</Properties>
</file>