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6D5F-6CCD-4E84-9D93-EDB641E49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5453-B906-4E82-BF0E-8FD382D36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834-7BFF-4F8C-BDA1-3B182761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BBC-2085-4369-ADF2-D6533DBD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478-CD30-4D1E-9A1F-11F081D1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9EE-DF8B-4FE0-82EA-BB8A322C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4C1-9840-4243-A317-8C2D37EB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289-60CF-403F-9DD5-F0751F81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5EF-6374-4A46-B629-F5BC1E3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10F-CB55-4DD7-8C72-8E1DCA5B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854-0F75-4A0F-A025-531C7881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EA8-FBB8-4360-90DD-D9EDE2D4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3E5-23DC-4C2F-A93E-9F1927A9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58F-57CC-45E6-98FB-36143B5A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51B-5CB3-493B-8F13-AB9264EEA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7b | Typical Medicare premiums and cost-sharing will consume virtually all of the average Social Security check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6225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thly premiums and cost sharing as percentage of average monthly Social Security bene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6400" y="6221520"/>
            <a:ext cx="42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MI=supplemental medical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b | Typical Medicare premiums and cost-sharing will consume virtually all of the average Social Security check by 2085</dc:description>
  <dc:language>en-US</dc:language>
  <cp:lastModifiedBy>Jia Yao</cp:lastModifiedBy>
  <dcterms:modified xsi:type="dcterms:W3CDTF">2013-09-23T19:14:3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b | Typical Medicare premiums and cost-sharing will consume virtually all of the average Social Security check by 2085</vt:lpwstr>
  </property>
</Properties>
</file>