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2BA3-0C09-44CB-BE8F-8B53BFB484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5C | COMPARATIVE INDICATORS OF MEASLES, DPT AND FLU VACCINATION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54E9-38F3-482A-BF4F-CDDD28A599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9820-677D-4985-AE32-BFE2A4C3B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F153-A1C2-4D99-8805-FD9DEA95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174E-B6B3-4188-B47A-C936D3A6A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F6F1-FD9C-466E-B2DC-B022F557A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6084-D7D1-4930-9B45-9ECC98D5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343E-4F52-4F98-80F4-CFF4825C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653B-2CFF-43DB-BB7A-6063BB28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54C2-0E4D-444C-A9C1-EC26F34D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57A6-B351-4293-BFAA-B7CB7B0C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0A42-E165-465F-9E3B-41EB3366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4FB2-F5D5-47D3-80E3-92488A3B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B553-BC89-47A7-98B6-77084BEB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ED17-ED8D-49C5-A324-C802F9A741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5c | Immunization rates in the U.S. are generally comparable with those in other G7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97160"/>
            <a:ext cx="8331120" cy="4881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612720" y="13716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indexes: 100=U.S. rate of use (20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5c | Immunization rates in the U.S. are generally comparable with those in other G7 nations</dc:description>
  <dc:language>en-US</dc:language>
  <cp:lastModifiedBy>Jia Yao</cp:lastModifiedBy>
  <dcterms:modified xsi:type="dcterms:W3CDTF">2013-09-06T15:40:55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5c | Immunization rates in the U.S. are generally comparable with those in other G7 nations</vt:lpwstr>
  </property>
</Properties>
</file>