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70FD-72E3-40F8-BFA3-2009EB12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39BA-984C-4C20-AB84-70D1E716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5E9-8BD8-44D2-A886-CE08B783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C5A6-F773-47DC-91FD-FE3F6DA8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5FB2-8AE4-442A-A44A-CD94AD39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62C5-3668-4039-8DBE-23DA8C69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4867-2DA5-484C-8F5E-296CE7F5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4318-F912-4702-96FE-21B362AD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93BF-05E9-47FA-AB02-5322F627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0A23-7737-4DF9-9EE0-923A755A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2BED-AF77-4C3F-B0F5-993D57D6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0447-9640-4EE2-A97A-D181C36B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2EE1-01E8-4AD5-B6BA-EF27063DC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30320"/>
            <a:ext cx="9144000" cy="65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8Z</dcterms:modified>
  <cp:revision>10</cp:revision>
  <dc:subject/>
  <dc:title>PowerPoint Presentation</dc:title>
</cp:coreProperties>
</file>