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C1D51-FF46-4818-9BD9-587E557E48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3.5A | PRIVATE HEALTH INSURANCE COVERAGE OF NON-ELDERLY ADULTS AGE 18-64, BY FAMILY POVERTY STATUS, 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0CA5C-BA03-4B36-983F-15884F20F2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B5AD-D8C6-476F-A276-71019D326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333A-68C9-4486-8969-A5B5C828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0599-BEF6-4C72-96D2-BB98203F2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4D0B-E1A0-4048-ABDB-E5110637B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B5C5-8CA3-48FD-A262-439D50B5D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EF6D-4488-4C9A-BF23-033A1B943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83BD-E37B-4BDF-9B0C-9D9F22671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CCED-6E74-4597-BD46-202820C6D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CC45-408C-487A-A83B-2F6D4B5D0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FFC9-0CE7-4282-B2DF-A00F9E2E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89DC-F997-499E-BF7C-A5E152DD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621D-60E8-4665-9C60-52E364C8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2466E-C9CE-488E-B533-C1EC4E1D5B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3.5a | Poor adults under the age of 65 are more than three times as likely to be uninsured all year than to have employer health cover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473120"/>
            <a:ext cx="8407440" cy="52070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29528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individuals who have coverage (200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14:26:56Z</dcterms:created>
  <dc:creator>Kristy</dc:creator>
  <dc:description>13.5a | Poor adults under the age of 65 are more than three times as likely to be uninsured all year than to have employer health coverage</dc:description>
  <dc:language>en-US</dc:language>
  <cp:lastModifiedBy>Jia Yao</cp:lastModifiedBy>
  <dcterms:modified xsi:type="dcterms:W3CDTF">2013-09-06T15:17:03Z</dcterms:modified>
  <cp:revision>1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3.5a | Poor adults under the age of 65 are more than three times as likely to be uninsured all year than to have employer health coverage</vt:lpwstr>
  </property>
</Properties>
</file>