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D56-142A-409B-ACD9-8762FDCF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6E37-4083-4D81-9170-3FE1ABA0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1681-1BF2-43EF-906A-17FFB104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72FB-B15D-457E-9CE9-5C6596E7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E8E-DA1E-4A03-9159-F68020C2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6276-EDEA-40C5-9330-A8219116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852-47C5-49FE-96D1-8BC7B60D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005-B50D-45E3-B554-2521ABC2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CAB-40A8-4A24-B131-D2CB92E2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882-EE51-4C01-BE53-53CD0310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E9C-962A-4A9D-AC39-C288A9FE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201-CA32-4489-98C9-8D5E570C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6811-9B5A-411C-8C22-6971DF981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7000"/>
            <a:ext cx="887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3Z</dcterms:modified>
  <cp:revision>31</cp:revision>
  <dc:subject/>
  <dc:title>PowerPoint Presentation</dc:title>
</cp:coreProperties>
</file>