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5FD5-70CC-4FBB-887C-312406D2A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B | CAT SCANNERS PER MILLION, MRI UNITS PER MILLION, PTCA PER 100,000 AND CABGS PER 100,000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1359-D17C-487A-A2E0-ACBE9F6D2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96A-6A8B-467C-BB6F-5F1B450B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85A-1BB9-43FA-A47C-FD26A77E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4F5-C23F-4FF3-83FE-81B44671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4BF-9542-4847-8700-7B7AD247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120-816A-4FBF-816B-C94FFD39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31F-1B78-4650-8AF7-6FA9A7ED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442-684F-4A03-B427-195C3511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FF6-3834-4783-A16B-7BE6D486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58E-B153-4D5D-B502-3813C350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CAD-F051-47BA-B9D8-46B60E66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0CE-E6FC-428B-8CE5-207FC24C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D79-D50C-49FB-A438-FE3E532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1069-E1E9-4080-8C77-0D4365DA8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b | With the exception of Japan and Germany, U.S. use of technology generally is much higher than among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b | With the exception of Japan and Germany, U.S. use of technology generally is much higher than among other G7 nations</dc:description>
  <dc:language>en-US</dc:language>
  <cp:lastModifiedBy>Jia Yao</cp:lastModifiedBy>
  <dcterms:modified xsi:type="dcterms:W3CDTF">2013-09-06T15:40:5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b | With the exception of Japan and Germany, U.S. use of technology generally is much higher than among other G7 nations</vt:lpwstr>
  </property>
</Properties>
</file>