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D5B7-1715-4B12-9429-32427034D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9C5D-D9FC-49C4-BCE8-1222D5AC88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a | NATIONAL HEALTH EXPENDITURES BY TYPE OF EXPENDITU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Centers for Medicare and Medicaid Services, Office of the Actuary. National Health Expenditure (NHE) Amounts by Type of Expenditure and Source of Funds: Calendar Years 1965-2019 in PROJECTIONS format. Last updated January 29, 2010. Available at: http://www.cms.hhs.gov/NationalHealthExpendData/downloads/nhe65-18.zip (accessed February 3, 2010).  See Center for Health Policy. Table  2.1. U.S. National Health Expenditures by Type of Expenditure: 1929 to 2019. Durham: Duke University, March 14, 20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BB9-AD7C-48D7-A6FE-37D516E8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08EF-E172-4F9A-B092-DF4E38A8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6CB-4A7D-44DC-A25C-922B7FF7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04C-0B99-4556-8546-B29B8C15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A504-8863-4A40-83BA-5C22F708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5D05-876A-41CC-AC02-1DB67B69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1F32-5CB5-4EF6-9528-A3C6FFEA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19B6-E327-4B11-B18E-D6244931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E98E-C442-411A-B943-6895796D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08E0-8F64-414F-913D-8FD8396B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3137-2170-43E3-999D-C570CA85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663-FA9D-45DF-8CC9-2948AC1C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7314-008B-4307-8B3E-C8B7F60D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FD11-78E3-4048-BC28-1A056B0F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46F6-1697-46D4-AF30-6AF33353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A905-3D42-4A4C-8571-51794EF1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FA35-6AE4-409E-942D-B4E56D86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EB7-DF83-444C-8D0B-AEDA876F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393-0969-44F1-AA08-C79A0A84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3E0-BE06-4608-B4EF-02C50ED6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DB7-828A-4102-828B-08B878C5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21D-2890-4120-B1E0-EF8EE34F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C25-8DF0-495A-BA3F-4852D1B9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FC7-CC2F-4C3D-B078-ABA8CF89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7E64-ECF0-4D4F-B8F9-98338642A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A8E4-CA19-4BF8-A0E1-D64C744140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a | Five-sixths of national health expenditures (NHE) is devoted to personal health care expenditures (PHC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cxnSp>
        <p:nvCxnSpPr>
          <p:cNvPr id="92" name="Straight Arrow Connector 5"/>
          <p:cNvCxnSpPr/>
          <p:nvPr/>
        </p:nvCxnSpPr>
        <p:spPr>
          <a:xfrm flipV="1">
            <a:off x="4572000" y="3428640"/>
            <a:ext cx="457920" cy="991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a | Five-sixths of national health expenditures (NHE) is devoted to personal health care expenditures (PHCE) </dc:description>
  <dc:language>en-US</dc:language>
  <cp:lastModifiedBy>Jia Yao</cp:lastModifiedBy>
  <cp:lastPrinted>2002-05-16T21:44:34Z</cp:lastPrinted>
  <dcterms:modified xsi:type="dcterms:W3CDTF">2013-09-04T18:13:10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a | Five-sixths of national health expenditures (NHE) is devoted to personal health care expenditures (PHCE) </vt:lpwstr>
  </property>
</Properties>
</file>