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D768C-BBF9-4BCB-A013-8DD2222E9B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9.3B | MEAN INCOMES OF WORKERS 18 AND OLDER WHO WORK FULL-TIME YEAR-ROUND IN HEALTH INDUSTRY, BY EDUCATIONAL ATTAINMENT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2AEA7-0E4D-438F-9684-71A7B80E50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DDE6-50D6-495F-9582-C3F4B6273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8615-56D5-4649-8A3B-617B8C05F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CCFA-5414-4287-839B-4CD3D7541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0A3E-D935-4EFB-90BE-3303A3A15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E656-BA08-44A2-82D8-7F095A5C5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D531-310B-4B56-BDFA-F69AF04F2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1353-7B15-45E7-9A97-90A574BD7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5564-8C0F-4AFD-B815-9FA629AC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766A-0522-44B9-A6C8-D6588D878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F551-376B-4FA7-96F1-226F75CE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9858-6E00-4A5D-9DCF-B16BE138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AF54-6988-48DC-9B77-18DD52C8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8B537-AFE9-4319-ADCA-4A548CCFEF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9.3b | Average earnings for full-time, year-round workers in the health industry generally increase greatly with edu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6" descr=""/>
          <p:cNvPicPr/>
          <p:nvPr/>
        </p:nvPicPr>
        <p:blipFill>
          <a:blip r:embed="rId1"/>
          <a:stretch/>
        </p:blipFill>
        <p:spPr>
          <a:xfrm>
            <a:off x="177840" y="1168560"/>
            <a:ext cx="8788320" cy="574020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533520" y="990720"/>
            <a:ext cx="190476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dex : Average earnings for full-time year-round male workers with high school diploma = 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3b | Average earnings for full-time, year-round workers in the health industry generally increase greatly with education</dc:description>
  <dc:language>en-US</dc:language>
  <cp:lastModifiedBy>Jia Yao</cp:lastModifiedBy>
  <dcterms:modified xsi:type="dcterms:W3CDTF">2013-09-06T14:59:16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3b | Average earnings for full-time, year-round workers in the health industry generally increase greatly with education</vt:lpwstr>
  </property>
</Properties>
</file>