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F26-8F69-4496-AFF1-7A73F609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B486-EF19-464A-8113-02EC1D31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685-8EDE-4E36-A21D-711792F2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63E-2015-4BC4-83C4-9B2B200E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8A4-FCEE-407A-9DBC-EC7365E4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1BC5-FC4C-4790-8ED9-8A80E984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2B55-DCC6-4A8F-9210-0D466C22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437-882B-44C9-93FB-70F39246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36C-4E21-40E6-8A06-2E691E3E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3CAC-B603-415F-972C-F8164287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138A-8A39-4CE4-A5BD-037D7087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F44F-467C-4422-A3B6-DDD1BD58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493E-4338-4CA7-A5E1-0688C576A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4Z</dcterms:modified>
  <cp:revision>6</cp:revision>
  <dc:subject/>
  <dc:title>PowerPoint Presentation</dc:title>
</cp:coreProperties>
</file>