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ADC6-2275-4003-A19F-5C1390305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B | FITTED REGRESSION LINE FOR HEALTH EXPENDITURES PER CAPITA AND GDP PER CAPITA, OECD COUNTRIES WITH SUBNATIONAL COMPONENT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AD54-DB97-49F6-8A44-64D52EF04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069-9486-4EF0-82DC-B3963BD1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CBB-EF37-4330-9834-892C4570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91B-A46B-49F8-80EB-B6685D4A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BA8-533A-40D3-B3CD-5E756420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030-9329-4AB0-ABCB-F6048F2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BF7-8BA3-4770-BB34-2EB49CD5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39F-5C34-48D3-9C06-9E7E7DB2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F34-FEFC-42DB-AF65-A4D5646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241-5CAA-4EBD-8A17-BD12FBE8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F01-2941-4CD9-A67D-33F64592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960-5576-4D7C-9556-E5BE567A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9DA-1754-4731-8B71-789FF38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6230-5DD1-4627-8E1B-0C3A9D5F0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b | Once sub-national areas are taken into account, U.S. health spending is almost exactly where it is expected to be given U.S.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674280" y="167652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S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b | Once sub-national areas are taken into account, U.S. health spending is almost exactly where it is expected to be given U.S. GDP</dc:description>
  <dc:language>en-US</dc:language>
  <cp:lastModifiedBy>Jia Yao</cp:lastModifiedBy>
  <dcterms:modified xsi:type="dcterms:W3CDTF">2013-09-06T15:40:5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b | Once sub-national areas are taken into account, U.S. health spending is almost exactly where it is expected to be given U.S. GDP</vt:lpwstr>
  </property>
</Properties>
</file>