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16B7-EE1B-4122-BFD4-AA0F9327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8888-D22E-4FB1-80F9-321E4371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4220-0A99-4A54-A6DE-D115673C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5618-D8F9-41E8-897F-A66E5721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C82D-42E3-4BDD-9282-5607D17D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7975-7374-47B9-9F0C-36743549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4917-D41C-43CF-8DC1-26E0A388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840B-88F5-4DDA-89CA-0B6AB8DA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F4E0-0B9C-4F57-B8BB-C56D766A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EB6A-2014-40BC-8A50-A2E85099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BC30-606A-4CBB-AC94-3E60217B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5B52-1F19-4196-AB14-BDCD71EB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999B-F6B4-4186-A2CC-9986B854C8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1160" y="76320"/>
            <a:ext cx="9132840" cy="67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6Z</dcterms:modified>
  <cp:revision>22</cp:revision>
  <dc:subject/>
  <dc:title>PowerPoint Presentation</dc:title>
</cp:coreProperties>
</file>