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41E-7F38-4F2D-BD49-ADDADDAA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A4B-804B-42C9-BF54-0AEFB89B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744-5891-4A1E-BF60-AE412F3D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45E-D15D-4B45-A98A-64DC1B2B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1A1-753B-473F-867A-314FEAC3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285-9E77-4B39-BC8C-5C42740F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B38-4313-403A-B628-AD568609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B7D-3AC6-4265-83A8-4AD63690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4FD-540A-475E-A987-CC0185D9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351-AB7D-4B7D-A957-FD5B595F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EAA-4E3F-4F8D-A332-9609D1DF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1A8-5A0E-45FA-A403-EF15748B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056D-5AA4-46CC-AE4B-E57328B5C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240" y="76320"/>
            <a:ext cx="906444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4Z</dcterms:modified>
  <cp:revision>37</cp:revision>
  <dc:subject/>
  <dc:title>PowerPoint Presentation</dc:title>
</cp:coreProperties>
</file>