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5CB8-FF83-44E5-95E1-97C31D22C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875E-F089-452F-AACA-77821FBF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9D84-0B10-4539-B30A-3C926EAE9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78A7-B86F-4199-BD96-A84E60C10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8993-E743-4B80-ABCF-14CE0DB0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3C1D-0687-40CA-890E-A05FA842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DD22-F31D-49CF-9B20-C1B617B5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E581-29CF-406F-A824-3AD85397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0792-0DDC-4C5C-9F17-E6534393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054A-68BA-4212-A8F8-FA2181C4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108D-A344-467B-A072-07D35DB9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52EE-6EF8-410C-88C8-39224D9B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849D-B5E5-4689-8320-A3FA8244CC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44600" y="0"/>
            <a:ext cx="465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4Z</dcterms:modified>
  <cp:revision>14</cp:revision>
  <dc:subject/>
  <dc:title>PowerPoint Presentation</dc:title>
</cp:coreProperties>
</file>