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ECF5-37AB-4365-9C8E-02ACBA31F1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6.3A | MAJOR COMPONENTS OF HOUSEHOLD EXPENDITURES, LOWEST INCOME FAMILIES, 1984, 1996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FB2C-58C2-47CE-9FE0-5F0179A1A3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2F18-DEAD-411C-8521-1DB7E9A59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5C2A-E756-4807-99D9-C48DA51A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5C66-CDF9-4406-9EFA-C545FA47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F56B-DF29-4006-B152-BA7CC1DA1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3467-99D4-4494-87FE-4E3BBA94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1BD4-0457-440C-AF0E-1CAD639F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483F-DF43-42E9-A7EB-04BB3815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E14A-7F7B-4810-B92A-1A773981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2F73-B38D-4BA8-AA92-4D2D3FE9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3F29-B3C3-4C2E-A8D8-0488C6E3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7436-8931-4870-9153-98501C92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82C4-73AE-44A1-B8F6-7A1924D3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9B0B-E404-4CEF-BDCF-1DBB603AEC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3a | Direct health expenditures constitute only 1 in 16 dollars spent by the lowest income famil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24452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676520" y="6324480"/>
            <a:ext cx="647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ajor Components of Household Expenditures (ranked by size in 2008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3a | Direct health expenditures constitute only 1 in 16 dollars spent by the lowest income families</dc:description>
  <dc:language>en-US</dc:language>
  <cp:lastModifiedBy>Jia Yao</cp:lastModifiedBy>
  <dcterms:modified xsi:type="dcterms:W3CDTF">2013-09-06T14:06:17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3a | Direct health expenditures constitute only 1 in 16 dollars spent by the lowest income families</vt:lpwstr>
  </property>
</Properties>
</file>