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251-0E76-41D4-9C00-D9A88271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290-F259-44C8-B9E8-945962C4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045-24D6-4061-95D4-C3CC334C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C0E-4CF8-4E0E-9F43-32A5C405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083-9E3E-4DC4-A088-626D0493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D51-BE32-4CCE-A5BE-ACE13385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340-9FD3-41B5-B990-38F8ADC1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B1E-A4F8-461D-87C2-E1B09F2F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EA9-D37A-486B-A050-853E4EBD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03D-F2B3-4702-9CA9-AA22376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273-EEA4-49E9-81CB-4A60E1C0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1B9-7324-40CA-8681-0C7E2DB6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7722-9117-4507-9D84-743BBFF06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0160" y="0"/>
            <a:ext cx="87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49Z</dcterms:modified>
  <cp:revision>31</cp:revision>
  <dc:subject/>
  <dc:title>PowerPoint Presentation</dc:title>
</cp:coreProperties>
</file>