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609-9F51-4E3D-A917-88B1AFF4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F97-C707-4892-8686-18CFA475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63D-58F4-42B1-A9D2-0942F483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65B-EDC0-41FC-8FDF-23E5608A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D36-FE29-4BF7-82A1-D63CA854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6B5C-3515-4AF9-92B3-2789F9F6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F1C-74C9-4EB1-A592-820C7C9F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B05-3418-416E-90D1-C4D4732F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27D-1C55-416D-A446-F7D6953A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468-9D13-481E-9179-E6ABCA70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497-1CE5-429C-847F-BFB66DA4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559-0C1C-4854-B7F2-6265852A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613B-EF60-4059-9091-2CED26213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143000"/>
            <a:ext cx="892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5Z</dcterms:modified>
  <cp:revision>14</cp:revision>
  <dc:subject/>
  <dc:title>PowerPoint Presentation</dc:title>
</cp:coreProperties>
</file>