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80B-BC1B-4804-9015-ED856EB7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03B-BD77-4DB5-8C4A-0F5D8BD8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9D4-5C55-4F47-8574-971D0CED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3B3-5012-418F-B9D3-7DFC7D41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F7E-03C9-416E-9E8B-99B3E50D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8C9-D11C-44DC-BCFA-8BD061C3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2A3-5066-4141-A49B-D4C222FA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C4B-5085-44AA-A025-D1978828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A3E-CA07-4424-99BD-BAE2A4A1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E2C-94A8-4ECD-96CF-E60A252C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90C-34F8-498C-BA78-4D8687E3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D1A-E831-428D-99A6-D8C0CB85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80C2-4E37-442B-911A-084C2D8F9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7058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9Z</dcterms:modified>
  <cp:revision>31</cp:revision>
  <dc:subject/>
  <dc:title>PowerPoint Presentation</dc:title>
</cp:coreProperties>
</file>