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75C-117B-4FB4-9BF9-D1B99AE7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417-1824-4923-946A-1F9AE197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136A-43F6-4964-B7E8-D388E222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1F77-26F4-48EF-A7C9-B7C64690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264D-0E38-42BF-A8CD-BB29DFF4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956D-4087-4F2D-833B-44ED6DAF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32F-09A9-4152-A4FB-648B2ECA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B5C-4542-4A1A-B7E9-B5368767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2DD-F8DD-4482-ABD3-57A9D8C7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63E8-A35E-4D85-BC36-E66C39C5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DB69-E7C6-4889-B48F-62545BA6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4DAC-7A11-46DD-AA6C-7F4E1981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0085-0FBA-41F6-AC6F-9D350C9F3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20840"/>
            <a:ext cx="9144000" cy="60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3Z</dcterms:modified>
  <cp:revision>30</cp:revision>
  <dc:subject/>
  <dc:title>PowerPoint Presentation</dc:title>
</cp:coreProperties>
</file>