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30A-64F5-45E2-AF0A-6089FFC8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FE3F-C65C-48B4-8F8A-22761FBE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86AC-8AC4-4DCB-ADA6-CA6B9BB9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812-56EE-4359-9000-68BCA2F4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E942-7B28-4BCC-8E1B-019715AA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68F0-928F-4DA9-B8FF-3DAE5ABA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8137-507A-4CC4-9BAC-856CAA7A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75EA-2267-4A3D-A883-75FAD29B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4062-5B05-4798-92A3-84990918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704B-CD94-4A0B-B027-9AB9D880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0603-2D18-45F0-A956-F025D415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E156-4A15-45CC-9C27-E88961D7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671E-E01F-4278-AACF-5DE3B1DAE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3320" y="1143000"/>
            <a:ext cx="8937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5Z</dcterms:modified>
  <cp:revision>22</cp:revision>
  <dc:subject/>
  <dc:title>PowerPoint Presentation</dc:title>
</cp:coreProperties>
</file>