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5B7C-69E2-4A89-A66F-72DAE66E3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B | MAJOR DETERMINANTS OF LIFE EXPECTANCY AT BI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CC4A-5F7D-4CE0-AD10-39C668DE9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375-19D9-4B15-BA50-DEE1C456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B45-5588-49F5-8FE2-C37E72FA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969-AE21-4653-A23B-09E86D91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C19-3992-4403-8ED5-A287D10F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936-7F5F-4989-9839-E7CFA39D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F38-F50B-40C3-9F58-A2463589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33B-FA1E-43DC-99F2-F5C3CF04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60B-BB25-4A70-AA09-05E55808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122-F711-44B8-9081-57AB3650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A68-6A6A-49C0-B3A8-945F2F80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F38-B5E8-4476-98D0-608DF9D2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A7E-BC7D-4237-885E-F0185BB5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386D-8595-4106-AD91-28D8CE970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x.doi.org/10.1787/24085850013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b | Other determinants of life expectancy at birth are of equal or greater importance than the availability of doctors and nur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 change in life expectancy at birth per 10 percent change in f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0160" y="5759280"/>
            <a:ext cx="831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Joumard, I., et al.  (2008), "Health Status Determinants: Lifestyle, Environmen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Care Resources and Efficiency",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Economics Department Working Pap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627, OECD Publishing. doi: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0.1787/2408585001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b | Other determinants of life expectancy at birth are of equal or greater importance than the availability of doctors and nurses</dc:description>
  <dc:language>en-US</dc:language>
  <cp:lastModifiedBy>Jia Yao</cp:lastModifiedBy>
  <dcterms:modified xsi:type="dcterms:W3CDTF">2013-09-06T15:41:1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b | Other determinants of life expectancy at birth are of equal or greater importance than the availability of doctors and nurses</vt:lpwstr>
  </property>
</Properties>
</file>