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090-E3D0-488F-B837-BBA3BFB2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D1D-2490-4D36-BE4F-57BB516A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D49-6451-47F6-85B6-59DBFF39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9DD-6575-4E83-95EC-DBA5892F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36C-BFDE-4DBC-A7E9-DF33FEC2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5ACD-470A-4344-8043-8394F7B7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25E-CCB7-4522-A382-226B7365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2FD-FC21-448F-9426-2C3F715C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E92-CB52-4F99-BA0F-0D7AC2BB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0754-55E0-44A2-8562-B900D39A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F4F-D079-49C6-A5EB-88F2CC34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924-03E8-4A17-96BE-4DB97D47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9FA6-E05B-4BC1-A211-6A5A3D599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69880" y="0"/>
            <a:ext cx="800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3Z</dcterms:modified>
  <cp:revision>37</cp:revision>
  <dc:subject/>
  <dc:title>PowerPoint Presentation</dc:title>
</cp:coreProperties>
</file>