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ECB5-EFCC-44DA-AC8F-BD55F4363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2D30-FFDF-49E9-BD49-EA1B5D10F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25E1-B433-47EF-A838-1282B2498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0D19-E192-4365-848F-049FCDD60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56A3-8FC0-4D3C-8C25-DFC09E5EC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5032-B5B9-4F53-9010-478494381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3643-926A-49DB-AA60-D0B6BEE3C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2267-151C-4BF0-A211-F66624F93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3C4A-45A4-4D98-BA4B-190D14878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1DCE-19C0-4670-98E1-E44A16BD8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C460-5752-4EF2-A42E-09580E47E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5DCF-E67F-4722-9154-436AC8343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29C88-A8AD-427B-B227-1BF7867BFF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0520" y="304920"/>
            <a:ext cx="9123480" cy="62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3:23Z</dcterms:modified>
  <cp:revision>14</cp:revision>
  <dc:subject/>
  <dc:title>PowerPoint Presentation</dc:title>
</cp:coreProperties>
</file>