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1999-D880-48A7-AC65-B0AD6E43F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a | Health Spending by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83B1-B685-4BEA-8C64-A70A6C8B7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E56-533A-4BB7-AC1C-620AE811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93B-3ED4-4089-A960-59956989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095-789B-4E83-A45C-0A6B1D1F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60C-B2A1-439A-883B-CE4BEEFC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807-4C50-446D-98F5-2D193670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484-B1DF-4CF7-99A3-293C9996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3DB-9D14-4844-80F6-CD89B9BA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E02-18E3-4763-96BF-A4E9E5FB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5D8-FCD6-48EF-92EB-3476F9FC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DBE-C955-41D8-A83C-BE748F0B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C5C-0CCF-4E51-AC6B-BE6C7D2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D14-32D8-46FA-92E8-E4E17970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A59E-217E-47D0-B209-71D630FE2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a | Annual health spending rises sharply by age; health costs for the “oldest old” are about nine times as high as for school-ag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health spending in 2007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a | Annual health spending rises sharply by age; health costs for the “oldest old” are about nine times as high as for school-age children</dc:description>
  <dc:language>en-US</dc:language>
  <cp:lastModifiedBy>Jia Yao</cp:lastModifiedBy>
  <dcterms:modified xsi:type="dcterms:W3CDTF">2013-09-06T15:13:09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a | Annual health spending rises sharply by age; health costs for the “oldest old” are about nine times as high as for school-age children</vt:lpwstr>
  </property>
</Properties>
</file>