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482D-5C02-4F95-9EDB-F5493BEAFF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2b | Output per Hour and Output per Unit of Input Indexes (1987=100), Health Facilities and Ambulatory Health Care Sector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D808-F37A-4999-9080-4E7088CDE0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7F64-E7B8-40BF-B5DD-0936345E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48A8-6D10-46D8-A76A-5A28443F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0E4E-EC81-4E31-A1BF-8031637A1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5450-04AD-4561-992D-EC87E09A0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2F62-D764-4585-9423-5C36A27D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A26B-FA95-4D72-8A03-E6F2B10F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2DAA-3ABF-460D-9DB4-864EB57E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BD35-D886-4FF3-AA95-E460E960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1DDE-7C36-4D95-B4D6-0E54EDEA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728E-7E52-482A-9A4B-6F29C864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D148-B03B-4851-9A7B-CC42FFB8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D9FA-8CF9-42E8-A438-DE8F623E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05D6-11D4-4CFD-9601-FC65F1D44A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2b.  Over 2 decades, health facilities hourly output rose even as productivity per unit of input remained relatively fl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5597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609480" y="5694480"/>
            <a:ext cx="842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Outpatient = ambulatory health care services; inpatient = hospitals and nursing and residential care faciliti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2b.  Over 2 decades, health facilities hourly output rose even as productivity per unit of input remained relatively flat</dc:description>
  <dc:language>en-US</dc:language>
  <cp:lastModifiedBy>Jia Yao</cp:lastModifiedBy>
  <dcterms:modified xsi:type="dcterms:W3CDTF">2013-09-06T15:00:37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2b.  Over 2 decades, health facilities hourly output rose even as productivity per unit of input remained relatively flat</vt:lpwstr>
  </property>
</Properties>
</file>