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D20-A064-474B-86C5-6CC38BA1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26A-8B77-4438-814A-D9D7A4A2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547-0537-45C6-BADD-CCC7D143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A35-3989-4C6B-9D04-5222A439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88D-68AB-4746-9B74-E1573251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782-FE4F-409F-A5F3-E5DED827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744-C5AD-4E98-916C-38360B0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6E8-2A2B-4FC2-A54E-A4058A49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A03-A3DA-4E7D-8E78-B88793CA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36E-2E92-49B1-8B0C-BFAC371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184-3F37-402A-9604-DEE7AA8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564-A3C7-46DD-B145-7DF84211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E089-C000-4A93-882F-BBEA4FBB4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6Z</dcterms:modified>
  <cp:revision>37</cp:revision>
  <dc:subject/>
  <dc:title>PowerPoint Presentation</dc:title>
</cp:coreProperties>
</file>