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5D04-E6C5-4595-99C7-D68F894E5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2DA0-7E58-4E10-9938-628AFC0F9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01CC-586E-4EEA-A905-9061C56D3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8CF8-C949-4625-95BA-6E0B3C3B0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DBED-5813-4032-AD89-6F9D201E1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F171-BFF5-4C04-8270-6F31F9D03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7B84-1976-4A8D-AB38-D7D9151B6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3164-0E40-46FD-A0CF-2B5A0F94A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297A-3075-40AD-A796-0AB3AB04F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3BE6-C864-42E9-9F45-D299FB683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4691-4971-41DA-B658-9897FD4A7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9889-E3F2-460F-A0F0-DA13272B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461C5-6903-4B9F-85A5-A0DD3064CC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57240" y="228600"/>
            <a:ext cx="90295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41:58Z</dcterms:modified>
  <cp:revision>4</cp:revision>
  <dc:subject/>
  <dc:title>PowerPoint Presentation</dc:title>
</cp:coreProperties>
</file>