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DD5B-F250-45E2-B28D-63128189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2F3-6F34-475A-883D-3F3B8B03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AD2-56FE-433E-A899-CE9686AE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665-D7EA-4756-97FB-4B788389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AE5-CEE6-4CE5-AB17-44528E9E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00A-3711-4684-9466-58AAE3C6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AA2-3D18-4759-8BDA-C0AE10B6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4C7-E016-4B92-8AFE-2678A275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658-FE17-48B6-9590-09608D8A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D75-524A-4A47-9F56-B7766051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914-09E5-4ACB-AADF-9BBCB44D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C9D-3884-4662-BAAD-F6C30DC0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8059-0B82-4EDC-9F7E-1E85E1DBB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0"/>
            <a:ext cx="899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7Z</dcterms:modified>
  <cp:revision>8</cp:revision>
  <dc:subject/>
  <dc:title>PowerPoint Presentation</dc:title>
</cp:coreProperties>
</file>