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A1AA5-B0AB-4ECD-97A8-E011CEEC75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5.1b | Health Spending per Dollar of Wealth, 1950-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4CF17-DC16-4F4C-875C-C006DDCE88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C7CF-B396-47EC-AC9E-47FE7E5F6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FD3B-F66E-447E-A098-1C64F57AF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3167-C163-4037-9B8D-EAFBD8340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6353-53A7-42ED-9C10-00414BDBD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FFA6-1AE0-4437-9988-F5E81AFD2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4D4E-A8D9-4084-B04F-E3165ACE4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69A6-D9DA-488B-9953-29C7E14D5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3F5D-5BE8-48AD-BB93-654A3C3BC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586E-A079-431A-955B-B18B5BDA2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B07B-3AB2-46D2-BB00-96F8076D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F015-B171-4FBD-BAF3-97ED9171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E059-83FD-42BC-B20B-749B6DC3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FA8E9-8530-4766-ADCE-EFE20FC421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5.1b | Health spending per dollar of wealth has almost quadrupled over 60 ye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168560"/>
            <a:ext cx="8331120" cy="57402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762120" y="129528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ealth spending per dollar of net worth held by households and nonprofi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9T14:15:23Z</dcterms:created>
  <dc:creator>Kristy</dc:creator>
  <dc:description>15.1b | Health spending per dollar of wealth has almost quadrupled over 60 years</dc:description>
  <dc:language>en-US</dc:language>
  <cp:lastModifiedBy>Jia Yao</cp:lastModifiedBy>
  <dcterms:modified xsi:type="dcterms:W3CDTF">2013-09-06T15:26:01Z</dcterms:modified>
  <cp:revision>291</cp:revision>
  <dc:subject/>
  <dc:title>15.1 Household Net Worth, GDP and NHE, 1929-200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5.1 Household Net Worth, GDP and NHE, 1929-2009</vt:lpwstr>
  </property>
  <property fmtid="{D5CDD505-2E9C-101B-9397-08002B2CF9AE}" pid="3" name="SlideDescription">
    <vt:lpwstr>15.1b | Health spending per dollar of wealth has almost quadrupled over 60 years</vt:lpwstr>
  </property>
</Properties>
</file>