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5A01-FE73-4084-9641-E26AD6038E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1B | EUROPEAN CANCER SCREENING RATES AS A PERCENT OF U.S. RATES FOR SELECTED CANCERS, BY A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21BD-F4AF-4542-9644-455930F4A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000C-FD84-403E-9571-3F82D97B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65EC-AACA-4098-ACE5-05A9519E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9D2-68F0-4E7F-A53F-F7CCE3D5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4490-68C3-4784-8990-6E714C9A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5622-E5AB-44E4-B680-A0435DA3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3015-369C-415A-8832-BA6724E7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B4E4-F062-45B9-A71A-88FB53F6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B4AC-B8D1-45DD-8413-87208F13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0449-7330-4EC9-83D2-ACCB15C2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BD4D-D1AC-4388-B9D6-985B9969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D58F-3FC9-4ECD-88C3-04D2B426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7BBA-4E9C-474D-A0B5-326353BC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6E09-DEC1-4ECA-AB99-1F66C19A5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1b | Despite a larger uninsured population, cancer screening rates for adults 50 and older are much higher in the U.S. than in Eur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52388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uropean cancer screening rates as a percentage of U.S. r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75920" y="5827680"/>
            <a:ext cx="77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 D.H. Howard, L.C. Richardson and K.E. Thorpe, Cancer Screening and 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United States and Europ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2009; 28(6):1838-4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1b | Despite a larger uninsured population, cancer screening rates for adults 50 and older are much higher in the U.S. than in Europe</dc:description>
  <dc:language>en-US</dc:language>
  <cp:lastModifiedBy>Jia Yao</cp:lastModifiedBy>
  <dcterms:modified xsi:type="dcterms:W3CDTF">2013-09-06T15:41:18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1b | Despite a larger uninsured population, cancer screening rates for adults 50 and older are much higher in the U.S. than in Europe</vt:lpwstr>
  </property>
</Properties>
</file>