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585D-CBB3-48B4-B204-0C811C783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a | Direct Health Spending as a Percentage of Family Income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B847-0565-4EA1-9390-DDCD9F141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B08-9CEE-4BC6-863B-DC18AA15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F76-B60E-41DD-AE62-836B595F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246-2C14-4EBE-8E80-3D20238F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594-19F8-4A37-998D-0FA8E722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B70-24DE-40B9-AA3F-C8772C26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55E-B6E5-4BA6-89FC-A3FA98B5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4FC-AE27-437D-B84D-9B39C1AE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1B1-83CB-4EDE-A5A7-2C5B87EB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779-45DD-4407-9CDC-679EF99A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B25-7908-47E5-95E8-770E68CC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C68-6D84-40E4-B1B5-99C68232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A5F-7978-4991-951C-CC0C620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98D1-5405-410B-8369-43A0D13EB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a | Direct health spending has been declining as a share of family after-tax income for families with the lowest in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85720" y="15764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 health spending as a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a | Direct health spending has been declining as a share of family after-tax income for families with the lowest incomes</dc:description>
  <dc:language>en-US</dc:language>
  <cp:lastModifiedBy>Jia Yao</cp:lastModifiedBy>
  <dcterms:modified xsi:type="dcterms:W3CDTF">2013-09-06T15:13:0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a | Direct health spending has been declining as a share of family after-tax income for families with the lowest incomes</vt:lpwstr>
  </property>
</Properties>
</file>