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02C2-5A08-4C7D-85A4-F5F9EFF39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6a | Trends in Per Capita Health Spending by Geographic Region, 1966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A35F-F347-48D8-A0DA-9B2722C00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E1F8-F00E-41FD-ABF2-BE7F96BD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CA9E-24EE-4DA2-9493-42C699B5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03C-31B7-4E03-A787-68C34C47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B5D-BE57-443E-9B92-15238B7D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E757-5C86-4958-A10D-26EA2DD4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368A-7115-4679-A1AD-F7CF25DA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51A7-2634-4448-A4C1-FCFD6B49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2CB-1CC9-4512-BEC5-D5366AEB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3E2D-49AB-4432-B495-2B5F8D1D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EF87-5E4A-42DB-B57E-BB2CFEDF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8C12-4F52-4AE9-9505-6902A320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E9A-3491-44AE-9590-CE046E6C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D22F-B614-4BEC-BE4F-238B57821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6a | Regional differences in per capita health spending narrowed from 1966 to about 1985 and widened thereaf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7883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19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Per Capita Health Spending by Location of Service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3520" y="6095880"/>
            <a:ext cx="81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igures not available for years 1967-68 ,1970-71 or 1973-1975, so they have been interpolated to avoid distorting the length of the bottom ax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6a | Regional differences in per capita health spending narrowed from 1966 to about 1985 and widened thereafter</dc:description>
  <dc:language>en-US</dc:language>
  <cp:lastModifiedBy>Jia Yao</cp:lastModifiedBy>
  <dcterms:modified xsi:type="dcterms:W3CDTF">2013-09-06T15:13:1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6a | Regional differences in per capita health spending narrowed from 1966 to about 1985 and widened thereafter</vt:lpwstr>
  </property>
</Properties>
</file>