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E14A-F543-4494-BE56-AE88B006B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B | TRENDS IN PROFITABILITY: RETURN ON ASSETS AMONG FORTUNE 500 PUBLICLY TRADED FIRMS FOR HEALTH-RELATED SERVICES 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6B8A-E44C-492F-BBD0-1776DB92C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6D08-D41A-4ABB-98E4-3B2CD86F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5F12-62D6-4D90-BB0F-DDDEBC90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ADFA-113C-485C-86E5-EAE07FC4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A31-769E-4A73-A0D1-9BB41607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C05E-3F17-4E5C-A64E-8E6BFD45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3EF0-4F59-41C5-A801-0192DD32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BB6A-FA86-46B7-8E4A-5B2FEDCE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9C45-9EB7-49D4-9792-B494B685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7621-8F9B-4EC8-A3E8-B740E0F0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6B5E-E6C7-4BBC-8F15-87CF2DD1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E0F3-B5EC-4AF9-9332-2A0C23EB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9F65-B5CF-4F8F-BF82-EEE71170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C54B-C331-4A0E-BEFF-D92348324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6b | Among health-related services, retail pharmacies generally have the highest return on assets and medical facilities the low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58720" y="1092240"/>
            <a:ext cx="840744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143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assets (ROA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439560" y="5283360"/>
            <a:ext cx="851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A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b | Among health-related services, retail pharmacies generally have the highest return on assets and medical facilities the lowest</dc:description>
  <dc:language>en-US</dc:language>
  <cp:lastModifiedBy>Jia Yao</cp:lastModifiedBy>
  <dcterms:modified xsi:type="dcterms:W3CDTF">2013-09-06T14:17:09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b | Among health-related services, retail pharmacies generally have the highest return on assets and medical facilities the lowest</vt:lpwstr>
  </property>
</Properties>
</file>