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62820-B0CF-4B20-A333-1B8015AD21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8.2B | PER CAPITA PHARMACEUTICAL R&amp;D EXPENDITURES AMONG TOP 10 OECD NATIONS FUNDING PHARMACEUTICAL R&amp;D, BY COUNTRY, 1980, 1990, 2000 AND 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3908D-9151-4B88-B6D8-F5AD6883A2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08C4-22B9-4AB1-BFDC-2D83CA91C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AA04-0A42-4FB8-B4D5-0F6B83F9B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706B-4DE6-410A-A29E-2ECBB97CF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E175-D1C2-4E5B-8B93-271DC39BC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EE53-BEAE-480E-B4D4-6F769F6B9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A376-A49D-4DA9-873A-4E4104050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84D4-CFE4-4383-9866-A5A5BAD18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DACC-0382-43FF-98BC-268D2584D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20B6-FC97-4716-956E-C5C719068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656F-8616-45E6-91E1-2BEFD4B3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DCEF-539A-47A9-88A9-A8739F10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440F-6F89-4C2F-9028-8747DDF3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F20AA-7007-4F14-9C0E-80C315A98F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8.2b | On a per capita basis, U.S. spending on pharmaceutical R &amp; D is exceeded only by Denma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5597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15600" y="1523880"/>
            <a:ext cx="553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 capita pharmaceutical R&amp;D expenditures (U.S. dollars, PPP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5T17:43:19Z</dcterms:created>
  <dc:creator>Kristy</dc:creator>
  <dc:description>18.2b | On a per capita basis, U.S. spending on pharmaceutical R &amp; D is exceeded only by Denmark</dc:description>
  <dc:language>en-US</dc:language>
  <cp:lastModifiedBy>Jia Yao</cp:lastModifiedBy>
  <dcterms:modified xsi:type="dcterms:W3CDTF">2013-09-06T15:33:57Z</dcterms:modified>
  <cp:revision>5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8.2b | On a per capita basis, U.S. spending on pharmaceutical R &amp; D is exceeded only by Denmark</vt:lpwstr>
  </property>
</Properties>
</file>