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B85B-1E5A-4F32-B016-30C9F66F9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1B | COMPONENTS OF PERSONAL CONSUMPTION EXPENDITURES, 1929, 1969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3C38-30D8-45B2-9F90-73DE2989B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9FB-60EA-457C-BD43-081323FE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EBE9-1F02-4A94-950B-446C7A53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C67-C33F-4560-8615-8BF97B8C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CCA-6A2A-4CB1-9A44-B8BEE429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CF3-6C0E-485A-8C75-0ABF9387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A92-808C-4117-A113-CE0879DC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678-0B76-48E7-9CDC-4EF5C1E6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654-5371-4A24-BC35-0E76A3B0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93D-2F8D-40BD-A2A3-3B47658A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975-5FA9-4B56-BB8F-E41601C0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896-0177-4DD5-A438-782B07EB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61F-323B-4E2A-9CAC-8F83C15C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E714-6B44-4613-812D-9C7B202DB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1b | The health share of consumption spending has grown as the portion for food, clothing and shelter has decl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7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435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62120" y="61722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personal consumption expenditures (listed [left to right] by amount in 201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1b | The health share of consumption spending has grown as the portion for food, clothing and shelter has declined</dc:description>
  <dc:language>en-US</dc:language>
  <cp:lastModifiedBy>Jia Yao</cp:lastModifiedBy>
  <dcterms:modified xsi:type="dcterms:W3CDTF">2013-09-06T14:06:1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1b | The health share of consumption spending has grown as the portion for food, clothing and shelter has declined</vt:lpwstr>
  </property>
</Properties>
</file>