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F643-2552-4601-9FD8-85E53A0C0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12DB-7C8F-49F7-86C5-AC2CBFD42D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a | Distribution of Elderly and Disabled Enrollees and Expenditures under Medicaid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FCE-2297-454C-A37A-01516208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206-CAC3-4A2F-88BF-24E7A48E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B2A-93E0-4B14-B5C4-6B56CBC1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5BD-0083-4421-9AE4-E4CDE572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1178-E9AB-44EF-82E9-A42FA2C0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96C9-45F3-4BBB-98F8-A6B517E1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4979-2A4D-4A01-BBFE-E20BB3BE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B654-4A1D-4351-B07E-5F99F015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4384-33CD-4C2F-80C2-25F9426C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9BF6-5EF9-4CA2-8B62-F36E4926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ECBD-F4C1-4F0F-B4C3-A8A1F6DD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D39-C7DB-4D7E-BDE8-D52F11F4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BCD1-C6BB-402A-8253-421FFFC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32F3-61D6-4CC6-8025-1DA8A7BD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17AB-F946-4810-8396-EEEAEEEF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58B9-BCC2-4646-8B85-BB75EE5E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D32F-6B6F-4797-A1C1-D5BC74D5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1BF-4174-470A-829A-26ED529A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182-FC3D-459A-89B7-FD15CE6D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E67-B1EF-4ACF-8569-A675138E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573-DCC3-4BDB-8C45-3B5BDB21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5E4-1A18-4818-9099-EF1CD00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6C9-E3BC-4553-B14D-CDB72859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B6F-907B-488F-86A5-A31CBC23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D27E-9BD9-4BB7-8766-C81A97857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2069-E8DA-4E83-8F16-369260DCD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a | The elderly and disabled constitute one quarter of Medicaid enrollees, but more than three quarters of Medicaid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09480" y="5867280"/>
            <a:ext cx="815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Kaiser Commission on Medicaid and the Uninsured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edicaid: A Primer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y Information on Our Nation’s Health Coverage Program for Low-Income People. June 2010. http://www.kff.org/medicaid/upload/7334-04.pdf (accessed October 13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a | The elderly and disabled constitute one quarter of Medicaid enrollees, but more than three quarters of Medicaid spending</dc:description>
  <dc:language>en-US</dc:language>
  <cp:lastModifiedBy>Jia Yao</cp:lastModifiedBy>
  <cp:lastPrinted>2002-05-16T21:44:34Z</cp:lastPrinted>
  <dcterms:modified xsi:type="dcterms:W3CDTF">2013-09-04T21:04:03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a | The elderly and disabled constitute one quarter of Medicaid enrollees, but more than three quarters of Medicaid spending</vt:lpwstr>
  </property>
</Properties>
</file>