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8C3B-933B-457B-BDB1-F602B4EF2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1 | AVERAGE ANNUAL CHANGES IN HEALTH EXPENDITURES DURING ECONOMIC CONTRACTIONS, 1948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C8EB-797D-45AA-90E9-CA9579D2A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55F-3B56-4A6C-BC1B-0364C6E5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D94-238F-4EF2-8AAB-FA8C6C7C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096-DDF7-4F92-8D18-1D055541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AC9-08F7-4D51-9DAC-F69617D7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97A-C1EB-4E4C-B91E-D869350E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3BD-41A9-4D37-A302-25783AEB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93B-3C30-4645-9FE5-78A22A00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D26-5693-4DA7-BD42-BF41D48D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DE0-B11D-47BD-8CB3-C379098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105-5096-4619-A192-D64B2A9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AA0-1834-47FC-B991-18F5B70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AE0-C593-4A5B-A588-A624B5C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2EDD-D352-41DD-9E10-F1D86F9E0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1 | Aggregate health spending growth appears to be largely independent of fluctuations in the business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06668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1960" y="617220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=rec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1 | Aggregate health spending growth appears to be largely independent of fluctuations in the business cycle</dc:description>
  <dc:language>en-US</dc:language>
  <cp:lastModifiedBy>Jia Yao</cp:lastModifiedBy>
  <dcterms:modified xsi:type="dcterms:W3CDTF">2013-09-06T15:28:0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1 | Aggregate health spending growth appears to be largely independent of fluctuations in the business cycle</vt:lpwstr>
  </property>
</Properties>
</file>