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7A2E-1F12-4E99-BC44-FD3E964DEA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3A | TOTAL GENERAL GOVERNMENT EXPENDITURES AND PUBLIC EXPENDITURES ON HEALTH AS A PERCENT OF GDP FOR SELECTED INDUSTRIALIZED COUNTRIES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406E-B8CE-4536-9C60-812D17FD8E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9388-4EB5-4D4B-A487-0B4FDD6DE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BD43-0F2C-4520-8E10-1B120ECA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2F87-34E5-4D65-A241-894F267A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84FF-D6F3-478F-8FC4-811A13A6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6859-15C3-4BB3-87C0-288BA73E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9BD4-49E9-49EE-8E98-C36C387A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B569-4A5E-4BDB-A71F-7A9374A6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3694-59A6-4103-AB92-5B4C5B1C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CAC3-5276-40C8-8B2C-26869081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63B8-BCEB-4004-953B-F7540368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1877-3A3B-4E67-8A60-9D7F168A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93FA-E2C8-4DD1-9873-6070ABD7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770C-B013-49CE-A561-153D70F24F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3a | The U.S. share of GDP devoted to tax-financed health spending is comparable to that of its G7 competito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4967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2819520" y="58672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7 members ranked by size of 2007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637920" y="639288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3a | The U.S. share of GDP devoted to tax-financed health spending is comparable to that of its G7 competitors.</dc:description>
  <dc:language>en-US</dc:language>
  <cp:lastModifiedBy>Jia Yao</cp:lastModifiedBy>
  <dcterms:modified xsi:type="dcterms:W3CDTF">2013-09-06T13:59:34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3a | The U.S. share of GDP devoted to tax-financed health spending is comparable to that of its G7 competitors.</vt:lpwstr>
  </property>
</Properties>
</file>