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E7B-B697-47C6-9B7B-8A50B201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E21-A5C6-4F80-ADB1-B4F11A08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C9C-D020-49BE-B89D-66F6ACC1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959-574B-47FA-BCCC-3A28BB95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F57-85BA-4B80-9F8A-3024D629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1CE-6625-4FEA-AE89-71DE2875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334-4726-4111-A68B-48081122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FE5-31A6-44D5-BB6F-E9851A03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0F0-52D9-4310-929E-D2E9478E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CC6-4D14-4D9B-9C23-872BB5C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6D7-2D31-45BB-9B18-B164DA1A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5E3-7F31-4942-966D-C0FC6F21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182A-6800-4DD9-8611-2B3F0C817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7Z</dcterms:modified>
  <cp:revision>22</cp:revision>
  <dc:subject/>
  <dc:title>PowerPoint Presentation</dc:title>
</cp:coreProperties>
</file>