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02E-EEDD-499F-91AE-268C7FBD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A37-251E-4595-AE44-DB545032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EE0-8559-4504-A614-A13B13DB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A39-F766-4146-9E4C-76DFAA15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682-6E02-4E42-82B5-0A83115E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7B2-BF8C-4359-A1FD-2D75BE13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A36-ADBD-49FC-B9FE-09971619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CCB-1694-4DCB-92C1-092AA608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83D-CBDF-4B0D-83A9-78B3F5A1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905-74AF-473A-B603-DACBFC84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48B-5D40-4ED8-AB13-4ADF0379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462-4C66-4181-B6F8-ED83DF8D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AED3-9881-4F65-8E79-A7673F6DE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1295280"/>
            <a:ext cx="9124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0Z</dcterms:modified>
  <cp:revision>28</cp:revision>
  <dc:subject/>
  <dc:title>PowerPoint Presentation</dc:title>
</cp:coreProperties>
</file>