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71FA-A578-4637-AF81-2208547D7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A | PER CAPITA DOCTOR VISITS, DENTIST VISITS, ACUTE HOSPITAL DAYS AND PHARMACEUTICAL GRAMS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FBB7-CD19-4AF6-A8FB-AC6C54DCE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A2D-2D2C-4546-A360-39FA59CB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325-D3F5-43C6-BC82-D65B8FF9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AD8-E793-4771-8115-6D988695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A0B-64D0-4141-A5A6-8412B343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452-B12C-431B-8882-156F1569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6CC-A8C1-4CF0-B8CB-D0B05D02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21F-D52A-400B-BE5D-62A14B6E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942-D30C-490C-B9AD-1E88137A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28F-3661-4DFA-803E-11FF04D2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999-0DF5-4D1A-BB7C-1B708E3F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64D-9F42-42D9-9CE1-ABD338FA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283-4546-4029-BF21-FD9901C6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157B-F837-4512-B86E-AF8D07329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a | Relative to G7, the U.S. generally has lower utilization of acute care services such as doctor and hospital care, but not pharmaceut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4479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15320" y="5851440"/>
            <a:ext cx="45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figures for pharmaceuticals are fo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a | Relative to G7, the U.S. generally has lower utilization of acute care services such as doctor and hospital care, but not pharmaceuticals</dc:description>
  <dc:language>en-US</dc:language>
  <cp:lastModifiedBy>Jia Yao</cp:lastModifiedBy>
  <dcterms:modified xsi:type="dcterms:W3CDTF">2013-09-06T15:40:5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a | Relative to G7, the U.S. generally has lower utilization of acute care services such as doctor and hospital care, but not pharmaceuticals</vt:lpwstr>
  </property>
</Properties>
</file>