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743-5CDA-4FB9-AAC2-D8069182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ABB-8EA6-46B5-835F-57A2FE16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60B-FCD8-49F0-BED0-AC90E644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D70-C76E-47F5-A2B4-ABA5DE41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BD6-8564-4C19-A8A7-C11ED85B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152-F099-440F-889E-D8E58203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84E-2046-4C35-A4C2-BE094A39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FF1-9615-4CAF-AF3F-33D48E28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F8B-CB48-4797-A0CA-43EFB0DC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80D-0FA9-4042-8C3B-92386704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219-DC9E-4ACC-A4BF-1433FB54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2DD-1E74-48B9-A48D-7B923B62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3E2A-8621-480B-B5DE-7A59031D8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3Z</dcterms:modified>
  <cp:revision>31</cp:revision>
  <dc:subject/>
  <dc:title>PowerPoint Presentation</dc:title>
</cp:coreProperties>
</file>