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D953-4241-4395-BB51-DE466D56D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3F90-6B00-4C0C-B490-29A9353E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DF04-9210-4770-8A29-760636A4A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2915-967C-4FD1-8F9C-5F89B95B3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D1E5-6A0B-47BB-B6BD-60610041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6F7F-6A49-4465-B402-C2CD8731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8478-CDBF-4AF1-B628-3B6B37D3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4AC4-463B-4876-B59D-CBCD771B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CC39-3628-425F-AD29-F192F0A0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1B05-C1A6-4E94-8832-4F3CF2EB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C714-43D7-4407-A523-C598F526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42DB-EA7E-4B03-803B-EAF332BA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E5C1-EB1C-4B7F-8C65-A7BC0C585B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3Z</dcterms:modified>
  <cp:revision>38</cp:revision>
  <dc:subject/>
  <dc:title>PowerPoint Presentation</dc:title>
</cp:coreProperties>
</file>