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3D9F-857E-4E6D-8385-003884980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EC0D-B962-4E6C-A106-14F6B468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F978-E93A-4105-A800-A359F87EE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E5CD-6718-4D08-B66D-21E047EF1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60F4-C76B-45EA-868B-ED13221C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CF75-8720-4D06-9713-47FB81B0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D88F-2B68-458C-B341-4EDD4AA4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F936-50BC-45FA-B690-66E05377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6214-C525-4A2A-8407-948055F7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89BF-1313-4683-98BB-E49FE6B4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73BF-3227-46B2-9DEC-46D81E72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07DB-61DF-42B2-AC4F-D7FAB24C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BA30-6D44-468D-8B3A-1D3E553EAD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264960"/>
            <a:ext cx="8934480" cy="62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07Z</dcterms:modified>
  <cp:revision>39</cp:revision>
  <dc:subject/>
  <dc:title>PowerPoint Presentation</dc:title>
</cp:coreProperties>
</file>