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F6AB-2ED4-4B40-A25F-1D1B8B86B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A | PHARMACEUTICAL RETAIL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DCF-3C74-4773-80CA-2CDFBE519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B82-5B5F-47DD-8C23-5C027C5A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5BB-16B6-4E77-8385-642A22F6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EB8-E91C-49B5-A4F6-9A51A411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454-C54A-4CA6-AFB7-877071F9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328-389D-468E-B50C-F2BC64CC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1F2-1CE4-464B-8427-CE54E2CC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51A-EF8B-4B5D-AA33-96548078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D56-E55A-40AC-A9A9-68A449F4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B54-086D-4DA5-8299-F892560D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8AB-9F63-432C-AB1E-F7E6431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DF3-A024-4155-A962-666D4D79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77E-0C1C-43EE-9034-701790C7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6A6A-4221-45FE-A087-D135ABB88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a | Americans generally pay more for drugs on patent than other nations in the G7, but less for over-the-counte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a | Americans generally pay more for drugs on patent than other nations in the G7, but less for over-the-counter products</dc:description>
  <dc:language>en-US</dc:language>
  <cp:lastModifiedBy>Jia Yao</cp:lastModifiedBy>
  <dcterms:modified xsi:type="dcterms:W3CDTF">2013-09-06T15:41:0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a | Americans generally pay more for drugs on patent than other nations in the G7, but less for over-the-counter products</vt:lpwstr>
  </property>
</Properties>
</file>