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E54B-1246-44CD-B225-AE6FF27C6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4 | SOCIAL BURDEN OF POOR HEALTH IN AMERICA, 1963-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567A-CE94-48E2-9599-9AB79DFB3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C0CD-CEAB-44C3-B553-B8F42563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0148-DD5B-412A-8FF5-C794B5A7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C560-4D16-4E86-9C96-E08D589A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C3D5-33F7-4423-8A86-183D641F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8BD3-F831-4EAC-A252-43A84CBA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9131-CB8E-4E8B-873F-F06C6713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3968-2C52-4293-8E38-D04F4923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A1B3-092B-4755-8CE8-F8DB9334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1AA1-6D2E-489C-9D4A-837A7B1E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A836-2C63-4920-83FE-F01797CE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1257-D0CC-470F-AC48-0AE325B1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ECD9-18FF-496C-9CA5-45D18DAC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9AF6-D73F-4CE9-A73C-EC19B8AF9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4b | In willingness-to-pay terms, the social burden of illness has declined since 1963 even though medical spending has increa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09480" y="16002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ocial burden of illness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09480" y="57150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losses = national health expenditur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rtality losses = willingness-to-pay value of premature death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4b | In willingness-to-pay terms, the social burden of illness has declined since 1963 even though medical spending has increased</dc:description>
  <dc:language>en-US</dc:language>
  <cp:lastModifiedBy>Jia Yao</cp:lastModifiedBy>
  <dcterms:modified xsi:type="dcterms:W3CDTF">2013-09-06T15:31:45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4b | In willingness-to-pay terms, the social burden of illness has declined since 1963 even though medical spending has increased</vt:lpwstr>
  </property>
</Properties>
</file>