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E2F4-A839-496E-80BC-D473E4A25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5B | PRIVATE HEALTH INSURANCE COVERAGE OF ELDERLY 65 AND OVER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79B2-4B05-48C1-BEB1-1F4024FFE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B82-2B0D-4C8D-BE49-3B093104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5CD-AA0B-4ED9-9C1F-92E16E1A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76C5-EC0B-4625-B888-8114A989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6E4-6109-411E-A60F-9E2C50C0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BF78-380F-43C8-8ABF-95C80F35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1F7B-6D22-46B1-A13C-741B3C00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0CA6-10A6-4743-96F6-43B8E2BF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B346-1064-46CE-8276-0808315F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6816-3799-4924-8E4B-A27A5D00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0184-7BB7-4E1F-9B00-F220E936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9C97-F5F0-42F9-A6BC-5D30D4CE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C9F-BF91-47F8-A8FF-3236334A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ACF9-2E8D-412E-9C91-8A86BEDC7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5b |  A large fraction of the elderly has supplemental Medicare coverage through employers or non-group pl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168560"/>
            <a:ext cx="92455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20574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5b |  A large fraction of the elderly has supplemental Medicare coverage through employers or non-group plans</dc:description>
  <dc:language>en-US</dc:language>
  <cp:lastModifiedBy>Jia Yao</cp:lastModifiedBy>
  <dcterms:modified xsi:type="dcterms:W3CDTF">2013-09-06T15:17:05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5b |  A large fraction of the elderly has supplemental Medicare coverage through employers or non-group plans</vt:lpwstr>
  </property>
</Properties>
</file>