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E002-5687-404F-A7F8-F60A94AA01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2a | Output per Hour and Output per Unit of Input Indexes (1987=100), Private Sector and Ambulatory Health Care Sector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4F2A-A4EA-45FF-9DC0-86057044AA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3692-9388-45FC-AF07-EB278971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57ED-0083-4C29-97B6-64FAD1BA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0E76-512B-4083-BFAE-ABDAD4E1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1091-0048-428A-A30D-8BD9734B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F03A-6C10-4101-8557-2DE3CAE4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A3C3-4CAC-4A3C-97EF-3D3D6523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2E40-EAC6-4FAF-A8AE-75558868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EBED-9837-4EED-816D-D90DCE87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ECB8-3BE0-4728-A2CC-5447832E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BA89-83E1-428F-B81C-BF7AD471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E204-C217-4628-A094-A5D39617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F3A5-35CA-45C8-9B80-682F47A2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7C17-6303-4F77-875D-AE61DF21A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2a. Since 1987, low or negative productivity growth in ambulatory health care contrasts with steadier private sector productivity ga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30120" y="1015920"/>
            <a:ext cx="840744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2a. Since 1987, low or negative productivity growth in ambulatory health care contrasts with steadier private sector productivity gains</dc:description>
  <dc:language>en-US</dc:language>
  <cp:lastModifiedBy>Jia Yao</cp:lastModifiedBy>
  <dcterms:modified xsi:type="dcterms:W3CDTF">2013-09-06T14:59:03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2a. Since 1987, low or negative productivity growth in ambulatory health care contrasts with steadier private sector productivity gains</vt:lpwstr>
  </property>
</Properties>
</file>