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D4D4-F78A-47C0-AC95-EBB7C4CA9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4 | SOCIAL BURDEN OF POOR HEALTH IN AMERICA, 1963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50BC-36D6-49F4-B4EA-FDF21025B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DE5A-3697-43E3-9B97-2E254BB6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7FAD-097A-432D-886D-6F19FCF2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3B3-0C6A-4AE7-8203-68D73704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C3D-3B97-4AAD-9F5F-E9B2F4A7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396-0A94-4AA6-84F5-A3D8CE11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F55F-0103-449F-97DF-6DFDD843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CB21-7371-44D0-BDE6-2DB9BA87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EAB-FA93-4353-97F9-B5D6EC46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511-DF23-41B5-B566-012D2077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11E-805B-41D6-A431-C4C10CE3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F8C0-272B-4084-8F7B-6DF36A34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13F9-8ED2-4425-B666-4B077759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D6C5-66CC-4127-BC59-064C11524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4a | The economic burden of illness has risen since 1963 even though loss related to premature death and morbidity have decl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9480" y="1600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conomic Burden of Illnes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57150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losses = national health expenditur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bidity losses = lost earnings due to illnes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tality losses = lost earnings due to premature dea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4a | The economic burden of illness has risen since 1963 even though loss related to premature death and morbidity have declined</dc:description>
  <dc:language>en-US</dc:language>
  <cp:lastModifiedBy>Jia Yao</cp:lastModifiedBy>
  <dcterms:modified xsi:type="dcterms:W3CDTF">2013-09-06T15:31:24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4a | The economic burden of illness has risen since 1963 even though loss related to premature death and morbidity have declined</vt:lpwstr>
  </property>
</Properties>
</file>