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6115-39C2-4436-AC3C-1104A7342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a | Inflation-Adjusted Per Capita Household Net Worth, GDP and Health Spending, 195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5F66-F09E-4986-A44A-29DE726BB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5ED-892F-4A26-AB33-0D2C4651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CEE-291F-4235-803D-16E42DA8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1BE-035C-46B5-BFFE-BCC534F4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A71-C5DB-4A2F-AE8A-6564F37D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405-0488-4321-8472-1D279549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320-CBC1-4BD6-B57E-9210D191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EE1-89F8-4C2A-B37A-B2C42785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EF6-6347-4CFF-A4CE-E5DD7F8A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667-0A05-48D8-B4E0-F7988F95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F66-989B-4C9B-8910-7312A5C4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58E-6B7B-4D2B-B50D-4FC16A68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208-2548-477B-986A-0240249B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698C-0AAC-4D0D-BD88-CE778D4D3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a | Since 1950, inflation-adjusted health spending per capita rose much faster than per capita household net worth or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of real amounts per capita, 2005 chained dollars: 1950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a | Since 1950, inflation-adjusted health spending per capita rose much faster than per capita household net worth or GDP </dc:description>
  <dc:language>en-US</dc:language>
  <cp:lastModifiedBy>Jia Yao</cp:lastModifiedBy>
  <dcterms:modified xsi:type="dcterms:W3CDTF">2013-09-06T15:25:59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a | Since 1950, inflation-adjusted health spending per capita rose much faster than per capita household net worth or GDP </vt:lpwstr>
  </property>
</Properties>
</file>