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3F4-4F83-4524-934C-DA36A156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D0B-E5A0-4994-8E58-34321179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A2A-22DD-410D-858A-897330B6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D8B-E25E-4A71-80F7-7675E3D0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1AE-41EF-4EA0-90F2-54E9C62E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4BE8-3AEE-44B5-B12C-8712BB6C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3DE-80B4-44B5-94E7-DE467001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208-B3C9-41DE-948C-BC188609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4A5C-4117-4D6C-95F3-61C29A73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509-D05A-4E38-BB8D-ED94AD4E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DA76-7212-4385-9F97-361615B4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A116-DCC8-4408-8227-A887CCAA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CF33-DA27-431E-883A-05BF93A2B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19040"/>
            <a:ext cx="9085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0Z</dcterms:modified>
  <cp:revision>37</cp:revision>
  <dc:subject/>
  <dc:title>PowerPoint Presentation</dc:title>
</cp:coreProperties>
</file>