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07F-5923-4911-BB43-C92C7337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D06-1399-45F3-86D6-1D98D73A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C2F-B668-4616-82CC-299AC659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CCC-8252-422A-8B7E-EC2A794D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891-C1CE-4208-9C79-8F8B2631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54A-1CC7-4F79-8B0B-5760C60A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9FF-7ED2-4572-9302-52AE6B0A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1ABC-6862-4D42-A015-C1FE7676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F578-0431-4F1D-90CF-024CB82F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57E-4D22-4635-AAAD-EE873E0E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70A-A2F3-4A74-9714-8CEF2623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978D-491D-49CD-A9AC-D5F8E072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A827-66FD-407E-B91A-E9C85DEA0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900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8Z</dcterms:modified>
  <cp:revision>37</cp:revision>
  <dc:subject/>
  <dc:title>PowerPoint Presentation</dc:title>
</cp:coreProperties>
</file>