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280E-38C2-45A4-A51D-4372C2ED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6865-0642-4D43-879D-D5DA1F2E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9DD9-8FC1-4629-A638-8FB764F8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BD34-EF05-423D-8DD9-D681970B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4527-7523-4E5D-ADDB-A4183551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8F48-139B-4EE0-B280-F6CB65B5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9089-10CD-42EB-A7AE-C1A4A3BB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6E9F-F322-471A-85A6-CB525F10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1086-0CBD-45E0-84EC-2C8B4D6F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9386-1921-4523-810F-F85A1776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8F34-43AC-401D-82DD-BDF90886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AD0A-00CC-4A60-B382-2401A88E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5528-CFDD-4397-87C9-8F39B1D54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60480"/>
            <a:ext cx="9123480" cy="67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1Z</dcterms:modified>
  <cp:revision>12</cp:revision>
  <dc:subject/>
  <dc:title>PowerPoint Presentation</dc:title>
</cp:coreProperties>
</file>