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9A7E-205E-4B81-A7ED-9B1F4A0FE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A282-A6D0-417E-B4DA-1E7A7841B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4BBB-0027-4F66-B303-8740FDE03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6C44-D926-4207-9DD4-25889442D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1E58-C3CF-494B-AFE9-5556AA294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CC13-8D2C-4E5A-8F74-744F33BC4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CCD1-7E8A-4B2F-9F09-334821ED1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E42E-37C6-4A43-8291-225B3F0CD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DEF1-F662-43ED-9B47-2FC7C47D0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72B8-5034-4AB4-A8A3-C07E4A57F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0DE0-EC2D-4040-AAF8-B892131B0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FB89-0919-4593-B29A-62ED993E2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3B040-E202-4719-9E8E-AC4D196531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324000"/>
            <a:ext cx="9144000" cy="62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6:59:15Z</dcterms:modified>
  <cp:revision>8</cp:revision>
  <dc:subject/>
  <dc:title>PowerPoint Presentation</dc:title>
</cp:coreProperties>
</file>