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D45-18C9-4C38-A396-FD8AB93A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0B0-EE96-4D60-A04A-D58D582E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00D-B416-4A81-BC42-47A4049A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C09-E722-41AF-8DBA-048B85A8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14E-AE54-4424-B283-8C486A02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46A-FED8-4460-9494-A728BBCE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1C5-DE69-48FA-8B5A-EA2B709A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089-84C0-4E31-A837-F5D28722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F18-12BA-4531-AB8C-71B7285F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408-86EC-416B-9EFD-6A68D80A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B5B-F00C-4930-97B7-2807CA20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711-899D-4D2D-8951-E775A92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8B86-D8D4-4A9F-B3A9-093EFDAB1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1Z</dcterms:modified>
  <cp:revision>37</cp:revision>
  <dc:subject/>
  <dc:title>PowerPoint Presentation</dc:title>
</cp:coreProperties>
</file>