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C0A3C-2A5A-4BF6-A7D4-20512334CE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1.1 | TRENDS IN EARNINGS AND SUPPLEMENTS TO WAGES AND SALARIES, 1948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5C66D-8672-4A55-8D48-99C09405B5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50CD-F03A-444B-9BF5-2E677B017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8D76-C51B-4E1D-924D-B15D86D6F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5EF9-677F-477C-849C-1E708F536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ACCE-BC3A-43CE-957E-6C3FD5BF4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209F-A751-42FC-803A-1D9FCD790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C4B5-6880-4342-AACF-23440B59A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B647-04CD-4FB0-A64C-9136AE6A9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B501-0DB8-4637-9294-4F7575278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00CA-4068-4A3D-987E-0D53B6121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D24D-5C07-4715-97C7-639ABAD9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1406-A341-49DF-8F62-AA67A558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1928-0B62-4E76-B882-8FA007F0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921F4-9FC4-4D4D-A953-34142DF250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1.1 | Rising health-related supplements are an important reason real hourly earnings have grown less quickly than average compens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85800" y="14479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lation-adjusted hourly wages index using personal consump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penditures deflator (1948=1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9:24:58Z</dcterms:created>
  <dc:creator>Trinity Technical Services</dc:creator>
  <dc:description>11.1 | Rising health-related supplements are an important reason real hourly earnings have grown less quickly than average compensation </dc:description>
  <dc:language>en-US</dc:language>
  <cp:lastModifiedBy>Jia Yao</cp:lastModifiedBy>
  <dcterms:modified xsi:type="dcterms:W3CDTF">2013-09-06T15:08:32Z</dcterms:modified>
  <cp:revision>8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1.1 | Rising health-related supplements are an important reason real hourly earnings have grown less quickly than average compensation </vt:lpwstr>
  </property>
</Properties>
</file>