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B8DB-6923-4E03-B3D7-3E0D436F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42F8-C366-4880-AA32-16AB718A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3E8C-7C3D-4E68-AA1A-446F4405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13EB-4EE2-42E2-9ACC-7867003D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F9A9-3111-49DB-BAEF-05F5859A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CAD3-B5FD-41DB-994C-7B011927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7FE2-2AD8-4B8F-BE5D-5A49E26C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3036-A4EF-478D-9DC7-EA969023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0690-77B3-4F3F-8F02-4B2BD62A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CD9B-60F5-4CEC-A243-70B64BF3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9F90-D68F-4510-BB6E-87E14D3B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8A35-9026-424C-9515-9922E57A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9429-8C58-49CC-9A91-A3EBFDA57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2840" y="1143000"/>
            <a:ext cx="9058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5Z</dcterms:modified>
  <cp:revision>31</cp:revision>
  <dc:subject/>
  <dc:title>PowerPoint Presentation</dc:title>
</cp:coreProperties>
</file>