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44B5-F96B-405B-97DD-430B7BFF8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7730-F84E-4E98-98B0-ED614B97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4DF0-C97F-4807-8F83-F40318343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3818-6E1C-461B-B38F-91C6C882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2FA3-D9A7-476C-9709-ACD01395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A1F6-9224-414A-A1BB-F1863041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F835-7573-494A-A74A-76D3DBD8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AB44-AD0C-4244-802B-7F9215A8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89D1-ADA7-48DA-837E-55682ADC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F8DB-22F7-4F50-8923-617E0D73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EB89-0D20-4036-881E-531C7F0B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AE9C-8CCC-46C2-B6EA-BE5E1D70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46AA-E843-404F-8FBC-982F57DC01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57200" y="7920"/>
            <a:ext cx="824076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6Z</dcterms:modified>
  <cp:revision>8</cp:revision>
  <dc:subject/>
  <dc:title>PowerPoint Presentation</dc:title>
</cp:coreProperties>
</file>