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BF56-5090-4CA4-9964-356D73218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A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84FB-4095-4C0D-975D-FCBFC88AF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142-C974-4BCF-B946-626564D3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735-63B9-466F-83A2-FA5B0B0D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61C-F1F8-4EC4-B1EF-D1C5C897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BAC-8D9E-497C-BCA4-6540C35B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715-2434-4C7D-9F73-08F8626F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424-BA55-4FFC-AA4F-05B33673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4CB-08E7-4BBC-91D2-EC1E0EF8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288-825E-4C18-91F8-193FCA84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758-6961-4924-B888-35F14381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12C-CB94-4A66-855A-235F196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BA3-96FF-416E-B53E-41217AF2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F74-105C-4FCD-ABA2-81E1BED7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FA08-DB85-4417-89C2-A345D118B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9.1a |  Even after accounting for the resources spent to add a year of healthy life, U.S. health spending appears to provide good value for 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5600" y="1600200"/>
            <a:ext cx="48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, 1987-2000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1720" y="5759280"/>
            <a:ext cx="85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Health Report Card for the N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HE Presentation. June 6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. http://healtheconomics.us/conference/2006/plenaries/powerpoint/cutlermadi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 (accessed August 1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a |  Even after accounting for the resources spent to add a year of healthy life, U.S. health spending appears to provide good value for money</dc:description>
  <dc:language>en-US</dc:language>
  <cp:lastModifiedBy>Jia Yao</cp:lastModifiedBy>
  <dcterms:modified xsi:type="dcterms:W3CDTF">2013-09-06T15:40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a |  Even after accounting for the resources spent to add a year of healthy life, U.S. health spending appears to provide good value for money</vt:lpwstr>
  </property>
</Properties>
</file>