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0161-56E1-4188-AA7B-6AF2F99C50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2a | Net Burden of Health-Related Expendtures by Family Income Decile,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7B9D-8E5B-42CE-B9BA-CBCE8BEEC6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FDA2-630A-4BF9-813F-E742B26A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6007-49D3-4EC6-91DC-C5A7B06F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9FE2-D828-4CD6-83F0-6CA197DB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97C6-D5EA-49F1-88D3-F0C4DA1EE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6932-708A-4FCF-8ADD-E0270B3B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423D-C19B-4D37-AAD6-D687CF71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152D-A2EE-4109-A8DD-A28FA38C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6406-D294-413B-9050-E4159A97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C661-2541-4BDF-A4E0-27257D4E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DA1A-7485-4275-83C4-8B25A82B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84D5-8B53-403C-8CEA-3D40E57E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1DF0-EF95-4F97-99A9-63C9C225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AD7C-52A0-4CAF-A836-C7CC1C4C7B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2.2a | The net burden of health-related expenditures is about 2-1/2 times as large for very low income families compared to very high income famil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386000" y="417816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ome decile (1=10 percent of households with lowest incom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62120" y="1371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pending as percentage of family income (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484200" y="457992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The family burden of health expenditures includes out-of-pocket spending; premium payments for group and nongroup health insurance (including the employer share) and Medicare Parts B and D; and health-related taxes, including payroll taxes for Medicare Part A and the family’s share of other taxes used to pay for publicly-financed health care.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84200" y="5815080"/>
            <a:ext cx="843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Selden TM.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Using Adjusted MEPS Data to Study Incidence of Health Care Finance.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gency for Healthcare Research and Quality. http://www.ahrq.gov/about/annualconf09/selden/selden.ppt (accessed July 16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2a | The net burden of health-related expenditures is about 2-1/2 times as large for very low income families compared to very high income families.</dc:description>
  <dc:language>en-US</dc:language>
  <cp:lastModifiedBy>Jia Yao</cp:lastModifiedBy>
  <dcterms:modified xsi:type="dcterms:W3CDTF">2013-09-06T15:12:55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2a | The net burden of health-related expenditures is about 2-1/2 times as large for very low income families compared to very high income families.</vt:lpwstr>
  </property>
</Properties>
</file>