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C1A9-16AE-4EC8-B6CE-F7ACF1C0C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4A | PER CAPITA GDP AND HEALTH EXPENDITURES, OECD COUNTRIES, 20 LARGEST OECD COUNTRI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E00D-C2AD-43A3-8274-494EF0AF4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A76-4E9B-48BD-BF69-75897BFC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655-A891-48D8-96D0-0E0500AA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F02-D0EA-4C77-B248-E7B62658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2770-31A4-4FE6-8BE3-A9BBEA75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92A-D822-4302-8A8E-EC53C6BD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4CD0-F7D9-483E-B86A-60656BB9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E16-2319-4520-A253-A4391019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123-BBDB-40E8-BE67-93DFE696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9BA1-BB5E-418F-97A1-74E2F25A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41B-124C-411A-878E-2A80BC24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687-624E-4EC5-A2C2-147A86AB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A6A2-E731-4D65-AD31-7FBC045D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3ACE-C49C-4E25-8415-73A823EDF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4a | The conventional wisdom is that U.S. health spending is far above its expected level given the nation’s per person GD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01520" y="1320840"/>
            <a:ext cx="886464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722960" y="586728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DP per person (U.S. purchasing power parity, 2004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4a | The conventional wisdom is that U.S. health spending is far above its expected level given the nation’s per person GDP </dc:description>
  <dc:language>en-US</dc:language>
  <cp:lastModifiedBy>Jia Yao</cp:lastModifiedBy>
  <dcterms:modified xsi:type="dcterms:W3CDTF">2013-09-06T15:40:4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4a | The conventional wisdom is that U.S. health spending is far above its expected level given the nation’s per person GDP </vt:lpwstr>
  </property>
</Properties>
</file>