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C202-4308-4176-87AF-28FC4AAC9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C367-27A8-44AE-BC37-0D69A9085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A3C9-CD95-4049-BCD1-9BF7B62F3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3067-0AA5-4AB4-92E8-B08806C70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441D-B437-48F1-A1F9-79D9B8846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AB76-7ACA-4CF1-9D1C-570C6EFC1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3A61-E8F4-4777-AAB1-5875BE4B5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7CB8-B26A-4704-9C98-91B308533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286E-052B-49A1-8047-A704C6BEB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F07E-95B3-4E24-992B-75EBAE904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9D68-1DC0-4B65-AAED-7AB1F8451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ACBC-FD47-4D70-8F2D-D08B6FE44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DF05E-C90C-4156-910B-93EE886D46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330120"/>
            <a:ext cx="9144000" cy="619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2:46Z</dcterms:modified>
  <cp:revision>30</cp:revision>
  <dc:subject/>
  <dc:title>PowerPoint Presentation</dc:title>
</cp:coreProperties>
</file>