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D916-4BA6-4C22-BF70-A9F8CFCEB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9872-F9A1-4DDE-A2FE-27790954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397F-D6B3-4BF5-A136-6D5AF8C0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6B87-B8E8-4975-B984-021D5DCD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CC52-DEDB-4658-B8F4-D4914E55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D148-F3DB-4785-98C8-6FE881EA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67B7-2AC7-4822-8EBC-B6861116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7AAD-48AD-4CA4-9D34-AA4B42B4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3237-A46C-453D-9C3D-AB8DC144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8C3D-2B37-467A-8C07-4AD7A332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D1FE-A19B-4BB4-827A-E97E68EA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5D2A-794E-4A94-AAD0-4A0544FB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6D06-CA4C-492D-821D-D203BE818B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9200" y="149400"/>
            <a:ext cx="898848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4Z</dcterms:modified>
  <cp:revision>26</cp:revision>
  <dc:subject/>
  <dc:title>PowerPoint Presentation</dc:title>
</cp:coreProperties>
</file>