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F5E13-C346-4372-B163-47066E73A2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09691-938A-4CBC-B481-73B1C300315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20.2 | Components of Health Expenditure Growth, 1966-200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BD4B2-7AB4-4FCD-ACAD-9DF6AF560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49609-4888-409C-844B-D149E8743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37FF5-8D86-409F-8986-80E848F9A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A5DE1-CBDC-4019-8EAB-652B2F042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8392D-C329-4483-91DD-4EA6B9E34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D0C74-A508-4EF2-9D61-2AD7FE432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014FF-4FE1-475F-9511-ED329385B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1E566-2746-415E-B62D-1E443D2BC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56163-A3D1-4F32-9338-4F47CB1D4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2F96B-C54B-4621-A10F-A09AC1CC3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4E9E1-CC9E-43F1-B3D0-ABFC0CFF9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66561-C5A5-483E-A04B-779384DC0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5E20D-F30D-4188-8F13-C24998A5F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43101-EB04-48E9-8280-4D231CA63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2492B-8131-406B-84D2-DA3C3EF99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8129A-FF47-4ED5-B394-58BF2BD63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3EE02-FA16-4AB3-BBD6-CB3777998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F3A95-A996-4B1B-9A2F-9C52C8CED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05C8E-DC3E-4497-BD6A-5E332F8FE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066E2-1C1D-4F85-82E6-B1AC1A129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4BFD5-C795-400C-9E0B-86AFCF985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B0F30-5B6D-4E26-A721-C7B9AAD3E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8D866-687F-4596-A8FA-4D129E1AD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5B39A-E619-4D8B-849D-309A9DB36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64B4F-5ED5-4FC2-BBEA-F2BA913DBE2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04D9C-7F40-4778-BFDF-10AFE809FA6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Object 3" descr=""/>
          <p:cNvPicPr/>
          <p:nvPr/>
        </p:nvPicPr>
        <p:blipFill>
          <a:blip r:embed="rId1"/>
          <a:stretch/>
        </p:blipFill>
        <p:spPr>
          <a:xfrm>
            <a:off x="-50760" y="787320"/>
            <a:ext cx="9198000" cy="61214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66760" y="0"/>
            <a:ext cx="86104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20.2 | The role of technology on health spending growth per person is sizable regardless of the time-frame and assumptions us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Box 3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4T15:46:42Z</dcterms:created>
  <dc:creator>Kristy</dc:creator>
  <dc:description>20.2 | The role of technology on health spending growth per person is sizable regardless of the time-frame and assumptions used</dc:description>
  <dc:language>en-US</dc:language>
  <cp:lastModifiedBy>Jia Yao</cp:lastModifiedBy>
  <dcterms:modified xsi:type="dcterms:W3CDTF">2013-09-23T19:14:12Z</dcterms:modified>
  <cp:revision>645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20.2 | The role of technology on health spending growth per person is sizable regardless of the time-frame and assumptions used</vt:lpwstr>
  </property>
</Properties>
</file>