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C2DE-4200-49BE-A597-40DB699B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36B9-27BA-440B-AA36-0404E3D7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EF25-BCBC-4C40-A5A1-97421050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FD1F-9BAA-4622-8D94-1EEB6E0B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9C98-541A-4556-B314-AD1E31FB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43AF-56DB-438C-8FFA-5C8998AF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60D4-9323-4F40-9740-7681A52C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758C-DC9D-4ECC-B625-41BABA55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8200-B781-4338-ABF4-EF0FAA0D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A62E-9466-4B79-BE7A-A627D23E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45D-5B90-429D-AB52-FBA376B5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2153-21B4-4EA6-BD95-E0E6F98B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C899-1E12-4552-B665-779349AFA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3120" y="0"/>
            <a:ext cx="853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30Z</dcterms:modified>
  <cp:revision>20</cp:revision>
  <dc:subject/>
  <dc:title>PowerPoint Presentation</dc:title>
</cp:coreProperties>
</file>