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95D-21B2-4EB1-BDE8-2C9E6602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180-200A-47D5-813D-FFA33820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1B6-97EE-4916-A2D7-CCE1F936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D44-D750-4FFE-BC89-9C072C26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EA4-1876-4BAF-AAFE-23918656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405-8ED0-4270-9F3B-8878D184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9EA-6423-41F8-8097-6B74FEF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672-38B0-46A4-BCB8-BD7B6943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DCC-9738-410E-B3FF-C6465F6F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560-AE57-49D9-85FE-7424F4DC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33A-DC99-440D-84E1-3F5BAE3F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C02-C656-473F-91EB-C2D9876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1118-93E7-4DF0-A09D-6E42F172C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52280"/>
            <a:ext cx="898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6Z</dcterms:modified>
  <cp:revision>37</cp:revision>
  <dc:subject/>
  <dc:title>PowerPoint Presentation</dc:title>
</cp:coreProperties>
</file>