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C29A-3978-4C83-96C9-47979D9C8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99C7-3258-4B88-BF59-3A970242AC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6a | Health Spending, by Source of Financing, 20 Largest OECD Nation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027-191B-4FB6-866E-D139CEA0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9DA-6DB6-4419-90B5-27DDE89B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137-5C3E-4E2B-A8DE-2FA90131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DAA2-6C5D-4A71-AB24-165FB8A9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8F43-3303-4877-8F79-DAD926D7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E8C7-747A-4A99-8B5C-86399421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D45D-6408-49DD-B01A-BA1213BC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10E7-A717-464B-BC80-9AD07842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AB15-1A1B-4EDF-A360-0206105C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DE7B-EEB8-4A01-BF4C-DBC8FF39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D490-BDDD-45C6-B41A-B824E4A0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86D-F18F-4DB1-BCB0-3BD61EC1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BB40-91B4-439A-8DA0-CBC37752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8FFC-3B52-485B-B88E-BF649E6B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7EC0-7189-4000-969E-162D392F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A897-A91E-4337-B83B-9BE2A6BA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E40F-4EA6-41E4-BFD3-C86AB03E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AE7F-F20C-4574-B46C-8C1736BC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C7FB-CC80-48B9-AE39-BCFF7586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1E0-B771-4828-807F-548FF6B8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000-EE0A-4B71-ACA1-F10D38BE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7EE-7EBE-4859-B629-0D5C8CFA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8DC-7D69-4151-904F-2CA51E42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BBE-36BD-4736-8934-72C5B1E6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0F8E-E39B-43F0-A222-5B9668ACD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4D44-7DCC-4161-B4C3-4F98C5B66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6a | Among the 20 largest economies in the OECD, the U.S. has the fourth lowest percent of health costs paid for out-of-pocke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291960" y="787320"/>
            <a:ext cx="8560080" cy="5626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2495520" y="6019920"/>
            <a:ext cx="576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Countries ranked by out-of-pocket share of total health spend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93400" y="6392880"/>
            <a:ext cx="64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Version: June 20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6a | Among the 20 largest economies in the OECD, the U.S. has the fourth lowest percent of health costs paid for out-of-pocket</dc:description>
  <dc:language>en-US</dc:language>
  <cp:lastModifiedBy>Jia Yao</cp:lastModifiedBy>
  <cp:lastPrinted>2002-05-16T21:44:34Z</cp:lastPrinted>
  <dcterms:modified xsi:type="dcterms:W3CDTF">2013-09-04T21:03:59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6a | Among the 20 largest economies in the OECD, the U.S. has the fourth lowest percent of health costs paid for out-of-pocket</vt:lpwstr>
  </property>
</Properties>
</file>