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8B4C-B110-4F5E-AE36-F340AE29B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C | RATIO OF HEALTH-RELATED UNFUNDED LIABILITIES TO U.S. GDP AND HOUSEHOLD NET WORTH IN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41FF-7C30-415A-8C75-7A64A57AE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88E-CEA0-451F-9AF2-33D0ACEE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BD0-3992-4588-A81B-72BBD7D5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6F21-CCF1-4F75-8042-9CBA4C87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7E7-E9F9-405A-B562-A6C0A8F1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ACF-ABB2-4DDA-8DF6-3DF54F3C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28A-4571-4800-B032-99DBE352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9AE-7E3F-480C-B132-534A3B0F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E3B-FDAF-4390-ABE2-8715F570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046-87D1-4101-96C2-FA804DF2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0D0-5939-4DCF-ABFE-7801D1C3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AED-312B-495B-A856-22C8D40B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A4E-191C-4D57-AD19-DBD1C4A4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95F6-E26A-4D79-83D6-2EC028B7E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c | Health-related unfunded liabilities alone are  at least double national income; in the long run, they exceed current U.S.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2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55480" y="1405080"/>
            <a:ext cx="1600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 of unfunded liabilities for Medicare and Medicaid relative to measure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2680" y="603720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funded liabilities calculated as of January 1,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c | Health-related unfunded liabilities alone are  at least double national income; in the long run, they exceed current U.S. net worth</dc:description>
  <dc:language>en-US</dc:language>
  <cp:lastModifiedBy>Jia Yao</cp:lastModifiedBy>
  <dcterms:modified xsi:type="dcterms:W3CDTF">2013-09-23T19:14:3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c | Health-related unfunded liabilities alone are  at least double national income; in the long run, they exceed current U.S. net worth</vt:lpwstr>
  </property>
</Properties>
</file>