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D18B-5B93-4FC0-A0D4-B37329EAA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96D6-F860-4B37-AE0E-D1801D7712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9b | Government Health Spending (all levels) as Percentage of GDP, 2002 and 20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ahoma"/>
              </a:rPr>
              <a:t>Source: Kotlikoff and Hagist, Who’s Going Broke? Comparing Healthcare Costs in Ten OECD Cou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ahoma"/>
              </a:rPr>
              <a:t>NBER Working Paper 1183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5AA5-3537-43A7-87C7-260A58B94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A995-3F46-4B23-91D0-873ADA6D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1D4A-966D-4115-ABB9-F42373230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402B-734C-478C-B68A-02256338C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DA50-F57C-43C8-B6BC-3523E2E8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2088-1A20-439D-93D5-9360E5DD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1CF4-C025-4429-BCBD-CEE4CC37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FE28-ED24-46CD-B09A-3F79C038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F87C-2AC2-4F43-B5FA-C7F8943B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C7AD-6E16-4584-8C83-F5C5437E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8587-385D-43CF-A275-B8F44AF3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C1DB-059A-4433-82EE-377240A1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F3FF-60D5-4F8B-9A1E-BA2F3888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7CF9-8811-4BF0-8B17-32929652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5BFB-5117-40B8-AE18-903AD47F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C55D-44FE-49E0-A3ED-8F5AFC58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4857-85FC-45DE-A4DA-6E8645500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4CB9-4F08-4005-947C-70E22D8A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4A0A-D5F5-4BE9-A385-521ECA27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F18D-CA62-4188-8EAE-1D660CAD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969D-3A0C-4A7A-86C7-BE5CC805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9452-BE7B-4F27-93E2-7FB5401F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A80D-F195-4517-9CB8-22E1B24E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6229-4371-4A02-B91B-3FF9B9B4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F6DD-C8D1-413A-9BEF-6F6CDC37F3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0CA4-E3EF-4B2D-B81A-EB332EF5F1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380880" y="1397160"/>
            <a:ext cx="8377200" cy="49273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447840" y="5715000"/>
            <a:ext cx="8696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figures calculated assuming age-adjusted health benefit rates grow at historic rates for 60 yea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9b | But rapid growth in government-paid health care threatens to eradicate this margin of advan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2286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576720" y="6095880"/>
            <a:ext cx="797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gist C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L Kotlikoff. Who’s Going Broke? Comparing Healthcare Costs 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n OECD Countries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BER Working Pap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. 11833. December 200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2209680" y="5334120"/>
            <a:ext cx="54864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overnment health spending (all levels) as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9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9b | But rapid growth in government-paid health care threatens to eradicate this margin of advantage</dc:description>
  <dc:language>en-US</dc:language>
  <cp:lastModifiedBy>Jia Yao</cp:lastModifiedBy>
  <dcterms:modified xsi:type="dcterms:W3CDTF">2013-09-23T19:14:44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9b | But rapid growth in government-paid health care threatens to eradicate this margin of advantage</vt:lpwstr>
  </property>
</Properties>
</file>