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3F1A-747C-4154-B9FC-15B3CE15C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b | Direct Health Spending as a Percentage of Family Consumption Expenditures, by Income Quintil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3B76-1CE6-46D4-8ACC-076637368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2F9-838B-41BF-831A-DA76FFFC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3709-6395-40F5-A860-396B5497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C390-4ECD-4D4F-9DFE-F093EA01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A767-FCC4-4C7D-B737-430CC5CD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C81E-B1EF-460E-AA5D-8A92071F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0DCD-BB01-4053-812A-7A5CBBAD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966A-A362-4766-AA2B-666F0BA6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42A-7083-4250-82DB-749A4DE5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33E3-B799-48F9-B1BE-51D2B017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E024-FA60-41D0-A462-7B5F563E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2343-B433-4820-9094-7FDBF22E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A8D-7942-494E-9D51-BF1186B8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9D41-A507-4D75-831D-9F85AF16F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b |  The burden of health spending is far smaller when compared to consumption rather than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597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health spending as a percentage of family consumption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0440" y="5791320"/>
            <a:ext cx="82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irect health spending includes only the family share of premiums paid for private or public health insurance, along with all out-of-pocket spending on medical ser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b |  The burden of health spending is far smaller when compared to consumption rather than spending</dc:description>
  <dc:language>en-US</dc:language>
  <cp:lastModifiedBy>Jia Yao</cp:lastModifiedBy>
  <dcterms:modified xsi:type="dcterms:W3CDTF">2013-09-06T15:13:05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b |  The burden of health spending is far smaller when compared to consumption rather than spending</vt:lpwstr>
  </property>
</Properties>
</file>