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D95E-FB20-4D30-83A3-2473368B38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2A | HEALTH INSURANCE COVERAGE, BY POVERTY LEVEL, POPULATION UNDER AGE 65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2E01-5DC9-418B-9386-F032353803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788A-6A25-4617-8C37-D3B4CA8FD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ED19-BE61-4616-B680-C3DCB83D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8362-D63E-46D9-B417-8BCF0EA8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2E76-C54F-4985-A439-D9D856F6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317C-7815-4000-8790-DA635EF4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B03E-6358-4CEC-848A-C6CD30EC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2F7E-EAD1-4F36-B9D6-3AB5AF1F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F483-B75F-4D77-8CCF-1F3EEBCF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E5F6-06F4-4CDD-856B-9522DAF1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A7D8-27FC-4CE0-92EB-640FF8A7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424C-7E55-4F93-AC35-68CF0588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C503-415C-4922-95F2-E3CD857C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52BF-C484-457E-85CC-CEC367B8F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2a | About half the non-elderly poor have government insurance, while one-third are uninsured; the uninsured rate declines with inc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895480" y="1498680"/>
            <a:ext cx="52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U.S. population under age 65 with coverage shown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2666880" y="594360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mily income as a percentage of poverty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2a | About half the non-elderly poor have government insurance, while one-third are uninsured; the uninsured rate declines with income</dc:description>
  <dc:language>en-US</dc:language>
  <cp:lastModifiedBy>Jia Yao</cp:lastModifiedBy>
  <dcterms:modified xsi:type="dcterms:W3CDTF">2013-09-06T15:17:34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2a | About half the non-elderly poor have government insurance, while one-third are uninsured; the uninsured rate declines with income</vt:lpwstr>
  </property>
</Properties>
</file>