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DEB0-C141-4D9A-B1C3-5C6172CE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2D2-2538-4D4D-82E7-CF23CF19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00F-237B-4112-8707-A4FE2195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CA8-6A1A-4848-B39D-8DE7C50B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61E-CC78-4602-BC32-88EED3F4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99C-5D1D-40B2-9851-BAFA86F5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D2D-20B0-4691-8BC5-BE99F118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194-677A-4512-8E13-8F1688F9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B7A1-451F-4214-BD6D-4733A6FA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207-C85C-4B9E-8E4B-E1485E7E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158-B8A3-4940-B017-ABC198EC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627-2BCB-418A-BC5C-67FF327E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845E-4332-4652-98F3-C30985052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4520" y="0"/>
            <a:ext cx="899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1Z</dcterms:modified>
  <cp:revision>8</cp:revision>
  <dc:subject/>
  <dc:title>PowerPoint Presentation</dc:title>
</cp:coreProperties>
</file>