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494-AFE5-400F-BF4E-21006ED4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F20-8CFE-4C5D-831F-9268CADC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8A7-560D-4538-BBAE-47F076EE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71C-F299-45E8-A142-629EE0A8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8DA-3BD4-4988-923C-4F4C9D0D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9B34-8F8E-4976-9467-5FCA3EC3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EE2-C776-4CE1-8F0D-364C3B20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E94-9699-49FD-B498-BD95ED8A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913-627D-4C20-BB15-3D11DF98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BD1-1B59-4558-8C62-0D14A552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C86-D61F-4A62-93B6-9086AD0F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EF9-A51D-40D6-B9AE-4D6364A1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E464-BEE8-4B7E-B530-29D022BE4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160" y="76320"/>
            <a:ext cx="91328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6Z</dcterms:modified>
  <cp:revision>22</cp:revision>
  <dc:subject/>
  <dc:title>PowerPoint Presentation</dc:title>
</cp:coreProperties>
</file>