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5CB7-B014-4E5B-A056-BCA74A229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FF63-33FB-4774-80AA-56AB5F8C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31FA-7272-4093-91D7-5B6CEEF3C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8427-5419-47A0-A175-016C7410E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4229-51D3-4855-B7A6-1EF83E52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1032-A997-4C83-9637-E8227D32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8BA2-5A4E-4636-ACB6-5A605917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9CF2-4D99-4042-8E09-4FCEEDD7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039B-20BC-45E4-A6AC-EE91AFD9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2722-B6E2-42F9-8294-CDEA4F6B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9E37-0DC6-48A5-A849-78146049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65AB-9BFD-48AE-A231-1934FD6A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AC0C-1361-4EEB-88F9-715E554A23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480" y="380880"/>
            <a:ext cx="91310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6Z</dcterms:modified>
  <cp:revision>39</cp:revision>
  <dc:subject/>
  <dc:title>PowerPoint Presentation</dc:title>
</cp:coreProperties>
</file>