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22E9-5578-4258-BE0E-7082687F3D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1B | TOTAL GOVERNMENT EXPENDITURES ON HEALTH CARE AS A PERCENT OF GDP: 192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9F44-221F-4568-B9D3-DA460C1E34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26D6-083C-451D-B616-A7E1BE3A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DE27-EDD6-45BA-B647-C215D8B1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F416-B5D9-4F0A-83EC-BE31C3FF9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2299-F823-4449-A2D5-A9DF398F1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2F0E-2C3C-435F-8242-86AB480C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740C-5DA2-45A7-A852-E18A81F9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CC4D-D5D7-4D50-9DA4-D9918C56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17BE-348B-4552-ADC7-0A7743C7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1E1F-0C0E-44A1-B416-62719A5B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FCC7-BA9B-47D4-B60C-68EDC590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5D97-1907-4E8D-9A93-A68E23CB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BEB0-DAB5-426F-936C-B4BD461E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79E5-1178-48E7-8866-8A8830176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1b | Between 1966 and 2007, all of the increase in the size of government was attributable to growth in tax-financed health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473120"/>
            <a:ext cx="8940600" cy="4292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29528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Government spending as a percentage of GD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flipH="1">
            <a:off x="457200" y="579132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 figures include debt service, but the entire amount appears under non-health spending. If allocated by shares of spending, this would increase government health spending and reduce non-health spending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1b | Between 1966 and 2007, all of the increase in the size of government was attributable to growth in tax-financed health care</dc:description>
  <dc:language>en-US</dc:language>
  <cp:lastModifiedBy>Jia Yao</cp:lastModifiedBy>
  <dcterms:modified xsi:type="dcterms:W3CDTF">2013-09-06T13:59:28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1b | Between 1966 and 2007, all of the increase in the size of government was attributable to growth in tax-financed health care</vt:lpwstr>
  </property>
</Properties>
</file>