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33CB-BFE6-41DE-A315-CE632125A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4 | CHANGES IN PRODUCTION OF HEALTH CARE, GOODS, SERVICES, AND GDP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1C03-F484-431B-BA53-70D9C3333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395-1E76-402A-A5BD-6A14A25F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A9B-6BFE-4596-B9AF-5D6B6F15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611-BCD9-44A3-BFE3-D85BFF11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EEF-A90B-460A-99CB-FDB9B07B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E23-53EF-4D97-A666-940CD809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DC3-5058-4825-BC79-5A3E4C52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28C-E8E1-47E4-BDDF-F1E16C77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417-5DD1-42A2-95B0-259F94C4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998-0D1A-4D9A-A24F-E038E8AB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E48-08DE-4879-B5D6-DD9EE8B2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766-4494-40C9-BAFD-BF0E612E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59F-8F5F-4BAC-9832-5E411A06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A227-D376-462D-8DB4-678AA6D91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4 | Output in the health sector has increased much more rapidly than in goods-producing industries, service sector or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63604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44792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hained quantity index (1929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4 | Output in the health sector has increased much more rapidly than in goods-producing industries, service sector or GDP</dc:description>
  <dc:language>en-US</dc:language>
  <cp:lastModifiedBy>Jia Yao</cp:lastModifiedBy>
  <dcterms:modified xsi:type="dcterms:W3CDTF">2013-09-06T14:09:56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4 | Output in the health sector has increased much more rapidly than in goods-producing industries, service sector or GDP</vt:lpwstr>
  </property>
</Properties>
</file>