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0927-FD86-4289-B154-19C16FAC8F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26B6-C29F-439F-B5DF-D1B08B2947D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4a | DISTRIBUTION OF PERSONAL HEALTH CARE EXPENDITURES BY MAJOR TYPE OF SERVICE, 1929-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18EB-8D37-405E-8CE1-1E30DB6AD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6E5B-AFB8-4430-8428-28980298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F588-044A-4ED6-84C3-2D27C63CA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A92E-8929-43CE-BB91-FAC598378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BB90-C82B-4876-974E-88A1BAB23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D269-CA89-4EBA-B16E-F138D6E9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26A5-A52B-4D74-B332-4E5119FC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8744-D64C-4E68-9AA3-352497C3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C975-F915-41BB-A853-CD0C1D80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EF6F7-BE7A-45B6-960D-DE319B3E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6080-2530-459B-818B-C539943B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CAF1-FBB8-4ACF-BC8C-139B4AF1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D942-333F-44DF-89CC-395FF33F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F0F8-8747-4EDD-9683-28AD14E5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744E-A33D-4B9F-A433-64778D4F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94CC-054E-4AF2-8FB5-3D8077298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5DE0-6671-4EBD-8C08-22EC59929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5AEF-61AE-4114-9D5D-4F5BA1BB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2316-716E-4460-9676-B5A20A80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94A0-8C2A-4E75-8D6D-ED896A05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1D33-F850-4C57-B61C-E22B4920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6D52-8841-40F4-8392-8B15C8CE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B07C-B9DF-4F28-B9A9-74BA357F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888D-92AE-4984-A620-FD0884FC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3CAD-210E-4421-81D8-43D2C8D11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E005-9E6C-470B-837B-30C861BA74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4a | Professional services--once accounting for nearly half of all health costs--have returned to being the largest single share of spending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4a | Professional services--once accounting for nearly half of all health costs--have returned to being the largest single share of spending</dc:description>
  <dc:language>en-US</dc:language>
  <cp:lastModifiedBy>Jia Yao</cp:lastModifiedBy>
  <cp:lastPrinted>2002-05-16T21:44:34Z</cp:lastPrinted>
  <dcterms:modified xsi:type="dcterms:W3CDTF">2013-09-04T18:13:21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4a | Professional services--once accounting for nearly half of all health costs--have returned to being the largest single share of spending</vt:lpwstr>
  </property>
</Properties>
</file>