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3545-060A-431C-8A51-1EB5D87CA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193F-5AE4-42AE-A85B-C2C6C1E6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05A2-6F22-45BE-A683-C2B09B73B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17FC-2A01-423D-BD02-1EE11357C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6193-AE51-493D-A01B-E0514331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830A-644A-4758-8B1A-63A31CEB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283C-6C2E-4D35-9F04-D35CA3D4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155A-5030-4970-84D1-E3A83D9F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8DF1-9EBA-4435-A9F1-11609765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E013-52D9-4831-B438-F5BB0B18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3156-9E6C-4D3A-9D1E-142F402A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FC31-6C66-43D7-9C84-BDD678A8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8529-634F-4A0E-9ED7-61632E04FB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27000"/>
            <a:ext cx="887400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3Z</dcterms:modified>
  <cp:revision>31</cp:revision>
  <dc:subject/>
  <dc:title>PowerPoint Presentation</dc:title>
</cp:coreProperties>
</file>