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A519-3828-4AE1-82AE-328B03A85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a | Hours-Adjusted Annualized Internal Rate of Return on Educational Investment Over a Working Lifetime, Selected Medical Specialties, 1955-19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4BEC-C9EA-455D-A2B6-939EEFAD4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A14-2836-4ED8-AB64-9B4B7555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43D-D02F-4552-86DF-E9A87150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C33-5A18-4256-B195-5D90EAEF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F87-B99B-4020-9973-5662E2FF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239-FA75-4286-8419-3166EBF6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2B7-CED7-4C8B-AE4C-1AF09407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8E1-133B-481C-8837-247014C7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283-FE01-422C-BE3E-01F37640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44B-CDBB-42F6-8B6A-0BEED92A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8FF-5FF8-48F2-9C28-4B109DF6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8A2-0DD2-4EC8-AE3D-BA1A5C00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5D3-3B51-45D1-A963-C1B054A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33F1-E881-4092-A75E-2557557AB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a | The annual rate of return to medical education appears for some specialists to generally have risen over many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556272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interval between years is not equal. Each year represents a different study. These studies have similar but not identical method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0948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rs-adjusted annualized internal rate of return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investment over a working life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a | The annual rate of return to medical education appears for some specialists to generally have risen over many decades</dc:description>
  <dc:language>en-US</dc:language>
  <cp:lastModifiedBy>Jia Yao</cp:lastModifiedBy>
  <dcterms:modified xsi:type="dcterms:W3CDTF">2013-09-06T15:08:5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a | The annual rate of return to medical education appears for some specialists to generally have risen over many decades</vt:lpwstr>
  </property>
</Properties>
</file>