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67B3-7D69-4342-80F4-18D0D9C5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162-D4B1-4A4E-ABBA-D6D878F3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C4CD-EBF3-4F01-810A-E30245DE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3D9C-8E70-4D9D-B25B-DD3B79DA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36A-4D1A-44ED-9AE1-8A00EB0B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A63E-F8AF-4EA4-BBE4-4BB7349B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4F3-B421-4D76-8916-86B8B389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5686-0AD9-4CE6-AEB3-3A1E64AD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512D-0FFE-427B-93BD-7FB151ED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430-6AF0-4076-8C56-59C94434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015C-0C64-4ECB-935B-06DE6A99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AC01-019D-408B-852D-6ED593C2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480A-97CC-4531-B8CE-972E3772B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8160" y="355680"/>
            <a:ext cx="91058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8:08Z</dcterms:modified>
  <cp:revision>22</cp:revision>
  <dc:subject/>
  <dc:title>PowerPoint Presentation</dc:title>
</cp:coreProperties>
</file>