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2FA-1AB6-4142-A50D-A9C540ABC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 | State Rankings of Health Services Regulation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BE41-47E8-4230-91B7-E145C2EC1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BE0-33BB-4DFB-8CE0-A93D8099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B58-7ADE-44F6-A045-90D2D2D6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107-E521-4EF1-B01E-5C84515D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570-9B7D-4E77-A606-2747BA4E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CFE-DD43-4F42-AA5B-A040D305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036-3181-49C3-A437-A6DAF57C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FED-B060-463A-8FE1-DCC3FEC0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5CC-6CB0-4A32-9A25-AF9B3C2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3CC-E162-48C9-903A-7C871C1A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B49-E67A-4E95-B22A-E1C8DFF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3CC-7C63-4FBD-B131-065C3EAB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1E5-700B-4BDB-85D3-022A5F3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1856-4A6C-44FC-88B5-F0E0D8DB2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4_3.png"/>
          <p:cNvPicPr/>
          <p:nvPr/>
        </p:nvPicPr>
        <p:blipFill>
          <a:blip r:embed="rId1"/>
          <a:stretch/>
        </p:blipFill>
        <p:spPr>
          <a:xfrm>
            <a:off x="912960" y="571680"/>
            <a:ext cx="6935760" cy="51973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4479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.3--State Rankings of Health Services regulation, 2007 (1=le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5851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raham J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ex of Health Ow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3rd Edition. Pacific Research Institute. 2009. http://www.pacificresearch.org/docLib/20090720_IHOP_3_2009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22:45:09Z</dcterms:created>
  <dc:creator>Jia Yao</dc:creator>
  <dc:description/>
  <dc:language>en-US</dc:language>
  <cp:lastModifiedBy>Jia Yao</cp:lastModifiedBy>
  <dcterms:modified xsi:type="dcterms:W3CDTF">2013-09-09T22:45:55Z</dcterms:modified>
  <cp:revision>1</cp:revision>
  <dc:subject/>
  <dc:title>PowerPoint Presentation</dc:title>
</cp:coreProperties>
</file>