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A72E2-57D1-40C6-998C-FBDD2EFD9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3BBEC-EB09-4909-8C7B-625509954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AAD57-1E7E-402F-A5D0-646383CBC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B77E5-BD5A-47E0-A502-6D3B7FD7C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07B1A-7D29-443B-8320-2A8481D55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93D52-B059-4E0E-A458-F69B73F53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B6504-34BA-495A-827B-9352631BB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AB315-F607-48D2-B5B8-4DC7E5A79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029D7-9325-4B79-A46E-3AA888170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A94D1-0B7B-4ABA-8CDF-775C2E83A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23734-5CD6-40C1-90DD-75BD78D08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907FF-CFFD-45F7-935E-E525831EC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6D633-8885-4BA1-9DE4-16ABA94D23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60480"/>
            <a:ext cx="9123480" cy="672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2:11Z</dcterms:modified>
  <cp:revision>12</cp:revision>
  <dc:subject/>
  <dc:title>PowerPoint Presentation</dc:title>
</cp:coreProperties>
</file>