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AC2A-524E-4845-973A-6404AFEB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BE08-4CDF-4496-87FD-6F73B053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BE81-625B-41CF-A1D2-9DA474F9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383F-DD37-4C5D-BB64-7D96D4E9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963B-DE23-42BB-8530-6BEF86A6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F903-ADBA-4E11-8FEE-50181E33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43DD-6906-46A7-828F-EF82C017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7615-9D96-4E52-A1E2-D77A9396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C8D-2C00-4E8A-B824-D8F32682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9A33-8777-4386-86CC-B409A943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B24D-0065-4819-9B94-3C4FC202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B3CB-4FD6-44CD-BA4C-48F5EDFD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B8CA-B65D-4AA9-B50E-1AA0D45A8B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3760" y="152280"/>
            <a:ext cx="90964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18Z</dcterms:modified>
  <cp:revision>37</cp:revision>
  <dc:subject/>
  <dc:title>PowerPoint Presentation</dc:title>
</cp:coreProperties>
</file>