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C531-B3D2-4C45-8DFD-143ECF7F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F47C-AB60-4C2E-9FF3-72F26F37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8D50-D376-4C39-9966-4CFEDDE1A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F1BE-C579-496F-8A49-E3393CB9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E853-9632-4F6E-8FBC-4037A601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7548-D44E-49D0-81CD-85727781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4CB4-0015-4FFB-AD5E-305B25A3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13DF-E75F-4B40-B0D6-803A5DDB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C4EE-2933-4E47-B65F-BC5D54B3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2F8A-5B39-4E59-B490-6F306472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41FB-3FA8-4027-9B34-23D65659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78B9-CEC8-4B44-BE0A-2E25CC18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7578-F10D-435E-B7D4-AFA73CFFD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9080" y="1295280"/>
            <a:ext cx="91249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0Z</dcterms:modified>
  <cp:revision>28</cp:revision>
  <dc:subject/>
  <dc:title>PowerPoint Presentation</dc:title>
</cp:coreProperties>
</file>