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FE1-39D6-4873-84F7-617BA7C0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51C-7B99-496C-BA26-5CD6C65C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238-47BC-40DE-B826-AFD8E9FF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8E7-125E-4BC2-B639-73FA7B72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237-B5CE-4F9A-BF0A-70D21733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026-C3FE-4704-BE9E-B23F8AF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029-3099-4BA2-992C-71A40B5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4D6-086F-4025-87FF-433786F6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A8A-281E-436D-A4C9-5E086FE5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EAC-F21A-47FA-9A1C-D980C89B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830-EB5B-42E0-8138-C63024D4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D25-4CAF-4C5A-923F-1174C4D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B81-E9A0-436F-A822-CCDDCF045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23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3Z</dcterms:modified>
  <cp:revision>10</cp:revision>
  <dc:subject/>
  <dc:title>PowerPoint Presentation</dc:title>
</cp:coreProperties>
</file>