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BBD1-BE8C-4E8A-9D61-FA53CB5CAE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1b | Inputs, Output and Labor Hours in Ambulatory Health Care Indexes (1987=100)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130F-59FE-4EF7-ACBC-6A22F339F4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8E66-0A36-4D3F-976C-97D8DC38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9D0F-A48E-491C-B35C-C7E8D939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A323-C413-4A18-A781-5D781D99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6B1F-6F68-46D4-9038-A54EA3150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DF3B-17C6-48F9-A391-04A90F3B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4926-3999-44AD-8D0E-75655413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1569-89B7-4233-AD1A-604CA08C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7FCE-A2EF-45A2-87D0-BE9AA343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692B-1879-42E2-ABDC-9B82D262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955F-629D-4901-B09A-7AE680DB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7FFF-E0A3-4D12-BA93-6561F4F8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E273-1BA3-4632-82DE-3D695744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AE56-2EFC-4159-BDF2-7852D33BA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1b. | Over the past two decades, total inputs for ambulatory health care outpaced growth in output even as growth in labor hours slowed dow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1025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1b. | Over the past two decades, total inputs for ambulatory health care outpaced growth in output even as growth in labor hours slowed down </dc:description>
  <dc:language>en-US</dc:language>
  <cp:lastModifiedBy>Jia Yao</cp:lastModifiedBy>
  <dcterms:modified xsi:type="dcterms:W3CDTF">2013-09-06T14:58:59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1b. | Over the past two decades, total inputs for ambulatory health care outpaced growth in output even as growth in labor hours slowed down </vt:lpwstr>
  </property>
</Properties>
</file>