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6085-F0B6-4CD1-A766-A418DB1E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5A39-8F5C-46CA-B3FB-9C8E4541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692E-3CAB-4448-8DB2-E70C7768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3A4C-8577-4F93-802C-A726ADDA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811D-8980-4AF2-934C-D21F1D58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8A60-7490-47D2-AF79-CBEC3B29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3FBA-615D-4CBA-95A3-5A6E60DF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33D9-AE17-406F-BB06-DE4774DF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2D36-75A4-4F72-A104-C3D40B42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1C70-4044-43A2-8701-2711FBE5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3DE7-7169-4674-88EE-ADEBC6CD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4AF0-4AD5-49E0-818D-F8873276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E13C-C437-4842-A2EE-CBB7BB780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64960"/>
            <a:ext cx="893448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07Z</dcterms:modified>
  <cp:revision>39</cp:revision>
  <dc:subject/>
  <dc:title>PowerPoint Presentation</dc:title>
</cp:coreProperties>
</file>