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4C84-5C32-49FD-8259-6AE48695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5134-DF32-4B27-B965-AF42960F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4987-7485-4FB4-9480-0A28188D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E15E-E6D7-4CEB-AA5E-7DAFC60E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59DC-0DC2-4045-A42F-CDC514C4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D5F4-F78F-4D01-A901-9FE5B243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EAFA-A147-4019-91C3-BC4949AC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4941-2F5C-4DFD-AE76-208DD582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C094-2C22-4543-82B5-A8FD49C3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EFD4-BC19-42A7-B925-64AA8072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D626-9FA9-4D04-B3FE-FD8DD477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7C79-CB09-4FB4-8AE5-1E3A3A74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806A-E3EE-4657-AC60-4D9FD41EAB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2Z</dcterms:modified>
  <cp:revision>12</cp:revision>
  <dc:subject/>
  <dc:title>PowerPoint Presentation</dc:title>
</cp:coreProperties>
</file>