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7BF4-2D92-4508-8F5F-7832D392B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A | REAL PER CAPITA NON-HEALTH SPENDING, BY HOUSEHOLDER AG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CC2C-DBEA-4ED3-8F94-036F9D86F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54A-48F7-4B8D-B5C1-2048BA70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A6B-15A9-4953-8A41-181674C3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EE2-98CF-48B5-9B48-9896F092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104-B203-4497-9CF1-1AE77EBB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DB62-3A4A-4F0B-87DC-5E67F242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4463-C0A9-4298-B4D7-57E3FCE8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E3A7-E7DC-470D-A8BD-BE6760B5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3631-CDD0-46ED-8BA0-2EF3396D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FDC2-16DA-480D-91F6-BE91473A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F2BB-23FE-4663-8B02-FB8AB7DB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2653-A347-4CF6-8426-C44E4E07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080-3EFD-443B-B930-7EDCCAFD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E6D9-D7F2-446B-A4AB-D5EFCA89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DB6A-3462-4D0D-829C-3B561A81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D933-D182-4B8B-B3D9-6A2C8030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06A6-0EDE-4E99-8CE8-3DA2D955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BCAD-FB17-4851-B8E2-F07FD972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BBE-3BB2-451A-AD35-2A710445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BCC-6CF8-401B-95AF-DBC63955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62B-5408-47B0-882C-8A09F8C9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182-389B-4FD2-BC7D-9A7C21C5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B4E-B75F-4EB9-B7DD-D0FF8518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B33-9CB8-4D5B-A3AF-54BC8A52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A3E-386F-495B-A7BB-01BF7B49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D7F4-6720-4886-9E3A-E8ED16D3D0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E909-282A-4A45-978F-C6667E6843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a | Real per capita non-health spending currently is higher in households headed by elderly people; this was not true in 19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388800" y="1092240"/>
            <a:ext cx="834876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Chart 4" descr=""/>
          <p:cNvPicPr/>
          <p:nvPr/>
        </p:nvPicPr>
        <p:blipFill>
          <a:blip r:embed="rId2"/>
          <a:stretch/>
        </p:blipFill>
        <p:spPr>
          <a:xfrm>
            <a:off x="388800" y="2921040"/>
            <a:ext cx="8348760" cy="1473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76212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57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9" descr=""/>
          <p:cNvPicPr/>
          <p:nvPr/>
        </p:nvPicPr>
        <p:blipFill>
          <a:blip r:embed="rId3"/>
          <a:stretch/>
        </p:blipFill>
        <p:spPr>
          <a:xfrm>
            <a:off x="388800" y="4292640"/>
            <a:ext cx="8634600" cy="2082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990720" y="61722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 per capita non-health spending (thousands of 2009 dollars using GDP price defl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1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a | Real per capita non-health spending currently is higher in households headed by elderly people; this was not true in 1984</dc:description>
  <dc:language>en-US</dc:language>
  <cp:lastModifiedBy>Jia Yao</cp:lastModifiedBy>
  <dcterms:modified xsi:type="dcterms:W3CDTF">2013-09-23T17:02:0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a | Real per capita non-health spending currently is higher in households headed by elderly people; this was not true in 1984</vt:lpwstr>
  </property>
</Properties>
</file>