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D712-9B90-4DFC-8DA4-AD8515BEE1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7b | Monthly Premiums and Cost Sharing as Percentage of Average Monthly Social Security Benefit, 2010 and 20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8283-5CDD-4272-8726-2FCAD2D4DA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51D2-83F6-4861-BBE0-7E2F791C2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317D-BD89-48B4-99A3-F029F3C3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23A4-DAAD-4232-B248-ECE6AF2F5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1956-1E69-4B33-BB70-1B0734A7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9206-C2DB-41A9-AEDC-F8FC8843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18C7-6ED4-4CB7-B15F-97EAA887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00C3-F4E1-4015-9552-07A1503A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E12F-ABAB-4FAF-892D-96B298EA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FAE3-B449-437A-9B5A-F24B79C2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3EB8-84E9-4DFB-96A7-5E7B54EE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5C32-CB5E-4071-9509-BC988157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56CD-8CFF-4ECC-BB65-6F49B068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87CB-9EBF-4771-8864-8EAEB9ACE8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6b The funding shortfall for major entitlements will amount to more than one third of taxable payroll within eight 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788320" cy="54291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09480" y="1143000"/>
            <a:ext cx="1600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nnual unfunded public sector liability as a percentage of taxable payro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457200" y="57150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Funding shortfalls for Medicaid, Medicare Part B and Medicare Part D are calculated assuming the share of federal revenues devoted to these programs in 2007 represents societal willingness-to-pay for them. All figures based on CBO’s alternative fiscal scenari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6a The funding shortfall for major entitlements will amount to more than one third of taxable payroll within eight decades</dc:description>
  <dc:language>en-US</dc:language>
  <cp:lastModifiedBy>Jia Yao</cp:lastModifiedBy>
  <dcterms:modified xsi:type="dcterms:W3CDTF">2013-09-23T19:14:28Z</dcterms:modified>
  <cp:revision>64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6a The funding shortfall for major entitlements will amount to more than one third of taxable payroll within eight decades</vt:lpwstr>
  </property>
</Properties>
</file>