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E124-EE79-4616-A775-6160CE35D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2A | ANNUAL COMPENSATION PER FULL-TIME EQUIVALENT WORKER, HEALTH SERVICE INDUSTRY AND OTHER MAJOR INDUSTRI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4B5F-FCF9-4247-B942-6DC2E0713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620D-C5E2-4794-8A1E-267EAEB0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5185-8779-4409-85B9-E5319B4F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737-0B8D-47D9-ADE4-A457F1C1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BE40-382B-4AAE-B6AA-90CAB0F3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7FE-624B-4D0E-B973-9DC8CB31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4BE8-39EB-4609-92F5-48320104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162-D513-44E9-BEDD-AE2108C3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91AA-55BF-41B5-954B-A07B0E10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8B8-2BE8-48E1-9988-5D2D8DBA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83D-4C21-4774-989B-DAA91704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1D8-0968-4791-9DCF-9B64D635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B57-C526-403B-8F9B-898213FA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1DCA-14DC-40CE-8C1D-60364D736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2a | Average compensation in the health care industry is higher than in the rest of the service sector but lower than for public employe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279360" y="1015920"/>
            <a:ext cx="101599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2a | Average compensation in the health care industry is higher than in the rest of the service sector but lower than for public employees</dc:description>
  <dc:language>en-US</dc:language>
  <cp:lastModifiedBy>Jia Yao</cp:lastModifiedBy>
  <dcterms:modified xsi:type="dcterms:W3CDTF">2013-09-06T15:08:36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2a | Average compensation in the health care industry is higher than in the rest of the service sector but lower than for public employees</vt:lpwstr>
  </property>
</Properties>
</file>