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466-D491-4F1D-9651-9B57C450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E01-DD5B-4FF4-9F0A-75C27DC1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8A4-B280-4FA6-918A-1021F852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7E1-AAF6-4AD7-BA03-B8ACE00C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AF2-C208-4077-B605-65FA990A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FD3-90F2-476E-A02D-076B93B1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D6B-3862-43E9-AC82-4B3F3038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978-DEDF-4490-B518-DA1587B0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8AC-70C2-46C9-9139-9DCB9E1F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5FD-DDE6-4744-99C1-62C367B4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040-11FB-4199-BBD4-6B0E05B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C18-EA8D-4049-BF5D-882D344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D057-6E6B-4455-BD31-47964A156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6Z</dcterms:modified>
  <cp:revision>14</cp:revision>
  <dc:subject/>
  <dc:title>PowerPoint Presentation</dc:title>
</cp:coreProperties>
</file>