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D39D-B20A-47AC-95B7-86FC86636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1 | SHARE OF TOTAL HEALTH SERVICES INDUSTRIES REVENUES GENERATED BY TAX-EXEMPT FIRMS, BY INDUSTRY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FFB1-02A9-499D-B59D-FDB87891A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579B-B297-479F-9CDB-C07C3344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82A-6A7D-420A-9265-4915E161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6E7-80D3-4D8B-B82A-0227337E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C3E-DFF6-43CE-803E-469B5E8A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38A-13F2-4C5C-A932-B71F5B8C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330-4F85-44EB-A0B3-EDA707DB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3436-75E3-4D3B-807F-44A73D2D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0B3-54CB-4B01-9985-C56C8D59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0E7F-97AF-4A0C-8134-4416E580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49A-C737-46BE-A22F-D3064512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5D9-A3D9-416D-AB7C-AA9DF74E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483-3569-4BD6-A87A-F9E38CFF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FA7E-E87C-4AB9-BC3E-42777F85E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1 | Public and non-profit owners dominate the hospital sector and provide a large fraction of nursing home and home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1 | Public and non-profit owners dominate the hospital sector and provide a large fraction of nursing home and home health care</dc:description>
  <dc:language>en-US</dc:language>
  <cp:lastModifiedBy>Jia Yao</cp:lastModifiedBy>
  <dcterms:modified xsi:type="dcterms:W3CDTF">2013-09-06T14:09:47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1 | Public and non-profit owners dominate the hospital sector and provide a large fraction of nursing home and home health care</vt:lpwstr>
  </property>
</Properties>
</file>