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9D2-5C05-4B73-878A-2F4CA2D7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3AE2-974A-40AA-BB6E-B0E82B3D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58BE-57F8-495A-82FB-9CF15840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120-7935-4A74-AD97-39882015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E48-B247-4580-909D-EA4BF637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9F0B-B0E2-4587-8039-BCF05715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5D2-7A13-44CF-9DEE-B49A58D1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1BA8-9984-4A3F-9D8F-B6B22B43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55A-B901-4ACB-86C8-A6286375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276C-7E39-46F5-B895-35853B99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CA4-3574-4BAC-A0D2-EF6AE41B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8C5-848D-4143-A2A6-C9EB076A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3476-E621-4D61-BA80-F2A95E8C4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3120" y="0"/>
            <a:ext cx="853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2Z</dcterms:modified>
  <cp:revision>31</cp:revision>
  <dc:subject/>
  <dc:title>PowerPoint Presentation</dc:title>
</cp:coreProperties>
</file>