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B27-1C68-48B9-ACF9-4F81E928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6D8-2FE9-4E6B-ADB5-7564288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CD7-85D9-4879-BD5C-C437C480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0CF-2EED-4BD5-AEE2-A5BEAC14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9BD-282C-47B2-B6DA-28A69D20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A6C-52BC-4366-9A99-EFE1CBA4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2A1-3726-4CB3-BEB8-68D62776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505-5206-4180-901F-0E3EFBF5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FD3-B804-4371-BDF0-1D50066F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0F6-B91A-42BA-9EE2-0BE4EEC2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5D5-A248-4320-AB90-F6DECF8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813-4E61-47B1-B1B1-E5F5FD9A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9CDE-2E8F-4D9E-83B5-FECBBBC9A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59:59Z</dcterms:created>
  <dc:creator>Jia Yao</dc:creator>
  <dc:description/>
  <dc:language>en-US</dc:language>
  <cp:lastModifiedBy>Jia Yao</cp:lastModifiedBy>
  <dcterms:modified xsi:type="dcterms:W3CDTF">2013-09-06T22:01:57Z</dcterms:modified>
  <cp:revision>1</cp:revision>
  <dc:subject/>
  <dc:title>PowerPoint Presentation</dc:title>
</cp:coreProperties>
</file>