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0B7-2707-4983-9619-C2388BBC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664D-0737-4480-8D25-D6C8B4D8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5E3-76DA-440F-AFF6-4EDAEEA2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DA8-85FD-4686-971B-F04A30A9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B61-394D-466C-B233-95EDAA58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210-4F20-4425-8BFB-7371E661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DD3-136A-47AF-BEBF-C9ECFBC1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61F-34B0-4BDB-9B24-AD6071EF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D00-D271-42CB-BCD8-63C66E1E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546-DBBC-4A07-9FB8-AE6137BF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9EE-7965-4019-A1CC-4A00727F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863-C190-4E24-842B-43B6D5AD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D476-7A49-4730-8098-02EEFE4E2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73160"/>
            <a:ext cx="9144000" cy="65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5Z</dcterms:modified>
  <cp:revision>6</cp:revision>
  <dc:subject/>
  <dc:title>PowerPoint Presentation</dc:title>
</cp:coreProperties>
</file>