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96AF-1DA3-49FE-BC4B-665395649E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4.1A | PERCENTAGE OF FIRMS AND PERCENTAGE OF PRIVATE EMPLOYEES IN HEALTH SERVICES INDUSTRY AND ALL PRIVATE INDUSTRY, BY SIZE OF FIRM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CC7C-6979-48F6-A667-444A402F43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B5E1-C564-4F84-ABA9-638AFF35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9357-1D5B-4EE7-B31E-581D1728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99D0-90A3-4135-AC9B-6AB6157B4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ED87-BF09-4D6F-8B65-D75CE4BE3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E0A6-A22B-4AE7-B1F2-82CDF370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68FB-5717-411E-9BE4-8A1017FF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62AB-CFF1-4765-B169-06720C68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5188-3F6C-42EB-9679-D03E4391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F09E-110A-40CA-85B9-E456174F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CB39-220E-408E-9359-68295814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5009-A45F-482B-93D7-0475FD6C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F359-5350-4033-89BD-55CAECFA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1615-4C55-45EF-B5F2-FC94A6948B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4.1a | Compared to all private sector workers, a much higher share of health services employees work for very large fi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4786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533520" y="182880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total firms or employees within an industry working in firm siz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85800" y="55753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health services employees include those in ambulatory health care services, hospitals, and nursing homes and other residential care faciliti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01:16Z</dcterms:created>
  <dc:creator>Kristy</dc:creator>
  <dc:description>14.1a | Compared to all private sector workers, a much higher share of health services employees work for very large firms</dc:description>
  <dc:language>en-US</dc:language>
  <cp:lastModifiedBy>Jia Yao</cp:lastModifiedBy>
  <dcterms:modified xsi:type="dcterms:W3CDTF">2013-09-06T15:22:47Z</dcterms:modified>
  <cp:revision>2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4.1a | Compared to all private sector workers, a much higher share of health services employees work for very large firms</vt:lpwstr>
  </property>
</Properties>
</file>