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4B60-1B7E-4012-B70A-FCC7A08E6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A | Alternative Measures of Concentration Among Health Insurers Across Metropolitan Statistical Area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3DCB-EA31-4203-BF25-E51AC167A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3F3-4504-49B7-AFF0-8C964027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0D7-62B1-4CB6-A238-75E98F1E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327-24FE-4C8D-A43D-2F4350A0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B99-FD7E-4EEE-AFA8-90EFF4CB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5DE-4E98-482E-91A6-535877D1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9F9-BCAA-4A6E-B8B3-12483159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4BF-76F5-49F0-96A3-2D7A1756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69B-4C92-49F3-892B-0F04B6E9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49B-1222-466B-B7BA-741B9CC2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3E9-C4FF-47FE-A481-881C71E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3C3-92CF-430B-87DE-77458884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AF7-CD2C-44F6-B8A9-3B1D030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E1C-8C31-4EDA-B04C-FB8B4EE8B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a | By conventional measures, many metropolitan areas appear to have very high levels of insurance company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176040" y="1558800"/>
            <a:ext cx="8788680" cy="535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09480" y="1447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(MSAs) with concentration level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396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merican Medical Association. Competition in Health Insurance, 2010 Update. Chic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10. Managed Market Survey © 2008, HealthLeaders-InterStu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a | By conventional measures, many metropolitan areas appear to have very high levels of insurance company concentration</dc:description>
  <dc:language>en-US</dc:language>
  <cp:lastModifiedBy>Jia Yao</cp:lastModifiedBy>
  <dcterms:modified xsi:type="dcterms:W3CDTF">2013-09-06T15:22:53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a | By conventional measures, many metropolitan areas appear to have very high levels of insurance company concentration</vt:lpwstr>
  </property>
</Properties>
</file>