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B9C-8304-4091-AF20-0D0EA362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95D-3417-49CE-AA0C-C04E53F8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1A98-67BC-4C8C-AB44-1D0AEFB2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83BD-0A8E-4749-B082-208A002E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C837-4CE6-457C-B66F-B73BB149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9D14-F44B-486C-B852-76108D3D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A881-F5D0-4C1E-A40F-8F9FFFC9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82E-1BC0-4C30-82FA-01C71A01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53D-4749-46C4-A3DC-C8D272E3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086-8EBB-403B-91DD-9E8176E6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52ED-F29F-446D-A01C-AF60C544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B7ED-5164-42C1-B4CC-0B4B7C10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BB7E-89ED-4177-9B62-2C9B760F8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3Z</dcterms:modified>
  <cp:revision>8</cp:revision>
  <dc:subject/>
  <dc:title>PowerPoint Presentation</dc:title>
</cp:coreProperties>
</file>