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38D7-5D6D-4144-89E5-5D819CAB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AAD-08BD-4035-8E93-E735E05B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330-47D3-40C7-9FC7-5396C479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9FF8-E742-40D7-83DC-C1C96766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84E-872D-4E2C-A68C-60A504B0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920-9D30-4735-AB6A-E39C65EE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D866-AE86-4030-8719-B59CAF6F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7C32-C7DA-4123-B391-88091104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F2E-EEAD-4C3B-86C7-2150450D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0A8-89C1-4787-A406-F0CBC95A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78FD-C69B-4678-8B9C-EDDD832A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1C1F-1B44-47FC-9EA2-1C64B81E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1433-495B-4EE5-8488-28C0816C68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240" y="76320"/>
            <a:ext cx="906444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4Z</dcterms:modified>
  <cp:revision>37</cp:revision>
  <dc:subject/>
  <dc:title>PowerPoint Presentation</dc:title>
</cp:coreProperties>
</file>