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BDA2-41EA-45B2-AB28-72ADDF5F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59A2-5040-4A31-904D-F271A69E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8EEA-8D66-434D-A854-50F93843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F206-9978-42DE-B248-2B66E9F0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4548-2266-49BA-B671-00DCCBFE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4FB3-D219-43F9-95E2-ABABBFCC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8F6F-0BFA-4DDA-A406-FF5EDE72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B2AB-37A2-4352-95C1-07B400E5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CF67-4666-4D2A-A06B-F586E822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3143-4291-459A-9226-8D7360AF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1331-2E9A-43FD-81EF-0F88DF0C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8E88-7F94-4534-8B7B-7B0E3593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80B5-11A1-4D36-BC9B-19906D881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5440"/>
            <a:ext cx="911556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6Z</dcterms:modified>
  <cp:revision>14</cp:revision>
  <dc:subject/>
  <dc:title>PowerPoint Presentation</dc:title>
</cp:coreProperties>
</file>