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BA37-C81B-4799-AB74-B6E38426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77AF-F70B-48E9-A0C5-60741C50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92C-244C-4BDB-A19F-089490F6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730-9507-4B79-8B38-8158C651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40A-D95A-4D55-9D2F-B6236561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A39-7121-42E4-974B-277FC33A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AE3-5FFA-42F6-AA93-E2113838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CAA-24A1-490E-A97B-F81E16AD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852-E750-4307-B119-DA9C4C69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666-0422-406F-94DF-82B4F6D3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A65-19B4-42BF-95B6-E29D7C76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0BE-A482-4C5B-AF1F-03F0034B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9E26-C2BD-4547-ADC2-549ED5D69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1Z</dcterms:modified>
  <cp:revision>37</cp:revision>
  <dc:subject/>
  <dc:title>PowerPoint Presentation</dc:title>
</cp:coreProperties>
</file>