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95FC-848F-4337-9164-7B6BCBA0D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2a | Net Burden of Health-Related Expendtures by Family Income Decile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03B8-C749-49D7-92B4-7E190FC53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17EF-5678-4E92-A9BE-41AED89B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DEC5-A5B2-4991-AC63-58E6C0EE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187A-2408-42AC-9A49-76FA5578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5AE9-50FA-41F5-B2D4-72AA287A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3D0A-8EE5-49EB-8B11-F21932EC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171A-031E-4B23-B374-A1A43FB8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641B-E6D4-4A10-A240-AE1F28AD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1936-0D58-478A-8BE1-F11475B0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36D5-CCD1-403E-8887-A1723E09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663C-D6AC-4B23-82A5-175B328A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D5BB-86A0-4D96-9054-9AE6A5B6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E302-C005-4C48-8F81-5F78916D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CB19-095A-4AA0-AC10-79E926AC4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2.2a | The net burden of health-related expenditures is about 2-1/2 times as large for very low income families compared to very high income famil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386000" y="417816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ome decile (1=10 percent of households with lowest incom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62120" y="1371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pending as percentage of family income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84200" y="457992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The family burden of health expenditures includes out-of-pocket spending; premium payments for group and nongroup health insurance (including the employer share) and Medicare Parts B and D; and health-related taxes, including payroll taxes for Medicare Part A and the family’s share of other taxes used to pay for publicly-financed health care.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84200" y="5815080"/>
            <a:ext cx="843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Selden TM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Using Adjusted MEPS Data to Study Incidence of Health Care Finance.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gency for Healthcare Research and Quality. http://www.ahrq.gov/about/annualconf09/selden/selden.ppt (accessed July 16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2a | The net burden of health-related expenditures is about 2-1/2 times as large for very low income families compared to very high income families.</dc:description>
  <dc:language>en-US</dc:language>
  <cp:lastModifiedBy>Jia Yao</cp:lastModifiedBy>
  <dcterms:modified xsi:type="dcterms:W3CDTF">2013-09-06T15:12:55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2a | The net burden of health-related expenditures is about 2-1/2 times as large for very low income families compared to very high income families.</vt:lpwstr>
  </property>
</Properties>
</file>