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F0B-7950-450D-A026-AFB5354F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802-5AD5-4B7E-AC27-3C190083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485B-6AC7-445E-840B-1C83DE76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51F0-F972-45D4-B67E-71725514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76DC-323E-4D94-8868-324ADA51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F0AD-BD3D-4A65-95F2-ABA6F36D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AF6-5B57-47A0-AFEE-6CEC4F32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2B2-822D-4DB0-B4AB-B66E1857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6463-0961-47CA-B6DF-7B4014F6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741-858C-4C2C-BC9B-88D063CF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BE97-9673-4426-B7A9-BA64CC9B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0D77-2EC7-46C4-8227-1A67EA44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D148-BCD7-404A-8486-E25A2E70C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1Z</dcterms:modified>
  <cp:revision>43</cp:revision>
  <dc:subject/>
  <dc:title>PowerPoint Presentation</dc:title>
</cp:coreProperties>
</file>