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925-EE88-4148-84A0-BD8CFE8B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D38-6BB1-472F-9E9F-6C22F919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B33-09F2-4457-826A-B49DA4F9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EDB-DAE9-4CEF-889C-C39783F8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8F7-17EA-4450-AD56-DA4F4E66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D6A-BB17-415C-A837-58EE7221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C8B-97F6-47A2-8D8D-ABD4F3D8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AD5-7E97-4F98-9CFF-AF4C82F7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0CB-7ACB-47F2-99DC-897FE7F4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92C-1A2E-40DB-9862-F813AC4D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B4E-47E4-48B8-B93C-DD271D80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E3C-8BEA-4E5C-A2F6-E0FC7AF4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5503-3D13-4786-9ACD-9E51EF8E4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5Z</dcterms:modified>
  <cp:revision>8</cp:revision>
  <dc:subject/>
  <dc:title>PowerPoint Presentation</dc:title>
</cp:coreProperties>
</file>