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702-7845-44E9-ABD1-FCA1B933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386-928D-4B6D-9A61-2C5A4D66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31D2-E81C-4955-923E-AEEAA8D3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C14-588D-458E-9A11-3E661B7A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61A4-BF3C-4D1E-BD53-5B02E8A5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3972-32AB-49DF-A2AB-18972727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E46-FCF7-44FC-9AA1-159D5835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86D7-9F6E-471F-9D2D-2518AB84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4D26-22E6-45E4-9E52-1E267405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EE8-D947-413A-BB50-818322FC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DA29-B36D-4494-9AC9-5D0DED1F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9DBA-1485-457E-9C9D-24ECFFB8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B65F-7E23-4CC6-B81C-E5661332A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3012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6Z</dcterms:modified>
  <cp:revision>30</cp:revision>
  <dc:subject/>
  <dc:title>PowerPoint Presentation</dc:title>
</cp:coreProperties>
</file>