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7D9C-26B6-48BD-885A-15D5159A0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5518-CAE4-4B55-93B4-95AB28A5BE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b | Percentage Distribution of Personal Health Expenditures, by Sponsor, 198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5EF-BDA0-4249-A90B-707CCE8E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198-508F-4015-AB51-E916D81D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452-AA01-47A6-8BF7-758150E0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004-45E2-4D37-8F34-DA5BE23E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E9E9-BD35-426F-8B82-73B452C4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6DEB-A279-4319-80C4-2A7993ED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D8E3-C7CE-4CDE-96CF-57ABAFDC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1058-E71A-4A0C-B086-32C6EA76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9F6F-BC5D-400C-8F01-DEF20D66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BDEE-2458-4239-8C4D-94B85AC3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EDE6-88CA-45E2-822D-8F707C80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BC1-69E9-436C-B7B6-2BF13F8C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23D8-C532-4A6E-8C67-3F6E99D9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A625-BC6D-4CE1-A275-FCFB7C30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6DF8-EA8E-4495-8B57-A7E36E9F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0A15-35DB-4B56-A3D6-594CDBDC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C670-C5BC-4E09-8BD0-49A32D33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699-4102-4484-90E2-8FAD8F20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BDB-212A-4456-A6E5-52F73BDE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020-1DFC-4234-818D-E168FF3F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6CB-72AA-4844-8147-083A6B10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2C2-B4FD-4541-9DE3-6003C6EF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24BA-4E49-44F6-87E6-FC326DB6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97A-8215-4CDE-B0F2-C067B026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12E6-DB1B-425D-B1C5-56A96B61E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5DA5-5903-4CAC-8762-46FA7EED0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81000" y="787320"/>
            <a:ext cx="906624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b | Accounting for each sponsor’s share of health revenues results in a much more stable federal share of spending over 2 decad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b | Accounting for each sponsor’s share of health revenues results in a much more stable federal share of spending over 2 decades</dc:description>
  <dc:language>en-US</dc:language>
  <cp:lastModifiedBy>Jia Yao</cp:lastModifiedBy>
  <cp:lastPrinted>2002-05-16T21:44:34Z</cp:lastPrinted>
  <dcterms:modified xsi:type="dcterms:W3CDTF">2013-09-04T21:03:4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b | Accounting for each sponsor’s share of health revenues results in a much more stable federal share of spending over 2 decades</vt:lpwstr>
  </property>
</Properties>
</file>