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AC24-6D73-4CAA-8480-FF1CA6D4C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B | YEARS OF POTENTIAL LIFE LOST BEFORE AGE 70 PER 100,000 POPULATION VS. HEALTH SPENDING PER PERSON, U.S. STAT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8387-60DB-4B1A-B53B-F8F9389FE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DCF-261C-4451-8301-8B7B3C2E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CE0-5FC1-4AF1-82AB-BBF6C85C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07B-F4B4-4383-A24F-1093CA6D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365-CA2F-490C-9A11-7A4CEE1A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CB2-3BCA-4005-AA41-67E55BB2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FFD-B81A-415E-AA37-3BA3088A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B16-E315-4A67-BD58-E801CC6F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525-077C-451F-A289-5EFABA57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26A-8D71-46DD-9413-12FAD4C7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36E-E8E4-4874-80D8-5DDD6D2F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CEA-052C-49B9-80E0-79AB946E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11C-60B8-4239-959E-1215C060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1F8E-9727-4FC1-BD27-35C0FA618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b | But there also are wide differences in years lost due to premature death across states even at identical health spending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243000" y="1397160"/>
            <a:ext cx="8761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286000" y="594360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resident in 2004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b | But there also are wide differences in years lost due to premature death across states even at identical health spending levels</dc:description>
  <dc:language>en-US</dc:language>
  <cp:lastModifiedBy>Jia Yao</cp:lastModifiedBy>
  <dcterms:modified xsi:type="dcterms:W3CDTF">2013-09-06T15:40:4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b | But there also are wide differences in years lost due to premature death across states even at identical health spending levels</vt:lpwstr>
  </property>
</Properties>
</file>