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77B-8F58-4D2F-AEF0-D4AF2641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5AA-6703-4E4E-B4F6-7F4FF854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01F-643B-45CD-89A3-DA92AFCB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E1B-F7BC-4DB3-AF94-FA738C7E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7AF-506E-4292-9B5D-3AB54E1F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2BA4-8779-45B7-BDBF-F7BA0DEF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E10-9282-4A78-BD07-12D477AB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CA0-945E-4D9D-A4EF-B24EEA49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4650-D976-4107-979A-E1FE739A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DD9-6B37-4E85-8AEC-50E9D7E4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255-AB33-4D96-A6DB-EB44BF8C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359-DF19-4C2C-8FD4-FAC4D5CB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7FB5-8B0E-4251-ACD9-B21F995AB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5200" y="0"/>
            <a:ext cx="7924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4Z</dcterms:modified>
  <cp:revision>37</cp:revision>
  <dc:subject/>
  <dc:title>PowerPoint Presentation</dc:title>
</cp:coreProperties>
</file>