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CBB5-6A55-4AE6-AA91-24F6E8CF8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4 | SOCIAL BURDEN OF POOR HEALTH IN AMERICA, 1963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F3F6-26B9-4340-9730-012785631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E03-4E9A-4894-BE11-29DAF1D4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B2DA-42F4-439F-BE78-66E4BCB4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A72-B8AE-4034-B654-7ACF8990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696-B1BF-4F02-84CF-F7B31DEB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1B9-DAE8-41D9-B6DB-EDEAE46F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84B-7606-4A97-829C-379C0064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AB9-EA1B-42C0-B8C5-6DD2F249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652-B903-4F47-919B-89C1752C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36F-7198-41EC-A7E4-5FDFDDD5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729C-6167-4761-85E7-C6B84894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8DA-022A-4DE0-BA5A-2D34E75D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127-E25C-466C-B669-395EC1BC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3AEE-141E-4CD9-BF13-28B1E9FA0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4a | The economic burden of illness has risen since 1963 even though loss related to premature death and morbidity have decl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1600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conomic Burden of Illnes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57150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losses = national health expenditur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bidity losses = lost earnings due to illnes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tality losses = lost earnings due to premature dea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4a | The economic burden of illness has risen since 1963 even though loss related to premature death and morbidity have declined</dc:description>
  <dc:language>en-US</dc:language>
  <cp:lastModifiedBy>Jia Yao</cp:lastModifiedBy>
  <dcterms:modified xsi:type="dcterms:W3CDTF">2013-09-06T15:31:24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4a | The economic burden of illness has risen since 1963 even though loss related to premature death and morbidity have declined</vt:lpwstr>
  </property>
</Properties>
</file>