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F021-C446-4863-AB23-1825EAD3D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7B | TRENDS IN PROFITABILITY: RETURN ON ASSETS AMONG FORTUNE 500 PUBLICLY TRADED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HARMACEUTICALS AND MEDICAL PRODUCTS &amp; EQUIPMENT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0320-503B-4BDF-97DE-83B6B7E18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FC53-939D-4527-9D10-8B2C597B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3A2A-B1A3-4F2B-B58A-3C436DAD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6519-7924-4882-A46F-1C4A1931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40A4-BE11-4473-936C-359D4081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2FDB-37E5-4569-98A4-2AA43F98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260F-7D4D-4E78-A341-D5F2F7D1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C06D-CB5C-4A4E-B607-735F48B3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3046-F92B-4912-B344-36EE5EF8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F604-74EC-462A-81AC-6E6CE920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DF24-F299-477E-9AEE-8AE8B62B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DCDF-95AC-42DC-ACBA-91C94DB6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C7DE-91DF-4F35-BCBD-B03A3FF0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D625-118E-4E7E-8C81-F46A8C376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7b | Returns on assets for pharmaceuticals and medical devices also place them among the top 10 industries in the U.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58720" y="1092240"/>
            <a:ext cx="8407440" cy="5816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55560" y="114300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assets (ROA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47560" y="5295960"/>
            <a:ext cx="8344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A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7b | Returns on assets for pharmaceuticals and medical devices also place them among the top 10 industries in the U.S.</dc:description>
  <dc:language>en-US</dc:language>
  <cp:lastModifiedBy>Jia Yao</cp:lastModifiedBy>
  <dcterms:modified xsi:type="dcterms:W3CDTF">2013-09-06T14:17:15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7b | Returns on assets for pharmaceuticals and medical devices also place them among the top 10 industries in the U.S.</vt:lpwstr>
  </property>
</Properties>
</file>