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04F-92A1-42DC-A5A5-6092A292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05E-3360-4343-A654-DFCE076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6C7-5259-4C3F-BEDF-9308666D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D34-DC99-4C3A-9FB3-8DFE5B6D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223-A4A3-4A06-825B-BF041DB5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5FD-9832-4FAB-A0C4-D8A1E7BA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419-885B-4576-9F62-CB7E4799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8F2-6862-4821-9F4C-F723ED39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E89-9A5A-4C67-8327-822AA946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298-96B7-4665-B2EE-916FE5A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CF8-30E2-49D5-A690-29CE1D0E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D31-B308-486D-963A-74FE56F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8856-FE08-4A76-B421-4ADB043E8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7Z</dcterms:modified>
  <cp:revision>30</cp:revision>
  <dc:subject/>
  <dc:title>PowerPoint Presentation</dc:title>
</cp:coreProperties>
</file>