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0DB-719C-445F-AD39-80E7DEE0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C5A-5ED9-4C7B-968C-7CDFF112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72B2-64C4-46EA-830E-A41DBB0D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5448-BA54-40E8-904D-BBF576B2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959-61DC-4497-A359-B8F23FD6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E14-60D9-438F-BB6A-5DA774D8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B07B-9B76-44D0-B740-EF26CB51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11F-7BE0-4FC0-BB4E-E512E037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F694-70A2-4965-88CB-A988759B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1D98-F305-4D84-B9B2-D143D015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0A30-1FF1-453D-8285-66F3AA5B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C559-A03D-45B5-A0B9-88640306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0877-3E53-4F54-AB69-8719BCC6B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12840"/>
            <a:ext cx="9144000" cy="62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6Z</dcterms:modified>
  <cp:revision>37</cp:revision>
  <dc:subject/>
  <dc:title>PowerPoint Presentation</dc:title>
</cp:coreProperties>
</file>