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2415-E1D3-476D-ABF9-D35AE5B75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3B | PERCENTAGE OF METROPOLITAN STATISTICAL AREAS WITH CONCENTRATED OR HIGHLY CONCENTRATED HEALTH SECTOR MARKETS, BY TYPE OF MARKET, 1994-1999, 2000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584E-983C-49EA-A325-058DA8DCC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6C3-E241-43DB-8802-5B4815BA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806F-39C3-4A6B-8940-C0694657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1D7-29BA-4476-8006-85C7D26B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F219-8C00-4248-B596-6462B9B9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38E-513E-4F13-8B9E-01C8D836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540B-B295-4968-AF6B-8BA66B45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0D9-BEA8-4A08-A110-1FF2BEB3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6469-4752-4E5E-9546-1639CB4C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78E-06C7-4252-908B-600A5872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9A4-2696-4A35-AE31-1A26E8BC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3730-A3F2-461E-B953-E87B740F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89AD-415C-48BE-8A62-EDBD0DF8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B82C-86D3-4F44-8C8E-98640CC86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2b | It appears that concentration is rising in both the hospital industry and HMO indus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57200" y="1523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Metropolitan Statistical Areas with concentrated or highly concentrated mark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17600" y="57913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hen YC, VY Wu and G Melnick. Trends in Hospital Cost and Revenue, 1994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5: How Are They Related to HMO Penetration, Concentration, and For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 Ownership? Health Services Research 2010; 45(1):42–6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7200" y="4572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at the time of this analysis, the threshold for “highly concentrated” was a Herfindahl-Hirschman Index score of 1,800 or above; “concentrated” is defined as an HHI of 1,000-1,800. Since August, 2010, the FTC has the first threshold at a score of 2,500 or above and the second at 1,500-2,5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2b | It appears that concentration is rising in both the hospital industry and HMO industry</dc:description>
  <dc:language>en-US</dc:language>
  <cp:lastModifiedBy>Jia Yao</cp:lastModifiedBy>
  <dcterms:modified xsi:type="dcterms:W3CDTF">2013-09-06T15:22:54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2b | It appears that concentration is rising in both the hospital industry and HMO industry</vt:lpwstr>
  </property>
</Properties>
</file>