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ECBA-B3CC-49BC-8CC9-68E6CF12C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A | TRENDS IN PROFITABILITY: RETURN ON REVENUE AMONG FORTUNE 500 PUBLICLY TRADED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EALTH-RELATED SERVICES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7923-B410-402C-8B6E-FFC66B6DA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3C60-DE0B-4BA3-B691-357F3962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A43-E228-48BC-BD99-686886E9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B787-E519-4EF3-A215-99C40875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6186-8EE3-455C-89D2-22E0F6B2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ABEF-5827-4B1B-945E-35327EA1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B532-58A8-4249-8261-26E10326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2AF4-8305-4FCD-88E9-4F77F5B5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A5A3-0E56-476C-A345-47A67668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2AA-5F98-4FF1-A0E9-CAEF1928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03F-7603-4550-B2B6-61BE4A32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BCD-52C2-465E-BC21-61E97DC1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8B6-07DF-48EE-A5C3-583AF150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05B8-8E5B-4C43-B56B-857214CBF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8.6a | Among health-related services, profit margins generally are highest for health plans and lowest for health care wholesal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27080" y="1092240"/>
            <a:ext cx="878832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67000" y="1143000"/>
            <a:ext cx="76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revenue (return on revenue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a | Among health-related services, profit margins generally are highest for health plans and lowest for health care wholesalers</dc:description>
  <dc:language>en-US</dc:language>
  <cp:lastModifiedBy>Jia Yao</cp:lastModifiedBy>
  <dcterms:modified xsi:type="dcterms:W3CDTF">2013-09-06T14:17:07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a | Among health-related services, profit margins generally are highest for health plans and lowest for health care wholesalers</vt:lpwstr>
  </property>
</Properties>
</file>