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67E-5758-47AD-B0BE-ACF1E675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FB5-2483-4412-8700-ED1CD43E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C9D-5183-4342-AE67-F6685398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435-D4FC-42A5-92D9-0AA7FF0A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449-8A73-4FE9-8C35-5A2CBB84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8FA-3686-4873-82D2-28D28FC7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7B2-B71A-4600-B80A-9C21577E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0D0-8BB1-4593-9880-C90C9AF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F6C-C02D-42A4-9131-76BB57E7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F7D-45F0-4B07-822E-7FF8EA8E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B4E-6AC1-47B5-9707-199005D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E3E-BD84-4DB5-A73A-45DCE549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24C5-7978-4293-8417-2884DADD6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2120"/>
            <a:ext cx="9136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3Z</dcterms:modified>
  <cp:revision>39</cp:revision>
  <dc:subject/>
  <dc:title>PowerPoint Presentation</dc:title>
</cp:coreProperties>
</file>