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3FA3-ADF8-423A-9AB3-E15043E84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a | Trends in Per Capita Health Spending by Geographic Region, 1966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4612-216F-4E34-99A8-5585AF65C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06C-9DC5-4756-B2E0-8076F574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C83-B459-49BE-816B-6576D008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DF2-8FE1-46CF-B555-CE1F0D4C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ED4-099F-4156-A47B-7661CB78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F5C-D941-4DC7-AFC5-AFDFECE1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787-2280-42B1-92AC-74DA065F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FBB-FD6F-44F6-862E-BCBA4136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647-1D6B-4894-B2DA-BCA68CA6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807-AD38-424C-B63D-CD7D55A4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E31-CAF9-4E89-978E-53DFACE1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CF9-6DCD-42F6-A6C3-5E12CD8B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62C-FCA3-49CA-B8A8-CAB166C3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DD74-7AAC-4977-B0AA-F2FF1C0A7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a | Regional differences in per capita health spending narrowed from 1966 to about 1985 and widened thereaf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Health Spending by Location of Servic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6095880"/>
            <a:ext cx="81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not available for years 1967-68 ,1970-71 or 1973-1975, so they have been interpolated to avoid distorting the length of the bottom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a | Regional differences in per capita health spending narrowed from 1966 to about 1985 and widened thereafter</dc:description>
  <dc:language>en-US</dc:language>
  <cp:lastModifiedBy>Jia Yao</cp:lastModifiedBy>
  <dcterms:modified xsi:type="dcterms:W3CDTF">2013-09-06T15:13:1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a | Regional differences in per capita health spending narrowed from 1966 to about 1985 and widened thereafter</vt:lpwstr>
  </property>
</Properties>
</file>