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E4BB-AAB6-4370-A215-9E44D2683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B | PHARMACEUTICAL WHOLESALE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037C-740F-4030-BFC4-BDF4802F8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1BC-89C7-4102-AE3F-043DB52D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FAD-DE9B-4CAF-A26D-F5E32103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B2A-4AE0-41DD-8180-1A4E8DFE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0C9-0312-413A-B75B-4AE61216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7ED-4624-4FD0-9CBE-394421E3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EDF-5B86-4D4F-8204-31D8511B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0C1-5AE2-4EB4-9792-AC3BEE63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523-765E-41F2-9C55-CE8330DB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392-3C58-4DAB-A03D-CB7F0B3D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832-3973-4DEF-92C4-52BD95AC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E6B-7250-490B-A948-512327FB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8AF-BC6F-4DAD-B28A-AB50DEA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B9FB-B3CB-48BA-90E0-EFF25AD70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b | Manufacturer’s prices generally are higher in the U.S., but U.S. pharmaceuticals are generally more affordable due to higher inc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 price 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b | Manufacturer’s prices generally are higher in the U.S., but U.S. pharmaceuticals are generally more affordable due to higher incomes </dc:description>
  <dc:language>en-US</dc:language>
  <cp:lastModifiedBy>Jia Yao</cp:lastModifiedBy>
  <dcterms:modified xsi:type="dcterms:W3CDTF">2013-09-06T15:41:0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b | Manufacturer’s prices generally are higher in the U.S., but U.S. pharmaceuticals are generally more affordable due to higher incomes </vt:lpwstr>
  </property>
</Properties>
</file>