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EFED-F96E-439E-9B29-975E053C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4DEC-B2A8-406E-A2B5-F1FC1ACE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9DB-85D2-4EAD-8CA4-43FAC9D6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5C8F-8806-474A-A52F-E50EDD5C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C48-4A11-42D7-AB65-80D68324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61E-2ACF-41C6-83D0-83E8A562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274-D515-484D-A084-4E2A8794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11EB-54F0-4C9E-927C-4DC6CB4B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36C0-F207-4312-A94F-DFA9BA7A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9EA-A6E6-4B39-B732-77371308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4DE-B700-4653-A2A6-8C8CF264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014-E844-420B-8F39-C63A1F61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CAD3-5FA1-485F-9D20-7F2837090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3600"/>
            <a:ext cx="914400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7Z</dcterms:modified>
  <cp:revision>37</cp:revision>
  <dc:subject/>
  <dc:title>PowerPoint Presentation</dc:title>
</cp:coreProperties>
</file>