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D68-41CD-4334-891C-80BE36CD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1E0-B1E1-47DA-9DB6-E46AF15C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D73-95B2-4F32-82F0-E9EE8B33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9A25-878F-4747-875B-E9A7C073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27B-11AF-4643-BFA8-A684E6C3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FC4E-0C79-40CB-A476-E9A1002C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3CA-DE76-407D-982C-41E404BF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247-EB68-4914-9EF6-BE4C8C32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B328-5F9A-47B2-8164-5ECE3B7A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3C1E-9C28-455C-9EA6-D812FA59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935-6F2E-4CBF-8F65-5A8CBEE3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3C3-282F-4517-9FE6-AC2F2EC3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4145-CC5E-43C1-BF2D-28CE3FE5D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8680"/>
            <a:ext cx="912024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3Z</dcterms:modified>
  <cp:revision>18</cp:revision>
  <dc:subject/>
  <dc:title>PowerPoint Presentation</dc:title>
</cp:coreProperties>
</file>