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5112-04F1-45F6-A81B-B694AE7DE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5A | SELECTED MEASURES OF HEALTH SYSTEM PERFORMANCE, BY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587E-9A76-4654-AD5D-AD6DC173A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741-4120-46B2-9096-B4CC80E2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B5B3-716B-49D5-BD36-0D624760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CA2B-289D-4206-B7E5-96C16AE1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435D-90B6-47EF-A959-21BBF646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448F-959A-4517-9A08-9D8B41CC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14A6-8C0D-47CA-A480-6C685151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7BD-7F0B-4D99-A107-9CB4E2AD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6BEB-185F-411E-A4C3-2B7E7AC4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55EA-BF41-48C1-A6ED-3B5A6FD9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070-CFB2-4F9E-AA7D-1775208F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9C2A-1865-4B63-A2DF-8D337EE7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6CD9-6C49-4FC1-90B9-D3B4F5A0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8F85-1465-410F-A3A8-F4A7031D1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5a | There are large differences in health system performance across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38280" y="5638680"/>
            <a:ext cx="817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nited Health Foundation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merica’s Health Rankings 2009: 20th Anniversa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d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http://www.americashealthrankings.org/2009%5Creport%5CAHR2009%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%20Report.pdf (accessed June 15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09480" y="130644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: 100=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5a | There are large differences in health system performance across states</dc:description>
  <dc:language>en-US</dc:language>
  <cp:lastModifiedBy>Jia Yao</cp:lastModifiedBy>
  <dcterms:modified xsi:type="dcterms:W3CDTF">2013-09-06T15:41:3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5a | There are large differences in health system performance across states</vt:lpwstr>
  </property>
</Properties>
</file>