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E073-04FB-439A-BD66-B9B992909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79E0-6745-4002-99C2-0E1FB08C5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E728-CC13-43F7-AF27-AC2DC95C8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BF23-FF81-4E00-AF53-A7EB905CF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EBD3-0BE0-4FDE-A2E7-1C7E0EBEA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A26B-ED9E-4EFF-B95D-831E7EF32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3DA8-A3D7-494A-A51D-81B99FCB2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2D9B-1F76-47F4-BC76-35771C5FD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62EB-BE0E-456A-83A6-0DC191879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FB11-393D-4703-8332-5BF5303C9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D0DD-D3B6-4759-8047-7ABC9792A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8381-87F9-4631-8DAD-C9F7EF7EB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99751-D560-4BF5-BEE7-DDFB431620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57240" y="228600"/>
            <a:ext cx="90295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6:41:58Z</dcterms:modified>
  <cp:revision>4</cp:revision>
  <dc:subject/>
  <dc:title>PowerPoint Presentation</dc:title>
</cp:coreProperties>
</file>