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6600-9BEA-4EF7-9E9C-EE5DFCEE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AA80-66A9-4EA4-B3A1-FF27C55F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1B29-1B47-4114-ACA7-26979BBE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B2C8-9FEF-4BC2-BACB-EF25E6C2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58EE-0DB5-4104-8C68-ED22A767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9152-A004-4976-8373-E6FB67A2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C0A1-FE13-4E85-A888-95027208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11E6-A7B0-4845-861D-6047EF87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49C9-3CD3-4AD2-8230-2A319724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8AF3-840A-4908-BDF0-4DA04351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E485-1D56-4870-945A-33727736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BDB5-2AF4-457D-80EF-B4F6CA10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2A6A-7E3C-421F-B496-D7D881F56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60200"/>
            <a:ext cx="9144000" cy="653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Jia Yao</cp:lastModifiedBy>
  <dcterms:modified xsi:type="dcterms:W3CDTF">2013-09-03T18:47:42Z</dcterms:modified>
  <cp:revision>5</cp:revision>
  <dc:subject/>
  <dc:title>1.1a | In constant dollars, national health spending increased more than 60-fold over the past 8 decades, real GDP grew far less in this period</dc:title>
</cp:coreProperties>
</file>