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F826-605F-4803-B0AE-19A7DD12F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FA8C-B9A5-4C3F-A239-0968DA404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F412-EDA5-4DE2-BB91-36B5DC689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FFBE-1C43-45D6-A7CE-3E93286F8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8F99-8D41-408E-AC5A-43C18CD9F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DBBE-C23C-4632-A71B-D3E6D2B7C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94E4-A2C0-4555-A8AB-E9DD00647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8A43-4BA0-41F1-97FA-99B91C638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2657-9461-4E70-B377-04ABDB8CD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0C26-D786-4927-93F4-004C4DB99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D7E0-28B4-42F5-9766-47689452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818D-2E2F-4A48-A8CE-18D2BBEE2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BB9CB-2263-4921-9201-A4AD99FBAA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5:03Z</dcterms:modified>
  <cp:revision>31</cp:revision>
  <dc:subject/>
  <dc:title>PowerPoint Presentation</dc:title>
</cp:coreProperties>
</file>