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BA28-2EBA-4B8F-8269-3FA69949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B6FF-338C-455B-BF94-D1DF612F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4B9E-8A4F-454F-8908-08A8D2C3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1011-D5E3-49E5-B43A-F1A69BCA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9E13-A27F-421F-B6DD-4784DA5F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6BC3-EF2D-4C1E-8047-B40A8322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68DD-5A75-4337-82DF-BBD03178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FD09-4C09-44E7-A874-20143984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19C8-0FC9-4E8A-B98A-2881B02B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5A2F-8971-42FB-A0E1-21E98B3C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4C87-9ED0-41E9-A1CA-935CFFB5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F1CB-3989-4C14-A08E-9C34C7E8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DDEB-A210-49BB-887D-EB50AB8AC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4920" y="0"/>
            <a:ext cx="89726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31Z</dcterms:modified>
  <cp:revision>35</cp:revision>
  <dc:subject/>
  <dc:title>PowerPoint Presentation</dc:title>
</cp:coreProperties>
</file>