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051F9-6A8F-436D-BDF9-D323E56664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7C | HEALTH CARE EXPENDITURES AS A PERCENT OF STATE AND LOCAL GOVERNMENT EXPENDITURES FOR THE HIGHEST AND LOWEST STATES (EXCLUDING FEDERAL FUNDS)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08D4F-2FB2-4A03-B8FA-92478C5DCA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8F78-87F7-4999-9607-07BD4F491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6838-5155-4A44-951B-BA1F5EC29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86D7-F65D-4C90-A608-68D8A7D65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3626-6791-40B5-9355-5F0A9EFE6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6B35-D47C-442B-B090-EA633EB03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61B7-B72F-484A-A44E-5953B3174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F854-7ACD-4070-B899-41135CDF4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64DE-74BB-4E94-8F18-89F59F597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A14A-6FAC-47ED-A0A2-0076BA361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43F2-1D24-4DEF-804B-ABF50ABCE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A8D7-32D8-44DF-AA1D-23265E827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CAAF-D692-452F-A332-4AE34365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29C72-5FD1-4FD7-B47E-7C41DDBCC3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7c | If Federal funds are excluded, the Medicaid share of state expenditures is much smaller, but varies by a factor of 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512640" y="1092240"/>
            <a:ext cx="8224920" cy="2387520"/>
          </a:xfrm>
          <a:prstGeom prst="rect">
            <a:avLst/>
          </a:prstGeom>
          <a:ln w="0">
            <a:noFill/>
          </a:ln>
        </p:spPr>
      </p:pic>
      <p:pic>
        <p:nvPicPr>
          <p:cNvPr id="50" name="Chart 4" descr=""/>
          <p:cNvPicPr/>
          <p:nvPr/>
        </p:nvPicPr>
        <p:blipFill>
          <a:blip r:embed="rId2"/>
          <a:stretch/>
        </p:blipFill>
        <p:spPr>
          <a:xfrm>
            <a:off x="512640" y="2997360"/>
            <a:ext cx="8301240" cy="3149280"/>
          </a:xfrm>
          <a:prstGeom prst="rect">
            <a:avLst/>
          </a:prstGeom>
          <a:ln w="0">
            <a:noFill/>
          </a:ln>
        </p:spPr>
      </p:pic>
      <p:sp>
        <p:nvSpPr>
          <p:cNvPr id="51" name="TextBox 6"/>
          <p:cNvSpPr/>
          <p:nvPr/>
        </p:nvSpPr>
        <p:spPr>
          <a:xfrm>
            <a:off x="2286000" y="5486400"/>
            <a:ext cx="586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edicaid percentage of total state/local government expenditures, excluding federal funds (2007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563400" y="6213600"/>
            <a:ext cx="821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: National Association of State Budget Officers.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State Expenditure Report Fiscal Year 2008.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www.nasbo.org/Publications/StateExpenditureReport/tabid/79/Default.aspx (accessed June 15, 2010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8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7c | If Federal funds are excluded, the Medicaid share of state expenditures is much smaller, but varies by a factor of 4</dc:description>
  <dc:language>en-US</dc:language>
  <cp:lastModifiedBy>Jia Yao</cp:lastModifiedBy>
  <dcterms:modified xsi:type="dcterms:W3CDTF">2013-09-06T13:59:48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7c | If Federal funds are excluded, the Medicaid share of state expenditures is much smaller, but varies by a factor of 4</vt:lpwstr>
  </property>
</Properties>
</file>