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B8F-B47E-4E02-B194-1AEF61EA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18F-DB12-4D70-84B8-C5246ABD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30E-91A1-4E82-B782-B508DDE9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753-B059-4305-8159-573C9E23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A16-38DE-4F52-8414-3FE598FC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757-E2C6-4172-9192-5B246B98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956-7A8F-43EA-A132-49EE86BD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6F1-E3E6-492D-85EE-D983A85F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6E7-BD8E-4395-86EB-E773D778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928-A281-4EAA-963A-D46724D7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203-22A8-4ACB-871E-C6B8E76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0A2-59FA-4A4F-95D1-2F151F5F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E524-AACF-4485-AB02-789147BFD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3000" y="0"/>
            <a:ext cx="86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5Z</dcterms:modified>
  <cp:revision>22</cp:revision>
  <dc:subject/>
  <dc:title>PowerPoint Presentation</dc:title>
</cp:coreProperties>
</file>