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961F-95A2-4E66-B485-A93EC70B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046C-9237-4A95-B53C-EAE8401C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ACB2-4C55-4BFC-BA50-5992E5D6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ADE9-DEC7-455E-A776-5ECA53B8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DEA4-F2C0-496E-A8E2-D6254140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F45-C5FB-4499-8CAE-CFB8C72D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5ECB-D64B-44C2-BF03-2ED287E0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E0D1-42ED-4CEC-949D-699B9521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C014-BAE4-4A29-A396-DC3602F1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2EEE-9462-4F4B-A0E5-AC040E8F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7AED-B534-4F95-BB09-493CB9B5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2FE4-4714-4E46-93ED-5E728430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3341-F7EA-42DD-935A-A24962B9F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81320" y="19080"/>
            <a:ext cx="45813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9Z</dcterms:modified>
  <cp:revision>6</cp:revision>
  <dc:subject/>
  <dc:title>PowerPoint Presentation</dc:title>
</cp:coreProperties>
</file>