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8FC2-3BE2-467B-8733-E621F7909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2243-B712-4AE3-A658-F2B128F6EA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b | HEALTH INSURANCE BENEFITS ENROLLMENT RATES, BY FIRM SIZE: 1999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C93-1D97-4D25-9571-4F0C5131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ED8-D0DD-43C0-90C5-A4C19983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6AF-6935-4D15-A51D-70B1CD4A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B49-D86A-4AD4-836F-8438E848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7824-A4AB-49ED-86F8-5DD80172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1BA3-16A7-408F-8067-E0DA84AD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75AF-BE11-4450-8AC7-65A122B4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77D9-4C25-4569-B31F-DCEBFE86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5216-17B2-40CE-9798-5E957ACC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B110-D37C-4EB1-B8BF-0D5C3DB1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E7C8-DF01-4AE0-9C4F-21B815CF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DE3-233A-489E-8DCB-6BA7D3CE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224B-3F9A-4DB9-ADFB-F04EF10A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2D60-F453-4A25-A273-4044E2F2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5395-EF12-40FD-813D-E707C052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9B66-237B-41CA-89A1-54F3FE7E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CE2C-BBF9-409A-ACB1-4BF60F0D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CDB-5C3F-4528-86B7-8BB44A9D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7AD-528E-46C2-90BF-63D4AD83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718-4AFB-4B90-953A-F128F4F2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5D0-F949-4046-8034-C309865A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3C3-D87B-4A45-B60C-EDE12D01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68A-E925-4951-B5ED-F85A2793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933-958E-4354-9334-CED0A2C8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A724-9FEE-495E-AD4F-4E4C2354E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78EF-EE4E-4359-98B3-F6E8471C6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b | Over the past decade, the percentage of employees in health benefits plans has declined in nearly all firm-size categor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b | Over the past decade, the percentage of employees in health benefits plans has declined in nearly all firm-size categories</dc:description>
  <dc:language>en-US</dc:language>
  <cp:lastModifiedBy>Jia Yao</cp:lastModifiedBy>
  <cp:lastPrinted>2002-05-16T21:44:34Z</cp:lastPrinted>
  <dcterms:modified xsi:type="dcterms:W3CDTF">2013-09-06T13:50:0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b | Over the past decade, the percentage of employees in health benefits plans has declined in nearly all firm-size categories</vt:lpwstr>
  </property>
</Properties>
</file>