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1436-DE49-4981-8D2F-2DDC1DCE8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1859-BC9C-47F8-A05C-3C15E6FB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98BE-D68C-421B-91C9-61782FF64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5ADE-4163-4726-BFC0-EED8837CD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6317-623F-4AB6-A356-6BE63C5C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FBC8-04E4-40A3-9652-DB39006D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86CB-3D63-45F6-975B-5FECA943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B828-3074-477E-9868-CE12F114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5F4C-DD2D-4637-B2D4-09862FFC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1CFA-ADB2-4E84-AF8B-DE9986EF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8EB4-F972-4139-A248-765861BF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5F77-2620-4D6B-92E5-D89B91EF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936B-56B9-46BD-881A-C4F65DE60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87480" y="838080"/>
            <a:ext cx="89690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5Z</dcterms:modified>
  <cp:revision>45</cp:revision>
  <dc:subject/>
  <dc:title>PowerPoint Presentation</dc:title>
</cp:coreProperties>
</file>