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27CF-0046-4E31-ACE7-EEBE162C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6ED-17FB-4640-A38E-9568B943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3CCE-E814-43AA-A698-55919347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A94D-2217-4F74-8C4F-2C27608E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A734-4D5A-4B47-A290-5570CAFD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7C4-1D6D-4AC3-A746-7FBCAE71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D9B-BA08-4321-B2F5-5CEC8475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0934-1B15-4C27-8C2E-CF0F9E45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05C-3919-409E-BB6E-D36CDA84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E96D-9945-4978-BFA7-A2EB5FE8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BC77-8F03-407C-A5B8-28928A15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37B0-FCEC-41D0-8057-1CCC7532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CC19-EADE-47B2-A571-9C2FCC402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988920"/>
            <a:ext cx="8837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6Z</dcterms:modified>
  <cp:revision>26</cp:revision>
  <dc:subject/>
  <dc:title>PowerPoint Presentation</dc:title>
</cp:coreProperties>
</file>