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DD1-C49C-46F7-938C-532138F6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CC2-2A87-4E9B-AB9F-98AFF820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E13-58CD-4B1E-B5CA-3B23EAE3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647-02BA-461A-A193-AD2DE44D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C2B-45CC-4BD6-948A-5A224ABF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15E-555C-455D-B627-85ABD35B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50B-C033-4203-84D3-7966A785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E65-3041-45D2-AA68-1454D0F2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855-1413-4919-85F5-3172A304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CD7-6047-4243-93A7-0A8602FC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256-5926-479A-A63F-0EBA0AE9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03D-EB27-490D-8449-837C0DA6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7E01-5A0B-4E57-B7AA-108C28B4D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1600"/>
            <a:ext cx="91058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8Z</dcterms:modified>
  <cp:revision>30</cp:revision>
  <dc:subject/>
  <dc:title>PowerPoint Presentation</dc:title>
</cp:coreProperties>
</file>