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B1C-F882-4498-A620-CE1651FF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2A2-2815-4B3F-B9AF-50AC6CFF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25B-C171-4B5C-A573-2B533207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0BF-6D9D-4553-8EE5-46DA8846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F46-45B2-43A7-AB1A-5D425F8A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570-E374-4C47-AACA-2827FDAA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CD4-D38D-4077-B962-DC0D2B72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AAC-3D61-46DA-8A02-57F2FF6B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F10-9FAD-40AF-8EB9-A2E555D2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4D9-26DE-4FC6-9B04-EF5567FE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B6A-90DD-43C8-BC73-E4AEF52E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EA0-4CF9-4F6B-917D-02ADEF82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EEC6-9BD5-4872-8BB1-C7BCEFC85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228600"/>
            <a:ext cx="905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6Z</dcterms:modified>
  <cp:revision>35</cp:revision>
  <dc:subject/>
  <dc:title>PowerPoint Presentation</dc:title>
</cp:coreProperties>
</file>