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FDB52-59BF-43D7-80A9-874D396AED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1.4B | RATIO OF COMPENSATION FOR HOSPITAL NURSES TO COMPENSATION FOR ALL WORKERS, U.S. AND SELECTED OECD COUNTRIES, 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E65E-FF2C-46D4-95AE-4276F7366C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6B0A-7E62-4885-8046-F61DF4C5D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CF3E-AA62-4685-AD1E-35B987308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741B-5674-4414-B0A1-9DFF1FC90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458C-42F1-47BC-9DF1-36085FF77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7A0A-C8E7-4171-A307-3AC669AFE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2A4B-FFB9-444D-BBFC-D6C6A5415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93F5-BE21-4C25-9A34-AC701BD42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E6D4-4EB2-4C13-A3CE-CE9D0F4B5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12BA-A54C-4F86-B6F1-F45999054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7D24-66D9-4C05-8CE9-3BA9AF92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20C5-4D7D-4861-BC8E-211207F9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95B5-A77A-423F-8083-5EF3B94D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4B5C4-EBCA-484D-B5DD-17B7041DEB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1.4b |  American h</a:t>
            </a:r>
            <a:r>
              <a:rPr b="1" lang="en-US" sz="2700" spc="-1" strike="noStrike">
                <a:solidFill>
                  <a:srgbClr val="000000"/>
                </a:solidFill>
                <a:latin typeface="Arial Narrow"/>
              </a:rPr>
              <a:t>ospitals nurses are paid more than twice the average worker wage, but the same is true elsewher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54160" y="1549440"/>
            <a:ext cx="871200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14080" y="1752480"/>
            <a:ext cx="790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tio: annual compensation of salaried hospital nurses relative to all workers, 20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9:24:58Z</dcterms:created>
  <dc:creator>Trinity Technical Services</dc:creator>
  <dc:description>11.4b |  American hospitals nurses are paid more than twice the average worker wage, but the same is true elsewhere</dc:description>
  <dc:language>en-US</dc:language>
  <cp:lastModifiedBy>Jia Yao</cp:lastModifiedBy>
  <dcterms:modified xsi:type="dcterms:W3CDTF">2013-09-06T15:08:52Z</dcterms:modified>
  <cp:revision>8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1.4b |  American hospitals nurses are paid more than twice the average worker wage, but the same is true elsewhere</vt:lpwstr>
  </property>
</Properties>
</file>