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FE2F-75BA-4453-AC5E-D2BB900507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3A | TOTAL GOVERNMENT EXPENDITURES ON HEALTH CARE AS A PERCENT OF GDP: 192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A76F-3340-4170-AB9F-655E7EF2DF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873E-9709-40FA-87E5-DDFC1F4B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598C-6D6F-421D-8C5E-522C0102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82C1-9BA4-49D9-9286-1637DE989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7C8C-53B2-4572-8AE4-34DBBC09C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B080-C768-4F45-B3AD-AC431EB2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1ACB-AA0B-4CAB-8A0F-F0104F50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AFE3-14A4-4CBC-A94B-61055A8B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D74D-D551-48B7-B15B-55791095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91E8-3D08-49A1-8FF1-445A24BB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DD88-EF51-4402-9F7A-46D40BA5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6C84-B4C2-4E10-9C6B-93936B51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0FB8-AAA9-43FE-8BFC-339E5F12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EA8D-C4CA-4A05-AC93-87F0C09030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7.3a | Rapid growth in the health care sector has been a major factor in the rising share of total national output purchased for services since 194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473120"/>
            <a:ext cx="8940600" cy="4292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295280"/>
            <a:ext cx="5943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3a | Rapid growth in the health care sector has been a major factor in the rising share of total national output purchased for services since 1948</dc:description>
  <dc:language>en-US</dc:language>
  <cp:lastModifiedBy>Jia Yao</cp:lastModifiedBy>
  <dcterms:modified xsi:type="dcterms:W3CDTF">2013-09-06T14:09:52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3a | Rapid growth in the health care sector has been a major factor in the rising share of total national output purchased for services since 1948</vt:lpwstr>
  </property>
</Properties>
</file>