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69E-F1E9-4DE4-B792-B46A8439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552-D33B-490B-B385-05A71453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561-12A8-4BCF-BCB1-8542D2E5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C2C-63B3-4413-8238-7D508636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9DB-B342-4A2B-83EE-D74A34ED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1AE-E0CD-4948-91B5-4CC06E61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B73-BC01-486C-815E-A4573B3F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D0B-1E8E-4B5F-9153-54665725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1F4-CE1C-41DE-B128-BD4A0075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89F-ABC9-4D97-B54D-8CC0BAD7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B3C-B676-4997-A2E4-08AA0E58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C9B-28C0-4FF4-8A97-27D30D0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A0FB-EAC9-4D33-99ED-A70985A67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7Z</dcterms:modified>
  <cp:revision>37</cp:revision>
  <dc:subject/>
  <dc:title>PowerPoint Presentation</dc:title>
</cp:coreProperties>
</file>