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978-916E-46B3-8EC1-8D4F78F4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FC3-C5F1-4595-9145-54F945D6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CA7-067C-4D7A-9D21-757AC22F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81B-19F7-4C50-96DC-2CDAB4E7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464-AA52-466B-9275-61BF7D02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72D-5034-413D-B160-ED4E6B9A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207-9857-4539-A18D-88D679F7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E89-7D52-473C-8B3E-7C5D7D61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332-3B2A-4010-BFA6-A2A773C0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0D5-9A72-4CB1-93A8-F3839D1E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608-5613-45CC-8507-2A988686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120-F40E-4322-9DF3-11CE96E6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DCA4-7EDA-4799-A76A-49736CE16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360" y="85680"/>
            <a:ext cx="90536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3Z</dcterms:modified>
  <cp:revision>35</cp:revision>
  <dc:subject/>
  <dc:title>PowerPoint Presentation</dc:title>
</cp:coreProperties>
</file>