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9DC06-2B2E-4866-A02A-22D958515E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13B | ESTIMATED DEATHS IN UNITED STATES, BY UNDERLYING CAUSE, 20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E2113-08E6-4765-A266-B5489BAE29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7BE1-2BED-4D84-B937-A29CC79C1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4A7C-4E41-4F5D-A6F1-A3B673DF3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FD6B-704B-4819-B575-65BF5AB0E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375A-3A45-4B12-AFE5-EE9574B17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6565-37A0-4C96-BD7D-2ED3FEAE0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C76F-6015-416D-96F6-FD77C5373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D9F0-8EE6-4818-8AAD-F0EF3DA8A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A2FF-9144-4038-821F-5188066D2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5926-6653-4EC5-8B3E-7AC16E3DB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BB84-1378-4A60-B9F3-AE133503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30DE-CD3F-47AD-BF72-BD86971B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AD7E-1986-4880-934F-9611EE72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0B804-9C5B-4BD0-B2EE-1FE95A8E95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19.13b | Changes in behavior/lifestyle would have a sizable impact on mortality rates in the U.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092240"/>
            <a:ext cx="901692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5181480" y="61722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tal U.S. deaths (200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13b | Changes in behavior/lifestyle would have a sizable impact on mortality rates in the U.S.</dc:description>
  <dc:language>en-US</dc:language>
  <cp:lastModifiedBy>Jia Yao</cp:lastModifiedBy>
  <dcterms:modified xsi:type="dcterms:W3CDTF">2013-09-06T15:41:24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13b | Changes in behavior/lifestyle would have a sizable impact on mortality rates in the U.S.</vt:lpwstr>
  </property>
</Properties>
</file>