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E67-E037-4D59-ADAC-BF64B3A9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CD1-480E-47BA-8C0D-44FC4436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467-9204-41B7-AF48-CB0DCD8E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95A-3F5B-4221-B19C-B56FD574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41C-5158-4124-A37D-AE70CBE5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DB7-85B2-448C-A6A0-1D4E9C4F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F68-2851-4F45-BA9C-B05B4790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280-C9CA-4DDA-BA9F-2FE82E89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C1D-C6D2-4D68-9E82-AF82B106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761-9687-49E5-B514-D6B75473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7B4-31E1-4487-8264-2FA20DA0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926-3AFE-4CDD-9D37-76C94B6A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39B8-F730-4B06-8D1C-FB69ADB95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9400"/>
            <a:ext cx="899136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1:18Z</dcterms:modified>
  <cp:revision>6</cp:revision>
  <dc:subject/>
  <dc:title>PowerPoint Presentation</dc:title>
</cp:coreProperties>
</file>