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543D-705E-478B-A915-AE933623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65B-2852-45D0-ABEC-301D7FB0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295-32D4-48EF-86D3-D42CEF0C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088-7BB7-4664-B64E-6A9F6B9D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E37-888D-41C6-887C-10CCE5B4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EBB-6A85-43B1-AB2E-3392894F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635-36AB-42FF-8A51-545F7BCB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BFB6-DBFB-49E2-9DD2-AA6FD932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0014-5D9A-461F-92CC-97C7E605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D53-58D7-4580-81E9-943975EE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CF41-57D3-406D-921A-27245647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9C1-0B13-46B8-8277-FBACADBD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E8D6-0661-49A2-B2AC-B9DE58CF3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-20520"/>
            <a:ext cx="9117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20Z</dcterms:modified>
  <cp:revision>20</cp:revision>
  <dc:subject/>
  <dc:title>PowerPoint Presentation</dc:title>
</cp:coreProperties>
</file>