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208B-1E61-46E3-AE50-D13925101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.14b | Percent of Adults Age 15 and Older Who Are Obese, United States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BD4E-D182-4506-8CFC-E6DF07358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F8D-B6ED-462D-B1BC-E41124B3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430-2747-4962-9DAF-1ED73431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BCC6-93D4-4503-AD60-6CEF634B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E76-3707-48A1-8792-AE68BBAC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07A-DCDC-464D-B58C-3D1630A9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B00-4658-4C2D-AD7A-402F8404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8AD-C20E-46D6-9BFE-9E621617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9C5-D9EC-4379-BAF0-CA3258D8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152-96CE-4616-9663-1EB038FE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439-A251-498D-8F8C-26B7AEB0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4F9-A2BE-4C07-8541-5CE66A6A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8ACD-164B-4B23-9300-C1A0A2E4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6DC8-E2D1-4541-8CD1-B8A254F4A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dc.gov/obesity/data/adult.html" TargetMode="External"/><Relationship Id="rId3" Type="http://schemas.openxmlformats.org/officeDocument/2006/relationships/hyperlink" Target="http://www.cdc.gov/obesity/data/adult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9_17.png"/>
          <p:cNvPicPr/>
          <p:nvPr/>
        </p:nvPicPr>
        <p:blipFill>
          <a:blip r:embed="rId1"/>
          <a:stretch/>
        </p:blipFill>
        <p:spPr>
          <a:xfrm>
            <a:off x="762120" y="4572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876240" y="50472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4b | Percent of Adults Age 15 and Older Who Are Obese, United States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83720" y="6067440"/>
            <a:ext cx="71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enters for Disease Control. 2009 State Obesity Rates, available 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verweight and Obesity. 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cdc.gov/obesity/data/adult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7:58Z</dcterms:created>
  <dc:creator>Jia Yao</dc:creator>
  <dc:description/>
  <dc:language>en-US</dc:language>
  <cp:lastModifiedBy>Jia Yao</cp:lastModifiedBy>
  <dcterms:modified xsi:type="dcterms:W3CDTF">2013-09-10T20:48:40Z</dcterms:modified>
  <cp:revision>1</cp:revision>
  <dc:subject/>
  <dc:title>PowerPoint Presentation</dc:title>
</cp:coreProperties>
</file>