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7E57-FFD7-4C49-9F04-846940EC7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1a | Inflation-Adjusted Per Capita Household Net Worth, GDP and Health Spending, 195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5884-EDA5-46D5-A0A2-69243647F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A5E-997D-4254-8ACD-9ED7E75C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97B1-3755-41FD-8763-C74CCE1F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BEC1-037A-41FA-A9BD-4D2E27D6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9044-8FBA-4E4D-A92B-4E255596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207-E60A-43E8-BA72-50920AE5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65D8-F8A2-4709-948D-ACD67C51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FC8D-9FD8-4788-9228-72712F0E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D323-2C7C-4BBC-B951-DDFEB952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22D4-7895-45D9-B179-E84F672A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3630-F515-447D-97AA-1E5258D6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82C2-69E8-4161-B78D-CCF79700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B4B-360A-4F62-B8B2-9D3E471A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8E71-23F1-41F5-AC08-B9669D20D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1a | Since 1950, inflation-adjusted health spending per capita rose much faster than per capita household net worth or GD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of real amounts per capita, 2005 chained dollars: 1950=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1a | Since 1950, inflation-adjusted health spending per capita rose much faster than per capita household net worth or GDP </dc:description>
  <dc:language>en-US</dc:language>
  <cp:lastModifiedBy>Jia Yao</cp:lastModifiedBy>
  <dcterms:modified xsi:type="dcterms:W3CDTF">2013-09-06T15:25:59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1a | Since 1950, inflation-adjusted health spending per capita rose much faster than per capita household net worth or GDP </vt:lpwstr>
  </property>
</Properties>
</file>