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717-B266-49F1-B9AF-549ED08D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BA3-5479-4BAE-90E5-DBD40B09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FAD7-C46A-4E8E-B136-ADFE385B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CB43-B627-4890-B361-906F1483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C8C-CA32-4592-B84F-AFBE8774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537-3316-429E-A6D7-09EA0E1D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E5B-FE45-4871-BE22-C4C30B3A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32F9-B841-4E70-9454-1B4C46E5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549-4335-4D70-977B-6CD28583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BA7-94BB-4181-BC52-A142CEF1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303-BB2A-4C68-BD50-A6CE4283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690-1386-4568-BA00-260AA4A2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2113-DD20-4DC7-AB62-A60ECC4C6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6480"/>
            <a:ext cx="89992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8Z</dcterms:modified>
  <cp:revision>31</cp:revision>
  <dc:subject/>
  <dc:title>PowerPoint Presentation</dc:title>
</cp:coreProperties>
</file>