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1E0E-C23A-4A2E-87A8-D0EE5C48F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6b | Trends in Per Capita Income by Geographic Region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3C73-21F2-4F51-88E4-0D418344A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2B4-2513-45C5-840C-0865D20B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6EF-A86A-4FCD-8EE6-9957E440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9EA6-E4CE-4C23-A993-0F57F814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0E49-7A71-428A-9FD1-C745C8E1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D71A-E998-4648-A527-F38488DA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DDBA-BF60-4A5E-8E73-0B96FB7B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704-044F-446F-842D-64F702FC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A67-49CB-41CB-83AE-C4406E09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FA3-E3B6-4937-BD5C-ECC41383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F1F-E5EE-4C27-8E47-235597FD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97A-EE27-4955-93D1-CAAAB14F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C31-0C20-4681-97FC-3F5B14C5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C58C-5663-4416-A5DB-CBD453B4F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6b | Regional income disparities have narrowed considerably over the past 8 decades, but have widened somewhat since 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31840" y="1146240"/>
            <a:ext cx="8680320" cy="5479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143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Per Capita Income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6b | Regional income disparities have narrowed considerably over the past 8 decades, but have widened somewhat since 1979</dc:description>
  <dc:language>en-US</dc:language>
  <cp:lastModifiedBy>Jia Yao</cp:lastModifiedBy>
  <dcterms:modified xsi:type="dcterms:W3CDTF">2013-09-06T15:13:21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6b | Regional income disparities have narrowed considerably over the past 8 decades, but have widened somewhat since 1979</vt:lpwstr>
  </property>
</Properties>
</file>