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A0F5-1F97-42F3-A94E-F99E09EC3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3b | Projected Year of Medicare Hospital Insurance Trust Fund Insolvency, 1990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770D-A592-4DBF-9E6D-7941A8BCC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D08-4294-47A8-80DD-8C2F59C8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AC23-B54D-4435-B257-43394634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3728-78AB-4181-A9A9-5E65546D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307-DD66-453C-AD85-96BD9838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2C0D-9B4B-44E7-A421-465A5CDF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23B4-F476-4B17-9F94-FAB69835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221C-A581-4D0F-B832-00CDB75C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AC85-3599-4C47-9536-4BE3C20F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91E-3928-4C0D-A9F9-FC94BF61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926D-36F4-4958-B70B-A2C32C43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2E0-15D1-4982-AF7D-64261D8C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90FC-3BF9-4946-A7A6-B777A27C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BC1A-8A75-4828-A0DB-34D246E6C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3b | Projections of Medicare Trust Fund insolvency have changed considerably over the yea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5597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25680" y="1447920"/>
            <a:ext cx="65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ed year of Medicare Hospital Insurance Trust Fund insolv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85800" y="60199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ar of Medicare Trustees’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3b | Projections of Medicare Trust Fund insolvency have changed considerably over the years </dc:description>
  <dc:language>en-US</dc:language>
  <cp:lastModifiedBy>Jia Yao</cp:lastModifiedBy>
  <dcterms:modified xsi:type="dcterms:W3CDTF">2013-09-23T19:14:16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3b | Projections of Medicare Trust Fund insolvency have changed considerably over the years </vt:lpwstr>
  </property>
</Properties>
</file>