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E706-E1AA-4BCD-BF07-033A476BBB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5b | Net Stock of R&amp;D Capital per $1,000 GDP or National Health Expenditures (NHE), 195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E59C-211A-4B53-80A8-08A9F681A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DFE4-15AF-4C98-B8B8-CB250B8C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6AC3-18AF-4FF2-8152-15C4F482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4BB2-C8AE-49B7-A2A5-A1A7F33B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01D9-420B-47AD-A5C5-476A6077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07B6-F024-414C-B25C-FF4A45B5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BB13-0FF5-4405-BDCB-B5C6EC81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FF8E-1CC1-4D8E-AB78-1E720FAB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6A47-2AA0-45BE-8806-632A9AAB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EB5F-4270-40B3-8AFF-02568E9F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AE89-CA43-4B85-9E9A-A8C75CD7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F5D9-7B1C-428A-B411-34D5C4C0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5C4E-D3B0-44D9-A376-A48FE960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68C8-6F63-42A9-94BD-EBFF087DD1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5b. | The ratio of R &amp; D capital to GDP is higher than the ratio of health care R &amp; D to NHE; the reverse was true from 1960-197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1015920"/>
            <a:ext cx="834876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6019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R &amp; D expenditures include both private and public sector spending, regardless of where the R &amp; D was actually conduc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5b. | The ratio of R &amp; D capital to GDP is higher than the ratio of health care R &amp; D to NHE; the reverse was true from 1960-1979</dc:description>
  <dc:language>en-US</dc:language>
  <cp:lastModifiedBy>Jia Yao</cp:lastModifiedBy>
  <dcterms:modified xsi:type="dcterms:W3CDTF">2013-09-06T14:59:2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5b. | The ratio of R &amp; D capital to GDP is higher than the ratio of health care R &amp; D to NHE; the reverse was true from 1960-1979</vt:lpwstr>
  </property>
</Properties>
</file>