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22A-0EC7-48F0-9241-AB0676F2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EB9-2CC8-436F-B4A8-E2AC0251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956-080D-4952-8B93-BB4D6E14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59D-38E8-4A27-8E79-89B061A3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841-DB33-4C44-ADF8-7A7B4E41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1CB-B775-4C9A-A324-037F49AF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B10-5B55-4C26-A06B-87FC90F6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3EB-FD0B-4A35-B215-A4795655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50A-D170-4F6D-A17D-94812297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498-3E0E-4CA1-9436-A0B5A8AA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2AC-3474-4E2F-9706-FCE0D64A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814-4D99-4A3B-918D-A82F64FF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8810-D54A-4EA4-8BA1-3D9FA7700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187280"/>
            <a:ext cx="8929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9Z</dcterms:modified>
  <cp:revision>22</cp:revision>
  <dc:subject/>
  <dc:title>PowerPoint Presentation</dc:title>
</cp:coreProperties>
</file>