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E7EE-930A-45F8-9F50-409CB8411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5B | TOTAL MEDICARE EXPENDITURES AS A PERCENTAGE OF GDP, CBO AND MEDICARE TRUSTEES, 2010-208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0888-C08D-47D1-9F3B-8CDEB612D9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EEF6-CB4D-49D0-8700-6CE42CC4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C739-4DB6-49FF-820A-E89FB10E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AF98-B80C-4A9E-B261-EF3565DC7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98E9-81A4-4CBA-85BC-E513C28F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1C75-504A-4C4F-A995-A04E1291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6D77-C658-4595-AEEF-F0B916BB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1D99-D66C-41F0-A43D-342556EA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E5B7-17A8-4DD4-8511-81F85730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3C28-FAD6-4478-A4B7-E07B14EC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B1E1-721A-43DD-AD59-79449E62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2AF1-7CE9-4D7F-8DF6-AB16B509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E73A-9C3A-430A-9333-C55B0AD9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7D4C-55E1-402D-BAB2-78E47F681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5b | Official forecasts of Medicare spending differ dramatically due to different assumptions about GDP growth and health spending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1592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703440" y="134928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tal Medicare expenditures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5b | Official forecasts of Medicare spending differ dramatically due to different assumptions about GDP growth and health spending growth</dc:description>
  <dc:language>en-US</dc:language>
  <cp:lastModifiedBy>Jia Yao</cp:lastModifiedBy>
  <dcterms:modified xsi:type="dcterms:W3CDTF">2013-09-23T19:14:2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5b | Official forecasts of Medicare spending differ dramatically due to different assumptions about GDP growth and health spending growth</vt:lpwstr>
  </property>
</Properties>
</file>