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DB35-177D-485A-B291-3D8925D9F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3A | PROPRIETORS' AND RENTAL INCOME AS A PERCENTAGE OF NATIONAL INCOME FOR SELECTED INDUSTRI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C58D-636A-4055-AE63-8238C907A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34A-9E3C-4A7A-8DAB-48304FE6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EB5C-70B2-433F-AA26-BBE22100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2AF0-8E14-4884-AFFF-B0D81A26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92F-87DF-48DE-A681-AEF72E2A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82AC-53E9-44FA-8794-EB9A67DF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1041-84CF-433F-A4D1-D1EAEAEB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B4A4-5AEF-4342-9407-8C78910F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4851-2406-41A7-A67F-6939BCC9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DF52-DE1F-4E4A-81A9-DA394CCF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6353-674F-44AE-9F07-2DC99390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A3D2-9DBE-4213-B9C9-06378AD0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8E46-B692-4ED3-92E5-0DA755D5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E895-01B6-40F1-84D2-A2A392F0C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3a | The share of health-related national income accounted for by proprietors’ and rental income has declined dramatically over 5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5238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sector-specific national income to proprietors’ and rent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3a | The share of health-related national income accounted for by proprietors’ and rental income has declined dramatically over 5 decades</dc:description>
  <dc:language>en-US</dc:language>
  <cp:lastModifiedBy>Jia Yao</cp:lastModifiedBy>
  <dcterms:modified xsi:type="dcterms:W3CDTF">2013-09-06T14:16:56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3a | The share of health-related national income accounted for by proprietors’ and rental income has declined dramatically over 5 decades</vt:lpwstr>
  </property>
</Properties>
</file>