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F115-DFD9-406D-A1E7-20E955A4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722-EA29-463B-8B22-5BDA71CB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CDC2-2763-40FB-BEAB-B19878C4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2D3-28D5-4042-AED7-F951954E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BE9-534E-4487-803C-AF0AA36C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C44-476C-4F64-B5C0-2BF31E43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6DF-5924-47D4-8A02-E5512E56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7845-D71A-4CF3-8CBA-A809FD87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18D0-8F0C-404A-A323-BC31DC8C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64D-34E5-4481-9938-62473F3F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5DD-EFC8-45B4-8CB9-E7C954C7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CF0-7A26-4F56-8F72-EFFFD659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7520-306B-4074-B1B5-4D950F223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4Z</dcterms:modified>
  <cp:revision>8</cp:revision>
  <dc:subject/>
  <dc:title>PowerPoint Presentation</dc:title>
</cp:coreProperties>
</file>