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49E1-ED14-49AB-916E-9428FBEB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746-292A-4144-8A49-71C38485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FE3-05DB-4A95-9BC6-7C5A2378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0ED-E0F8-4128-A13E-A1881519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7C94-90F2-4568-804B-8855C6E6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2B7-59B4-4B2E-A208-83B28D11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4483-B569-40CE-A180-00EAC559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4A22-C32E-42E6-94DC-3F81CAF4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8074-E3F4-4071-AD90-A3A4A94E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B87-1F73-49F9-965E-43DE21CF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B6D-905E-4F93-B1E2-59A692C8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B7B7-AC99-4068-B26F-52A74168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6D55-8523-40CC-B57A-1DA2BB583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0440" y="0"/>
            <a:ext cx="696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7Z</dcterms:modified>
  <cp:revision>20</cp:revision>
  <dc:subject/>
  <dc:title>PowerPoint Presentation</dc:title>
</cp:coreProperties>
</file>