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9AA-8FBA-43E6-A049-C48ED2BF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94A-5F2B-414B-8268-1CFD535B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433-762F-40B6-B8FA-D4D387F4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180-C4E6-4476-89DA-6B50814E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C56-646B-42B3-89FB-93A52C59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545-A8D7-4EFF-B4A3-FA91F579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CD1-6AD0-4EE8-BF5A-1FDB6726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14E-2852-471C-864A-9082BC61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1738-AA84-4F6D-9D98-5C1242AB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E76-CF57-4943-90E5-7E57B273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CDB-FD9C-4039-87E3-4E193B64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31F-C121-4B2F-99A5-D79D5D8C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7B0A-73F9-4284-B718-E4792C979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295280"/>
            <a:ext cx="9017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7Z</dcterms:modified>
  <cp:revision>39</cp:revision>
  <dc:subject/>
  <dc:title>PowerPoint Presentation</dc:title>
</cp:coreProperties>
</file>