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3CD9-88DD-444F-BDCD-414F2043E5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3A | SELF-REPORTED HEALTH STATUS OF ADULTS AGED 18 OR OLDER, BY FAMILY POVERTY STATU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49A4-DD4C-43A8-8B8F-001D9CCC3A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C128-DB49-4E54-B76C-201ECE3A6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507B-1241-4B60-964D-BF36F909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7D12-8BDB-485F-B8B0-50F549D7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2D24-AD7C-4E9C-A9FF-E91132FB6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2121-9245-43F5-9A6D-A814EE44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CBC9-5863-40D7-BCF4-6F75883E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DF2C-C90A-4529-9F5F-689C3485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1B06-7DEF-4C0D-82B1-C7BF0772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8B2C-80D5-4953-B4F7-DCD3E6F3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8F28-6E64-4E8E-921B-802ED8B7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E91F-C191-4AC9-ACB9-D808A0BA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BFDD-9F5B-417A-9B0F-D4EA2062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98FC-3653-4E98-AE5C-935FF8974C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3.3a | Based on self-reported health status, the percentage of people in fair or poor health is highest among the poor and near-po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666880" y="594360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mily income as a percentage of poverty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33520" y="13716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3a | Based on self-reported health status, the percentage of people in fair or poor health is highest among the poor and near-poor</dc:description>
  <dc:language>en-US</dc:language>
  <cp:lastModifiedBy>Jia Yao</cp:lastModifiedBy>
  <dcterms:modified xsi:type="dcterms:W3CDTF">2013-09-06T15:16:56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3a | Based on self-reported health status, the percentage of people in fair or poor health is highest among the poor and near-poor</vt:lpwstr>
  </property>
</Properties>
</file>