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12C-81E4-4243-B680-E21DBE43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2ED-DCEC-4A7B-B2D4-0F1DC4A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1CC-301C-457C-A857-8D9669F3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D73-F0A2-4F07-BDA8-E2B222B7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1A1-83F2-48B7-9EF1-557E499B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961-0D8D-47AD-AF33-E1E27574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8A7-ECE6-4CF3-B999-4D4009A1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C7C-0D62-4952-BEC4-4461CE3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F32-4B77-4E6C-A060-96F334D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F7A-3B2B-4C73-9C31-5AD25E5A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3BE-170C-41FD-A0A2-23E5EB4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6BC-4734-47C5-AEE3-780BAA4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B44C-FFEF-42B6-BAF7-918DD6701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5Z</dcterms:modified>
  <cp:revision>39</cp:revision>
  <dc:subject/>
  <dc:title>PowerPoint Presentation</dc:title>
</cp:coreProperties>
</file>