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6566-721F-42CC-96FB-EBBF81021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6761-1C0E-4937-A1F4-185EFED8F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35E4-6FB8-471A-A404-E946E9E66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83AB-CD9C-4768-8961-5B23DF976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1467-0FD4-498B-9FC8-7446B12E2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FBA7-FA83-43D5-8468-7AA6EFD47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D309-7BD0-4603-9557-E76180866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253B-A2DA-40E1-AB5A-CC4CB4F54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1B6D-57A8-454C-882D-7B2964285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C052-D956-4066-BD12-3644EB2F5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56EC-6F02-4AA3-8902-8B2711A7C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FCE5-C880-4258-9FD0-91468EFE3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5B8F2-EEE2-4962-BEB7-6396B26FBD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9600" y="0"/>
            <a:ext cx="906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6:30Z</dcterms:modified>
  <cp:revision>33</cp:revision>
  <dc:subject/>
  <dc:title>PowerPoint Presentation</dc:title>
</cp:coreProperties>
</file>