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CF1-1BDB-41BD-9437-DA0ADA6E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A27-2E91-459C-B1E2-E3B828A5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5F3-FDF7-45C2-AC17-CEAD7733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413-BBC5-4105-8AD0-91E2F58D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0F1-ED88-43F5-8CE9-14DA3467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EAA-E5BE-489C-845E-52086888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FA6-400B-4B06-9D40-D54072DC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ABE-38B4-481E-AA22-45CCF8A4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512-FE47-4347-82C5-D57E2E58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9AD-C2EF-4F85-A8FF-5894FCDB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953-0DB9-43A4-8F24-0F343C1C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7C9-12F2-48DF-A91C-025C5F42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5872-6A56-496D-8116-922261222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760" y="0"/>
            <a:ext cx="828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8Z</dcterms:modified>
  <cp:revision>35</cp:revision>
  <dc:subject/>
  <dc:title>PowerPoint Presentation</dc:title>
</cp:coreProperties>
</file>