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9A4F-DF17-45EE-B1A3-E5A845695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D4AA-807C-431A-8824-4CCFAFC3E04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4a | HEALTH INSURANCE BENEFITS OFFER RATES, BY SIZE OF FIRM, 1999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12A2-1976-4B4D-A0BD-3A19465E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4AA-EF0F-48EF-888C-3C4A120D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A937-89F4-4A69-B344-56B3CD58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CD9E-A31D-4D82-A311-5A605483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92D5-67C3-448C-9528-6900452F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3D3F-838A-44EC-82D9-8642F0B9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CBCB-CB37-4510-B414-684AE246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E1B0-EF31-4C11-AFC2-49B16991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BC0C-6397-495C-B2FA-43C6EC1A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DE53-F5BE-4518-8014-ED82F74B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3B52-67E1-4B10-852D-0F325704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07F5-BC9F-4BED-B199-3E2F3CE5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C43B-22B0-47AD-974B-324C4795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376D-A88B-483E-BDFB-8EABED67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9677-3319-4EB5-9071-069A83EB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BDA6-09F0-4BF4-8A56-CD38DCEE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E01B-ABAD-46FB-BB81-49FC6752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4DB2-C786-4562-B413-76553EDF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BB0-ED72-421A-85F4-2673E006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39F1-7AEC-4B37-BE46-61212F4C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641-779B-4858-A913-54169D29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844-8F40-403A-AD9D-C3696403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B94F-1C3F-48D2-BE7D-BC46CD43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3B8-27A2-4DEB-832C-229F3893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8527-455D-4C7E-B086-92E4C3119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191B-636E-4E51-9C17-3D3E34E4CA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4a | The percentage of the very smallest firms offering health benefits has been below 60 percent for more than a decad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49400" y="787320"/>
            <a:ext cx="904536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4a | The percentage of the very smallest firms offering health benefits has been below 60 percent for more than a decade</dc:description>
  <dc:language>en-US</dc:language>
  <cp:lastModifiedBy>Jia Yao</cp:lastModifiedBy>
  <cp:lastPrinted>2002-05-16T21:44:34Z</cp:lastPrinted>
  <dcterms:modified xsi:type="dcterms:W3CDTF">2013-09-06T13:50:08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4a | The percentage of the very smallest firms offering health benefits has been below 60 percent for more than a decade</vt:lpwstr>
  </property>
</Properties>
</file>