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E6FC-59DA-4D00-A98B-7F557DD27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3A | UNEMPLOYMENT BY SEX, OCCUPATION AND INDUSTRY, 196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4B25-5410-4C8C-AC8E-3C30971F3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835-8321-4554-B37A-E7BBD184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9F9-4C98-4939-A41C-4E11D64E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8891-E61F-4578-9754-53BDE91F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3560-4D75-4247-9040-CFC1CD9C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C8F-0DA2-42C1-B840-906E8F4D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A54-E3DA-4FCC-BA27-1CBEB06F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18E-625C-4349-B41F-1E909C7B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0B55-2912-4836-8BFB-62900CB7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238-8FBB-4964-95A2-CC923DF8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2A8-6DAA-4F59-A207-D2CACE88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9F2E-8BC9-47C3-A18C-B1BD7E30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33A-3C40-469D-BB20-98AFB910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DDF8-EF0C-43C0-82D0-8CBA7178E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3a | Unemployment rates among males working in health services are lower than for males overall; this has been true for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749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unemployment rate within industry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09480" y="5715000"/>
            <a:ext cx="802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Unemployment figures are for experienced workers only, not new workers 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ose reported as being "Not in Labor Force" because of school, an inability to fi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, or other reas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3a | Unemployment rates among males working in health services are lower than for males overall; this has been true for decades</dc:description>
  <dc:language>en-US</dc:language>
  <cp:lastModifiedBy>Jia Yao</cp:lastModifiedBy>
  <dcterms:modified xsi:type="dcterms:W3CDTF">2013-09-06T15:28:10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3a | Unemployment rates among males working in health services are lower than for males overall; this has been true for decades</vt:lpwstr>
  </property>
</Properties>
</file>