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9993-018B-4D86-9609-F7018E88C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B | ADULTS AGED 18 OR OLDER REPORTING FAIR OR POOR HEALTH STATUS, BY RACE/ETHNICITY AND FAMILY POVERTY STATUS, 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2A96-4390-4635-A09A-86D3CE2E9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8BB-CDBD-478C-9B76-D67C605E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71E-F70F-4448-A646-E601FF2F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6C4-897C-427F-8F1A-39284C1A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40E-9409-4BFF-BA9B-B1723823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CDE-7E7E-46B8-A612-2643FE55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5BA-ADA0-4C84-A5AD-30208723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5E0-E8F6-4407-B0D2-488ECA64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681-4473-4DDC-9197-A8E95635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5A2-1323-4486-AA13-99DAB93C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784-752C-4244-9EA4-6C0462AD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EA0-A25D-42CA-AB58-934921FB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B1A-AFA1-49B3-930B-2B565902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20B8-9349-478E-8575-D73EDA31A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3b | In all poverty categories, blacks have worse self-reported health status than whites while health status for Hispanics is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reporting poor or fair health (200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b | In all poverty categories, blacks have worse self-reported health status than whites while health status for Hispanics is better</dc:description>
  <dc:language>en-US</dc:language>
  <cp:lastModifiedBy>Jia Yao</cp:lastModifiedBy>
  <dcterms:modified xsi:type="dcterms:W3CDTF">2013-09-06T15:16:59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b | In all poverty categories, blacks have worse self-reported health status than whites while health status for Hispanics is better</vt:lpwstr>
  </property>
</Properties>
</file>