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8B9E-B4A3-4F02-BDA0-3D9BD30B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35E0-C093-43D0-917E-572A2813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A8C6-A46E-4303-8C9C-EB4B7954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32AC-85EB-4795-97FF-96DD42CA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3AE6-0E62-4126-8BD6-C2CF67C7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F2C5-9352-4771-9374-B040451F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C184-E688-4E67-96AF-249ED4C6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C0EE-2C9C-4507-96DD-7686093F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91FA-B837-4353-9CBD-9989E016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F952-E239-4CD2-8833-DF8E6017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C5EB-66B4-4552-AA6C-998C2309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9156-480A-439E-B799-2A337FFE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1190-1238-4902-8EB0-FCA9586AE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2280" y="52560"/>
            <a:ext cx="890748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3Z</dcterms:modified>
  <cp:revision>37</cp:revision>
  <dc:subject/>
  <dc:title>PowerPoint Presentation</dc:title>
</cp:coreProperties>
</file>