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D63-F75B-4CC1-A939-2DF498DA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85A-3469-4A95-BDD7-60E282CE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CBF-AF03-4859-B760-B9622C97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DE5-5B95-4175-91FC-3D28ED6F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3D8-F288-4953-BA0B-32B0DE04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E5B-EBE9-4F45-9929-E932719A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40B-9385-4348-AA3F-4B0D3949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865-8422-4489-90B0-1B705017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128-68A9-4398-977B-A6DBB0DE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ECA-06B3-4303-96EE-EC693AC3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A06-D992-4F4F-AA3B-3F1F2123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B4F-45C0-48F5-9654-FB93207A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7E92-00B9-44AE-B58F-FE823E1FB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5560" y="1523880"/>
            <a:ext cx="909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7Z</dcterms:modified>
  <cp:revision>28</cp:revision>
  <dc:subject/>
  <dc:title>PowerPoint Presentation</dc:title>
</cp:coreProperties>
</file>