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1FD7-7047-4E25-A6CC-A7474412A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A | MAJOR DETERMINANTS OF PREMATURE MORTALITY IN THE UNITED ST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9C22-C8EC-4AE5-9D45-084DDEA8B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03F-DA16-486E-ADE9-E2868A6D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9ED-FA26-4229-8FF4-FA67AD41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C6C-51FD-4F62-80AF-0FBD1F2B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950-4D70-434D-9BA3-EA647D9C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5AE-FF24-4B8E-9588-3BEBC38D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D34-00BA-4C46-8748-9FBB4F94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21F0-E59D-477C-8540-C86A7BE9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A1D-2BFD-4991-BBBF-296B2997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3C3-B94D-447A-BB21-F58F1C2B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4276-93ED-45D4-B904-3FF4514E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D5B-393E-4C60-9D3D-63EA5229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FF50-8551-4508-B82A-D31B98D0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DC91-D596-445A-96CE-D982025C1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a | Roughly half of premature mortality relates to behavior/lifestyle; only one-tenth relates to medical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329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015200" y="2971800"/>
            <a:ext cx="18205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ermina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m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84920" y="5827680"/>
            <a:ext cx="86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epartment of Health, Education and Welfare. Office of the Surgeon Gene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y People: The Surgeon General’s Report on Health Promotion and Disease Prev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97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a | Roughly half of premature mortality relates to behavior/lifestyle; only one-tenth relates to medical care</dc:description>
  <dc:language>en-US</dc:language>
  <cp:lastModifiedBy>Jia Yao</cp:lastModifiedBy>
  <dcterms:modified xsi:type="dcterms:W3CDTF">2013-09-06T15:41:2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a | Roughly half of premature mortality relates to behavior/lifestyle; only one-tenth relates to medical care</vt:lpwstr>
  </property>
</Properties>
</file>