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E7CE-7E7A-4E63-A9F2-91BC6A8F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A9C5-E1AD-45A5-B2AD-D0FA84D3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6726-6C65-48B1-BF88-6B81E1E5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21EB-2CE1-4B9E-A3EC-3412D8D3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6150-24AE-4F9A-A5F9-77505E19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7AAF-6B0E-47B4-94FD-3F8C15DB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9315-6545-4B11-B22F-72D52381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CA24-6810-4034-9D23-FF2BF742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9629-FC9E-4488-A28E-9F8F2AFF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216D-7D6F-4ED3-8051-9AB1071D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2B4A-05DC-41D6-AAE8-76D2B5B3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A3FB-94BA-42E6-B76C-8C4D4D14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11A3-DE18-4A42-A89C-E376630F02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9200" y="152280"/>
            <a:ext cx="89856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16Z</dcterms:modified>
  <cp:revision>37</cp:revision>
  <dc:subject/>
  <dc:title>PowerPoint Presentation</dc:title>
</cp:coreProperties>
</file>