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2B0E-DAE6-4E81-9425-7E752BC8D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70F3-8D7F-4098-A9CC-281073363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F678-072E-40FC-85BA-B005B4298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3B0D-2794-4213-AACC-0B8440FF1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65DB-6CB9-4A93-A1F5-4AB87CDC0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C93D-64AA-4BEE-BCC6-D7D950337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CD49-B6A9-4B89-9ED0-1AE47A48E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BA08-71A5-44B3-9C93-2E043D531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EA65-4959-4F8C-B6AB-FABADCD19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CA0E-704F-483B-94EE-4B0F32303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9868-E7C6-4219-8865-A9B1B09CC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FD84-9222-49AD-8969-C3C0CFC97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D00E5-D0D8-4D87-8685-C88387DD1F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41400" y="1474920"/>
            <a:ext cx="9026280" cy="38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7:15Z</dcterms:modified>
  <cp:revision>35</cp:revision>
  <dc:subject/>
  <dc:title>PowerPoint Presentation</dc:title>
</cp:coreProperties>
</file>