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CE9F-D931-41E4-9130-736278475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E7D2-D4C3-43D0-AD20-0AACAAAD45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6 | DISTRIBUTION OF U.S. PHCE RELATED TO 15 BEHAVIOR, LIFESTYLE OR OTHER AVOIDABLE CAUSES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C340-8030-4EB7-B8FE-F79A4AE0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A3E-68C3-4E3B-A3F7-E8A3DFA0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A57B-C7F4-417F-A199-7FE83617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942-D637-47F1-AA88-2CD334CD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704D-7B53-4F4E-A408-D9EA5585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17F9-5B1B-4F88-9712-5AE19B33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E679-9E15-447A-92C4-07A5F5B0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935F-E6E7-4C37-B26D-F18F171F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0F9B-F2BB-491B-B5A7-8AFE63C4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0265-F655-4AFC-A63B-8BE3037B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EC90-E14A-4DFB-B894-836FA654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E24-2792-4724-A695-22D361C8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CFF7-B537-4D49-BD14-2EAF5986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A6B7-7BC5-4852-BB08-623FB0E7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F632-F752-4603-8D24-2178A0D0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B798-1C05-4AF0-B8D4-5866CD1B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DA43-0CBE-4992-B681-6724EAA0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625C-9715-4F1D-BC70-1EC079B3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EF8-E265-426F-8045-E08E7293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E35-0630-47F2-8F5D-90D6D94E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1555-E880-4884-9D44-5B3DB37D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9C8-883B-4303-94DE-C1A07671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DE2-DE36-478A-B9DC-51D75C31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D321-D7BB-4C77-9472-85C8B06C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3719-5AB0-47E3-A290-9B6A4D426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5332-4277-4177-A47D-B986BD2395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Figure 2.6 | Probably half or more of health spending is related to behavior, lifestyle or other avoidable caus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660240" y="787320"/>
            <a:ext cx="980748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Figure 2.6 | Probably half or more of health spending is related to behavior, lifestyle or other avoidable causes</dc:description>
  <dc:language>en-US</dc:language>
  <cp:lastModifiedBy>Jia Yao</cp:lastModifiedBy>
  <cp:lastPrinted>2002-05-16T21:44:34Z</cp:lastPrinted>
  <dcterms:modified xsi:type="dcterms:W3CDTF">2013-09-04T18:13:29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Figure 2.6 | Probably half or more of health spending is related to behavior, lifestyle or other avoidable causes</vt:lpwstr>
  </property>
</Properties>
</file>