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D60-A0A4-4B9A-AF13-A1D4DDD0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320-C417-476E-8776-D8BBB859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126-A07E-4E3F-8F7D-4E9745B3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1D1-9EDA-4408-9A89-3785F630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AEF-74E1-4148-BD8B-76D1A0EA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CB0-D97C-4A9D-A225-D36C06D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0C2-E9C1-47B3-99AF-50C9B95A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744-497C-4EE7-8627-B10DE4B9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9D1-DB15-42D7-8F4D-6F222548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659-28D9-46A9-A08E-A0981D78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363-F672-43CE-B3FE-FDC628D2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EDD-3F74-4F38-940D-4E90320B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BCAC-60A2-4EA1-B090-A14885E52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9280"/>
            <a:ext cx="9131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3Z</dcterms:modified>
  <cp:revision>20</cp:revision>
  <dc:subject/>
  <dc:title>PowerPoint Presentation</dc:title>
</cp:coreProperties>
</file>