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876C-E1A5-4015-9B5E-6302F0943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379F-A92A-48E6-84FE-04602462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E239-4340-43E5-A9F1-462C04AF6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910E-F4F4-4BB9-919F-DBA92A4AB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10B8-8340-4D9D-ABED-1A01CE50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077B-CE5E-40E1-9401-B05C1389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2EA4-A1B3-4090-889B-6EC7BE2B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0656-B644-4A99-AD9D-66236D3C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DB15-EF1C-4656-A53F-FA56ED09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CFA8-1C99-4EAC-8FE0-DB43732F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48CD-23F2-4BB1-B17B-585E78A7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1802-94C7-49FA-A08F-59478393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A388-251F-4DDD-B2B2-0A83FA33C1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01520" y="1447920"/>
            <a:ext cx="89409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6Z</dcterms:modified>
  <cp:revision>41</cp:revision>
  <dc:subject/>
  <dc:title>PowerPoint Presentation</dc:title>
</cp:coreProperties>
</file>