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91D5-5D55-40FE-B993-621DB6F419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C | ANNUAL GROWTH IN MEAN INCOME OF WORKERS 18 AND OLDER WHO WORK FULL-TIME YEAR-ROUND, BY EDUCATIONAL ATTAINMENT, 2003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1B22-ABB7-4A87-9018-EE2A83395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96D4-B68C-4BE7-8175-00D15A64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8265-F9BD-4551-99FD-BE36C5CB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0085-9333-4E4A-B0FE-531AC49F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9573-860C-4797-ABFF-D2EDDBCF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4233-EC48-4E90-84D8-9365D649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BFE0-030C-47AB-9BBC-EF6DFEAB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D9C8-2812-485F-A209-EAAE1379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85A4-17E7-4936-97E9-BCF4E365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1B4D-BE97-4D62-8578-CADCD9AC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A551-ECD5-4D8F-857A-F75C0442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D784-3172-4C4C-A94A-74A2DD17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F512-F850-4813-B6C5-8A8788E7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44C9-E328-4D23-992B-CC7721A9E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9.3c | Excepting those at the lowest education level, recent growth in health sector earnings has been slower than for other work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90169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380880" y="990720"/>
            <a:ext cx="19051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nual Growth in Mean Earnings of Full-time Year-Round Workers 18 and Older, 2003-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c | Excepting those at the lowest education level, recent growth in health sector earnings has been slower than for other workers</dc:description>
  <dc:language>en-US</dc:language>
  <cp:lastModifiedBy>Jia Yao</cp:lastModifiedBy>
  <dcterms:modified xsi:type="dcterms:W3CDTF">2013-09-06T14:59:1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c | Excepting those at the lowest education level, recent growth in health sector earnings has been slower than for other workers</vt:lpwstr>
  </property>
</Properties>
</file>