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E090-F93A-420A-9DC5-463B4F4568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3a | Real Hourly Output and Real Hourly Compensation, Private Sector and Ambulatory Health Services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D6DB-EF71-4076-BAD0-34A412B468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1041-2B35-4A07-96DF-773734F8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2FF4-C3CF-48C5-BF28-A72BE429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DAFF-FE95-4C6A-B099-698789EA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4064-D106-4676-B8F3-2B13498F6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B551-7516-4B82-8780-1E13D728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1670-184E-4C62-B055-29C0E9A1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419E-CF6D-419F-B336-C3FAB597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6D50-4D03-47CC-BEED-097F7878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92BB-C11B-4606-B6B3-5AD97055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DD3B-209F-487D-AFF9-89717D7B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FFAF-46D8-454A-AFB3-5BB10785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1DF0-C9CD-4767-BD89-6A89E7B9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D037-963C-446B-80C6-676645A42A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3a | In terms of worker purchasing power, real hourly compensation in ambulatory health care matches changes in hourly output over the long hau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69320" y="137160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es (1987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3a | In terms of worker purchasing power, real hourly compensation in ambulatory health care matches changes in hourly output over the long haul </dc:description>
  <dc:language>en-US</dc:language>
  <cp:lastModifiedBy>Jia Yao</cp:lastModifiedBy>
  <dcterms:modified xsi:type="dcterms:W3CDTF">2013-09-06T15:08:42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3a | In terms of worker purchasing power, real hourly compensation in ambulatory health care matches changes in hourly output over the long haul </vt:lpwstr>
  </property>
</Properties>
</file>