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99B0-CADA-4A7E-9005-622E8528ED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2A | FEDERAL, STATE, AND LOCAL EXPENDITURES, BY MAJOR PURPOSE, AS PERCENTAGES OF GDP, 1959, 1989 AND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363E-D85A-4446-A466-F035FAA64C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01C5-4C54-4EF5-A878-3F240A0D8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489E-2FB9-4FD3-B96C-D5BD0409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CEE6-CD10-41D6-86F1-0DFF91980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4C1D-24A2-4EF2-8CF2-D1A74900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6FB8-97BA-4CF7-A16B-8C7233C6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E40D-AEC8-4166-8281-C4A2E673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D4B6-E048-446C-9652-29212FEB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F1E7-0065-4B47-9E6E-E0B13D68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C721-75A6-4C5F-BD75-67882DC0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753F-6F36-4055-AFEA-B291BA9C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C91C-EFB8-4727-B9D7-DA5F2DFA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7342-AC49-4498-81F6-CBF81FC5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DDF6-00F7-40EB-8D79-D26B66CFDE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2a | Government health spending has been the fastest growing major component of government budgets over the past 50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48340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flipH="1">
            <a:off x="533520" y="6019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 this chart shows the 7 largest functional areas of federal, state and local budgets in 2010, rank-ordered by size in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2a | Government health spending has been the fastest growing major component of government budgets over the past 50 years</dc:description>
  <dc:language>en-US</dc:language>
  <cp:lastModifiedBy>Jia Yao</cp:lastModifiedBy>
  <dcterms:modified xsi:type="dcterms:W3CDTF">2013-09-06T13:59:30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2a | Government health spending has been the fastest growing major component of government budgets over the past 50 years</vt:lpwstr>
  </property>
</Properties>
</file>