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A6E7-F080-4A06-ABAB-306808FC86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C | RATIO OF ELDERLY PER CAPITA HEALTH SPENDING TO AVERAGE ANNUAL EARNINGS OF PRODUCTION WORKERS IN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9068-7879-47BD-BC79-30D82F768C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1E24-8CBB-4ADF-9CF0-AACF97D6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E1DF-F22A-4E22-A365-AD702316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B054-ED16-4276-91E7-B9C7D391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D0E0-F544-4F21-A70E-0695C94F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0886-07E4-4FDB-AFE8-A9CF385B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E43D-148C-49D1-9B82-443A62BB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5710-18BF-4FE8-84B6-BFD7AAD0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2589-B6A5-469C-9FDB-4BED841F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879-FE2B-4C2C-B3F7-AEA65CE5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BC36-BA2B-449E-8BDF-4C948CB3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FC02-D714-41D8-B8AC-2495EFD5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A7A1-FE47-4142-9305-87CFB4DB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E124-221E-485E-B0A7-84AFB0CEE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c | Relative to competitors, U.S. health spending per elderly person is a much higher share of average manufacturing compen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47840" y="1643040"/>
            <a:ext cx="83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lderly health spending as a percentage of average annual compensation in manufacturing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c | Relative to competitors, U.S. health spending per elderly person is a much higher share of average manufacturing compensation</dc:description>
  <dc:language>en-US</dc:language>
  <cp:lastModifiedBy>Jia Yao</cp:lastModifiedBy>
  <dcterms:modified xsi:type="dcterms:W3CDTF">2013-09-23T19:14:39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c | Relative to competitors, U.S. health spending per elderly person is a much higher share of average manufacturing compensation</vt:lpwstr>
  </property>
</Properties>
</file>