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A664-0435-4D4C-AC0F-38D91E401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6 | NUMBER OF UNINSURED AND PERCENT WITHOUT HEALTH INSURANCE, 1940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Tahoma"/>
              </a:rPr>
              <a:t>Source: Author’s estimates based on CPS, HIAA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7D2A-A06E-4716-A34E-73316204E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5B3-11A3-47DC-B5FD-0FC230A6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A3E-B27D-4623-B210-C73BB669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4AA-E84F-4F3D-889D-B2FFC733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B06-1C89-4657-ADCE-F91216F6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0A4-9E45-4157-9975-755B794A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029-BA6A-48FB-97B8-BE7CF421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146-74E5-45FA-A402-7BF806CF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0A8-0851-4ECE-B68B-A487D0BF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117-6A8E-4A03-A246-4708CEC0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7C7-BB4F-4F7A-8EFC-9B8A312B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06B-CF4C-4F2D-845C-8F74ADBE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A16-A02A-45BB-84A9-D7A9FBFF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9C77-51F8-4A0C-ADD9-E9BA7AD10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6 | The risk of being uninsured has declined by more than 80 percent between 1940 and 20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228600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5440" y="5943600"/>
            <a:ext cx="865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Figures simulate the gross number of uninsured as if measured by today’s Curr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pulation Survey. No adjustments have been made for the 10 to 20% overcounting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nsured by the C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Box 1" descr=""/>
          <p:cNvPicPr/>
          <p:nvPr/>
        </p:nvPicPr>
        <p:blipFill>
          <a:blip r:embed="rId3"/>
          <a:stretch/>
        </p:blipFill>
        <p:spPr>
          <a:xfrm>
            <a:off x="4979880" y="914400"/>
            <a:ext cx="3140280" cy="512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6 | The risk of being uninsured has declined by more than 80 percent between 1940 and 2010 </dc:description>
  <dc:language>en-US</dc:language>
  <cp:lastModifiedBy>Jia Yao</cp:lastModifiedBy>
  <dcterms:modified xsi:type="dcterms:W3CDTF">2013-09-06T14:06:2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6 | The risk of being uninsured has declined by more than 80 percent between 1940 and 2010 </vt:lpwstr>
  </property>
</Properties>
</file>