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C9CF-407F-43FD-AC8D-648113BC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35A1-1103-4E40-8CC6-2CBB8B6D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3596-6B08-4C33-809C-79417F21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4172-0D24-4974-87F3-21F575A0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BAE2-3574-4824-A66A-BA7A130F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5791-B72B-4BD4-937C-715A6FA0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8D4E-FC3F-4924-B513-64F0C3C8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630E-5A26-46C8-9BD9-E04C0582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7845-EAF8-4DB8-924D-B94780A6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EB80-FE3A-4910-91DD-0CC50560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EA2D-C0D5-4BCB-84DD-6CDC95B7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434E-3B3A-4CCF-AC3D-5836285D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DAAB-7BFD-42A8-BF99-ACB898D20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4920" y="22320"/>
            <a:ext cx="856296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29Z</dcterms:modified>
  <cp:revision>37</cp:revision>
  <dc:subject/>
  <dc:title>PowerPoint Presentation</dc:title>
</cp:coreProperties>
</file>