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E00-81E6-4244-A301-496FF8A0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4DE-5B3C-4429-9E18-E7C20074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9656-D79C-4225-A6E8-1F9F1DF5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065-8DA9-42EC-A6D1-C80DC23A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FA27-9B5A-4063-A31D-A9CA19D8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B4C-EA93-4AB1-8BBE-B512638F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C5B-59CE-4582-87FB-79159C2F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7A7-D5E3-41D8-A272-E8FD160E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D65-D7E5-4849-A8CF-77B4CF26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E79-348E-404A-B31F-99CC3F40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CB2-7F5A-42CC-9F50-B845C879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46F-0B59-47E2-A69B-60863EC7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81E8-A211-4D22-8966-0721CBA56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62080" y="52560"/>
            <a:ext cx="681984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1Z</dcterms:modified>
  <cp:revision>4</cp:revision>
  <dc:subject/>
  <dc:title>PowerPoint Presentation</dc:title>
</cp:coreProperties>
</file>