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66E5-66C9-44ED-87B4-464E1A58E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2B2D-C610-4B65-B788-1423269E7D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2 | U.S. TOTAL REAL PERSONAL HEALTH CARE EXPENDITURES PER CAPITA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267-CFEA-455E-B38E-1F0F78C0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16B-5A17-4BD0-815B-FCBA54FE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2F9-FEA0-4C19-80CA-DDA17484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434-86D7-4A2B-9EAC-1BA11039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72CE-E777-4A2C-B9B8-3121157E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D1D8-4B51-4BD5-9F89-36AB2C72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2916-B800-4C15-9E92-864A15FC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4785-75A4-4AA3-88A4-A110C490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83CB-FC08-4B1E-85EB-78349AA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5A5D-1463-456B-8BF5-D0BA8CAD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AF41-B6EB-4BEA-806F-79F699E0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FD0-CD28-4797-82D8-61E426CA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8356-E2AC-4794-81CB-DDAC70D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2A3B-C79D-42A4-B91D-E2C47614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50BD-D240-4575-958F-FDA3DF0E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75A2-AEE8-4DA5-B00D-CB6B2FD7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5909-7565-4B87-81EC-E7A99428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196-285B-4CE5-95FA-2FAF091B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549-65E7-4544-8FBD-24B4BEC7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CEA-1D4C-4E10-A10E-0914897D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2B8-843B-49AC-970C-98C881AF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50F-5943-4155-BC3F-E01000A9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7B1-2667-46F0-B2AC-D7F5FC4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E43-37A3-4BA4-BDD8-38CAC96A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7F32-5367-4C62-987C-6BA4A0059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CE21-23FF-4FDC-991C-0C341DF10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2 | The rate of growth in PHCE per capita much is slower when adjusted for the effect of rising health prices or general inf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2 | The rate of growth in PHCE per capita much is slower when adjusted for the effect of rising health prices or general inflation</dc:description>
  <dc:language>en-US</dc:language>
  <cp:lastModifiedBy>Jia Yao</cp:lastModifiedBy>
  <cp:lastPrinted>2002-05-16T21:44:34Z</cp:lastPrinted>
  <dcterms:modified xsi:type="dcterms:W3CDTF">2013-09-04T18:13:14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2 | The rate of growth in PHCE per capita much is slower when adjusted for the effect of rising health prices or general inflation</vt:lpwstr>
  </property>
</Properties>
</file>