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6F798-FD6F-4DBB-B9E5-97EB3DF926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2B | EMPLOYEE COMPENSATION AS A PERCENTAGE OF NATIONAL INCOME RELATED TO HEALTH SERVICES, 1963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AF22E-FEB1-4911-8DC1-001D73E314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CEBC-9FA6-4AFD-A900-C6ECADFCE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22A9-9058-48D6-8F1C-3CE80AA41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68E5-B741-43FE-BC3C-7FFBFA4FE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E93B-A23E-4D97-8743-BD6F7A6D7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BDBA-207B-437C-8A51-6E84FA362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358D-A887-40E2-AB06-DC2ED0658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B0B6-C0EA-4788-BF77-93F49ECC6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059B-3177-4561-825B-44AF99DB9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31BD-2E51-4CB5-9B42-0ABA029B2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5CBC-22EF-41C4-B119-629F2D2B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7409-50E4-405A-B6F6-8DABC43D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F452-225A-4295-B22A-126B58E4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3138F-2AE1-48E8-B22E-A6851D6B9E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8.2b | In the health services sector, both wages and salaries and fringe benefits are substantially higher than they were 5 decades a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168560"/>
            <a:ext cx="8331120" cy="55116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85800" y="137160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national income related to health servi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traight Connector 6"/>
          <p:cNvSpPr/>
          <p:nvPr/>
        </p:nvSpPr>
        <p:spPr>
          <a:xfrm>
            <a:off x="1219320" y="1752480"/>
            <a:ext cx="0" cy="426744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1620360" y="1981080"/>
            <a:ext cx="3594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dicare and Medicaid begin (196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" name="Straight Arrow Connector 10"/>
          <p:cNvCxnSpPr>
            <a:stCxn id="52" idx="1"/>
          </p:cNvCxnSpPr>
          <p:nvPr/>
        </p:nvCxnSpPr>
        <p:spPr>
          <a:xfrm flipH="1">
            <a:off x="1294560" y="2165040"/>
            <a:ext cx="326160" cy="273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54" name="TextBox 7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2b | In the health services sector, both wages and salaries and fringe benefits are substantially higher than they were 5 decades ago</dc:description>
  <dc:language>en-US</dc:language>
  <cp:lastModifiedBy>Jia Yao</cp:lastModifiedBy>
  <dcterms:modified xsi:type="dcterms:W3CDTF">2013-09-06T14:16:54Z</dcterms:modified>
  <cp:revision>9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2b | In the health services sector, both wages and salaries and fringe benefits are substantially higher than they were 5 decades ago</vt:lpwstr>
  </property>
</Properties>
</file>