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8B05-FC74-4CD7-A9A8-BCA99923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3E80-3C0D-46EC-A1F4-BE8F9BCE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2F4C-A261-4A0F-B78C-9C0146B4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891B-A615-4B81-A661-916694C6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4ADD-CE8F-45D0-8E2F-F489BE98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8C48-6C0B-4DFB-A759-0D4B93FD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490A-A8FB-454D-B8D4-E8287AB5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26F1-76A0-41C1-B8F2-4FCFACE6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B862-4D44-4EA0-88EC-FDA18258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5438-E8BE-41F4-B103-4E79095B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BA7D-8A1B-4B0B-A011-A0F80B68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000A-8227-4F8E-981D-BF358DF9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9AC2-DEE6-47DE-9764-AAF78E3172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9320" y="117360"/>
            <a:ext cx="9094680" cy="65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32Z</dcterms:modified>
  <cp:revision>37</cp:revision>
  <dc:subject/>
  <dc:title>PowerPoint Presentation</dc:title>
</cp:coreProperties>
</file>