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02FD-C30F-4757-B770-FFE96F60A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E5AE-77ED-48EF-B8A7-04D9164E42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b | Alternative Measures of the Government Role in Financing Health Ca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050-CBDB-45B7-B90F-87D86CB5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B2E-F331-49A7-BCA0-3DFD2640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9B7-2634-4595-8735-F37599F1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97C-D99D-47E8-84A5-1DB70758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36EB-903E-4301-9FA5-90B2E88B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1437-B675-4D91-BA0D-DABE0BDB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4F23-3248-473C-8269-A2D972A5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EBDA-7991-4BBA-9983-31917EC0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B071-B4B6-458E-9CE8-46C5E90C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C0ED-6063-41FF-8338-E7EA0182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B27A-0158-4B60-B71C-A0C94EB9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193-42C4-469C-9B8C-82BDB733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B7CB-B762-427F-A6B9-A9E7EFD1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F405-CDA0-4457-B1C4-5DCCB99E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6551-40F1-43DF-8C20-C005CB2C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34F9-C836-4AAA-A455-997E5214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AEC0-3737-4ACE-AFF8-D37D34FB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EAF-F936-4AE7-A084-FEE8F44C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EE7-52A1-4F42-9A3D-6C952F80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768-30D7-49B3-9755-F6F12487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31B-7946-4A01-BB9D-BE4260DF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781-CF6D-4384-A01B-15B40B82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77C-D5F2-4444-AA46-502D79FC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F6E-8AF2-4F21-BB09-4C718D40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8018-57EA-4395-B080-0E53D86D0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1682-AC29-4647-874B-8CC566188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b | Failure to account for health-related tax subsidies substantially understates the government share of national health spending (NH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b | Failure to account for health-related tax subsidies substantially understates the government share of national health spending (NHE) </dc:description>
  <dc:language>en-US</dc:language>
  <cp:lastModifiedBy>Jia Yao</cp:lastModifiedBy>
  <cp:lastPrinted>2002-05-16T21:44:34Z</cp:lastPrinted>
  <dcterms:modified xsi:type="dcterms:W3CDTF">2013-09-04T21:03:5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b | Failure to account for health-related tax subsidies substantially understates the government share of national health spending (NHE) </vt:lpwstr>
  </property>
</Properties>
</file>