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2E0-62AA-49D5-BB92-F9689F01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7B4-00AE-48A8-AB0D-722F6922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F5F-3C06-4B4B-8FF6-D8450CD0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969-276E-45CB-9C9B-56FFEFA0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08C-1AB3-47F8-B596-479E20DF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4C7-DC80-48EF-A550-C247FD3C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9B2-1C2E-4D28-B88E-5002C36C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9E8-AB5D-4A4F-AB39-65C50963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05C-9680-42D5-A80A-25DB2D94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E83-9EB5-4D5D-9C97-A49B6E3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88B-E1B1-4ED0-B97F-414C2B23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56F-FD16-4C53-A01A-FC5ECB62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C4CB-3D68-4DBD-B5DF-0C79E08EA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680" y="360360"/>
            <a:ext cx="91123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1Z</dcterms:modified>
  <cp:revision>31</cp:revision>
  <dc:subject/>
  <dc:title>PowerPoint Presentation</dc:title>
</cp:coreProperties>
</file>