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5109-03B2-4611-9828-A0D2DBA2CC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1B | EUROPEAN CANCER SCREENING RATES AS A PERCENT OF U.S. RATES FOR SELECTED CANCERS, BY A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2A97-817F-4CBF-9DDC-E1A964FB6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61CD-5BEA-43A8-B458-B915FFE5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9203-4B64-40C3-B99F-2B8C7DA0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0F71-22C0-4795-8670-F77D9B3D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07BD-0036-4CCF-A143-C4C04974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4D93-1F06-4A96-83EE-C3CAF20D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AD90-AD4F-40DC-9FB0-8CAA56BB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2FFF-D0CA-44C3-9EA4-00F4E756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9B5B-3261-48D9-8E69-783655AE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6777-6601-45AB-8042-AE90F001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C3AC-AEAA-42C0-81D9-D2AC6C3B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395D-342D-4968-8C97-BB524C5F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D632-45CB-4820-B0F6-B577DD93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26DB-AD63-4330-B697-62C151DCF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1b | Despite a larger uninsured population, cancer screening rates for adults 50 and older are much higher in the U.S. than in Eur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52388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uropean cancer screening rates as a percentage of U.S. r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75920" y="5827680"/>
            <a:ext cx="77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 D.H. Howard, L.C. Richardson and K.E. Thorpe, Cancer Screening and 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United States and Europ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2009; 28(6):1838-4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1b | Despite a larger uninsured population, cancer screening rates for adults 50 and older are much higher in the U.S. than in Europe</dc:description>
  <dc:language>en-US</dc:language>
  <cp:lastModifiedBy>Jia Yao</cp:lastModifiedBy>
  <dcterms:modified xsi:type="dcterms:W3CDTF">2013-09-06T15:41:18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1b | Despite a larger uninsured population, cancer screening rates for adults 50 and older are much higher in the U.S. than in Europe</vt:lpwstr>
  </property>
</Properties>
</file>