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C1FBF-4AF7-419D-8848-3ED4AF6DAC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1.5c | Ratio: Median Chief Executive Officer Compensation Compared to Average U.S. Worker Compensation, 1940-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9F597-33DD-41A2-BC71-E5F5BA0D8F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5657-73A1-48C7-9BC2-7A5235583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F7E2-4119-4C2E-994F-99CB42D3C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35DE-A462-45E4-BE7A-47CC2655D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A432-AD5F-4DC2-B360-923ABC6BB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F04D-618E-420A-ABBD-FD8A778AB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722E-F730-4135-9EF3-44B197500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59F2-3B6A-408D-A2A4-6C4BC9EF2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AEC9-06B1-4326-9D34-FBF8B0830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87F1-5AAC-4B0D-B01E-C1B60295B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A2E0-5121-41B1-8F6D-F46B471C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DE40-2FD3-450A-8D30-9C8A05B8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9600-BB08-46F8-92A4-4768220E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10B4D-B3DC-4E04-96DD-EE186A90C5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1.5c | Rising returns to physician education have occurred during a period that CEO compensation also has been rapidly ris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39974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09480" y="16002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tio: median chief executive officer compensation compared t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verage U.S. worker compens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609480" y="5495760"/>
            <a:ext cx="811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New York Times. The Wide Divide. April 6, 2006. http://www.nytimes.com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magepages/2006/04/09/business/businessspecial/20060409_PAY_GRAPHIC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ml?ref=executivepay (accessed November 12, 2010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9:24:58Z</dcterms:created>
  <dc:creator>Trinity Technical Services</dc:creator>
  <dc:description>11.5c | Rising returns to physician education have occurred during a period that CEO compensation also has been rapidly rising</dc:description>
  <dc:language>en-US</dc:language>
  <cp:lastModifiedBy>Jia Yao</cp:lastModifiedBy>
  <dcterms:modified xsi:type="dcterms:W3CDTF">2013-09-06T15:09:02Z</dcterms:modified>
  <cp:revision>8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1.5c | Rising returns to physician education have occurred during a period that CEO compensation also has been rapidly rising</vt:lpwstr>
  </property>
</Properties>
</file>