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FF3A-3B46-4BCC-9CA0-3E13B8F601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5c | If 1 percent excess growth persists, almost 90 percent of GDP increases  will be devoted to health care by 20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89B9-808A-4DD5-BB9E-1FBB38B8D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753F-7AB2-409A-BE5F-CB62EB47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208E-686B-4F96-A31D-B85789E3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A16-7E4C-4072-A02E-23C6A26D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2326-F476-4D9D-A1CE-6EA07003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63A-3512-4176-90E5-C41B3C95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C6B0-263E-4576-B424-76E41D60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C984-BEFF-448F-AE9F-1D19F10D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D0FB-57B6-44C3-BB55-04C1B2D8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A126-DADE-4A74-8B7F-4D295E9C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F1AB-1CBE-4C54-8CE4-7A7A135F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B1E6-5B6E-4C8F-A3C9-66FE5383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C2C5-0C96-4AD4-8376-89835303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B642-32D1-4F35-9E1E-46D21B77D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5c | If 1 percent excess growth persists, almost 90 percent of GDP increases  will be devoted to health care by 208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054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95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are of increase in inflation-adjusted GDP per capita devoted to health c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5T19:35:40Z</dcterms:created>
  <dc:creator>Jia Yao</dc:creator>
  <dc:description/>
  <dc:language>en-US</dc:language>
  <cp:lastModifiedBy>Jia Yao</cp:lastModifiedBy>
  <dcterms:modified xsi:type="dcterms:W3CDTF">2013-09-25T19:36:19Z</dcterms:modified>
  <cp:revision>1</cp:revision>
  <dc:subject/>
  <dc:title>20.5c | If 1 percent excess growth persists, almost 90 percent of GDP increases  will be devoted to health care by 2085</dc:title>
</cp:coreProperties>
</file>