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8A9D-BE6F-45CD-AF64-10FD3C19F8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5B | PRIVATE HEALTH INSURANCE COVERAGE OF ELDERLY 65 AND OVER, BY FAMILY POVERTY STATUS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9C9D-EFE6-4E34-BBF7-CA90A65D61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91EA-6C5D-42DE-A901-F629998EB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025E-DEE5-475E-AF1B-B40E340D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3322-4E94-4349-832C-0D90B211A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8234-5CAE-4627-A936-7E6C915A3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D44E-8DDE-4DBF-8788-7629F250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D4A8-8CEB-457C-9B9E-BA86BB04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D0AA-F45D-4B02-86DF-976A64BE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1006-9DB4-4EB9-B292-70049241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BCD9-04C8-45CD-AB50-B8DCDC42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2126-E7AD-4400-AA56-0F7CC563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909A-C6E8-42CF-8F57-76124E6A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930A-F81D-497D-AF72-79693E36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7024-39EA-456C-B3C2-6F4309D8C7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5b |  A large fraction of the elderly has supplemental Medicare coverage through employers or non-group pl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168560"/>
            <a:ext cx="92455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85800" y="20574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individuals who have coverage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5b |  A large fraction of the elderly has supplemental Medicare coverage through employers or non-group plans</dc:description>
  <dc:language>en-US</dc:language>
  <cp:lastModifiedBy>Jia Yao</cp:lastModifiedBy>
  <dcterms:modified xsi:type="dcterms:W3CDTF">2013-09-06T15:17:05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5b |  A large fraction of the elderly has supplemental Medicare coverage through employers or non-group plans</vt:lpwstr>
  </property>
</Properties>
</file>