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D00-175A-4AC1-BA74-7A934B4D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2F5-4562-4E55-A1C3-D5B12C88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F80-32A9-4272-8ACA-FEC39822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8C9-2EEA-4226-8AC6-4F58FC13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68D-725B-4BC0-974F-61741D6F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9A6-91A4-469F-965D-D566A3DC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799-FCEC-47F2-969E-179407DB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7D7-6CB4-4236-B469-54865C1E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8D3-AEFC-406D-A2A4-432BCE81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4F2-B2C5-400F-9EB2-BB9FD5B5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DB6-9F02-46E2-A0E8-84471CA3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A5F-24C4-4FCB-83D5-1773450D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8C1E-40B7-4F9A-A167-A0F865E6F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2Z</dcterms:modified>
  <cp:revision>35</cp:revision>
  <dc:subject/>
  <dc:title>PowerPoint Presentation</dc:title>
</cp:coreProperties>
</file>