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0FB6-3D19-48D7-921A-C6C9FFB28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AD2B-8537-4B6B-8672-1AC4BE62BD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5a | Percentage Distribution of Personal Health Care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00AC-F937-467A-BCAD-330143F8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A23-4CE6-4518-8FAB-65117FF4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512-E265-4AAA-8728-A91D1CAE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AE5-3D68-4435-9710-7DAC031D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4351-716A-4B4C-A0BA-9D61C444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5178-6B3B-4659-8DF2-C50CCA04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0445-DF13-4743-91D8-64272AFD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BAA1-A2A9-4D04-86E2-AF344A9D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5731-83E7-4FB7-AA81-FFF05B83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39F8-108B-4B38-B43A-60BDE2B3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C1A2-F7CA-481F-AF6B-835F62B8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FE2-E413-44A9-B2BC-9CA1516B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E6B6-68E9-496B-B77D-6348C352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2781-93D9-4E7B-880B-67508D3A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77DF-AC4F-402D-A595-85BCDFD1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12E2-C846-422D-9C9A-2559F0FA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4FA8-A435-4C50-AE63-80B0F606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6785-BEC0-4384-AA5D-64180D9E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5153-3D76-4FCA-AEBA-43E362C0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C21-620B-4A2E-BE95-A7632D1D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97A-8216-4F1A-8B05-12D0D342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31B-593A-4E0C-B9E4-E6431527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7BC-8314-4C34-8C6B-0211D365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BB2-FF85-4607-909A-74D21B11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A5C1-2D97-4C11-846F-654962A38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996A-3B92-4654-8A5D-CB53F696E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a | 1 in 7 dollars of personal health care spending now are paid for out-of-pocket compared to 7 in 8 dollars 80 years ago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a | 1 in 7 dollars of personal health care spending now are paid for out-of-pocket compared to 7 in 8 dollars 80 years ago</dc:description>
  <dc:language>en-US</dc:language>
  <cp:lastModifiedBy>Jia Yao</cp:lastModifiedBy>
  <cp:lastPrinted>2002-05-16T21:44:34Z</cp:lastPrinted>
  <dcterms:modified xsi:type="dcterms:W3CDTF">2013-09-04T21:03:5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a | 1 in 7 dollars of personal health care spending now are paid for out-of-pocket compared to 7 in 8 dollars 80 years ago</vt:lpwstr>
  </property>
</Properties>
</file>