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B3E-70EC-4482-9B00-6E48E390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183-A76D-4988-9142-BDB4242F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36A-8CA9-4E84-BD4D-9C75245E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63F-119C-48E7-BF19-18C12138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795-2351-416C-921D-EEF01D1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25C-69D9-459C-A981-0FC9BAA2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79D-6A0C-4B58-B468-BF88AE35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19B-BFD0-4A90-9BFE-4F593717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C7F-E75C-4F02-B764-08039237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4DE-609D-41EC-8C16-D879200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AE4-B809-4ED0-9D81-C3E5995C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2D7-8262-436F-80EC-F490C94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AFEC-802D-4165-839B-D518D4C0B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1960" y="0"/>
            <a:ext cx="856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3Z</dcterms:modified>
  <cp:revision>37</cp:revision>
  <dc:subject/>
  <dc:title>PowerPoint Presentation</dc:title>
</cp:coreProperties>
</file>