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6776-3562-4407-B854-4AA1C2B4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0A1F-9985-42DD-998B-5C29B21E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97FD-B7F0-4516-B166-A5969322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FAB2-EAF4-4245-885A-9FCFE732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F66C-51E7-4AEB-B125-77F2170E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5370-698F-4D0F-9A55-B4FAA38D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C8CE-662F-4236-8007-BA2495A7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566C-DAB3-4B50-AE97-855A5DBD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DDF2-780F-4F6D-B194-F6C7A948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F482-B2F0-4ED6-9B2B-94590C1A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C0A2-5586-4BEA-AD85-65E2814A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04F5-D6A9-41E3-BBCC-B3715A76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719A-453C-4516-B049-3CD1ECB28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3680"/>
            <a:ext cx="909468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0Z</dcterms:modified>
  <cp:revision>12</cp:revision>
  <dc:subject/>
  <dc:title>PowerPoint Presentation</dc:title>
</cp:coreProperties>
</file>