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F055-2A5D-4690-9094-BED8E60F4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A | PER CAPITA DOCTOR VISITS, DENTIST VISITS, ACUTE HOSPITAL DAYS AND PHARMACEUTICAL GRAMS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CA1-76DB-4AFE-909B-7EC1EFD59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E74-CAE0-4A59-9CF4-3FF6E77D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516-4B8B-42DE-B6CF-5DB70B40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E07-A309-4868-8190-E8C0CCCF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E70-865C-4B54-B3A9-D2DEAE34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937-D3BC-4895-9C73-0E32BF66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864-220A-4E09-811A-DA41380C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E15-7E1D-4C8A-A9A5-07BC5EA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F82-956C-40B9-B492-B09BC1AD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EC3-72F0-4BCD-94EC-270B00FF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7EC-C376-40E0-9655-9A859249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BC2-D6E3-426E-A6A4-C0C0EBC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F94-9F97-4361-961B-036E4DF0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4A3D-D148-4AEB-AA98-FAF04C5EB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a | Relative to G7, the U.S. generally has lower utilization of acute care services such as doctor and hospital care, but not pharmaceut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4479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15320" y="585144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igures for pharmaceuticals are fo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a | Relative to G7, the U.S. generally has lower utilization of acute care services such as doctor and hospital care, but not pharmaceuticals</dc:description>
  <dc:language>en-US</dc:language>
  <cp:lastModifiedBy>Jia Yao</cp:lastModifiedBy>
  <dcterms:modified xsi:type="dcterms:W3CDTF">2013-09-06T15:40:5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a | Relative to G7, the U.S. generally has lower utilization of acute care services such as doctor and hospital care, but not pharmaceuticals</vt:lpwstr>
  </property>
</Properties>
</file>