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C046-2F2D-4DA6-AD6D-A5564F58D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8A | HEALTH CARE SPENDING AS A SHARE OF AVERAGE ANNUAL PERSONAL CONSUMPTION EXPENDITURES, BY HOUSEHOLDER AGE, 1984, 1996,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28A3-0528-497B-8D81-E791F0DBA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A39-8281-4011-809F-37696F16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CE2-8F3D-49A2-A3C5-82DDDA60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551-6C3E-4A1D-AB7E-6B8CA41D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055-4748-4DBB-9950-E9BCBBBD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261-8362-4EB7-B4AD-9DE57211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605-48A0-4509-9EF1-85AF6732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D49-2E3E-48B5-A2D5-6B242CD2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DBE-3B26-4478-B9BE-52334622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D64-A4F0-4823-A021-A01D223B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990-6197-4B44-9C5B-4799727F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C7A-B66E-425E-A9EE-DC713D09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B14-1DF9-47C9-A0A0-90EEDF28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D58E-E671-4E12-B003-031B65B8E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8a | The share of consumption spending devoted to health has grown faster in elderly households than non-elderly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2235240"/>
          </a:xfrm>
          <a:prstGeom prst="rect">
            <a:avLst/>
          </a:prstGeom>
          <a:ln w="0">
            <a:noFill/>
          </a:ln>
        </p:spPr>
      </p:pic>
      <p:pic>
        <p:nvPicPr>
          <p:cNvPr id="50" name="Chart 6" descr=""/>
          <p:cNvPicPr/>
          <p:nvPr/>
        </p:nvPicPr>
        <p:blipFill>
          <a:blip r:embed="rId2"/>
          <a:stretch/>
        </p:blipFill>
        <p:spPr>
          <a:xfrm>
            <a:off x="406440" y="3149640"/>
            <a:ext cx="8331120" cy="1854000"/>
          </a:xfrm>
          <a:prstGeom prst="rect">
            <a:avLst/>
          </a:prstGeom>
          <a:ln w="0">
            <a:noFill/>
          </a:ln>
        </p:spPr>
      </p:pic>
      <p:pic>
        <p:nvPicPr>
          <p:cNvPr id="51" name="Chart 7" descr=""/>
          <p:cNvPicPr/>
          <p:nvPr/>
        </p:nvPicPr>
        <p:blipFill>
          <a:blip r:embed="rId3"/>
          <a:stretch/>
        </p:blipFill>
        <p:spPr>
          <a:xfrm>
            <a:off x="406440" y="4521240"/>
            <a:ext cx="8483400" cy="2387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8a | The share of consumption spending devoted to health has grown faster in elderly households than non-elderly households</dc:description>
  <dc:language>en-US</dc:language>
  <cp:lastModifiedBy>Jia Yao</cp:lastModifiedBy>
  <dcterms:modified xsi:type="dcterms:W3CDTF">2013-09-06T14:06:34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8a | The share of consumption spending devoted to health has grown faster in elderly households than non-elderly households</vt:lpwstr>
  </property>
</Properties>
</file>