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206-EBEC-45CF-9E9F-3C49BD11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446-11D8-4748-B14C-CAE13D3E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ECB-5CAF-46E9-9DF1-79BFC692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7EC-BA16-47DB-A0A8-FF8F6F83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F6A-1AE5-4332-959A-7E3598A4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236-5F9F-4512-9EFA-5AD17FF1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B6F-2CF2-4C43-A519-010C7CA9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B48-E75A-4DD5-8475-C4200188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C57-2159-4909-AE01-65E418E9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090-C272-4669-BDC0-3A41D69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16C-DF41-4216-B5C5-7D79AB0A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493-18F8-4215-ACEE-1801A93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4FEA-DE0D-46F2-AEB8-9C287E075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152280"/>
            <a:ext cx="9004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7Z</dcterms:modified>
  <cp:revision>28</cp:revision>
  <dc:subject/>
  <dc:title>PowerPoint Presentation</dc:title>
</cp:coreProperties>
</file>