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7AD2-AFA5-4EAE-BD76-27602FD8D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B | MAJOR DETERMINANTS OF LIFE EXPECTANCY AT BI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E7AA-0CBA-4363-B955-8F27277B1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0FB-9937-4516-A971-0D62564E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389-C00A-4228-9E86-14B42131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DC2-5F19-4914-A9C1-1FB7C8B5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C1A-ECFF-4A62-AB8D-589A1950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80F-81B5-4B3A-A4E7-2248B49D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5E9-D2A5-47A6-B7CB-97C60A79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ADE-325E-4FEB-A10D-2016602A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0DC-B865-4854-A9B9-0A7E2859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0BE-1351-4E5F-80F0-8EA75E77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884-63A8-440D-A178-FE93BDC4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2ED-82FF-4C61-B76C-019A45DF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67D-DCB0-4921-9FBD-BF7C55AE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5DE5-FD96-4C20-8649-18E9773F7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x.doi.org/10.1787/24085850013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b | Other determinants of life expectancy at birth are of equal or greater importance than the availability of doctors and nur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 change in life expectancy at birth per 10 percent change in f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0160" y="5759280"/>
            <a:ext cx="831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Joumard, I., et al.  (2008), "Health Status Determinants: Lifestyle, Environmen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Care Resources and Efficiency",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Economics Department Working Pap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627, OECD Publishing. doi: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0.1787/2408585001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b | Other determinants of life expectancy at birth are of equal or greater importance than the availability of doctors and nurses</dc:description>
  <dc:language>en-US</dc:language>
  <cp:lastModifiedBy>Jia Yao</cp:lastModifiedBy>
  <dcterms:modified xsi:type="dcterms:W3CDTF">2013-09-06T15:41:1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b | Other determinants of life expectancy at birth are of equal or greater importance than the availability of doctors and nurses</vt:lpwstr>
  </property>
</Properties>
</file>