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257-C65B-4268-8E6B-2EC55EF6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40A-6434-4640-A331-AD464DEA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BDB-FFB8-411F-91FB-DD932528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71D-9872-46E5-B03E-8EA2FFF3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60F-0413-4A35-A456-0DDE5850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B97-E349-463A-9D4E-EE6A7D6B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A4B-AFAE-4104-87F7-0B6ADAE8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3A6-65BC-4D80-8004-D403A343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B48-525D-473E-8447-83FAD48E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FA9-92DC-415D-9799-04A3F1C9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1D4-763E-4D5F-8EC9-7215569D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959-EDB6-4EB9-9FDF-B2818F5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D101-1C01-4D8E-934D-065374B92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07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9Z</dcterms:modified>
  <cp:revision>20</cp:revision>
  <dc:subject/>
  <dc:title>PowerPoint Presentation</dc:title>
</cp:coreProperties>
</file>