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D75-423D-452A-8F0A-ADDC08D1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F3B-3D1D-4973-8F69-1A5524AD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C1B-9EAD-4F84-BE53-B10F21A5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0E2-D85C-442F-B553-9C5587B2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1EC-F96D-4A5A-B2E1-ACB1E61C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542-D455-4917-938D-B87932EB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067-E19C-4285-A88E-4381A053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E78-1A6D-4204-93D8-C596E212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C51-BF63-4B37-AA8E-0A211DAC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46D-663E-47D5-884E-4817ED1A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8BE-89DA-4B4D-92AB-A37D8C49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5F0-4F99-4EAB-965B-15A9F925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0388-BF15-491C-99CD-E205ACE3A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4Z</dcterms:modified>
  <cp:revision>18</cp:revision>
  <dc:subject/>
  <dc:title>PowerPoint Presentation</dc:title>
</cp:coreProperties>
</file>