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4483-87EC-4F4C-BA8A-6F4B114F77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4b | Information Capital per Labor Hour, Private Health Care Services and Private Business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A214-65E6-4CF6-A5FE-B82A6531E9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6C1F-E9AC-451D-86BB-A33DA9320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0510-3246-41A1-AED7-39D572DF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7D7C-2E64-4514-83A2-8AF323474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64F4-6890-4418-A878-ACFEF23FF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FA40-3FA0-4617-BDF6-D7143E20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EDE4-B127-48DB-8D52-C1F373B3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07F7-C7C4-4A81-8605-DE56BDE5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FD6D-3919-41F9-B250-80FE7B2B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F567-7A75-4F91-A635-EEBE9A4B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22E2-3D38-4558-A7CF-B901F059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5FEA-283C-41A2-AB61-7357A16C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DD95-8106-47DE-8AAB-E6DB0104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84FE-1FBE-4433-92FE-3FB4066479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4b. | Since 1987, real information capital per hour in health facilities grew nearly three times as fast as in ambulatory health care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88800" y="1015920"/>
            <a:ext cx="789156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4b. | Since 1987, real information capital per hour in health facilities grew nearly three times as fast as in ambulatory health care services</dc:description>
  <dc:language>en-US</dc:language>
  <cp:lastModifiedBy>Jia Yao</cp:lastModifiedBy>
  <dcterms:modified xsi:type="dcterms:W3CDTF">2013-09-06T14:59:22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4b. | Since 1987, real information capital per hour in health facilities grew nearly three times as fast as in ambulatory health care services</vt:lpwstr>
  </property>
</Properties>
</file>