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0AE2-A5C6-477B-9E28-7DE3A8E0E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D435-0492-4B76-B160-378D3770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A423-5FE7-475B-832F-38BCBB9B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36AB-DC49-4C51-A0EB-9BA2FF75A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66B9-B68D-447F-A61B-08181826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AC25-DBD6-458C-801B-0B7A8210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E59A-4C38-4008-BD9D-EEF0C33E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C41A-AD68-4F20-82D8-41933752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62EF-7D44-438E-B797-9856E6B9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3343-9FA5-4074-A134-1AA13A96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0CDF-334C-4471-9FF8-74DFF914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46E4-16C5-4FB4-BA92-8DF0445D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666B-44FF-4C72-AF30-A76DB2C533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46160"/>
            <a:ext cx="9144000" cy="65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8Z</dcterms:modified>
  <cp:revision>20</cp:revision>
  <dc:subject/>
  <dc:title>PowerPoint Presentation</dc:title>
</cp:coreProperties>
</file>