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EE8A-8361-4ED2-8758-93DC065D2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PUBLICLY TRADED FIRMS FOR PHARMACEUTICALS AND MEDICAL PRODUCTS &amp; EQUIPMENT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DA03-D56F-409C-85CF-716793E03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686-73D6-4344-AC6B-9DD2E265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FD1-94FB-44B3-A6AB-94B7B2C7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457-270D-433E-98EF-3931C498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4E2-77D2-4F14-9D6C-12B5B3B2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BB3-F610-4663-99AC-5A5FAE6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ACA-EDFD-46C3-A53E-A03AA9A7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D4C-DE09-4DB3-AA74-1F51CACB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624-6BCC-44BF-AD1B-1D0D126F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E9C-43DA-42B2-A193-9EB0C198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15E-D3ED-40F4-B32F-FD2F39E3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AB6-F695-46C8-A0BD-E91CFBA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AF7-5924-4700-AD55-1D6C7FF9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A428-6A4D-4539-81F8-7C0A5473C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8680" y="12193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OR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Jia Yao</cp:lastModifiedBy>
  <dcterms:modified xsi:type="dcterms:W3CDTF">2013-09-06T14:29:0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