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2A3-E3EF-4581-8813-0EB74AC7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3A0-FADD-4F5C-BF50-7A79ECDD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4F2-9C2E-4307-8EE0-03C901EB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E15-E5F5-4955-B9E9-1E2990FD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60D-D2FE-4B1C-A66B-A96593C8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EA97-873D-4B3A-BD79-F3AEC77A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F480-1CF0-4DEF-883B-A734E4AB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5EB9-A7B8-48A9-84E5-FDBA99B6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0C9-FC69-415B-811A-C9695705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B4F-7156-4BB6-AC5B-B46C9337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2924-2A4F-4B26-9843-ED3EC837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FB5-2441-4AAD-A47C-BA83CB61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F607-DC2C-448E-AA36-7F00ED175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22360" y="0"/>
            <a:ext cx="629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3Z</dcterms:modified>
  <cp:revision>22</cp:revision>
  <dc:subject/>
  <dc:title>PowerPoint Presentation</dc:title>
</cp:coreProperties>
</file>