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B418-8B5F-4EB3-B7F7-FDB281CD7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A | RATIO OF PHYSICIAN COMPENSATION TO GDP PER CAPITA, GENERALISTS AND SPECIALISTS, U.S. AND OECD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90B2-A761-4710-ADE1-93259AAA5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C15-DA1F-4547-9DD7-91A86EC4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698-40A5-46C6-A5A4-5B3CE44D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80A-B42C-4322-9975-08479AF2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776-A622-4970-811C-15D14EDD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1E4-EE5B-4B6E-95ED-568E7631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108-31D5-48F1-92DE-85975C39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C1B-C2B3-4823-AA77-4F0C8476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122-7961-44A7-84F6-6C0332CB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E24-CEF0-4102-891D-23764844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03A-F9E9-4300-B0B7-115EE5AF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D4C-C4EA-40A9-9010-6CB525C4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131-2586-46FB-B319-2FA7A654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A518-8F88-49B2-9388-89556BE21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4a | Physicians and nurses are paid relatively more in the U.S. than in other OECD countries, but the largest pay differential is for speciali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0640" y="137160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annual compensation to own country GDP per capita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a | Physicians and nurses are paid relatively more in the U.S. than in other OECD countries, but the largest pay differential is for specialists </dc:description>
  <dc:language>en-US</dc:language>
  <cp:lastModifiedBy>Jia Yao</cp:lastModifiedBy>
  <dcterms:modified xsi:type="dcterms:W3CDTF">2013-09-06T15:08:49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a | Physicians and nurses are paid relatively more in the U.S. than in other OECD countries, but the largest pay differential is for specialists </vt:lpwstr>
  </property>
</Properties>
</file>