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5E9-D014-4098-AF16-065E28370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26E-EAFF-469E-BDB3-7033815278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b | Percentage Distribution of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392-9E3A-4AD3-AB53-A7D9E663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848-83A3-4A32-8FB4-F9852514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D15-0F71-4B77-95AC-6C1D9024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0F2-2884-4322-A6D9-A888AEDF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C6CF-345C-42A4-881C-C7059F86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2BD9-6E5F-4417-9BDC-6B02F4EC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3F33-567B-4614-89D1-A8DEB381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85E5-3CC6-4E73-91CF-CB148905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F862-413A-426F-8D76-9599B6A5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41F7-78A2-4C11-8CB8-79C4044F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F759-8CD4-4C3A-B1A3-F68398F6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1F5-3049-4D03-9D20-DCF90616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F3A4-E799-4C6B-A685-072B0336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C4C9-07F8-4F9A-972C-88E6FA0B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598A-4649-4EB6-9DA8-1BCF76F2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3AC7-C502-43C9-9C39-8C62A472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1248-2782-4DE7-BFF3-F7F7A73B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FF4-0E24-4A5B-91B9-09119773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C3F-C9FC-4A6C-9B8F-C9BF7C41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EEE-620B-45E6-9C3B-418992B7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D33-C3AB-46E4-9630-68491C8E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2A7-1183-40E9-8A7A-2B6DD98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D39-76A5-4F0E-AF4F-B97CCE2B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A2F-5BCE-4B30-8E5C-EE36B5C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5CA-FE4B-4E15-B586-8D42A0A59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DD61-2FD3-49D3-A680-B0DBA3680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b | Nearly two-thirds of health expenditures for persons uninsured all year are subsidized through taxes or private char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886464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9480" y="5610240"/>
            <a:ext cx="85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b | Nearly two-thirds of health expenditures for persons uninsured all year are subsidized through taxes or private charity</dc:description>
  <dc:language>en-US</dc:language>
  <cp:lastModifiedBy>Jia Yao</cp:lastModifiedBy>
  <cp:lastPrinted>2002-05-16T21:44:34Z</cp:lastPrinted>
  <dcterms:modified xsi:type="dcterms:W3CDTF">2013-09-04T21:04:16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b | Nearly two-thirds of health expenditures for persons uninsured all year are subsidized through taxes or private charity</vt:lpwstr>
  </property>
</Properties>
</file>