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839-85A8-4B55-B648-4B3271C8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D13-0644-4E0D-9E8C-E4D69E0B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6F44-D3C5-4F07-8C71-542B71D7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D10-527E-4E74-B495-CD2EFE01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096B-D4C2-40A9-91B5-85FFA6DC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331-6721-4E70-8BB3-F270B94A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8D57-5BDE-4C48-96CE-FA1D2D70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D7A6-40BD-4B01-A6D3-46816DEE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11B-F471-4102-BE87-1676C966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157-5C24-4B6E-9C1F-7BCA059A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0DB5-E966-4F72-9875-7225D8F0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15E-FBC1-4551-B17C-1B6B2825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2276-AB1B-4990-9B7F-FCF72630E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152280"/>
            <a:ext cx="90313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9Z</dcterms:modified>
  <cp:revision>39</cp:revision>
  <dc:subject/>
  <dc:title>PowerPoint Presentation</dc:title>
</cp:coreProperties>
</file>