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5374-9FAA-491E-A0DC-E31E9B08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AE1F-2787-4329-B8B4-85FCDAE4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A529-BE13-492D-86B5-67D237D5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43AE-2C6E-426A-8F45-5CF61E86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64A3-50A4-4E4B-A6A0-039F2778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FD0E-8B87-4CE0-A199-95B5551E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5E98-3A05-4338-886D-8F51DFF7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A67E-2619-4EF7-8278-7A06B0F9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33CA-2421-4CDD-84CC-B008A4F5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51BB-C7E1-4AD4-8133-6497ABD6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B4AF-35E9-4CDB-946B-DBB36479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1F15-A128-4AAE-BFD2-58EA102B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BBEC-DCF7-4726-9ED6-010B8CE30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2840" y="1317600"/>
            <a:ext cx="902484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7Z</dcterms:modified>
  <cp:revision>37</cp:revision>
  <dc:subject/>
  <dc:title>PowerPoint Presentation</dc:title>
</cp:coreProperties>
</file>