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6AE2-6808-4595-A04D-E12DB1025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8F11-8F39-4BB2-8D20-74F0454FF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9B | RATIO OF HEALTH SPENDING PER CAPITA FOR ELDERLY RELATIVE TO NON-ELDERLY IN SELECTED INDUSTRIALIZED COUNTRIES, 1960, 1984, AND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ADAF-D407-49D1-BEC5-2AF24390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C729-2DBC-49F9-905A-562DAF02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6660-E48B-4D10-AE49-BFD160E7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A77F-6F9D-49F9-A6E3-DBC07835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1762-CA0B-4405-A6B8-CA288678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B4B0-5B48-4584-B118-C7379BE0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787D-BDB4-4D99-BD27-3F707F30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2F31-CF05-41B6-8B57-C01CCD9B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BB5F-2BCB-48A7-B59A-5D20260E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DCFD-F5BA-49B1-8175-32941657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A9A2-123F-48FB-BE7C-1603035E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2DB6-238F-4C65-ACB8-7CE27BBA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03A8-8900-417C-9BD5-21F84D2E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0439-DC3C-495A-9B1A-80643711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B31F-7EC1-467B-AAAA-2EB19F50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E077-96C1-4E88-94FB-CF7CB4BF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BB74-6F47-4E8A-B95C-D8829E70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FB67-969E-4EB0-9D0B-B50404FA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C0C0-604B-4400-9926-CC3D526F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24D5-4B68-4D10-9708-5E67970D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1187-A096-45C0-9724-09DD129B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BDCA-120B-40EF-AAAB-7AD52E55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AAB9-A57F-48B9-854A-BBF4C9F7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4AA1-2F67-4EEC-94D4-CC5365AE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87D6-5FA4-4EDC-93FA-2F4B48BD7D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AF63-1078-4B15-9A13-1435051C3B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9b | The ratio of annual health spending for elderly relative to non-elderly is similar in U.S. and other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57200" y="602784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9b | The ratio of annual health spending for elderly relative to non-elderly is similar in U.S. and other countries</dc:description>
  <dc:language>en-US</dc:language>
  <cp:lastModifiedBy>Jia Yao</cp:lastModifiedBy>
  <dcterms:modified xsi:type="dcterms:W3CDTF">2013-09-06T14:06:4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9b | The ratio of annual health spending for elderly relative to non-elderly is similar in U.S. and other countries</vt:lpwstr>
  </property>
</Properties>
</file>