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0784-5DFD-4C6D-BC9A-A6758B9D08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1B | HEALTH-RELATED FRINGE BENEFITS AS A PERCENTAGE OF NATIONAL INCOME BY TYPE, 1948-2009 </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3AD7-0413-4AC7-A61E-2627F63FF9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A6A84-4D6F-4973-ACEF-A03682672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E9C48-C06F-4D38-AAA5-65281BF0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6EB46-815F-4131-90CF-758535D59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53077-468A-461B-8B02-6832E327A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6243-F82B-4194-9DB8-0552D56C8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B0018-8F8D-4FC0-A4B5-1D937ADBF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06E51-2F68-40A7-BFC9-A9FE49987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01409-9B91-4534-BB6C-3DDE143C9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5AA85-136E-45D3-9DD0-B6B01F367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A2C6-F8E3-4FC0-928F-1572283DD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776FC-9041-4ED5-904D-7E4866A9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00B35-D95E-4815-8AFE-32F988A06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CAE9-11D2-4620-A547-1AEF846861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1b | Over six decades, health-related supplements have risen steadily </a:t>
            </a:r>
            <a:br>
              <a:rPr sz="2400"/>
            </a:br>
            <a:r>
              <a:rPr b="1" lang="en-US" sz="2400" spc="-1" strike="noStrike">
                <a:solidFill>
                  <a:srgbClr val="000000"/>
                </a:solidFill>
                <a:latin typeface="Arial Narrow"/>
              </a:rPr>
              <a:t>as a share of national income except in the 1990’s and recent year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101520" y="1244520"/>
            <a:ext cx="8961480" cy="5207040"/>
          </a:xfrm>
          <a:prstGeom prst="rect">
            <a:avLst/>
          </a:prstGeom>
          <a:ln w="0">
            <a:noFill/>
          </a:ln>
        </p:spPr>
      </p:pic>
      <p:sp>
        <p:nvSpPr>
          <p:cNvPr id="50" name="TextBox 4"/>
          <p:cNvSpPr/>
          <p:nvPr/>
        </p:nvSpPr>
        <p:spPr>
          <a:xfrm>
            <a:off x="439560" y="4952880"/>
            <a:ext cx="857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related social insurance includes mandatory employer payroll taxes for Medicare Part A (hospital insurance), military medical insurance (CHAMPUS/VA), and state/local temporary disability insurance, and mandatory and voluntary employer contributions towards workers' compensation. Depending on jurisdiction, workers’ compensation may serve as wage replacement (disability insurance), compensation for past or future economic loss, or payment of work injury-related medical expenses. Temporary disability insurance is for wage replacement, but is counted as health insurance in the National Income and Product Accounts; the minuscule amounts for such insurance therefore are included in the figures shown.</a:t>
            </a:r>
            <a:endParaRPr b="0" lang="en-US" sz="1600" spc="-1" strike="noStrike">
              <a:solidFill>
                <a:srgbClr val="000000"/>
              </a:solidFill>
              <a:latin typeface="Calibri"/>
            </a:endParaRPr>
          </a:p>
        </p:txBody>
      </p:sp>
      <p:sp>
        <p:nvSpPr>
          <p:cNvPr id="51" name="TextBox 5"/>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1b | Over six decades, health-related supplements have risen steadily as a share of national income except in the 1990’s and recent years </dc:description>
  <dc:language>en-US</dc:language>
  <cp:lastModifiedBy>Jia Yao</cp:lastModifiedBy>
  <dcterms:modified xsi:type="dcterms:W3CDTF">2013-09-06T14:16:50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1b | Over six decades, health-related supplements have risen steadily as a share of national income except in the 1990’s and recent years </vt:lpwstr>
  </property>
</Properties>
</file>