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C52C-2409-4A80-B944-90950FAB3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a | Output per Hour and Output per Unit of Input Indexes (1987=100), Private Sector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A5C7-D9AF-4E70-B644-A96437D2D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0EA-1CF1-4593-8104-AB1ECEB5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E63-E52D-4BF9-A460-A5081813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B6E-B8BB-4E87-9402-352D07E4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3A3-0431-4685-B5A6-7147D05E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452-284F-4D9D-BD63-3355DC05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17A-E7C3-4801-97C6-B3E91E54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3ED-2CAE-4F91-8F67-ED3D70D4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A4C-F69E-4D53-9404-E584924E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663-AE74-49D3-9987-4C58CBC5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478-7F38-4169-913A-623AD210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568-4DCE-4F39-9500-0709CAD7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B4D-1826-4EDF-A694-09861291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8EBD-D3EF-4CF8-949B-E0277C2EF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a. Since 1987, low or negative productivity growth in ambulatory health care contrasts with steadier private sector productivity g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015920"/>
            <a:ext cx="840744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a. Since 1987, low or negative productivity growth in ambulatory health care contrasts with steadier private sector productivity gains</dc:description>
  <dc:language>en-US</dc:language>
  <cp:lastModifiedBy>Jia Yao</cp:lastModifiedBy>
  <dcterms:modified xsi:type="dcterms:W3CDTF">2013-09-06T14:59:03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a. Since 1987, low or negative productivity growth in ambulatory health care contrasts with steadier private sector productivity gains</vt:lpwstr>
  </property>
</Properties>
</file>