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0DE-2999-4E2F-B8B2-43FA55E3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EF00-95EF-4C3B-A08E-59619EF4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DABB-9974-4578-99A1-6C4E1785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A6CD-3AF6-4B82-964F-77BE071A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324-8866-4819-8606-7D827C82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ED5E-C91E-4831-964B-DE2458D7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D5D-32BA-4471-A7E6-7EF32DF2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0654-9982-4B37-A336-1CAB8390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AFA4-677F-4949-AA38-50A12845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F6C-523C-426A-B1E3-274031E7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508-4761-47D3-80EA-6C3C5B80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CF5D-8AC8-421F-A848-56816E23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719E-2888-42E8-A709-F0F0BE908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080" y="1523880"/>
            <a:ext cx="9051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4Z</dcterms:modified>
  <cp:revision>31</cp:revision>
  <dc:subject/>
  <dc:title>PowerPoint Presentation</dc:title>
</cp:coreProperties>
</file>