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C5E-72CC-4817-9236-30E169F7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205-2E25-4F94-981F-42B736BE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274-580E-4666-8372-0FC9B6CD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B84-7392-4F8A-A4DB-FCFE1A6C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4D0-D9C5-4FF8-81CB-5DB9B2E9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949-E33C-416B-A636-5B7F8707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5F0-E191-42F8-9916-DE4C6789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A74-F726-4830-8EAB-C6F13D97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82E-C724-4C20-B94A-5D55DA89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994-7B7F-432F-89D2-E64A3C3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1B4-908D-4B12-B590-82DEE76E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B31-089E-4A86-814F-1D8A341A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3DCE-193C-4213-99E4-A906F30AD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8920" y="49320"/>
            <a:ext cx="8902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7Z</dcterms:modified>
  <cp:revision>39</cp:revision>
  <dc:subject/>
  <dc:title>PowerPoint Presentation</dc:title>
</cp:coreProperties>
</file>