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889A-AEEE-40EA-88F3-68E0A0A8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82FE-8FD6-4D11-8BED-CC2B96BE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707-69AC-4F09-95A6-2C6E3067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1FC5-B98F-44A9-9F6D-9898FF6C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23B4-9B42-42F7-B063-E4D45E3B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771-21A0-410E-9F9D-60B9E35B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AC31-481C-4646-B1A3-4CA6DAD8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2E46-B832-486E-9AE6-54597AAF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0830-EF96-4633-BFD2-9A925927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A8C2-7A41-4041-8D98-6805E9A1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50B2-3691-464F-B3B0-5BEDB2D3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6634-6EE6-4718-85AF-B23D1DAB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8DF3-30D9-43FA-A6A5-21795E173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5280" y="1295280"/>
            <a:ext cx="8893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51Z</dcterms:modified>
  <cp:revision>26</cp:revision>
  <dc:subject/>
  <dc:title>PowerPoint Presentation</dc:title>
</cp:coreProperties>
</file>