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A6BE-B757-498A-85FC-C83DBD3F1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0E8A-313A-427F-9BE0-770243466E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6.2B | HEALTH SPENDING RELATIVE TO TOTAL SPENDING, HOUSEHOLDS, BUSINESSES AND GOVERNMENT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531D-8485-4998-84EA-61FB822C0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2FB2-B58F-4268-9163-86872A0B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389C-771C-4AA9-86F3-D8FD5EF6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344C-4CCB-46ED-9B53-FDDB1814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5B7F-B699-4FEF-B03D-0C7ED8E2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E3C3-252C-42B3-AB83-2CB96F97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28E7-DA2B-4950-A513-6BC6CEC3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77E1-A87C-485C-896D-2023533E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21F3-8BD1-4C22-87CD-10ADCCB3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95C4-E051-4A81-BCC1-A828F775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EA7A-D710-49AD-B9B9-D511F73F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BE73-A3C2-4B67-A94F-311879E9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A5BC-A7EE-42E4-9B34-BF6B5D4C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50EB-CF36-4848-8101-AB3E0033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3C20-D173-4066-ACF8-7FF90F3D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902E-81A0-45A0-A176-8289E994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CFC4-7341-47F2-ACD0-720551F7D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9D97-8C4E-4D01-83E2-3729B997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B276-F47B-4B05-9132-89088408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A414-673C-41F9-9CC5-5B745F9B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28D4-6915-4C5B-8737-A9C16A17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BE7D-2F81-40DD-BF1C-DBBD4031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FD0A-1BCC-4E03-A0F8-59671CD1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A97C-EE52-42B7-9C01-54C8E226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9075-F142-4C25-B49D-63AA4824F9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BD90-6172-49CF-88B2-B26FEAE13F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055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2b | Business-paid health care has increased modestly relative to wages and salarie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406440" y="558720"/>
            <a:ext cx="833112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457200" y="9144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atio: sponsor-paid  health spending to totals shown (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479520" y="556272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In the framework of “health sponsors,” business health expenditures include the private employer share of health insurance premiums for workers and dependents, Medicare Part A and workers’ compensation, and industrial in-plant health servic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2b | Business-paid health care has increased modestly relative to wages and salaries  </dc:description>
  <dc:language>en-US</dc:language>
  <cp:lastModifiedBy>Jia Yao</cp:lastModifiedBy>
  <dcterms:modified xsi:type="dcterms:W3CDTF">2013-09-06T14:06:15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2b | Business-paid health care has increased modestly relative to wages and salaries  </vt:lpwstr>
  </property>
</Properties>
</file>