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46B-5EE3-4A56-B53A-8BFAA42D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279-D629-45EB-9A49-1B826B67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1AB-4D7C-4EA7-A2AA-1135BB2C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630-AA44-4508-BBB0-23BCB96C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99A-6F4A-44B5-AB69-8C638C90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0B2-0C42-4E10-A43A-E55C176F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758-32A5-4CC6-B6ED-D31A35EE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B14F-F502-4A3B-AAE4-4B29D6FD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3C2-A86E-412B-98D2-6E763F97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29B-758C-490E-938E-0549CC77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EF1-566A-4D80-A606-51F6EBF1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033-B782-400B-B349-BD79F1B9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6DD8-6409-4D01-9765-D7E08923F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192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5Z</dcterms:modified>
  <cp:revision>31</cp:revision>
  <dc:subject/>
  <dc:title>PowerPoint Presentation</dc:title>
</cp:coreProperties>
</file>