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4EB-E9D5-4F88-8205-B6FC284F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ACF-ACB3-4781-B4E4-3B23F80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43B-7E7E-405B-B149-77A1A057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D32-47C6-481E-80DF-FCA619A1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C11-A412-4C2A-8565-B8698671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CCC-C1D1-480A-A255-F0733EF3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9CF-E33D-42E2-9128-F87A7F26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3CA-CD62-48FB-8CBB-0DA800F6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313-1348-48E4-875D-F7791856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F88-03AF-4E1B-BCED-F1CCC313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50D-8408-4CAE-9124-D6D11E65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F7B-AE18-4AAB-ACD0-A2EF6F1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3B1A-F4CF-447B-81A9-CA1A8A46D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2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0Z</dcterms:modified>
  <cp:revision>37</cp:revision>
  <dc:subject/>
  <dc:title>PowerPoint Presentation</dc:title>
</cp:coreProperties>
</file>