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65C4-CA67-4D64-9ED0-686E9043D8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3B | COMPONENTS OF ANNUAL MEDICARE SPENDING PER BENEFICIARY, BY QUINTILE OF CARE INTENSITY, ???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6FE2-2EAF-48E8-BAF5-8DD8E8AE46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1A59-7B30-4401-85CD-4EDB012D0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AC2D-634F-4B5E-81D0-9FD1EA64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8796-E8C0-4C26-B3E3-E4712BAC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0C94-3EAA-4885-989A-89C7E8E1A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DA04-2DC2-4520-9F0E-2DC43522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A844-0BB3-4033-B750-845B8892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86CF-AEF1-4D24-A6CC-5D0EDE32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6224-6AEA-4124-B9CD-058D29D2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13C8-69DC-411D-B6C2-BB007980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622F-056A-4E4A-A766-8BE0271B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F5F6-125A-4214-BAFA-E538BAF0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6301-52B6-478B-8FD9-5ACD5E98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53A0-4791-4A79-A694-F02BE426E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3b |  Differences in income, race or health factors explain less than half of the spending differences across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4216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40160" y="1295280"/>
            <a:ext cx="68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nual per capita Medicare spending (dollar difference from Quintile 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3301200" y="363852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intile of care intens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533520" y="4037040"/>
            <a:ext cx="835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vertical bars show the proportion of the difference in spending between regions i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of the four top care-intensity quintiles and the regions in the lowest quintile th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explained by differences in patients' race, income, health factors (self-report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, presence or absence of diabetes, blood pressure, body-mass index, and smok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story), and regional factors. All models control for age, sex, and urban or rural reside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556560" y="5791320"/>
            <a:ext cx="795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Sutherland JM, ES Fisher and JS Skinner. Getting Past Denial—The High C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Health Care in the United States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ew England Journal of Medicin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61:1227–3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3b |  Differences in income, race or health factors explain less than half of the spending differences across regions</dc:description>
  <dc:language>en-US</dc:language>
  <cp:lastModifiedBy>Jia Yao</cp:lastModifiedBy>
  <dcterms:modified xsi:type="dcterms:W3CDTF">2013-09-06T15:40:45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3b |  Differences in income, race or health factors explain less than half of the spending differences across regions</vt:lpwstr>
  </property>
</Properties>
</file>