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845-A1F9-44A6-9883-360A9255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07E-586D-4D61-B6F6-3E2151A1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76E-D33B-4BF2-89EB-E93D5BCA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041-D0EE-4529-BE03-C39003F7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7CC-10AC-40ED-A7EC-AF1CEEC7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8A1-3C93-458F-BD41-9FDC054E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521-F73D-4275-8A30-E745A72C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43D-EF7C-4EC4-AC2E-FB3EE06D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C81-9CD0-4A0F-91B5-F7A7F6BE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700-C838-4D23-B2A5-E3EB9CA2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5AA-5F21-4E50-87BA-8891181B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3BF-DA57-44A3-A83D-A5CBF71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EA7A-C6E0-4E23-9808-FC0569D2F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9Z</dcterms:modified>
  <cp:revision>8</cp:revision>
  <dc:subject/>
  <dc:title>PowerPoint Presentation</dc:title>
</cp:coreProperties>
</file>