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8936-E799-40F9-A274-AE0DF2099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BE6D-E9EF-4706-B970-46354B3CEF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7a | Distribution of Elderly and Disabled Enrollees and Expenditures under Medicaid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539F-F96C-441F-9C76-C74F091B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557A-B29B-49E1-9DCB-7522C040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702A-048C-4917-BF27-3F5E8FE2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CD00-AEE9-4250-BA6F-2B26A9A9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032F-03C9-454F-8CD3-6E69BA2D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077C-5530-43B9-8DC4-45558C84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BDFF-6C12-4303-BD3C-C69C2C55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CB0C-3810-4DFD-A675-2D77AF41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85B3-66BB-4CF9-8963-476CAE86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F066-B08D-4AA1-8E8B-6FD5C074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9FB4-F02A-43DE-9268-618841AE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6927-29C2-4D30-9E53-0E61C76C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8FC8-DB65-4724-B31D-C054CD5B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FE1F-D483-4105-973B-50BA00A3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F5A2-7EA6-4572-8FC5-14845E69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125A-29B5-4388-A0DD-20945ED3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AC94-C0D0-4B23-B86A-5DBC9FD3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2E11-A076-4248-8692-81FFC245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C437-C8D2-4761-A007-C367EE8A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21A6-5111-49E5-835E-14B566A0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7EF-5184-4887-BF95-02EC9E54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F29-397B-4890-9194-0D7EA9C3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E84-8D10-44F3-BC80-E4C17E7F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A71-0899-4D97-8B64-EABAEB96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9086-069D-4E12-AC5A-2E3B4D192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874E-0FCE-4684-A15C-4F94CF7E3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7a | The elderly and disabled constitute one quarter of Medicaid enrollees, but more than three quarters of Medicaid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609480" y="5867280"/>
            <a:ext cx="815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Kaiser Commission on Medicaid and the Uninsured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edicaid: A Primer.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ey Information on Our Nation’s Health Coverage Program for Low-Income People. June 2010. http://www.kff.org/medicaid/upload/7334-04.pdf (accessed October 13, 2010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7a | The elderly and disabled constitute one quarter of Medicaid enrollees, but more than three quarters of Medicaid spending</dc:description>
  <dc:language>en-US</dc:language>
  <cp:lastModifiedBy>Jia Yao</cp:lastModifiedBy>
  <cp:lastPrinted>2002-05-16T21:44:34Z</cp:lastPrinted>
  <dcterms:modified xsi:type="dcterms:W3CDTF">2013-09-04T21:04:03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7a | The elderly and disabled constitute one quarter of Medicaid enrollees, but more than three quarters of Medicaid spending</vt:lpwstr>
  </property>
</Properties>
</file>