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64D2-34FD-4F2C-BED0-C05695EE1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6A | UNFUNDED LIABILITIES DUE TO MEDICARE AND SOCIAL SECUR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D74F-2680-4F52-A2F4-6825B9194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47F-6252-470C-BEB2-17E4974D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58A5-47FE-41AA-91B7-B85F4B7F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4D42-FC5E-4E9F-B8DD-4DC5365C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97E-5668-4250-8DFA-148772CA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BF7D-25FA-427A-AAF8-7847E181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936-17FC-4763-BBB5-33703273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D88E-CF66-4AD8-9FFC-DA93F94C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FE4-7FEE-4306-B76B-BDDE0F9A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FD6-CD91-4A68-A383-5B3FC5DF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E638-4057-4AE0-A9FB-BC296CE2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F0F-091E-4C33-B75F-6B2AA505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D195-9695-47D8-90BA-8C7D6D7C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C659-EF2B-44EB-B79F-D2042AC4B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a | Even assuming the health law works as intended, unfunded liabilities for entitlements will exceed $80 trillion over the long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48340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present value of unfunded liabilities (trillions of 2009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29596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or Medicare Part B, Medicare Part D and Medicaid, unfunded liabilities are calcu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ssuming the 2010 share of GDP represents current willingness to pay for these programs. 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rease in spending above this share is calculated as an unfunded liability for which hig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axes must be paid eventu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b | Even assuming the health law works as intended, unfunded liabilities for entitlements will exceed $80 trillion over the long run</dc:description>
  <dc:language>en-US</dc:language>
  <cp:lastModifiedBy>Jia Yao</cp:lastModifiedBy>
  <dcterms:modified xsi:type="dcterms:W3CDTF">2013-09-23T19:14:26Z</dcterms:modified>
  <cp:revision>6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b | Even assuming the health law works as intended, unfunded liabilities for entitlements will exceed $80 trillion over the long run</vt:lpwstr>
  </property>
</Properties>
</file>