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7518-D138-40F0-BA90-9C810FE27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a | Per Capita Income and Health Spending as a Percent of Gross State Product, by State of Residence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E74-F873-4530-9A55-F310A23F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6EC-5D3B-46A8-BCF8-F9287C58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AA7-0924-4452-B993-5BA5C5AD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0E5-05D3-484F-8824-1D5654C4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90F-F163-4C64-81D4-FD18FB1E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046-DEB3-4A98-9E55-D70AC165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EA6-F4D6-4F1D-BB80-69259C17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4C1-5D30-46E0-9C6B-C7CAA02E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F59-9EB7-49D8-AF39-4E037330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01A-8D61-40C2-86C2-D76930D7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67F-2D74-42A5-9200-BEBB6E5F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13E-9BB2-41F1-A134-423C5E63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D21D-07E8-4D6E-AB30-A54C8F66A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3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315200" y="54100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238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1460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47242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24"/>
          <p:cNvCxnSpPr/>
          <p:nvPr/>
        </p:nvCxnSpPr>
        <p:spPr>
          <a:xfrm flipH="1" flipV="1">
            <a:off x="4272840" y="4571280"/>
            <a:ext cx="299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 Box 10"/>
          <p:cNvSpPr/>
          <p:nvPr/>
        </p:nvSpPr>
        <p:spPr>
          <a:xfrm>
            <a:off x="457200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6"/>
          <p:cNvCxnSpPr/>
          <p:nvPr/>
        </p:nvCxnSpPr>
        <p:spPr>
          <a:xfrm flipH="1">
            <a:off x="4304880" y="4343400"/>
            <a:ext cx="267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 Box 10"/>
          <p:cNvSpPr/>
          <p:nvPr/>
        </p:nvSpPr>
        <p:spPr>
          <a:xfrm>
            <a:off x="45720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4864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533520" y="1523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health spending as a percent of gross state product, 2004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228600" y="27468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a | Differences in per capita income alone account for more than one third of differences in health spending burdens across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3920" y="518148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37"/>
          <p:cNvCxnSpPr/>
          <p:nvPr/>
        </p:nvCxnSpPr>
        <p:spPr>
          <a:xfrm flipV="1">
            <a:off x="3961440" y="4952160"/>
            <a:ext cx="6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 Box 10"/>
          <p:cNvSpPr/>
          <p:nvPr/>
        </p:nvSpPr>
        <p:spPr>
          <a:xfrm>
            <a:off x="2286000" y="2362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09880" y="2819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/>
  <dc:language>en-US</dc:language>
  <cp:lastModifiedBy>Jia Yao</cp:lastModifiedBy>
  <dcterms:modified xsi:type="dcterms:W3CDTF">2013-09-06T15:13:2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