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7EAF-FCE5-4327-8834-4750A3EF6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a | Real Output and Labor Hours in Health Facilities Index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FC8A-8984-4DA4-8BBE-63834ADB7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D774-2F2F-4DDB-9EA1-1E922916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170-A3CD-4B5B-85E6-F1C7AF75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8E9-1F73-4C9C-BA9A-771601F0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9AD-4E1C-445F-B317-A1DBBE61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06D-D1E2-4149-B60C-D8594840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C3E-EFE5-4F52-8FD9-65C85D32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2C1-1099-4860-832C-12926FEE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D2E6-38AD-4045-815A-7C9623BA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45D2-9196-4707-9DC5-B6FA19B0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867-B34B-446F-A724-BD17EEEC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4DB1-360E-42E4-AD13-C5D78388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6512-1196-4C06-906E-5BB2560D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22E6-2273-4186-9C38-EF356245E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a. | In hospitals and nursing homes, real output grew faster than labor hours over the past decade, but more slowly than all inputs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5597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a. | In hospitals and nursing homes, real output grew faster than labor hours over the past decade, but more slowly than all inputs combined</dc:description>
  <dc:language>en-US</dc:language>
  <cp:lastModifiedBy>Jia Yao</cp:lastModifiedBy>
  <dcterms:modified xsi:type="dcterms:W3CDTF">2013-09-06T14:58:5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a. | In hospitals and nursing homes, real output grew faster than labor hours over the past decade, but more slowly than all inputs combined</vt:lpwstr>
  </property>
</Properties>
</file>