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324F-ABF0-4D84-BEF0-31C2F0F11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A | DISTRIBUTION OF PHARMACEUTICAL R&amp;D EXPENDITURES AMONG TOP 10 OECD NATIONS FUNDING PHARMACEUTICAL R&amp;D, BY COUNTRY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C791-9629-4C33-9944-54B27DF4B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D3E-65AA-4764-B030-CC24304C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F6E-C2C2-4853-B155-A06ED791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E48-1680-4D78-B4AE-E91B5A14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6EB-B717-4AB1-A035-491A0E76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0DA-2B21-4630-AA51-90877C8B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DBD-422A-49CC-9E2E-CB48742A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92E-6C0D-44B1-9398-83D175E9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A1A-5079-42A8-A02F-E08560CF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755-230F-4835-AA32-9CF65FED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679-F0DD-4582-AE0E-02B5E71C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3D7-1B1F-46C5-A5E9-D4B45975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DE8-E41C-4AE4-A1DC-B67CFA2A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36DA-05FD-4A3D-91E6-F2B33FDEB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a | Among the top 10 global funders of pharmaceutical R&amp;D, the U.S. accounts for more than half to two-thirds of total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09840" y="472428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p 10 global funders of pharmaceutical  research and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ranked by 2006 R&amp;D expenditures in U.S. dollars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6640" y="13716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aggregate R&amp;D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47840" y="548640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not reported for selected years in selected countries. Shares are of summed totals for countries that reported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a | Among the top 10 global funders of pharmaceutical R&amp;D, the U.S. accounts for more than half to two-thirds of total spending</dc:description>
  <dc:language>en-US</dc:language>
  <cp:lastModifiedBy>Jia Yao</cp:lastModifiedBy>
  <dcterms:modified xsi:type="dcterms:W3CDTF">2013-09-06T15:33:55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a | Among the top 10 global funders of pharmaceutical R&amp;D, the U.S. accounts for more than half to two-thirds of total spending</vt:lpwstr>
  </property>
</Properties>
</file>