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8EF7-78B1-42C7-A9C2-F2B6470F2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370B-9138-4BDE-90AF-0C26F8132B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a | Personal Health Expenditures as a Percentage of GDP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9F6-1ECA-4488-B5D2-465E98AC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3AD-4599-4BC0-AC20-84DEE30D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047-2AC1-429B-A007-3BEFD010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B16-474A-4E5F-BDA4-683540F2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FB5-5666-4D88-AA4C-C7E21F0E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1D32-11A2-4774-9AB7-4E8C51A4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1F6-D322-4264-AA84-FFB77827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09D-8133-4346-AC20-3EA4828F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4FE9-E814-4B1F-9E3D-3E69DB63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9ABC-F52B-46DB-8B3E-BBAB82D9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DC01-8125-42A7-BF68-F2F98DE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8CA-F1B4-48A8-AC9C-1D17DA7D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FA4A-D9EE-474F-BAFF-378715D7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8510-CA97-4CF0-B1DD-15281F66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903-504C-40CC-983B-279E696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F29E-3D54-4088-87CD-6E02B9B6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A87A-6D4C-41BB-9330-E80851D0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141-37D3-4D5F-B959-DF63DBE1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D0B-5A6A-4A93-B0EC-F5E51D9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366-F80C-4D08-A596-B144AB5C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66D-CF2D-4885-BB3A-7B062A61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71E-FC99-4DE9-BDA5-9DF3BAE0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56A-5AF0-465D-92C0-29B1F53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56E-84C3-43AA-ADF5-B012D86F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8408-7E35-47D0-A326-780CFD66B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AF8-2D42-4BE8-87E9-870D17C6C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a | Since 1949, all of the growth in the personal health spending </a:t>
            </a:r>
            <a:br>
              <a:rPr sz="2400"/>
            </a:b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share of GDP has come from increased payments by third part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273200" y="160020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Straight Arrow Connector 6"/>
          <p:cNvCxnSpPr>
            <a:stCxn id="92" idx="1"/>
          </p:cNvCxnSpPr>
          <p:nvPr/>
        </p:nvCxnSpPr>
        <p:spPr>
          <a:xfrm flipH="1">
            <a:off x="4038120" y="1784160"/>
            <a:ext cx="235440" cy="4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a | Since 1949, all of the growth in the personal health spending share of GDP has come from increased payments by third parties</dc:description>
  <dc:language>en-US</dc:language>
  <cp:lastModifiedBy>Jia Yao</cp:lastModifiedBy>
  <cp:lastPrinted>2002-05-16T21:44:34Z</cp:lastPrinted>
  <dcterms:modified xsi:type="dcterms:W3CDTF">2013-09-04T21:03:48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a | Since 1949, all of the growth in the personal health spending share of GDP has come from increased payments by third parties</vt:lpwstr>
  </property>
</Properties>
</file>