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0D92-7961-4EDD-BDEB-038EA0C44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4A | CORPORATE PROFITS BEFORE AND AFTER TAXES AS PERCENTAGES OF NATIONAL INCOME RELATED TO HEALTH CARE, 196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D82D-CE2D-42D8-8652-5233E372FB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6382-936F-4119-88BB-C3AF5089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2707-234D-453B-B147-0B295A67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6B25-9265-4D5D-B861-234F6B52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03DB-29A7-4388-B17E-6252F6CA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F106-0B0C-41F6-A048-D88168EF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9E35-A2F3-4E7D-BAAF-9FC70A9A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E31C-1804-430E-A1A5-ADB3FED7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2D36-D9A5-458B-92B0-F6A16D28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C08A-0FBC-4540-BDA7-BDF4E45F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C736-25E4-4F39-B16A-24343F05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2007-BEB7-4E3A-9941-D7F721D0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9924-8B39-4389-883F-BCE8A673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BB7B-C17C-4D1C-8192-A06A666BE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4a | Health services profits have increased substantially since the advent of Medicare and Medicaid, but still are below a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4479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industry’s own nation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4a | Health services profits have increased substantially since the advent of Medicare and Medicaid, but still are below average</dc:description>
  <dc:language>en-US</dc:language>
  <cp:lastModifiedBy>Jia Yao</cp:lastModifiedBy>
  <dcterms:modified xsi:type="dcterms:W3CDTF">2013-09-06T14:17:00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4a | Health services profits have increased substantially since the advent of Medicare and Medicaid, but still are below average</vt:lpwstr>
  </property>
</Properties>
</file>