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4B17-4EE2-4BB7-B6CA-0719C809EE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1 | TRENDS IN EARNINGS AND SUPPLEMENTS TO WAGES AND SALARIES, 1948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8879-FD63-4B38-A3C7-004CDDCE4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ABD4-0374-4459-8F9F-E915AEA2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2152-940E-4E7C-B7D0-3278B1A6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B509-F53F-47B8-8043-9F61D880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DA3B-CB08-4536-84CA-1253B339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C283-DAE7-4F3C-BA5F-51AFBAE6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9688-9055-4622-9B2C-4C91E983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4445-0AD5-4610-8BC0-3A7C9ABC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112E-71CA-4A92-8F4C-571FF8B1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2229-6272-4A0E-B8A9-4104DCB7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D4A6-8659-489D-A9C9-48C2B869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7C36-2A41-471F-89EC-16CE7542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7B23-68F4-4480-8750-89E9840E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C270-B811-44CD-A1A1-A75424DF8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1 | Rising health-related supplements are an important reason real hourly earnings have grown less quickly than average compens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85800" y="1447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ation-adjusted hourly wages index using personal consump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enditures deflator (1948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1 | Rising health-related supplements are an important reason real hourly earnings have grown less quickly than average compensation </dc:description>
  <dc:language>en-US</dc:language>
  <cp:lastModifiedBy>Jia Yao</cp:lastModifiedBy>
  <dcterms:modified xsi:type="dcterms:W3CDTF">2013-09-06T15:08:3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1 | Rising health-related supplements are an important reason real hourly earnings have grown less quickly than average compensation </vt:lpwstr>
  </property>
</Properties>
</file>