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E588-4A34-4D5F-AE73-1CA21F0FE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2A | YEARS OF POTENTIAL LIFE LOST BEFORE AGE 70 PER 100,000 POPULATION VS. HEALTH SPENDING PER PERSON IN SELECTED INDUSTRIALIZED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0EA4-7563-4022-BFB4-E668F64D1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C08A-85DF-4D1E-8BC3-812DD662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C66B-2CFE-46C4-B369-8E9228F7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A09-A882-49F4-A54B-EDF31943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54C7-85A4-4AFA-A57E-CEBBAA81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891-A1AA-4E59-8659-2F146301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026B-2240-4EA8-BBCD-F4763A78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0E7E-F2F9-425D-ADD8-257DB02D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74DA-788C-4348-9EAD-CBA4F4D2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296-E461-4BB0-A017-6D395C86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024-0786-4F23-8AFB-1780A5D7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48D-8DD5-4204-AD6D-B597957B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D8B-E092-459E-97AF-0A3A31F0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CE38-5965-468A-B630-A2FFCD565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2a | Years lost due to premature death are much higher in the U.S. than most other industrialized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01520" y="1549440"/>
            <a:ext cx="88646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914400" y="5780160"/>
            <a:ext cx="69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person (U.S. purchasing power parity, 2006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2a | Years lost due to premature death are much higher in the U.S. than most other industrialized nations</dc:description>
  <dc:language>en-US</dc:language>
  <cp:lastModifiedBy>Jia Yao</cp:lastModifiedBy>
  <dcterms:modified xsi:type="dcterms:W3CDTF">2013-09-06T15:40:38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2a | Years lost due to premature death are much higher in the U.S. than most other industrialized nations</vt:lpwstr>
  </property>
</Properties>
</file>