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C7F5-24DD-4E12-B598-1504CED6E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1 | AVERAGE ANNUAL CHANGES IN HEALTH EXPENDITURES DURING ECONOMIC CONTRACTIONS, 1948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007A-EF7C-478E-9F8B-73767A896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E50-D922-43BD-AF41-6C65E4BE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136-DDBC-446F-9FDA-EBD0CC58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7C5-1B8A-4143-B6BC-A1EA458B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3F4-8F5B-4848-9BA5-1E67192B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484-EFD0-48FD-96B7-17BCBE70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03F-6EBA-468D-A0DD-4767589E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F0F-343A-4722-9B95-A2F860A8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34F-4B03-40E6-897B-86A1F8A9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A81-483F-43EE-B100-5B214833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EBE-EDA3-465C-8AB5-08B3968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4E4-438A-457A-BC42-90E7E0FA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584-17FB-4CB1-BC13-0E59A344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F768-9DFC-4AFA-902B-733F126A6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1 | Aggregate health spending growth appears to be largely independent of fluctuations in the business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06668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1960" y="617220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=rec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1 | Aggregate health spending growth appears to be largely independent of fluctuations in the business cycle</dc:description>
  <dc:language>en-US</dc:language>
  <cp:lastModifiedBy>Jia Yao</cp:lastModifiedBy>
  <dcterms:modified xsi:type="dcterms:W3CDTF">2013-09-06T15:28:0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1 | Aggregate health spending growth appears to be largely independent of fluctuations in the business cycle</vt:lpwstr>
  </property>
</Properties>
</file>