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34C0-7C60-4E17-BEA3-E1C040868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D205-5E59-4E86-A39D-00E7A6988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1C4-4177-4FF4-8613-F8EAFCE3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90C-724D-4037-8385-184B1F8C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2D2-315C-41B2-A510-A2A6ED2D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E4E-2B45-4353-A2C7-2CCAA358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2DA-37AD-4E08-A58A-A61564B2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C19-2B1F-4090-873B-8EA308FA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AAE-7609-4B9A-8F6C-E3D60F6C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FBF-5A55-4D9A-80D8-A1576742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D56-6435-4991-BD46-660E7C87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3E7-8F55-4A53-AD35-EB90EC59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EDD-F2D9-4ACC-8623-E986DDEF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BAA-DC21-48F4-824C-713574AF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1EED-7CB7-4AAD-8BB4-9A3368BA4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7b | Typical Medicare premiums and cost-sharing will consume virtually all of the average Social Security check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6225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thly premiums and cost sharing as percentage of average monthly Social Security bene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26400" y="6221520"/>
            <a:ext cx="42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MI=supplemental medical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b | Typical Medicare premiums and cost-sharing will consume virtually all of the average Social Security check by 2085</dc:description>
  <dc:language>en-US</dc:language>
  <cp:lastModifiedBy>Jia Yao</cp:lastModifiedBy>
  <dcterms:modified xsi:type="dcterms:W3CDTF">2013-09-23T19:14:3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b | Typical Medicare premiums and cost-sharing will consume virtually all of the average Social Security check by 2085</vt:lpwstr>
  </property>
</Properties>
</file>