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DF44-B0A2-4DB2-A5FC-0CEBE9040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9F8E-69C8-4756-9028-D267D484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3C2F-BCAE-4732-BFFF-69C98A0A7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7CCC-F852-4F1E-B530-8EAE71DF3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F251-3C7F-4AFD-9A36-61DA3207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E809-EBA0-421B-8BDB-C3E95782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AA81-27B7-46FF-A8B9-98013F63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3D47-24D8-4263-AA94-3591A1FC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C0BF-3571-422D-A49E-31E7F2FD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E58D-67A3-4DFB-B92D-BCC8DC10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0490-99B0-4EFB-AE59-E5970573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1D54-0037-48FD-AD92-60A9BF1C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9C98-EF06-4CB1-AFD2-050BA631A3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9360"/>
            <a:ext cx="91551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5Z</dcterms:modified>
  <cp:revision>20</cp:revision>
  <dc:subject/>
  <dc:title>PowerPoint Presentation</dc:title>
</cp:coreProperties>
</file>