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4BFD-2D92-4FF1-8012-B7AF6571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CB75-4ACD-42EB-B47D-1D0CAA38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0A98-3EB3-4142-A58E-C7982EE0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FEF5-0F9F-4D6E-9F01-704A25EB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C0EF-4A13-4CC0-B7F8-E61DB887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FBF7-A374-4AF7-A201-6C217370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B45A-2F72-4DD4-8D00-93616BB6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C38B-20EF-4D5A-B4D6-8E7C0D4A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838B-4F91-4068-BF06-7EC1D218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6FA2-F9F1-4E82-93E0-AD98219B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1896-FF63-4D65-8017-F1DF82CC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7675-7198-4B31-B42C-76814820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805C-2605-403E-8D3B-D74E0A7D9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73080"/>
            <a:ext cx="914400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4Z</dcterms:modified>
  <cp:revision>14</cp:revision>
  <dc:subject/>
  <dc:title>PowerPoint Presentation</dc:title>
</cp:coreProperties>
</file>