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3DA4-6E98-4FAF-B2A0-77D47B2AB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A | SPECIALISTS AS A PERCENT OF PRACTICING PHYSICIANS IN G7 COUNTRIES, 1994, 2000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4FE7-7C68-4CE1-8F43-79B5D8001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00F-F97B-40C8-862C-0EDBB3C7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8D6-2330-4DF2-BDD1-701B4FFE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E8F-F44B-457C-96FD-4942D5C9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4D7-C444-40A3-AFC7-9BAE6E85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A80-78FE-44CE-9CD4-BC5CDBD7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630-031B-417B-92AF-D04261B7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116-98A9-4487-9E89-145048D9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4FB-6F2C-475A-A399-A13154D3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0E6-001B-4F51-A386-4BD3E2A8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6C5-6F6B-458E-A5A4-5D80972A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498-3312-4D77-99E5-6432978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BA0-CD9C-4776-B5C9-B93DC6DE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EB11-FBF0-4AF2-B62A-E413AA412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6a |  The U.S. is not alone in relying heavily on specialty physicia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sts as a percentage of practicing phys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29460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a |  The U.S. is not alone in relying heavily on specialty physician care</dc:description>
  <dc:language>en-US</dc:language>
  <cp:lastModifiedBy>Jia Yao</cp:lastModifiedBy>
  <dcterms:modified xsi:type="dcterms:W3CDTF">2013-09-06T15:40:5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a |  The U.S. is not alone in relying heavily on specialty physician care</vt:lpwstr>
  </property>
</Properties>
</file>