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028A-BA27-4FE0-AEBC-40B1C803B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C037-CDAE-493F-BE86-F03A087BB0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8a | Major Sources of Payment for Personal Health Care Expenditures, by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AC4-63E6-40F3-82B0-3C97694D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E6C-E6A9-4770-A3FA-638821F3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1B18-4518-467E-95DD-37D6AB67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6345-FACB-4757-B941-AE28B65D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AF0D-3343-4F01-87FC-A6000D6B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30E0-5245-4BA9-8EF3-653DB004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D81B-8479-4DDE-90E5-BE40B854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A4E7-5906-4F50-8875-7721C2C6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C04A-34D7-4E7C-B788-0BED9F14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1804-E2D9-4B19-A414-72657CF1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12F4-BF22-4D09-96EE-37154152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207E-C3D3-4A7F-8BF6-00896D00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40B2-6FFF-4C9D-B75C-4536C132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D86C-A672-40B3-80C4-8164833F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73DD-C8EA-494D-AA54-EE7E045F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D785-7481-4B40-BFE5-095580DB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07E3-4BD9-4C85-AF9A-C6440AC6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72B4-2EBA-4AB2-B7BE-66655CE6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0D0-4EDE-419D-ABCC-8848A84A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D94-6531-40E1-BB29-4D6A2EA0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6E7F-2420-4389-B3C0-34C2279A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B1B-32A9-4D4F-9C26-F1D8FA75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045A-30B1-4300-AD50-2168E79F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16C-DF7A-430A-B924-614E7230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F6C0-C08E-449D-AAC1-C31A04496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0744-5759-4BC2-81BF-E19FA4511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8a | Less than one eighth of Medicare spending is financed through beneficiary premiums, but this varies greatly by componen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8a | Less than one eighth of Medicare spending is financed through beneficiary premiums, but this varies greatly by component</dc:description>
  <dc:language>en-US</dc:language>
  <cp:lastModifiedBy>Jia Yao</cp:lastModifiedBy>
  <cp:lastPrinted>2002-05-16T21:44:34Z</cp:lastPrinted>
  <dcterms:modified xsi:type="dcterms:W3CDTF">2013-09-04T21:04:1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8a | Less than one eighth of Medicare spending is financed through beneficiary premiums, but this varies greatly by component</vt:lpwstr>
  </property>
</Properties>
</file>