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58A-9C89-4E94-994C-F83A1C13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B83-E606-4ADC-A618-ADB81FAE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C62-FE73-4F0D-B1E6-B35D4A5C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4E32-0FA7-4B2F-9434-961905F5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A83-E01C-44C8-AA32-B29F0905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E57-DB9D-4FA6-9770-2A5CFC03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8A9-F80A-4558-B5E6-1654CC60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BAA-A1A7-45F3-94B0-2A7752F5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177-C2B0-47BC-B0BE-E65DAA21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085-B72B-4443-936F-F1EB01BA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6DE-3A69-4406-95CC-8E235411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548-7A01-4C87-8345-3F52B6B5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FB29-B131-4373-AC6F-8FE5BF741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63680"/>
            <a:ext cx="91281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6Z</dcterms:modified>
  <cp:revision>16</cp:revision>
  <dc:subject/>
  <dc:title>PowerPoint Presentation</dc:title>
</cp:coreProperties>
</file>