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BE3D-7BD7-441A-8459-CFBF780E1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0DD0-AC14-43E8-AA0A-1AF188510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20.1 | EMPLOYER CONTRIBUTIONS FOR HEALTH INSURANCE AND OTHER FRINGE BENEFITS PER DOLLAR OF WAGES AND SALARIE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C8D-D3D4-43B4-87DE-3D548FE7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6D53-273A-4188-BA24-FAF951BC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1DF-F3DD-434B-9C70-6A243C82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340-4303-409B-9B24-7C7B67A5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0D38-12A7-483D-98EA-94DB5D0C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AEC6-BD7A-4C80-A1E3-BF4EA709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085A-1B09-4943-9471-EE370034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F6B8-CD98-428B-A2A1-4A4829ED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3C56-E382-43B6-9C89-FC4B1FA6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00DF-658A-41ED-83A7-D9A6E5C1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3A9E-BDCC-4F8C-AA51-B1ECFE5A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5A9-71CF-4135-ABA1-1A5537F3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DA49-AEE4-4E95-BB94-CAEF45FB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0487-CE2E-46B4-A665-DCB03C3F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7F62-E6E3-4C9E-9430-06000349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2FCA-F43A-4729-BF56-E3C18FD8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7596-7D06-459E-BCE8-ED29E5AB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91D-7BFD-44B7-A778-D7DA8D37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F9C6-E67E-419B-A4FE-CA12F69E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41CD-0908-469B-933E-E9EFC2B8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82EF-F3A1-4120-B2A7-843D6549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7174-C311-4CAB-9753-5D508B6A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B25-2900-45D4-A195-DCC58D64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AA1E-E4E9-4D23-BAA6-274C3396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C86A-ACE3-4620-B2CD-4DDB9067A9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823F-BA6F-4A87-BF78-6D419FE54F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1 | At historical growth rates, the amount of health-related benefits per dollar of wages and salaries will quadruple over the next 75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1 | At historical growth rates, the amount of health-related benefits per dollar of wages and salaries will quadruple over the next 75 years</dc:description>
  <dc:language>en-US</dc:language>
  <cp:lastModifiedBy>Jia Yao</cp:lastModifiedBy>
  <dcterms:modified xsi:type="dcterms:W3CDTF">2013-09-23T19:14:09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1 | At historical growth rates, the amount of health-related benefits per dollar of wages and salaries will quadruple over the next 75 years</vt:lpwstr>
  </property>
</Properties>
</file>