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95AD-8BFC-4193-8DEE-0267DED7C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c | Output per Hour and Output per Unit of Input Indexes (1987=100), Medical Equipment and Pharmaceutical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5065-2F43-4023-B4B4-E31C52CBE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464-0371-4BE7-B4AB-3EEDA3E3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7FD-58F7-4E5A-8166-F338B172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1E3-4780-40C9-85B1-C3EB7D32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35D-0F2B-420F-995B-235D7D69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455-07B1-40A5-82FC-6018EC4A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821-11A5-4720-850E-06F01FC7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38F-74A5-4CCE-B9E6-8E50F217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C43-F14D-4208-85C6-9C640BB4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639-2B8E-42DE-BD83-A24B5D99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D36-1892-4A93-A29F-9E59F634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AEC-8498-4297-8F71-A98FCA72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51D-C353-4E7E-860A-FB35DFB4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8610-5C5B-4B58-AD17-231D307FF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c.  Productivity has grown much faster in the medical device industry than the pharmaceutical industry, where output per unit of input is fa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c.  Productivity has grown much faster in the medical device industry than the pharmaceutical industry, where output per unit of input is falling</dc:description>
  <dc:language>en-US</dc:language>
  <cp:lastModifiedBy>Jia Yao</cp:lastModifiedBy>
  <dcterms:modified xsi:type="dcterms:W3CDTF">2013-09-06T14:59:1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c.  Productivity has grown much faster in the medical device industry than the pharmaceutical industry, where output per unit of input is falling</vt:lpwstr>
  </property>
</Properties>
</file>