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56A-8EEF-4C53-A667-834627DF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001-9D93-4265-B6D2-E2C05D2F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EFDE-4E5D-4001-BFC2-EBF0E910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F1C-6BCB-4DF5-86CE-6E37B9D2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AA1-B0B8-4730-9687-8601CC85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D50-3636-4527-BB93-E9D08868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DCA-C9BB-4CD6-9495-F63B35BB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9C4-533A-4B5F-941B-DDDA6D5B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D35-C6AC-437B-BF9A-3A568C2F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D08-05DA-4658-965C-7B6AD0DE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83B-32D1-47D3-B4FE-CF5D48FD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620-435D-4F29-A6EB-9D49ED08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BC65-8611-4838-8264-1DAD3C27C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54200" y="0"/>
            <a:ext cx="76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6Z</dcterms:modified>
  <cp:revision>20</cp:revision>
  <dc:subject/>
  <dc:title>PowerPoint Presentation</dc:title>
</cp:coreProperties>
</file>