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594B-3559-4A0B-96F6-AF5B83C90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7B2C-4578-413D-BA38-BBAA9989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2FB4-5C26-46A1-B1E0-87E319D8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F46B-45B5-44D3-8076-3246C2C8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A5B8-BFB7-4846-96A8-D24646A2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3E8B-56DF-4236-B9D6-66F039D2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DDC5-7A2F-4980-AF78-B2D1244C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6AB0-18CE-486B-BE87-075ACF11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919D-1DEC-46E8-87A6-CD267080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B790-8516-40F8-AE1A-5090FA3B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65B4-E4D7-465F-891F-E2B2EDC3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5529-8FBB-48EC-A36D-7733D299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829D-D4BA-44F1-A174-5500D61F84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-7920"/>
            <a:ext cx="913284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37:21Z</dcterms:modified>
  <cp:revision>4</cp:revision>
  <dc:subject/>
  <dc:title>PowerPoint Presentation</dc:title>
</cp:coreProperties>
</file>