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AAD-8726-472D-AD13-91C2A013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AD9-F99C-423A-91C8-ABC17839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2B3-210E-486D-BBFC-BE6609B2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662-7056-4B30-82F5-D05923D8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4F8-4956-445E-96E2-592ED94C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5E7-80E6-4386-AA6B-F7C85653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A4D-1949-4162-B78B-E80913C9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E3B-AC12-4ABA-A6E2-8F85DCC8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561-190F-450E-A31D-67B83690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EB2-344B-4DE7-A0D5-FE54C1C6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75D-D682-4AA1-B14C-C1F9F050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976-6BF4-4E1D-9DC8-EB7F128B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36E2-B404-44B1-ADD6-06DA543DD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4Z</dcterms:modified>
  <cp:revision>6</cp:revision>
  <dc:subject/>
  <dc:title>PowerPoint Presentation</dc:title>
</cp:coreProperties>
</file>