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7B20B-0F3E-4A6E-81E6-427873AAE2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F6A47-A65F-4735-8733-CCD4AC202D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4A05-EB89-4C78-A0B9-BE016A74F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023E-0513-459D-B813-AB7C3511B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45F1-7D6F-4D3B-BEEA-E7CF2B7EF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E750-8E99-464C-83E8-B46F7EC22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0515-0051-4CBA-A697-0EB6FBBC6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56D9-B1F0-493A-89E2-5403C523B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286F-F05A-464E-AB0E-DD31EB589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2AA0-E3DF-4A38-B4F5-D32C3C874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0419-5D95-4305-B5E2-52D5C3C50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C082-646F-4C38-BDC2-55F705D0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D8B3-3A01-4027-B4C9-60992635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3C72-EB14-4FF8-AC18-FA0AD0C7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6C275-452E-47E0-B12E-9F5A806A94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http://aas4064.asadmin.duke.edu:60620/results/C/Users/lc135/conovermapchart19_16b.png"/>
          <p:cNvPicPr/>
          <p:nvPr/>
        </p:nvPicPr>
        <p:blipFill>
          <a:blip r:embed="rId1"/>
          <a:stretch/>
        </p:blipFill>
        <p:spPr>
          <a:xfrm>
            <a:off x="1447920" y="380880"/>
            <a:ext cx="6819840" cy="51148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1619280" y="43344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9.14c | Percent of adults age 15 and older who are daily smokers, United States, 20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477360" y="5495760"/>
            <a:ext cx="861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Centers for Disease Control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e-Specific Prevalence of Cigarette Smoking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Smokeless Tobacco Use Among Adults --- United States, 2009. 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ortality and Morbid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Weekly Repor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November 5, 2010 / 59(43);1400-1406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cdc.gov/mmwr/preview/mmwrhtml/mm5943a2.ht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0T20:48:54Z</dcterms:created>
  <dc:creator>Jia Yao</dc:creator>
  <dc:description/>
  <dc:language>en-US</dc:language>
  <cp:lastModifiedBy>Jia Yao</cp:lastModifiedBy>
  <dcterms:modified xsi:type="dcterms:W3CDTF">2013-09-10T20:49:20Z</dcterms:modified>
  <cp:revision>1</cp:revision>
  <dc:subject/>
  <dc:title>PowerPoint Presentation</dc:title>
</cp:coreProperties>
</file>