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301B-304E-4561-AC0E-F3D13FCC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B523-C747-4C6D-9CAC-92C2508A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DA38-B644-4D0E-A3B5-6EF1BCE2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062B-55AF-48F2-A638-2AFC6250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2E0A-9817-45CE-A60C-FEEB7533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B08C-3840-4576-81F1-F552280B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B2B3-CF02-4B10-B4A8-687469BC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8787-2C44-4E28-8227-0B8A7334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ADE8-428B-4027-97F0-1FD2C01C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06CE-9B83-4492-8CB4-FA121438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061D-1073-46EE-93CE-46CD9B26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5727-F151-45AE-9E42-7D23B58E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47BD-0EB8-4AEA-92ED-CF245CB20E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-1440" y="0"/>
            <a:ext cx="914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1Z</dcterms:modified>
  <cp:revision>39</cp:revision>
  <dc:subject/>
  <dc:title>PowerPoint Presentation</dc:title>
</cp:coreProperties>
</file>