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9904-0475-4F39-9A58-EABF853CF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6753-7BA4-4A2F-B0BB-3ACAD015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D45A-0D88-48B6-9C16-7C7D919DE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0CE3-8DB1-4078-8815-A2E5FABA6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8356-2CAD-4A50-B4F1-D921D2B7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E82B-E25C-4348-BCFE-81F7F071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40D0-FBF3-4066-9A73-6BDD1FCA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6567-CD5B-4F06-BA41-F7C2547F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5C75-FD67-479F-894D-333F1B5A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5314-FF56-4300-8636-07C62052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9C09-00C2-4AD4-A46B-EFD2A7BB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1E45-FD59-498A-A171-0050A47F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86B0-A256-4D91-AC0B-DF52CB4068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360" y="152280"/>
            <a:ext cx="91252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2:07Z</dcterms:modified>
  <cp:revision>37</cp:revision>
  <dc:subject/>
  <dc:title>PowerPoint Presentation</dc:title>
</cp:coreProperties>
</file>