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2A0-59B3-4195-9BD9-9755FAF8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995-03FF-4275-B33E-1FBC7B15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AD0-E1B3-4791-98E6-BC01CB9E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A78-0EDB-4B69-BC79-21A7D123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9A5-002F-4ECD-AAEA-B331851B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2BB-BBB1-4F75-A13C-E6EE1608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B2A-BDE9-4501-AC8C-8E01F643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C45-DA6A-43E5-9BEF-271FF2BB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D3F-3903-4888-BDC5-5D23A826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E50-AF60-4BB5-BB0D-148D7424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415-535A-44BA-BDD9-1E2696E8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CDB-3401-4A07-9FFD-53303665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1691-451D-4182-B233-437108F33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8680" y="0"/>
            <a:ext cx="902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4Z</dcterms:modified>
  <cp:revision>30</cp:revision>
  <dc:subject/>
  <dc:title>PowerPoint Presentation</dc:title>
</cp:coreProperties>
</file>