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4ED0A-A703-4B4E-8009-D113CB247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3D776-D6AE-47C6-91B6-F10AAE2B4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75059-3008-4822-9FC9-14D933CB2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22801-C737-4795-891A-2B073D362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D1A0C-CDDE-4035-A94B-FEF3CA189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7477F-7CFD-4ED1-9385-D80DB3583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C0AEB-9A62-47A6-9CA6-2362F92A4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07FBA-99D0-4BCE-8272-C176D9BA2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9A715-A755-4666-A6F1-15AB94E51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5C53F-3E5B-4D31-8D14-993CD09A5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0DD30-7B40-4F58-B8DD-F589A2760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7239A-EF8C-4C71-AEBF-C31F68366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9E1C2-24E0-4847-A850-6F9FB2D162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55440" y="1371600"/>
            <a:ext cx="90331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23:17Z</dcterms:modified>
  <cp:revision>41</cp:revision>
  <dc:subject/>
  <dc:title>PowerPoint Presentation</dc:title>
</cp:coreProperties>
</file>