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0EF2-6CB4-4B28-BD97-36A1833751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7a | Multifactor Productivity Growth in Health Services, 1990-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F527-B3CC-445C-9F8B-989447BBF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5F6F-517A-4263-90A4-DCE1C791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9423-8EBD-438F-9282-AF001E7B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C21F-525B-4310-9BC6-0A5A4371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A10B-BB5B-408C-BC9B-A497B676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451E-3053-4476-9558-DB8F80F9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98C5-C5DF-410B-B146-86A701C0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269-D698-4936-A4BC-60830194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6334-BC85-4E37-BC1C-3710C55A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262D-2325-4A19-AD9E-2E09AEC9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3B4C-1D61-4E61-BC38-FDD29C8A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DDA-D4E3-4D41-BB3C-9EBF33E8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5090-CDFC-47B0-9E33-7B11AA43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752C-C6DB-4613-9741-5747DC3F9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7a | Multifactor productivity growth has steadily increased in ambulatory care over two decades but still is negative for health fac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143000"/>
            <a:ext cx="195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rate of change in multifactor produ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7a | Multifactor productivity growth has steadily increased in ambulatory care over two decades but still is negative for health facilities</dc:description>
  <dc:language>en-US</dc:language>
  <cp:lastModifiedBy>Jia Yao</cp:lastModifiedBy>
  <dcterms:modified xsi:type="dcterms:W3CDTF">2013-09-06T14:59:35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7a | Multifactor productivity growth has steadily increased in ambulatory care over two decades but still is negative for health facilities</vt:lpwstr>
  </property>
</Properties>
</file>