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0B15-BFEE-49F8-AFBF-F1EFD1C1A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36A3-B09C-45A8-8A93-32E6CB7FF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E011-BFE1-4205-8840-878A8DB3F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3E97-B3EB-4DD7-9EE8-B6D7D5239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3164-7756-475A-8D0A-134BFD7E3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DCF4-5894-42FE-B63C-DA0B746CE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C3CD-7667-4CFE-A3DE-E90FF6A9A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8604-7B8F-4DF5-A281-DDB59EE10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5FAE-211C-41C4-91CF-CC15C7819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3AC3-3DF6-4959-A00D-F6E3B9674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9821-EFB9-483F-95C7-6FC6D63F4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9DC3-D9A0-4D78-9553-63AB0435E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6DA75-77C6-4D3A-BE2A-584386689C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12680"/>
            <a:ext cx="9144000" cy="66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49:36Z</dcterms:modified>
  <cp:revision>6</cp:revision>
  <dc:subject/>
  <dc:title>PowerPoint Presentation</dc:title>
</cp:coreProperties>
</file>