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E5EAC-3106-4C06-B7D1-470D1BB013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0C4BC-D313-4EC2-90AB-A62F5477A5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6.4b | Publicly Financed Share of Personal Health Expenditures for Children, Adults and the Elderly, 1965, 1977, 1987, 1996, 200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6F18-9093-491A-88F5-D4B0B5B73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1249-FAD0-4567-89FE-CB8FAECA6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B123-9C68-4F8B-BEA6-8C4C2DED3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5610-9B60-40FA-BEA4-8077A1EC2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2AC34-FB49-4388-9E39-F4F29E720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0821C-6EE7-4C61-9D54-F7D75BC2C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3A10B-05DB-4E74-978E-977CD309A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4729B-6246-4E8C-8514-E5E6E43F8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35A65-74A7-4C39-AEC7-3F216769E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CAE64-47EC-4513-8892-4BFCC943B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E60B8-BD24-426B-A166-2C95214C9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1AF4-F3BA-4485-A24E-0F5083177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4E4DF-076B-4C90-A8EC-88A502FCD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22C98-65A0-4982-B3E3-62D632769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4B44B-3A18-49F4-B9C5-CCB34922D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FF945-EC37-436A-B39D-B58084FAE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E8474-FA72-4132-B88E-B89CA052D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5827-DC55-46FA-AE4F-19DB179F4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7A5D-4CB4-4835-9014-2053B1F93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0EC8-7838-4C1E-8E3C-0A2C5B8DA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D9BB-BA1F-4143-9410-C2F32D25A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8080-4888-4A49-A285-85408C7B3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728F-0A95-497C-A590-D701CA782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A124-0C5A-41E0-B1A7-4C7A9B8A7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591F3-2579-49D1-B56D-B4DB036C94C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4AC10-9EE9-43AE-A7E0-AC84654C851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81536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6.4b | The elderly depend most heavily on publicly-provided health care, which covers about two thirds of their medical cost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Object 3" descr=""/>
          <p:cNvPicPr/>
          <p:nvPr/>
        </p:nvPicPr>
        <p:blipFill>
          <a:blip r:embed="rId1"/>
          <a:stretch/>
        </p:blipFill>
        <p:spPr>
          <a:xfrm>
            <a:off x="254160" y="787320"/>
            <a:ext cx="8559720" cy="6121440"/>
          </a:xfrm>
          <a:prstGeom prst="rect">
            <a:avLst/>
          </a:prstGeom>
          <a:ln w="0">
            <a:noFill/>
          </a:ln>
        </p:spPr>
      </p:pic>
      <p:sp>
        <p:nvSpPr>
          <p:cNvPr id="91" name="TextBox 3"/>
          <p:cNvSpPr/>
          <p:nvPr/>
        </p:nvSpPr>
        <p:spPr>
          <a:xfrm>
            <a:off x="457200" y="5562720"/>
            <a:ext cx="8175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: public insurance includes Medicare.  Since a portion of Medicare spending i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id through voluntary premium payments, the entire amount should not be view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 taxpayer-financed spending even though Medicare is categorized as a Federal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pending in the standard National Health Expenditure Accounts framework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4T11:52:14Z</dcterms:created>
  <dc:creator>Kristy</dc:creator>
  <dc:description>6.4b | The elderly depend most heavily on publicly-provided health care, which covers about two thirds of their medical costs </dc:description>
  <dc:language>en-US</dc:language>
  <cp:lastModifiedBy>Jia Yao</cp:lastModifiedBy>
  <dcterms:modified xsi:type="dcterms:W3CDTF">2013-09-06T14:06:23Z</dcterms:modified>
  <cp:revision>260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6.4b | The elderly depend most heavily on publicly-provided health care, which covers about two thirds of their medical costs </vt:lpwstr>
  </property>
</Properties>
</file>