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4C94-B6FB-4DA3-995C-D7DDF7063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3B | TOTAL GENERAL GOVERNMENT EXPENDITURES AND PUBLIC EXPENDITURES ON HEALTH AS A PERCENT OF GDP FOR SELECTED INDUSTRIALIZED COUNTRIES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0C9C-441B-4A3C-8F58-B81D25B324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62A2-3961-4666-8DD9-A746D1F7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F579-B36B-497E-BD75-1651111B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51EA-77A3-4C9C-8D3A-56961C690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4F36-09E6-441B-B24F-DA254A8C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D035-31C0-43B8-A370-AFEEAB13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4D30-F0F0-4F73-BB66-2F96575B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DCB7-0F7C-43F1-87CD-8BA7E3D3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3C78-BAC6-4DBC-9FF9-F0D71215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91D3-76E7-41B8-AF5B-804926DF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54E0-BBC1-4A73-8491-2A4303EA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CF76-2402-4745-952B-3AE88025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D5D0-536D-472C-BDB6-BE3DF393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5CF6-E8A6-4EF0-ADC3-9BEC56BFD5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3b | In the G7, U.S. has the highest share of government spending devoted to health , but the lowest public share of total health spend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244520"/>
            <a:ext cx="848340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2952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37920" y="639288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3b | In the G7, U.S. has the highest share of government spending devoted to health , but the lowest public share of total health spending </dc:description>
  <dc:language>en-US</dc:language>
  <cp:lastModifiedBy>Jia Yao</cp:lastModifiedBy>
  <dcterms:modified xsi:type="dcterms:W3CDTF">2013-09-06T14:00:04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3b | In the G7, U.S. has the highest share of government spending devoted to health , but the lowest public share of total health spending </vt:lpwstr>
  </property>
</Properties>
</file>