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CC8E-12A4-4EDF-BC9C-54FB4E11D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56E6-AA63-46E4-97ED-37D6C41B6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9838-A8F9-4975-8472-53925986B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0B49-A1DB-4268-A64C-E6D890B11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01DC-9E8B-4F04-A441-C8A59330B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B6DF-3735-412D-9E18-477FCDD39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91DA-F3A8-495D-86D4-B908D530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23B8-D931-4055-8038-BDFCF83A4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6517-672A-4EDC-B8E7-E9968DAE9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13F8-D131-4D6F-AF70-6D39778C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FDA1-6340-409C-B0D4-6444B989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9B0A-D9F1-4FDB-9D02-3C688240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605BE-0720-4B6C-AB35-1284C53017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0"/>
            <a:ext cx="8993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17Z</dcterms:modified>
  <cp:revision>8</cp:revision>
  <dc:subject/>
  <dc:title>PowerPoint Presentation</dc:title>
</cp:coreProperties>
</file>