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D4CB-18C7-4818-80A3-36B4DC172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B | FITTED REGRESSION LINE FOR HEALTH EXPENDITURES PER CAPITA AND GDP PER CAPITA, OECD COUNTRIES WITH SUBNATIONAL COMPONENT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8E36-2485-4B7B-B912-4618116E6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370-3A29-4F37-8196-1340875A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CC6-6DC4-4EED-8CF9-D23A446D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C3D-27C3-4CCC-AB0B-30EDDE52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CA9-C7A3-4652-9EC1-BAF87999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EB0-D93C-45A9-9D31-3F7AC312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6D3-CAA8-4F1F-8243-D7736D81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7EA-A5EB-4105-90AD-08008051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0AA-904A-41D4-A31F-F692C02C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C76-2DE1-49B2-85B2-90B03F44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AF6-5A4D-487C-8032-625CF02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591-2B1E-4384-8D50-9BE2ADC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61A-7980-4B5B-A2EF-01559D5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0DB4-62E3-4CBF-9196-17F125241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b | Once sub-national areas are taken into account, U.S. health spending is almost exactly where it is expected to be given U.S.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674280" y="167652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S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b | Once sub-national areas are taken into account, U.S. health spending is almost exactly where it is expected to be given U.S. GDP</dc:description>
  <dc:language>en-US</dc:language>
  <cp:lastModifiedBy>Jia Yao</cp:lastModifiedBy>
  <dcterms:modified xsi:type="dcterms:W3CDTF">2013-09-06T15:40:5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b | Once sub-national areas are taken into account, U.S. health spending is almost exactly where it is expected to be given U.S. GDP</vt:lpwstr>
  </property>
</Properties>
</file>