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83A-FC83-4C7A-A84A-E14CD438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9AB-469A-4D66-A940-D94113C2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7D6-7ECF-4435-83B6-4BDAAB41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EEC-AE13-4CC8-845D-4363E01D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AA3-E87D-4AD1-A904-C1547831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427-35B8-47D1-A3E0-BAA8ADAD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867-1CB6-453E-88CF-05A12B99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044-BFED-452B-BD75-F6BA8503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450-ACB3-486A-8AEF-D7299DDF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CEB-554F-4AB0-8348-2E360989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5DF4-B56E-4936-AB6A-35846BA3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AEF-1E13-4072-932C-CFE3F914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50AB-2D06-4629-A613-1DBD853D5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143000"/>
            <a:ext cx="892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5Z</dcterms:modified>
  <cp:revision>14</cp:revision>
  <dc:subject/>
  <dc:title>PowerPoint Presentation</dc:title>
</cp:coreProperties>
</file>