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6EE-8184-4264-BA08-22CCF689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8E5-4E3C-4430-A154-B9FC053C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F5C-B883-4EA9-AF23-88C03A17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B72-2BBE-42EE-B01A-1359F2EA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6A7-0413-441D-A676-5901C57E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DC3-1C87-41DD-B23B-0EABFD52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852-3CA8-4950-AE02-90A43454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0A1-8DB3-4E5A-8FC3-98FA5F67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35E-03F5-4F2D-8215-80612A11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66F-7B55-44EC-84CD-9369522F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FC8-B869-4FA1-BC30-8912A028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121-2489-4EDE-B456-A5B87279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94B1-150B-4158-B5A0-4B926A019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2Z</dcterms:modified>
  <cp:revision>45</cp:revision>
  <dc:subject/>
  <dc:title>PowerPoint Presentation</dc:title>
</cp:coreProperties>
</file>