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5AB1-A1D6-4FE8-98C6-B7BA2F177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2.1A | CONCENTRATION OF MEDICAL EXPENDITURE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6D26-BE1A-42F6-9580-AF4269C9F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9204-3531-4544-8C12-BDBEBD73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932-850C-4405-B1F9-C78DE3D0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2B3A-3FBD-46BF-9AAC-5AF14EE3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81A8-59FD-4B0C-B43C-352CA350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FCDA-C2AE-4669-BC1E-C71D7B34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A86B-FE3A-4670-9D8E-A66E2E5A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1D53-ACBA-49FC-9953-C2176A81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BDA-6CB5-4ED4-BF61-6B5A0F75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1AF-7D4D-469E-90B7-EAD55572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48E8-E16E-4B2C-90CC-72DE97E5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7673-D931-48A4-A7DC-03C5231D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9548-5558-4AD6-A66C-13195339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CC9E-C89E-4FA5-B554-88EEC63C3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12.1a | Only 1 percent of the population accounts for about one quarter of health spending; 5 percent account for nearly hal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-50760" y="977760"/>
            <a:ext cx="8788320" cy="4902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529160" y="1160640"/>
            <a:ext cx="37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health spending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70360" y="1160640"/>
            <a:ext cx="32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stimated per capita spending (20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09480" y="5486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percentages are for the civilian, non-institutionalized population based on Med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enditures Panel Survey (MEPS) data for 2008.  2011 per capita spending has be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lculated from 2008 figures, adjusted to account for increased personal health spend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and to reduce differences between MEPS and National Health Expenditure estimat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523880" y="50292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tribution of population ranked by annual per capita health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0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1a | Only 1 percent of the population accounts for about one quarter of health spending; 5 percent account for nearly half</dc:description>
  <dc:language>en-US</dc:language>
  <cp:lastModifiedBy>Jia Yao</cp:lastModifiedBy>
  <dcterms:modified xsi:type="dcterms:W3CDTF">2013-09-06T15:12:4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1a | Only 1 percent of the population accounts for about one quarter of health spending; 5 percent account for nearly half</vt:lpwstr>
  </property>
</Properties>
</file>