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B171-2593-4511-B97F-71697150F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9C48-49E2-46BD-A205-55EAD8810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2130-738E-4CF9-9BB2-13C99E06A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0ADB-862D-45A4-8B03-D4D87D8E5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15E0-AE4F-4956-9E2A-D4A10E19C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B5F1-CDAD-43C5-9871-929DE47BE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A749-8743-45A1-A30D-053FBE9CF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95C2-860C-4B25-96E2-6EA5C2997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09B2-7E7B-4EAE-96BA-EEE6EB5EC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051A-244B-4BC1-919C-B1923440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A41B-3A4F-41BE-A2F1-7C7C9929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8F1D-48B8-420E-A3F9-58FED827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0C671-70C3-4FAC-A99A-B58E4AD806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5160" y="533520"/>
            <a:ext cx="90136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8:20Z</dcterms:modified>
  <cp:revision>37</cp:revision>
  <dc:subject/>
  <dc:title>PowerPoint Presentation</dc:title>
</cp:coreProperties>
</file>