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31E5-36DC-4414-B0AC-660C71E296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3BA5-9598-4296-B631-F8493DE7423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3c | ADMINISTRATIVE EXPENSES OF PRIVATE HEALTH PLANS AND TRADITIONAL MEDICARE, 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7360-8821-4023-9903-B607AE156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375A-ABDC-42D7-9D6D-0C197497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7532-DDB6-454F-A9B2-77CD69404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5563-D764-4857-AAA9-CFAE03D16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6C31-5911-4EA1-89F7-19BE8D8C2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2BB4-C3D2-4F0D-9E1A-CA2A8344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7BBD-2D6F-4EA8-8CF9-6DE00C08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0CEF-0504-4EFC-9548-A2142562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D18E-EE79-4ECA-B7DE-68B48CD0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A0BE-E027-4A88-BC57-7E70CD1A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DD8A-ACD4-4DC6-B7C0-3C12B5F6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23C3-3866-4484-8DAA-75872D84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FA77-D60C-4D45-A112-9C58AB1C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4460-E19F-48F1-8513-5D003EED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7558-D191-4AAA-A3F6-252D0271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02DC-5892-4B06-82B7-0EFB90641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1315-2C90-4EF4-8174-C070C6D7D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7FA2-EC16-450A-90D1-21FD5791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96B9-810A-466C-BB70-A39C63DC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7F15-B664-4D6A-AA30-456F34F5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7755-F0C0-45EA-B0C4-6283AE91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BC21-CBEC-4546-84A9-2E6CF11B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FE6E-5EA5-424A-A82A-CF118663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8F14-F748-4081-9225-F6C99768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5DFA-5E69-4272-943C-B9CFE0874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4202-B8CB-44A7-BB3B-ADCAA19BD4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3c | On a per member per month basis, Medicare’s purported cost advantage over private plans is small or non-existent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77840" y="787320"/>
            <a:ext cx="8969400" cy="4826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457200" y="5562720"/>
            <a:ext cx="2933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: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herlock DB.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Administrative Expenses of Health Plan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. Prepared for the Blue Cross Blu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hield Association. October 2009. Available at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ttp://www.bcbs.com/issues/uninsured/Sherlock-Report-FINAL.pdf (accessed February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3c | On a per member per month basis, Medicare’s purported cost advantage over private plans is small or non-existent </dc:description>
  <dc:language>en-US</dc:language>
  <cp:lastModifiedBy>Jia Yao</cp:lastModifiedBy>
  <cp:lastPrinted>2002-05-16T21:44:34Z</cp:lastPrinted>
  <dcterms:modified xsi:type="dcterms:W3CDTF">2013-09-04T18:13:20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3c | On a per member per month basis, Medicare’s purported cost advantage over private plans is small or non-existent </vt:lpwstr>
  </property>
</Properties>
</file>