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9CF-A3CA-4CC7-BC02-65F1C9CC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9B3-D0BD-40A6-BCDF-989A2300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926-BDB1-48AC-83AD-4E8E6E8D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AE4-D398-4925-B293-80AED0F4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DAB-E0D3-4385-A2E3-569209A7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FEF-449F-472A-B4E9-A00E94A0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E47-84AA-42FB-92D2-83A6AB7C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2848-57C5-434E-A923-D091FA17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F52-C2F3-45AF-9821-D5EDDFCE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DD13-1BAA-42C0-99FD-C2093414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46F-BDDC-4155-9F5D-35484227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7F9-D449-4E26-AAA6-1D1210FB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0777-09F5-4D4B-8AC6-0AA6282B0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98440" y="0"/>
            <a:ext cx="674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8Z</dcterms:modified>
  <cp:revision>36</cp:revision>
  <dc:subject/>
  <dc:title>PowerPoint Presentation</dc:title>
</cp:coreProperties>
</file>