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A5B5-AC78-4B7C-969E-8E56150F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E41-83AD-4EDE-AACF-92368862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6482-74E2-4E4C-A0C9-E501BB24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37A-DC44-4E54-88EE-0493271C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3F6D-890E-4DAC-A891-C7380066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D0EF-E0D8-48F0-A929-4BB30552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BA6-82E1-49E4-B72C-147958CF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BEC-212A-4F08-A3FD-750053F0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CCB-5148-4D31-915B-81A6F8FD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882-AA0B-4806-8FB8-DDE50A9F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AF8-6902-4420-9CF6-1A728CE5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00A-203A-4D99-98D2-72EC6CF8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CEE6-A493-4995-883C-6B3E1CD74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3240" y="1219320"/>
            <a:ext cx="914724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4Z</dcterms:modified>
  <cp:revision>31</cp:revision>
  <dc:subject/>
  <dc:title>PowerPoint Presentation</dc:title>
</cp:coreProperties>
</file>