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63C-62AB-4AFD-9CE8-7DC4FE65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B7F-067A-4C2A-9957-61F0927F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6A0-1C0A-46DB-8BB2-B40C1627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E8A-9AB0-4F18-A763-D2288847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E18-5289-4054-A59B-E1424E85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78A-C9F0-4595-8BF6-622E8DDC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8EC-4483-4D42-9587-EF95D3DA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69A-3448-4216-A352-D0ACD51A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B9E-3DA8-4D03-AA4D-81433C6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336-A2AE-4726-A2F1-1BF110E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360-6823-4C0A-A8C9-F69AA6B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825-5E8C-4529-BC73-E9C740ED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A7A9-1AEE-43A5-8A7C-0BD7AAE0C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52280"/>
            <a:ext cx="903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1Z</dcterms:modified>
  <cp:revision>31</cp:revision>
  <dc:subject/>
  <dc:title>PowerPoint Presentation</dc:title>
</cp:coreProperties>
</file>