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2CC5-84F0-4818-873F-6290CE470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3b | Real Hourly Output and Real Hourly Compensation, Private Sector and Ambulatory Health Service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1D67-2BDB-4DDA-8C2D-B6537A1A6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419C-3353-41A6-9AAA-40C07C4E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1BF0-EF36-4D0E-8348-018B63C7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0FE4-F810-40A5-BFF7-19BCAB89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B976-E288-43B5-B595-D2608103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A827-D4E5-4F71-9BCB-8259428E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7B5F-7992-4937-82AD-7190942D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6747-91DC-4965-86AE-5E9598D5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B89F-8252-49CB-9BD0-AC89D314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174-939A-4659-920D-9C51388B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0ABF-D7B4-4366-89A2-DFAF6B30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C928-3896-4495-AE76-EC3D426F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C772-9C80-4C2C-95C1-D23A7945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5517-8A9E-4F25-9295-412E1758B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3b | Relative to the price of hourly output, real hourly compensation in ambulatory health care has fallen since 1992; it rose in private business overal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16680" y="144792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3b | Relative to the price of hourly output, real hourly compensation in ambulatory health care has fallen since 1992; it rose in private business overall </dc:description>
  <dc:language>en-US</dc:language>
  <cp:lastModifiedBy>Jia Yao</cp:lastModifiedBy>
  <dcterms:modified xsi:type="dcterms:W3CDTF">2013-09-06T15:08:45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3b | Relative to the price of hourly output, real hourly compensation in ambulatory health care has fallen since 1992; it rose in private business overall </vt:lpwstr>
  </property>
</Properties>
</file>