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9A885-137E-411A-ADBC-E7E500C33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271CF-04CB-439F-A189-A80E7C8E0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83FDF-1787-4418-ABC4-19A244239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9E5A1-7AF3-407E-A051-5DD5B83EB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525C2-6642-47BC-AFCC-AB82EBF12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58FC5-7CD3-439A-946D-CBEC2C5C7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E64EB-A6A8-42ED-8E77-82EB4BE40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DA2F0-C7B7-4DCA-BB13-07787FF47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FF152-EBC8-4D76-BBA8-4F41C80EB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A73B7-5484-4B5B-AB5F-EE49079AA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ECF74-2F84-4EB4-8CC5-D13A5A532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4D5ED-476A-4011-A80B-17CE66E03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8FC58-D550-4BAD-A439-6A4FC8FC15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419040"/>
            <a:ext cx="9085320" cy="59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20:30Z</dcterms:modified>
  <cp:revision>37</cp:revision>
  <dc:subject/>
  <dc:title>PowerPoint Presentation</dc:title>
</cp:coreProperties>
</file>