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F390-8CDE-4524-9715-23CD1CE784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4A | INFORMATION CAPITAL STOCK, HEALTH SECTOR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5173-0E39-4EB9-B56F-5CDB56FBA8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603B-9828-4522-9C9E-867CF8364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2E3C-1FB8-4F8C-9187-8D7DE904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8435-FF2A-4611-997D-AAF25F53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72A1-D9C8-4600-B65A-FEF92B16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404A-CA21-49D5-AD86-FDD8FD25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B788-6289-4C7E-8130-6BFF0E3D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7FCD-2623-4591-AECE-18919348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BBDE-2999-403B-9AA3-73628F75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A66F-516E-407A-898C-CA705899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FF79-484D-4ABC-BAB3-40CFB376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80CD-8219-481F-A4F8-DC414CAD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25E4-7CC9-4893-A2BB-89CC7576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D6A7-553F-4048-8CD5-554CB9000A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4a | Information capital stock in the health services sector has quadrupled during the past  two decad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01520" y="1244520"/>
            <a:ext cx="86360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556272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health services includes ambulatory health care services, hospitals and nursing and residential care facilities. It does not include pharmaceuticals or medical devices. However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ther office equipmen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ludes medical and nonmedical instruments used in the health services subsect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4a | Information capital stock in the health services sector has quadrupled during the past  two decades </dc:description>
  <dc:language>en-US</dc:language>
  <cp:lastModifiedBy>Jia Yao</cp:lastModifiedBy>
  <dcterms:modified xsi:type="dcterms:W3CDTF">2013-09-06T15:00:40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4a | Information capital stock in the health services sector has quadrupled during the past  two decades </vt:lpwstr>
  </property>
</Properties>
</file>