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842E-88A0-4B5C-81EB-666AF1798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BD01-CEAC-4418-B5B3-C82A4888CE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b | Out-of-Pocket Share of National Health Expenditures in G7 Member Countries, Selected Years, 196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51F-66E6-4B1F-B7EC-C1C794FC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D51-2334-4128-B7AB-D5B4EA1A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D79-A909-452A-845D-7D51D02F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7B0-8788-448B-A2E2-2BECCC54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AF83-BFFD-459B-A3A2-38978E24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4117-FB78-4589-B47C-9014A26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0C2D-6015-42C1-A95B-183E1BFA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808F-D5B9-4416-A002-E30224E3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26AE-04BF-43AC-91D2-2AD96381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6B50-6C9D-43BB-ADC8-D309072B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FA6F-B969-4417-8838-2BE66349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364-F011-4283-97B2-BD422A6B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ABC8-3BFB-49C0-BFB6-AB1D9B02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2CAA-5B6A-4078-BDE5-2407895E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1B9C-1434-4468-854C-6F239BA0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4769-46A0-47D7-A4F2-1957D786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60FE-19A8-481E-9B87-F4B162F0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885-B653-4529-BE89-DD3C7087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CCB-50A9-4556-8134-1BCB699A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DB0-A7BD-4619-B2AF-D3D0DC16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D58-F8B3-4455-B68E-816ED982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584-A513-4646-A898-8DE9E9BB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3D5-65E4-4685-8C46-9927575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438-62C0-4688-8868-F7267997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C374-CA09-4C7D-8871-084CA7E4F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786F-7A92-481C-B7DC-492CAAAC6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b | The U.S. in the past relied far more on out-of-pocket spending compared to its competitors, but that is much less true tod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b | The U.S. in the past relied far more on out-of-pocket spending compared to its competitors, but that is much less true today</dc:description>
  <dc:language>en-US</dc:language>
  <cp:lastModifiedBy>Jia Yao</cp:lastModifiedBy>
  <cp:lastPrinted>2002-05-16T21:44:34Z</cp:lastPrinted>
  <dcterms:modified xsi:type="dcterms:W3CDTF">2013-09-04T21:04:01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b | The U.S. in the past relied far more on out-of-pocket spending compared to its competitors, but that is much less true today</vt:lpwstr>
  </property>
</Properties>
</file>