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B27C-462D-449D-B27B-B3FE5EF6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2A36-C04F-4EBD-9371-A1BB4033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C999-70A6-425E-8109-DC538938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96AB-E44D-45A6-8F8D-13CC439A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0188-40CE-4270-8F57-52BEE9E7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0117-71F0-41DA-AD87-E8FCD387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A97E-8DEC-4D3C-AAE7-FEE80C94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32D2-2F2E-412C-80EA-7B67F57F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8D35-8EBF-4E8F-B77F-DAA43497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A329-40B1-4986-9047-C8A5CEB7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550A-5ADF-443B-83B8-8A2DAE42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D3FD-430F-407C-89C0-07293339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2FF0-62F3-41BA-82D8-F48B916D70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600" y="304920"/>
            <a:ext cx="9131400" cy="62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1Z</dcterms:modified>
  <cp:revision>37</cp:revision>
  <dc:subject/>
  <dc:title>PowerPoint Presentation</dc:title>
</cp:coreProperties>
</file>