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BD7A-D7FF-4BE5-94B5-E5B27D8AB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A | PERCENTAGE DISTRIBUTION OF NATIONAL INCOME RELATED TO HEALTH SERVIC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1C38-E4E9-4AFE-8D72-05A4A4294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AE5D-A554-4899-B799-254A7397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5CC-2866-48B9-A274-B95E5416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525B-104A-4CED-A1E7-3E7BA1AD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0CB-350A-4B26-AAF5-A34571D6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5D0-BE8D-4664-9FC4-8AB5F29B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8C1-1CB6-4319-B044-B1FDB69E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645-B054-4C45-B6F8-78293543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D04-A085-4010-BFB4-27B26F3C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7A0-14EE-4118-B413-7A9A3EC1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DDD-2BE4-414B-A008-77436F87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464-D2CA-47FB-A497-01956237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9E76-E128-4B42-AD7F-576ACCCA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911B-2293-4A85-9892-346FDE477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2a | In health services, the share of income for wages and salaries as well as fringe benefits are higher than in the service sector or general economy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084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71500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1) ambulatory health care services, and 2) hospitals and nursing and residential care facilities. It does not include pharmaceuticals, medical devices, non-durable medical products or the health insurance indust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a | In health services, the share of income for wages and salaries as well as fringe benefits are higher than in the service sector or general economy  </dc:description>
  <dc:language>en-US</dc:language>
  <cp:lastModifiedBy>Jia Yao</cp:lastModifiedBy>
  <dcterms:modified xsi:type="dcterms:W3CDTF">2013-09-06T14:16:5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a | In health services, the share of income for wages and salaries as well as fringe benefits are higher than in the service sector or general economy  </vt:lpwstr>
  </property>
</Properties>
</file>