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869-7770-4149-A7F1-3AA9D4E3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B6C-B180-46A4-9031-B6133C38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FF5-5301-4E98-8AB6-D9D3984A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82B-9817-4A17-90FA-D919AD46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BDD-12A8-4A2D-9489-29E7FEA4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F1C-A7D4-4A56-AA43-1A7A8EFC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AE8-E57E-47BE-9116-CBE25683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B08-9B12-475F-AD90-D4BC9C47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946-D997-4503-A7CA-9DFA7F71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890-AEF6-4D3C-9B1D-CE86EA01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C58-E92D-4EF3-9EA3-2AC75789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E4F-19A5-4BF2-9DE1-2D7A1061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C14F-4FD0-4792-8F06-BCB84DC93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4Z</dcterms:modified>
  <cp:revision>35</cp:revision>
  <dc:subject/>
  <dc:title>PowerPoint Presentation</dc:title>
</cp:coreProperties>
</file>