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C00-C243-4239-9F21-79C90BA3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407-E3E4-4D3A-ADB9-E2A60D7E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820-3A2E-4271-B766-BE07D0B8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1A4-1175-4E76-AA60-68589915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FD0-E6FB-48B4-9B40-7758806B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3F9-3C68-43AC-B5AE-9A572FD6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F77-E70F-4E42-B8FE-1F9CF3FD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0DC-BB33-4B42-916A-38D1543D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29F-7A1A-4E85-A56E-FFC347A5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237-3E89-4ABA-B530-6F2D8B5E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0C0-CF8B-46E1-8D2E-69D6306E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BF0-C992-4AF6-A318-DFB0280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3013-A5FD-4F0E-A7FB-898D1F3E4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380880"/>
            <a:ext cx="9051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5Z</dcterms:modified>
  <cp:revision>31</cp:revision>
  <dc:subject/>
  <dc:title>PowerPoint Presentation</dc:title>
</cp:coreProperties>
</file>