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B1C-C1AF-4DEB-AB61-8ECB27BB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A19-6D84-4700-8101-2A34D9AE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832-4DD8-4062-8581-CD044082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F40-D375-4A32-B994-30AFBD26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5B4-D4AD-4501-9735-48B037B6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6F4-9C55-405A-870D-7101DD2E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6AA-9E5D-4371-A213-7CBD73B1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CEA-F055-4977-B8C5-D4E11EA5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3B9-C8A5-4DF4-BF0B-E5B8EBA5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41B-A956-4213-A143-1B728BC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BAE-F336-4378-A638-A989374A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398-F3C3-41D9-9A82-802629ED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E278-2E00-45FA-89A6-16FF64A97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3Z</dcterms:modified>
  <cp:revision>6</cp:revision>
  <dc:subject/>
  <dc:title>PowerPoint Presentation</dc:title>
</cp:coreProperties>
</file>