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169C-9A3B-44E0-B585-15204C97B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4 | UNION MEMBERSHIP AS A PERCENTAGE OF EMPLOYMENT IN SELECTED OCCUPATIONS AND INDUSTRIES, 1992, 2000 AND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CFBD-0569-41C4-8AEA-41A36C09B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AD3-D3F5-4A17-A0E1-BE7FC19E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AA5-57EB-4457-A13D-E8F9C4F0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F1D-D382-47A2-B540-587BEFA7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553-A441-48A3-8118-724C912A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247-82B0-4C06-B863-51A95E73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91C-49B1-4E63-B544-B4CF7BB9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B38-4C4C-4A09-B5BC-6C5A0B96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987-07EE-4DF8-B0BD-B357449E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BED-4FFC-4259-95B1-3595220D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7478-52D3-42A6-89CD-1BBC53D0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FCB-53F9-4F93-9A18-87CDD990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ADC-F83D-4788-908A-C0BB4E78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5C04-B891-4CA8-AF65-1E7B6DF30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4.4 | Health industry unionization rates appear comparable to those elsewhere, but among some health occupations, unionization is much gre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in industry/occupation who are union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5 | Health industry unionization rates appear comparable to those elsewhere, but among some health occupations, unionization is much greater</dc:description>
  <dc:language>en-US</dc:language>
  <cp:lastModifiedBy>Jia Yao</cp:lastModifiedBy>
  <dcterms:modified xsi:type="dcterms:W3CDTF">2013-09-09T22:42:23Z</dcterms:modified>
  <cp:revision>2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5 | Health industry unionization rates appear comparable to those elsewhere, but among some health occupations, unionization is much greater</vt:lpwstr>
  </property>
</Properties>
</file>