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B82F-40D7-417F-A641-C51B6F9FEC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2B | PER CAPITA PHARMACEUTICAL R&amp;D EXPENDITURES AMONG TOP 10 OECD NATIONS FUNDING PHARMACEUTICAL R&amp;D, BY COUNTRY, 1980, 1990, 2000 AND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9B88-ED49-4EF4-940F-ADD6B057C8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48B1-853C-430F-8AF7-B18F136A3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DC52-2671-4D0F-97BE-67CDF64C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292A-90C7-4F2A-9F84-C0C4731A0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1089-EC0D-423C-907A-9D9CCE62C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7F0A-3CFF-4F81-B96B-F617F280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CBE2-8876-4CCA-B859-64BB05AA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F535-B18D-46E8-B4C1-A0FF83A6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4FC9-D820-4B2D-ABDA-EBC8DE29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0100-4DAA-4F89-8692-02A70495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E97C-1F71-4320-B938-2B056ED6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0D52-F323-4AA6-9B7B-0A9DC51D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75F7-65E5-4790-839E-85C5CC3B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EC8F-0956-448C-B9E6-13EB06768B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8.2b | On a per capita basis, U.S. spending on pharmaceutical R &amp; D is exceeded only by Denma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15600" y="1523880"/>
            <a:ext cx="55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 capita pharmaceutical R&amp;D expenditures (U.S. dollars, PP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2b | On a per capita basis, U.S. spending on pharmaceutical R &amp; D is exceeded only by Denmark</dc:description>
  <dc:language>en-US</dc:language>
  <cp:lastModifiedBy>Jia Yao</cp:lastModifiedBy>
  <dcterms:modified xsi:type="dcterms:W3CDTF">2013-09-06T15:33:57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2b | On a per capita basis, U.S. spending on pharmaceutical R &amp; D is exceeded only by Denmark</vt:lpwstr>
  </property>
</Properties>
</file>