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58E-222C-4F24-8646-34AD2323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FF7-C9AC-4C0F-949C-9E22721A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67D-1080-4699-A670-958C0480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204F-D8AE-4874-AFB0-AC52FA3A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6A1D-EA43-4DF3-9BB7-DA48FC57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0C4-B781-49F7-AC60-28BD50FA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CF11-731C-46F8-896B-EA9BFF58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EB4-A83D-46DC-8F3E-EC486AAE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0A3-64DD-472F-BEA5-978176CB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3EB7-1E4E-456B-A009-1D5E980E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490-632A-4902-B930-B1C64C22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F0F-4BFE-4F72-B279-B8AD414B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BE6E-2653-4189-AA4F-381AAF048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1Z</dcterms:modified>
  <cp:revision>14</cp:revision>
  <dc:subject/>
  <dc:title>PowerPoint Presentation</dc:title>
</cp:coreProperties>
</file>