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CF16-6FE7-4FA4-A56D-4C3B2CFE7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3A | U.S. SHARE OF PHARMACEUTICAL EXPORTS AND IMPORTS AMONG OECD NATIONS, 1980-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57C0-6855-42B6-BFE2-6D2B8BC762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3976-88C6-41EA-AD68-4B19A1BE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E11C-A009-4AF7-AE6D-D3542D5E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987F-BCBB-4056-8F56-BC508A5F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930-CF59-4B8E-A775-E0463F0C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3BF8-A96A-4672-9DDD-1EA66D71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9974-59D2-4828-86E7-CA691653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34B1-A294-47F8-A3D7-52CCBD4F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1F82-8378-4CDD-A1D7-745C0171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AB19-96E5-4AB2-AC2B-89AD47D0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5D60-7DE7-4C3C-BFC0-62999868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3125-D9BB-4B83-AEC9-A19F717D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1E29-F97E-4B92-A2E3-B3043ECF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981C-7658-4EA7-BB1D-2E04EDAC5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8.3a | Since 1980, the U.S. share of pharmaceutical exports within the OECD has been declining while its share of imports has increased since 198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521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30080" y="1447920"/>
            <a:ext cx="66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.S. share of aggregate value of pharmaceuticals traded, in U.S. dollars, PP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3a | Since 1980, the U.S. share of pharmaceutical exports within the OECD has been declining while its share of imports has increased since 1980</dc:description>
  <dc:language>en-US</dc:language>
  <cp:lastModifiedBy>Jia Yao</cp:lastModifiedBy>
  <dcterms:modified xsi:type="dcterms:W3CDTF">2013-09-06T15:33:59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3a | Since 1980, the U.S. share of pharmaceutical exports within the OECD has been declining while its share of imports has increased since 1980</vt:lpwstr>
  </property>
</Properties>
</file>