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B474-EFAB-4A20-9D93-672736A3C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49B-F055-4B38-B752-329B083811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b | AVERAGE EXPENDITURES FOR TREATMENT OF ACUTE CONDITIONS, BY CHRONIC CONDITION STATUS AND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9EB-F9A4-4946-8865-CBECF0EA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796-51DE-4FEF-8B79-00E5BE30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040-1842-40A6-B3AB-3AC3A715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901-CF93-44F3-9C11-FAF1E61D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9663-331B-4202-BA12-616B4B2F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016C-2FBD-4E60-8435-CD0C4AFA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6656-7C12-4BAC-8555-26FD749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B239-35E3-4A32-A3C4-8BA92518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45E3-3027-4E3C-BC73-F32F41D6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6ACF-2E31-498A-BBCD-AD19E244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EEF9-A7B5-411C-94AD-1032011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E7B-2492-43C3-9A9D-7FB87916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F3CB-3076-4599-BBC5-19FAEEF7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70E6-AE70-4887-9D06-2BAB41D5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3267-7F52-49C0-9778-763898A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DA57-A180-41BE-8FDC-E59AD324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9DCE-1BAD-497E-A2F6-74BB5EEA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00D-BFAA-4FA3-9210-6A552DB4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EDD-43CD-4C9F-AD8F-8EE47B9D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AAA-6630-48C6-B029-DCC40238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CDA-23A3-4F22-AF7C-3D26F8A2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CDC-F294-47C7-869C-F0085E8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E52-F51A-48CC-8A2C-4D99B2CF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4C3-6163-4DFA-97A0-B7642FB2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8E27-B390-46A8-98A8-515BCD53C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8A1C-CDB5-4555-950D-C3C4A3526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b | Compared to those without chronic illness, annual health costs are 2 to 3 times as high for adults with one or more chronic condi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04920" y="5810400"/>
            <a:ext cx="293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: Machlin S, JW Cohen and K Beauregard. Health Care Expenses for Adults with Chronic Condition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5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tatistical Brief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203. May 2008. Agency for Healthcare Research and Quality. Rockville M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eps.ahrq.gov/mepsweb/data_files/publications/st203.pdf (accessed November 14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b | Compared to those without chronic illness, annual health costs are 2 to 3 times as high for adults with one or more chronic conditions</dc:description>
  <dc:language>en-US</dc:language>
  <cp:lastModifiedBy>Jia Yao</cp:lastModifiedBy>
  <cp:lastPrinted>2002-05-16T21:44:34Z</cp:lastPrinted>
  <dcterms:modified xsi:type="dcterms:W3CDTF">2013-09-04T18:13:27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b | Compared to those without chronic illness, annual health costs are 2 to 3 times as high for adults with one or more chronic conditions</vt:lpwstr>
  </property>
</Properties>
</file>