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124-D301-485E-8B06-47D9906A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458-7B2F-4683-8331-1B79AB7D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967-4CC7-40C2-B8AF-BFFCA86B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C39-55EA-4901-95C5-E24584E8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C93-3FAE-4413-A41A-116DCFEE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7C6-DC2E-4CDE-871B-031AEF7B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BDB-61CE-4929-AB49-5C3D6AD4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7B6-153A-4772-86A9-105752EC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EC7-58AD-4CF5-BD36-2976C848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B17-AA00-45C5-8F45-B05C866E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CD8-0B8D-4CE8-BAF7-8B787BE2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2BC-B682-40CF-958F-EEC1F878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175C-8CCC-4154-B1CB-FDE7914A7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8718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9Z</dcterms:modified>
  <cp:revision>14</cp:revision>
  <dc:subject/>
  <dc:title>PowerPoint Presentation</dc:title>
</cp:coreProperties>
</file>