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22E3-9490-4847-9BBA-DFC1C947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B655-928B-4BE8-81D3-C4A388CA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6919-FE15-46F0-B821-7457F014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A13E-0F3B-4F8F-B0CD-DD62FFB5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3714-E2CA-41EF-A52D-6B43E18B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7AF1-75B7-4358-99AA-CCDEAE77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0B34-4603-405B-BDF5-92ABCB21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9869-9BAF-4B71-ADE1-C54887A1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EFCF-0BEB-488A-BF41-EEF0BEF6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0D41-6569-4768-8CDE-60033046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9A15-7A7B-4A42-B08C-EBF00BD9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94B7-7A0C-40C8-9C38-DA73497D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3C18-B5A0-4A0A-B91C-DD228C5CD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5560" y="609480"/>
            <a:ext cx="911844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0:05Z</dcterms:modified>
  <cp:revision>10</cp:revision>
  <dc:subject/>
  <dc:title>PowerPoint Presentation</dc:title>
</cp:coreProperties>
</file>