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5CFA-8048-474C-B443-A955E1161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B | COMPONENTS OF PERSONAL CONSUMPTION EXPENDITURES, 1929, 1969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0693-E2B4-4845-A2FE-A521D95E9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FD4-D264-4F3F-9D59-F5451B08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878-47C1-44CB-A0E4-D1F2E8DE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B61-A485-45B7-9C5A-C6BD7555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DB7-DE22-41A5-A793-E9DADD38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EE4-3713-43DF-81F4-5574F3B5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547-5E62-4E42-A730-E2536F0D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52B-3CAB-4A77-BF50-1F07587F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350-47DD-465F-91E7-95477C2D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BB9-365C-4747-AB6A-77468483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5FE-FD58-4D71-A6A3-76D5BF0B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62B-61B9-4249-8631-C7B85A04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131-B835-4E94-B750-54EA8473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4B26-9464-4ABE-A171-E55F36760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b | The health share of consumption spending has grown as the portion for food, clothing and shelter has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7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43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62120" y="61722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personal consumption expenditures (listed [left to right] by amount in 20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b | The health share of consumption spending has grown as the portion for food, clothing and shelter has declined</dc:description>
  <dc:language>en-US</dc:language>
  <cp:lastModifiedBy>Jia Yao</cp:lastModifiedBy>
  <dcterms:modified xsi:type="dcterms:W3CDTF">2013-09-06T14:06:1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b | The health share of consumption spending has grown as the portion for food, clothing and shelter has declined</vt:lpwstr>
  </property>
</Properties>
</file>