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27D4-639A-473B-9131-D08188725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7A | INCREASE IN MANDATORY FEDERAL HEALTH SPENDING AS A PERCENTAGE OF GDP, 2010-20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A66D-C63F-44F4-B52A-6FA1C3494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294D-8CF3-4C3E-B0C1-DF7035EC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55F5-0683-472E-A8F1-5FD625FA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996A-BE3D-4FB4-ACA7-310E4DD0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F287-F48D-47CC-B7B2-CD2E0D11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9973-1238-448C-BB7E-2A0A9E29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69DB-6239-4969-8EBF-0707CD70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2014-2056-4D26-95D4-D137A1F8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8B8F-8F67-4CE6-9C6A-ACDE0187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3BB6-6FA6-4AFE-A814-5ECE3F0C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DEE9-5C1E-4740-B342-E449A1CF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DBFC-7EB2-4ADE-BD09-9DCABA97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5A96-AA65-45A9-B1BF-8BCEA5D4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0C6A-CB13-4727-B952-869278403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20.7a | The projected 75-year increase in mandatory federal health spending exceeds revenues from the three largest sources of federal tax reven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244520"/>
            <a:ext cx="825480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457200" y="14479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7a | The projected 75-year increase in mandatory federal health spending exceeds revenues from the three largest sources of federal tax revenue</dc:description>
  <dc:language>en-US</dc:language>
  <cp:lastModifiedBy>Jia Yao</cp:lastModifiedBy>
  <dcterms:modified xsi:type="dcterms:W3CDTF">2013-09-23T19:14:3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7a | The projected 75-year increase in mandatory federal health spending exceeds revenues from the three largest sources of federal tax revenue</vt:lpwstr>
  </property>
</Properties>
</file>