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82F6-F78D-439B-BB05-84D5F1086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5564-991B-4C2E-A574-88F8E77D70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9a | General Government Expenditures as a Percentage of GDP, 1993 and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C43C-B5FF-4934-A7A7-11F59728B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5E7F-3519-4C7B-9DF4-4D2F5D96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9A15-F00F-4529-8D20-0D1643CA1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4C3A-815C-4C8C-A93C-2978ACE0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D5FF-D999-41F2-AA06-22424B3A2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A430-B59F-4FF8-8514-764B7C90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55FF-CF16-4B87-8F8F-48D5CA2F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2B0B-E098-422C-93C5-BE54EDE2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8C64-A487-4E2F-9082-6CA09118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7460-6B57-404D-8812-95525436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BB9F-E3EF-4637-A18A-99CA64F4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7336-926C-4F09-93A8-DEA2C6DD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0BEE-D12E-44EE-91DA-A17F72F9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9470-5D1A-4BFE-963D-35139DB5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C707-E021-464A-B7F8-B49BE9A2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3205-B2E9-4B42-9816-2B7AF3D71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2371-9755-4928-8567-48AA31AE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5D48-79A0-4093-B101-83546A38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FEFA-5C7E-4C83-AA15-DE85F9A9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CFAB-E86C-4263-AC07-1D332965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7FBD-28A7-4CC4-B04D-BFA60D50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423E-8151-4185-BEF1-9448B73F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E9EB-F7B0-4C02-835C-510C22FC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9D3B-2481-45BB-B684-6BB9EA37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3F43-4592-4AE7-90EF-04E926111C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E798-548A-4C60-914F-E8EF07602F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9a | U.S. has a lower burden of government relative to its major G7 competito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380880" y="1924200"/>
            <a:ext cx="8377200" cy="493380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2209680" y="57913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eneral government spending (all levels) as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674280" y="623736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9a | U.S. has a lower burden of government relative to its major G7 competitors </dc:description>
  <dc:language>en-US</dc:language>
  <cp:lastModifiedBy>Jia Yao</cp:lastModifiedBy>
  <dcterms:modified xsi:type="dcterms:W3CDTF">2013-09-23T19:14:42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9a | U.S. has a lower burden of government relative to its major G7 competitors </vt:lpwstr>
  </property>
</Properties>
</file>