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C82D-79D9-4AFD-9EF6-A261D8BDA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05A2-FEB3-43F0-86C8-728F453D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B994-D43B-4E9B-AD65-80D6A87DF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F760-0B10-4CA4-A3CB-A2ADDA53A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E758-87C1-448A-B5BE-72DA13EB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3EC0-36B9-4007-8CBF-A693F88D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FF2D-EB7A-42B9-8D40-7FC106F3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311A-E0A7-4CA7-8835-5EC87567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D386-F70A-4F8D-9702-D222D87E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7544-4B15-4511-882B-5EEB4845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BF7E-447C-4E1D-B4B2-1411670F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6ECA-DAD8-4317-A04E-2AC52BE3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1FD2-2FA0-4986-9139-AE9F79C2F1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6600" y="152280"/>
            <a:ext cx="9077400" cy="64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2Z</dcterms:modified>
  <cp:revision>31</cp:revision>
  <dc:subject/>
  <dc:title>PowerPoint Presentation</dc:title>
</cp:coreProperties>
</file>