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97BC-6199-4CD9-8EA8-35DFAACB6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5C10-BA95-4897-A458-FCAC969656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2a | AVERAGE TAX SUBSIDY AND TAX SUBSIDY AS A PERCENT OF PREMIUMS, BY INCOME CLASS: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38E2-62E4-4D7B-A499-4B26B67A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BFB-ACAA-4DA1-8C64-98C1F91F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746-7F83-4FF3-97E4-2DC3C79E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088A-5A9C-46DC-B24C-503BB256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8286-7926-45D8-9F22-7A31600F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CBA1-3FED-42BD-BE15-E1B0B350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BE48-1B8E-4B61-B0E0-E87013DD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A856-C218-4A8B-8116-AA444B4B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BC74-02DC-4B8F-99C3-751915A4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1842-A783-4A51-8F0A-04C96284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E72C-A480-4A8E-BFEB-75B66CCC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87D-B164-49F5-9687-CAF3F2C5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48E2-8AAF-49EE-9121-AFB1985A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4CB5-445F-4184-9395-1E249F93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C93A-90AA-4DC5-A490-322D7801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1FA0-927D-4227-B960-24EB426E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144E-8C0C-4C48-9F89-04AE73A5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1C5F-241D-4DF1-B747-91CED37E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05D-682F-4A39-AAAE-E9A94521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EB2-D9A3-4564-BC9C-2A2E937A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87D1-93D3-4D96-8A24-9C55CAE4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0EED-2DA8-43D4-94F9-8141598A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ECC2-8882-411A-B26A-1ECF0607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D1A-5D5B-4779-9A5B-EA3EE1E0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E61D-E84C-432D-B66E-19AEFFDD7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EE3F-413B-4BB3-A8A3-F21F262F1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2a | Higher income families get a substantially higher subsidy from the employer tax exclusion compared to low income famil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06440" y="787320"/>
            <a:ext cx="836928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14840" y="5867280"/>
            <a:ext cx="9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Burman L, S Khitatrakun and S Goodel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x Subsidies for Private Health Insuran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o Benefits and at What Cost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bert Wood Johnson Foundation. 2009 Upd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ceton. July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2a | Higher income families get a substantially higher subsidy from the employer tax exclusion compared to low income families</dc:description>
  <dc:language>en-US</dc:language>
  <cp:lastModifiedBy>Jia Yao</cp:lastModifiedBy>
  <cp:lastPrinted>2002-05-16T21:44:34Z</cp:lastPrinted>
  <dcterms:modified xsi:type="dcterms:W3CDTF">2013-09-06T13:50:01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2a | Higher income families get a substantially higher subsidy from the employer tax exclusion compared to low income families</vt:lpwstr>
  </property>
</Properties>
</file>