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D095-77DE-43AF-A1B7-CD149E304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b | Hours-Adjusted Annualized Internal Rate of Return on Educational Investment Over a Working Lifetime, Selected Professions, 1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5CBC-1387-426A-99FC-61491E689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017-8AD8-4DBC-B33F-EAAFFD6A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B156-2601-4373-9D39-EDC49C9F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DB8-1D8E-489B-BCDA-032B7F34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053-A6FC-44B6-B2A3-08BCA5A2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DFC-B880-41CF-8455-10268C37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099-59AE-4026-AECF-3B6D2470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7B7-A1CB-49A6-AAA8-2BBCADBC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B67-00F8-4441-A08F-DBD8E186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DA84-F93A-481A-BA97-E2A82EC4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8F8-F595-4B3D-A4F0-530565D0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B68-B16D-4AA5-8307-AF09BF49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ACB-BDDB-4AD5-A0DA-7DBFEBF2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8A3C-103D-412E-880F-EE943F0F6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5b |  Physician specialists have higher educational rates of return than primary care doctors have, but these rates are lower than those for lawyers or for those who have MBA degr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625760"/>
            <a:ext cx="8636040" cy="505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85800" y="1523880"/>
            <a:ext cx="834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urs-adjusted annualized internal rate of return on educational investment over a working life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865440" y="5880240"/>
            <a:ext cx="72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William B. Weeks and Amy E. Wallace. The More Things Change: Revisiting 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arison of Educational Costs and Incomes of Physicians and Other Professional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cademic Medicin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002;77:312-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b |  Physician specialists have higher educational rates of return than primary care doctors have, but these rates are lower than those for lawyers or for those who have MBA degrees.</dc:description>
  <dc:language>en-US</dc:language>
  <cp:lastModifiedBy>Jia Yao</cp:lastModifiedBy>
  <dcterms:modified xsi:type="dcterms:W3CDTF">2013-09-06T15:09:00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b |  Physician specialists have higher educational rates of return than primary care doctors have, but these rates are lower than those for lawyers or for those who have MBA degrees.</vt:lpwstr>
  </property>
</Properties>
</file>