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DFE-83B0-461D-9919-49173A12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98C-B8AE-4985-8CD3-D47D726B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1B8-5134-4E41-9622-470505E4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F0D-5058-4BA6-AA78-85129D32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328-A92D-4C87-A6E4-F7014862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4E0-C3A5-488F-9175-8BEC7351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38B-CDAA-4C2A-B6BE-4097BE06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0DB-117C-4452-B00D-6459FF5D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E8B-5786-4F07-97F2-185739C3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DB2-1F1B-4F55-910D-5178E9A3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A1D-1436-486B-808F-AF2314D7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B2B-ED39-4581-8A4D-FFC2A3ED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0B7E-A418-4777-AE59-77FDD7729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0Z</dcterms:modified>
  <cp:revision>20</cp:revision>
  <dc:subject/>
  <dc:title>PowerPoint Presentation</dc:title>
</cp:coreProperties>
</file>