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00DC-143C-47E3-B11F-8F88DACCA4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2B | FEDERAL HEALTH EXPENDITURES WITH TRANSFER ADJUSTMENTS AS A PERCENTAGE OF TOTAL FEDERAL, STATE AND LOCAL HEALTH EXPENDITURES, 1929-20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90A1-1D2E-45DB-90F4-4BB2038DE0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F50E-82CB-46C0-A52A-D840C5C5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DAD9-9091-437E-84A8-9DE8D66A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55FE-7493-4E92-81B1-0F82CAA93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1B78-D3A6-480E-B2FD-6A501F89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C181-449F-47D5-8BD2-F87BDBDF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FAF2-E2AC-49A2-88C8-D78544FE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AA8E-D467-4BFE-8408-82F0CE38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BB84-330C-477E-8054-4B77E523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8B20-FDAC-4131-A3BE-43105F17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601F-F94C-46D5-9A0C-787997C8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610E-69D1-4003-A53E-A4E0ED41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9D49-F6B6-46CA-BD23-0AB02769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07E2-0499-466C-8E0C-2DB77D4C7F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2b | Taking into account Federal transfers to states for health, the Federal share of government health spending exceeds 70 perc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9716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84440" y="1676520"/>
            <a:ext cx="459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Federal percentage of total government health expenditu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2b | Taking into account Federal transfers to states for health, the Federal share of government health spending exceeds 70 percent </dc:description>
  <dc:language>en-US</dc:language>
  <cp:lastModifiedBy>Jia Yao</cp:lastModifiedBy>
  <dcterms:modified xsi:type="dcterms:W3CDTF">2013-09-06T13:59:32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2b | Taking into account Federal transfers to states for health, the Federal share of government health spending exceeds 70 percent </vt:lpwstr>
  </property>
</Properties>
</file>