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5E72-13B2-4C5A-B072-6B6F00419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2 | AVERAGE ANNUAL CHANGES IN HEALTH EXPENDITURES DURING ECONOMIC CONTRACTIONS, 196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8CB2-C5EE-488A-83CD-4DDFDDC3D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8E7-161A-4FEA-9248-2ADF033D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5A3-9F71-48C0-A96E-B6B73FC1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EAE-B4DD-4A29-814F-144AB0F1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C9D-C9E1-4EC4-945D-275459F0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0C9-506C-411F-95BB-25C56F8E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A27-D67C-4FD0-8B09-B3A16EB4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ABD-B9D9-4D61-BCBC-E2D7907B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0D4-C5E3-43FA-98A3-AFB80949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8CC-A6D1-4D8C-9897-F5D8A299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B7A-D8E6-428F-B777-992E51ED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7E6-5AE1-4221-B160-08F2DFFA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E06-A0EB-49CF-A7EA-D8D84627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1218-CD88-4107-A34F-FB9F9B55D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2 | Medicaid spending occasionally is more counter-cyclical than other health spending, growing relatively faster in down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2 | Medicaid spending occasionally is more counter-cyclical than other health spending, growing relatively faster in downturns</dc:description>
  <dc:language>en-US</dc:language>
  <cp:lastModifiedBy>Jia Yao</cp:lastModifiedBy>
  <dcterms:modified xsi:type="dcterms:W3CDTF">2013-09-06T15:28:08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2 | Medicaid spending occasionally is more counter-cyclical than other health spending, growing relatively faster in downturns</vt:lpwstr>
  </property>
</Properties>
</file>