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6749-DA12-4935-A30C-295B8B89F6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63E7-6CBB-4795-A560-B540CF36551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1b | EMPLOYER CONTRIBUTIONS FOR HEALTH INSURANCE AS A PERCENT OF ALL EMPLOYER-PAID FRINGE BENEFITS, 1948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C0BF-CBB2-4189-8BDF-38B680E5D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CAA6-08D7-4B2B-8C01-504BF595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C042-C74F-4FBD-BF76-33D39DA7E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4CCC-C39F-42B6-A0C4-B17B94272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1523-D0C9-413A-A9F8-F1AD1F9CA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AC58-AFD1-47E8-A86B-D8A0E9E7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FAE8-AE05-4019-A297-C9792D76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BD21-201C-499B-99D4-B58D6C0A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67FA-1CE6-42DA-BF87-654ED423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5CF2-0987-48FE-B2CD-B82739EA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D43A-4ADD-4A29-95CC-6591457C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40F3-9F0A-4C54-A029-14452611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65A1-F321-49F6-8B79-F4A212AA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9476-145B-41AB-BFDC-4058AEFC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15B3-F764-4DF8-999D-808C6AC0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8CE5-9906-4C40-AB0D-C34B9D731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6675-2EF7-4C22-B171-863F7AE13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B57B-AAF0-4761-B841-89158660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0A34-F6C7-4CB0-AAF6-4B7A0501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C69C-ECF2-4EF3-8DCE-DD7A1668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ECC8-EBA0-4081-9076-D373AB86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998B-8630-4D50-8D94-EEFC40B0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A9DD-B93E-4D59-9272-9AE2B92F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EFBB-154B-4F60-AC20-A9FB1876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10B4-6E47-4754-A042-7D9A319AE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F221-4CD4-48F2-9951-1A7D2281D2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1b | Health-related employer contributions have absorbed a growing share of supplements, now accounting for nearly half the total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1b | Health-related employer contributions have absorbed a growing share of supplements, now accounting for nearly half the total</dc:description>
  <dc:language>en-US</dc:language>
  <cp:lastModifiedBy>Jia Yao</cp:lastModifiedBy>
  <cp:lastPrinted>2002-05-16T21:44:34Z</cp:lastPrinted>
  <dcterms:modified xsi:type="dcterms:W3CDTF">2013-09-06T13:49:59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1b | Health-related employer contributions have absorbed a growing share of supplements, now accounting for nearly half the total</vt:lpwstr>
  </property>
</Properties>
</file>