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4F4B-CB17-4644-9780-A34763001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2A | ALTERNATIVE MEASURES OF PRICE INFLATION FOR HEART ATTACK TREATMENT, 1983-199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0AE4-1525-4C4F-B0D8-A132280FA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042-961C-43DA-9260-F08D21D6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89F-F2DB-4B56-B37E-612556B8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524-B048-44D4-BAED-F66FA2EF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9CB-D104-4568-BD56-42EECDC9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B3C-17D4-406F-9F79-B7F634BA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17A-EAA5-4414-A2D1-F2DBE703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EC4-CD15-4518-A51C-AB9AD40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344-A404-4FE5-90FC-4C0ED5D1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2EF-B671-4050-8F00-262B852D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14D-C962-4334-B7E9-B74DC239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BD1-D69E-40EC-B436-1CA408A5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1C8-2E3C-4090-907F-9D5E95B0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D205-C994-4503-8993-8F809A78B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2a | The price of heart attack treatment rose by anywhere from under 10 percent to more than 35 percent depending on how prices are meas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983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73120" y="57960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M McClellan, JP Newhouse and D Rem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icing Heart At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eatments. Medical Care Output and Productiv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ational Bureau of 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. http://www.nber.org/chapters/c7634.pdf (accessed August 9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a | The price of heart attack treatment rose by anywhere from under 10 percent to more than 35 percent depending on how prices are measured</dc:description>
  <dc:language>en-US</dc:language>
  <cp:lastModifiedBy>Jia Yao</cp:lastModifiedBy>
  <dcterms:modified xsi:type="dcterms:W3CDTF">2013-09-06T15:31:43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a | The price of heart attack treatment rose by anywhere from under 10 percent to more than 35 percent depending on how prices are measured</vt:lpwstr>
  </property>
</Properties>
</file>