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B2F4-6E90-4222-8638-1CFB58354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73A7-5A2F-4767-8950-E5E9661D45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a | Federal and State Expenditures for Health Benefit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CFE-6BE6-47CB-825A-C65EEE26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E9E-E55A-4246-AB41-985844D7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D06-14A1-4696-B461-0D8D6A25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6E9-443C-483F-9FBD-BD3988EB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12A7-3C94-446F-A284-25EA9C11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DEA6-6C11-41BA-A5E8-0DB51AE0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CBD8-49C6-4F58-A416-B6A16650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E3B2-4E8C-4894-A7E3-2543C92A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FC9-2D0C-43F3-B8F8-A2FE19ED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6FEA-901A-4E7B-B69B-4470FD51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FDA2-0ABE-4A89-8B83-AC530FB2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33B-23CE-4FE9-8216-F33CCBDA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0FE6-EF92-4DB6-9109-A3AD385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136D-1372-4160-8D41-00000A7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A2EC-3612-41A9-85DF-52883E9A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65AD-7772-4744-9E12-D13CF7CE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310E-4A91-4CCA-8808-1E3FE976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955-BAB7-45ED-8511-A7500874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FCC-8594-42FD-A9F2-4E0F812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6B2-01C9-45EA-9E3F-D34B507B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5F1-973C-4664-B32C-EA1E3D7C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FB0-DE94-4940-BB24-0419B096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AE6-C1E7-4A35-95DB-1074F934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486-D667-499A-8787-3F1D3A63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31DD-7B29-438A-B93C-684D23327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EF8F-46A3-48FB-AE6E-3E9E11D2B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a | More than 90 percent of tax expenditures used to subsidize health care relate to the tax exclusion for employee health benefi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635040"/>
            <a:ext cx="9198000" cy="657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a | More than 90 percent of tax expenditures used to subsidize health care relate to the tax exclusion for employee health benefits</dc:description>
  <dc:language>en-US</dc:language>
  <cp:lastModifiedBy>Jia Yao</cp:lastModifiedBy>
  <cp:lastPrinted>2002-05-16T21:44:34Z</cp:lastPrinted>
  <dcterms:modified xsi:type="dcterms:W3CDTF">2013-09-04T21:03:5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a | More than 90 percent of tax expenditures used to subsidize health care relate to the tax exclusion for employee health benefits</vt:lpwstr>
  </property>
</Properties>
</file>