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9DBE8-66FF-49AE-837D-3070C75FF2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6.8B |HEALTH CARE SPENDING AS A SHARE OF AVERAGE ANNUAL PERSONAL CONSUMPTION EXPENDITURES, BY HOUSEHOLDER AGE, 1984, 1996, AND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1BFD8-29EF-47D9-BBBE-FDA141BB29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ED15-C5FD-4460-BDDD-C09CCDB31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1A82-5C3E-44A2-A2E8-32913687A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A2E6-9CC1-4D6D-8934-5EB8B444F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33D5-ED25-4B6B-A34A-6B519C869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A809E-2635-4126-9D4D-5CB775ADF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40E6E-C395-43A4-82A1-F6E7040E2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08E15-72B8-4F01-BFE4-337EBD7A9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F09DC-D77F-4C7B-8199-2A7C8C886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A8F68-D822-4900-8135-DE93D998C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0C1C7-94DE-45FE-9E1A-02D0F716E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7B203-6100-4388-B39E-22AAFE2B7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80C1-2C55-46E4-9E74-1DC481C02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6FD71-8C00-4BC2-BF3E-0E2531386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15E07-D7BA-4D3E-95DA-59B1B2E3B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FC780-97AF-462A-A4CC-9E6C0CE03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7FFD8-539E-4B0C-9CB1-27EE59116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FBB8F-9FE4-4E53-B9EB-B7533D7BF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66BB-0CF9-4D12-8DE8-3B24B9589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11C9-599A-47EE-8DAE-99895843F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0731-D2F4-4116-88D8-01B99588D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BC23-2DCD-4E03-B454-8DBC43ABB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265F-D027-4210-80D1-55A138E3B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E570-0414-48CA-AFC1-FF3F14C7A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E87E-FB80-456A-9B4C-E6353A8B4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AFF0C-3B9B-43D0-9CEA-B69508AC3E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E7522-D8EF-4E39-81A1-6466D77660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6.8b | Real household spending on health has increased much more rapidly in elderly households than in non-elderly househol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331120" cy="5207040"/>
          </a:xfrm>
          <a:prstGeom prst="rect">
            <a:avLst/>
          </a:prstGeom>
          <a:ln w="0">
            <a:noFill/>
          </a:ln>
        </p:spPr>
      </p:pic>
      <p:sp>
        <p:nvSpPr>
          <p:cNvPr id="91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1:52:14Z</dcterms:created>
  <dc:creator>Kristy</dc:creator>
  <dc:description>6.8b | Real household spending on health has increased much more rapidly in elderly households than in non-elderly households</dc:description>
  <dc:language>en-US</dc:language>
  <cp:lastModifiedBy>Jia Yao</cp:lastModifiedBy>
  <dcterms:modified xsi:type="dcterms:W3CDTF">2013-09-23T17:01:39Z</dcterms:modified>
  <cp:revision>260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6.8b | Real household spending on health has increased much more rapidly in elderly households than in non-elderly households</vt:lpwstr>
  </property>
</Properties>
</file>