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8A3D-E2EF-4309-A441-F96010B92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2B | HEALTH SECTOR EMPLOYMENT AS A PERCENT OF TOTAL CIVILIAN EMPLOYMENT IN G7 COUNTRIES, 1996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2D1A-0859-4F67-81E7-42CC87BA7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656-0310-453F-B71D-68715504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F60-FA70-4707-8261-D194C679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2BE-BE48-4DD6-9D4E-3E6EEAB9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451-2021-46B2-8C3E-335897BC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740-2AC6-4B6B-9DDD-568E53C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CB7-D2BB-4C2A-87D2-9FCDAA71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93B-9AC6-40A1-8BD7-41F23A13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C96-7863-457A-BAB4-7A9D95B1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EF4-E09A-4FE7-A988-7B5AA46D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22A-F341-43A5-9B4F-CAD21B7D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FD6-34C4-4B00-8E55-9EA7116A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261-2CD7-449D-8995-2F22A4EE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ACAF-F8B6-47D5-A280-A5F6DE316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2b | U.S. growth in health sector employment relative to total employment has been roughly comparable to elsewhere in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(CAGR) in number of health /social work workers minus CAGR in number of all civilian workers, 1995-2008 (percen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2b | U.S. growth in health sector employment relative to total employment has been roughly comparable to elsewhere in the G7</dc:description>
  <dc:language>en-US</dc:language>
  <cp:lastModifiedBy>Jia Yao</cp:lastModifiedBy>
  <dcterms:modified xsi:type="dcterms:W3CDTF">2013-09-06T15:05:19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2b | U.S. growth in health sector employment relative to total employment has been roughly comparable to elsewhere in the G7</vt:lpwstr>
  </property>
</Properties>
</file>