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812-681D-4189-8276-9AB599B6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EB5-155F-413C-8FE8-1617366D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449-6A10-4A4C-BB61-F912A815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9D7-B6C9-4F85-AE1B-B3910435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F34-3CE8-4764-8014-12BC59A0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1FC-4207-4DB9-95BF-F5956759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4DC-19C9-45B6-8F9E-65DEF7B9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C34-E187-48CE-A028-2814C834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CC9-2BD4-4ACC-8755-169EF747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435-5562-41BD-8F16-4013692F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BFA-36F5-4A83-B405-A49275D6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C42-E61E-493A-B02A-8AC541BE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0CC0-DCFE-4911-AAB5-2665C5588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0"/>
            <a:ext cx="892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6Z</dcterms:modified>
  <cp:revision>31</cp:revision>
  <dc:subject/>
  <dc:title>PowerPoint Presentation</dc:title>
</cp:coreProperties>
</file>