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2F94-5762-4C9C-A131-965F378CE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4AA1-0AA3-47DA-9134-8560ECA2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F180-B7E5-4C5A-B418-38F0B4FD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7A03-1042-470A-A5AC-36FD5FEA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3419-F8C0-417E-9699-780E07C9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E47A-5A93-4F17-BEBA-619A4A4B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D2CC-32AE-4800-9702-75C51EEC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860D-9BD4-42D5-8FF0-9F784752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7E67-386E-4859-AC1C-D5E7CCBF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5B35-2AC8-4ABE-A7B8-38E0948A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1626-87DF-4151-ABFB-F86CFCFD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4C64-9E32-4A5C-B590-2A35A0AD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8D31-C414-4F4F-A829-535DB5446C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4Z</dcterms:modified>
  <cp:revision>12</cp:revision>
  <dc:subject/>
  <dc:title>PowerPoint Presentation</dc:title>
</cp:coreProperties>
</file>