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5951-A865-44EA-9811-0ECE57832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B | LIFE AND WORKING-LIFE EXPECTANCIES FOR FE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8A5A-7A83-4982-8895-EFD1F3AC3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40A-E974-4A61-9FC3-67A62F74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B51-4853-4409-8544-F1FA308B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C2B-8D36-4CC4-ABBC-4C364F65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A71-7872-4266-B21E-D990F06B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CDD-2062-4020-BE2B-E58B2EE1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C84-9536-4286-B14D-3561ED44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E1B-C270-499C-ADFF-3A1FB25F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24D-E98D-4ADB-993B-4DE53FA7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30B-83F6-44C4-AC53-B17907BF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E43-EE35-4EAF-9AC6-7F599D38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A2B-8379-4591-AA95-62D87E54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B34-5867-477F-891B-F8430E94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8469-7AD9-4231-A3B8-279670B91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b | Increased life expectancy for females generally has been accompanied by rising working-life expect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fe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6095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working-life expectancies not available for females in 19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b | Increased life expectancy for females generally has been accompanied by rising working-life expectancy </dc:description>
  <dc:language>en-US</dc:language>
  <cp:lastModifiedBy>Jia Yao</cp:lastModifiedBy>
  <dcterms:modified xsi:type="dcterms:W3CDTF">2013-09-06T15:04:20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b | Increased life expectancy for females generally has been accompanied by rising working-life expectancy </vt:lpwstr>
  </property>
</Properties>
</file>