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187-53D0-4F04-82C0-6B9E5ACD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9C9-ED01-4C55-8A7A-BC6D6E1E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ADA-741D-470B-B361-386815A3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230-5654-4104-B3B6-44FE9791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ED3-5135-4602-A1A3-DDB99F63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205-D371-4CE5-90A6-4B4F9019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1ED-AD0E-4D82-BA07-61D1C9A5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CB5-C128-4446-B1B3-73B5583B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6E7-2E78-4274-B0BC-C5539AA0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E2A-454E-4015-B35F-A95C11A3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0DD-A782-44D5-BC37-095F9544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D2F-16EA-4E39-8E67-D7174DDE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3DB3-9CE9-4F42-97AC-0C6A3908C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203480"/>
            <a:ext cx="89582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6Z</dcterms:modified>
  <cp:revision>39</cp:revision>
  <dc:subject/>
  <dc:title>PowerPoint Presentation</dc:title>
</cp:coreProperties>
</file>