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1CC57-C65E-4A59-B0C5-96A6272A13D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8.7C | TRENDS IN PROFITABILITY: RETURN ON EQUITY AMONG FORTUNE 500 PUBLICLY TRADED FIRMS FOR </a:t>
            </a: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PHARMACEUTICALS AND MEDICAL PRODUCTS &amp; EQUIPMENT </a:t>
            </a: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INDUSTRIES, 2005-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B253D-41D0-4464-B72C-EF2028BE7E8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767FA-EE42-42B9-91DD-DA6173D0F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C0163-9C79-4FE0-92AA-F1C455FE0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53FD2-C548-4911-A42A-F10CEBF3B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ED246-B763-4E72-BD53-189B15699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0C591-E17E-4794-9AD7-DD9C17D23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70FCF-3111-4174-946F-496E70D2E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BC4AC-6805-44EC-AA57-F190CF971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7B8CF-D5D3-46A3-BE10-F805CF6C6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A9315-19B2-48F2-A0BE-B5FCCF939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B8779-7053-4611-99BA-BB9461A9D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0F84D-E2E7-44D6-BAC8-55F8982CC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A2CB6-51BC-45E2-A258-4532E4BAA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7B229-DA96-44EB-83A7-3620E7C661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53416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8.7c | Both pharmaceuticals and medical products have somewhat lower industry rankings on return on equity than other measures of profi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092240"/>
            <a:ext cx="8788320" cy="55879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6"/>
          <p:cNvSpPr/>
          <p:nvPr/>
        </p:nvSpPr>
        <p:spPr>
          <a:xfrm>
            <a:off x="578880" y="1143000"/>
            <a:ext cx="662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ofits as a Percent of Equity (ROE), Fortune 500 Publicly Traded Compani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1"/>
          <p:cNvSpPr/>
          <p:nvPr/>
        </p:nvSpPr>
        <p:spPr>
          <a:xfrm>
            <a:off x="541440" y="5345280"/>
            <a:ext cx="83437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ote: data labels indicate industry’s ranking on ROE for year shown (rankings not available for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2009-11). While the number varies slightly by year and profitability measure, roughly 50 industries ar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cluded in each ranking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5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8"/>
          <p:cNvSpPr/>
          <p:nvPr/>
        </p:nvSpPr>
        <p:spPr>
          <a:xfrm>
            <a:off x="533520" y="6342120"/>
            <a:ext cx="8343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: Fortune. </a:t>
            </a: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Fortune 500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. Available at: http://money.cnn.com/magazines/fortune/fortune500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9T21:34:12Z</dcterms:created>
  <dc:creator>Trinity Technical Services</dc:creator>
  <dc:description>8.7c | Both pharmaceuticals and medical products have somewhat lower industry rankings on return on equity than other measures of profit</dc:description>
  <dc:language>en-US</dc:language>
  <cp:lastModifiedBy>Jia Yao</cp:lastModifiedBy>
  <dcterms:modified xsi:type="dcterms:W3CDTF">2013-09-06T14:17:17Z</dcterms:modified>
  <cp:revision>930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8.7c | Both pharmaceuticals and medical products have somewhat lower industry rankings on return on equity than other measures of profit</vt:lpwstr>
  </property>
</Properties>
</file>