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D01-452B-4374-BAC5-34CA38D3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F24-98F7-41D6-A4D0-E78E6854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261-BC02-46D5-A434-546674D2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C7E-6C3C-4600-8856-3FCB73FE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5F0-710F-49CC-A775-61A90E1F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D54-D922-47F8-835D-F6DC954A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D3B-3B74-4B8C-BE0C-0470A4FB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F0B-2F3F-4B14-8275-975E73FF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6F0-02EC-4807-AE3F-9F0001BC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38F-0162-46B8-9FFD-A54B9427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254D-A52A-4739-B370-A0E5DDE7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D8E-A254-4C55-8248-34617BD5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2E1F-0F6E-48E0-B633-6207F9D26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7Z</dcterms:modified>
  <cp:revision>31</cp:revision>
  <dc:subject/>
  <dc:title>PowerPoint Presentation</dc:title>
</cp:coreProperties>
</file>