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B43-32EC-44A4-9EFD-3A5BA56A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AAA-7D54-4BA5-BC8B-B24527C7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D98-ED6F-4190-99EA-75A914E7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470-7B86-4673-97D0-5915B1A7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D80-F879-4A09-AA68-B9D7B411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395-0498-4B47-B62B-0D102B66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3CD-0DAE-4996-A23F-C123F37E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6E3-843A-4733-9052-82020F3A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34A-38D6-44C4-892D-BDF54F65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8AB-DC52-4311-BB41-6A6C327C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2A0-6490-4A82-81E1-B42694C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9D5-B6B2-444C-93F6-0C4E1FDF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A066-45BD-4999-A5F2-E657138E8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57320"/>
            <a:ext cx="9124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3Z</dcterms:modified>
  <cp:revision>31</cp:revision>
  <dc:subject/>
  <dc:title>PowerPoint Presentation</dc:title>
</cp:coreProperties>
</file>