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D028-2415-4ECA-B466-CAC085B38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4D2A-8C56-413E-B117-8D50CC7D1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01D8-A6C7-4EB6-B76E-A8DDFD3ED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14F3-427E-4BA1-9CD7-595976377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828A-ACC1-4DC4-A012-79D871462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50D1-382F-4304-8F09-663BB6D64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A01C-76B9-4A55-923A-2D9086842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D2ED-47E1-40E6-BE9A-F7874751F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8B66-1A49-4526-9513-927541FE2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E5A9-B87C-4EB0-9211-7A158219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36FD-BEAA-47AC-8BC9-9CF0E640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70CF-7D3F-4BC4-A533-5A734268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F43FA-19A8-4141-83D7-149064DEF6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76320"/>
            <a:ext cx="9123480" cy="67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22Z</dcterms:modified>
  <cp:revision>8</cp:revision>
  <dc:subject/>
  <dc:title>PowerPoint Presentation</dc:title>
</cp:coreProperties>
</file>