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B8F54-EEF0-4BB8-8ED2-E97C9180F8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0.6A | LIFE AND WORKING-LIFE EXPECTANCIES FOR MALES AGED TWENTY YEARS, 1900-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84BE0-96CA-41BD-9C9C-2DB280E30D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D6AA-5FA6-4221-8301-1B098F95C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E83C-BDC6-4CA7-BED0-2CC13F429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E3B5-1732-46B0-A19D-8B48E2D07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DB4B-E474-4730-AC9C-4FDA07D6B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22D0-BEB6-489D-B25E-19DE287F0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2A24-752A-474C-A52F-604066DA8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5095-9F50-47D2-970D-C482D0217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DF1E-3673-4E6F-8D57-289410E75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830B-080E-40E1-9BE7-D0E5EA9DC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877F-C206-4F75-884B-51890ECC3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99E8-C14E-496B-8736-39B8936EA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A4F0-8C64-4706-881A-6CE4D52C0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31FC9-D6D8-4CD4-BC68-A2DA4D48FA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0.6a | The health sector helped contribute to increasing male life expectancy over the past century, yet working-life expectancy declin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33520" y="137160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dditional years of life expectancy at age 20, ma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2T14:15:29Z</dcterms:created>
  <dc:creator>Kristy</dc:creator>
  <dc:description>10.6a | The health sector helped contribute to increasing male life expectancy over the past century, yet working-life expectancy declined </dc:description>
  <dc:language>en-US</dc:language>
  <cp:lastModifiedBy>Jia Yao</cp:lastModifiedBy>
  <dcterms:modified xsi:type="dcterms:W3CDTF">2013-09-06T15:04:16Z</dcterms:modified>
  <cp:revision>123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0.6a | The health sector helped contribute to increasing male life expectancy over the past century, yet working-life expectancy declined </vt:lpwstr>
  </property>
</Properties>
</file>