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1DDE-3B88-446C-8D2F-7C20249D7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CA80-320F-4C39-9E8B-1AE288EDD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7B8C-56F7-4222-AAFB-9AFE8B26C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BB45-D057-4FA0-8F27-F765ECFDA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43CB-5CC4-4BB6-8D2C-30D6E0AF9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E2CF-899D-40C3-8711-5BF3AB8AD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D147-B6D8-4FBF-96BB-F1BB91B84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DEF0-8016-4B2C-B8AB-B30B0F874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F762-74C4-459C-9862-EBAB3ECD3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044C-84BF-446B-BF2E-9CE579D7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6E6A-E24A-4F8E-B6C4-2A979533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702E-A13B-4483-B9B4-D1E93213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EDBE1-C6D9-4480-9CF9-9939959D77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60200" y="0"/>
            <a:ext cx="8823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8:55Z</dcterms:modified>
  <cp:revision>37</cp:revision>
  <dc:subject/>
  <dc:title>PowerPoint Presentation</dc:title>
</cp:coreProperties>
</file>