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4DB-4B0A-494C-8D3E-AFC8DDBF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FCC-5FCA-4AC6-AD9B-04272CEB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9EA-24B2-44A5-9A83-CD07FDB9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BEA-8177-4834-AD3E-FD903A70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48D-6AAA-4669-B986-768A361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EB4-05E9-408B-BE8C-8B1608A2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C0C-3200-41F8-8D88-6D4A1C04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B14-B705-45D0-B3A4-E84B6C44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A7E-0BFA-488D-AE6D-C16B2616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68A-4B82-47A3-B26F-F5A2C05C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D7C-1920-4900-8512-7D0C0C50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4D7-A892-445D-9741-44BCADC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46E4-9D46-4341-9C86-B368BFEF5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228600"/>
            <a:ext cx="91454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0Z</dcterms:modified>
  <cp:revision>22</cp:revision>
  <dc:subject/>
  <dc:title>PowerPoint Presentation</dc:title>
</cp:coreProperties>
</file>