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1B5-E28F-423A-ACC6-CB5EC77E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870-0FB4-44C3-8F02-07AD044D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9A1-B7CD-432E-9FBC-8A884661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4C6-FB67-4FED-8B3F-F025C1B9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28E-B195-4750-B580-DF7E3A0A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E3C-6DB7-47FD-961C-9A0CDE77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BA6-E668-4EBA-BF78-F736BB33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6A3-5834-49CD-8C40-1FD71D94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BF6-DA51-439B-928C-83C93191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848-6F85-4E2E-946A-F6F631A6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939-1B1B-4FA0-8379-1A8D50FE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0B3-A377-4839-9E9A-D977025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67D2-4CF3-4537-B6D1-82CCA36F5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2560" y="228600"/>
            <a:ext cx="90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2Z</dcterms:modified>
  <cp:revision>39</cp:revision>
  <dc:subject/>
  <dc:title>PowerPoint Presentation</dc:title>
</cp:coreProperties>
</file>