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891F-3764-44D1-B498-338EE5846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A | AVERAGE ANNUAL WORK HOURS FOR SELECTED COMPONENTS OF THE HEALTH SECTOR,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5DD6-7B79-4A1C-8781-A730BA710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C8A-F0D5-450D-B7EF-572F124F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EE6-4C72-4799-9300-F1FA4200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928-1A2F-4CEA-8CAF-54D21D7C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476-6F4D-4B62-9144-4515F3DA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ACB-3E8B-411F-A084-83D50E80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A73-C9EF-4301-9BAE-824F8CA0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572-FBB5-4F7C-8E71-2F2872C0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1CA-802E-4DFC-B908-22004EFB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1F5-F8D1-4AB8-A68F-4BC41D9B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12F-42B8-47B4-9BED-08A563C4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A4F-B547-447A-A884-20D59BE5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D1E-CA0A-49A3-B686-DCFFABB1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161E-287C-450A-9F4A-4326231F5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a | Across the health services industry, annual hours per worker are shorter than in private business or general econ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549440"/>
            <a:ext cx="856008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hours of work per employee (20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a | Across the health services industry, annual hours per worker are shorter than in private business or general economy </dc:description>
  <dc:language>en-US</dc:language>
  <cp:lastModifiedBy>Jia Yao</cp:lastModifiedBy>
  <dcterms:modified xsi:type="dcterms:W3CDTF">2013-09-06T15:04:11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a | Across the health services industry, annual hours per worker are shorter than in private business or general economy </vt:lpwstr>
  </property>
</Properties>
</file>