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D58-B303-495F-8ADE-6B5BF1BB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C0A-4B22-4604-A621-BBA4B2C6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0E1-0160-4752-A4F9-14F3AABD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996-0C2B-4F62-86F2-EB62AF0A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F88-EB3B-47CB-9E5B-22FFC5D9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EE3-963C-4AEC-B067-BA8314A3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112-187D-4C06-9B9C-96CF5DEE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83F-9140-4CF0-A000-D8EA919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D41-AF18-4D50-9FB5-0A46D86F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D4B-66D3-4A86-8C3C-8AF1D74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1DB-6154-45D8-A12C-FE8A7164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8EF-2646-4E0A-BB9F-4F8A2D4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E7F6-5783-4FC8-8E0A-49AD3838A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3Z</dcterms:modified>
  <cp:revision>30</cp:revision>
  <dc:subject/>
  <dc:title>PowerPoint Presentation</dc:title>
</cp:coreProperties>
</file>