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2DF-8024-4E39-95C4-3DF49112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7F7-A841-49E9-A185-B5D8869D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97A-A39E-477C-A09C-705F9B6D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568-1D1A-4077-A5A8-285CEAE8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08E-3C5E-48EE-8A86-744F2DC2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8B5-CAC5-4B20-901D-A2A50A4F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91B-A845-4059-B80B-20463052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3FF-2239-475A-958C-9403532F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3F3-8984-4A48-8889-704CA243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AE1-2BCE-4AD5-B817-D0451545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1FF-954C-4ADE-9DCA-FA81AF64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388-BF37-46DB-A64C-556FD314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F756-3D42-4E64-875A-F93D4B794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1Z</dcterms:modified>
  <cp:revision>33</cp:revision>
  <dc:subject/>
  <dc:title>PowerPoint Presentation</dc:title>
</cp:coreProperties>
</file>