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64FF-2F9B-4481-B804-AF471E904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3B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7F06-6B50-477A-8526-1346C7901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0E63-C97C-4B06-9A49-1AC3A9F0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CE8-9B29-48C3-B50B-699C0222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3BEC-C617-480B-A20F-B03C2C31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4D72-8905-4439-BAF5-8CC57538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764-5976-4521-9A35-1327425F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195E-D32E-4865-B0ED-CDF74CDA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B4A8-7687-407D-891E-29241A08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6F3C-AEAB-4697-9C35-AA514EBC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B487-A31B-4140-B52F-14E7E675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D65A-B96A-4E9C-9B95-7EF38E81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69E-01B5-4D5C-8C45-209D0196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FDAE-A591-4A36-A16C-C869FDCD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19C2-1575-4856-AADC-69174785E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3b | As a producing industry, the value added by health services has grown more rapidly than for goods or non-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295280"/>
            <a:ext cx="594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alue added as percentage of private industry output (based on current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3b | As a producing industry, the value added by health services has grown more rapidly than for goods or non-health services</dc:description>
  <dc:language>en-US</dc:language>
  <cp:lastModifiedBy>Jia Yao</cp:lastModifiedBy>
  <dcterms:modified xsi:type="dcterms:W3CDTF">2013-09-06T14:09:54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3b | As a producing industry, the value added by health services has grown more rapidly than for goods or non-health services</vt:lpwstr>
  </property>
</Properties>
</file>