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947BF-419E-4931-8C50-114FF80803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8.1a | Wage and Salary Supplements, by Type, as a Percentage of National Income, 1948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5B8F6-3D4F-4D84-B7F8-649560DC1C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29F8-7223-45D3-A364-68E7D9C0D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113E-E61A-4C42-A00E-E3D13BF42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3501-AEDA-4A95-9F8C-5E6F16ACC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AE5C-D365-44B8-9666-A797FF437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A52F-88DF-4C1E-9AD5-52E7D2389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3E51-5550-41CD-97AE-4DBDF7177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F0E6-0E6D-4C10-952B-915D0C50C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17B6-7F2A-48B0-AF42-DCE26DB82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C5FF-C675-40DF-B74B-F1C868914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20AE-F79E-4BFA-9F6A-F803D4FD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73FD-4274-410E-8537-EA4185CC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CBC8-37E5-4820-9CFE-468E98CA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FFF31-02A3-4424-BDE5-BAC66A489E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8.1a. Despite rapid growth in health-related supplements, employee compensation as a share of national income has declined since 198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14200" y="957240"/>
            <a:ext cx="856008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439560" y="5943600"/>
            <a:ext cx="842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Note: Health-related supplements include employer contributions to health-related social insurance  (Medicare Part A, workers’ compensation, temporary disability insurance) and private group health insuranc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1a. Despite rapid growth in health-related supplements, employee compensation as a share of national income has declined since 1980</dc:description>
  <dc:language>en-US</dc:language>
  <cp:lastModifiedBy>Jia Yao</cp:lastModifiedBy>
  <dcterms:modified xsi:type="dcterms:W3CDTF">2013-09-06T14:16:48Z</dcterms:modified>
  <cp:revision>9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1a. Despite rapid growth in health-related supplements, employee compensation as a share of national income has declined since 1980</vt:lpwstr>
  </property>
</Properties>
</file>