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53F3-F2A3-4579-BFAB-C0837C04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240A-2A40-447D-82EC-76E80255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EF88-894C-40FD-B6F8-20B10CC4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C042-D6A9-4B1E-8CD5-600103294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CA79-1635-4D45-A5C9-E6B02313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E1EE-3434-4A12-A585-44DACF8D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8F59-684C-4688-B30D-D78965A6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B0CC-714A-4C46-AAA8-9A7E1B6B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9884-B60B-4762-BC45-F95678A0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DC5D-1A8B-4030-B2FF-0CED6BE3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1199-1164-4B54-AEDC-7B0C83B1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5048-E853-4A75-A28C-E5BC7632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E96E-BB73-433D-8F3F-7DBBEBAA35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0360" y="304920"/>
            <a:ext cx="89632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4Z</dcterms:modified>
  <cp:revision>37</cp:revision>
  <dc:subject/>
  <dc:title>PowerPoint Presentation</dc:title>
</cp:coreProperties>
</file>