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1FE8-CB42-479F-BD4A-DEA72EDE0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7798-1718-4851-81C7-DD03913B5B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2a | Percentage Distribution of Total National Health Expenditures, by Type of Health Insurance and Other Sources of Payment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86D4-9A51-4C21-966A-B7A6C9F41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CA92-1D4F-4EC2-8591-D507A8EC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6664-1F38-407D-8848-AC66F73D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4B78-D39C-4FA0-8117-C71367AE3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156D-456C-431C-B2F7-9C375E71E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69B0-791F-4CF2-81C9-F50AFA94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9493-23F5-4836-8101-33912D66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66F1-F094-4FE6-AD4D-AEFC9DEF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88B2-A6AB-47D7-AF84-7E7C3D13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1A9B-D2A2-4353-84B4-3EAFEA25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EFAE-37C8-4C65-82AF-27D794B6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B834-83B4-43CA-AB06-2C869026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E153-EB2A-411D-AA8D-6EFD472E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9F7F-DF27-4832-A9F7-90AEDD37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765F-307C-40F1-A1F8-F71570F8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4DC8-1A6C-4C2E-A537-FF819AA4A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D763-325F-436D-8BFA-AC735294A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93BA-F128-42D2-B8E5-6C23BBA2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E33B-EAD0-4DCC-8011-4D091766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0952-45E7-4AFF-9FD1-DFB0D0CE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E85B-9B08-4A21-8830-D1AC2F6D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D9BA-3606-45AA-B5EF-9F701768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B88E-83D7-42E9-8FC2-A9EFB65A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6AE3-871D-4DB9-B210-8698DD18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B56D-1232-48EF-A5AB-C0761029B9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ABFD-B121-46B8-9921-466995E756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3.2a | Private health insurance pays for slightly less spending on personal health care (PHCE) than Medicare and Medicaid comb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6T21:10:21Z</dcterms:created>
  <dc:creator>Jia Yao</dc:creator>
  <dc:description/>
  <dc:language>en-US</dc:language>
  <cp:lastModifiedBy>Jia Yao</cp:lastModifiedBy>
  <dcterms:modified xsi:type="dcterms:W3CDTF">2013-09-06T21:10:52Z</dcterms:modified>
  <cp:revision>1</cp:revision>
  <dc:subject/>
  <dc:title>3.2a | Private health insurance pays for slightly less spending on personal health care (PHCE) than Medicare and Medicaid combined</dc:title>
</cp:coreProperties>
</file>