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5250-42F9-409C-91EE-3F339366C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D92E-22D0-421C-BAF1-12AA8C27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4A1B-5851-48A3-8DB6-0FB1A211F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77E4-4769-484A-854F-3903003C8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C496-F000-45DA-A055-9613F475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9C08-0702-45FA-9E94-8020339C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45BA-FF9D-444C-B420-108BB432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16AA-DD36-439C-8290-DEE48A70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B51D-A7D2-4996-A187-BA943FEE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D909-7CC6-46C9-82BC-6561EC5C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DCD8-F957-4C8A-9F70-A8B658B2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C207-BEFB-47C4-8C4C-9B9E7BEF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E8FF-613D-4BE5-BCA6-7EBDEDACB9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76320" y="1362240"/>
            <a:ext cx="897228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50Z</dcterms:modified>
  <cp:revision>24</cp:revision>
  <dc:subject/>
  <dc:title>PowerPoint Presentation</dc:title>
</cp:coreProperties>
</file>