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E2BD-6F76-4782-A04D-AF66CC03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DD50-4E0B-43A1-9EBF-781982FA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56B-7217-4328-811D-06310BA8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33C1-EF20-4955-BE42-7E60B156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DE53-C30E-4A29-A536-51480C2E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DE9-5757-4ABB-9D2C-56117A0B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0FB-6F34-4B6A-9419-A68D4F98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1873-620C-49F4-8BC5-C7496A69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FFD7-2AAC-4E89-996C-E6B9E650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C8DA-87B8-4D4C-91FF-4107A440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6CDA-F00F-4C25-B843-61390BCA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A4A-DD9C-4AF4-B9F3-61696551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531B-54ED-4089-8501-AD5260136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160"/>
            <a:ext cx="915984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4Z</dcterms:modified>
  <cp:revision>8</cp:revision>
  <dc:subject/>
  <dc:title>PowerPoint Presentation</dc:title>
</cp:coreProperties>
</file>