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B96-1BA6-465D-8B58-0C1AA07C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09C-3F0B-4E44-A6F9-FCC52B2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434-33E2-45AB-975F-6B25F6DB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22E-C0DF-41D2-AA48-4C080542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FE3-F090-4B8C-9D04-F1B1BCCC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C17-6296-4146-921C-7A101BB3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DB6-FE83-482D-B8F2-604E920E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F39-C484-428D-8BFA-A222246C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4C5-1910-4D4D-A13F-2893D0E7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0B0-D313-4ED1-A459-9E8C52D2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073-9453-4499-A19D-C061D753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D1B-D82A-4D3E-A5C6-2E26D5D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466A-43F1-4B7E-AC8A-D544CCBF8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228600"/>
            <a:ext cx="900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1Z</dcterms:modified>
  <cp:revision>39</cp:revision>
  <dc:subject/>
  <dc:title>PowerPoint Presentation</dc:title>
</cp:coreProperties>
</file>