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5C3E-9C31-4D2F-A767-C0E6E9D89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1B | U.S. POVERTY RATE ACCORDING TO VARIOUS DEFINITIONS OF POVERTY, 1985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562B-59CC-4B8E-9D7B-A5705BB42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627-D034-467C-A5E6-DF53FA19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9CE8-BAEC-41C4-B71A-D4DB5F07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84A-8948-4E55-9D7E-F16A10DC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95A-CB3A-48ED-B174-9726D234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312-AFCB-408A-9F8A-000A8B82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B69-61B8-4F74-9FD7-9C6E68E0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6E7-3314-4AA3-AA8F-32CB7159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CA1-BAAA-4DAB-8912-9EEAF919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672-E7C6-4E78-A8BE-263AD745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A32-BF53-4C6E-9085-714D8502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1CC5-1713-4542-8C05-181E7C7F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293-4C54-4D6D-94E6-8700CC37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E83E-82E8-4CAE-A3F4-BAC1032FD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b | How medical expenses are treated in measuring poverty has a negligible impact on measured trends in poverty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4074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below poverty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b | How medical expenses are treated in measuring poverty has a negligible impact on measured trends in poverty rates</dc:description>
  <dc:language>en-US</dc:language>
  <cp:lastModifiedBy>Jia Yao</cp:lastModifiedBy>
  <dcterms:modified xsi:type="dcterms:W3CDTF">2013-09-06T15:16:50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b | How medical expenses are treated in measuring poverty has a negligible impact on measured trends in poverty rates</vt:lpwstr>
  </property>
</Properties>
</file>