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12CF-8661-4599-B026-C561F5497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7.2B | Reduction in Daily Cost of Therapy 24 Months After Patent Ex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D1FD-EDBF-4D19-A01F-73912B245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B88E-5188-4BD4-9F2E-3CC27B23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968A-FDBF-4205-BB2F-6A592B8C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8C96-3A51-4D30-9868-51CC2291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9A6-1228-4245-9DDB-B6E8DA4D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F41D-5559-42FC-B8C5-D883C109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3FC3-101D-41E4-83A6-7929425F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8456-20D9-4BB1-B484-64312572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60D4-7EC4-4FE0-ACF7-696AB51C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B17-22F0-4EEB-8FFD-BD79CFD1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0AC7-20F7-4789-A2CC-6A19C0D6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7CC-BB88-4F0B-B301-08A90610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E4AC-0356-4D07-8EE1-086295E7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A520-C4AB-49C3-9914-141F947BD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19566" r="0" b="0"/>
          <a:stretch/>
        </p:blipFill>
        <p:spPr>
          <a:xfrm>
            <a:off x="592200" y="1523880"/>
            <a:ext cx="7959600" cy="4386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2b | After patent expiration, there has been a 51 percent reduction in the daily cost of therapy after 24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62120" y="588024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Berndt ER and M Aitken. A Different Perspective: The AARP Sponsored Schondelmeyer-Purvis Studies.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caring Seniors: The AARP Drug-Price 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American Enterprise Institute. Washington DC.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2b | After patent expiration, there has been a 51 percent reduction in the daily cost of therapy after 24 months</dc:description>
  <dc:language>en-US</dc:language>
  <cp:lastModifiedBy>Jia Yao</cp:lastModifiedBy>
  <dcterms:modified xsi:type="dcterms:W3CDTF">2013-09-06T15:31:20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2b | After patent expiration, there has been a 51 percent reduction in the daily cost of therapy after 24 months</vt:lpwstr>
  </property>
</Properties>
</file>