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3F18-58F4-473E-AD33-DC688D2F6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4A | MALE OBESITY RATE, FEMALE OBESITY RATE AND ADULT SMOKING RATE, G7 COUN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05B5-94F1-49A3-81A7-1AC5BF6F8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DB7-47B5-4383-B50A-4DE89F8C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655-236A-4FBD-BF9E-0FD41975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79E-C0BC-4D1D-9D67-FD7522C5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42A-F496-4FF2-8FB7-EC7E152B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2B6-03CC-4C57-82A7-87F17E14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1E3-7357-4CB3-99A0-75849118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19A-C11D-4E4A-9D5C-3F9834BB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E3B-3D6C-41F7-A0B9-8B7844D1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463-F281-4B68-9117-937FAEDD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1E7-E129-454E-9226-F0C656D6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A02-61F9-4BA7-970B-607598A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56A-2786-4699-854F-7DEFD267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6CF-7CF3-4E3A-A460-3414A9BEC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4a | The U.S. has far higher obesity rates but much lower smoking rates than its major G7 compet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Adults Age 15 and 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311840" y="586728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measured obesity rate.  SR = self-reported obesity r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4a | The U.S. has far higher obesity rates but much lower smoking rates than its major G7 competitors</dc:description>
  <dc:language>en-US</dc:language>
  <cp:lastModifiedBy>Jia Yao</cp:lastModifiedBy>
  <dcterms:modified xsi:type="dcterms:W3CDTF">2013-09-06T15:41:2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4a | The U.S. has far higher obesity rates but much lower smoking rates than its major G7 competitors</vt:lpwstr>
  </property>
</Properties>
</file>