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A34-63ED-4CF6-8A70-4CD00408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FE3-9448-4BC0-BBC8-F1CE557E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EA4-9D2E-43C1-AED5-2D032398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F85-A6F8-423F-990B-28D990C4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362-E80F-4D90-9A2C-A0F526B3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2AF-5B61-4D99-9CF2-6748EC67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800-7668-48CC-A414-81CAA001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5A1-EF81-4A8D-8987-0E115646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7DE6-74E5-40BE-AD62-9F48F98A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56A-B727-4772-AB81-97ED55F8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7C9-5257-4EBB-B97D-6B6D4D06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E1F-DE1F-4F0B-82B5-B291A8BC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435E-17AD-4A50-B370-3946BC256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68200"/>
            <a:ext cx="9090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5Z</dcterms:modified>
  <cp:revision>14</cp:revision>
  <dc:subject/>
  <dc:title>PowerPoint Presentation</dc:title>
</cp:coreProperties>
</file>