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E559-192A-497F-BEB9-5D8DFE0E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BE4-CF9B-4C6A-B558-518315E9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26BA-D3C0-4685-8E50-F5025BDF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1D2-C28A-4C41-807C-0A91F098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3FA2-1359-4FDC-A86D-28AA0757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817-D0A9-45C2-9E13-98EEA0CF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F95-CF6E-40D8-A36D-10C716DD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3866-EC01-4F66-B0B6-7D24F197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482D-F206-452A-8420-54837EA3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8990-C4D3-4916-9E93-A4973CFA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828-0587-4274-BD43-60928B83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B9D-6824-4280-9F24-097944D7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53A2-B365-484B-90D8-9E51B8314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3920"/>
            <a:ext cx="913752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1Z</dcterms:modified>
  <cp:revision>10</cp:revision>
  <dc:subject/>
  <dc:title>PowerPoint Presentation</dc:title>
</cp:coreProperties>
</file>