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1249-E2A4-4922-A898-D75AF8F14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A | LIFE EXPECTANCY AT BIRTH WITH AND WITHOUT DEATHS RELATED TO VIOL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5EAA-7C05-4DD6-9E90-A78E4D4B8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82D-E649-428B-9D80-F63A3C54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C84-960D-43F0-8CD3-0F3CAEB1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B3F-BDFC-4496-B937-43C978DF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C78-9905-4DD1-9574-AD6ECECB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AC0-48A8-4490-92F8-13E3B5CD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D8B-7DE0-4F38-851D-12905222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6B3-1E6B-4998-AFAA-EE0B519E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FA9-6018-41DF-B08E-C47CB4DB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4AC-0422-4E5E-9E8A-96004839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A45-BB40-4BB7-9813-AE76241A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B65-0219-44D1-8124-500F2035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D81-FA8F-42E4-AF76-FC6BF4A3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24B2-970A-4526-9BA7-88D361940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a | Once higher-than-average U.S. rates of violent deaths have been taken into account, the U.S. leads the world in life expect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51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588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n Life Expectancy at Birth, 1980-19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61880" y="541008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47840" y="44197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Countries are ordered by standardized life expectancy derived by assigning ea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the mean OECD fatal injury rate for the period shown; figures in parentheses denote ranking on unstandardized life expectancy at bir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a | Once higher-than-average U.S. rates of violent deaths have been taken into account, the U.S. leads the world in life expectancy</dc:description>
  <dc:language>en-US</dc:language>
  <cp:lastModifiedBy>Jia Yao</cp:lastModifiedBy>
  <dcterms:modified xsi:type="dcterms:W3CDTF">2013-09-06T15:41:1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a | Once higher-than-average U.S. rates of violent deaths have been taken into account, the U.S. leads the world in life expectancy</vt:lpwstr>
  </property>
</Properties>
</file>