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7E64-551F-426E-89AC-31E4FB74F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2b | Output per Hour and Output per Unit of Input Indexes (1987=100), Health Facilities and Ambulatory Health Care Sector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6D64-4671-40B0-A073-E4AFB8A72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7AC2-1A23-42D6-86D4-9DEE3237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6745-971A-4C44-84F3-E4D286E1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5D8A-CCF4-44C2-92D4-2F0F69B4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FA87-D6F9-47FD-A71D-2A9F9E39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2A7A-9701-4984-AABF-3D38640A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DCBF-7A51-4035-96EB-4B0F9FC9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3BFC-EF55-4DDB-A1CD-45ABC7AE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C614-3FD8-46AC-AA98-21B7BD06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1AFC-5902-4A70-BFD4-ED6D307E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0AE3-B53C-468F-A741-58B84063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AB4C-0A3F-47B0-A60D-723EA732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965-1134-4E9F-A13A-A98280BE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506B-E229-44A3-BFB9-D1F4CD77D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2b.  Over 2 decades, health facilities hourly output rose even as productivity per unit of input remained relatively fl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609480" y="5694480"/>
            <a:ext cx="842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Outpatient = ambulatory health care services; inpatient = hospitals and nursing and residential care faciliti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2b.  Over 2 decades, health facilities hourly output rose even as productivity per unit of input remained relatively flat</dc:description>
  <dc:language>en-US</dc:language>
  <cp:lastModifiedBy>Jia Yao</cp:lastModifiedBy>
  <dcterms:modified xsi:type="dcterms:W3CDTF">2013-09-06T15:00:3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2b.  Over 2 decades, health facilities hourly output rose even as productivity per unit of input remained relatively flat</vt:lpwstr>
  </property>
</Properties>
</file>