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0EF-942B-4001-8582-3A7A646E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5CE9-9AA5-49FA-8392-86613CDF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069-553F-4FA4-8A27-2B988A27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CB9-D4B8-4BE6-969C-AB83BB20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D3D-EBE5-4FA7-A3ED-6FA75047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86E-73E6-49ED-8821-7B491344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FEF-4FA7-44BC-9E1E-D786B00B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463-7D40-4758-865C-430A0C82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291C-E3FE-4193-92B1-CEE7B131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1FC7-5FF7-49FA-B4AA-A70AD207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C75-98E9-4DCF-A005-31A9D716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6B1-FB52-4792-B44D-6071499B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C3B5-0FFE-414E-83A6-6AFE9FEE7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0Z</dcterms:modified>
  <cp:revision>6</cp:revision>
  <dc:subject/>
  <dc:title>PowerPoint Presentation</dc:title>
</cp:coreProperties>
</file>