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13A4-5E84-4061-AE58-73E9A76C6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5B | AVERAGE ANNUAL WORK HOURS FOR ALL CIVILIAN WORKERS, ALL PRIVATE INDUSTRY WORKERS, AND SELECTED COMPONENTS OF THE HEALTH SECTOR, 198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6DFD-4202-4148-971B-FEE8D1FFB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416-33AF-4A4C-9231-CDB32504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927-B6AB-402A-905C-234928E6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EFC-5C18-40E4-BF8B-FFF8B940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B1A-57F0-4CF2-821F-F74E5435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31C-39C5-4CB3-8DD2-2A6BF380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959-6D30-4917-B277-E6084E61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52A-D969-48E5-88FA-8D1448B3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953-D255-4476-8B45-882BF051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B67-0CDA-4104-A62E-5A6ED9B6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0FB-63B5-49A0-AFEA-B43C81B0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899-2FF9-4B6F-A144-1C4A340C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E4B-58D3-4710-8851-3EE15F88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B9E3-1D86-4001-9B7E-75443A53B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5b | Annual hours per worker have declined in long term care facilities during the past decade, but have generally risen in hospi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work hours per employ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5b | Annual hours per worker have declined in long term care facilities during the past decade, but have generally risen in hospitals</dc:description>
  <dc:language>en-US</dc:language>
  <cp:lastModifiedBy>Jia Yao</cp:lastModifiedBy>
  <dcterms:modified xsi:type="dcterms:W3CDTF">2013-09-06T15:04:14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5b | Annual hours per worker have declined in long term care facilities during the past decade, but have generally risen in hospitals</vt:lpwstr>
  </property>
</Properties>
</file>