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2341-CC0A-4649-B90F-485A52250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86FA-7524-45B0-865E-0FE7AE0C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CAF7-EBF3-424A-8548-2E831D890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7A8F-86E3-4476-82B6-FA64357B9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6E0C-87AD-4B0B-8E5A-E977F144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9B7C-7792-44F0-86AE-0E171D1C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ED1A-CE93-4A4C-8170-827BDF76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B4D5-49F6-41D9-AD91-025DAE25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A46B-AF76-4533-B4AB-46F93818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5F8B-E8FE-4F53-BF8E-9E29A203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ADDC-7D48-4103-A22A-9538A4DE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5B90-436B-4DAC-8EF8-C6CC0963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7D2A-13AD-4BDF-913E-79490C11B3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519200" y="0"/>
            <a:ext cx="610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3Z</dcterms:modified>
  <cp:revision>20</cp:revision>
  <dc:subject/>
  <dc:title>PowerPoint Presentation</dc:title>
</cp:coreProperties>
</file>