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4AE9-6010-4A51-8E1E-705EFF85A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48BF-545C-4D6F-9232-237B2411E0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a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7FA-ABD9-4D1B-AE83-03168613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8B2-1F58-43AC-8CAA-8A17FA51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4C8-2692-44EF-AC31-AAA8ABC9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CFE-BFF7-4DBE-88F9-2AF3D9A1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3A36-F648-421B-86FB-6F6F6595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81D2-ABB2-4BE3-A864-95CD02C5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29FE-3A57-4C6E-8003-F14E7340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3D4E-D9C0-4C13-8668-B1682E84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78E4-400D-4897-B969-B44CD715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2D15-B530-4AE4-8F63-045D827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28B6-0704-42EC-B8DB-C1B3221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F10-0455-4C98-AC47-7A2813AC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3863-C269-4EB2-871D-DCB2A72D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63FE-7A52-4CAA-84C9-2830BE60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0587-14E8-4A7F-AD36-0F2F130D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2C08-853C-4ACD-9152-E781D95C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E7B0-FA9A-49E1-B883-26734F65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D8E-7330-47C1-BFB7-4A900C51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3B6-27B8-4000-9359-52BFC878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482-E760-4009-B6D1-0B6A6FF5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060-40E1-4A0E-A75F-6E282E4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334-F6E8-44B7-B518-54C27A25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764-4588-4009-B88C-B96CF6F8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422-5FAD-465C-86D7-4CA7368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5E13-C815-4B16-8BF5-5CEA988E4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8338-ED38-4620-8749-7938541B7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a | Over six decades, both health and non-health supplements to wages and salaries have grown dramatically relative to worker p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a | Over six decades, both health and non-health supplements to wages and salaries have grown dramatically relative to worker pay</dc:description>
  <dc:language>en-US</dc:language>
  <cp:lastModifiedBy>Jia Yao</cp:lastModifiedBy>
  <cp:lastPrinted>2002-05-16T21:44:34Z</cp:lastPrinted>
  <dcterms:modified xsi:type="dcterms:W3CDTF">2013-09-06T13:49:57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a | Over six decades, both health and non-health supplements to wages and salaries have grown dramatically relative to worker pay</vt:lpwstr>
  </property>
</Properties>
</file>