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E4CC-F6F4-4053-8150-0BB144783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B | PER CAPITA SPENDING ON NONHEALTH GOODS AND SERVICES, ASSUMING "MODEST" ALTERNATIVE EXCESS COST GROWTH RATES IN REAL NHE PER CAPITA, 2009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0A9D-3AA1-4541-86A4-2D1C6B4CF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AF9-6EF4-4094-B923-D246DABD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743-8754-4106-822A-7CCCBEA8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F03-7824-4DDC-B150-149FD3EB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2DB-0F30-40AA-A1E3-045B017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193-9F8C-48D8-90D9-D953D2BF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F76-4CF2-48D5-BEB3-8889C404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F5D-E256-4B85-A848-3F226BD4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44E-2F35-4FEB-B8C5-615DBDDD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647-A186-48DE-8FD6-BE5CF1FD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482-17A5-4F47-899F-1BEFAC8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287-B503-4DC8-9515-105CACA1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CB4-1CDB-4295-A06D-305352FB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A489-56A5-4651-99E3-192205DD9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4b | Non-health GDP per person could decline within 5 decades if excess cost growth continues at historica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health GDP per capita (2010 dollars using adjusted CP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905120" y="3200400"/>
            <a:ext cx="4267080" cy="4572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irst year non-health GDP per capita dec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V="1">
            <a:off x="4267080" y="2742840"/>
            <a:ext cx="53424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V="1">
            <a:off x="4799520" y="2590200"/>
            <a:ext cx="229320" cy="61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0"/>
          <p:cNvCxnSpPr/>
          <p:nvPr/>
        </p:nvCxnSpPr>
        <p:spPr>
          <a:xfrm flipV="1">
            <a:off x="5105520" y="220932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b | Non-health GDP per person could decline within 5 decades if excess cost growth continues at historical levels</dc:description>
  <dc:language>en-US</dc:language>
  <cp:lastModifiedBy>Jia Yao</cp:lastModifiedBy>
  <dcterms:modified xsi:type="dcterms:W3CDTF">2013-09-23T19:14:2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b | Non-health GDP per person could decline within 5 decades if excess cost growth continues at historical levels</vt:lpwstr>
  </property>
</Properties>
</file>