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ACDD-C1EC-48FA-A26B-83F2C5B8A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E4EB-14A5-4A3C-80DE-29E4F10612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a | Distribution of Elderly and Disabled Enrollees and Expenditures under Medicaid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32F-E6BD-4D0F-8F11-D6644923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F58-A8DF-4DE6-8DA4-3A38A822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AD3-AF7E-4B2C-B9EF-540F70DE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05D-9266-40D2-926C-D8CC7919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3016-8856-49E1-A1A8-F2EACE28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06DD-34D7-400F-B84E-25666EE5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C721-1738-4FB0-9B5F-EFE43472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01C5-AB7F-414B-AC73-0CE4B6E0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9B14-F571-4600-9DF6-1EEAB1AD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17BC-A668-46B0-8B93-84A97156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90F6-0CA2-4E0E-A81C-7956CB7F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4A2-CEA1-4551-9EF1-81125844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F30E-DC94-41CD-9115-789E8EC8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0C95-E5C0-4AA4-8E8F-FB05FAD4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E5F0-0CAD-46D8-9D7F-11924EBD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D7D7-48FA-4453-AD8D-D983F63C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2669-1061-4207-BC25-B4FAC226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C11-26AB-4B25-9450-A4039676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50C-5BD3-4DBE-9FD0-AD4792EB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4F0-9C72-44E8-B94D-1367B55E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7D5-DC48-4878-99B0-52EC2DFE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A72-34A9-43EC-AE16-79E05ABF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55A-E047-4D7C-BD9B-7643F40F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D02-358D-4E06-800F-3B852907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D8BC-2D1C-40E6-BDA0-4A4E9EEAA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D631-A078-462D-AFB1-45CFEFC2D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a | The elderly and disabled constitute one quarter of Medicaid enrollees, but more than three quarters of Medicaid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609480" y="5867280"/>
            <a:ext cx="815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Kaiser Commission on Medicaid and the Uninsured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edicaid: A Primer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ey Information on Our Nation’s Health Coverage Program for Low-Income People. June 2010. http://www.kff.org/medicaid/upload/7334-04.pdf (accessed October 13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a | The elderly and disabled constitute one quarter of Medicaid enrollees, but more than three quarters of Medicaid spending</dc:description>
  <dc:language>en-US</dc:language>
  <cp:lastModifiedBy>Jia Yao</cp:lastModifiedBy>
  <cp:lastPrinted>2002-05-16T21:44:34Z</cp:lastPrinted>
  <dcterms:modified xsi:type="dcterms:W3CDTF">2013-09-04T21:04:03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a | The elderly and disabled constitute one quarter of Medicaid enrollees, but more than three quarters of Medicaid spending</vt:lpwstr>
  </property>
</Properties>
</file>