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F2FB-FB7C-45FE-869C-CADE83C5F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4ADD-2ED3-4093-B318-F8A00FEFE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69D-0BCF-4F0B-A52E-4E1B597E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7E0-F155-43A9-BCF9-AFFBE69C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7C6-B71E-4994-AFAE-3D188403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25B-B076-4D86-97AC-EBB5E3A0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C18-2DB3-4728-A621-639CB376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82D-E9B3-4186-8E41-9E99CAC8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F9A-2552-4552-9C13-D49D8CD3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F4F-AC2C-4EAF-A2AB-E56C1852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13E-483A-4F61-8AA2-966FF4FC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52A-46A4-4173-9F05-BC5EE629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C66-D0D6-4DDD-9FFC-715C887B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974-D01F-48A1-A982-0FFFACCD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62F7-A9DE-483A-8876-B335D8BDB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b The funding shortfall for major entitlements will amount to more than one third of taxable payroll within eight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788320" cy="5429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143000"/>
            <a:ext cx="1600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unfunded public sector liability as a percentage of taxable payro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5715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unding shortfalls for Medicaid, Medicare Part B and Medicare Part D are calculated assuming the share of federal revenues devoted to these programs in 2007 represents societal willingness-to-pay for them. All figures based on CBO’s alternative fiscal scena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a The funding shortfall for major entitlements will amount to more than one third of taxable payroll within eight decades</dc:description>
  <dc:language>en-US</dc:language>
  <cp:lastModifiedBy>Jia Yao</cp:lastModifiedBy>
  <dcterms:modified xsi:type="dcterms:W3CDTF">2013-09-23T19:14:28Z</dcterms:modified>
  <cp:revision>6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a The funding shortfall for major entitlements will amount to more than one third of taxable payroll within eight decades</vt:lpwstr>
  </property>
</Properties>
</file>