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79F1-AC22-40F3-8533-1CD3E220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2D0-E0C1-4D4B-AB5D-5225E78C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1EB-91BC-40EF-A131-747EAC48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EC8-2ADA-491F-A4B6-A87F769E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6116-BBA5-4908-AA28-D9CA74CF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C92-CDC2-4DCF-9BC5-3B3CAA2A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B8A3-28FC-4E46-AE17-0D604FE1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1E6-A902-48FD-8AAC-0A806BA9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964-87AA-4F2A-AF29-4917EBBD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4A1-C65B-4578-9D2A-D2467C55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5CCD-CD6E-4F0A-AA5B-37D4DECC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C24-6D1C-494A-BB1D-A1827E98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75A6-C557-491C-870F-F6014C0F9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1676520"/>
            <a:ext cx="9013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6Z</dcterms:modified>
  <cp:revision>45</cp:revision>
  <dc:subject/>
  <dc:title>PowerPoint Presentation</dc:title>
</cp:coreProperties>
</file>