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E4D5-07D9-401E-8623-33E65FEFC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6A | UNFUNDED LIABILITIES DUE TO MEDICARE AND SOCIAL SECUR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4E23-6D07-4D8F-A5FF-D6338BC12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6BC-60E9-4259-894A-E2870294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83A-E0AA-4552-A5EB-91FFD7CC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0D3-929D-4501-863D-626858AE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3102-A72E-4CFB-AB8C-70E537F2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276-5F1F-4D2F-9683-7C4C3922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D7B-EE26-46FC-B659-45586B89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59E-616D-4E6E-B7C2-30D9D860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28E-5135-4034-8B00-D3F454B7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B265-509C-4A32-B684-F2E2FB1E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A5C-3070-4D99-9A20-CC0596B0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B554-5AF4-4487-BF35-D6BA8EC0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DDA-EDFC-445D-827F-F5F7090C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9F26-96AF-4824-8A4C-DDC00EA89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a | Even assuming the health law works as intended, unfunded liabilities for entitlements will exceed $80 trillion over the long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48340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present value of unfunded liabilities (trillions of 2009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9596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or Medicare Part B, Medicare Part D and Medicaid, unfunded liabilities are calcu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suming the 2010 share of GDP represents current willingness to pay for these programs. 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rease in spending above this share is calculated as an unfunded liability for which hig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axes must be paid eventu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b | Even assuming the health law works as intended, unfunded liabilities for entitlements will exceed $80 trillion over the long run</dc:description>
  <dc:language>en-US</dc:language>
  <cp:lastModifiedBy>Jia Yao</cp:lastModifiedBy>
  <dcterms:modified xsi:type="dcterms:W3CDTF">2013-09-23T19:14:26Z</dcterms:modified>
  <cp:revision>6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b | Even assuming the health law works as intended, unfunded liabilities for entitlements will exceed $80 trillion over the long run</vt:lpwstr>
  </property>
</Properties>
</file>