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DD8-1D84-4A0E-A8A0-EACD3F86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AAD-4C84-4EB6-AF6E-A22C23DD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D225-4B3D-4A24-8E82-346F3A0D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7D5-F1EB-4B36-80FD-C8731334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0F1-E55C-483D-BC3D-C92ADCD1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6B8-A146-4525-9737-38E31882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90B-8104-4C28-BCC2-9DDE53F5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802-1522-46A1-A345-1A47157A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869A-9859-4A9A-B597-DB11F30B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380-359D-4503-970C-D07208F7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0D8-04F2-418C-B46B-F7D9DE8B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E66-C1C6-49F7-BA99-D07F27E4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1BE3-E19B-4969-8E33-C0BA033F7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187280"/>
            <a:ext cx="892944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9Z</dcterms:modified>
  <cp:revision>22</cp:revision>
  <dc:subject/>
  <dc:title>PowerPoint Presentation</dc:title>
</cp:coreProperties>
</file>