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249E-7EBD-4C30-BF08-9C07F9A8B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9A | REAL PER CAPITA NON-HEALTH SPENDING, BY HOUSEHOLDER AG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3F0B-3B82-4116-8DE2-1C0092592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00C-7A7E-4634-B7E5-0B9361F8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402-8941-458B-BA97-BD0CD2ED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50D0-6593-4049-A96C-F6D89618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FBC-1CC0-4919-B468-D2C55762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A7E3-FBFE-4E10-AAD3-8C646961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30F8-C6EB-43F9-88DA-AD57AB19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1124-4D9A-41D7-9581-412C8A81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18D1-177B-4C80-BF4E-185DC068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3623-37B1-467B-92DA-2C0DFE06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CD6F-12F8-4699-BEF1-1DE6B175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4A9B-EAF7-4AB7-B444-13568FDD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B47-D341-493A-B210-B9BE2995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E2DA-373E-476E-AC7B-41C905F5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BF1D-CBED-48E8-9AA0-5E3405F4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4F05-4DBE-4EA4-992B-491FDC54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946C-4FD2-406D-BA80-9449B4D8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4452-60DE-4E35-BE16-23EC5814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3C4A-F5CD-4AF0-B70F-C2854A81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993-E44F-4BFE-B038-8F59704E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7976-425A-4D4A-A49F-92A29AF7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2F5-C6A5-4651-85F9-F2D6A84F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42B-1777-447E-A75C-E310238C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E9D-CD1A-4C48-BB80-7D4218F3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EA26-533F-4E79-ADDE-6A05DC17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FE4A-A7D2-4B7E-9F47-4A6E8A4AE2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8456-F97F-4CB0-8B35-AC4E61DF96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9a | Real per capita non-health spending currently is higher in households headed by elderly people; this was not true in 19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388800" y="1092240"/>
            <a:ext cx="8348760" cy="1854000"/>
          </a:xfrm>
          <a:prstGeom prst="rect">
            <a:avLst/>
          </a:prstGeom>
          <a:ln w="0">
            <a:noFill/>
          </a:ln>
        </p:spPr>
      </p:pic>
      <p:pic>
        <p:nvPicPr>
          <p:cNvPr id="91" name="Chart 4" descr=""/>
          <p:cNvPicPr/>
          <p:nvPr/>
        </p:nvPicPr>
        <p:blipFill>
          <a:blip r:embed="rId2"/>
          <a:stretch/>
        </p:blipFill>
        <p:spPr>
          <a:xfrm>
            <a:off x="388800" y="2921040"/>
            <a:ext cx="8348760" cy="147312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762120" y="1371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572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094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hart 9" descr=""/>
          <p:cNvPicPr/>
          <p:nvPr/>
        </p:nvPicPr>
        <p:blipFill>
          <a:blip r:embed="rId3"/>
          <a:stretch/>
        </p:blipFill>
        <p:spPr>
          <a:xfrm>
            <a:off x="388800" y="4292640"/>
            <a:ext cx="8634600" cy="2082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990720" y="61722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l per capita non-health spending (thousands of 2009 dollars using GDP price defla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1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9a | Real per capita non-health spending currently is higher in households headed by elderly people; this was not true in 1984</dc:description>
  <dc:language>en-US</dc:language>
  <cp:lastModifiedBy>Jia Yao</cp:lastModifiedBy>
  <dcterms:modified xsi:type="dcterms:W3CDTF">2013-09-23T17:02:09Z</dcterms:modified>
  <cp:revision>26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9a | Real per capita non-health spending currently is higher in households headed by elderly people; this was not true in 1984</vt:lpwstr>
  </property>
</Properties>
</file>