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3413-8ABA-4E24-A72E-E018FB317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B | ESTIMATED DEATHS IN UNITED STATES, BY UNDERLYING CAUSE, 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474F-3FA9-443E-A2E7-97D97D36A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83C-D07C-4803-BB8D-7A11AA93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3AD-B299-4701-8983-A2B71FD5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687-3762-449F-B018-9873B377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F87-99DF-4A9E-ACE7-9E551935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5DA-BBBD-49F8-9EEE-51E2E176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4B2-FD62-49F5-8050-F770994A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3C9-47AF-4D20-9DE7-E0897567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C61-D994-4548-B3C1-CD60AA35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E78-E31E-4144-B9F3-7E6D2702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E06-732C-4DF5-A1B7-81B41C24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663-0B70-4C87-957D-44283704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5CA-3978-471A-8385-685FFAD8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3870-DD0E-4F1C-B30C-3A7F67FD0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b | Changes in behavior/lifestyle would have a sizable impact on mortality rates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90169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518148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U.S. death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b | Changes in behavior/lifestyle would have a sizable impact on mortality rates in the U.S.</dc:description>
  <dc:language>en-US</dc:language>
  <cp:lastModifiedBy>Jia Yao</cp:lastModifiedBy>
  <dcterms:modified xsi:type="dcterms:W3CDTF">2013-09-06T15:41:2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b | Changes in behavior/lifestyle would have a sizable impact on mortality rates in the U.S.</vt:lpwstr>
  </property>
</Properties>
</file>