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A22E-0DC1-4A9F-A9D0-149F2AF7F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6A | SPECIALISTS AS A PERCENT OF PRACTICING PHYSICIANS IN G7 COUNTRIES, 1994, 2000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B432-85BC-48A7-ACDF-E6520B4A7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33F-AA7F-4E9D-A03B-5E6DF042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5EEC-A3CD-4D55-B681-FE979C41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04B-5070-4937-8DFC-541A6FC2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0102-D0B4-4009-9669-2F4CD0AF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9E7-959B-430A-9AE3-C3AAF8FA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C58A-651A-45D6-B9D6-CD53D0B5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B0CA-CD7A-4197-8629-ACAD6085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D5CB-CCBE-41F2-9E91-273C1DF0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8C0D-E668-4334-AC5D-35A9C348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AB2-41F2-402F-955F-B9E6D90E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81EA-0102-4776-9CC7-288B547E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66B4-B522-4197-A54D-534B2EFF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FCFD-A70A-44F9-B537-32E0C0AFB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6a |  The U.S. is not alone in relying heavily on specialty physician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4978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alists as a percentage of practicing physici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37920" y="629460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6a |  The U.S. is not alone in relying heavily on specialty physician care</dc:description>
  <dc:language>en-US</dc:language>
  <cp:lastModifiedBy>Jia Yao</cp:lastModifiedBy>
  <dcterms:modified xsi:type="dcterms:W3CDTF">2013-09-06T15:40:5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6a |  The U.S. is not alone in relying heavily on specialty physician care</vt:lpwstr>
  </property>
</Properties>
</file>