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2905-7743-4E9C-A547-155F478BE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EBF0-F07D-4FB7-B3FB-D4A888A7C8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6a | Health Spending, by Source of Financing, 20 Largest OECD Nation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314E-DCAB-477C-A2EB-8D1E57C7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4DF-8763-4022-A26C-425C1F7A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3B96-1483-4C1D-8690-1BC7C33E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563-0E19-4C17-BBA3-2972E5E3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62F2-827B-47BD-BCAC-55F991EC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8324-E6DB-4191-9E42-733EB5CF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754F-8EF4-4795-B67B-C7CB9C7F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92E8-CBF3-4020-9B4A-943A268B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CC3D-DC7A-46B3-9ACE-0D256E7D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5C72-0B21-49A2-96E7-8AECA31B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FFDB-5DAE-4DAB-8B61-73EF5687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C30-FA2D-4294-84FA-867B7C98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8868-744E-4882-9D92-36F2C2A9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C2CA-1E89-4FBA-B609-7E1C744F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E7C0-02EA-4103-BCCC-12BF3A8D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5E6B-1864-4FDC-8D6F-9397228F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239C-B3E3-48C1-805F-A46951F4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9AF1-4CFC-4998-B327-E6AD048F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4858-7767-4799-8F57-5A6ABA1E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144-F6A8-4151-9D99-A60322A9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C4C-2C0E-4290-9CAA-978C809E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FBC-F44C-4731-9E4B-F3BC0032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150A-620D-472C-BE40-58A78618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D8E-79C3-425F-B219-8D59E2BF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873A-121D-4A4F-A0FE-B99DBBA8C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2932-6557-44AB-AF52-5294A4E443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6a | Among the 20 largest economies in the OECD, the U.S. has the fourth lowest percent of health costs paid for out-of-pocke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291960" y="787320"/>
            <a:ext cx="8560080" cy="5626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2495520" y="6019920"/>
            <a:ext cx="576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Countries ranked by out-of-pocket share of total health spend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93400" y="6392880"/>
            <a:ext cx="64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Version: June 20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6a | Among the 20 largest economies in the OECD, the U.S. has the fourth lowest percent of health costs paid for out-of-pocket</dc:description>
  <dc:language>en-US</dc:language>
  <cp:lastModifiedBy>Jia Yao</cp:lastModifiedBy>
  <cp:lastPrinted>2002-05-16T21:44:34Z</cp:lastPrinted>
  <dcterms:modified xsi:type="dcterms:W3CDTF">2013-09-04T21:03:59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6a | Among the 20 largest economies in the OECD, the U.S. has the fourth lowest percent of health costs paid for out-of-pocket</vt:lpwstr>
  </property>
</Properties>
</file>