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B8D9-751B-46A3-A66C-ACD9336CD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B | TOTAL MEDICARE EXPENDITURES AS A PERCENTAGE OF GDP, CBO AND MEDICARE TRUSTEES, 2010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5250-DD5B-469D-B973-DB659E2C1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E2C-66BF-4F07-9E40-AD5A2E17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611-001F-4514-97D3-E0B5537A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8D4-D989-4A8B-8AF2-81146550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77F-D138-4BC9-84F6-0A080A70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D62-8C14-45DE-99BD-3209484E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210-ED37-434A-B73F-FBB096EA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7D5-C0F6-4338-8690-C7C55751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BC8-91D4-49AD-98D5-D353CB47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D6A-DFFC-489A-A356-1B04E1B3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554-08B8-42B7-8323-328B4FE5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12B-F290-4EC1-85E3-DC973E59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E79-AA9C-4BC0-A0AD-9282E5A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D95D-7D52-49AD-9BB7-B9927001D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b | Official forecasts of Medicare spending differ dramatically due to different assumptions about GDP growth and health spending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03440" y="1349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Medicare expenditure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b | Official forecasts of Medicare spending differ dramatically due to different assumptions about GDP growth and health spending growth</dc:description>
  <dc:language>en-US</dc:language>
  <cp:lastModifiedBy>Jia Yao</cp:lastModifiedBy>
  <dcterms:modified xsi:type="dcterms:W3CDTF">2013-09-23T19:14:2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b | Official forecasts of Medicare spending differ dramatically due to different assumptions about GDP growth and health spending growth</vt:lpwstr>
  </property>
</Properties>
</file>