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EC7AB-EB7B-4B9E-B01B-2EBD2B1A18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6A | TRENDS IN PROFITABILITY: RETURN ON REVENUE AMONG FORTUNE 500 PUBLICLY TRADED FIRMS FOR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EALTH-RELATED SERVICES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DUSTRIES, 2005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A6832-96C6-4CAF-BEC0-CACA8858D8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1384-0EB7-447E-A8A6-BD722CCF5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32D8-D98B-487D-A772-E7CDE8246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FB8F-FD02-401F-9B24-1EE05FAF6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250A-CB25-4B85-8007-9AB82074C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255B-A8BE-4D91-A4B5-DCBB94FE9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0FAD-A83E-43A1-8526-58B867591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89BC-CFA1-4806-875B-182CDD3E4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B0DC-FAB9-46C3-9017-5A1B78C38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032E-12CC-425F-A0B1-7DB810168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C50E-663C-4EA5-98C3-D397AC27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ED12-94A5-447A-B86F-81A8172B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7B32-F2DA-4BEF-8FE4-767BE7A2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DF26D-A194-40F1-9B92-2E4CA72DA1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 Narrow"/>
              </a:rPr>
              <a:t>8.6a | Among health-related services, profit margins generally are highest for health plans and lowest for health care wholesale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6" descr=""/>
          <p:cNvPicPr/>
          <p:nvPr/>
        </p:nvPicPr>
        <p:blipFill>
          <a:blip r:embed="rId1"/>
          <a:stretch/>
        </p:blipFill>
        <p:spPr>
          <a:xfrm>
            <a:off x="127080" y="1092240"/>
            <a:ext cx="8788320" cy="58165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567000" y="1143000"/>
            <a:ext cx="769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fits as a percent of revenue (return on revenue), Fortune 500 publicly traded compan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533520" y="6342120"/>
            <a:ext cx="834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Fortune.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Fortune 5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Available at: http://money.cnn.com/magazines/fortune/fortune500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6a | Among health-related services, profit margins generally are highest for health plans and lowest for health care wholesalers</dc:description>
  <dc:language>en-US</dc:language>
  <cp:lastModifiedBy>Jia Yao</cp:lastModifiedBy>
  <dcterms:modified xsi:type="dcterms:W3CDTF">2013-09-06T14:17:07Z</dcterms:modified>
  <cp:revision>9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6a | Among health-related services, profit margins generally are highest for health plans and lowest for health care wholesalers</vt:lpwstr>
  </property>
</Properties>
</file>