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9007-F0C8-4642-B35A-89F8B752D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4b | Per Capita Health Spending, by Major Age Category, 1977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6AF8-B450-48AD-B539-E4D3526C1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4D6-2975-4452-A48C-7994781B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D98-E5D4-46F9-9F9F-1E60A17F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0686-2307-4AFB-92DC-5DCC3521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BA8-3AB8-4A6F-8B88-EAAD960E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E343-918B-4566-8CF6-DD8D3D9F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9F7-70A4-45E3-A630-79FA7AC4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3B23-6240-44B1-8115-C554F929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9EE-BF71-4303-AD2F-6C0962CF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CB7A-2753-4F76-8911-68B1415D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2DF4-7D49-4FE2-89F4-6D8DE8B0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33E3-CC26-4E5E-B782-D04C50BA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4FE6-0558-4BA7-87E5-55099E38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6401-0701-4C47-8617-43DB9C364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4b The rate of increase in per capita health spending declined for all age groups between 1977 and 2004, though at varying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600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per capita health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4b The rate of increase in per capita health spending declined for all age groups between 1977 and 2004, though at varying rates</dc:description>
  <dc:language>en-US</dc:language>
  <cp:lastModifiedBy>Jia Yao</cp:lastModifiedBy>
  <dcterms:modified xsi:type="dcterms:W3CDTF">2013-09-06T15:13:12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4b The rate of increase in per capita health spending declined for all age groups between 1977 and 2004, though at varying rates</vt:lpwstr>
  </property>
</Properties>
</file>