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8D6A-3066-44CB-9ABF-416B6F31E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995A-CE00-49B1-BE3A-85179ADF72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a |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85B-3EAB-4971-9C5E-B1B9538E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3AB-4240-4B8C-B381-82BD9481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323-7215-40CB-84DD-A6B9559C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F78-F3B1-4278-90C6-BE45E7EA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C886-E678-42DE-9C86-EB8ECCA4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9A18-543D-43B5-B2A4-D7FCEFE4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E5C0-A0BC-43B4-B986-B276FC21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71CF-1266-481D-B571-3972A4C1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CF02-1188-4A98-B287-BFA61DA3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E16C-F409-4C4A-82EB-82A245F5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AD3F-59DD-4092-A01D-9793CB1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7B1-8239-403B-8662-83B4A68D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3A4D-3D39-4F63-938A-64B37ED8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A695-04FC-4FF7-8EBB-CB2426A8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D22F-81A4-430B-B41C-6ACEC470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D71A-EB5E-46C4-B54D-E05E878C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A03A-41E2-4AAF-99CE-3DCFF2FE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44A-DC75-471B-BA8B-50A2E775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5E3-8DF0-40DC-989D-9099E718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A25-8256-481A-955C-2473ACE8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C4B-BF15-4526-B20E-93D33204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E8D-CE2E-4B40-B6B6-F97B9ECB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54F-2B89-4056-9897-12B45A46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74E-1B94-4930-BC82-223E65D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1B72-2928-4896-A281-A06DAA1FB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A886-F33C-4CA1-8F5C-20158DBBF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a | Out-of-pocket spending is similar among the uninsured and privately insured, but the former receive much more subsidized car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028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380880" y="5610240"/>
            <a:ext cx="855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a | Out-of-pocket spending is similar among the uninsured and privately insured, but the former receive much more subsidized care</dc:description>
  <dc:language>en-US</dc:language>
  <cp:lastModifiedBy>Jia Yao</cp:lastModifiedBy>
  <cp:lastPrinted>2002-05-16T21:44:34Z</cp:lastPrinted>
  <dcterms:modified xsi:type="dcterms:W3CDTF">2013-09-04T21:04:1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a | Out-of-pocket spending is similar among the uninsured and privately insured, but the former receive much more subsidized care</vt:lpwstr>
  </property>
</Properties>
</file>