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095-B5A0-47ED-AC2A-43D7A30A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181-8373-439D-BE0E-F7ECC53B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162-AF3F-49D0-A4E4-E9966565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D70-2EBC-42FC-BC1D-D67C5ECB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00A-0D36-4332-8986-8C4F9A99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809-CC25-4F86-8D7F-54AA51E0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0FB-FD47-4B16-A033-F4133E93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2E2-DBF9-410F-AC09-5C6116D9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1F5-67D3-4B52-8E10-DDFA469F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473-1A6D-4C74-8A54-0E0FB0A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CF3-C594-460C-B654-1D1AB8EE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E40-4134-4909-8F10-6CA1954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B968-5534-43C6-A8D6-DF4D0DFBE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1960" y="0"/>
            <a:ext cx="856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3Z</dcterms:modified>
  <cp:revision>37</cp:revision>
  <dc:subject/>
  <dc:title>PowerPoint Presentation</dc:title>
</cp:coreProperties>
</file>