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816A-1557-4963-BBAC-0AAD09462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A | COST OF MEDICAL TORT SYSTEM RELATIVE TO NATIONAL HEALTH EXPENDITUR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2E4E-8EC0-44B9-B8D8-3C4F97F95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271-44FD-49FF-AA78-20E87968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0BA-6B36-48B9-9377-8FB336D5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849-FF8C-4E6C-836C-6FC39988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097-FC01-4629-9C2C-4F8524FA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9B1-7C1C-4155-841B-5E12BE5D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96D-AF5F-44B5-9884-F634CFE7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5F2-1D33-4CA3-A2D0-B914431B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EC7-FF3F-4432-803B-45343304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FF3-E9AF-4779-9C33-37A99ED7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3BB-E0C4-412D-A280-6994AB0F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671-EF07-4F1E-95A8-75990572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65F-DBA8-499C-BB39-73C55A67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4AE6-420F-4C0F-A392-AB0BD54E1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a | The direct and indirect costs of the medical tort system amount to about 6 dollars for every 100 dollars of health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cost per $100 of national health expenditure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85360" y="5759280"/>
            <a:ext cx="843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over CJ with EP Zeit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Services Regulation Working Paper No. MTS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shealthpolicygateway.files.wordpress.com/2009/06/mts1-medicaltort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 (accessed August 3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a | The direct and indirect costs of the medical tort system amount to about 6 dollars for every 100 dollars of health spending</dc:description>
  <dc:language>en-US</dc:language>
  <cp:lastModifiedBy>Jia Yao</cp:lastModifiedBy>
  <dcterms:modified xsi:type="dcterms:W3CDTF">2013-09-06T15:41:0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a | The direct and indirect costs of the medical tort system amount to about 6 dollars for every 100 dollars of health spending</vt:lpwstr>
  </property>
</Properties>
</file>