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9CC25-8944-456D-9A4C-A87D3BECA00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20.8C | RATIO OF ELDERLY PER CAPITA HEALTH SPENDING TO AVERAGE ANNUAL EARNINGS OF PRODUCTION WORKERS IN SELECTED INDUSTRIALIZED COUNTRIES, 2007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A5BF2-74C3-43A9-BFFE-8687988BCBA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2D9FF-C22D-4C3B-9A04-17282AB10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EDCC7-A477-4F29-A353-D3BF05944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7EA54-6A43-4C5C-8919-FDCE27197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BA9BB-8352-4F27-AEAB-4CAB0B86C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FBC24-11F6-43A5-9A15-1967A347D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70606-B869-4663-8524-16B2EEB65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62A48-B063-4FDC-9A6A-AC90B18C2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F2A48-6ECA-4EAC-944A-8B2027F4A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4D021-0930-414A-9B60-1B6F07CF4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37CB5-A2B8-40AD-BF3B-007CC2E08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4393A-9618-4176-A798-EC9155EFE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E059C-F6C2-460B-90A5-5E6E83344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6F8A9-91EB-4669-A797-C48BDB8F82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20.8c | Relative to competitors, U.S. health spending per elderly person is a much higher share of average manufacturing compens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549440"/>
            <a:ext cx="8331120" cy="482580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447840" y="1643040"/>
            <a:ext cx="839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Elderly health spending as a percentage of average annual compensation in manufacturing (2007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4T15:46:42Z</dcterms:created>
  <dc:creator>Kristy</dc:creator>
  <dc:description>20.8c | Relative to competitors, U.S. health spending per elderly person is a much higher share of average manufacturing compensation</dc:description>
  <dc:language>en-US</dc:language>
  <cp:lastModifiedBy>Jia Yao</cp:lastModifiedBy>
  <dcterms:modified xsi:type="dcterms:W3CDTF">2013-09-23T19:14:39Z</dcterms:modified>
  <cp:revision>645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20.8c | Relative to competitors, U.S. health spending per elderly person is a much higher share of average manufacturing compensation</vt:lpwstr>
  </property>
</Properties>
</file>