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5B1F-0F3A-4CD4-A38B-0DE935A95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377A-309B-44AE-8D7B-1B6CC9D7C1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b | DISTRIBUTION OF PERSONAL HEALTH CARE EXPENDITURES BY SELECTED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A9B-B212-4102-9185-AFC54FDE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AE0-AAC4-492F-A703-EB6E1152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64D-0693-4D19-A26E-D484DE24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CF5-D14B-4E60-9B33-07A3B039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56C0-8C7A-4681-8CEC-BF45119C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9D13-2105-46C5-8EE2-FF3F9A53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20B6-F3EE-44AC-9E4A-D5C3CFE4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29BF-D1E1-4A26-B54D-3B74AC73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24E5-3D25-4C81-8714-6FDB6F97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B91A-58A2-4D6C-A211-F1B7D381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601F-DEE8-43D7-A9D1-FD162E1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7D2-6DA5-4C97-A32D-D6093EB0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5E37-2514-4DF2-A805-BA764C3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65AB-083B-4D40-9C98-6B2ECCA7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7EB3-C6CA-4709-B4C2-1AD70856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4B69-449E-41C6-8982-63B85CAF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A69B-3213-4F8D-B058-E11EE361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17F-CA57-4675-BCC6-07FE3CE3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1D1-13C5-4E4B-A821-72B06BF8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527-B379-49C9-88AD-C6517366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1BA-99EE-4CD0-AD73-FDB9323A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3CF-6FB0-4BA7-B542-D74D034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5D5-E9A5-4851-BF3D-638A3E0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743-9904-410B-BDBF-3BF15343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3CB0-5969-41C7-8269-3ABF3A7D1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A1CB-20E4-4D4A-9C19-76A7ABC84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b | While the share of PCHE accounted for by dental services has declined steadily, trends for other components are more mixed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b | While the share of PCHE accounted for by dental services has declined steadily, trends for other components are more mixed </dc:description>
  <dc:language>en-US</dc:language>
  <cp:lastModifiedBy>Jia Yao</cp:lastModifiedBy>
  <cp:lastPrinted>2002-05-16T21:44:34Z</cp:lastPrinted>
  <dcterms:modified xsi:type="dcterms:W3CDTF">2013-09-04T18:13:23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b | While the share of PCHE accounted for by dental services has declined steadily, trends for other components are more mixed </vt:lpwstr>
  </property>
</Properties>
</file>