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474A-1DAD-4046-A095-989640F65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8.1a | Wage and Salary Supplements, by Type, as a Percentage of National Income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B04E-CED0-4B2D-9B84-6E7439E38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734A-8EEC-4F72-BA13-451F84AB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84CF-EC33-4750-BAB5-92DA4A54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D98A-7831-4846-AA83-B2248BB0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6B20-6FCD-48F4-AC87-9D8D2B29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5669-9B37-4161-9A98-67F0319F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84F4-BF0B-42B1-A8E6-3401E4EB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EA54-8D95-4CB6-A456-776E3B1B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F286-D137-4638-ACBA-AB29DDCC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A2E-CB6C-4308-AB74-235B7354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672F-97D3-4E01-B907-F1DC763E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8B4D-1E56-4CB3-97A5-EBCF935B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E71C-CE46-46C7-9D5B-AAD409C0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A4A0-FE52-4AF4-90A1-FFD4199F5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1a. Despite rapid growth in health-related supplements, employee compensation as a share of national income has declined since 19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14200" y="957240"/>
            <a:ext cx="856008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39560" y="5943600"/>
            <a:ext cx="842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ote: Health-related supplements include employer contributions to health-related social insurance  (Medicare Part A, workers’ compensation, temporary disability insurance) and private group health insuranc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1a. Despite rapid growth in health-related supplements, employee compensation as a share of national income has declined since 1980</dc:description>
  <dc:language>en-US</dc:language>
  <cp:lastModifiedBy>Jia Yao</cp:lastModifiedBy>
  <dcterms:modified xsi:type="dcterms:W3CDTF">2013-09-06T14:16:48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1a. Despite rapid growth in health-related supplements, employee compensation as a share of national income has declined since 1980</vt:lpwstr>
  </property>
</Properties>
</file>