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07B-3FF4-4569-85B7-FF3B9769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313-C5E4-4840-9045-9E336420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062-245A-4061-AA36-2C6318CC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A69-972C-406C-9011-D0681B33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04C-BE74-4C3B-BEA5-9E9C8BC9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1B9-AB32-4833-9C63-6A3B13F2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727-0E21-42F7-8080-24E64356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C19-4FCA-4A0E-9FEC-E1DFDABB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703-9697-4D93-9FFC-9214B7BE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07A-D1D9-4A66-B648-19046367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D54-26A3-4DEE-9AA1-069AF2F7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3CD-3AFA-430D-BAB7-391014A5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27A9-3B79-40B0-9421-C697516DD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19040"/>
            <a:ext cx="9085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0Z</dcterms:modified>
  <cp:revision>37</cp:revision>
  <dc:subject/>
  <dc:title>PowerPoint Presentation</dc:title>
</cp:coreProperties>
</file>