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7B2-183C-407D-BA2B-51AA9B80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F69-C0F7-47E6-B1E1-DDF56A82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A43-0E3F-4975-BEE0-AE453EE8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042-4213-439C-9161-A15E1923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1D8-3A63-4BE4-AC74-4F02B324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D5A-8326-4704-8105-6C823EF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0F6-8F89-478D-B93A-DBDFA62F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058-BBA7-4E4A-873A-F336163B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72F-DCEC-4B37-8F3C-42FE753B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995-1709-4757-BAB4-4651F004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7EE-CFA7-4A36-BA1F-B233560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9DF-4488-428F-8412-53ACC3E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8809-EA14-42E2-867E-42088D84E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6480"/>
            <a:ext cx="8999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8Z</dcterms:modified>
  <cp:revision>31</cp:revision>
  <dc:subject/>
  <dc:title>PowerPoint Presentation</dc:title>
</cp:coreProperties>
</file>