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9695-5DD0-46DA-A8F4-5A9B199DC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7795-C6EF-46DB-A0FA-89AACD42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2BFF-DB2B-4A84-85E4-EC5DF654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01ED-4374-4BC2-B22A-B696764AD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1C7E-BC87-4B78-8410-8D9A3F6A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2C2D-F9D0-4397-805D-6C29F1C2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B4E4-4CF2-455A-85F6-3830010C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5FB7-C4A1-4698-B18A-549B93E8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F244-23AA-430B-9DB1-253247CC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E273-59E8-4777-BE67-D3EE4297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FFD2-9682-4A6F-B3F8-F9E9791C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684E-4D0C-4F34-88F8-F9135D71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EAED-6346-4FEB-A3CB-3AA450210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068480"/>
            <a:ext cx="914400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7Z</dcterms:modified>
  <cp:revision>31</cp:revision>
  <dc:subject/>
  <dc:title>PowerPoint Presentation</dc:title>
</cp:coreProperties>
</file>