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B398-9D52-4AC9-BA2C-444599894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E187-83D0-445D-8E9E-A945B9D3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64FA-5A1F-49C6-AEED-89BC9DAC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4328-2266-46A1-828D-44BB429CD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3371-2F23-40B0-B957-379E176A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CFF0-F48C-401E-BC3C-41DFCFCC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5E91-32B8-4484-820F-4550FA67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6648-656E-4612-9FE6-B578AEF9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9396-BD84-4134-B8F9-E8270ACE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4A94-C6AE-4074-B2FA-3C7B996C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C9F2-62F2-49B8-8BBC-21BE42B1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9E5E-47D1-47AD-83EB-9846182E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F190-A13B-49CD-92F4-D0ED9D5D5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81000" y="457200"/>
            <a:ext cx="8982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0Z</dcterms:modified>
  <cp:revision>39</cp:revision>
  <dc:subject/>
  <dc:title>PowerPoint Presentation</dc:title>
</cp:coreProperties>
</file>