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29A3-C730-4CD8-96C3-6B0C758FD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A | PHARMACEUTICAL RETAIL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12B5-A468-427C-BBDF-E0D1DD386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53B-E940-49A7-92A8-F3755D17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CF7-2F57-4DBA-A24E-A390F35C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E8A-5636-4B16-B93D-F097E511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A04-4265-42A5-BF80-259FAEDB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35A-6ED5-46A6-85FC-7C20049F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26C-E57C-47B3-B657-7148D278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C81-ED7C-4F60-8612-1B6D38D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BB2-FF70-4250-8F8C-3C606341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EAF-B54D-48CA-9D55-DCB660E6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05A-5172-499A-BB28-040E9A93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2D6-670B-494C-B19F-C553CF4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0A1-96A6-44E3-95F5-391BC5C1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2B64-2602-4B58-82C8-4557A415D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a | Americans generally pay more for drugs on patent than other nations in the G7, but less for over-the-counte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a | Americans generally pay more for drugs on patent than other nations in the G7, but less for over-the-counter products</dc:description>
  <dc:language>en-US</dc:language>
  <cp:lastModifiedBy>Jia Yao</cp:lastModifiedBy>
  <dcterms:modified xsi:type="dcterms:W3CDTF">2013-09-06T15:41:0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a | Americans generally pay more for drugs on patent than other nations in the G7, but less for over-the-counter products</vt:lpwstr>
  </property>
</Properties>
</file>