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CC16-11E8-430A-A01D-76203D1A0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4.3 | State Rankings of Health Services Regulation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A051-E3D5-455B-8179-179040108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666E-F55D-4257-BABC-764B34A5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11C-F28B-4F8F-917F-5E1296B1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A5F-2D03-439E-A4A6-D01FEC27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694-BB0E-4F02-8397-1EC3167A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087-ACBE-4FD3-B5AB-30CDD0D9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C73-C012-41AE-993E-A11AD714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66D9-9793-4549-B43A-FF0F88F1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11D-3834-4DFE-92F0-817FF5F8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EFB-6C4A-444A-A35E-1E4435B6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BD17-21FA-470F-8404-09948EB6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B9F-15E2-4007-8EA7-DEC454CE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3E7-472C-4F93-8B60-BB13F573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FABC-7DFB-4C15-9D97-AFF378AAB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4_3.png"/>
          <p:cNvPicPr/>
          <p:nvPr/>
        </p:nvPicPr>
        <p:blipFill>
          <a:blip r:embed="rId1"/>
          <a:stretch/>
        </p:blipFill>
        <p:spPr>
          <a:xfrm>
            <a:off x="912960" y="571680"/>
            <a:ext cx="6935760" cy="51973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447920" y="7621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4.3--State Rankings of Health Services regulation, 2007 (1=lea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09480" y="585144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Graham J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dex of Health Ownersh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3rd Edition. Pacific Research Institute. 2009. http://www.pacificresearch.org/docLib/20090720_IHOP_3_2009.pdf (ac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22:45:09Z</dcterms:created>
  <dc:creator>Jia Yao</dc:creator>
  <dc:description/>
  <dc:language>en-US</dc:language>
  <cp:lastModifiedBy>Jia Yao</cp:lastModifiedBy>
  <dcterms:modified xsi:type="dcterms:W3CDTF">2013-09-09T22:45:55Z</dcterms:modified>
  <cp:revision>1</cp:revision>
  <dc:subject/>
  <dc:title>PowerPoint Presentation</dc:title>
</cp:coreProperties>
</file>