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A4A2-8F5C-4948-984C-4DB86B922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AA34-BFB3-4D09-A87D-59231E85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86DB-D2A3-497C-A1B5-869215892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2B51-2F81-46C9-8525-98D10C820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4C8D-0352-43D7-B9ED-52FBB49A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5D5C-0538-451E-BFC1-47BF35D1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11FC-5969-45CC-8D87-24A3246D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45D6-7955-4549-A44E-807E0C17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E8F6-6C2C-4015-968A-3C320AE6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59C6-F681-4895-8253-A13094C0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0399-A7BB-4CC6-A006-B0872D3A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04FA-629E-42F4-B537-5CCF5E16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E3B9-8628-49BE-9D05-3D39E25029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87480" y="838080"/>
            <a:ext cx="89690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5Z</dcterms:modified>
  <cp:revision>45</cp:revision>
  <dc:subject/>
  <dc:title>PowerPoint Presentation</dc:title>
</cp:coreProperties>
</file>