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714-FBA7-42E0-963B-593E1A95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E07-0A26-4375-9420-1CEC86F8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B0E-39F0-47E6-8C34-6C0955E3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B1F-965D-4DE5-8F80-669F72D6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CA0-051B-46C7-B200-0FC898AF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7EF-A776-4CED-BAD3-2D91BA9E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694-63E2-4A01-B584-28FE5436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064-A887-4C4B-9BB8-B0C8A599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8E0-9B75-4AD9-8E50-2BE67AE3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A0B-3520-41C3-9DCC-0315BF88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76E-674E-48FA-ADBB-94BA9A5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78A-2D35-4B51-960D-4054F174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20EF-048A-434C-92C6-0D17A28DC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072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9Z</dcterms:modified>
  <cp:revision>20</cp:revision>
  <dc:subject/>
  <dc:title>PowerPoint Presentation</dc:title>
</cp:coreProperties>
</file>