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76B8-61B9-416D-9318-F95386618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1AF6-AF55-46D8-97C1-0378C32FD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78DA-7FCC-4B6C-B3DB-4CCF28C49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D6E2-C775-4D6A-A8CE-673F3DF14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1DA2-7599-4078-85B7-D0848D9B2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444E-7035-4D6A-B8A4-B4DB53A02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BCE9-E3AD-465A-9F80-DB4BF81CD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012A-E00D-4FD4-AD07-5C3830784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E3DF-EE8D-4C83-B22B-5DEFBDA99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26A3-F144-4D57-BB09-BA68AB12F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6971-1534-4AC9-9C3F-9FF4DAD5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78A5-A0F3-4968-B68E-D8976EC48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B7881-C374-4E19-9F28-8C4E0305A7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52560" y="228600"/>
            <a:ext cx="90388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42Z</dcterms:modified>
  <cp:revision>39</cp:revision>
  <dc:subject/>
  <dc:title>PowerPoint Presentation</dc:title>
</cp:coreProperties>
</file>