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DE16-5935-44EB-9B8A-BE3654B38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1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4173-D20D-4191-AA38-15A4D601A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C16-86B6-4456-8218-27CC6C50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31A-6188-4ED1-B51F-88452CF2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0DB-5D7F-4689-9E30-A1D4B43B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CB4-0AAB-4FDB-A998-401D790A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091-B090-46BD-989E-85DB15F7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485-FE63-4070-BC68-4DDA4677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B7BA-E8E5-4698-9592-37847D03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302-398F-4C01-9104-D2A68076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672-9D51-44B3-8BCD-EEDBA240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D53-0483-41AC-A61A-216D361E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9F3-DDAF-46DE-A538-892273C9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1E8-FAE6-4E15-BA43-6ADC0CB9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4736-677D-42B0-8078-09C444B6D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1 | Public and non-profit owners dominate the hospital sector and provide a large fraction of nursing home and home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1 | Public and non-profit owners dominate the hospital sector and provide a large fraction of nursing home and home health care</dc:description>
  <dc:language>en-US</dc:language>
  <cp:lastModifiedBy>Jia Yao</cp:lastModifiedBy>
  <dcterms:modified xsi:type="dcterms:W3CDTF">2013-09-06T14:09:47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1 | Public and non-profit owners dominate the hospital sector and provide a large fraction of nursing home and home health care</vt:lpwstr>
  </property>
</Properties>
</file>