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8445-A8A3-4C83-83F3-3F177887F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0E1D-11FF-4E42-85B0-319D3495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A67C-7089-45B6-936A-ED30A56EE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65B6-6E66-4C98-A73E-A8CB412D9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B2E1-7E49-4BCC-ACA8-C64FAA28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AD13-432A-4394-9D92-6E4FB940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CCCD-A16D-4D2F-BDF6-B3D5FC8C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031C-8621-4F34-9437-DF5EFB35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4CD2-D53F-48CE-88F6-985F2670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5A46-556C-4B6F-963B-19616764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460A-F7A5-42BB-9F21-00CD7D14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4B90-3D11-4C23-8DD9-7C3A4508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41D2-D053-48FB-B429-48CEA39A4E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9200" y="304920"/>
            <a:ext cx="898848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0:56Z</dcterms:modified>
  <cp:revision>30</cp:revision>
  <dc:subject/>
  <dc:title>PowerPoint Presentation</dc:title>
</cp:coreProperties>
</file>