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55E-44B2-4573-A025-515EDFDD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5DB-E1AF-49B4-A73B-D3ACC29B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A5D-5B6C-46EF-BA79-D938C035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716-C171-4A0B-8D0E-1B2FCDD0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FEF-11AD-498D-BEF1-A0166191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D31-4B98-4776-B42B-3486103D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F40-7610-419F-8D4E-A30CB588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A19-1A63-41DE-A00E-A4897289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2E4-B28E-4EB3-921E-6C0FA482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884-62CF-4547-8F33-46374BB5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669-C611-4FCC-AA3C-519844D0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03B-F45E-467E-9925-4477B516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3FAA-88D4-4103-B9DB-A818C66BC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6Z</dcterms:modified>
  <cp:revision>35</cp:revision>
  <dc:subject/>
  <dc:title>PowerPoint Presentation</dc:title>
</cp:coreProperties>
</file>