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06D9-D8C3-4D31-9E29-406E227BA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3B | HEALTH-RELATED FRINGE BENEFITS AS A PERCENTAGE OF NATIONAL INCOME BY TYPE, 1948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E23D-9305-46E2-B21A-3324F01F8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13C9-AE02-41F9-BC26-ACDC3038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ACF-020D-4E72-B7C8-F7889331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68A-6C26-4E86-B41F-B33535E7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9C7F-361B-42E0-8B4B-E0781B5D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47C5-DD31-4D4E-BBEA-62A986A7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DD47-7EF3-4A80-8FBA-0E8D951E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2B7-BBF8-40A4-B8A5-E9E6DCD0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D0D-B343-4C93-BFD5-05146E8D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82E9-BE2A-46B2-B34C-2FFD71FB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5A0A-4BCF-4BD3-8A1E-37CD4A9F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04B-0E78-4401-A098-88406B42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CE4-0422-4D33-9483-5357FCF6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C95F-C1E8-4A15-978E-03FB4046A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3b | The health services share of owner income is nearly as high today as it was in 1929; the share for all other services has increas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01520" y="1244520"/>
            <a:ext cx="88646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3b | The health services share of owner income is nearly as high today as it was in 1929; the share for all other services has increased </dc:description>
  <dc:language>en-US</dc:language>
  <cp:lastModifiedBy>Jia Yao</cp:lastModifiedBy>
  <dcterms:modified xsi:type="dcterms:W3CDTF">2013-09-06T14:16:58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3b | The health services share of owner income is nearly as high today as it was in 1929; the share for all other services has increased </vt:lpwstr>
  </property>
</Properties>
</file>