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168-CE97-4668-BFC2-5B9F75A5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A8A-B518-4C44-9551-9C631334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560-7392-4EC5-B1BB-44C562EC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496-AAE7-4F20-A123-8C84C128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FD1-365C-4B71-B4CB-9CB109D8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FE7-F881-48D4-BB0C-52C0197E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ECA-243F-4BA5-9C88-800D23D8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038-6B26-4E5B-A9E7-4CBA5AD8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15B-12D1-40DA-99D8-9D447CB8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827-991E-45CE-AE36-033B46CA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58E-6203-4FD9-8F58-DDF84A60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7B0-B2E8-4B0F-8391-90B3A5F8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05D7-A41C-4D00-815C-5FAD19185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0Z</dcterms:modified>
  <cp:revision>20</cp:revision>
  <dc:subject/>
  <dc:title>PowerPoint Presentation</dc:title>
</cp:coreProperties>
</file>