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F7B-1BDF-43AA-AF05-0D13C904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D2E-F96B-46BC-93B3-593E15F3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BA0-20E6-4283-B63B-EA9EE4FC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89F-5A97-41C5-B9E3-F720CE50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565-8F6D-4910-B296-30730F98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3A3-45DD-4029-BCF2-EFD2E334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17C-7C2B-4092-9642-52F1B57E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C6A4-87EC-483C-85F0-D563D20E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86E-943C-4301-A978-26A37ADB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445-B04E-4D58-A339-B49CE947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C86-932C-4547-A20C-C7BEC887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38E-0BFE-4D23-B8BA-047A2102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BFBA-FA11-445E-8434-BFAC2EFC0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1295280"/>
            <a:ext cx="9124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0Z</dcterms:modified>
  <cp:revision>28</cp:revision>
  <dc:subject/>
  <dc:title>PowerPoint Presentation</dc:title>
</cp:coreProperties>
</file>