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263C-F896-4E6D-9F80-ADE14E763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2A | ALTERNATIVE MEASURES OF PRICE INFLATION FOR HEART ATTACK TREATMENT, 1983-199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AD3F-A603-494E-B200-CD5B097DB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4BF-2786-40AE-9866-4B2492E0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950-67FC-4840-A3B8-CF0818D3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F1C-1E10-46EF-AE5D-4E31E309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B11-6605-4FB0-93B3-2AF7BD20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84D-562C-4809-8589-09B0B5EA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D68-CC61-44CF-9D10-ADF763E0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618-1710-48EB-83D1-1B7B37DA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AC8-6C2C-4333-8742-EE95AD71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DEF-6FB0-4DC9-820B-54774B5B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251-B141-4DC9-942C-1F857FF9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2CC-8799-497B-8A13-6C4B157F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BBF-8B8C-4567-B3E1-8FAA8BC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2BAA-2B91-48F5-8C7D-4D5B0E29B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2a | The price of heart attack treatment rose by anywhere from under 10 percent to more than 35 percent depending on how prices are meas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7883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983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73120" y="57960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M McClellan, JP Newhouse and D Rem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icing Heart At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reatments. Medical Care Output and Productiv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ational Bureau of 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. http://www.nber.org/chapters/c7634.pdf (accessed August 9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a | The price of heart attack treatment rose by anywhere from under 10 percent to more than 35 percent depending on how prices are measured</dc:description>
  <dc:language>en-US</dc:language>
  <cp:lastModifiedBy>Jia Yao</cp:lastModifiedBy>
  <dcterms:modified xsi:type="dcterms:W3CDTF">2013-09-06T15:31:43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a | The price of heart attack treatment rose by anywhere from under 10 percent to more than 35 percent depending on how prices are measured</vt:lpwstr>
  </property>
</Properties>
</file>