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5A6A-4DD1-430E-9F79-48D946EDB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A | REAL PER CAPITA TOTAL GOVERNMENT EXPENDITURES AND GOVERNMENT EXPENDITURES ON HEALTH CARE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7AAB-7468-477D-981E-E4EB30B4A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8D2-7E98-49A3-80F3-C3E40372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735-36C5-4052-A0AC-8614EC5A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580-B7BD-4C4E-9571-EDFC70C4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AE8D-883B-4187-85B9-A2834B00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EC4-E66F-499A-95E0-845CD73B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C7A-AEAB-46C2-AF5A-4EB11B9A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DD7-47BD-4BA6-AC6B-6FC155D5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085-85BA-4BC5-B9F5-47A33B16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4E6-30E6-46B6-AED8-2A874F9F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09C-A9C6-49C8-8DA2-73D10D20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EC7-1713-4C59-B95F-429E0785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66F-3FB3-4EF4-974C-38C4F3D4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F5E9-C0D3-419D-83F3-A7E4DCADB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a | Real government spending on health has increased 30-fold in the past half century; the increase is 17-fold in per capita ter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8240" y="1447920"/>
            <a:ext cx="657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dexes of real government spending on health using chained GDP deflator: 1960=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.a | Real government spending on health has increased 30-fold in the past half century; the increase is 17-fold in per capita terms. </dc:description>
  <dc:language>en-US</dc:language>
  <cp:lastModifiedBy>Jia Yao</cp:lastModifiedBy>
  <dcterms:modified xsi:type="dcterms:W3CDTF">2013-09-06T14:00:47Z</dcterms:modified>
  <cp:revision>15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.a | Real government spending on health has increased 30-fold in the past half century; the increase is 17-fold in per capita terms. </vt:lpwstr>
  </property>
</Properties>
</file>