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316-F1FE-4C05-B86D-8FE7CF97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966-04AB-479D-B04F-809AB190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3E31-2BF5-4C86-8FB6-009FCA47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15E-259B-429B-BF86-C3BDBFF3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720-908A-4E78-A07A-2BA55B52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EF7-CE92-472D-AC9A-39AB3664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4CC-E668-4925-8A6E-9EA0EC8F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1F63-D0C9-4E8B-A037-8A5097C0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2FD-68F9-4898-9B55-863F82AB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62EC-2EDD-4E29-88FE-7186E2AB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81A-C5E2-40AA-BAE6-7610A0B5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3E4-DED0-4D6A-AB1A-20510120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20CD-D94C-46EE-9D03-1614D82AB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760" y="0"/>
            <a:ext cx="828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8Z</dcterms:modified>
  <cp:revision>35</cp:revision>
  <dc:subject/>
  <dc:title>PowerPoint Presentation</dc:title>
</cp:coreProperties>
</file>