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EF1-0F5D-4D7C-8C38-507246A1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2AE-5501-4A5F-8091-03F0AE88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8FB-C9A6-4A37-A796-F1C2AA23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2BB-99B0-4FB7-9DED-9D88F99F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827-5B7A-425F-89EF-5391FB7B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DA3-02AF-4BB1-B3E8-84F5E90C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2AF-3B41-4EEB-9E49-A511ECFB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50F-5AEC-4C1F-B5BA-9A6A9995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30E-B5E3-4ABA-BE00-AF95888E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D57-1D14-4B00-B154-17D2C52E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C2C-CCB3-435B-9FC9-75817B0E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C40-7E89-4BB3-B007-A068FBB7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A62E-72EC-43A3-8209-D7BDE9235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1Z</dcterms:modified>
  <cp:revision>37</cp:revision>
  <dc:subject/>
  <dc:title>PowerPoint Presentation</dc:title>
</cp:coreProperties>
</file>