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1DF-13A5-4470-9EC2-7CD1BBA3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06A-E882-4694-95D1-C787D048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637-09B1-4446-AA2F-FA1B045E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3D3D-ADB5-481D-B4CC-7BB9EDBE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1F8-A4EE-495E-8718-8FDF979C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9E6-49C8-4314-AB51-7B15AAA6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339-61F9-44BF-88CD-1AD41D40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2DE-AE6D-43F5-8C18-3C924947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B7F2-3317-47C3-957A-9DB22C94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333-E72C-42E1-8FBD-BE985FE0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B4E-F6AB-4B7A-A5D8-C0A454AD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AA7-53DD-410A-86E2-99545E4F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9E6C-E6E6-40BF-90DB-F19F6325E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2Z</dcterms:modified>
  <cp:revision>31</cp:revision>
  <dc:subject/>
  <dc:title>PowerPoint Presentation</dc:title>
</cp:coreProperties>
</file>