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289-65F1-4085-B572-5A973AF0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07F-181B-4F38-A39B-D567DA1D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6F7-AC4A-4D84-95C6-CEC2EAE8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008-3104-4638-B31B-311598A9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2BA-9D36-482E-A62A-CC0138C2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81F-6435-4656-BD31-5AAADC67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EB2-71E3-44A4-B0DC-055DAEB8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472-E37A-455D-89B3-34C1396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A8E-7E50-42F8-8BA5-208497CC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C3F-2DA2-44B5-9313-B1389946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471-9421-4F11-A55F-E91277A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6CC-9CE7-458C-9935-CE2FE104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31F-3AEA-48F6-9111-8B13BB377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76320"/>
            <a:ext cx="90946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7Z</dcterms:modified>
  <cp:revision>20</cp:revision>
  <dc:subject/>
  <dc:title>PowerPoint Presentation</dc:title>
</cp:coreProperties>
</file>