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90C-33A4-417F-9927-4D025A8F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4C7B-D42F-4928-A98F-D5D4EC32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821-0DFD-49C4-8B0C-759C0EEC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7D2-B4E9-4B23-A44B-E3A6B6E3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DF6-0EF5-4F9C-9A55-2E160F02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65E-BB05-43AC-8B52-2D8B3C60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51D-4319-4C4B-A297-A35986B1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C44-9964-4A71-9A93-89E1B3F6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0B3-319D-44D0-B979-B824DB53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BDF-1701-4C2A-93AC-0A870BE9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AFE-514A-4D40-8EBF-94C7AA79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6BA6-F77E-430D-A535-C2FBAE12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4CBF-017E-4284-8084-333EBB43D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0"/>
            <a:ext cx="8972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31Z</dcterms:modified>
  <cp:revision>35</cp:revision>
  <dc:subject/>
  <dc:title>PowerPoint Presentation</dc:title>
</cp:coreProperties>
</file>