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5A779-7B2A-4CA7-8A1A-9A881CF499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4.3A | Alternative Measures of Concentration Among Health Insurers Across Metropolitan Statistical Areas, 20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9AC4E-F396-4880-816E-DFF45FCFB7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231A-DDE5-4210-B0B2-8523BB6AF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89E7-7456-4F5E-AE2D-CF869080B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FD48-CFC6-47EF-9A83-90F6D730D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99BC-4A45-4A07-915F-7231C24C7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8E30-46DC-45FE-B620-4260C0BCC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94ED-44ED-4B6D-8B71-E7DEADFFE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D253-74B7-4655-8DC7-6346F534F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BA4D-15F9-48DC-BED2-39CD8CFD4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A301-AAED-48F5-94AE-91C814AB3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9F76-5C6E-4DC9-96A4-4199B4E7A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1CBF-1211-4F03-86C3-28A60116D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1D41-5B8E-4449-8ED2-0056F38BD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AC825-C892-4611-B724-878EE59EAE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4.2a | By conventional measures, many metropolitan areas appear to have very high levels of insurance company concent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4" descr=""/>
          <p:cNvPicPr/>
          <p:nvPr/>
        </p:nvPicPr>
        <p:blipFill>
          <a:blip r:embed="rId1"/>
          <a:stretch/>
        </p:blipFill>
        <p:spPr>
          <a:xfrm>
            <a:off x="176040" y="1558800"/>
            <a:ext cx="8788680" cy="535968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3"/>
          <p:cNvSpPr/>
          <p:nvPr/>
        </p:nvSpPr>
        <p:spPr>
          <a:xfrm>
            <a:off x="609480" y="1447920"/>
            <a:ext cx="746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centage of Metropolitan Statistical Areas (MSAs) with concentration level (200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453960" y="609588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: American Medical Association. Competition in Health Insurance, 2010 Update. Chicag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2010. Managed Market Survey © 2008, HealthLeaders-InterStudy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8T12:01:16Z</dcterms:created>
  <dc:creator>Kristy</dc:creator>
  <dc:description>14.2a | By conventional measures, many metropolitan areas appear to have very high levels of insurance company concentration</dc:description>
  <dc:language>en-US</dc:language>
  <cp:lastModifiedBy>Jia Yao</cp:lastModifiedBy>
  <dcterms:modified xsi:type="dcterms:W3CDTF">2013-09-06T15:22:53Z</dcterms:modified>
  <cp:revision>28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4.2a | By conventional measures, many metropolitan areas appear to have very high levels of insurance company concentration</vt:lpwstr>
  </property>
</Properties>
</file>