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D8F-A8D1-478C-B4FD-174C1831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031-8448-4435-888C-B25C4F8D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4F5-B6D1-4C8C-812B-8F7002BD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643-9FE4-442C-94EC-6DF7636B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4CC-59C7-4FA2-B3DB-C8A5F4F7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4A8-20F7-40DE-B146-F9280963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B5E-EF54-4EA2-A67C-F024594A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2B6-461A-4EDF-B794-137BD59B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F3E-D2AD-4AAD-BB91-0EDBE76D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55E-A920-42F4-ABF0-395F3703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336-F6F4-4754-BE8E-5D4197E7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AB9-B7A4-4A91-9307-2BC59895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00B0-E9BA-44CE-9001-1BC52CF39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8718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9Z</dcterms:modified>
  <cp:revision>14</cp:revision>
  <dc:subject/>
  <dc:title>PowerPoint Presentation</dc:title>
</cp:coreProperties>
</file>