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5F9A-3BE0-4E66-A1DA-55A16A546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3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a | Per Capita Income and Health Spending as a Percent of Gross State Product, by State of Residence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7365-7A34-454B-9804-F6C13665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D031-6B07-43FC-8B64-8B34F67C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FAC-01C9-40FA-AECE-BDA21EF2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973-68C2-4385-AD03-B2145D3B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216-70E7-4F3D-BD37-93D1306F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B51-9BCF-435E-9AFA-4C9E39F9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5C5-6151-4BFA-9C3A-499A01F4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79F-73FF-4CFD-869F-C6DAB970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D44-58B2-49C9-8033-55343FBF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B2B-EAB0-4720-B0B4-9576E5FC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AED-819E-40F7-9CBC-E2110D0E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26F-AB54-4D36-9F58-92E57DC6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B037-AF05-467B-8D47-2D61DDB16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3" descr=""/>
          <p:cNvPicPr/>
          <p:nvPr/>
        </p:nvPicPr>
        <p:blipFill>
          <a:blip r:embed="rId1"/>
          <a:stretch/>
        </p:blipFill>
        <p:spPr>
          <a:xfrm>
            <a:off x="0" y="1473120"/>
            <a:ext cx="8686800" cy="5130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315200" y="54100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523880" y="3886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514600" y="1981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572000" y="47242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Straight Arrow Connector 24"/>
          <p:cNvCxnSpPr/>
          <p:nvPr/>
        </p:nvCxnSpPr>
        <p:spPr>
          <a:xfrm flipH="1" flipV="1">
            <a:off x="4272840" y="4571280"/>
            <a:ext cx="299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Text Box 10"/>
          <p:cNvSpPr/>
          <p:nvPr/>
        </p:nvSpPr>
        <p:spPr>
          <a:xfrm>
            <a:off x="4572000" y="4267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Straight Arrow Connector 26"/>
          <p:cNvCxnSpPr/>
          <p:nvPr/>
        </p:nvCxnSpPr>
        <p:spPr>
          <a:xfrm flipH="1">
            <a:off x="4304880" y="4343400"/>
            <a:ext cx="267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 Box 10"/>
          <p:cNvSpPr/>
          <p:nvPr/>
        </p:nvSpPr>
        <p:spPr>
          <a:xfrm>
            <a:off x="45720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4864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143000" y="2286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3"/>
          <p:cNvSpPr/>
          <p:nvPr/>
        </p:nvSpPr>
        <p:spPr>
          <a:xfrm>
            <a:off x="533520" y="15238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health spending as a percent of gross state product, 2004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228600" y="274680"/>
            <a:ext cx="86868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a | Differences in per capita income alone account for more than one third of differences in health spending burdens across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733920" y="518148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37"/>
          <p:cNvCxnSpPr/>
          <p:nvPr/>
        </p:nvCxnSpPr>
        <p:spPr>
          <a:xfrm flipV="1">
            <a:off x="3961440" y="4952160"/>
            <a:ext cx="6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Text Box 10"/>
          <p:cNvSpPr/>
          <p:nvPr/>
        </p:nvSpPr>
        <p:spPr>
          <a:xfrm>
            <a:off x="2286000" y="2362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09880" y="28195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/>
  <dc:language>en-US</dc:language>
  <cp:lastModifiedBy>Jia Yao</cp:lastModifiedBy>
  <dcterms:modified xsi:type="dcterms:W3CDTF">2013-09-06T15:13:2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