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8D13-9DD5-401E-BA2B-B68D149D1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9B | MAJOR DETERMINANTS OF LIFE EXPECTANCY AT BI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6BDF-BFD8-45E2-8DCF-6441C531F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A5A-4212-4BE4-BB47-71AAAAD7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458D-76CB-47B3-A1E1-581B93B3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317-E21A-48C5-9E3D-74C4BD72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9A35-F596-4AAA-AFF0-47DEAE50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2C0-B470-4E5C-8420-6A816BD7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968-2F95-4C2F-9B7A-8001DDB8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B0F-00E7-4E1E-A449-598B26FD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AA6-F4BE-4071-9AA7-14ED0A54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6486-D9FC-4EBB-9BFD-EA15F992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4DFF-545B-480E-87BC-A639D2A7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F91-E3D5-4F5E-84C1-27064C26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17E-DB99-45A6-B45A-B3DB4B85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61E7-B0F1-4CDC-90CA-2CAFFDE09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x.doi.org/10.1787/24085850013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9b | Other determinants of life expectancy at birth are of equal or greater importance than the availability of doctors and nur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 change in life expectancy at birth per 10 percent change in f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0160" y="5759280"/>
            <a:ext cx="831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Joumard, I., et al.  (2008), "Health Status Determinants: Lifestyle, Environment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Care Resources and Efficiency",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Economics Department Working Pape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627, OECD Publishing. doi: 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0.1787/2408585001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9b | Other determinants of life expectancy at birth are of equal or greater importance than the availability of doctors and nurses</dc:description>
  <dc:language>en-US</dc:language>
  <cp:lastModifiedBy>Jia Yao</cp:lastModifiedBy>
  <dcterms:modified xsi:type="dcterms:W3CDTF">2013-09-06T15:41:1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9b | Other determinants of life expectancy at birth are of equal or greater importance than the availability of doctors and nurses</vt:lpwstr>
  </property>
</Properties>
</file>