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339B-CE51-42EE-9B57-66D44E5C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13A-E69F-4DEA-BBFC-0DA7740B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287-4586-4395-ACF9-9A57EB19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2951-A111-4164-95AC-A902F9DF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0D0-CF82-4448-B2D5-1CC0463C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10E9-297C-4677-843F-33C3D98C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BA12-E579-410D-9397-DC9E2D3C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3710-9629-4233-BF6B-623B4DC9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A018-D2D5-40DB-95D6-D7A07197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D6B-BC31-4253-8067-D907DE27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829C-1415-48BF-AE6B-399D3480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BF36-1333-43E8-AB8F-FFA855E8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85A2-402E-4047-822B-FC00CE64C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91960"/>
            <a:ext cx="9144000" cy="62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9Z</dcterms:modified>
  <cp:revision>8</cp:revision>
  <dc:subject/>
  <dc:title>PowerPoint Presentation</dc:title>
</cp:coreProperties>
</file>