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45A5-4FBC-4471-9B2D-F360AA397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360D-E6BA-4833-9FB9-EE3B42292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4E89-7776-4CCF-83F7-9751E9D06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1352-A334-4F63-BBD5-3143B68DB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A150-8099-4C06-B6C9-5D9F14310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1B0E-F1CE-4816-A1C3-91CCD76DE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E7FC-8C95-4118-94DB-6CE480D52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1A72-1681-43B2-A7DD-9F4365382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C8F7-AC1F-4B32-BDD7-6D7CFF3D3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D24B-38EA-440B-B15B-B1F44E87A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BA65-6449-4A07-8EFE-65DB5F9D0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CCEB-CBC2-4BDC-9939-420C3ABFC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0E422-FFBB-4A18-A47B-F989BA066F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136440" y="1371600"/>
            <a:ext cx="8871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38Z</dcterms:modified>
  <cp:revision>28</cp:revision>
  <dc:subject/>
  <dc:title>PowerPoint Presentation</dc:title>
</cp:coreProperties>
</file>