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3A8E-BD4F-47A9-A59B-77863A421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A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76C1-5CDF-44BF-94D1-4CF10EA11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A36-36FA-40CE-9C34-E77CEA83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2D9-1122-417B-84AA-CDDCDACA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BD3-F16F-4368-8112-915A4259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967-545B-4405-99C4-9BC6BAC3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B56-E3B7-4D35-A863-86D02949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A68-9B55-494F-B73E-D5DA3DA0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3F4-9E37-4545-82D6-8C7D07AC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39D-B87E-4F9B-863D-9E1D5C74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B5A-71EE-46DE-9103-E070BE4D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47F-5D1A-438E-B151-A88943FF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D7A-3ED6-4009-AFA7-E25642F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4F0-3A89-4B59-9144-B309DA28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EB9C-0B4A-4518-A967-242008B25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a | Health services profits have increased substantially since the advent of Medicare and Medicaid, but still are below a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a | Health services profits have increased substantially since the advent of Medicare and Medicaid, but still are below average</dc:description>
  <dc:language>en-US</dc:language>
  <cp:lastModifiedBy>Jia Yao</cp:lastModifiedBy>
  <dcterms:modified xsi:type="dcterms:W3CDTF">2013-09-06T14:17:00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a | Health services profits have increased substantially since the advent of Medicare and Medicaid, but still are below average</vt:lpwstr>
  </property>
</Properties>
</file>