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0AD5-A1C8-4880-BD85-41A35289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8F1-76DE-4FFA-9F21-831E52E6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26F-493D-4B5A-8F14-8A979D11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A56-2C97-49DB-BAAF-2C05FB01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248-5354-4FDC-B0A8-6A9C66A8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698-1958-4966-B446-0F9859D5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5EF-D753-4471-AE26-E4603F88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2D3-66CB-41D5-ACCD-425C8787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9E6-9923-46F7-9EE3-301534C8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817-AAA4-4B33-AB2F-1D898DA4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AF3-BD55-4149-AC1A-ABB4F538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2F5-E26E-4F08-90FE-08A60F55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27CF-BA23-4908-B9DD-C70844EBA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144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7Z</dcterms:modified>
  <cp:revision>30</cp:revision>
  <dc:subject/>
  <dc:title>PowerPoint Presentation</dc:title>
</cp:coreProperties>
</file>