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E3F-474F-4068-BA9C-EC4C9CE1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C76-3096-497D-8B7F-5F2155A3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DDB-5C29-47F5-80EE-078A6684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E02-4515-4AF1-B137-D7DD7CB6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419-636D-4E14-BB79-9ECCD561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AF9-3F57-45F0-9130-E732C59C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0CA-DCBA-400A-9F31-B2878EE0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9CC-31AC-4E2E-AC99-CBE80E8E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2F5-3916-4594-A1E4-6E5F8577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A3F-C258-41DE-B3C9-7893FCD8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D47-2148-4182-B088-F7D967D6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3E6-FE60-43AB-B4BC-0CA7BA00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F9CC-36F0-4575-80CB-0032A59D8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3320" y="1143000"/>
            <a:ext cx="893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5Z</dcterms:modified>
  <cp:revision>22</cp:revision>
  <dc:subject/>
  <dc:title>PowerPoint Presentation</dc:title>
</cp:coreProperties>
</file>