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8090-CECF-4D55-8DB6-6FECEDBE8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4A | PER CAPITA GDP AND HEALTH EXPENDITURES, OECD COUNTRIES, 20 LARGEST OECD COUNTRI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2C51-D5B0-4E37-9B30-A8C083C57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24A-0071-411C-B85C-DCE3FE1C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EEE3-7145-425F-BB97-2C16BA22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5616-76E9-4463-807A-B2BF1D4E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F70-C16E-44BE-B007-5BE3AF9A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178-E8E6-49AC-A750-045CE690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955-75A8-4599-8A48-16C71A34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E77-9381-4DA1-9D6E-5D50B6AA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A87-1455-43FA-8F9A-D07B1A7E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985-9A4E-49C3-B5CF-80F54C3C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E20-5037-4901-8BD2-A021F1DB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30A-5BAF-4AEE-A48F-4F12ADCB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BE2-8376-469A-AF17-FDB28FDD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3F95-92AE-4B28-93E6-9CD35DA14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4a | The conventional wisdom is that U.S. health spending is far above its expected level given the nation’s per person GD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01520" y="1320840"/>
            <a:ext cx="886464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722960" y="586728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DP per person (U.S. purchasing power parity, 2004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4a | The conventional wisdom is that U.S. health spending is far above its expected level given the nation’s per person GDP </dc:description>
  <dc:language>en-US</dc:language>
  <cp:lastModifiedBy>Jia Yao</cp:lastModifiedBy>
  <dcterms:modified xsi:type="dcterms:W3CDTF">2013-09-06T15:40:4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4a | The conventional wisdom is that U.S. health spending is far above its expected level given the nation’s per person GDP </vt:lpwstr>
  </property>
</Properties>
</file>