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F6FA-F0E9-40AA-AD2A-E043AC392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CB62-2B0C-49D5-B4B6-5A670AA0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2696-9D0A-4003-A8DA-96FE88A0F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2C0E-D9D1-4B9E-93D6-C3A522D5A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61B3-C2C1-4A9D-8DCC-8052433C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DAFB-51AD-495C-B407-5BDAE4DA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F7F0-E48D-476B-88B8-A89A56AB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1324-9679-49C9-8021-AD0857E9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34EF-EB04-481E-94F4-DA92B69B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F41F-B3DD-42E6-96B3-C09CC002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0B01-A5BD-4DEE-B33C-C92A98D8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E588-33F3-4739-A2C3-F529A297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BF7E-E049-4884-AD47-05ACF085E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66600"/>
            <a:ext cx="914400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9Z</dcterms:modified>
  <cp:revision>10</cp:revision>
  <dc:subject/>
  <dc:title>PowerPoint Presentation</dc:title>
</cp:coreProperties>
</file>