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F180-DD92-4EE5-8477-81F4832B52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1a | Real Output and Labor Hours in Health Facilities Index (1987=100)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E61D-90DD-4423-8288-2D05443743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80B7-B7E6-4D32-971C-CAAFBD010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96E4-063A-43EB-9634-2E0F3FB1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41F4-AF32-4E2D-96AC-146F20339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F334-04B2-42B9-A189-E07E8541F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302A-0A66-40A7-B98C-15F6F8E8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05C9-D930-45C2-8183-EAB9532A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9AC5-74EF-4AF1-8FD6-071E3575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4507-F1C0-43FA-B5B5-15585859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AA01-025A-4F5F-9731-AB1AC7E6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8737-472E-4ECC-A333-A346CA3C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BBF2-8961-4270-B648-B16F6EFA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AE4A-61F3-45D0-AD75-CAD4A806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014C-1C7B-4215-BD7D-306D5F03A1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1a. | In hospitals and nursing homes, real output grew faster than labor hours over the past decade, but more slowly than all inputs comb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5597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1a. | In hospitals and nursing homes, real output grew faster than labor hours over the past decade, but more slowly than all inputs combined</dc:description>
  <dc:language>en-US</dc:language>
  <cp:lastModifiedBy>Jia Yao</cp:lastModifiedBy>
  <dcterms:modified xsi:type="dcterms:W3CDTF">2013-09-06T14:58:57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1a. | In hospitals and nursing homes, real output grew faster than labor hours over the past decade, but more slowly than all inputs combined</vt:lpwstr>
  </property>
</Properties>
</file>