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DE0-75E2-45E5-AD4A-EBCEBEC7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F452-4720-4AB1-91F7-86650C78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633B-CF37-4B55-A205-9791776A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8A08-1F8C-4D09-AFF3-2E184973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3631-9EB9-4AB8-8A64-D459B318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A116-8779-438E-A488-B74612EB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A98-BB88-43B3-8964-D7771A8D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89DD-EB9F-4276-AD51-4C49A1EA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8CD-9D6F-44FC-824D-3BDE1735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A194-F62B-4F14-8289-8E7A6166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7FFE-0333-4E65-A803-7E03891B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BE9C-8DD7-4F99-BE68-2D8B88C5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333B-5736-4A03-A93D-58135B604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3080" y="152280"/>
            <a:ext cx="89978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6Z</dcterms:modified>
  <cp:revision>37</cp:revision>
  <dc:subject/>
  <dc:title>PowerPoint Presentation</dc:title>
</cp:coreProperties>
</file>