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A59A-3DC1-4607-9686-99101ACAB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a | Net Burden of Health-Related Expendtures by Family Income Decil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A6DF-CB41-4F6E-9457-25E45FE2D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CB6-B2EA-4BCE-B00D-F986427B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A54-7BCA-4A13-9BCE-C0AAD107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CCF-3C49-4578-93D0-358C030F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942-0594-4C00-9164-0D501258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6E5-9079-443F-994E-DA0909A1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830-2C88-457A-BAA3-BA62CEF2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774-5F80-490A-9529-46D3CED3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C83-BFC2-4223-AC34-326C2E34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2EC-257B-4989-974C-15512C2B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3D9-DE0E-4411-BE8B-3FB4AFF7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BDA-CDDB-452C-A91B-DE4C2E92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DE9-BB5A-4F0B-80F2-DCDD1467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D924-82AA-4E1A-B726-216AF60A1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2.2a | The net burden of health-related expenditures is about 2-1/2 times as large for very low income families compared to very high income famil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86000" y="41781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62120" y="1371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ending as percentage of family income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84200" y="457992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family burden of health expenditures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200" y="581508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a | The net burden of health-related expenditures is about 2-1/2 times as large for very low income families compared to very high income families.</dc:description>
  <dc:language>en-US</dc:language>
  <cp:lastModifiedBy>Jia Yao</cp:lastModifiedBy>
  <dcterms:modified xsi:type="dcterms:W3CDTF">2013-09-06T15:12:5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a | The net burden of health-related expenditures is about 2-1/2 times as large for very low income families compared to very high income families.</vt:lpwstr>
  </property>
</Properties>
</file>