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ECF-5A70-4882-BC4A-8C7B2BB3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7DF-7F7D-4CE9-9BBE-1025C896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B90-BC96-4CF6-AF77-8C7E419A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631-A25C-48E4-9F6C-3AEBD4C3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FBC-720B-4F99-BCC1-BD011298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D2B-7B53-4F35-AB55-E27D2D84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A9C-172B-4D58-959B-08DF41D8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7F2-2753-4BEA-BC7D-90FAF136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822-2E4D-4599-BCF7-5B96A8AA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781-9BAC-4E7E-BDB0-601F4E9C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E6D-0AAC-4B57-8D99-0FD5A3B6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FB9-B751-4838-B415-8EC0884F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53F7-645F-497D-84A1-6BC5C6114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8Z</dcterms:modified>
  <cp:revision>37</cp:revision>
  <dc:subject/>
  <dc:title>PowerPoint Presentation</dc:title>
</cp:coreProperties>
</file>