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96BB-7EE6-4EB2-85EA-CAFC6BFEF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3A | UNEMPLOYMENT BY SEX, OCCUPATION AND INDUSTRY, 196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28B5-C0CC-4050-AC10-F4FF832CA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381-88A6-4135-9256-834A11D3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09C-A326-40E2-ABB1-E4B98E08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056F-D9B9-4326-A707-A30D9778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CCA-D94E-45DD-BCFF-A304FD0C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EF7-8781-414C-8372-17D4237C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317-24D4-4B9C-91C8-1123B7F3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8949-7474-42E6-9CEC-964D437D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6DE-F282-47D9-8ACB-BB3B743E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56F9-AA6C-4D7F-B2F3-3FD5EDE4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126C-4858-42E7-A8D8-B9C1A727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B736-B0E5-4509-9C7E-586E2ABA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51B-985F-4578-A32D-4C021E32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86FD-B748-49ED-A801-19EBC6EB5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3a | Unemployment rates among males working in health services are lower than for males overall; this has been true for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749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unemployment rate within industry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09480" y="5715000"/>
            <a:ext cx="802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Unemployment figures are for experienced workers only, not new workers 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ose reported as being "Not in Labor Force" because of school, an inability to fi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, or other reas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3a | Unemployment rates among males working in health services are lower than for males overall; this has been true for decades</dc:description>
  <dc:language>en-US</dc:language>
  <cp:lastModifiedBy>Jia Yao</cp:lastModifiedBy>
  <dcterms:modified xsi:type="dcterms:W3CDTF">2013-09-06T15:28:10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3a | Unemployment rates among males working in health services are lower than for males overall; this has been true for decades</vt:lpwstr>
  </property>
</Properties>
</file>