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F0CB-FBDB-436E-8127-E2AFFB2ED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27E5-B070-44C5-8ABF-EF749BDFA8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b | HEALTH INSURANCE BENEFITS ENROLLMENT RATES, BY FIRM SIZE: 1999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E6D-C09D-4118-9C25-518DF7F9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675-7ED9-4D14-984F-5A73F88F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1D1-D262-4E30-BE50-6DE23718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DE0-ECDA-409B-9977-057CC8C7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A48A-C532-4959-89E6-43B2C2A5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AA71-17FA-40AA-BAB2-7ECD02EE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549B-5398-48BF-A689-C47F7AFA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E304-D40C-4877-BE09-49E67C1E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9B1F-FC91-4572-AE12-DE6A50BB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E844-0B8C-4939-B563-A0CD7508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29F4-E466-4058-9023-F20B224A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21C-5207-45E4-8CFB-D01D56C4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4BED-1D34-4933-A880-5AE4D73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B536-E304-4521-B750-6F442A29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116A-32EB-4731-A237-893A612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BEC-0056-4AD5-9BF5-C524301A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7B96-5605-4A28-B3EC-3BB4F4AF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EF6-EC22-4C01-A396-03AEF648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F0C-7268-47D8-B5F9-57C8EEC9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34B-8E91-4CE4-AAD1-9B186DF0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43E-85DA-4BA0-838C-1CA9D75F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67F-DB3C-4719-81B6-33E94D98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1AC-6867-4154-BCBE-E2F42AAA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37C-C041-47EF-9640-46EAD6C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8538-309E-4464-B88F-DBD1D8E55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7ED3-E304-4EED-BA7A-826EFEC26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b | Over the past decade, the percentage of employees in health benefits plans has declined in nearly all firm-size categor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b | Over the past decade, the percentage of employees in health benefits plans has declined in nearly all firm-size categories</dc:description>
  <dc:language>en-US</dc:language>
  <cp:lastModifiedBy>Jia Yao</cp:lastModifiedBy>
  <cp:lastPrinted>2002-05-16T21:44:34Z</cp:lastPrinted>
  <dcterms:modified xsi:type="dcterms:W3CDTF">2013-09-06T13:50:0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b | Over the past decade, the percentage of employees in health benefits plans has declined in nearly all firm-size categories</vt:lpwstr>
  </property>
</Properties>
</file>