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7BAF-A707-496A-8033-33C5F7C84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EFDD-593F-4956-B39E-FD9394EE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B344-22C9-4DB0-AB58-017B06299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02FC-8664-47BF-901C-AE5C106DB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BE5A-0022-4EB7-A4B8-4BACCA26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DFF9-BD58-4C56-B3E1-A509599D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8AD5-4416-4EE9-AC6A-443C9840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AAE9-D6D5-4523-8353-5C61D413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4451-137B-42C2-A222-FF07E6FC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CD41-9E0E-4681-8CA1-CCC74D00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3425-9ACF-4639-A5A1-EA5250FD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693B-2899-49CB-A4F3-F92EDCCA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411E-DE6D-43D1-8007-9578D6F5A5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0"/>
            <a:ext cx="8993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7Z</dcterms:modified>
  <cp:revision>8</cp:revision>
  <dc:subject/>
  <dc:title>PowerPoint Presentation</dc:title>
</cp:coreProperties>
</file>