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7369-7B9A-4558-ABE1-CF85EFF65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8550-134B-445A-9B30-8F0A8F6B96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5b | Percentage Distribution of Personal Health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950-D724-4C09-9DE2-6B95544A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661-C514-4F11-B4C3-DBCDA571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AF7-D52E-415A-A36B-80C44B3E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73B-3D7F-4F69-9D67-A67831A1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5992-9C04-4D61-BBF3-703C2164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7FE9-45D5-4867-9D26-1154390B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B337-33A0-4F76-8FAA-B1BAE46B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2006-77F6-4A89-B664-6E0D2C2B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E640-1183-4C4C-8580-6D56AA2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3871-0D75-4C13-9924-CD3277AF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0E00-B8CE-42D8-90D6-0936E9D0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497-E9E6-4F75-BFEB-F2D8B25F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62C9-4A83-4D30-B750-371DC988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FD3C-8BB4-4F21-9036-44A60A76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AAD6-A9A9-450C-AA22-CDFA95E9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C4B4-1E43-427D-A0D6-6D05A514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15DA-B8D8-4950-A2D1-AE867748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34C-D1F7-4D7D-8A66-C1CCC39F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452-FC5C-4841-B92C-74C0A1B9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31A-AD87-4D6F-B2AF-EE6845D0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FFC-F669-4295-81A5-9700E76E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7CA-42CC-41AA-8D78-94717F2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26B-D4A0-4A42-84D6-ECB23EA3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A27-9934-4195-A4E0-17494BE3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618D-2EB6-47EC-B84C-5633D2E20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EE24-60FD-4EA0-B5E1-3BE8A3D46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b |The out-of-pocket share of spending has declined much more rapidly for hospital and physician care than other health services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b |The out-of-pocket share of spending has declined much more rapidly for hospital and physician care than other health services </dc:description>
  <dc:language>en-US</dc:language>
  <cp:lastModifiedBy>Jia Yao</cp:lastModifiedBy>
  <cp:lastPrinted>2002-05-16T21:44:34Z</cp:lastPrinted>
  <dcterms:modified xsi:type="dcterms:W3CDTF">2013-09-04T21:03:5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b |The out-of-pocket share of spending has declined much more rapidly for hospital and physician care than other health services </vt:lpwstr>
  </property>
</Properties>
</file>