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4E1-DFA5-42B7-9229-4E43CADD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412-8AE0-47F7-A46E-227EC123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736-048A-4D4B-9160-20B344F4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374-979C-4C38-9A77-AE9732E7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064-6871-454F-9041-2E7CD896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067-4F5C-4905-A28D-E1EEBD97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E14-3C53-4D76-9CD1-20FC6222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234-C1E2-48CD-B5D0-AA8D5FD8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F67-E57A-49BA-BC6D-97F6392B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818-2A8D-4AF1-8431-623E1632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D1E-2311-489E-BC25-011CB4C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184-1478-40CA-9CA3-28934CF2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A580-D1B3-47E5-AEA5-609A2F55E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80" y="76320"/>
            <a:ext cx="9134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6Z</dcterms:modified>
  <cp:revision>30</cp:revision>
  <dc:subject/>
  <dc:title>PowerPoint Presentation</dc:title>
</cp:coreProperties>
</file>