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24C-31CA-4710-BFF9-DE1B1A13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1D9-1F77-4986-8CEC-71CC17C6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976-6B93-4930-9AD1-D8055817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27D-1720-4803-981A-9AEFA40D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128-F4D3-4317-9E9B-D3E61172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BCD-92B5-4964-AE46-77DEA692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2F9-63C7-40DC-B15D-5CC03C81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352-6427-4063-A028-B5517BD5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B0D-A7FE-4EB3-AFBA-FBD9106F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155-9297-4811-A9D0-5560B84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7D7-E64E-4245-9328-02E84C2F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69F-5680-4D90-9B10-397BBE5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5ECB-5734-4189-95D9-F97F1D00B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8Z</dcterms:modified>
  <cp:revision>22</cp:revision>
  <dc:subject/>
  <dc:title>PowerPoint Presentation</dc:title>
</cp:coreProperties>
</file>