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4DC-F7DF-4513-9617-FE95CD34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E56-60DC-4075-9C95-F1D88E72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C0D-3EE4-4EC1-A891-24435BFD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2A2-67E1-4A02-8C29-CEB33F22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F0C-C2E5-4D28-8672-76623F5E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329-577F-4CA5-B3DB-0D9B4F8F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CEB-173A-4DBC-A49E-261BEEBF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839-48E8-47FE-84AA-F6940F2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334-B413-44CA-91DE-9C19BA5B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4E9-2678-4D9A-9857-EADFEC8A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36D-780C-4CA0-9CFB-D032F5BA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D13-ECBA-4066-AAE0-2517CE0C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12DE-DE62-41C9-ADF8-31BD8B388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9074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0Z</dcterms:modified>
  <cp:revision>43</cp:revision>
  <dc:subject/>
  <dc:title>PowerPoint Presentation</dc:title>
</cp:coreProperties>
</file>