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D1DA-B9BB-4C28-BD75-46CA4961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F79A-2B6B-4F75-8C71-5CC5ED1C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444B-1706-420F-A2E9-A6C6AB60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1E8C-E26B-45A9-9657-3C272906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6E45-450E-457A-AD18-6DB0C76D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7BAF-3F11-4F3D-92D2-78AEA4B3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0281-5914-4808-9EDF-35BF38C3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8D27-8286-4BF9-96D0-4D586D53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90C4-FE97-4AF2-A7B2-F2B852C0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8F57-C936-4FF7-A641-012CF651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3BCB-74EE-49E8-A056-A222E729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A5EF-DD4C-4239-9D7B-07FFCA78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AE36-46D6-4ABF-BDC0-5E89A3365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2Z</dcterms:modified>
  <cp:revision>35</cp:revision>
  <dc:subject/>
  <dc:title>PowerPoint Presentation</dc:title>
</cp:coreProperties>
</file>