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A5D4-CC76-49DC-BE26-07823E9E9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B | PHARMACEUTICAL PRODUCTS AS A SHARE OF U.S. EXPORTS, IMPORTS, AND NET TRADE BALANCE, 199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C3CA-D7D2-40A7-89F3-DE999D7A3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7BD-3D4F-4725-B742-E080AC61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56A-CF47-4994-9881-D5B602F5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EAD-B41B-40FA-82C3-0D829F12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504-5FE9-4FEE-91D2-C93C3CCF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5B28-4FCA-4227-B5FD-2AC6602B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7B1-8BEC-4F0B-AB05-F358809A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EDCF-4E8E-459C-A055-4DF7162F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67D-AB46-480F-B610-36CBC47A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1D8-2024-4244-B3E9-9005AE19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D0D-C39D-4EB7-9EC1-DBD99B5C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B6D-6EB4-4EF2-8ABA-BD7388CE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1BA-F44A-4D0A-9613-07FD9B22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1BAD-F1D6-4956-B885-4CED02B70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3b | The health sector contributes a relatively small share of the U.S. trade imbalance, but it appears to be gr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3520" y="137160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alance of imports over exports as a percentage of U.S. net trade bal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b | The health sector contributes a relatively small share of the U.S. trade imbalance, but it appears to be growing</dc:description>
  <dc:language>en-US</dc:language>
  <cp:lastModifiedBy>Jia Yao</cp:lastModifiedBy>
  <dcterms:modified xsi:type="dcterms:W3CDTF">2013-09-06T15:34:0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b | The health sector contributes a relatively small share of the U.S. trade imbalance, but it appears to be growing</vt:lpwstr>
  </property>
</Properties>
</file>