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412E-3956-4FBC-9AFD-6F739DEB4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5A | PRIVATE HEALTH INSURANCE COVERAGE OF NON-ELDERLY ADULTS AGE 18-64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A8C9-9134-45B7-9467-E44D67851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BCE-F07B-4B56-A860-35226FC9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AE40-F5F6-4A41-B139-F1B1B0CF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4AB-1EF0-427D-819C-C5665902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F3A8-0D63-46CC-91F7-B942CD3B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43DE-F16E-48E3-A548-5A3E63F6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1DD1-F5E7-4F68-957B-A4FF6952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E8FC-A4CC-41BD-BBF7-7BC8C54A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A6FC-F148-4988-85D6-E973E8E0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CB93-E5DE-47F8-8A10-9AFE3CFD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4460-5C52-4D55-90BE-288EF9C0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B8F-CE70-4484-A7A6-E605B093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205-F3BE-4492-B176-E16E9B2A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E35A-A948-4080-9993-0BE5FF1D0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5a | Poor adults under the age of 65 are more than three times as likely to be uninsured all year than to have employer health co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473120"/>
            <a:ext cx="84074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5a | Poor adults under the age of 65 are more than three times as likely to be uninsured all year than to have employer health coverage</dc:description>
  <dc:language>en-US</dc:language>
  <cp:lastModifiedBy>Jia Yao</cp:lastModifiedBy>
  <dcterms:modified xsi:type="dcterms:W3CDTF">2013-09-06T15:17:03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5a | Poor adults under the age of 65 are more than three times as likely to be uninsured all year than to have employer health coverage</vt:lpwstr>
  </property>
</Properties>
</file>