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6C1E-DD0D-4095-BF21-88E001327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DCB5-CD80-4792-933D-9F8FC053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5BA3-ACA8-4317-BC7B-E830AA1C9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1C88-12E6-47B5-8473-34305E747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A07B-A0DD-4F50-BE28-0BBA92A7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8561-894C-4897-B683-B5B8E2CE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5FE8-657C-46D3-BADD-9935CE04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43F6-CAEC-4F74-ABBD-683BAE69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9042-6CB6-43CB-BAAB-534649DB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38D0-24DC-4B5D-B309-757AB516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37C2-1714-417D-84DB-CCBE8796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C57F-4989-43E7-8F80-846B433C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1003-FE9D-4EFA-B5A5-AA301621C6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8600" y="76320"/>
            <a:ext cx="87058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9Z</dcterms:modified>
  <cp:revision>31</cp:revision>
  <dc:subject/>
  <dc:title>PowerPoint Presentation</dc:title>
</cp:coreProperties>
</file>