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4A7-A3A9-4B8F-A030-83628BAC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3E8-8CD9-4F54-882C-ED3A51ED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D4A-8B41-4EBB-BC69-EB0787EF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70F-5F3F-48BB-8CB4-25419798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ADE-7DBD-41C9-9CD2-A50D974C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03B-326F-4598-93E6-1B5A459F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4A3-FEB1-4EA9-B2F2-00DB7AC2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B2C-62E9-4B9E-B07E-1598D84B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7B9-9522-4931-8F86-C968A45B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FC6-E0D2-468D-8511-6D6A7B89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3DC-86A1-47ED-9E18-3BF22CBF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D39-4D20-443A-846F-2DF83303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8C29-ECBA-4226-BF0F-57BA3231C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5440"/>
            <a:ext cx="91155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6Z</dcterms:modified>
  <cp:revision>14</cp:revision>
  <dc:subject/>
  <dc:title>PowerPoint Presentation</dc:title>
</cp:coreProperties>
</file>