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03D-B2B8-4255-B4D8-A9C9932C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462-F955-493A-8917-3D28FCAF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6EC-2169-4BD7-9B07-4014AC0A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EE6-B5FB-4778-AF8F-601039EE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C70-6ACB-4588-B772-D30624C7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F66-475A-4CDD-BD84-DA41D90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308-35F0-4078-B02D-939B1A5C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A02-1CAE-458B-9FFD-CFB78835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4B0-112C-4409-84BC-1E3594CE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302-7E0F-444C-BB23-8FF609EA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79A-139E-4553-9447-0E7EE12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FA2-1E48-49B9-978A-43D658A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C98-227C-42B8-B885-0515BCC1C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4Z</dcterms:modified>
  <cp:revision>6</cp:revision>
  <dc:subject/>
  <dc:title>PowerPoint Presentation</dc:title>
</cp:coreProperties>
</file>