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E9C6-5712-424E-ACA8-CBE7A86FB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2403-907F-452E-B713-7ED2999C3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2E1B-2E64-4A57-B874-0EE5DB313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E5EE-98F0-4BC4-A1B0-EB4F07686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1F93-4F94-41A8-9F64-1ED7F729C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5D04-C1C6-4B71-A4C9-A6B11EBD6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7A1A-13C4-4A7B-9D95-091626A99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3FEC-5B5C-40E4-8D6A-A62478FFA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6586-9661-434C-839A-413B83647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8679-EAF8-45DB-8288-32E03BDF1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7BDF-5B49-4034-AF3A-DF6DE69A1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6C2A-ECD9-4B6D-848D-2544F9897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8ACD3-3AFE-49AA-A2B1-2EB6E329FB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1090440" y="0"/>
            <a:ext cx="6963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6:27Z</dcterms:modified>
  <cp:revision>20</cp:revision>
  <dc:subject/>
  <dc:title>PowerPoint Presentation</dc:title>
</cp:coreProperties>
</file>