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E902-36E3-4B12-A2D2-571E2934E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189B-8D07-499B-89E9-0CE6269D9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2FB0-1A7C-4D7D-A3DF-4789419FB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3BE4-B918-4BB5-B64A-33EF88230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A871-C51A-4A37-AA3A-C8FC1C417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B53A-9CE1-4736-802C-5CB166690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E450-7E64-46D0-877E-50A6F752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42A9-8CD3-4303-B5A1-0B4BEDD37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13CC-9EA9-4C91-BAD7-6108D0CF7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B685-B719-4E65-A34E-801D14CB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2A9C-FED8-4873-ABEB-5181485A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5C5E-3BA3-4610-A34B-EF1DF2BF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A846A-E2E9-459E-85CA-BD71E0C850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5160" y="533520"/>
            <a:ext cx="90136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8:20Z</dcterms:modified>
  <cp:revision>37</cp:revision>
  <dc:subject/>
  <dc:title>PowerPoint Presentation</dc:title>
</cp:coreProperties>
</file>