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1BAE-270E-4EB0-B88C-C6C399F3A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B | YEARS OF POTENTIAL LIFE LOST BEFORE AGE 70 PER 100,000 POPULATION VS. HEALTH SPENDING PER PERSON, U.S. STAT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C561-49BA-46CE-A8F6-3B3B81798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A9D-06C1-4D20-BE7B-5432C0CC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742-2629-4381-8DBA-3D1A349B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0FA-B792-4BB9-AAAD-F32793A6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8FD-BE44-428A-8792-38FCCE8C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0EB-2757-487A-830F-4E47812E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C0F-0A33-48B5-8937-7B391E18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A53-1676-4523-9C55-AAEF210F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F86-8632-42BE-B079-CBF13C17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438-B75B-4870-9812-A9B8EA46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235-4093-4AAA-B488-68491B0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074-DAA2-4C05-B509-8A8602BA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7A7-0C59-4711-8023-EF6598A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1C89-7527-445F-82B4-7F7789FA0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b | But there also are wide differences in years lost due to premature death across states even at identical health spendin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243000" y="1397160"/>
            <a:ext cx="8761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0" y="594360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resident in 2004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b | But there also are wide differences in years lost due to premature death across states even at identical health spending levels</dc:description>
  <dc:language>en-US</dc:language>
  <cp:lastModifiedBy>Jia Yao</cp:lastModifiedBy>
  <dcterms:modified xsi:type="dcterms:W3CDTF">2013-09-06T15:40:4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b | But there also are wide differences in years lost due to premature death across states even at identical health spending levels</vt:lpwstr>
  </property>
</Properties>
</file>