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DDDD-13F4-4CC6-B429-2D030B23F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7345-B8F8-41A7-937B-3611AEE06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A323-49E1-42C3-9FCA-98047EBE5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3AE7-BEDF-4062-8CF3-B79BB14EE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C066-6808-415D-8904-716BD2500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68B7-7276-4A06-8CBA-2A393C148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744C-4B00-48C6-A3E3-3FA0E0FEA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950A-550C-4F0F-B1FE-9E023A610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47D0-645E-48DD-81E7-A5A5F5B89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D266-B8CC-4325-974C-4E66F7EC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555B-A0B1-481F-8D9C-A3F90E9B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A46A-28C4-4BF1-9BFD-DDAC7E76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02690-A7CA-4366-9EBB-CC225AB13D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14400"/>
            <a:ext cx="901044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42Z</dcterms:modified>
  <cp:revision>22</cp:revision>
  <dc:subject/>
  <dc:title>PowerPoint Presentation</dc:title>
</cp:coreProperties>
</file>