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702-23FD-4358-B765-95FAABAA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C67-9956-4115-A4F7-E6E63251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B16-420C-4B51-AF1E-981F5784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6A4-7FB1-4527-B703-EFF16332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B24C-B441-4406-AF3D-AFF1F07D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331-2282-4A02-91FD-88DB177A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EF53-419D-4400-B3F5-97A16950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24FA-4372-46BD-9921-EB2E793C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4CD-45CE-41C8-8073-1E7F04C1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C53A-435D-4F39-A0DC-E2B11E50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F514-22D5-4F90-9475-DA497065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3B94-99D5-4BE7-8ED6-AD62EE53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8CF7-26CA-4B88-B9A5-1B85BDE98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380880"/>
            <a:ext cx="90835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4Z</dcterms:modified>
  <cp:revision>28</cp:revision>
  <dc:subject/>
  <dc:title>PowerPoint Presentation</dc:title>
</cp:coreProperties>
</file>