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E593-2314-4EE4-A0EB-994E27A51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3a | Total Rates of Reimbursement for Noncapitated Medicare per Enroll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rtmouthatlas.org/downloads/reports/Spending_Brief_022709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A07E-C9CE-46DB-B31A-C61BBDC54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CF0-A358-4046-BAD9-0AC4C6FE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754-B341-4F64-8C6A-D23F3C24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AB6-2228-4DCE-A43A-8DF8F6E8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484-64C6-4102-A3D4-F19207BA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8A2-536E-40CC-9177-82FB43D6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B12-43E2-49CF-9AC7-3A8978B2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A7F-F175-4394-A6D4-8EBD57FF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4C2-006F-4294-B363-2168F83C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0A7-3560-4E6F-875C-7EE263ED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3AD-344D-487C-A094-096ECF80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C0A-136C-408A-AC89-87AF5EF9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AC0-18DA-471A-B447-D39E827F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5A88-DD43-490B-800F-C7ACC0AB2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a | Medicare reimbursements per enrollee vary substantially across hospital market area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772400" y="1371600"/>
            <a:ext cx="11430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6560" y="5791320"/>
            <a:ext cx="81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isher E, D Goodman, J Skinner and K Bronn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Care Spending, Qua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Outcome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rtmouth Institute for Health Policy and Clinical Pract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over NH. February 27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1680" y="1143000"/>
            <a:ext cx="830880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858000" y="1168560"/>
            <a:ext cx="1828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a | Medicare reimbursements per enrollee vary substantially across hospital market areas in the U.S.</dc:description>
  <dc:language>en-US</dc:language>
  <cp:lastModifiedBy>Jia Yao</cp:lastModifiedBy>
  <dcterms:modified xsi:type="dcterms:W3CDTF">2013-09-06T15:40:4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a | Medicare reimbursements per enrollee vary substantially across hospital market areas in the U.S.</vt:lpwstr>
  </property>
</Properties>
</file>