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FE4D-ACAD-4A8B-A8A5-D44D316F9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2B | HEALTH SECTOR EMPLOYMENT AS A PERCENT OF TOTAL CIVILIAN EMPLOYMENT IN G7 COUNTRIES, 1996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BEB9-A893-46BB-BC1A-D8563C715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B0B-089C-476C-A7BD-35CE5168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632-0044-4193-B8DC-B368332F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A39-3827-4821-8225-A808ABB3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5F8-B315-4784-867B-B37C37D1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F13-6C3F-49A1-BFE7-E67CDAFF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8B5-8F62-4128-A91F-9584ED33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936-2D0A-4071-9889-CC412D09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5B9-6BAA-4F5F-A9CC-07C0E0A8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7CD-A8AE-49AD-95DA-ECF03FC7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898-860F-4424-90E9-4A212BAD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40C-D0D3-47BC-9315-F1155CE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575-7FCB-438D-8265-F6A8D210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6E56-B3B5-4F05-B215-08DE518D2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2b | U.S. growth in health sector employment relative to total employment has been roughly comparable to elsewhere in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(CAGR) in number of health /social work workers minus CAGR in number of all civilian workers, 1995-2008 (percent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2b | U.S. growth in health sector employment relative to total employment has been roughly comparable to elsewhere in the G7</dc:description>
  <dc:language>en-US</dc:language>
  <cp:lastModifiedBy>Jia Yao</cp:lastModifiedBy>
  <dcterms:modified xsi:type="dcterms:W3CDTF">2013-09-06T15:05:19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2b | U.S. growth in health sector employment relative to total employment has been roughly comparable to elsewhere in the G7</vt:lpwstr>
  </property>
</Properties>
</file>