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4691-E503-4356-9192-2E482913C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3A | MAJOR COMPONENTS OF HOUSEHOLD EXPENDITURES, LOWEST INCOME FAMILIES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DDBD-E374-4641-92C5-97DADB618E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832E-7487-449E-93B5-622DBFB5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5C72-E012-4E28-8A1E-C9411991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8F93-4A57-4E90-8CCA-8B562710D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B2D8-3C7A-4E9A-8F95-03344AE5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A758-8914-4E03-991B-F044D532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0B2C-44B8-4809-9A22-3F1D01BB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CB61-F8FB-465E-A5B0-D39CE88A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0495-38FB-453F-95DC-1EDF65CF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45D0-6574-4B3D-8CE6-257C12AA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7D93-9D3F-408B-AFDD-BB5B8AB2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90D3-5D6B-4FF1-9276-CA94C4FF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B3BD-CD5E-4135-B66E-5E7C5F8E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E64C-5223-4B78-A5C0-2050B2769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3a | Direct health expenditures constitute only 1 in 16 dollars spent by the lowest income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24452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676520" y="6324480"/>
            <a:ext cx="64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jor Components of Household Expenditures (ranked by size in 200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3a | Direct health expenditures constitute only 1 in 16 dollars spent by the lowest income families</dc:description>
  <dc:language>en-US</dc:language>
  <cp:lastModifiedBy>Jia Yao</cp:lastModifiedBy>
  <dcterms:modified xsi:type="dcterms:W3CDTF">2013-09-06T14:06:17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3a | Direct health expenditures constitute only 1 in 16 dollars spent by the lowest income families</vt:lpwstr>
  </property>
</Properties>
</file>