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0C6B-CB35-4B62-AB93-448B69EF3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6A | LIFE AND WORKING-LIFE EXPECTANCIES FOR MALES AGED TWENTY YEARS, 1900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8323-1D85-48EE-8E04-C8015E025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9AA-5724-490A-A95A-10921427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A5B7-52D3-4192-B467-D8EDD585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12C-7318-4C22-BF87-3DEEE2DD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701-85C8-497C-B420-A9E54DA6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F83-384E-427F-AFB5-4BC61B57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9FA-AE34-477D-A817-DDA5E535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6EB-A40C-484D-A00F-FF642956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BAF-64B6-4184-B41A-CB200D2D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BEE-6A2D-4C0D-9947-E88C154E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CB6-209E-42AF-8D55-8E30634C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596-6582-474F-8889-023746E7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D22-D9FC-41B4-8700-D926D5A7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F6D7-FF40-4B56-A1B5-E989A340B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6a | The health sector helped contribute to increasing male life expectancy over the past century, yet working-life expectancy decli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ditional years of life expectancy at age 20, 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6a | The health sector helped contribute to increasing male life expectancy over the past century, yet working-life expectancy declined </dc:description>
  <dc:language>en-US</dc:language>
  <cp:lastModifiedBy>Jia Yao</cp:lastModifiedBy>
  <dcterms:modified xsi:type="dcterms:W3CDTF">2013-09-06T15:04:16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6a | The health sector helped contribute to increasing male life expectancy over the past century, yet working-life expectancy declined </vt:lpwstr>
  </property>
</Properties>
</file>