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8CCF-379B-48C4-B3DC-328336CD9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3F33-067E-452B-82AD-1406A54383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20.1 | EMPLOYER CONTRIBUTIONS FOR HEALTH INSURANCE AND OTHER FRINGE BENEFITS PER DOLLAR OF WAGES AND SALARIES, 194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BBE1-83CA-4BE7-B2AD-088E4F3A1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A170-FA41-475B-9E40-4C52E515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9DFB-FCEF-4AE7-B3B2-A60790E42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5477-DA24-4D11-83E3-9A574E9B8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D0E0-0CCC-428A-8A1D-24129FDF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19BE-E355-4D79-8C53-12917593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2DB4-FAC1-4D9B-BB4E-606953B8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B864-4F5B-49C1-AC12-E34631EE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6E52-B84E-4374-8E97-5F5BA0DB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0909-11A1-4244-8AD1-C9956C69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B980-1671-40CF-9EBE-5EE38F74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B12A-3DD9-4AF5-AC44-9DA00267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61D0-22A3-4AF0-A93F-AF9656F2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00E9-25C7-4B1F-9747-137ACE53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2510-641D-40F9-8476-4FD6F1CE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16E0-3459-4CFD-BB8D-795FA6F2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7736-01F0-4762-B5B0-98CDE9CEB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67A0-BAEB-481A-B9F5-7530F596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276E-AED1-430D-BDCE-709E7AED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F4A0-B3E8-4BD2-B19A-2413FD1C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BE81-3D55-467E-A3A1-55BEB562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23B8-F65E-4481-BA10-4C6EE93B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3A68-05CB-4ADD-A679-DB91C3F2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B00B-F34F-478F-9D3E-378B5A5C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B5E5-97AD-486E-B443-7DF8A541E5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A99B-45A6-43F6-BA59-0BA4EA1C30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1 | At historical growth rates, the amount of health-related benefits per dollar of wages and salaries will quadruple over the next 75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1 | At historical growth rates, the amount of health-related benefits per dollar of wages and salaries will quadruple over the next 75 years</dc:description>
  <dc:language>en-US</dc:language>
  <cp:lastModifiedBy>Jia Yao</cp:lastModifiedBy>
  <dcterms:modified xsi:type="dcterms:W3CDTF">2013-09-23T19:14:09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1 | At historical growth rates, the amount of health-related benefits per dollar of wages and salaries will quadruple over the next 75 years</vt:lpwstr>
  </property>
</Properties>
</file>