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7371-2667-4BE9-BE67-CAE3EA483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8A | HEALTH CARE SPENDING AS A SHARE OF AVERAGE ANNUAL PERSONAL CONSUMPTION EXPENDITURES, BY HOUSEHOLDER AGE, 1984, 1996,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7422-D460-4D68-98C6-F6D300278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0D3-6662-497E-98C9-F4C63FE6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A31-777E-404F-9F3C-DF8541CF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DE2-CCBC-4528-B253-94DDB225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D5A-4EB2-433F-A449-1A041818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B096-CD05-40B8-B315-F5709A7C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9DF-B16E-4665-8DD9-17443279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A25-268E-4BD9-BB6B-ECA17B74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6D8-E309-4D30-9A03-73952894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F21-B3CF-43C3-BAD2-745776BE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424-BDF2-4765-81E1-060C4B19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5C7-5A59-4F79-AADA-46FEA0C5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574-B1F0-47D5-85A4-0AE706F5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B274-0268-425A-A0C0-A9CC0B24C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8a | The share of consumption spending devoted to health has grown faster in elderly households than non-elderly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2235240"/>
          </a:xfrm>
          <a:prstGeom prst="rect">
            <a:avLst/>
          </a:prstGeom>
          <a:ln w="0">
            <a:noFill/>
          </a:ln>
        </p:spPr>
      </p:pic>
      <p:pic>
        <p:nvPicPr>
          <p:cNvPr id="50" name="Chart 6" descr=""/>
          <p:cNvPicPr/>
          <p:nvPr/>
        </p:nvPicPr>
        <p:blipFill>
          <a:blip r:embed="rId2"/>
          <a:stretch/>
        </p:blipFill>
        <p:spPr>
          <a:xfrm>
            <a:off x="406440" y="3149640"/>
            <a:ext cx="8331120" cy="1854000"/>
          </a:xfrm>
          <a:prstGeom prst="rect">
            <a:avLst/>
          </a:prstGeom>
          <a:ln w="0">
            <a:noFill/>
          </a:ln>
        </p:spPr>
      </p:pic>
      <p:pic>
        <p:nvPicPr>
          <p:cNvPr id="51" name="Chart 7" descr=""/>
          <p:cNvPicPr/>
          <p:nvPr/>
        </p:nvPicPr>
        <p:blipFill>
          <a:blip r:embed="rId3"/>
          <a:stretch/>
        </p:blipFill>
        <p:spPr>
          <a:xfrm>
            <a:off x="406440" y="4521240"/>
            <a:ext cx="8483400" cy="2387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8a | The share of consumption spending devoted to health has grown faster in elderly households than non-elderly households</dc:description>
  <dc:language>en-US</dc:language>
  <cp:lastModifiedBy>Jia Yao</cp:lastModifiedBy>
  <dcterms:modified xsi:type="dcterms:W3CDTF">2013-09-06T14:06:34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8a | The share of consumption spending devoted to health has grown faster in elderly households than non-elderly households</vt:lpwstr>
  </property>
</Properties>
</file>