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53B-D301-4EFC-8167-0C354C2F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377-0C9E-42BC-A988-DBF23BB7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965-E933-46EE-9A79-AF3459E1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D91-476A-40EF-B426-BA127A57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E65-5661-4BF1-8808-92DFDE0B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9F6-C942-4E7A-896A-857E2AE0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EFF-864E-4DDE-8F36-4AEF85B7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A30-CE81-4888-9723-6463F70C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A61-8CDD-410B-AEC1-FC05C0DA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4FD7-991B-4E36-B7D6-8EDE1533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43A-2FE7-40A8-96A3-E3B18D4E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946-7B80-471A-ABEC-D342E763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D38A-40DA-4655-985D-A10B1B7E5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360" y="152280"/>
            <a:ext cx="9125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2:07Z</dcterms:modified>
  <cp:revision>37</cp:revision>
  <dc:subject/>
  <dc:title>PowerPoint Presentation</dc:title>
</cp:coreProperties>
</file>