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962F-FB6F-4E3B-95D0-031D393077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5B | FEDERAL MEDICAID AND CHIP SPENDING PER POOR PERSON, SELECTED STATE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9A63-EE44-41BD-B3D3-1431A1E24F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6B09-5BE1-49E7-8AE0-337A2604A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901D-72CB-4FCE-97FD-4F4EE4E3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3455-C41D-4262-B452-B53F029E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B76A-8462-4B67-B84D-0FA314B24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3B5F-AA7D-475E-AD6F-C89F874E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95F1-630A-46CF-840D-B36937AD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CC7D-64BA-4750-BFD7-835FDE18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B88B-DB80-46DE-A112-FC95709F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8E09-1647-4C57-9F39-979CBDE7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DC2F-811F-4800-9E0A-795BD1C5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069A-EB34-4EC8-8A84-9F02750E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5834-2726-468C-834B-EA00E6F4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9FAB-632A-43F6-99EB-DEE0939E62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5b | Federal Medicaid and CHIP spending per poor person varies widely by state, the amount does not decline as state income ri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237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2057400" y="58672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ates ranked by size of 2008 per capita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5b | Federal Medicaid and CHIP spending per poor person varies widely by state, the amount does not decline as state income rises</dc:description>
  <dc:language>en-US</dc:language>
  <cp:lastModifiedBy>Jia Yao</cp:lastModifiedBy>
  <dcterms:modified xsi:type="dcterms:W3CDTF">2013-09-06T13:59:41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5b | Federal Medicaid and CHIP spending per poor person varies widely by state, the amount does not decline as state income rises</vt:lpwstr>
  </property>
</Properties>
</file>