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160D-19D6-4B6C-A3F3-310ADE400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A | U.S. SHARE OF PHARMACEUTICAL EXPORTS AND IMPORTS AMONG OECD NATIONS, 1980-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9121-12C7-4E38-8A71-16A239042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368-133B-403A-992A-90B3D68A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AC4-EED5-44A0-AB86-C4C31D7B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BA9-3D60-4E62-B2F3-E040A058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2FC-9EAE-47F9-B851-171D3351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AD2-15BF-4490-A6A6-55C92600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C72-1BCB-4CD2-B09D-1B6C4021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C74-059B-47E5-ADE5-10CCEF86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79F-F8B7-4659-BAC2-1B2BADF1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F07-1475-47DC-840A-29CA2A1B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702-6B34-4FCC-AF7B-81D9BD2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453-C654-41E0-98B0-2758BE0E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25C-9783-479E-9412-742DD028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E564-5FE3-403F-8DF7-F5F750B99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3a | Since 1980, the U.S. share of pharmaceutical exports within the OECD has been declining while its share of imports has increased since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52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30080" y="144792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.S. share of aggregate value of pharmaceuticals traded, in U.S. dollars, P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a | Since 1980, the U.S. share of pharmaceutical exports within the OECD has been declining while its share of imports has increased since 1980</dc:description>
  <dc:language>en-US</dc:language>
  <cp:lastModifiedBy>Jia Yao</cp:lastModifiedBy>
  <dcterms:modified xsi:type="dcterms:W3CDTF">2013-09-06T15:33:5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a | Since 1980, the U.S. share of pharmaceutical exports within the OECD has been declining while its share of imports has increased since 1980</vt:lpwstr>
  </property>
</Properties>
</file>