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62A0-4BC1-4316-AC21-F04AE18B5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b | Output per Hour and Output per Unit of Input Indexes (1987=100), Health Facilities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92E5-8B8D-4F11-BF0D-D4A2C342F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952-C29D-49E4-912D-90C93AF6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8E1-B070-4F04-BB94-43293246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1EA-1866-4A65-B01A-9AF087E8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1EE-C2A4-419B-B99B-2354D377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2E8-433A-439D-95D3-EC4171CF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710-8D1F-4AA6-8200-D77A71DF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311-FE28-4B5D-B869-C5DC8FA4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37F-BC0C-4B90-95C6-3C3EF49D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A2D-0480-4D7E-B502-E66A4AFB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491-4198-4C69-8996-2898A283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9A2-AA39-42AA-8A38-47AB85DC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8CD-253A-4947-B186-C8051670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2E31-7CDE-4C5C-B2DA-8B82F81C0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b.  Over 2 decades, health facilities hourly output rose even as productivity per unit of input remained relatively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09480" y="5694480"/>
            <a:ext cx="84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Outpatient = ambulatory health care services; inpatient = hospitals and nursing and residential care facili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b.  Over 2 decades, health facilities hourly output rose even as productivity per unit of input remained relatively flat</dc:description>
  <dc:language>en-US</dc:language>
  <cp:lastModifiedBy>Jia Yao</cp:lastModifiedBy>
  <dcterms:modified xsi:type="dcterms:W3CDTF">2013-09-06T15:00:3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b.  Over 2 decades, health facilities hourly output rose even as productivity per unit of input remained relatively flat</vt:lpwstr>
  </property>
</Properties>
</file>