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C0C9-F8C7-424A-B87D-E9D9ECBD05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1023-A4F5-43D1-9AAF-8E6FB3E0097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3.1b | Percentage Distribution of Personal Health Expenditures, by Sponsor, 1987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DF09-AA5F-42ED-8AC9-EC396B67B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08E1-547C-414D-B011-CEEB1C0D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78FD-CBD5-403D-9A19-6BB22E8F0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3F73-BD74-4B8D-A20C-2A96785BE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573A-CC2C-4BB4-84B8-D4C196B6C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FDDA-4D50-4B3E-B7FA-DED921AB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B67F-58C4-433D-B4F5-6B4235B4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D91B-E741-4856-BA31-AF45D016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2573-0AAB-48DA-9F07-8B4139A6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B0AA-B2F7-4EA8-9E5F-FEF08A62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0655-4E56-4B75-A0D6-9DDCD169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08D8-2277-4399-B0DC-B5B7F9E4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D7A6-3109-4BCA-9CB1-0D3AD520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7A2F-18A8-4D9D-B147-D863C695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9274-BC2B-43B7-ABBE-30C1DD9F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0D2D-5571-41C5-8CCA-0A4119C70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1133-1AF6-4B2F-9137-E0D066780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538F-BAC0-437A-BE4D-D26E5F2D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31BB-D8B7-441D-ACE0-5C2826AF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9492-CFDB-40CD-8EC0-5A96D0B5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BEB6-B0DB-4D89-9451-46FBF661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D958-B7E0-4553-A7D4-094E9727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FF58-6ACC-4222-B83F-67E8326F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881F-6542-46A8-9E7E-D8460175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DADA-954D-49F3-BD11-9562B62C3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5AC5-DC2E-4857-8DFB-092B87A83F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81000" y="787320"/>
            <a:ext cx="906624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676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1b | Accounting for each sponsor’s share of health revenues results in a much more stable federal share of spending over 2 decade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1b | Accounting for each sponsor’s share of health revenues results in a much more stable federal share of spending over 2 decades</dc:description>
  <dc:language>en-US</dc:language>
  <cp:lastModifiedBy>Jia Yao</cp:lastModifiedBy>
  <cp:lastPrinted>2002-05-16T21:44:34Z</cp:lastPrinted>
  <dcterms:modified xsi:type="dcterms:W3CDTF">2013-09-04T21:03:42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1b | Accounting for each sponsor’s share of health revenues results in a much more stable federal share of spending over 2 decades</vt:lpwstr>
  </property>
</Properties>
</file>