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3A55-0BD9-4BEC-B61E-8E468290C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6 | NUMBER OF UNINSURED AND PERCENT WITHOUT HEALTH INSURANCE, 1940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Tahoma"/>
              </a:rPr>
              <a:t>Source: Author’s estimates based on CPS, HIAA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CC1A-460A-4F7F-8B18-5FF937194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4DA-9C81-408D-81C2-2832AF2E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1B1-9C3D-47C2-A42E-F3760486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2C0-DAA4-4AB0-BEA3-6703B512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71B-14B6-4608-90E0-78C959BA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7E2-F2DF-4325-B275-8FBF5105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C60-B01A-4A16-9729-3E57460B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773-02F8-47B4-89B0-83B11589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63A-7DEB-43AC-B451-58842A71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654-FD81-4084-B075-F044767B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309-9E48-4F2E-93A9-6D2AD46B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9A2-3E85-4ED7-A34A-937506D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6FF-3538-42E2-82B2-AEE4CD22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4D20-F7EB-429A-8655-25520C1F1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6 | The risk of being uninsured has declined by more than 80 percent between 1940 and 20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228600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5440" y="5943600"/>
            <a:ext cx="865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Figures simulate the gross number of uninsured as if measured by today’s Curr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pulation Survey. No adjustments have been made for the 10 to 20% overcounting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nsured by the C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4979880" y="914400"/>
            <a:ext cx="3140280" cy="51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6 | The risk of being uninsured has declined by more than 80 percent between 1940 and 2010 </dc:description>
  <dc:language>en-US</dc:language>
  <cp:lastModifiedBy>Jia Yao</cp:lastModifiedBy>
  <dcterms:modified xsi:type="dcterms:W3CDTF">2013-09-06T14:06:2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6 | The risk of being uninsured has declined by more than 80 percent between 1940 and 2010 </vt:lpwstr>
  </property>
</Properties>
</file>