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2D35-E144-426B-B62C-DA61C5BF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951B-D020-4271-94F6-764E9008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FA97-E8DA-4770-867C-6856CC35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C9E3-7987-409A-944C-75B08F2B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086A-8695-4783-B7D5-73C11708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B5B5-BF64-49AA-9F4E-49DDE886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4F1B-CDC0-4409-AF20-9F82611E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7194-C108-46F3-B7EA-95295953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50A0-7339-4336-A106-A10E6C4E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9DE4-4F2C-4CFC-8363-DAED859E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2597-B38D-4209-B069-261E18EF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BAD-946E-4A2F-9FD0-69D4D96F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1E07-DA27-4E2F-9493-50B3E23AA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98320"/>
            <a:ext cx="9124920" cy="56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0Z</dcterms:modified>
  <cp:revision>30</cp:revision>
  <dc:subject/>
  <dc:title>PowerPoint Presentation</dc:title>
</cp:coreProperties>
</file>