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74B9-10D4-4459-9D80-A6E2760CE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A | LIFE EXPECTANCY AT BIRTH WITH AND WITHOUT DEATHS RELATED TO VIOL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2F7D-1ECB-413A-A053-78B6ED5D7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5CC-CBE5-43B8-97A5-B9A0A06F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859-9A5C-43E1-A2ED-268468C7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322-67EE-4B50-95A5-006C3F5E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4D0-2B27-4B2C-A8D6-E8314DD5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A69-C2C7-4412-B6C2-E3798DB1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C15-850F-49B0-B439-79A955DB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737-604F-4D1E-9643-EE3C28B0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C7D-B591-4D27-BF92-E350320A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1E4-82DA-44ED-ACD8-CE922D3E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0F0-A8C7-4874-9865-420A1C4A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1F1-7771-467E-B292-FD97394C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BEF-107C-4A88-A1F7-D27414A7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7CCE-B102-4FAA-B788-E93109605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a | Once higher-than-average U.S. rates of violent deaths have been taken into account, the U.S. leads the world in life expect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51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588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n Life Expectancy at Birth, 1980-19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61880" y="541008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47840" y="44197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Countries are ordered by standardized life expectancy derived by assigning ea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the mean OECD fatal injury rate for the period shown; figures in parentheses denote ranking on unstandardized life expectancy at bir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a | Once higher-than-average U.S. rates of violent deaths have been taken into account, the U.S. leads the world in life expectancy</dc:description>
  <dc:language>en-US</dc:language>
  <cp:lastModifiedBy>Jia Yao</cp:lastModifiedBy>
  <dcterms:modified xsi:type="dcterms:W3CDTF">2013-09-06T15:41:1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a | Once higher-than-average U.S. rates of violent deaths have been taken into account, the U.S. leads the world in life expectancy</vt:lpwstr>
  </property>
</Properties>
</file>