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CF01-972C-4AEC-8CDC-09D048ADCC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3B | PERCENTAGE OF METROPOLITAN STATISTICAL AREAS WITH CONCENTRATED OR HIGHLY CONCENTRATED HEALTH SECTOR MARKETS, BY TYPE OF MARKET, 1994-1999, 2000-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D194-1DD2-4D9E-840C-7CDDD7CC01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FFC0-B27E-477A-A543-A131FFC49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CC93-22EB-4595-8A14-D144E4AB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7930-CB00-4881-B643-D2897F1B4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1ECB-9FDA-4071-AF9C-EB7A5973A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76F1-4E9E-4652-A540-6D6AE8CA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F147-70B3-4F9C-BF70-570402F1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4A71-8EC9-4158-84B3-03EF20C8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6DFA-547D-4267-961F-0D3F108E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5BAE-0EFE-4196-8995-0BA2763A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8ADC-FEF6-4A6A-9347-CF2FC353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58F5-9545-46AC-8474-78A07FB7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5324-7069-4B18-9510-A670D89B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792E-A27E-4C98-BA5E-B8D86D6489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2b | It appears that concentration is rising in both the hospital industry and HMO indus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254160" y="1549440"/>
            <a:ext cx="8712000" cy="4825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457200" y="15238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Metropolitan Statistical Areas with concentrated or highly concentrated marke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17600" y="579132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Shen YC, VY Wu and G Melnick. Trends in Hospital Cost and Revenue, 1994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5: How Are They Related to HMO Penetration, Concentration, and For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 Ownership? Health Services Research 2010; 45(1):42–6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57200" y="45720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at the time of this analysis, the threshold for “highly concentrated” was a Herfindahl-Hirschman Index score of 1,800 or above; “concentrated” is defined as an HHI of 1,000-1,800. Since August, 2010, the FTC has the first threshold at a score of 2,500 or above and the second at 1,500-2,50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2b | It appears that concentration is rising in both the hospital industry and HMO industry</dc:description>
  <dc:language>en-US</dc:language>
  <cp:lastModifiedBy>Jia Yao</cp:lastModifiedBy>
  <dcterms:modified xsi:type="dcterms:W3CDTF">2013-09-06T15:22:54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2b | It appears that concentration is rising in both the hospital industry and HMO industry</vt:lpwstr>
  </property>
</Properties>
</file>