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329D-CB72-4EF4-8400-570EBBFCA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932D-5DDA-4E42-8600-36F76328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14EB-A5FB-4D51-A9AB-4EE235CC0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C080-1F51-4933-AEBF-0175A767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1351-3DD7-49BA-A88A-546ECE50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A73F-9752-4824-B90C-A216CB2F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91A8-A378-40DE-980F-6F9734BC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8566-1D89-4233-BD7C-123C0D35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C312-60A9-4AEA-9C96-6654B87A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1C3D-D839-4A63-BC0E-6677D5F0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875F-D02D-4BE6-8C40-D1FA241B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E9D9-C041-4E18-8C15-FB729495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790C-C088-4CA9-A17B-7D328E19E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371600"/>
            <a:ext cx="9009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8Z</dcterms:modified>
  <cp:revision>37</cp:revision>
  <dc:subject/>
  <dc:title>PowerPoint Presentation</dc:title>
</cp:coreProperties>
</file>