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7443-95F9-42AB-BBF6-98A680CF96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8.1A | TOP MEDICAL INNOVATIONS BY COUNTRY OF ORIGIN, 1975-2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6D6B-63B4-4B9A-9BF6-E0B9915E5C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E49F-B174-4179-B2DA-CF7F2489C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2FC7-6851-4E47-A1EB-B187C7C5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7CC6-4536-4D05-AC7A-BCC50B57B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761A-A87A-4F7E-BEC6-F988142D1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28AD-7BF1-465A-B672-F1899D9C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9906-26B4-4F82-B19D-9CBD1D9F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48B9-FF94-429A-8005-63F3BA71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03AA-DB7D-41B0-9672-DE5FE69B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020B-28EF-4B56-A3AC-675E559B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0325-06E9-4A43-82F5-8C3B8E07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7C9D-7FA5-4D73-AEC2-7812DFCB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927A-D085-4814-B28C-326DCE54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C4EB-D434-4613-8F15-73EAB01DA9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8.1a | The U.S. has less than two-thirds the population of EU and Switzerland, but has produced about 50 percent more top medical innov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50760" y="1549440"/>
            <a:ext cx="92455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49800" y="1600200"/>
            <a:ext cx="405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top medical innovations, 1975-2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41080" y="5759280"/>
            <a:ext cx="839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Whitman G and R Rand. Bending the Productivity Curve: Why America Leads 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ld in Medical Innovation. Cato Insitute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olicy Analysi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654. November 18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9. http://www.cato.org/pubs/pas/pa654.pdf (accessed August 10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7:43:19Z</dcterms:created>
  <dc:creator>Kristy</dc:creator>
  <dc:description>18.1a | The U.S. has less than two-thirds the population of EU and Switzerland, but has produced about 50 percent more top medical innovations</dc:description>
  <dc:language>en-US</dc:language>
  <cp:lastModifiedBy>Jia Yao</cp:lastModifiedBy>
  <dcterms:modified xsi:type="dcterms:W3CDTF">2013-09-06T15:33:51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8.1a | The U.S. has less than two-thirds the population of EU and Switzerland, but has produced about 50 percent more top medical innovations</vt:lpwstr>
  </property>
</Properties>
</file>