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D36-1D64-4E4D-AC7C-C6DEDCA0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BF8-C712-4B76-BB42-4CB3BB97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D67-5FE5-4997-8FCC-88AEAA4F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429-A7AB-412A-81F5-A421C333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750-8FA5-4A28-851A-AF1113FC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3E3-E66F-43DE-A061-71974D5A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B54-0E5A-4AFC-A433-2AE6153A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D4F-B127-4B53-A972-42533BEF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107-6F5B-4A52-A7B3-2100C039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816-8FD3-445C-9039-52F099E0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E34-D00C-4EBB-99E4-1ED5AED5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234-B13E-448F-85A4-A2FB5200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3DDC-6B96-41D4-879A-FD33CC1DD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9840" y="152280"/>
            <a:ext cx="90043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7Z</dcterms:modified>
  <cp:revision>28</cp:revision>
  <dc:subject/>
  <dc:title>PowerPoint Presentation</dc:title>
</cp:coreProperties>
</file>