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FFCA8-EE5C-49E4-9F12-95BA70BF9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66525-ABBB-40F6-9EF7-8EF140C87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EB48E-1259-40EA-BA52-6EC805234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942B6-0F97-4ABA-80FA-D44D9D669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791FD-ABA5-41CF-AD2D-351BC554F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7B316-7C72-4168-A3A5-F51F837D9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3F364-84E0-4527-A111-B54F77717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237DB-239F-441E-9800-983892B32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9BCE4-0D2C-45D7-A2C4-4F089231B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556D1-2951-468C-A907-F2F46F390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1EEA1-C283-44D7-B07F-924D9F728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7D65C-C7CB-429D-992D-BA2EA4D18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97B56-7FB9-4F3D-B191-1A9EEF63B0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46080"/>
            <a:ext cx="9144000" cy="676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2:14Z</dcterms:modified>
  <cp:revision>12</cp:revision>
  <dc:subject/>
  <dc:title>PowerPoint Presentation</dc:title>
</cp:coreProperties>
</file>