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9A42-4EE9-46A6-80E0-7BF00E2A4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2B03-509F-4C6D-A46E-1329A0DB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7967-E1B5-4B6F-AD7F-CF22EE385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FE0E-33EC-4B59-B159-4AE7D695D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71F0-BB29-43E4-B985-6B5244E20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3465-3421-405A-A197-4450F9FC6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6B9E-A487-454B-A758-88C0AC329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E32B-AEC3-485C-B5BC-DD7552134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7CB2-17F8-46C2-8C5E-144920532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5426-1896-4EE2-9E26-296DE45A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2244-6B76-43E3-AEC5-9A6D10B8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22BA-7060-4DFB-BB2C-3200EBBB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9AE84-A163-4DE6-8023-19B2F1C932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9200" y="149400"/>
            <a:ext cx="8988480" cy="65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34Z</dcterms:modified>
  <cp:revision>26</cp:revision>
  <dc:subject/>
  <dc:title>PowerPoint Presentation</dc:title>
</cp:coreProperties>
</file>