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72B8-37DE-4597-AA1B-9C5489190D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428D-92A0-4355-9A37-84C18747F45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3.3a | Personal Health Expenditures as a Percentage of GDP, by Source of Payment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845F-3954-430F-922C-301032407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252D-5AF6-458F-A28C-E68CA6DA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EB8F-F187-43AA-9FBB-E49E98331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E49A-5521-4FEB-8627-2017F2E75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C8E3-56A5-49A2-B6A8-9FB02CE81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1BED-7BB6-4C25-897B-6C6CE291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ADF3-ED67-490A-B5E9-F6452DC7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BB9A-0202-475D-BB29-F942F00D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E3F2-37C7-4557-A0BB-21DAF206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D70A-88C5-4E41-B62C-7888EF98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B917-1D4E-4B0F-A35B-39E1C096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A8E9-4820-47A3-9762-6E65A76F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54F7-4180-4F8B-845F-480408CB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F369-6319-4B9E-B140-4A143DD1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2513-D176-46EB-AE25-4502708C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967C6-8D56-49A7-9494-60989A295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1226-6F1E-4427-A9E1-B70964987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0307-2DB8-487E-BA9D-0B7E43B8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D35C-EF37-412A-87FE-3AB179A9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981C-E21F-4257-902C-557D7C87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2AE5-FE2B-4EB1-AD99-948A1412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1243-276B-4357-9117-E385BF2D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8B02-6F9F-4EEF-8F50-F993F0BF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9F81-935E-453F-85B7-CFC85993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7ED6-AA9D-4F80-9E51-CAECAC7A8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8C3B-1505-4A45-894A-3429DAD16C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3a | Since 1949, all of the growth in the personal health spending </a:t>
            </a:r>
            <a:br>
              <a:rPr sz="2400"/>
            </a:b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share of GDP has come from increased payments by third partie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4273200" y="1600200"/>
            <a:ext cx="407304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dicare and Medicaid begin (1966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93" name="Straight Arrow Connector 6"/>
          <p:cNvCxnSpPr>
            <a:stCxn id="92" idx="1"/>
          </p:cNvCxnSpPr>
          <p:nvPr/>
        </p:nvCxnSpPr>
        <p:spPr>
          <a:xfrm flipH="1">
            <a:off x="4038120" y="1784160"/>
            <a:ext cx="235440" cy="44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94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3a | Since 1949, all of the growth in the personal health spending share of GDP has come from increased payments by third parties</dc:description>
  <dc:language>en-US</dc:language>
  <cp:lastModifiedBy>Jia Yao</cp:lastModifiedBy>
  <cp:lastPrinted>2002-05-16T21:44:34Z</cp:lastPrinted>
  <dcterms:modified xsi:type="dcterms:W3CDTF">2013-09-04T21:03:48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3a | Since 1949, all of the growth in the personal health spending share of GDP has come from increased payments by third parties</vt:lpwstr>
  </property>
</Properties>
</file>