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7F9E-00DB-417A-9AA2-8FE50DDF6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4A | INFORMATION CAPITAL STOCK, HEALTH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E4EA-83E3-4359-8BE9-3092AC220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3FF6-584B-4061-8E50-37ECB3C6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380-7F68-4FC5-9E98-DD9DC005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585F-2461-49C1-B089-6AA80F35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5F24-E0D0-49D3-AC92-7D3F26E1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AE0E-D233-43AA-BEB2-C7FEBDB2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C47-6948-457B-BFA7-4B533D16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ED50-8A08-47C9-95AB-FC0FAF19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16F8-2AB9-4BFE-BD12-F9031FCB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A8A9-7119-4D08-A15C-355AE72D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8108-09E4-40B4-8A7A-EEBAA61C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D07-DF99-487C-9E4E-DDB6832B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4E7-EF0C-4975-9BC5-91F4B7F7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DCB7-9E56-4035-97C8-D3AD5412F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a | Information capital stock in the health services sector has quadrupled during the past  two deca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01520" y="1244520"/>
            <a:ext cx="86360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55627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residential care facilities. It does not include pharmaceuticals or medical devices. Howev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ther office equipm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s medical and nonmedical instruments used in the health services subsec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a | Information capital stock in the health services sector has quadrupled during the past  two decades </dc:description>
  <dc:language>en-US</dc:language>
  <cp:lastModifiedBy>Jia Yao</cp:lastModifiedBy>
  <dcterms:modified xsi:type="dcterms:W3CDTF">2013-09-06T15:00:4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a | Information capital stock in the health services sector has quadrupled during the past  two decades </vt:lpwstr>
  </property>
</Properties>
</file>