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3C22-FBBE-4AB5-B4B1-B01B316E7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9F56-36A8-4A7F-83C9-0E35C46B8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1025-105D-4866-BDA4-EE7BACF77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C892-D73C-48C8-A4ED-25EC1D257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B780-4E1E-4FE7-BDBD-8CCEF2697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A009-06E3-4167-BF54-FC43CFC7A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3F2C-72C4-431B-9D20-19147B8A6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55EC-2053-4434-A47A-D72B287A7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2531-39FD-424B-A7DD-076D92FE0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4735-3F6D-4071-A1D5-C0C088AB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A1E8-AD28-412E-A8BE-F05BFF04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6340-5044-4538-8F63-D02DD241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A00AD-5538-4C06-8995-38881562FD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3360" y="152280"/>
            <a:ext cx="901728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27Z</dcterms:modified>
  <cp:revision>45</cp:revision>
  <dc:subject/>
  <dc:title>PowerPoint Presentation</dc:title>
</cp:coreProperties>
</file>