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69E4-42D7-4382-A13D-17F66D440A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A43B-78B9-450F-9CCE-23F78D4C672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2 | U.S. TOTAL REAL PERSONAL HEALTH CARE EXPENDITURES PER CAPITA, 1929-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17C0-4637-4D00-A776-5501463F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9C3A-07A0-455F-9DAE-C4823BEE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037D-6CAB-4D44-8B3B-03EE74E2D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FE43-3F6C-4DAE-BF44-5BBFC0FA8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D777-5E1F-4260-8825-879BDA0BE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0BEC-B540-4CC8-A4A5-DD7BEC20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BFB2-E7D0-4498-B13A-A30C26C3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6DAB-C6C0-4B5C-9633-3019C1AC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50E7-6A77-4F07-89F3-2F8311E2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6ABD-CB71-4F56-AF0B-9EB4A352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4D59-5448-417B-A10B-D5F82FD2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E24A-D2B6-4CC4-8793-DB60A33A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711B-C1A4-457D-9D2C-29CC6093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3AB0-9333-4AD6-BE86-85AA60A9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7A16-806B-4AD7-AEA5-AD5C7999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5B61-422A-46A5-9939-024A8ACB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F176-D0A2-44CC-9797-E88829499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C5BA-5FFA-471A-BD43-B33D8DD9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9384-BAC0-4AD7-B3E1-623B7B61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3B16-3845-4B09-844A-B4A7951D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01C2-79D1-4817-8302-09E6C272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C5C3-8D2B-4FE6-8714-7A7BC985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C4D2-D388-40D9-9315-6A7A45AF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CAAD-9A7F-430A-8A07-13C3BCB8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FC59-FA5A-4E2B-89B6-5DB6B1FDD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A752-6372-442A-B5B7-85F86993B7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2 | The rate of growth in PHCE per capita much is slower when adjusted for the effect of rising health prices or general inflation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2 | The rate of growth in PHCE per capita much is slower when adjusted for the effect of rising health prices or general inflation</dc:description>
  <dc:language>en-US</dc:language>
  <cp:lastModifiedBy>Jia Yao</cp:lastModifiedBy>
  <cp:lastPrinted>2002-05-16T21:44:34Z</cp:lastPrinted>
  <dcterms:modified xsi:type="dcterms:W3CDTF">2013-09-04T18:13:14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2 | The rate of growth in PHCE per capita much is slower when adjusted for the effect of rising health prices or general inflation</vt:lpwstr>
  </property>
</Properties>
</file>