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8B2C-0F2E-48D9-95D3-9A406CC55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4A | MALE OBESITY RATE, FEMALE OBESITY RATE AND ADULT SMOKING RATE, G7 COUN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BD32-7EC4-44DC-8513-298798581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5E1-5C35-4726-BCD5-CA5AD303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840-D36A-4E41-8034-C9E1515C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91F-C778-456C-B1DE-682365F3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C1C-336C-4FA2-A524-158BA935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4B5-799D-456A-ADCC-92201086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91D-48F7-4EA8-AE2C-E917846E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9E8-F32E-47C6-A6F6-DBC831DE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C96-A3A1-4136-B274-56CEC262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6EF-7751-4682-8981-29A02891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3884-90D8-4D92-867B-9E91DC4C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7C9-8E3B-49EA-90FA-F61A1818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311-F1A4-4B23-8C2E-5DC6C6B9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7E1C-5E48-44EB-85B0-259FEA604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4a | The U.S. has far higher obesity rates but much lower smoking rates than its major G7 compet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Adults Age 15 and O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1311840" y="5867280"/>
            <a:ext cx="57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 = measured obesity rate.  SR = self-reported obesity r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4a | The U.S. has far higher obesity rates but much lower smoking rates than its major G7 competitors</dc:description>
  <dc:language>en-US</dc:language>
  <cp:lastModifiedBy>Jia Yao</cp:lastModifiedBy>
  <dcterms:modified xsi:type="dcterms:W3CDTF">2013-09-06T15:41:2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4a | The U.S. has far higher obesity rates but much lower smoking rates than its major G7 competitors</vt:lpwstr>
  </property>
</Properties>
</file>