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FA00-B3D6-4F20-BA38-068C7573E5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6B73-9207-4135-9A8A-EA9F15D5C3E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1b | DISTRIBUTION OF NHE BY TYPE OF EXPENDITURE, 1929-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04E1-B226-402D-980B-66359E1F1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B717-70B1-4751-9598-C70BB9A1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54FD-7DD6-400F-A776-2FDEA518C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64AC-C5BD-45AE-ABE5-18798232B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2CCC-C6DB-4C50-A7B8-5A9FFA880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CE9E-FBD0-4437-AA2D-691EB752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5C4A-0ED7-48A3-938A-53B261CD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6D4C-C6F8-45B2-8495-97CA6E91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139A-2EFB-43F5-92F1-32FE6EC1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B6EA-039A-4C5C-988E-9CCA68E7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2B2F-7401-4CC4-B01C-D82729AE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FE93-27A0-4B97-A236-5469529D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F751-7363-4333-8D43-226CE66A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75D7-65CF-4D27-A591-7C1DA720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86DE-CF0D-4E21-B250-A3B15EB7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0821-C7C2-4232-95FD-6CF4C101D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9B12-2D90-4D4D-AD86-3A53DDEDD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CC4F-B619-4BCD-BF17-D97BF7C7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43AF-413A-41D0-8F88-9D3B81A7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D6F0-EE33-4D00-B9FA-33D0CCCA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EE7D-F44A-4108-922D-86565FA1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DCD6-92A3-4DA9-A05D-269C3BD9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0431-198C-472E-B86F-7A50EB5B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4CCA-2F96-4B9E-AE52-221C1504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B597-1459-48A1-9E19-28372FB1B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FE98-A7E0-4F48-A321-CE7247DE7E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1b | For over four decades, spending on personal health care has exceeded four-fifths of national health outlay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1b | For over four decades, spending on personal health care has exceeded four-fifths of national health outlays</dc:description>
  <dc:language>en-US</dc:language>
  <cp:lastModifiedBy>Jia Yao</cp:lastModifiedBy>
  <cp:lastPrinted>2002-05-16T21:44:34Z</cp:lastPrinted>
  <dcterms:modified xsi:type="dcterms:W3CDTF">2013-09-04T18:13:12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1b | For over four decades, spending on personal health care has exceeded four-fifths of national health outlays</vt:lpwstr>
  </property>
</Properties>
</file>