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B7AD9-3EB5-4C3E-B556-4A8D251E83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82176-C97B-4A0D-8E68-7EAD182BD7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Arial Narrow"/>
              </a:rPr>
              <a:t>1.1b | REAL NATIONAL HEALTH EXPENDITURES PER CAPITA OF THE UNITED STATES, 1929-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357F-DFF6-4CF3-8498-8959A0650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8F97-37B9-4A39-A487-B93213A1A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F86D-5E2E-4DBE-AEE6-20CD405F9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5762-DA75-4E05-B757-838DA4928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47AFD-6B44-4763-B205-25D4D836A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01229-C259-45D1-96B4-68115FA30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8B8B2-058B-4180-B8CB-8AA3801EF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ABEAD-D5D1-411E-A10A-790597DAF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1CF9E-4C8B-4222-8DD9-0461A0D32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E57DB-85A9-40C3-8A86-F1A8EB10A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D9ECC-DC35-4A4A-9921-EDED6D356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B0A9-3FC9-4794-A83D-40751BA0D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1F440-597C-496B-AC62-3F499F4BC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DB220-7BE8-4A3E-AF6D-1CCD87D1D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117B6-1737-4898-9E58-A4B229C49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A5229-1D0A-45D0-A9CC-3E659C5B3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23202-B5E7-406D-AEF5-31A40A48F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6E4F-74E1-4EFB-8793-43B03234B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8686-30C1-4872-BB6A-196263EA5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7B20-A7F2-4571-8F24-8E0D8D7F6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E3A1-0D8E-4D38-9C3E-B0DDAEB5B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57E9-20DC-468D-A7B5-6B770BEEE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E6BD-B1F1-4B34-AA06-0423D425B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53AF-2081-45A7-BCC0-C2FEEDC54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0EB9F-80E9-472B-BE48-D8737041A22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72CDC-DF18-4EFF-8B63-83F4F79C78D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8001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Arial Narrow"/>
              </a:rPr>
              <a:t>1.1b | Even in per capita terms, real health spending grew about 25-fold in just 80 years, while GDP per capita quintupl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Object 3" descr=""/>
          <p:cNvPicPr/>
          <p:nvPr/>
        </p:nvPicPr>
        <p:blipFill>
          <a:blip r:embed="rId1"/>
          <a:stretch/>
        </p:blipFill>
        <p:spPr>
          <a:xfrm>
            <a:off x="-50760" y="787320"/>
            <a:ext cx="9198000" cy="6121440"/>
          </a:xfrm>
          <a:prstGeom prst="rect">
            <a:avLst/>
          </a:prstGeom>
          <a:ln w="0">
            <a:noFill/>
          </a:ln>
        </p:spPr>
      </p:pic>
      <p:sp>
        <p:nvSpPr>
          <p:cNvPr id="91" name="TextBox 5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3T15:25:08Z</dcterms:created>
  <dc:creator>Jia Yao</dc:creator>
  <dc:description/>
  <dc:language>en-US</dc:language>
  <cp:lastModifiedBy>Jia Yao</cp:lastModifiedBy>
  <dcterms:modified xsi:type="dcterms:W3CDTF">2013-09-03T18:50:13Z</dcterms:modified>
  <cp:revision>4</cp:revision>
  <dc:subject/>
  <dc:title>1.5b Since 1960, growth in inflation-adjusted health costs per U.S. resident fell below the rise in non-health costs per capita only 7 times</dc:title>
</cp:coreProperties>
</file>