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2884-A93C-46F1-B2D2-1CC495BA8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29F1-5F25-41B7-BEC8-11BB8439A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AE1E-787B-474A-AE71-6AC07614F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BDE3-88CF-41EF-860F-7E6D3C199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C873-3616-4B58-9CBA-AFD8F5007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7AD5-ADF1-465A-8CB7-8ACF6A3DE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D76B-7BEE-4951-A4C8-BFF2E2CC5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93F0-7F65-4B53-B212-ADF6AD31C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CD70-5FAB-4E08-8EC4-4422FDC82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035A-68D6-423F-A928-767368097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2D60-8642-4E3D-B082-87A6BEB9F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35CD-1673-4653-B697-10DD9829E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01F25-9FAC-4292-AC7B-B5217F2BB9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20600"/>
            <a:ext cx="9101160" cy="65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51Z</dcterms:modified>
  <cp:revision>28</cp:revision>
  <dc:subject/>
  <dc:title>PowerPoint Presentation</dc:title>
</cp:coreProperties>
</file>