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973C5-BE32-4580-A3F2-1B05581933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3.3B | ADULTS AGED 18 OR OLDER REPORTING FAIR OR POOR HEALTH STATUS, BY RACE/ETHNICITY AND FAMILY POVERTY STATUS, 200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AA2AD-0994-471A-B63B-C2C8BB8E35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05BF-A766-473F-A4B0-16D089502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D2BD-8894-4C34-9C5E-CCE5CADDB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79FC-5E1C-4199-ADF8-5F14A323D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2ECD-27BC-43E2-BD8F-1E8E137FB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1ABA-CCE7-4DD1-B68D-1CCB36DDF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B830-A716-4B8A-A43B-D277F0443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736B-5B6B-49A8-A7B2-9451A3AF2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152C-38F0-471E-88BC-493054A25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EA4B-766B-4ABA-8662-9CC06718F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F4EA-33AF-4219-8774-BDA6FDC4C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006D-AEDF-4365-9861-07BF48C30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9257-8F5A-473E-81B3-A3FC3F4A3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84D8F-B2A0-4A64-8917-E990B17CE0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3.3b | In all poverty categories, blacks have worse self-reported health status than whites while health status for Hispanics is bet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33520" y="144792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individuals reporting poor or fair health (2003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6T14:26:56Z</dcterms:created>
  <dc:creator>Kristy</dc:creator>
  <dc:description>13.3b | In all poverty categories, blacks have worse self-reported health status than whites while health status for Hispanics is better</dc:description>
  <dc:language>en-US</dc:language>
  <cp:lastModifiedBy>Jia Yao</cp:lastModifiedBy>
  <dcterms:modified xsi:type="dcterms:W3CDTF">2013-09-06T15:16:59Z</dcterms:modified>
  <cp:revision>13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3.3b | In all poverty categories, blacks have worse self-reported health status than whites while health status for Hispanics is better</vt:lpwstr>
  </property>
</Properties>
</file>