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CE1A-2336-4CE2-AA9D-ECEBEEAD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77C2-6CD5-4606-B3C5-7AF68D1B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D7C0-A129-40A5-89E8-9C078646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1FCD-42BC-464B-9B52-3AE8B6C4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3281-5F74-4403-8693-FFABB506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7959-D01D-42A4-93A1-9F60A7DD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3DD0-6CF2-40C4-8647-4DC6E048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6B1A-6124-4075-9055-B077C69A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7C86-9049-477B-90CB-28ADD4D4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F416-AF4C-4F7F-B597-6E93182D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8DDF-5A6E-4581-B681-D42EAC45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070E-0EC6-495A-ACB2-2730BA45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5893-1FBB-484B-92C1-8DE3B6CCC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600" y="304920"/>
            <a:ext cx="9131400" cy="62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1Z</dcterms:modified>
  <cp:revision>37</cp:revision>
  <dc:subject/>
  <dc:title>PowerPoint Presentation</dc:title>
</cp:coreProperties>
</file>