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253B-8353-4308-92AA-EACBCC082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B | EUROPEAN CANCER SCREENING RATES AS A PERCENT OF U.S. RATES FOR SELECTED CANCERS, BY 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1B52-363B-4B0D-B9D9-03C007E77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F19-DE83-437B-AB86-9466FC14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4B9-091D-442C-B0B5-1EF20DFA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674-D820-4FA6-AE4A-0714C1E0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B8E-4608-4F53-84E5-A1348FE1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7AD-ABC4-4334-847B-803072E7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784-AAB8-4597-BE9F-2B02D134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FC7-BF90-4675-BDB3-24AEA5D0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AFC-B460-449E-A419-14E8B967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6A1-FA10-4DF9-AE89-13A0D60A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68E-1C1E-4000-BBF4-EC0D27EB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FCB-AD8B-4FCA-B6B2-A6BD62F1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2AA-A4C7-4BA7-971B-5EBACB74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676-FECF-4B2A-AB72-797A1EECC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b | Despite a larger uninsured population, cancer screening rates for adults 50 and older are much higher in the U.S. than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cancer screening rates as a percentage of U.S.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75920" y="5827680"/>
            <a:ext cx="77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.H. Howard, L.C. Richardson and K.E. Thorpe, Cancer Screening and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United States and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09; 28(6):1838-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b | Despite a larger uninsured population, cancer screening rates for adults 50 and older are much higher in the U.S. than in Europe</dc:description>
  <dc:language>en-US</dc:language>
  <cp:lastModifiedBy>Jia Yao</cp:lastModifiedBy>
  <dcterms:modified xsi:type="dcterms:W3CDTF">2013-09-06T15:41:1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b | Despite a larger uninsured population, cancer screening rates for adults 50 and older are much higher in the U.S. than in Europe</vt:lpwstr>
  </property>
</Properties>
</file>