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64F1-74BC-4F19-99D2-314C8EEDAD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61C3-44B7-46EC-9EF9-E5212BA2269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4a | DISTRIBUTION OF PERSONAL HEALTH CARE EXPENDITURES BY MAJOR TYPE OF SERVICE, 1929-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2A31-7714-438E-89D2-3FC78616F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FE64-7E47-42E1-9034-6D75105E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08FF-CFAD-4C06-ADBF-2ACAE2C80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A213-4D21-42CE-9770-9D996FFC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4F7B-A08F-434D-A247-6E968340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8FE6-B300-4685-915E-FEBFE122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454F-4FA5-44FE-84D5-B9BFA046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37E2-B185-4D6B-96EE-43A4CCAB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5AAB-C781-4EB0-8B79-4959208C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891B-06C4-4A18-AC5C-C2796929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AF2E-C736-4BE3-8202-0ADA28CB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47BD-7FA3-473F-8109-B4BFC283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4F56-56E4-427B-90F0-E9FDD1B9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C182-E769-47A8-B367-D2FEAA34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5F95-90F4-4C7A-B42E-259DCA92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B46D-A668-4312-9778-303BD8D14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A8CF-7B08-4EDD-AD28-C4E01D78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9801-AF11-43BD-959C-C76534E2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25BA-5EB2-411F-B720-97F1594F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5FC3-B5AA-4456-A9DC-8663EF1D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2C85-5B0F-4BB2-963E-D317CFD6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33F4-522B-4649-8021-7975608A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8D09-CEE3-47C6-B39F-E74F6994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5529-BA22-4980-8C57-25123DC0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F689-EA71-4929-9D8E-EF030ED50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ACE5-B1E5-4AE3-97B4-C26BB31923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4a | Professional services--once accounting for nearly half of all health costs--have returned to being the largest single share of spending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4a | Professional services--once accounting for nearly half of all health costs--have returned to being the largest single share of spending</dc:description>
  <dc:language>en-US</dc:language>
  <cp:lastModifiedBy>Jia Yao</cp:lastModifiedBy>
  <cp:lastPrinted>2002-05-16T21:44:34Z</cp:lastPrinted>
  <dcterms:modified xsi:type="dcterms:W3CDTF">2013-09-04T18:13:21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4a | Professional services--once accounting for nearly half of all health costs--have returned to being the largest single share of spending</vt:lpwstr>
  </property>
</Properties>
</file>