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71A2-EE82-41F2-B390-4660648C8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5.1a | Inflation-Adjusted Per Capita Household Net Worth, GDP and Health Spending, 1952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E74B-5628-43A6-8E66-9F9774C45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DB09-1B8C-430A-BB8C-BA2A4C86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DDB8-B40E-432F-8FDA-8524DAD0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9FFA-64AB-497F-8024-4937F02F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CFAE-DC26-48E0-914B-CC6F7755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15FB-F3E0-4580-8D00-9ABA51FD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6F1-B01F-4EB3-A3C7-CB99D3A9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F886-7DDD-4F53-8386-A24DE2D4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84B6-C86D-4C68-A21A-8218E639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49E8-E34D-42B7-BBDA-CD8F956B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3620-2BDA-43BE-9466-7C67846E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9959-544E-4F9A-8281-DBF8B7B7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F266-6983-4457-AC7F-68FCD4A8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3529-331B-49E3-B1B8-EEF91CA6C1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1a | Since 1950, inflation-adjusted health spending per capita rose much faster than per capita household net worth or GD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2952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 of real amounts per capita, 2005 chained dollars: 1950=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1a | Since 1950, inflation-adjusted health spending per capita rose much faster than per capita household net worth or GDP </dc:description>
  <dc:language>en-US</dc:language>
  <cp:lastModifiedBy>Jia Yao</cp:lastModifiedBy>
  <dcterms:modified xsi:type="dcterms:W3CDTF">2013-09-06T15:25:59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1a | Since 1950, inflation-adjusted health spending per capita rose much faster than per capita household net worth or GDP </vt:lpwstr>
  </property>
</Properties>
</file>