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151-A719-4E67-AD4A-111B7847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674-D499-4768-AF7E-82399B25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CB8-AE7B-43DD-9A57-AC5D135C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014-0DB6-4673-8FA1-6155C0E6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38AD-D918-4003-9D4D-52F6B53B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288-9D24-4DF1-A752-31A3566B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C79-9746-48C0-9680-C69C9284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F099-ECDB-490F-BF10-F166A922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508-788E-4304-9FD4-A43FE7C6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9853-52F8-4DBF-AF88-296CEA06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9EE-49E0-4FEB-AEE7-BF72A289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D7B-F77A-4A47-9852-4B72123B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B936-C01D-4E96-AB54-4DDA37724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3000" y="0"/>
            <a:ext cx="86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5Z</dcterms:modified>
  <cp:revision>22</cp:revision>
  <dc:subject/>
  <dc:title>PowerPoint Presentation</dc:title>
</cp:coreProperties>
</file>