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4A39C-482A-416F-9FA6-0ECA727F47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6.3B | UNEMPLOYMENT BY SEX, OCCUPATION AND INDUSTRY, 1962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C0CC0-4F7A-4CC5-A673-4F78C32BCF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E4CA-041F-4A34-AE24-06FBF4EBC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28ED-37E9-439F-A871-C761E0ECE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AA7F-142E-4E80-AEAF-5B515D04E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DFF3-6266-49F7-A8FA-4FE000912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0078-95E2-4729-B175-A392B1B49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2614-3C68-4D90-B157-8CCD6B370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9388-705F-4D10-A538-98770EE4C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7358-6EFB-4706-8339-4F5B57AE9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3DD5-0225-4BDA-B527-8CDAE9C77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B798-F999-4544-8E04-F1FF90270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AE30-0E8A-455F-BBFA-DEFEB17E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38C2-F2CC-4441-8C44-DE8E211A7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593D9-85B6-44ED-97E0-833181D57B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6.3b | Unemployment rates among females working in health services, but not hospitals, are higher than for females overall; this has not always been tr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5" descr=""/>
          <p:cNvPicPr/>
          <p:nvPr/>
        </p:nvPicPr>
        <p:blipFill>
          <a:blip r:embed="rId1"/>
          <a:stretch/>
        </p:blipFill>
        <p:spPr>
          <a:xfrm>
            <a:off x="406440" y="1397160"/>
            <a:ext cx="8331120" cy="49780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09480" y="137160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verage annual unemployment rate within industry (percen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9T15:25:35Z</dcterms:created>
  <dc:creator>Kristy</dc:creator>
  <dc:description>16.3b | Unemployment rates among females working in health services, but not hospitals, are higher than for females overall; this has not always been true</dc:description>
  <dc:language>en-US</dc:language>
  <cp:lastModifiedBy>Jia Yao</cp:lastModifiedBy>
  <dcterms:modified xsi:type="dcterms:W3CDTF">2013-09-06T15:28:52Z</dcterms:modified>
  <cp:revision>2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6.3b | Unemployment rates among females working in health services, but not hospitals, are higher than for females overall; this has not always been true</vt:lpwstr>
  </property>
</Properties>
</file>