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F215-C6F4-48D2-80F5-35D577C8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7BBE-B3EF-4791-A6EE-969C4248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E183-B15F-40F7-98B7-EB4CD61E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612D-BE78-4810-891B-82942763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DCEE-E087-4AB1-A719-E314A0C2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9746-A17F-4732-B16F-FC5B5F96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59DD-A511-4604-A91B-D8CFBBFC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B8E7-61DD-401C-8DC5-11B6D228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A9F0-472C-4758-B688-E29CD0D2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0E3C-AA82-4A6E-8230-F81C42BF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D1B2-EC04-4A24-99B1-B21F4E07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CEDA-01AF-4CAF-BA0B-5ACB7D45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1BFE-06B7-40FF-B448-B2B120930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8Z</dcterms:modified>
  <cp:revision>14</cp:revision>
  <dc:subject/>
  <dc:title>PowerPoint Presentation</dc:title>
</cp:coreProperties>
</file>