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1BB-7947-4D26-B66B-C7338BD4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662-474D-4FAE-A186-364A045E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7BC-2A6C-4502-A45C-8AF00C37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D36-17F0-48AD-B9DE-EE0D8F50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28BF-892C-4E1E-A115-DAF02356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D70-CDEA-4162-8D3E-B97E0258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659-ACEC-42FF-BE64-B40C4A3E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4CC-9959-493C-A27F-88BCF68B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248-9A36-4E11-8474-55A0F22F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CAF-A5CF-4BB6-9BF4-B08AFFF4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B0B-529F-40D4-A7A0-CEE42D64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A1A-26E7-4C75-BA76-89E3DF9A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F0BB-117C-4050-AA61-85346E73C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9400"/>
            <a:ext cx="899136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1:18Z</dcterms:modified>
  <cp:revision>6</cp:revision>
  <dc:subject/>
  <dc:title>PowerPoint Presentation</dc:title>
</cp:coreProperties>
</file>