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5A5B-90FB-46F3-A152-A592A5D99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b | Trends in Per Capita Income by Geographic Region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0321-F241-4A37-AAC4-E1A098CF3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9A3-28D4-4575-99AC-F9BFBCDA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55C-6E80-42C5-9E7F-519A8D89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485-81A8-4D38-9304-679AD82A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778-BFC7-4C97-91DA-ABEDCD7C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F73-F7E7-412E-BF36-45616517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1CF-CC1D-4061-A878-256730CA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F2C-209C-4F63-BF40-7958474B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307-1668-4B2A-A37F-9267D65F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135-DA68-47B5-83C8-DC6ACBD3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F8E-DE67-49EA-B0AD-860D5D7A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39A-6565-4FAF-B448-D3EA97C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9C7-6230-4510-BC2E-8F009F8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C1CC-B4E4-43E8-A671-76475932E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b | Regional income disparities have narrowed considerably over the past 8 decades, but have widened somewhat since 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680320" cy="547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Incom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b | Regional income disparities have narrowed considerably over the past 8 decades, but have widened somewhat since 1979</dc:description>
  <dc:language>en-US</dc:language>
  <cp:lastModifiedBy>Jia Yao</cp:lastModifiedBy>
  <dcterms:modified xsi:type="dcterms:W3CDTF">2013-09-06T15:13:2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b | Regional income disparities have narrowed considerably over the past 8 decades, but have widened somewhat since 1979</vt:lpwstr>
  </property>
</Properties>
</file>