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34301-8E3A-46B4-837B-5F41F5415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1BAAE-819D-4CF8-AEC7-BF2BC6776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7072B-67D4-4308-888E-D61228792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697FC-7A46-4F5F-B6BC-6221244F3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3E3D4-86AD-41C3-9A3B-78CE89C4D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12D73-1AC8-4173-A0A4-BB19ABED3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F37D9-AB00-4215-B5FA-257C598C9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9DCDC-7749-4E31-9A5B-982096203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8C3C2-0CC2-41A5-AA02-C3ED49F3B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CEAF1-166D-4A2E-9735-90F9A73A8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3D53F-3C97-4D30-9536-60A942479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68B65-034A-4063-916C-6BD2DEB80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2D646-8878-4F5D-8E3B-084C10CE70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50760" y="0"/>
            <a:ext cx="9042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0:26Z</dcterms:modified>
  <cp:revision>37</cp:revision>
  <dc:subject/>
  <dc:title>PowerPoint Presentation</dc:title>
</cp:coreProperties>
</file>