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835-1201-451C-A97F-45A78C99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036-D59C-4270-9062-D26A82FB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D2D-893F-4622-AA37-EC30BF9E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50E-F279-4747-A7A0-69FD0D8C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6E1-D5F2-4102-BABB-6F48C439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EE7-D906-4551-B22C-D1092240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D75-B685-456E-8550-4E458556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818-2C7D-4455-8D57-80AF9769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E4A-FA5A-41F4-BD39-3E9B962B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ED6-7E84-4480-B983-DF3E59E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5CC-FC65-46F6-801A-4421442E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6AB-A3F6-456F-87EB-9118FBC2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59A8-1095-4A8A-9AF7-A723A64AB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6Z</dcterms:modified>
  <cp:revision>20</cp:revision>
  <dc:subject/>
  <dc:title>PowerPoint Presentation</dc:title>
</cp:coreProperties>
</file>