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D53-8782-4DE0-99AE-0EF9704F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AC0-2E48-4165-9BC6-729E7721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257-80DF-49C0-BDBB-D568A5F5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A10-CB4A-4A86-AF56-1A347887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28B1-639C-4ECC-B03A-E116A69E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AA4-96DA-425B-94A3-C41B9496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442-2A47-4D26-B1AC-21CD1A8B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A13-4926-4F48-BB57-69491E02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EE2-BE8E-4F6A-9A18-E762AEC3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5D1-2900-4511-80B0-0D4A039D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2E6-49F7-4745-B03E-0C1C912C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75E-3213-4F24-934E-6A5E599D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6002-F192-4CE0-8A9C-1BBD931FA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52280"/>
            <a:ext cx="9033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1Z</dcterms:modified>
  <cp:revision>31</cp:revision>
  <dc:subject/>
  <dc:title>PowerPoint Presentation</dc:title>
</cp:coreProperties>
</file>