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A4FD-5CC5-4821-A368-83F635948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C | TRENDS IN PROFITABILITY: RETURN ON EQUITY AMONG FORTUNE 500 PUBLICLY TRADED FIRMS FOR HEALTH-RELATED SERVICES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F8A7-76A1-4996-B3B1-CC2145C84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D06-5C27-419F-A7D1-886E7EF6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D11-22CB-443D-BC70-AD9D9A72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FE0-9EBD-4DF0-994D-907D89B1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C2E-2D6B-4010-85A2-B947FBAF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243-9AED-437E-AD97-BA565065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92E-4831-46BB-B74A-8F210687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F39-7929-4538-A73B-75877029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9CC-F02C-483A-B6E8-6F38E199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82D-3E51-453B-BEDF-20A26447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BCE-6B4E-4EFA-ABE5-C1D73929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607-DD9A-4633-9F9E-167EFFF1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71C-46DC-47DC-A65C-C77E1F45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62BC-148C-411D-9823-5A5642577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c | Return on equity generally exceeds 10 percent among health-related services indus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83920" y="114300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equity (RO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486400"/>
            <a:ext cx="8343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c | Return on equity generally exceeds 10 percent among health-related services industries</dc:description>
  <dc:language>en-US</dc:language>
  <cp:lastModifiedBy>Jia Yao</cp:lastModifiedBy>
  <dcterms:modified xsi:type="dcterms:W3CDTF">2013-09-06T14:17:11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c | Return on equity generally exceeds 10 percent among health-related services industries</vt:lpwstr>
  </property>
</Properties>
</file>