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ACEF-1B96-479E-A324-807FBEC9F6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3B | MAJOR COMPONENTS OF HOUSEHOLD EXPENDITURES, HIGHEST INCOME FAMILIES, 1984, 1996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8199-D70D-4863-81EC-0C99AEDF4E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ED8F-5244-4D2C-ACD1-2DF6DDA49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AF29-F5A3-4C73-9D9F-26EC6BB7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0845-585B-478A-97A2-08C12407B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D544-FF7C-42E2-871A-5296602BE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CBDA-B1A3-49E5-BF87-BE77E426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9C43-8CAF-45F6-87CF-2E7E59CC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2932-3DBB-46F2-AFA4-0CDC226F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478C-969F-4579-89FC-F2178D13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62BC-8936-4C78-AFC2-86846F4A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F58A-EC06-484D-8F40-CB1AD751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72D8-AA5A-456E-895D-173A47D4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B3C3-4B29-46D1-BD59-78E74E15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B73B-F6BB-475A-945D-D492F1DB8F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3b | Direct health expenditures constitute less than 1 in 20 dollars spent by the highest income fami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397160"/>
            <a:ext cx="8559720" cy="50544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676520" y="6324480"/>
            <a:ext cx="64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ajor Components of Household Expenditures (ranked by size in 200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3b | Direct health expenditures constitute less than 1 in 20 dollars spent by the highest income families</dc:description>
  <dc:language>en-US</dc:language>
  <cp:lastModifiedBy>Jia Yao</cp:lastModifiedBy>
  <dcterms:modified xsi:type="dcterms:W3CDTF">2013-09-06T14:06:19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3b | Direct health expenditures constitute less than 1 in 20 dollars spent by the highest income families</vt:lpwstr>
  </property>
</Properties>
</file>