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31B-0EDD-48E3-A29D-FC0938A8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26E-B39E-490B-83FC-9D588056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0BD-E318-40A5-A747-90275A5A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4F8-6D87-467F-AF60-1B2F9CE0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25F-7223-4C65-A3AB-05C3BC10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0EE-5779-46EA-B63E-40D8DFDF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B45-B65A-4D97-AFD7-E2D31203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298-EBB7-4390-B51B-B339A594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2C2-4CF6-4717-B580-B017D24E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B04-0398-478C-BC39-766A54E8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BCA-F1C3-49D0-957E-5C843A98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23F-9E51-42C7-B85B-47A52565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98B2-C3CD-4945-831A-929EF1629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5Z</dcterms:modified>
  <cp:revision>8</cp:revision>
  <dc:subject/>
  <dc:title>PowerPoint Presentation</dc:title>
</cp:coreProperties>
</file>