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905E-1D7C-4A92-90F9-6575C75D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83E-20A8-481E-8B93-9E761A81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F40-712E-4464-9877-D12552D2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E9A-3EB4-468C-8156-6DC62C49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5981-9AA6-4059-AB3B-F21AA8E9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F27-99E3-4CFC-986B-E1125D6E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7A3-5E88-4897-867D-8C4FC985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D96-8EF0-48E2-96B9-3EF85701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F11-FEED-42D6-9DBC-9F43E17D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F63-2ACE-4413-840E-DA4B9CF5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5F23-F299-4DF5-AE8B-9AF3DE9B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02F-A029-4474-B02E-85A7148E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E1CB-8ACD-4A09-A864-5180FC7D7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42Z</dcterms:modified>
  <cp:revision>20</cp:revision>
  <dc:subject/>
  <dc:title>PowerPoint Presentation</dc:title>
</cp:coreProperties>
</file>