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512F-DD7E-439B-A1F7-14772D3A2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2 | AVERAGE ANNUAL CHANGES IN HEALTH EXPENDITURES DURING ECONOMIC CONTRACTIONS, 196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C129-FBB5-4F84-BE3C-2FB5B85E8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110-46F4-488B-B572-688E9F19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57B-721D-474E-9409-36ED763A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C1A-61C6-405A-8199-DDF67D5B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650-CA0C-4053-9617-9480E007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3A0-35FF-48BB-AB2C-99783BE0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DBA-AB7E-4F66-A1A8-907906CC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AE7-580C-47E9-ABC1-145CFBAD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A0F-1350-4DFD-9CA9-A729EDAF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135-96E5-4200-BC9F-6C9544DB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983-E1A6-4E3E-A677-B0C4DB2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94A-ED0B-43E8-A7D4-048F6BA7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044-3841-4072-B065-BDCE6EAC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605F-8AE2-4CA8-8280-A63403A0A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2 | Medicaid spending occasionally is more counter-cyclical than other health spending, growing relatively faster in down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2 | Medicaid spending occasionally is more counter-cyclical than other health spending, growing relatively faster in downturns</dc:description>
  <dc:language>en-US</dc:language>
  <cp:lastModifiedBy>Jia Yao</cp:lastModifiedBy>
  <dcterms:modified xsi:type="dcterms:W3CDTF">2013-09-06T15:28:08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2 | Medicaid spending occasionally is more counter-cyclical than other health spending, growing relatively faster in downturns</vt:lpwstr>
  </property>
</Properties>
</file>