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0FCF-EF9F-4A75-88B9-D8B552D66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3A | TOTAL WEIGHTED HEALTH EMPLOYMENT AS A PERCENTAGE OF POPULATION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0A5A-11D1-4390-A067-C1FDED79E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617C-1FF9-4821-8C07-528230BB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ECCF-933C-4629-8956-23796B7E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747C-E624-4125-BD6F-1AE66039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2EE5-10B5-4A5A-BD30-3340C59B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98EA-17CF-4F73-87E0-856563C3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5582-86A5-4D83-9C57-176EB23F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829A-8F57-4688-AF08-9EC35792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7B8-D73E-4DA5-B4D1-EF70AAD7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F2AB-9296-473C-A7C9-F8482F82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E999-4FA6-4429-B61A-A0F46608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263-9B19-4EF4-A784-A9F4313D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231A-EE8F-4762-B66A-DCCFB3F9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FD03-2780-48F4-9FAD-D6BF43ABB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3a | The opportunity cost of medical workers is only slightly higher in the U.S. relative to the rest of the G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2952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eighted health employment as percentage of total in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4952880"/>
            <a:ext cx="857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figures are calculated by multiplying the number of general practitioners, specialists and all other doctors times their respective weight and adding this to the total number of non-physician health sector employees. The weights were calculated as the average ratio of compensation for doctors relative to nurses for 9 countries (6 shown plus the  3 more with the highest level of health spending per capita: Netherlands, Norway and Switzerland).  The ratios were: 1.8 for GPs, 2.8 for specialists and 3.0 for all other M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3a | The opportunity cost of medical workers is only slightly higher in the U.S. relative to the rest of the G7</dc:description>
  <dc:language>en-US</dc:language>
  <cp:lastModifiedBy>Jia Yao</cp:lastModifiedBy>
  <dcterms:modified xsi:type="dcterms:W3CDTF">2013-09-06T15:03:57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3a | The opportunity cost of medical workers is only slightly higher in the U.S. relative to the rest of the G7</vt:lpwstr>
  </property>
</Properties>
</file>