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8486-4D7E-4582-AE0A-2A93AD556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1B | PERCENTAGE OF PRIVATE EMPLOYEES IN SELECTED COMPONENTS OF HEALTH SERVICES INDUSTRY, BY SIZE OF FIRM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CE57-05C3-46AF-9BD3-E6A2D737B6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110A-A30F-4302-853D-439B1984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874A-8A22-42E0-9FF3-F6743F51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16EF-1E85-4250-A6C2-A77BE8B1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583F-A4D9-4414-93D4-CF3C26EA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486-9A8E-486F-9E47-26344EDC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221E-876D-405B-B400-93B40F64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DC85-5F2E-44AC-AC87-7184F9C9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F33F-71D7-4699-8756-8C79F974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39E6-B577-4F32-A830-48DB30FF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93CC-B066-43E8-A01C-9986DEA1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ABF-9FEB-406C-A325-8A39CA89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1B3-F6B2-4622-8DE8-785C0435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FEB2-14FE-4B1B-9990-121B1CBAF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1b | More than half of hospital and health insurance employees work for firms with 500 or more work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91960" y="939960"/>
            <a:ext cx="8560080" cy="5206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employees within an industry working in firm s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1b | More than half of hospital and health insurance employees work for firms with 500 or more workers </dc:description>
  <dc:language>en-US</dc:language>
  <cp:lastModifiedBy>Jia Yao</cp:lastModifiedBy>
  <dcterms:modified xsi:type="dcterms:W3CDTF">2013-09-06T15:22:49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1b | More than half of hospital and health insurance employees work for firms with 500 or more workers </vt:lpwstr>
  </property>
</Properties>
</file>