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0E52-F691-4E85-B37F-684C4C025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1F37-F4C9-41A6-814A-0ED03A63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865F-9643-4D05-A0E4-DC79848F6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2E10-EF44-4CAA-B4BA-47F913878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4370-9831-4412-BF7C-B685F19D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CDCA-11C6-4844-AE2D-A453FABA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0DE5-D267-40B4-97F7-4DC9D43E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B528-1235-467D-B015-85F2ABEC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74C7-CD79-4EE0-A20E-829C4BF2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2686-B8AE-4838-BBC5-17665DD8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9149-9AF9-4F7E-B5BA-2D4CB416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0F9F-F6CA-422F-B778-84D2ACFA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1094-83D1-434F-9B93-C7359214BB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7240" y="228600"/>
            <a:ext cx="9029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1:58Z</dcterms:modified>
  <cp:revision>4</cp:revision>
  <dc:subject/>
  <dc:title>PowerPoint Presentation</dc:title>
</cp:coreProperties>
</file>