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6C33-E72D-473A-AD77-0ADC1F277C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2.1A | CONCENTRATION OF MEDICAL EXPENDITURES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EFA7-1237-4D54-968F-5E4E2BE93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7038-4CC6-4B2E-A46C-959137B2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EFF5-A155-465D-A12E-73A3ECC3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99C8-004D-4F67-8BBA-4CD90E6E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DB13-E9FC-44CA-93B3-5916DB75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05AC-A4E6-44DD-9EA6-01A78F99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C8BA-2BB2-48CC-8CB2-FF6BD7EB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A552-C4C2-4C79-B00D-E3401154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8C1C-E6B2-44E8-95DE-AF1A1C52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D6F0-11DB-4AF5-A09E-604A18ED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20B3-9392-4324-805B-BD16F656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12E9-678D-4FF7-8B30-5DB9CCA8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6F5C-84E8-4A8C-9906-821E8ADE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37FB-5B1F-44DB-86F0-92E9671F9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12.1a | Only 1 percent of the population accounts for about one quarter of health spending; 5 percent account for nearly hal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-50760" y="977760"/>
            <a:ext cx="8788320" cy="4902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4529160" y="1160640"/>
            <a:ext cx="37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health spending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170360" y="1160640"/>
            <a:ext cx="328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stimated per capita spending (201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09480" y="5486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percentages are for the civilian, non-institutionalized population based on Med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enditures Panel Survey (MEPS) data for 2008.  2011 per capita spending has be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lculated from 2008 figures, adjusted to account for increased personal health spend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capita and to reduce differences between MEPS and National Health Expenditure estimat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523880" y="50292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stribution of population ranked by annual per capita health spe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0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1a | Only 1 percent of the population accounts for about one quarter of health spending; 5 percent account for nearly half</dc:description>
  <dc:language>en-US</dc:language>
  <cp:lastModifiedBy>Jia Yao</cp:lastModifiedBy>
  <dcterms:modified xsi:type="dcterms:W3CDTF">2013-09-06T15:12:4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1a | Only 1 percent of the population accounts for about one quarter of health spending; 5 percent account for nearly half</vt:lpwstr>
  </property>
</Properties>
</file>