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6A3C-0CB7-46E0-A384-4FDB5126D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7E0E-D781-4AD9-8828-F422051A0D5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6 | DISTRIBUTION OF U.S. PHCE RELATED TO 15 BEHAVIOR, LIFESTYLE OR OTHER AVOIDABLE CAUSES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89C1-0D11-442D-A1AA-1E9B73FC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D1FE-D46F-490F-9065-1C3DC870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8D8-1D25-4D27-A9FB-F893CEE0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FDE4-89B7-4E6D-B70B-1DB1F1FA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3F20-284F-4FF9-8EC2-56DEAE33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AF66-3D10-4349-9D0E-60FE9016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4474-0763-4C8A-AC4E-C81B6804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9CF4-C33F-4566-892D-68F334D3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C936-7C40-47CB-A955-1225369A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86C2-A8F9-4EC7-874A-38E356BB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3549-BD60-4570-80B2-7D8DF3A8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936-C833-4BEC-8DEB-4CD55FC9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124B-93C1-45AC-876D-52D73364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2B24-55CA-4748-B18B-D9D6A54A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BD8B-66A3-44D7-BE32-ED7814C7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F7EE-B7F3-45B0-82BB-2C8FCD8E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F72F-9951-41CD-A790-C14827E0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D5EC-4D87-4ACA-B7B9-AE5EEA50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C9F-7B77-4BCC-84CE-9D0F27D7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A838-6179-4DE0-9721-7CAD5DA7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AC8-71C5-4881-8557-B28146EA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8CB-F912-4841-9EB0-5366AE6C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DEB-A31B-4E0E-A35D-4DE84554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84E-D0D0-4788-B12A-5F6CB379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D01E-278B-4B67-A115-1D6658E6F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3119-919E-44E3-B4CA-F4B323362B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Figure 2.6 | Probably half or more of health spending is related to behavior, lifestyle or other avoidable caus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660240" y="787320"/>
            <a:ext cx="980748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Figure 2.6 | Probably half or more of health spending is related to behavior, lifestyle or other avoidable causes</dc:description>
  <dc:language>en-US</dc:language>
  <cp:lastModifiedBy>Jia Yao</cp:lastModifiedBy>
  <cp:lastPrinted>2002-05-16T21:44:34Z</cp:lastPrinted>
  <dcterms:modified xsi:type="dcterms:W3CDTF">2013-09-04T18:13:29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Figure 2.6 | Probably half or more of health spending is related to behavior, lifestyle or other avoidable causes</vt:lpwstr>
  </property>
</Properties>
</file>