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D41-27D8-4FE1-A36C-D8CE725F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3A7-DD4D-4E82-BE51-686FD0B5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55C-54CC-4139-A45B-E96207A7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B4C-649A-4252-A08C-5210AA63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54C-8610-4741-A96E-60ECC09D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CBC-D9C2-43C7-B71A-2F1DF298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075-02EC-435C-997A-5CB1942E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566-C019-478B-A8FD-D5D2E1B5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AD6-6304-416C-A1BB-A74332CF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865-C306-46D7-9913-A14E47DE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FA5-DE1D-463C-A02C-9820CD4C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BF4-FAFC-4382-B418-2950909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12E-273F-410D-9714-92ED58678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55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5Z</dcterms:modified>
  <cp:revision>20</cp:revision>
  <dc:subject/>
  <dc:title>PowerPoint Presentation</dc:title>
</cp:coreProperties>
</file>