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BDCB-CBA2-4348-A76C-022B398FD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2B | EMPLOYEE COMPENSATION AS A PERCENTAGE OF NATIONAL INCOME RELATED TO HEALTH SERVICES, 196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2F89-6773-44A3-A029-FDBC52D27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62CD-1FAF-4B11-ACC0-74765150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1665-764D-4121-A2D7-D0940367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82D1-64F7-445C-9B8F-134A2611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942B-8824-40FF-B1E9-1BF2AC07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4E88-00CB-4C2E-9187-8D06596B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6A2F-B5AB-4744-B19A-37755247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8E7-C9D3-4534-B502-9D97E43C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651C-87B1-48DB-A065-459497BB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07D-7FBA-4B3F-BD66-C69D7285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5D7-EDD7-4A2B-813F-E634524F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9154-EF1E-494B-97CB-4C651F2B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054B-E25B-4902-8792-88E73F03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85A9-575D-4556-BFB5-6B147974C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2b | In the health services sector, both wages and salaries and fringe benefits are substantially higher than they were 5 decades a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3716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national income related to health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6"/>
          <p:cNvSpPr/>
          <p:nvPr/>
        </p:nvSpPr>
        <p:spPr>
          <a:xfrm>
            <a:off x="1219320" y="1752480"/>
            <a:ext cx="0" cy="42674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1620360" y="1981080"/>
            <a:ext cx="359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care and Medicaid begin (196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10"/>
          <p:cNvCxnSpPr>
            <a:stCxn id="52" idx="1"/>
          </p:cNvCxnSpPr>
          <p:nvPr/>
        </p:nvCxnSpPr>
        <p:spPr>
          <a:xfrm flipH="1">
            <a:off x="1294560" y="2165040"/>
            <a:ext cx="326160" cy="273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4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2b | In the health services sector, both wages and salaries and fringe benefits are substantially higher than they were 5 decades ago</dc:description>
  <dc:language>en-US</dc:language>
  <cp:lastModifiedBy>Jia Yao</cp:lastModifiedBy>
  <dcterms:modified xsi:type="dcterms:W3CDTF">2013-09-06T14:16:54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2b | In the health services sector, both wages and salaries and fringe benefits are substantially higher than they were 5 decades ago</vt:lpwstr>
  </property>
</Properties>
</file>