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8C9-2C06-4D5E-A9A9-CD0CEEBE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620-53B2-49E7-810A-54C51FEE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0B3-A874-4564-85B9-CF606CF1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99E-25B1-41F8-AA93-B52EB974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DED-2F08-41AD-8675-18036DCF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EBA-9A7E-4815-84B4-58D27B9C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080-CB9F-48B3-9ADB-9C35710E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68D-82F3-4F0D-9316-E561F86B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0B1-DF5F-4E76-9A99-CBE6887E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DAC-1668-4A89-8CE4-0EB116AF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D73-0392-4E9E-8347-389CAF2F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84B-142C-4EF3-A82A-BD685046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6813-C6A8-4594-97F3-78B2FA2E6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1320" y="19080"/>
            <a:ext cx="4581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9Z</dcterms:modified>
  <cp:revision>6</cp:revision>
  <dc:subject/>
  <dc:title>PowerPoint Presentation</dc:title>
</cp:coreProperties>
</file>