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C8C-A707-4C98-8EEC-4A319BD7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593-B2FE-403F-B4E2-FCB52794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06F-F15B-41A8-A1F1-2B54D951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9B6-9540-4177-A850-EDAB3585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3AA-DBD7-402C-9888-37643A18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23D-3279-441C-AA7B-35299690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10D-8A3F-4651-A6AD-10DFBA9D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9AB-0245-4698-8207-9FC04E65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EC6-067C-4FFE-999F-F5E22066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AA7-D1E8-4FF7-A793-F32B02E4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FB0-5938-4068-9E0F-55B8BAB8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5B6-F875-4322-B3BF-3BD49823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41F7-B462-4AB4-852B-B70B5B365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5Z</dcterms:modified>
  <cp:revision>31</cp:revision>
  <dc:subject/>
  <dc:title>PowerPoint Presentation</dc:title>
</cp:coreProperties>
</file>