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ADFF-69B9-4208-BA4C-2C9A5ED4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DB57-80E2-4A31-8D95-348AD81D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9157-F8C7-436B-8F52-33F71CF3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DB07-1880-46AD-97E4-89DDE25F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C3C9-F485-4A9A-AF98-803E3880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8040-2C5D-4A54-B1E8-E7455E6C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A670-DD1D-4284-BF41-DC89A479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BFBC-7EFE-40EE-9113-0210424F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E141-6F65-49EC-9416-826588E3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A8C5-3E5C-4CAA-AAD9-E9ADFB61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5891-C365-4A37-980D-D010EF94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2940-A718-4BB0-97D0-144DBC1F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6074-0BBB-4315-B5A9-131DA8866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360" y="152280"/>
            <a:ext cx="90313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09Z</dcterms:modified>
  <cp:revision>39</cp:revision>
  <dc:subject/>
  <dc:title>PowerPoint Presentation</dc:title>
</cp:coreProperties>
</file>