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BB88-0081-4AED-A945-0F06AB6AD0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1.2b | ANNUAL COMPENSATION IN HEALTH SERVICE INDUSTRY BY SUB-SECTOR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8239-888A-4DF1-BC60-F1B202F083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4D63-355B-462A-99F3-F5CF2A5B2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5C3A-BC3F-46D4-BEC4-61E2417E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9E9E-57D8-4BA1-BBA0-BE66158E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9579-D5C6-4A58-A4E7-77B37EB74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370E-BB6B-4CD4-B0D7-2A0BC6EF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4FCC-7F9F-4011-BCE1-A7A82127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29A3-15D5-4705-8630-60C7D38F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977E-D28F-45D6-AFFF-E3B5C902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9F09-ED2D-44CF-8E0C-0A8E8097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3CBB-305F-4934-95B8-34FEE28A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2C6A-CBC9-4D26-813F-C71D88E8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B052-6DC0-41BF-ACBC-69809D4B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5533-475E-42C1-832D-D5AC97843A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.2b | Average annual compensation is much lower in long term care facilities such as nursing homes than elsewhere in health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922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09480" y="1371600"/>
            <a:ext cx="688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nnual compensation per full-time-equivalent worker (2008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2b | Average annual compensation is much lower in long term care facilities such as nursing homes than elsewhere in health care</dc:description>
  <dc:language>en-US</dc:language>
  <cp:lastModifiedBy>Jia Yao</cp:lastModifiedBy>
  <dcterms:modified xsi:type="dcterms:W3CDTF">2013-09-06T15:08:38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2b | Average annual compensation is much lower in long term care facilities such as nursing homes than elsewhere in health care</vt:lpwstr>
  </property>
</Properties>
</file>