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D30-2852-41C9-8A9D-7F18E64C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83C-474D-4312-8431-B1C81900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80C-4565-4062-9B8D-B9FB056B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FDA-D90E-495E-B3C0-3C1F2CE8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D1A-F7B8-4D05-9D22-C1ADBDA5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42B-EFBC-477E-9352-6F19701B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003-9062-4B21-BE5A-0A97278F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603-0AF2-4A2A-A68B-568B651E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BA8-053A-43B2-8707-24228093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EF0-3681-42A2-A92A-6C8534AF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3BC-A7E7-4E97-9278-DFA1A48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5C1-8B5B-44EF-9568-0443846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C3A7-351A-43D7-BEAE-424033BD9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360" y="85680"/>
            <a:ext cx="90536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3Z</dcterms:modified>
  <cp:revision>35</cp:revision>
  <dc:subject/>
  <dc:title>PowerPoint Presentation</dc:title>
</cp:coreProperties>
</file>