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2BAEE-C7A5-42C0-A369-7D5E7BC4F6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5.1C | HEALTH SHARE OF GROWTH IN FEDERAL, STATE, AND LOCAL EXPENDITURES AS A PERCENT OF GDP,, SELECTED YEARS 1929-2000</a:t>
            </a:r>
            <a:endParaRPr b="0" lang="en-US"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A535-ED4B-420A-8E78-768AB1445F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BC18C-A3F4-4107-9DF7-E6CB42D88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33D9E-CADB-4DCF-B119-DC8DCAB76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A020A-F1A0-4EA5-9EDD-93A6CE5D5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015CA-AF9F-4DB2-ACE2-7AECA4B53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D1BE5-C7B9-411D-9605-29DA27ED7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4B6FA-2490-4EAC-893B-B4BDC637E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480F3-D466-4C66-954F-A8CA901D4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7C57F-865D-4ADB-AE9A-742B1A7BB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39071-0127-4373-A0D3-CB14A177C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6F0EB-FEFC-4C40-B3CF-BD3B6CE50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48F34-6652-44BC-8228-D3679D517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D1AE1-C0D7-433F-8C18-DEA794FBF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2727A-2BC2-443A-9138-DA046E22327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1c | For decades, government health spending has been the dominant driver of increases in the size of government at all levels</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444600" y="1092240"/>
            <a:ext cx="8483400" cy="4902120"/>
          </a:xfrm>
          <a:prstGeom prst="rect">
            <a:avLst/>
          </a:prstGeom>
          <a:ln w="0">
            <a:noFill/>
          </a:ln>
        </p:spPr>
      </p:pic>
      <p:sp>
        <p:nvSpPr>
          <p:cNvPr id="50" name="TextBox 4"/>
          <p:cNvSpPr/>
          <p:nvPr/>
        </p:nvSpPr>
        <p:spPr>
          <a:xfrm flipH="1">
            <a:off x="565200" y="5410080"/>
            <a:ext cx="82296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e:  each bar shows what share of the increase in the size of government between each base year shown and 2012 resulted from higher government health spending. For example, since 1990, the net increase in federal government health spending as a share of GDP was nearly twice as  large as the increase in the federal government share of GDP during that time period. The same is true of state and local government health spending.</a:t>
            </a:r>
            <a:endParaRPr b="0" lang="en-US" sz="1600" spc="-1" strike="noStrike">
              <a:solidFill>
                <a:srgbClr val="000000"/>
              </a:solidFill>
              <a:latin typeface="Calibri"/>
            </a:endParaRPr>
          </a:p>
        </p:txBody>
      </p:sp>
      <p:sp>
        <p:nvSpPr>
          <p:cNvPr id="51" name="TextBox 6"/>
          <p:cNvSpPr/>
          <p:nvPr/>
        </p:nvSpPr>
        <p:spPr>
          <a:xfrm rot="16200000">
            <a:off x="-2305440" y="3503880"/>
            <a:ext cx="518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8T10:45:10Z</dcterms:created>
  <dc:creator>7Copy</dc:creator>
  <dc:description/>
  <dc:language>en-US</dc:language>
  <cp:lastModifiedBy>7Copy</cp:lastModifiedBy>
  <dcterms:modified xsi:type="dcterms:W3CDTF">2013-09-18T10:48:11Z</dcterms:modified>
  <cp:revision>1</cp:revision>
  <dc:subject/>
  <dc:title>5.1c | For decades, government health spending has been the dominant driver of increases in the size of government at all levels</dc:title>
</cp:coreProperties>
</file>