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184-5828-47C7-B522-B6F9B2E8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912-C58A-450A-A51C-40DC7649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896-87B3-4436-B10C-6C12EA3D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5C9-C9CF-4054-9FF3-C085608A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098-EFB1-4D4B-AA86-86A5B2B1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6FC-C1E9-4315-973F-F08DBAF0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966-0CD4-4F0A-AD3D-9FA9A9C8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F77-AEBE-49DA-B8EC-239B6AF3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CBA-CFF5-481A-A05E-A1B58229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AB6-D91F-42BE-B75E-CEE423C8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65A-56A2-406B-8D27-566F9C21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2B2-337D-4C07-B822-01B2FE13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0E9C-A9E4-4317-BD82-2E2390615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6Z</dcterms:modified>
  <cp:revision>30</cp:revision>
  <dc:subject/>
  <dc:title>PowerPoint Presentation</dc:title>
</cp:coreProperties>
</file>