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5236-A377-4DFB-BD57-28C4EDA71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1D6C-B42C-4194-A561-F9B62B829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4a | Inflation-Adjusted Per Capita Expenditures, by Type (chained 2005 dolla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371D-4188-4072-AFF2-6A373D9C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B902-E6E2-48CE-8A8A-5E045A9D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F789-EC94-49C0-BE52-1D18C1C8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5811-B742-415E-978F-9E86138F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FB72-1FE7-40BB-83EF-6EB81C32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5813-8A18-4162-A11A-E491FE2C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ED97-BFCE-4758-B7B9-21170D00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FA8F-38B9-40D4-9E1D-A9DE4CDB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5CA7-A5AE-44A2-AB4B-E39A86DD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9ABD-3134-4609-9D60-5E0CA7D3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9F80-BB3D-4923-87DA-1188F6CD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44FF-C5D1-42F2-BB27-5CC0D005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6919-D7D6-4080-A913-5B215EE8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F966-11CF-4524-B662-453D190D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31A5-C44A-4769-B9E5-AF4BB7C2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94C9-4FA6-42E6-BDAE-DF841B27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78DF-0E58-42FD-8CC1-7102AB3E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1BC4-2D88-476D-9840-5F6633E0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4D28-7132-4239-AFEE-87A3915A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28A9-7E45-4DA5-AA68-85CDECF9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A147-D2FB-4966-80BA-B56E8972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D405-9518-4EFE-AAF9-7D779494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E7EF-5C3B-4280-925F-F9FEDF9B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D2D1-B63E-4035-B900-C64BB012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AA52-A6DA-41E7-9D9D-8E559A4657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1B76-0EFE-4D3C-962C-B0AF9B0B9D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4a | Despite rising health spending and taxes, non-health personal spending per capita more than tripled from 1929 to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4a | Despite rising health spending and taxes, non-health personal spending per capita more than tripled from 1929 to 2009</dc:description>
  <dc:language>en-US</dc:language>
  <cp:lastModifiedBy>Jia Yao</cp:lastModifiedBy>
  <dcterms:modified xsi:type="dcterms:W3CDTF">2013-09-23T19:14:18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4a | Despite rising health spending and taxes, non-health personal spending per capita more than tripled from 1929 to 2009</vt:lpwstr>
  </property>
</Properties>
</file>