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06AD-2057-46A1-BE6A-782A0AB99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b | Direct Health Spending as a Percentage of Family Consumption Expenditures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45B1-0BC0-4D2E-84CE-A9EE381BC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49C-C317-48D6-94FF-A386AEA3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175-D8FF-4686-933C-F7DE7CA6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BF5-C115-4C74-9FA2-CD830856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2EC-A57D-4403-A24D-83A2CCEE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DFA-B832-4717-922C-F1F221F9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40E-7587-42AE-AFEC-5DA7F055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FB8-4A46-427C-BFB8-1BD6DCA5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89F-E479-4D5B-BD28-46A0508D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D54-A324-4E95-9503-295ABBAA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F44-0553-4E3E-9D11-0426B300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A3A-38A7-481B-A7B8-8049089A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648-8758-41D5-8972-79D90A75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4BBA-1F74-421F-89AF-44CD21937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b |  The burden of health spending is far smaller when compared to consumption rather than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597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health spending as a percentage of family consumption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0440" y="579132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irect health spending includes only the family share of premiums paid for private or public health insurance, along with all out-of-pocket spending on medical ser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b |  The burden of health spending is far smaller when compared to consumption rather than spending</dc:description>
  <dc:language>en-US</dc:language>
  <cp:lastModifiedBy>Jia Yao</cp:lastModifiedBy>
  <dcterms:modified xsi:type="dcterms:W3CDTF">2013-09-06T15:13:0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b |  The burden of health spending is far smaller when compared to consumption rather than spending</vt:lpwstr>
  </property>
</Properties>
</file>