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A984-EE92-424E-B060-F641E7203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3 | PERCENTAGE OF AVERAGE ANNUAL GROWTH IN REAL PER CAPITA HEALTH SPENDING ATTRIBUTABLE TO VARIOUS CAUSAL FACTORS, 1960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150F-9554-4847-B990-410C80250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F90-3ABC-403C-900F-1CD4C5F8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0FE-1120-4BFD-9DA3-8CC3E527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9B0-DCC9-4674-9677-1D1CAADF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8A6-8138-46B2-81AA-EFE2561D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134-8132-4AE1-9C61-1CA64B17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F44-3FC6-405E-875B-3DC602FE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EA8-E5D4-4AF4-AA6E-7B3CBC0C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BAC-0881-48E1-BECD-7BB6766E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9DA-A9DA-43C9-BCEF-D4C012D5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887-A524-432F-A49E-0458E5C5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51D-4B9C-4C28-8681-AC39452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FAF-285A-4E38-B573-BD170043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C62-6773-4228-9FBB-F920CAAFC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3 | Technology and other factors may account for 25 to 60 percent of the rise in real per capita health spending from 1960-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838080" y="5916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mith S, JP Newhouse and MS Freeland. Income, Insurance, And Technology: Why Does Health Spending Outpace Economic Growth?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 28(5):1276–8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3 | Technology and other factors may account for 25 to 60 percent of the rise in real per capita health spending from 1960-2007</dc:description>
  <dc:language>en-US</dc:language>
  <cp:lastModifiedBy>Jia Yao</cp:lastModifiedBy>
  <dcterms:modified xsi:type="dcterms:W3CDTF">2013-09-06T15:31:22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3 | Technology and other factors may account for 25 to 60 percent of the rise in real per capita health spending from 1960-2007</vt:lpwstr>
  </property>
</Properties>
</file>