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EE0-BA34-460E-8F79-33DE761E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235-BA0E-4F31-8A91-EF3931E9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A95-0F10-4DDF-B0D8-24482CDE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2F5-8CFC-4A47-8FDE-6162AC7F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E6F-1885-4EDB-8FFC-6FF9B286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828-9725-49ED-8535-290E0942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191-762F-43EF-91C6-086D0C47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3C2-78D3-4BEE-BC46-51321E46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FB0-84ED-40E9-8132-FF9162B0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2C2-B317-4E36-98F7-D9E9DE4A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54E-84B9-4D50-A777-F2303C51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D8F-2345-42A7-B1B4-7E110EE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96FE-65F4-41F7-8F69-FEA80B309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4Z</dcterms:modified>
  <cp:revision>35</cp:revision>
  <dc:subject/>
  <dc:title>PowerPoint Presentation</dc:title>
</cp:coreProperties>
</file>