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455E-B031-42E3-84C3-4997057ED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A248-E914-45D2-B430-1BA7168F2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435-C285-4D33-A280-9219D4FB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7A7-45BA-4C91-8B6D-7C55E73A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D55-020E-46F1-AAC4-EC178B92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04F-84FC-4405-B78B-59B444B1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CA5-C7EA-48F9-8C21-8B6A3260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207-F390-4996-91B4-909DEDDB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D45-078C-498B-90AD-0B655061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4CD-7A3B-4521-9448-55BAA595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431-6933-4753-937D-218CA76F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AD5-2DBA-4D82-848C-9C2A4CC1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640-BF8C-4C1F-B5C8-CB4AFE6C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6AF-19BA-408D-BB4C-CE1B76B2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996B-F27E-4B79-9C75-26CA13CB2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c.gov/obesity/data/adult.html" TargetMode="External"/><Relationship Id="rId3" Type="http://schemas.openxmlformats.org/officeDocument/2006/relationships/hyperlink" Target="http://www.cdc.gov/obesity/data/adul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7.png"/>
          <p:cNvPicPr/>
          <p:nvPr/>
        </p:nvPicPr>
        <p:blipFill>
          <a:blip r:embed="rId1"/>
          <a:stretch/>
        </p:blipFill>
        <p:spPr>
          <a:xfrm>
            <a:off x="762120" y="4572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876240" y="50472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3720" y="6067440"/>
            <a:ext cx="71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2009 State Obesity Rates, available 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erweight and Obesity.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cdc.gov/obesity/data/adult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7:58Z</dcterms:created>
  <dc:creator>Jia Yao</dc:creator>
  <dc:description/>
  <dc:language>en-US</dc:language>
  <cp:lastModifiedBy>Jia Yao</cp:lastModifiedBy>
  <dcterms:modified xsi:type="dcterms:W3CDTF">2013-09-10T20:48:40Z</dcterms:modified>
  <cp:revision>1</cp:revision>
  <dc:subject/>
  <dc:title>PowerPoint Presentation</dc:title>
</cp:coreProperties>
</file>