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B708-8995-4C48-A594-221924824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6B | RATIO OF NURSES TO PRACTICING PHYSICIANS IN SELECTED INDUSTRIALIZED COUNTRIES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1841-C650-4EE4-B098-FD0D42A6C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711C-C64B-4920-B6D3-D23B9FD9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1799-7DF2-4C75-87B6-A4FC5E51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4EFA-2323-4699-8ECD-65F34793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572-248C-4EA1-8ED1-F97DA4EA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B6FD-ECCD-4D79-86B8-E40A0127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1C77-2D67-43BD-B5EF-FB7CCAC3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B410-9422-4570-B1BD-2D480F80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07ED-DE7B-4675-A379-3DC3917C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E809-BDB9-4949-ABE4-61823B82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A670-566F-4A6F-ACAB-63468370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5B43-CB10-4017-9282-4C4FC7CE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669-CE51-4462-B084-1F4798BF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2F05-50BA-4724-8DFD-747F7AC5C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6b | The ratio of practicing nurses to doctors in the U.S. is comparable to figures in other G7 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635680" cy="4597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4479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practicing nurses to practicing physicians (20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6b | The ratio of practicing nurses to doctors in the U.S. is comparable to figures in other G7 nations</dc:description>
  <dc:language>en-US</dc:language>
  <cp:lastModifiedBy>Jia Yao</cp:lastModifiedBy>
  <dcterms:modified xsi:type="dcterms:W3CDTF">2013-09-06T15:40:59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6b | The ratio of practicing nurses to doctors in the U.S. is comparable to figures in other G7 nations</vt:lpwstr>
  </property>
</Properties>
</file>