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D3D2-43DA-4FA0-BD64-FC8E45A88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EFB0-6121-415C-96F0-87F8C3AE22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b | Alternative Measures of the Government Role in Financing Health Ca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9B5-574F-48A1-AB4C-C7DFA174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3E7-34D9-4826-977C-F71101AA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AEC-0503-4DB2-B2DA-3653E9E4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821-2870-4628-B56F-C5C8DC39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FF38-CFA5-4017-8A68-C320DD62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80B3-BF65-4207-B6F3-E20B4B63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C516-A8B7-436F-A2EE-3747EFF3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E130-9F23-40D2-843B-2740099D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E733-2B40-489E-AA24-10583E5E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F54E-87C4-47B5-B51D-FB2305CF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35B1-CC4A-4B83-98FD-55A78C06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B79-5974-4106-A9AD-C992B757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3D5D-EBF0-440D-8AAF-A046A926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97E2-8972-4B22-AE0F-BB59B79B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CF70-9A07-49A5-B14E-75CB59F8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68B5-04E0-4850-9FDE-22A3F5B5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FE23-266A-490F-AB28-02B94099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EAE-BAB6-43CE-ACB2-C5B9D243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5CE-01F5-48B9-AF3B-93470395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E827-209E-4119-A8B4-DAE0C4D4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014-42D5-4E41-A648-E38473E1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E32-9780-4A1A-98FE-A7F8D0BE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5DE-3C55-4DDA-80CD-224C0FE6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629-0A4A-4ECD-A898-05E2F886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71E1-2CD4-4F81-8FBD-7C9482959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F74A-CA8B-4C04-9C84-99691FEC3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b | Failure to account for health-related tax subsidies substantially understates the government share of national health spending (NH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b | Failure to account for health-related tax subsidies substantially understates the government share of national health spending (NHE) </dc:description>
  <dc:language>en-US</dc:language>
  <cp:lastModifiedBy>Jia Yao</cp:lastModifiedBy>
  <cp:lastPrinted>2002-05-16T21:44:34Z</cp:lastPrinted>
  <dcterms:modified xsi:type="dcterms:W3CDTF">2013-09-04T21:03:5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b | Failure to account for health-related tax subsidies substantially understates the government share of national health spending (NHE) </vt:lpwstr>
  </property>
</Properties>
</file>