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0333-C129-4FB8-9660-25997D6304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3DE8-6FCF-4F2F-B383-82932EA3A31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2b | TAX SUBSIDY AND PREMIUM AS A PERCENT OF AFTER-TAX INCOME, BY INCOME CLASS: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CF61-0251-4F3F-B9A0-5E0C60E9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AECC-6EFD-4F56-9E95-8D8B6ED4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4295-03A1-4196-AF76-9EB87569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0E65-9546-482A-9DCD-D7C5C05A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4E19-384B-4135-A266-6CC231F4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56A9-C605-45A0-83C2-AE76BB4B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77DF-36DD-4A8E-9572-A07FE771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1B87-404F-45BA-93AA-540F386E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AAD0-7282-4941-AB94-AC566894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2BD0-1DE4-454F-9E67-162BB3BD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1261-03A9-42D9-A5EF-14C7C898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3AAC-F9CA-4265-9B70-740A2B10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0AE1-1484-4DE4-B7C9-72DF73A6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0B8B-2D6E-4546-ABFC-3FA7B337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7085-6B6B-404E-A387-21C43264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BD26-3D55-4561-BA0F-0785AC97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3E0E-EE92-48ED-9678-E1FF08E0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61BE-5B55-4A89-A4B9-C92547D2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3322-BE96-412B-BD3E-879FC336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FABC-5B38-459B-9F6D-E440C062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B130-F6A3-4C7B-8037-0F0EF071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1F01-E491-459B-B09C-F7877A61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0C40-71A1-4B9F-9B80-8FDC00A6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05DB-167C-4AED-9A7C-EC408623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4827-01E6-4C86-93AC-D9683DFCE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7C2E-EF5C-4F84-8D9D-15C24FFF3F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2b | The share of income needed for health insurance rises sharply as income declines; the tax exclusion mitigates this only slightl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444600" y="787320"/>
            <a:ext cx="852156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1240" y="5867280"/>
            <a:ext cx="96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Burman L, S Khitatrakun and S Goodell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ax Subsidies for Private Health Insuranc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o Benefits and at What Cost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bert Wood Johnson Foundation. 2009 Upda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ceton. July 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2b | The share of income needed for health insurance rises sharply as income declines; the tax exclusion mitigates this only slightly</dc:description>
  <dc:language>en-US</dc:language>
  <cp:lastModifiedBy>Jia Yao</cp:lastModifiedBy>
  <cp:lastPrinted>2002-05-16T21:44:34Z</cp:lastPrinted>
  <dcterms:modified xsi:type="dcterms:W3CDTF">2013-09-06T13:50:43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2b | The share of income needed for health insurance rises sharply as income declines; the tax exclusion mitigates this only slightly</vt:lpwstr>
  </property>
</Properties>
</file>