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4BF-BD5F-4908-BF68-645324B8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6EB-3DDA-4D24-B2D0-EA3F79AC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F78-7C72-4A23-B002-289D8F5B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BE9-CC54-4BAB-86EE-B4D49A07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1C1-E443-4113-B36C-3D06A727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ED4-1A79-4C88-8E94-7BA49DB4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27B-801A-4A43-AD73-C7BF2BA0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32D-DF79-4616-A6A2-B26298E7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FBC-0856-4452-9049-A83CCC65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6C6-F641-4F82-A20C-47A9A994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130-72E3-4413-BB2B-31E4DF83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3BC-63B5-4383-AB2D-43AE4971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F026-B5D2-4D03-AD8A-6B65DDC5B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202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3Z</dcterms:modified>
  <cp:revision>18</cp:revision>
  <dc:subject/>
  <dc:title>PowerPoint Presentation</dc:title>
</cp:coreProperties>
</file>