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C675-B580-407C-9D7F-327D47307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723F-2908-4CD7-A932-7E8D3B857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F42-B058-4821-9522-A656C96E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C81-B18A-48BA-9EE9-E7B53544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19D-F4E2-48C0-9A31-C91D19FC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87B-7A59-41B2-8922-5CB9E65F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9E4-607D-4389-940C-668104F1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A72-A892-45E5-9050-ED19EA6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BDF-B812-4A5D-89B5-E97218D3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6BF-4A23-49B8-A1BA-2E9FB5D5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283-65A1-4721-BB9E-94F59BBB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7CC-930C-4E92-97AF-344A4729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BAA-8D01-498C-B64B-8037E533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3FC-E10E-4512-8C89-59C94297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2C69-D910-495F-A632-5F9FCA918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b | In willingness-to-pay terms, the social burden of illness has declined since 1963 even though medical spending has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cial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willingness-to-pay value of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b | In willingness-to-pay terms, the social burden of illness has declined since 1963 even though medical spending has increased</dc:description>
  <dc:language>en-US</dc:language>
  <cp:lastModifiedBy>Jia Yao</cp:lastModifiedBy>
  <dcterms:modified xsi:type="dcterms:W3CDTF">2013-09-06T15:31:45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b | In willingness-to-pay terms, the social burden of illness has declined since 1963 even though medical spending has increased</vt:lpwstr>
  </property>
</Properties>
</file>