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0147-9051-4D87-9070-8025D8048E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6a | Trends in Per Capita Health Spending by Geographic Region, 1966-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A9EE-7006-4C30-86EB-8615F01377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669E-60C8-4798-B47A-C4AD04BD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0DE2-3863-401B-93CC-493180BD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5338-4B66-46A6-A06C-5B2DEEC7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F57D-891C-4062-994D-FC93C410E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117E-87D8-44AA-85C1-BB4B4576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A041-35BF-4039-84A4-FD176607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E953-71D1-406D-A391-8FD16AB0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3EE0-364D-4AA0-91F8-59A15852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641B-9992-4A26-A951-AE8FA60D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EAB1-B800-4D41-8261-B2AB5A35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6095-E05B-4C9F-BE21-C380994F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E689-B416-4064-A41C-09D8A349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07FA-36E9-4140-BA0A-6557906AA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6a | Regional differences in per capita health spending narrowed from 1966 to about 1985 and widened thereaf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92240"/>
            <a:ext cx="8788320" cy="5283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2193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: Per Capita Health Spending by Location of Service (100=U.S. Averag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33520" y="6095880"/>
            <a:ext cx="818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Figures not available for years 1967-68 ,1970-71 or 1973-1975, so they have been interpolated to avoid distorting the length of the bottom ax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6a | Regional differences in per capita health spending narrowed from 1966 to about 1985 and widened thereafter</dc:description>
  <dc:language>en-US</dc:language>
  <cp:lastModifiedBy>Jia Yao</cp:lastModifiedBy>
  <dcterms:modified xsi:type="dcterms:W3CDTF">2013-09-06T15:13:18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6a | Regional differences in per capita health spending narrowed from 1966 to about 1985 and widened thereafter</vt:lpwstr>
  </property>
</Properties>
</file>