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DFD1-9FC1-4F49-94BC-CC864CB94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5A | SELECTED MEASURES OF HEALTH SYSTEM PERFORMANCE, BY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6CDC-7132-47ED-ADD0-339DDDA44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8C74-982D-4F2D-85ED-7A6CEA1C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574-76CA-47FA-BBC7-88CF22DD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643-3398-43BC-8FC0-D79CD3FE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25D-A17E-4DF0-9BB3-EF356579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660-BD4A-4ACF-A099-0DC72DBC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CAB-D59C-411D-A6C1-D27C643D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EFE-5F57-4723-8E09-D67144B2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73C-1A50-418C-9D24-15B3E7BC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DA8-2F29-4D3F-B155-315B6BEE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C62-AC33-49E0-96F0-2348C5D2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D35-D2A1-41E7-9C75-BA051C81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3F8-CEA9-47B0-ACE8-2921D622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8DEB-D008-4C29-91DB-B2B89A487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5a | There are large differences in health system performance across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38280" y="56386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130644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5a | There are large differences in health system performance across states</dc:description>
  <dc:language>en-US</dc:language>
  <cp:lastModifiedBy>Jia Yao</cp:lastModifiedBy>
  <dcterms:modified xsi:type="dcterms:W3CDTF">2013-09-06T15:41:3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5a | There are large differences in health system performance across states</vt:lpwstr>
  </property>
</Properties>
</file>