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89A8-C549-4813-9F5B-3E225C0F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B73-B351-498F-A70C-18F3BDFC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C48-D09E-4263-AA39-3CBF3D97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2F6-79C9-4259-AF2A-B89C8983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8725-937D-4301-9665-9E03F7D0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F5A-24A1-42FF-9392-BDA25E61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4201-3F79-4D49-9A6F-146C63F3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D2A-05FF-4532-BE15-085EEC91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F575-329B-4854-A34C-47AB7433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99A6-EEEF-40DE-994F-115CAFE2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8ECB-96D9-4A52-ADEB-6B805D7F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AE93-1D9D-41F8-A92B-67B08B11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6603-E300-4096-B449-0ACD199F3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4920" y="22320"/>
            <a:ext cx="85629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9Z</dcterms:modified>
  <cp:revision>37</cp:revision>
  <dc:subject/>
  <dc:title>PowerPoint Presentation</dc:title>
</cp:coreProperties>
</file>