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87E-D8A2-4383-A708-126EBE23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AF6-B963-4AEB-A9ED-A2E9D874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E93-EDD9-4BD7-97C0-A3FF6810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A62-746E-464B-BE6A-464BD301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1D8-0D3A-4CF3-ACE0-53D56745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2DA-914C-45D5-B044-1DFFE5DD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0EE-9768-4260-8896-4FCC055D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779-AA01-4413-B9BC-986737D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D33-7DCF-4992-A261-C89C76E3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8E7-DF7C-4E30-BE02-6B81FB54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795-23D4-4E68-AFAF-D59EFAB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E75-F59C-4CD7-9E4A-03C28F2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E154-3E73-48C1-AFF2-F54D79216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9844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8Z</dcterms:modified>
  <cp:revision>36</cp:revision>
  <dc:subject/>
  <dc:title>PowerPoint Presentation</dc:title>
</cp:coreProperties>
</file>