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906-8755-421A-A058-E5D150D0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E51-0EFD-4D88-A86B-76B54B55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248-524B-41B9-A8A5-96356FF8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C02-9811-44A3-94D6-5967FFCC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155-DEDD-4231-8EB8-AE493338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885-5826-4E72-AD74-92F9D4DD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836-EC60-45A8-B317-7529E546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CEF-00B5-46E4-90EC-E8ECF2DB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B25-42C5-42F8-8DD1-172A0F36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C34-AB34-4DF9-A212-056041B7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366-68BF-4346-ABFA-D967FDBF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0C2-0071-4A39-817E-A9C2621C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F15B-529E-4E37-BFA7-5407F46F3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59:59Z</dcterms:created>
  <dc:creator>Jia Yao</dc:creator>
  <dc:description/>
  <dc:language>en-US</dc:language>
  <cp:lastModifiedBy>Jia Yao</cp:lastModifiedBy>
  <dcterms:modified xsi:type="dcterms:W3CDTF">2013-09-06T22:01:57Z</dcterms:modified>
  <cp:revision>1</cp:revision>
  <dc:subject/>
  <dc:title>PowerPoint Presentation</dc:title>
</cp:coreProperties>
</file>