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2046-8D4E-43BE-8BF4-4D2652AA9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4FCF-1B92-450B-812C-1517E5C73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BE58-1B56-4924-8AEB-8E1FC5E1F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7A02-02F8-4BDA-832F-F4DEEFAF9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00B6-8194-4CC5-B1B4-9C7E5B6FB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2D3A-B3B2-46A0-8F6A-2DF5E76C3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4878-9EC2-40C6-9008-2EDB741F3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96E0-47DD-4B8E-97C9-92FBA6847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97C5-6F8B-46BF-AF2A-3AA5D2429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FB72-5C5A-4BE0-80CB-B4CC8685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8E02-5A6D-4705-8013-F4ADB386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ABF3-2F73-4509-9784-EBBDAF78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805CD-4A38-4679-B621-22763A00C9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73160"/>
            <a:ext cx="9144000" cy="65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49:35Z</dcterms:modified>
  <cp:revision>6</cp:revision>
  <dc:subject/>
  <dc:title>PowerPoint Presentation</dc:title>
</cp:coreProperties>
</file>