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5AF-2B4B-483C-841C-6046B18E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B9C-4857-4473-8152-20035E84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9A14-0760-43FF-ADF0-9F3283EA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8AA-6A64-4AF7-B1E7-70391CCF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DAC-8CFF-4F3D-8B37-CAFA5098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878-9D40-4C46-98AE-6EB6CFA0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B62-1268-4AFE-8CC8-8F232EA0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032-E5B8-4FDF-910B-3AE095C8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C4C-F86E-4AFD-9109-B2F5E54D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D3E-A377-4E24-BAB1-715924C9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FDD-AB0A-4342-9AA8-66C0FA1A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FED-EEDE-4790-B1E6-D76746E7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4A84-A151-4341-950E-C1B360F5A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1143000"/>
            <a:ext cx="905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5Z</dcterms:modified>
  <cp:revision>31</cp:revision>
  <dc:subject/>
  <dc:title>PowerPoint Presentation</dc:title>
</cp:coreProperties>
</file>