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3A06-1759-48F1-80D1-C58B4520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568-7AAB-425C-B8F8-1A584C75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9B16-6E61-4B44-AE72-44C5A11B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557-C705-4B03-A194-EFA98B30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44F-9BB8-4F42-B35A-86462960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588-E5BF-4EE4-A820-E3CD7F4B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E19-238C-4513-B695-4B3887CD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A85-ECF4-4053-83B0-156A08D0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03E-1FB1-4584-B1DE-79DED944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6100-DC2A-471D-A32F-4C0640EF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712-5DEE-4ACC-AF8E-C8E2802B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97B-EC9F-4070-807D-6F5187A2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3E10-1E60-49F4-BE98-663DF6FF0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100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5Z</dcterms:modified>
  <cp:revision>28</cp:revision>
  <dc:subject/>
  <dc:title>PowerPoint Presentation</dc:title>
</cp:coreProperties>
</file>