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FB6-BBDB-4F5C-B015-2EB66B7F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08A-9712-486C-8B3F-B26EF9CC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6A7-4F04-44D8-A552-1ED1BDF1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E52-92AD-4973-BE7F-D09AECA7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5BA-9A2C-41CE-B52F-2710CD66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19C-AE33-4EB2-ACFA-57F14426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295-A82A-419D-B012-97A0E90D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3C2-2281-4B87-B6DF-67981C72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A149-C15C-4CF4-8E89-C8BA654D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30D-195C-45C9-8886-20C7E786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B40-544C-4089-A1C8-7972905B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C17-FC37-41B7-83EF-B1A4771B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6324-13E3-4A7E-8C3E-3F344C4EE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371600"/>
            <a:ext cx="903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7Z</dcterms:modified>
  <cp:revision>41</cp:revision>
  <dc:subject/>
  <dc:title>PowerPoint Presentation</dc:title>
</cp:coreProperties>
</file>