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44C3-246C-4B0C-A6B5-91A7FFB1E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2178-D346-44B9-B9EE-01178E5A39D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4a | HEALTH INSURANCE BENEFITS OFFER RATES, BY SIZE OF FIRM, 1999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02AF-C4D3-47CE-900A-21FCCCB8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49D1-C870-4AEC-88EC-285ADE83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6DA5-58B4-499B-BD83-EAC927D8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0168-B070-436F-AD29-DA60A33A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4DD6-FD9E-47E2-BAE3-FB1123E6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38E5-3CA1-4E6A-85DE-047501F9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4C14-72CF-41D3-B2D8-FD9B2553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379E-8F15-4582-8B1B-B100E976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10F2-6657-4CF0-B73E-82F1D958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05E7-B297-410A-A654-76FD3056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AF06-6A7C-4530-BE0D-224D80EE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C60-F925-4B04-9445-05F4094C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A641-7AAE-422E-BBF7-9CD29003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7B63-2842-4AD6-BCC2-EB93DEE2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DCB2-421F-437E-8BA5-6F6EE8F3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B254-546A-4A42-B8A2-F60AF25B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4F2A-B75E-4492-B332-59A76EF1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733A-AA84-47D6-98FA-558842E5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B64-FA2E-4E8B-89B7-DEB8301E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0771-DB0F-4BE7-AD03-AD66E8F7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0BBB-740B-4B8C-9213-C240972D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33F4-EA52-4282-A4D5-3DE0FB72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81F-38D2-449D-BFE7-A1BC257B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FB2-619D-45C6-AF76-4E8B86B4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0455-D471-48AA-9B8D-9256565E8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E2FF-0EE5-485C-85DF-6E26DA3F3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4a | The percentage of the very smallest firms offering health benefits has been below 60 percent for more than a decad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49400" y="787320"/>
            <a:ext cx="904536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4a | The percentage of the very smallest firms offering health benefits has been below 60 percent for more than a decade</dc:description>
  <dc:language>en-US</dc:language>
  <cp:lastModifiedBy>Jia Yao</cp:lastModifiedBy>
  <cp:lastPrinted>2002-05-16T21:44:34Z</cp:lastPrinted>
  <dcterms:modified xsi:type="dcterms:W3CDTF">2013-09-06T13:50:08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4a | The percentage of the very smallest firms offering health benefits has been below 60 percent for more than a decade</vt:lpwstr>
  </property>
</Properties>
</file>