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92A9-DDD9-429E-A496-EB5C8C5F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CAC-0E9C-4889-A6B0-24A01D26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E651-37F9-460D-B599-F4C08155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5A37-ED67-45EB-8403-44835CB1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526-7A3C-46F3-8DFD-A6DC0D9A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80E-A110-4B5E-A82E-678C14D2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F24A-D33D-4E68-A966-9DC60362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86A-ABCA-4CD8-A747-D2AC8CDA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99B-D78A-4895-97AB-3F524AD8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ADD9-F41D-4AF7-80F6-A7E97F5A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116-3E04-4B01-8624-009CED53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9B42-D66C-463B-B9FF-470391C2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28F3-248B-4DEA-912C-66DB5DBE6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39720" y="0"/>
            <a:ext cx="786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9Z</dcterms:modified>
  <cp:revision>37</cp:revision>
  <dc:subject/>
  <dc:title>PowerPoint Presentation</dc:title>
</cp:coreProperties>
</file>