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2113-BB60-47C9-B020-D2E5922A8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4AA-0D19-49F2-9D54-8C2361AE15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a | NATIONAL HEALTH EXPENDITURES BY TYPE OF EXPENDITU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Centers for Medicare and Medicaid Services, Office of the Actuary. National Health Expenditure (NHE) Amounts by Type of Expenditure and Source of Funds: Calendar Years 1965-2019 in PROJECTIONS format. Last updated January 29, 2010. Available at: http://www.cms.hhs.gov/NationalHealthExpendData/downloads/nhe65-18.zip (accessed February 3, 2010).  See Center for Health Policy. Table  2.1. U.S. National Health Expenditures by Type of Expenditure: 1929 to 2019. Durham: Duke University, March 14, 20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1FC-DCF3-47E4-89A7-7A7350E8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166-F4FF-4AF0-A994-F8C97201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40E-ABD7-4474-9613-8DD0492E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892-643D-49E3-9AE5-DCD3C951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A3A9-EE6D-4FEA-8C93-3C18EA32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E7B6-D0CC-49F0-B68C-B05F31CE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6384-2424-4752-A73A-3A36C587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C0BC-114C-4426-AC29-8E29E79C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B090-CD42-4A71-9BCD-204A7AF0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72E2-F27B-4C71-857E-771B6C0F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D08A-0141-404D-BC42-AD523416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C64-9E73-4E58-8CD0-35A4C822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D29B-8DAD-414A-A658-D14724B2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E07D-1294-49EE-8EAE-693B80B3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26B8-8DC5-4037-93AE-F8383EAE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3BE5-588C-433F-B682-9A660F45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C8EA-5938-4DE6-B6B0-FFD944B9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80B-11D9-4524-A298-44E5D5E2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DCE-B124-49CB-9861-7440810C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05F-BC93-46CF-AEDF-989A2B24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D7C-0E34-4C6C-8E48-999BFE16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A21-4697-4515-8B73-5CCA4478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3CD-2FCE-4291-AFD4-C7147C97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E35-EFA6-4FBD-93C3-E27ADFAD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B18E-1C58-4D42-A0DD-0AA99D2C7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AEC7-D402-49B2-AB67-426C164B7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a | Five-sixths of national health expenditures (NHE) is devoted to personal health care expenditures (PHC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5"/>
          <p:cNvCxnSpPr/>
          <p:nvPr/>
        </p:nvCxnSpPr>
        <p:spPr>
          <a:xfrm flipV="1">
            <a:off x="4572000" y="3428640"/>
            <a:ext cx="457920" cy="99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a | Five-sixths of national health expenditures (NHE) is devoted to personal health care expenditures (PHCE) </dc:description>
  <dc:language>en-US</dc:language>
  <cp:lastModifiedBy>Jia Yao</cp:lastModifiedBy>
  <cp:lastPrinted>2002-05-16T21:44:34Z</cp:lastPrinted>
  <dcterms:modified xsi:type="dcterms:W3CDTF">2013-09-04T18:13:1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a | Five-sixths of national health expenditures (NHE) is devoted to personal health care expenditures (PHCE) </vt:lpwstr>
  </property>
</Properties>
</file>