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FDAF-C763-49D6-9D8B-1DADCF7B55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4 | UNION MEMBERSHIP AS A PERCENTAGE OF EMPLOYMENT IN SELECTED OCCUPATIONS AND INDUSTRIES, 1992, 2000 AND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51D4-FAA5-4967-B8BD-27647B921C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6F73-BE20-494B-8416-6964A38F2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5A9F-FFFD-4739-B221-22476930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D2D9-7F41-46EB-8185-E6B0D360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98B9-40D0-4A24-B5F5-A1B1A8AAA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3E10-CCB4-4FD9-A2D3-0D364013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DEAA-92EA-4003-A38B-50CA54D6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7705-DA03-41E8-A84A-86F708BD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401B-8425-4A06-BA53-710D9918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8EE9-D17B-4BA3-B5B6-A058319D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2A88-9EA9-42A4-881F-164AEC17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3CFA-8B74-432A-9B96-7AF37D43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34BD-FE55-43F5-9AE9-D5964833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0F18-5827-4F2B-A59B-95F0EBE051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4.4 | Health industry unionization rates appear comparable to those elsewhere, but among some health occupations, unionization is much grea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371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workers in industry/occupation who are union memb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5 | Health industry unionization rates appear comparable to those elsewhere, but among some health occupations, unionization is much greater</dc:description>
  <dc:language>en-US</dc:language>
  <cp:lastModifiedBy>Jia Yao</cp:lastModifiedBy>
  <dcterms:modified xsi:type="dcterms:W3CDTF">2013-09-09T22:42:23Z</dcterms:modified>
  <cp:revision>28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5 | Health industry unionization rates appear comparable to those elsewhere, but among some health occupations, unionization is much greater</vt:lpwstr>
  </property>
</Properties>
</file>