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AD1C5-68A6-4CFF-ABF9-9C112E54D5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8.2B | PER CAPITA PHARMACEUTICAL R&amp;D EXPENDITURES AMONG TOP 10 OECD NATIONS FUNDING PHARMACEUTICAL R&amp;D, BY COUNTRY, 1980, 1990, 2000 AND 200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C10FE-0906-4B7E-A988-534AB6FF89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7F81-734D-4296-BA4F-77D6771D2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F3F0-CA48-4050-AE09-786720DD5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7120-1287-4A95-8350-AC43924F6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3FEA-BAFB-4203-8079-6D2048959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F8C6-8578-4B10-B5AE-C79BAD0A1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E1F0-272C-4254-8E90-E265185BA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2AE0-A5C9-4CB6-97DA-AC5D22E29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AEDD-6085-4B0B-80EA-B77CF98A3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E066-0FA5-4877-AA86-E5E76D310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61F2-CC63-4C57-BA8D-AB8A601D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D0E5-E48E-4452-AC70-0BB4AE3FF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5A32-7F22-4BC3-A236-BA56CAB6B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6B960-98D2-4442-A1AE-574B2B49E2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8.2b | On a per capita basis, U.S. spending on pharmaceutical R &amp; D is exceeded only by Denma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5597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15600" y="1523880"/>
            <a:ext cx="553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 capita pharmaceutical R&amp;D expenditures (U.S. dollars, PPP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641160" y="622764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5T17:43:19Z</dcterms:created>
  <dc:creator>Kristy</dc:creator>
  <dc:description>18.2b | On a per capita basis, U.S. spending on pharmaceutical R &amp; D is exceeded only by Denmark</dc:description>
  <dc:language>en-US</dc:language>
  <cp:lastModifiedBy>Jia Yao</cp:lastModifiedBy>
  <dcterms:modified xsi:type="dcterms:W3CDTF">2013-09-06T15:33:57Z</dcterms:modified>
  <cp:revision>5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8.2b | On a per capita basis, U.S. spending on pharmaceutical R &amp; D is exceeded only by Denmark</vt:lpwstr>
  </property>
</Properties>
</file>