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C327-E9C0-4B05-B273-EEAD72E331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7B | MEDICAID EXPENDITURES AS A PERCENT OF STATE AND LOCAL GOVERNMENT EXPENDITURES FOR THE HIGHEST AND LOWEST STATES (INCLUDING FEDERAL FUNDS)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E61F-74A3-4A39-B2EA-D2BB87AD9E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1037-A4CE-47C7-9BF7-5806F258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98A1-1248-44A9-AE8D-38002DF2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0449-9B8E-4B6E-8E03-04D9C307F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D6C3-EEB5-42DF-8F7F-519B64477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D63F-6BEC-4160-8FC3-BD06A95A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7E22-E696-43D3-B21D-1F5CB922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106C-7B07-4BF7-9BAD-791A47CC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36D4-C589-407D-AE4B-5502FFAB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51A9-986E-4B50-A80C-9052646A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F18F-CA0C-4B4A-9CAE-337F3C3E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07C3-3DCD-4D7D-A9A3-B3F82CBF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6E65-B851-45FD-8AAD-E26C3ADD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A1B2-B99B-4231-8A3E-A43F2912A3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7b | The Medicaid share of state spending varies by a factor of 3 across stat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88800" y="863640"/>
            <a:ext cx="8425080" cy="2616120"/>
          </a:xfrm>
          <a:prstGeom prst="rect">
            <a:avLst/>
          </a:prstGeom>
          <a:ln w="0">
            <a:noFill/>
          </a:ln>
        </p:spPr>
      </p:pic>
      <p:pic>
        <p:nvPicPr>
          <p:cNvPr id="50" name="Chart 4" descr=""/>
          <p:cNvPicPr/>
          <p:nvPr/>
        </p:nvPicPr>
        <p:blipFill>
          <a:blip r:embed="rId2"/>
          <a:stretch/>
        </p:blipFill>
        <p:spPr>
          <a:xfrm>
            <a:off x="388800" y="3149640"/>
            <a:ext cx="8196480" cy="3073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2057400" y="5334120"/>
            <a:ext cx="556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edicaid percentage of total state/local government expenditures, including federal funds (200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563400" y="6213600"/>
            <a:ext cx="821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National Association of State Budget Officer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tate Expenditure Report Fiscal Year 2008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asbo.org/Publications/StateExpenditureReport/tabid/79/Default.aspx (accessed June 15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9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7b | The Medicaid share of state spending varies by a factor of 3 across states </dc:description>
  <dc:language>en-US</dc:language>
  <cp:lastModifiedBy>Jia Yao</cp:lastModifiedBy>
  <dcterms:modified xsi:type="dcterms:W3CDTF">2013-09-06T13:59:46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7b | The Medicaid share of state spending varies by a factor of 3 across states </vt:lpwstr>
  </property>
</Properties>
</file>