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B4B6-FF43-4B7D-82FA-87C1361EE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50DB-F173-4A00-9A50-7A1F26E2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F03C-DB68-40A2-ADFB-B728E1C00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E6CA-CB1A-435E-8B80-D4BED0FC1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A3B2-3547-4435-8758-710A841E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61CA-E169-40CF-9CFD-6DEDCB0C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F8BD-79F2-466B-8172-EE608F0B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78CD-7AC6-468B-B5B0-D278A1BE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FA4D-BB16-43CA-B091-A87DC57C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7967-25DA-49F7-B1C8-4F958E39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BC69-A6A2-4DDD-8A14-ABA415A6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0187-82FA-4E4E-A000-A2E873F7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2167-F847-47E9-BFBA-509D6C2C80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5Z</dcterms:modified>
  <cp:revision>39</cp:revision>
  <dc:subject/>
  <dc:title>PowerPoint Presentation</dc:title>
</cp:coreProperties>
</file>