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384E-8530-428C-B9DC-9EA13D44E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B | TRENDS IN CONCENTRATION OF MEDICAL EXPENDITURES, 1928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3C43-26B3-457F-A8A3-78F6A9BDE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D36-5861-40DD-AC7E-5F532BC1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381-F7AF-49F7-B1B2-2CAE43AE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B3E-F312-4D96-87DA-84B715B9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B1C-AA8B-43D7-AD64-A8A67E16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E27-CCBB-4772-BEAE-B461C504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208-5462-47AC-AB09-468FEDAA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FBA-3BFE-46A2-B83A-91C5DF6E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303-CC85-4C53-B1BA-5EF6B094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F63-4E9A-4261-B0DE-13CDB2C9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422-2241-4E19-9BB6-63D3F9AB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987-3EA6-4DDE-9CAB-DA417173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8DF-4FB8-44D1-A88E-260B0DEC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B0E6-260B-4B21-8927-5362DF2F4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1b | The concentration of health spending has been quite stable over decades, but there is some indication it has declined rec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90169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3600" y="1523880"/>
            <a:ext cx="56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annual health spending accounted for by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b | The concentration of health spending has been quite stable over decades, but there is some indication it has declined recently</dc:description>
  <dc:language>en-US</dc:language>
  <cp:lastModifiedBy>Jia Yao</cp:lastModifiedBy>
  <dcterms:modified xsi:type="dcterms:W3CDTF">2013-09-06T15:12:5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b | The concentration of health spending has been quite stable over decades, but there is some indication it has declined recently</vt:lpwstr>
  </property>
</Properties>
</file>