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7FD7-16FD-46E7-8E37-D8E86A1E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B531-BFA7-48FA-9738-06CC2855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8864-D614-4BC1-AB82-DADFC7C7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491-74EE-423A-9928-A471D0FE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25B3-0B2D-4171-9308-8B5F271D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568-91E0-4D8E-94D0-F8EE02E4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285B-A08C-4304-8F7C-DB7E6EE8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16B-7A7C-41C1-A44D-96F47A41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042C-4F71-4F1D-AE4D-ABA2E12F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4AEA-8F8B-427F-8551-E246FF7B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DBB-2BBB-4E90-AF36-903D358A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1E3-1D73-43D5-A164-46712DBB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3E7E-75E5-402C-A3F8-E1DCBF03B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95560"/>
            <a:ext cx="90964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8Z</dcterms:modified>
  <cp:revision>18</cp:revision>
  <dc:subject/>
  <dc:title>PowerPoint Presentation</dc:title>
</cp:coreProperties>
</file>