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E8B3-E497-41CF-80E5-4FD147138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B | RATIO OF COMPENSATION FOR HOSPITAL NURSES TO COMPENSATION FOR ALL WORKERS, U.S. AND SELECTED OEC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2DA3-0E47-400C-802F-161060596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DEB-04CB-46C7-A66C-D73F0595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ECC-81E2-4CBF-9AD9-C58DCB74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759-4E3B-433E-9E62-6DB6F0CB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73B-D0F7-431D-A169-CA5797D1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F60-D18A-4AEE-9F7C-376B3E59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779-D116-46F9-98A4-05D056D4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A65-6D1C-411E-9A35-2631F9D2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D99-C727-47CE-BD0A-476DAF33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DB2-A83F-48E6-888D-1D9862D9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A32-5D38-4DED-BC8D-5A09D04F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A05-FE72-4F50-BF06-F2B46F9C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F8B-A228-4F92-AED3-D7EA5D27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7750-887C-473B-B8D8-829B345A5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4b |  American h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ospitals nurses are paid more than twice the average worker wage, but the same is true elsewh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14080" y="1752480"/>
            <a:ext cx="79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annual compensation of salaried hospital nurses relative to all workers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b |  American hospitals nurses are paid more than twice the average worker wage, but the same is true elsewhere</dc:description>
  <dc:language>en-US</dc:language>
  <cp:lastModifiedBy>Jia Yao</cp:lastModifiedBy>
  <dcterms:modified xsi:type="dcterms:W3CDTF">2013-09-06T15:08:5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b |  American hospitals nurses are paid more than twice the average worker wage, but the same is true elsewhere</vt:lpwstr>
  </property>
</Properties>
</file>