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264-3123-4F73-8D14-79BCCBB7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2B7-48FA-4A45-BAC1-4D23958C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29B-B4D6-47E2-9AFD-DDB13839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0AB-FA52-41F9-9AFD-FAC75AF7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C76-C1A8-4CFC-9A77-5CD232B7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EB6-C5FE-4A96-8D82-0C3E21DF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491-1404-49D1-A161-71A88702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E6A-8FE7-414A-8F1B-7EE9F0CE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B4CF-335D-495C-9C95-BC047CD2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DEFC-1590-422C-B46F-685D202F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7B6-5E98-4F2E-ACE0-73E7F122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C9E-2D18-400E-B7F5-6930D594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2D7F-EC2C-4D2C-A1F0-79D9B4002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228600"/>
            <a:ext cx="9061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8Z</dcterms:modified>
  <cp:revision>31</cp:revision>
  <dc:subject/>
  <dc:title>PowerPoint Presentation</dc:title>
</cp:coreProperties>
</file>