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161A-2B0A-4FD5-BF50-82BFF265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6F35-4698-4A34-A4BE-64788851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51A6-CF6A-4922-A868-F46AA969E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EAA9-1CA4-48B3-8205-74143FFC4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3CBB-8D0D-4FC7-9EB0-249FB9F5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B451-6C7D-44E7-B570-7C64A7F4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320A-461D-4882-B31A-6DD0FF63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F4CF-3EF8-453A-A9A3-0ABE762C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3F1D-4B94-48BF-A4B9-4E4C7F7C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BF5A-E864-4D86-A7E4-4BB47CBD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CD2F-5E1B-4459-9EB0-82777769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3FA2-41F2-45D1-8E97-B3D4F71F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C9F0-C02F-480C-AABB-9376F8C45F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5:03Z</dcterms:modified>
  <cp:revision>31</cp:revision>
  <dc:subject/>
  <dc:title>PowerPoint Presentation</dc:title>
</cp:coreProperties>
</file>