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8269-F14A-4ACA-9329-411AD6080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3F4B-FE57-4D5B-B42E-E54FE61CE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B0F6-9F95-46C0-8BD9-7F1443D24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D5EB-A766-4D51-BB27-0F0B3A5C5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BEA5-1BF9-405B-8F47-A03AFE2E6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600F-216C-44CF-BE94-037A1EE03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D328-94FA-4817-B96A-24C0B0BD6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A97C-ADB0-49AB-B2EC-ABF0661D5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CDB5-13E5-4BF4-8932-FB819B204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493E-B815-4D77-985B-44DD5295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2CEC-B618-4019-B9CD-26260B58F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E102-1995-4078-8297-E7A1B24F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6A5B6-59D4-479C-B55F-BC571A2C78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519200" y="0"/>
            <a:ext cx="6105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13Z</dcterms:modified>
  <cp:revision>20</cp:revision>
  <dc:subject/>
  <dc:title>PowerPoint Presentation</dc:title>
</cp:coreProperties>
</file>