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1C6-B17E-4FE7-8B14-8C66AC1B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7E5-8285-4E62-9819-C1927A3E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346-89BC-4F40-8E95-59157833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9630-C90D-4903-98B7-F19E1F29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0D7-D65B-4B2B-8330-F425940A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459-E8F1-4C21-AAF9-85A14E06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80E-ADF6-4A4B-ACDD-391C64FD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6B5-2DE6-4605-A546-CB8FED6E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9B1-770C-4CCD-910C-2F11E5FB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654-28B3-4D36-8910-6C82947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A0C-B2C4-4DCB-927D-D7EF7CE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AC1-F563-4DB5-9431-08DC98B1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3D78-0E50-4037-A3AC-F3C66EF6B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52280"/>
            <a:ext cx="898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6Z</dcterms:modified>
  <cp:revision>37</cp:revision>
  <dc:subject/>
  <dc:title>PowerPoint Presentation</dc:title>
</cp:coreProperties>
</file>