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6D3-79B7-4353-90DD-FE24BAC9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4AC-2AC4-4EDC-A8E0-C8AD97D1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6B3-4901-4608-9CC5-3F307AF3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FE9-FBBC-4797-9FA8-489D6259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5BB-A6F7-4F90-ACD7-5127DCFC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7B0-9DA4-4E8A-9DAB-EF1074E4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E34-ACE2-4F83-BBF5-013A3E6B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408-CF6E-4057-811D-26C23DF0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BA1-B0BD-4CA0-9C3D-23077BCA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D63-9831-48B2-9A35-7CC068C5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296-AA74-4535-BB8E-0ABD0A3E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3BF-BA92-4235-BA55-BBE69F18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AF33-D304-4B11-A099-D8CCABCA0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090440"/>
            <a:ext cx="906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1Z</dcterms:modified>
  <cp:revision>28</cp:revision>
  <dc:subject/>
  <dc:title>PowerPoint Presentation</dc:title>
</cp:coreProperties>
</file>