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071-D65C-4F9F-85B7-F89F1821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04F-93B4-4CE9-BB8D-4AB5286B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0CA-C4F8-4881-96C0-6531119A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DFD-B85E-41D3-948B-EAC7584F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773-143F-456C-9FEE-65C403BC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1DE-ADDA-48FC-BF2A-04B759E4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4A3-CA3E-4F18-A91A-8A9FC423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D19-E8D0-4F41-A987-664DF4D5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042-713B-4D49-82F0-CB3657EB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EB3-B103-4AF0-96D1-D436D713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609-9966-403E-8CB8-0E56D09C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DDD-D35C-4181-A307-B8F3A2C8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6601-71C7-43BD-ABCE-4A5DF8544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79440"/>
            <a:ext cx="9140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4Z</dcterms:modified>
  <cp:revision>31</cp:revision>
  <dc:subject/>
  <dc:title>PowerPoint Presentation</dc:title>
</cp:coreProperties>
</file>