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8C7-EEA5-4074-8F57-03A27C86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AFA-CC86-4AB3-92E1-BF4B1AC2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911-C3FB-4CA9-9864-D812DEE5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69F-E182-4509-9EED-A4E3780C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2AE-0879-4AC2-9EEC-FC9EB469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BD8-36B4-4CCF-97B2-479C843A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C3E-1B34-4A77-AFB3-9159B8B6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F14-01AB-4EA0-878D-F696DB81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524-038F-4035-8721-66B16BC8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735-242C-4464-9168-9C1C550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E83-C082-4720-9B9C-1370485E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D5C-A01B-42F3-9DAD-B81E2E08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014-FEC1-4A4B-967F-07F929279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1Z</dcterms:modified>
  <cp:revision>43</cp:revision>
  <dc:subject/>
  <dc:title>PowerPoint Presentation</dc:title>
</cp:coreProperties>
</file>