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511-5B12-4266-BDD4-F20A8A09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108-9B31-425B-9607-8FCED822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574-98C9-4904-A5E8-DA0808C5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A08-292D-4A3D-A842-491702D0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395-F53A-4B37-AACB-EDC0F4DE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74C-A85A-4E03-B11C-CDED462A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110-97DC-489F-9F7E-BCFA9C6A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35A-3F29-4C63-8104-243D87ED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6AD-33E6-4405-A899-F0BA2EFD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32F-3E55-4ADF-89EC-8612A3F0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4F3-3A37-459C-BB59-AD706D59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8E7-3E61-42D8-991F-A6A47851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FB70-37D1-4219-852D-A12710BC4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14400" y="20520"/>
            <a:ext cx="73357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0Z</dcterms:modified>
  <cp:revision>37</cp:revision>
  <dc:subject/>
  <dc:title>PowerPoint Presentation</dc:title>
</cp:coreProperties>
</file>