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BF2-0611-4FDD-959D-FAAE03F0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5B3-0C22-46E2-A38C-03AD4B2B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F8B-C9F4-4EB0-AAD1-62A2B483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A00-74E7-424B-971E-B4462B60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D13-F503-420F-9EF1-06B49C63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1B5-1ED5-41D8-AC00-1B676FBF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BF3-F125-4F0E-A584-73A46804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359-04F2-44DD-AEC6-DBBC716C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251-5ED4-4652-9F36-AE4D4872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9E9-E772-486E-8E04-4DCD1021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16C-C525-465D-B387-3E7B437E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A4C-366C-412F-AB25-7299380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4487-4912-4760-AE52-10162B46C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5Z</dcterms:modified>
  <cp:revision>12</cp:revision>
  <dc:subject/>
  <dc:title>PowerPoint Presentation</dc:title>
</cp:coreProperties>
</file>