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0895-9652-47FA-9CBD-27BC717D4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F64F-909B-4806-BEFB-29ECC9F40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1A | COMPONENTS OF PERSONAL CONSUMPTION EXPENDITUR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9A97-F74D-4080-B4A6-6859DBE1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A46-5C55-46B0-A5EF-74A605CD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8D9-8915-4497-B210-B58317B0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F1B8-9852-4F21-84E2-FB9E8074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4119-77D9-4D83-A295-7D6DAFF7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3CA0-7CFB-4365-834B-23019D7A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AEAD-057E-432E-A9CA-26E0E86E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FEB8-2F6C-4DBA-A7A8-87AD4620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1E59-4D86-4046-B719-C1C51D68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3B8F-BE9F-4084-906A-F75098C9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479F-DF2A-4065-A16A-138FE8F9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E5B7-39D3-44F9-B47E-B3CDAD17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0856-1F33-4771-8DF5-9A0F471F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9A11-C304-4958-8338-6E1E63E3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E827-3528-42E9-A0C8-DBA2059D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B1BD-74FC-4BA1-98C4-02BDA55A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ED1A-99C6-40E1-A7F4-B26D2CBA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FFFD-FFA3-40D2-BB43-1625C7F8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CC8-342E-4690-A531-FE1769B7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D79C-4589-4EF1-AB86-DBF790DD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4BE-B829-4BC1-B452-4C36D225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8A95-15D5-4909-A246-E6ED4AEE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07B-B100-4B1E-BC21-8D664314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FE51-AD73-4615-8BA9-A7C050E4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E94B-6D97-455A-8DAF-EFD043097A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C8A0-E6DF-4CFF-BEF3-4830D5E434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1a |</a:t>
            </a: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lth care is the second largest component of personal consumption spending by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712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5289120" y="5638680"/>
            <a:ext cx="32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sonal consumption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$10.1 Trillion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-2305080" y="342756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1a | Health care is the second largest component of personal consumption spending by families</dc:description>
  <dc:language>en-US</dc:language>
  <cp:lastModifiedBy>Jia Yao</cp:lastModifiedBy>
  <dcterms:modified xsi:type="dcterms:W3CDTF">2013-09-06T14:06:08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1a | Health care is the second largest component of personal consumption spending by families</vt:lpwstr>
  </property>
</Properties>
</file>