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852-62E2-4C1A-B6AE-7D37BB97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B17-5334-422A-A226-83D404F0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ADA-FCE2-49F3-8C8F-6BA0AB47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B89-2B84-48A1-B57F-986470F1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8A0-C2BE-447D-B83A-ED70790B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C7B-5340-48AE-81C4-E576EAE6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F2A-689F-485E-ABF6-7B9D5A4D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5B1-09D6-424F-8A69-CA8A314C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353-5B52-44F0-9EE3-C4797CE7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D3B-9F12-45F6-BEED-AF18D8FB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9B7-284B-42BD-993D-9FED095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219-ADFA-426F-923E-85CF39E1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BD68-D180-4C3F-8166-3E56F7F74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6920" y="0"/>
            <a:ext cx="46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9Z</dcterms:modified>
  <cp:revision>38</cp:revision>
  <dc:subject/>
  <dc:title>PowerPoint Presentation</dc:title>
</cp:coreProperties>
</file>