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369-324A-43F0-B247-B65A58E5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222-513E-4387-A004-138F5C72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890-C90C-490F-AA4E-345D7614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A13-0EC9-4F44-BAA3-79123C86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BBC-7C66-4787-8DAA-E41F1D66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31E-D05D-4CF8-A69E-BD1811BA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E7A-F471-49D6-8150-1D26EBD4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DD3-CCFC-4026-A2BB-7D139601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EC9-0D43-4269-AC4D-E6DBB873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5DF6-A4D9-453B-AC04-0B0768CC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2EED-8210-4DA8-89A6-EBB976A1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CE3-1C72-423F-8CCA-722980D7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83F8-291A-4CAA-A84F-2BC6AE7D7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520" y="304920"/>
            <a:ext cx="912348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3Z</dcterms:modified>
  <cp:revision>14</cp:revision>
  <dc:subject/>
  <dc:title>PowerPoint Presentation</dc:title>
</cp:coreProperties>
</file>