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B141-AF70-4F4B-8233-C7F45342E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DA29-8DE0-4B33-BCB4-50E60FD3D3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b | Percentage Distribution of Health Insurance Coverage, by Type and Age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123-0096-4EAA-85C1-B78AC6E4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284-30D8-4C4E-8770-7A4A1499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6D2-6607-4332-963B-29232C94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A7A-AAAC-4EF0-9A1C-47368EC4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D3A1-0280-44CA-A2A9-F0CFEC0A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7D04-B361-4806-9FAD-13A56DF0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2C4A-079A-45F4-B2E8-4F67BD66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E0FD-5CFF-4BA4-8E46-8A756204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16C7-579C-4A42-9778-A45A8672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6E00-B1F4-4C43-80BB-BCD08E23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0FAC-6DD3-4882-8224-434B7C9A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3C79-D599-477A-85A1-CB3706FD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E7BA-BC50-460A-BFE5-A6AF07E2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077D-19E4-4426-8A81-663AB5B2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B2EE-9CA5-4F08-96E9-8BA0BF4C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317B-E46C-4A68-9149-ABC4A1FE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FABA-D318-49D4-BF51-9F459E8D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9995-0AD7-490A-AEEB-F7611ECD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F60-DE97-485F-8FDD-4AEF73DE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B30-B901-4B07-A891-9E86E24F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ED0-E47E-4CCD-8CF8-47752982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E41-5FAE-4128-B1C3-C079C2A9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69B-0FFF-463E-9E3C-1D55DB98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904-633D-4F2A-AFF9-877496A1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C2BE-23AD-42FC-A5FB-CB7F6A893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1AA1-D8E8-4866-B417-41F27DBF2B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2b | Children and the elderly rely much more on public health insurance than adults under age 65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58760" y="70488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457200" y="6172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figures add to more than 100% for each age category due to individuals with more than one form of health insurance coverag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2b | Children and the elderly rely much more on public health insurance than adults under age 65</dc:description>
  <dc:language>en-US</dc:language>
  <cp:lastModifiedBy>Jia Yao</cp:lastModifiedBy>
  <cp:lastPrinted>2002-05-16T21:44:34Z</cp:lastPrinted>
  <dcterms:modified xsi:type="dcterms:W3CDTF">2013-09-04T21:03:4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2b | Children and the elderly rely much more on public health insurance than adults under age 65</vt:lpwstr>
  </property>
</Properties>
</file>