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0DBE-F521-4769-9880-C5F0C4C48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b | Hours-Adjusted Annualized Internal Rate of Return on Educational Investment Over a Working Lifetime, Selected Professions, 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350D-3FE3-4662-8904-B1F958E87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F55-7DF9-4052-88C8-00259E85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C95-9DEB-4DD0-A327-8125C0F2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14A-C25E-4207-A17B-EF4B6E82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954-B00A-4628-8596-6F621E49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532-5B0E-445A-A612-F3320C20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17B-8FFB-49A3-82DE-A2995734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D17-AEC8-4A4C-A746-F58BE97E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672-37C2-4F06-9B5A-D154736D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293-4864-48BA-9FA1-A7486029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230-CC5F-4C24-A643-33985102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153-AD17-472A-A576-B31E1089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277-C667-48D1-A881-00E3AC0E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E67B-5440-4989-BA72-B7F2C1F09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5b |  Physician specialists have higher educational rates of return than primary care doctors have, but these rates are lower than those for lawyers or for those who have MBA degr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625760"/>
            <a:ext cx="863604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85800" y="1523880"/>
            <a:ext cx="834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urs-adjusted annualized internal rate of return on educational investment over a working life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865440" y="5880240"/>
            <a:ext cx="72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William B. Weeks and Amy E. Wallace. The More Things Change: Revisiting 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rison of Educational Costs and Incomes of Physicians and Other Professiona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cademic Medic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2;77:312-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b |  Physician specialists have higher educational rates of return than primary care doctors have, but these rates are lower than those for lawyers or for those who have MBA degrees.</dc:description>
  <dc:language>en-US</dc:language>
  <cp:lastModifiedBy>Jia Yao</cp:lastModifiedBy>
  <dcterms:modified xsi:type="dcterms:W3CDTF">2013-09-06T15:09:00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b |  Physician specialists have higher educational rates of return than primary care doctors have, but these rates are lower than those for lawyers or for those who have MBA degrees.</vt:lpwstr>
  </property>
</Properties>
</file>