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C4AE-3C4A-4016-9956-C71124FBE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348D-B5CE-4D6E-BC24-00BA6665C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2B | HEALTH SPENDING RELATIVE TO TOTAL SPENDING, HOUSEHOLDS, BUSINESSES AND GOVERN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B9C-B5EC-4BD9-A3D2-862287FD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1AE-EA49-4709-9754-DC885019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B8C-4527-4AAA-9617-0C449A63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1B4-AC5B-4FA9-99FA-7B3C82E1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2FAC-342D-4AD5-9345-3744EFB3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FF73-544C-450D-AEF0-DE59827C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01CB-68C9-4E34-876D-32B7EE4C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99FC-8901-48AD-8C90-C47A018D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B0D2-0790-4F25-926A-6670603E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1A30-E130-4C77-9AF1-B573C214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086D-E421-41FB-8457-B5F31D8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6A1-62B8-459D-B9FB-40ABB88B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E7D3-C24D-4F79-8AF4-FFE6934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CEAA-FB2C-4176-9628-B7CA5CF7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2591-3F78-4002-B646-367387E9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7A9F-007D-4C05-9A34-7F87457C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10FC-EEE3-411E-B0C8-FA73F6CE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65E-444B-46BB-A2CA-7F65F7FD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174-61B1-4D95-9879-3A77C83B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8AD-2579-444D-805F-CFF36CC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F00-6CFA-4243-90C1-F4BF1587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92C-7FD5-4A4D-AAFC-A590C5AB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E2B-21DF-46DB-8AEC-8B9CE030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DCF-0FE8-4621-8250-D9288523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0004-FA77-49A0-91FE-8B83D8FDE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1435-6617-4C51-A6F6-86AF6CC2E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2b | Business-paid health care has increased modestly relative to wages and sala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406440" y="5587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5720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: sponsor-paid  health spending to totals shown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9520" y="5562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 the framework of “health sponsors,” business health expenditures include the private employer share of health insurance premiums for workers and dependents, Medicare Part A and workers’ compensation, and industrial in-plant health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2b | Business-paid health care has increased modestly relative to wages and salaries  </dc:description>
  <dc:language>en-US</dc:language>
  <cp:lastModifiedBy>Jia Yao</cp:lastModifiedBy>
  <dcterms:modified xsi:type="dcterms:W3CDTF">2013-09-06T14:06:1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2b | Business-paid health care has increased modestly relative to wages and salaries  </vt:lpwstr>
  </property>
</Properties>
</file>