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2D94-67F6-4735-A1CC-0BF505F7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8109-CF93-4CD2-88CD-02B51350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5F06-42FF-449C-945B-C1CB49A6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3FB3-A254-4B66-9BE7-8B5173F2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253E-7BF6-4DC0-8808-E2D72D45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973D-A2E4-4A14-8326-896DA783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7B72-04B3-4A27-AD5E-91B34769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DF0D-6017-4C0D-88DF-771BC82C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153A-2B88-4DF9-9DB5-A57F9BDD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14AC-0DC9-439F-8BFC-4C364863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C987-5E5E-4417-BCE9-8E32487C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3CC7-93FC-460E-8BC8-4BF81636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FD24-BF07-4ACA-8392-28035BDDE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01680"/>
            <a:ext cx="914400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4Z</dcterms:modified>
  <cp:revision>31</cp:revision>
  <dc:subject/>
  <dc:title>PowerPoint Presentation</dc:title>
</cp:coreProperties>
</file>