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315-EA6A-4CCE-8C74-8BB13703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C96-73F0-4868-A3D1-BEEC6C0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F69-B5C5-43C5-80D2-E0E5957D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5C6-0646-4C5E-B3F1-12F37FF8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96E-9ABD-4589-90FC-1599BFDC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A6B-D12A-49E1-9FA7-050F887E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3C0-48CC-4894-A36D-17B1EC4A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918-11A4-4550-9973-AD5C90DD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00D-CFED-47AA-81BA-DFF0CF6B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127-BEC1-42F7-B8FE-E9B7901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92C-2CDA-46B3-BBBD-C75B12B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A01-FEE3-4546-BBE7-78086C5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917F-52CC-4EFF-826A-86033A2F1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9Z</dcterms:modified>
  <cp:revision>14</cp:revision>
  <dc:subject/>
  <dc:title>PowerPoint Presentation</dc:title>
</cp:coreProperties>
</file>