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C91F-14B2-4463-98AE-F2382A28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1C73-CB00-4BA9-81FF-9C1FBE52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580-9424-4400-BEF6-028FFFD2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777-C40E-43D8-978E-C3D7FE9A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FFA-11B6-4B03-82DE-A2B8D9CD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EAA-C5C8-4BD4-BED3-3F6A36CF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A60-2741-4504-8517-84000F16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493-E6D1-49A7-8A65-B35AE15E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8656-6D5F-4CC1-84D7-F7B0EC4C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975-2118-46FB-9CA2-13569BEA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084D-8A3D-4D60-B512-E06A3207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2C5D-B77B-45D8-946A-BF91148A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7A87-4B1A-41A5-80E8-AF40703AE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9600" y="0"/>
            <a:ext cx="906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0Z</dcterms:modified>
  <cp:revision>33</cp:revision>
  <dc:subject/>
  <dc:title>PowerPoint Presentation</dc:title>
</cp:coreProperties>
</file>