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14E8-E148-4543-9403-81B646BCA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b | Multifactor Productivity Trends in Pharmaceuticals and Medicine and Medical Equipment and Supplies, 1987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C5C6-8B6C-47DF-B4DD-129794D7A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BDB-D264-4F42-BCE2-79AC3C7D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716-6BCB-4FBE-B452-D7AFB8C0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155-8593-44DB-AD2F-C80C90C4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D29-8C4E-4A7F-8ACA-898C2AF6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CB6-E422-4B00-BADC-A21E1542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CE0-EBDE-409A-965E-03ECE50E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1B2-D3D2-4CD5-871E-75F5A78F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649-72E5-44D2-9CEE-DDC82449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08E-87DB-4D8B-91CD-CAA0E2ED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36DB-D69C-4460-9356-46C4E0BD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11A-F446-4F82-BBE2-07206974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2C1-76F3-4224-8119-2A84EE0C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5733-F9E2-4B00-BE6A-0AC318A62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b | Multifactor productivity has fallen in pharmaceuticals even while rising in the medical device industry more quickly than the private secto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ultifactor productivity indexes: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b | Multifactor productivity has fallen in pharmaceuticals even while rising in the medical device industry more quickly than the private sector  </dc:description>
  <dc:language>en-US</dc:language>
  <cp:lastModifiedBy>Jia Yao</cp:lastModifiedBy>
  <dcterms:modified xsi:type="dcterms:W3CDTF">2013-09-06T14:59:38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b | Multifactor productivity has fallen in pharmaceuticals even while rising in the medical device industry more quickly than the private sector  </vt:lpwstr>
  </property>
</Properties>
</file>