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F0FC-67A3-48A4-BED6-9BE2702E3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AC7C-D7D4-4E1F-BAA1-A73B6406D5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7b | Percentage of Personal Health Care Expenditures Paid by Medicaid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DF4-2ED7-40E0-8A8D-2ED6163F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005E-81D7-4978-BE46-3199DEF7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F02-F4B4-4B3E-A4A2-0B6FEEB7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05C-9655-45E7-85E6-BFEA961E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F217-91E6-4603-B980-E51C6C66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A9B4-996B-4F6C-B729-02008AD5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9131-5050-4EF4-9690-5AC252CC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CE90-8AEA-4322-83B5-35DB6191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28FF-324A-46F0-AA99-FD10BCFE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A03E-41D0-40E9-9F6E-DA3F1CC0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0FE6-C63F-49E7-8F22-86FE86B6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40F-DA4D-4310-A893-0187DEBB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1232-FC06-4960-B04D-D256B52A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F8E2-C002-4312-8552-6F2293E8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B9C3-7B3D-4EAF-A2E0-96554B49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919F-950C-4A96-BCB1-77B33306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9920-84CA-4769-9C6B-F5A9601B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F58-BE05-44F7-926A-5097334F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60B2-0425-4E2C-A571-4B5F36F2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919-A3ED-41F9-8F10-B2FF9903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34F2-93F9-4CD3-AA03-94F98324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1570-FCB3-4854-9D39-88FC081F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7DA-FB5A-4B0C-BE14-7A08C366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92D-511B-4188-B332-633D0081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122A-8885-4383-AFC1-9E7311624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0E1B-884D-43CD-8491-BA88F83ADF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7b | Medicaid covers about two fifths of the nation’s long term care spending, but a much smaller share of acute care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7b | Medicaid covers about two fifths of the nation’s long term care spending, but a much smaller share of acute care spending</dc:description>
  <dc:language>en-US</dc:language>
  <cp:lastModifiedBy>Jia Yao</cp:lastModifiedBy>
  <cp:lastPrinted>2002-05-16T21:44:34Z</cp:lastPrinted>
  <dcterms:modified xsi:type="dcterms:W3CDTF">2013-09-04T21:04:05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7b | Medicaid covers about two fifths of the nation’s long term care spending, but a much smaller share of acute care spending</vt:lpwstr>
  </property>
</Properties>
</file>