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C1EF-35E7-4ACC-85BC-D701BC6D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4CC-5D5D-4FAF-834F-C9092F59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ED09-7AFF-4E70-8ECF-799E4897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7ADF-616E-4549-887C-8BA3DA07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C88A-F7E6-4B2D-B7BA-B4E15C0C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36CD-D0F0-44AF-9168-192D8490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50F5-45DD-4239-982A-B66ECD5A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CF5C-D09C-4BA2-9BEC-1EE6F2C1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10D1-5818-46CA-BB34-2DADE453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944D-1980-4096-B8BF-2C703E0B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9E5F-6F2A-4AC3-AE73-3465DAB1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A6FB-489F-4FFB-8DE8-F04C52CC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2D90-F58D-4C3D-948C-F3EDC0B90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73080"/>
            <a:ext cx="914400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4Z</dcterms:modified>
  <cp:revision>14</cp:revision>
  <dc:subject/>
  <dc:title>PowerPoint Presentation</dc:title>
</cp:coreProperties>
</file>