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6B2D-9B4A-4902-B959-929A9FB08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5b | Net Stock of R&amp;D Capital per $1,000 GDP or National Health Expenditures (NHE), 195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A2D3-7EC3-4E96-A825-15CCD38C9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058-93ED-4902-AFE5-359D036C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B47-879C-45E1-9597-4F087E61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4BC-E245-43D6-B46D-7AF8045D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2909-CE95-4C32-A740-BC7F80CE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08E-8DAB-46E0-971F-C117460F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546-803A-4B0B-81DA-7DB96248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56F4-1D83-45F4-992F-49105A50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FEB-674C-4CA8-B56F-2DA640C1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BE3-8329-4C81-9D62-6F0E3E15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352-60F8-4702-B04A-22C7CA2B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705-B118-490F-82DF-0478AB1F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63AE-369C-43D4-92C4-1BCB3C43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8E9F-0064-4561-A5FC-270F51E57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5b. | The ratio of R &amp; D capital to GDP is higher than the ratio of health care R &amp; D to NHE; the reverse was true from 1960-19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1015920"/>
            <a:ext cx="834876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R &amp; D expenditures include both private and public sector spending, regardless of where the R &amp; D was actually conduc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5b. | The ratio of R &amp; D capital to GDP is higher than the ratio of health care R &amp; D to NHE; the reverse was true from 1960-1979</dc:description>
  <dc:language>en-US</dc:language>
  <cp:lastModifiedBy>Jia Yao</cp:lastModifiedBy>
  <dcterms:modified xsi:type="dcterms:W3CDTF">2013-09-06T14:59:2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5b. | The ratio of R &amp; D capital to GDP is higher than the ratio of health care R &amp; D to NHE; the reverse was true from 1960-1979</vt:lpwstr>
  </property>
</Properties>
</file>