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9B0B-E1CF-4ECB-B8AB-14E4B1062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9782-B717-4403-8282-A1BC8B91E1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a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494-BF17-480A-9AF5-434B439A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899-7999-4976-810C-665DF415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F35-0DB1-4113-82F2-12FAB848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057-47AD-4A50-A923-1BFEBD73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CA87-7EEB-4B0A-96DC-B724D87E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C159-BEC8-4FD5-B258-333349CD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3B09-525C-49B7-809A-19B314C8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96D6-64E8-4CFE-A4C6-3AADD6F9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A871-DDCF-46A4-8D05-CD5867DD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ED8B-EF1D-451D-A778-8CED1F1F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BB52-240B-4926-8EDA-A3B45205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A28-D9F2-45E7-BE60-18185927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9E04-BE73-45C2-83A1-DDC0FEC3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9AA5-FC1C-4FC7-8F0F-58FA5464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E4C3-DDDA-481A-A6F3-DF91D4B1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D1D5-B9DD-4A7F-A89A-677FAB35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6A02-376E-4096-A8B3-2663D112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5A4-F83A-472F-AA12-3820FC88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0BE-30A7-4D34-9B1C-4F798283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81B-7042-47BD-A885-D2F4798A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18C-96A1-4505-B40F-A37D14A9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ABC-681C-46A7-A722-7B83D01A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99D-4011-433D-8665-80F7A28B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D96-A02A-4F31-BDDC-938EF253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9D54-44C7-4C34-8CAE-CB4D8175A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422A-38C2-460D-8A61-33F29AD6F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a | Under two-thirds of small firms offer health plans, but the share of workers eligible and participating in such plans is similar to large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a | Under two-thirds of small firms offer health plans, but the share of workers eligible and participating in such plans is similar to large firms</dc:description>
  <dc:language>en-US</dc:language>
  <cp:lastModifiedBy>Jia Yao</cp:lastModifiedBy>
  <cp:lastPrinted>2002-05-16T21:44:34Z</cp:lastPrinted>
  <dcterms:modified xsi:type="dcterms:W3CDTF">2013-09-06T13:50:05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a | Under two-thirds of small firms offer health plans, but the share of workers eligible and participating in such plans is similar to large firms</vt:lpwstr>
  </property>
</Properties>
</file>