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91F3-3DCA-41CF-8C68-B82C0ECA9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C532-291F-46B0-B225-788A5CD14C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9b | Percentage Distribution of Sources of Payment for Persons, by Insurance Statu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970-E488-4D75-B531-6FA5A8D1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4EF-CADB-440C-BA15-AD4DD5F0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6EA-C256-4733-8911-3674FDD9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3DE-7CED-4AD9-9E67-61607578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86E9-D454-4D69-B124-1551B01E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B81A-82CC-44E9-AECF-6E4260C0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1218-B84F-4C48-B66D-099DD732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5569-C65F-415F-8508-9BB122BE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B33E-3D14-408E-878A-FD2E6E10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0ECF-04F6-43B0-87F3-2643553A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C7AC-36A8-4C6C-8636-BE032056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DAD-60B4-4DE2-84E6-36F812E3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1B7A-676A-48DE-B6C0-E974D1EE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7FC2-3D23-4E37-945A-D72F072F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B060-B30D-4B5A-9AC5-D8593746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D210-170A-4FB5-AD27-A485BCE7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4F28-D208-4E53-A837-6F392D0A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317-F498-4CAD-9170-FB5824BE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9ED-140A-4BC6-BB52-C092CCB0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06A-852C-4CE2-BD95-5285352C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807-DB3D-4A79-981E-6D35D202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65A1-9741-4BAC-A2B7-4E235501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90A-43B4-430C-BFF4-CB889AE1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E7CB-7FE1-4BC4-AE29-61C1A505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F949-02EF-4F37-91EA-BFE0434F1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70AB-25D7-48BF-9D5D-C2D8047411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9b | Nearly two-thirds of health expenditures for persons uninsured all year are subsidized through taxes or private charit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368280" y="787320"/>
            <a:ext cx="886464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09480" y="5610240"/>
            <a:ext cx="85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Hadley J, J Holahan, T Coughlin and D Miller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vering the Uninsured in 2008: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tailed Examination of Current Costs and Sources of Payment, and Incremental 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f Expanding Cover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Prepared for the Kaiser Commission on Medicaid and the Uninsured. Kaiser Commission on Medicaid and the Uninsured. Washington DC. August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9b | Nearly two-thirds of health expenditures for persons uninsured all year are subsidized through taxes or private charity</dc:description>
  <dc:language>en-US</dc:language>
  <cp:lastModifiedBy>Jia Yao</cp:lastModifiedBy>
  <cp:lastPrinted>2002-05-16T21:44:34Z</cp:lastPrinted>
  <dcterms:modified xsi:type="dcterms:W3CDTF">2013-09-04T21:04:16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9b | Nearly two-thirds of health expenditures for persons uninsured all year are subsidized through taxes or private charity</vt:lpwstr>
  </property>
</Properties>
</file>