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F1C8-40F4-46A7-98F2-D16A691DBB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7B | PHARMACEUTICAL WHOLESALE PRICE INDEXES, RELATIVE TO U.S. PRICES (US=100), 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41B8-2D59-49A0-80F6-74853C3749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67C3-B772-4A04-89AC-3693F5F0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76D2-BC4B-45BD-93FC-145D0229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4BB0-0632-40BC-A244-BD91CE33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C246-2C05-4C22-B671-2F8CD2AA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0E80-F970-47B4-ABD9-A95C1024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A420-8046-46F6-B25A-D3C00886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5692-B0EF-4013-AF48-7125FE96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EAA3-8A6E-4B3D-B0BE-4B01D299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0F51-87A6-456E-9975-3D9A12DD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DD0D-A8D9-4DD9-8AAE-22DAB764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2ECD-CD19-400C-811E-587AC69D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215D-6D0A-46EF-8880-960A9506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3C23-1A54-4BD1-B8AF-818C70979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7b | Manufacturer’s prices generally are higher in the U.S., but U.S. pharmaceuticals are generally more affordable due to higher incom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749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14479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armaceutical price indexes: 100=U.S. (20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64920" y="6019920"/>
            <a:ext cx="740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Danzon PM and MF Furukawa. International Prices and Availability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armaceuticals in 2005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8; 27(1):221–3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7b | Manufacturer’s prices generally are higher in the U.S., but U.S. pharmaceuticals are generally more affordable due to higher incomes </dc:description>
  <dc:language>en-US</dc:language>
  <cp:lastModifiedBy>Jia Yao</cp:lastModifiedBy>
  <dcterms:modified xsi:type="dcterms:W3CDTF">2013-09-06T15:41:03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7b | Manufacturer’s prices generally are higher in the U.S., but U.S. pharmaceuticals are generally more affordable due to higher incomes </vt:lpwstr>
  </property>
</Properties>
</file>