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E336-E213-4C8B-ADDD-9BAB7E397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6B | NATIONAL HEALTH SPENDING AND AVERAGE GROSS SAVING AS A PERCENTAGE OF GDP, G7 NATION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7DAB-2881-4293-8C99-A4075C594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5F55-F64B-4706-8C55-91A33D46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344-DB31-45A2-BE6D-C1E24D3B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234-82E6-4C20-8519-57D4B482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AB2-C8DB-4182-AA1D-A9AD22F2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578-206B-45C1-A234-A57E5D37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5C0-AA26-406B-9857-6B5A7D2B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68F-A1AD-4817-9C9B-7A9CCA3F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875-6E98-4F66-9B1A-FE09B19D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F7A-10DB-460A-8774-E16FD0F6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CBB-C889-4024-A497-A541FC34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3E4-6C8B-41AD-AC56-5411ACD4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47D-D3AA-4E7C-AD67-2CBC9BFC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92FA-DBFB-4787-B7EB-AE9E333E7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6b | Health spending matches gross saving in the U.S.; in most other G7 countries, the national savings rate is much higher  than N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320840"/>
            <a:ext cx="848340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6b | Health spending matches gross saving in the U.S.; in most other G7 countries, the national savings rate is much higher  than NHE</dc:description>
  <dc:language>en-US</dc:language>
  <cp:lastModifiedBy>Jia Yao</cp:lastModifiedBy>
  <dcterms:modified xsi:type="dcterms:W3CDTF">2013-09-06T14:59:3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6b | Health spending matches gross saving in the U.S.; in most other G7 countries, the national savings rate is much higher  than NHE</vt:lpwstr>
  </property>
</Properties>
</file>