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1F13-AAD4-4385-9576-DD937B894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0A86-244D-4EA5-83DA-72EDDBCEE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CA0E-4FAE-4EE0-ABBB-26C3C6731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1FA3-0FAE-4C24-96B6-D1EEC38D6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890A-B9BC-4788-8FD0-C1C6C8A31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7155-3F2E-4E99-A0B4-EADEE7915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E5F6-88C4-450A-ADAC-38405B4D3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E1AE-7E1B-44CE-953A-3CBE71E08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05BD-926B-4F98-8E38-B63AA3E00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8B30-7C51-45B2-AA24-3D12DA97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D464-7562-4891-9FFA-7285C8FA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9A52-09AC-4667-8B70-CD46E415E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B78F2-A24C-48B6-B0D6-151930F81B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93760"/>
            <a:ext cx="9128160" cy="62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46Z</dcterms:modified>
  <cp:revision>28</cp:revision>
  <dc:subject/>
  <dc:title>PowerPoint Presentation</dc:title>
</cp:coreProperties>
</file>