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4AE6-7298-4181-A7A3-472BC720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1B1B-2F88-4A6A-86D3-FB74B057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193-46F8-4DFA-86BD-9A20CE08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2121-B043-44F9-867A-A10A8AF1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FAA7-2144-4734-9C67-FF63462C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95EB-21F2-4058-A2AE-C38B266A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84BB-C6EA-455A-82EE-F9EE9C42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9B89-FA52-4FAA-A582-DA4F74AE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06B-D24E-4224-BA27-4F402F46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989D-8479-4A38-8DC2-71CDCD86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1FE-5C6D-41E1-91E8-619D0940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5848-21EC-4B31-BCF3-B3547D2E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275F-5143-4FC5-B307-4DC027D65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49200"/>
            <a:ext cx="9144000" cy="43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4:31Z</dcterms:modified>
  <cp:revision>46</cp:revision>
  <dc:subject/>
  <dc:title>PowerPoint Presentation</dc:title>
</cp:coreProperties>
</file>