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94DC-23F5-4141-9891-70A07939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FC60-1053-469D-84F1-F7415E12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3BE9-F0E2-48D2-A3BE-FF96B75C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F0D9-EB3B-4B4F-A22B-ED101416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C5B7-6990-4DB0-AA81-0D8FC651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C82D-AF62-48A0-AF75-7487FD52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9415-C989-4D25-A536-4E77E0D3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E5AC-1B66-4B6F-9C14-FFF9FEAC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3A63-69A1-4715-B6EC-ED7C1DC8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AAA0-115F-4678-BE81-129BBF26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590A-26F8-4526-BA56-ECC34A44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17CC-E5BA-4072-9378-2DF3EF92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823E-E2C2-402A-895A-465F51193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66600"/>
            <a:ext cx="91440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4Z</dcterms:modified>
  <cp:revision>18</cp:revision>
  <dc:subject/>
  <dc:title>PowerPoint Presentation</dc:title>
</cp:coreProperties>
</file>