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AFDA-6C48-4B8B-8FC7-923440AF1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CD02-776E-4CD5-8116-E3D13AFF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D97A-F977-4E1C-9C92-28F15A91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6826-56EA-45DD-B8A4-FD9FB430F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4D58-B9B6-49C0-97E2-ECC2C638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B0B7-1E06-4A05-BEB1-609BBD84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58E7-A405-43D3-A041-6D48A6FF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F037-56A2-4EB7-9B1D-BBCE2FDB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E6A8-0F31-434D-B7D3-F22CF825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481A-EB93-46A9-98EC-6FB1AFF7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A4FB-32C9-4AA4-BA83-E2795EEE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07C9-7FEB-4FF6-9FB9-29E19918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D949-682D-4482-AD10-7BA0CFAEFC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9320" y="117360"/>
            <a:ext cx="9094680" cy="65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32Z</dcterms:modified>
  <cp:revision>37</cp:revision>
  <dc:subject/>
  <dc:title>PowerPoint Presentation</dc:title>
</cp:coreProperties>
</file>