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0B5-6109-4459-8401-E36DFF8B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619-3B9D-40E8-B779-E5BA5E9C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060-3CE9-4A5D-B34C-906D6898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B4C-E45B-45B6-8ED6-73D9E2D1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4E7-ECC4-4F45-9E43-F7472CF3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801-1182-40E1-ABBC-56085B38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D64-A7BD-487C-90BA-0A1A7B0D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ECF-38F1-4B0E-AE7C-9FB12D8B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F74-17A7-4100-994D-F943A4A0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385-B8B9-472B-BD62-44943364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F8A-7197-4662-99E3-50C21A9E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BF5-17FE-4FF3-9CFA-208B37D5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42B0-4E90-45C2-9718-B4C24E745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2Z</dcterms:modified>
  <cp:revision>45</cp:revision>
  <dc:subject/>
  <dc:title>PowerPoint Presentation</dc:title>
</cp:coreProperties>
</file>