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438A-0EF2-43FF-81BB-BDA24A5E39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6 | TOTAL GENERAL GOVERNMENT EXPENDITURES AND PUBLIC EXPENDITURES ON HEALTH AS A PERCENT OF GDP FOR SELECTED INDUSTRIALIZED COUNTRIES, 199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C48B-7625-4967-98BF-B5CB47C607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B80D-85B2-42DD-9B71-206F832D8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8846-22CF-41E1-A1A5-515DF9C6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55FA-24D4-4A6B-A515-A62E2BF8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0BB9-16B9-47ED-B531-8BD50DCC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DB5E-7F06-4CCF-8BC7-3E52DADC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4EA5-51F5-42CE-A5D5-776EA279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6B70-3757-4F4E-B783-FE21CDA7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94F6-9E74-4CE7-89D5-17DC426C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A565-412F-4E3A-8E5C-51086955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55AC-D6C3-4B4B-A465-6B37D47F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0335-FFEA-4D16-8C1E-A6F90675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792C-38F8-4640-B03F-78024B4D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4078-6612-4B34-9D23-6D331B36A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6 | Lifetime Medicare benefits grew fastest for low income workers, yet even for high income workers, net lifetime benefits exceed $30,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96800" y="1092240"/>
            <a:ext cx="8331120" cy="4597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47560" y="5867280"/>
            <a:ext cx="806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Steuerle CE and S Rennane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ocial Security and Medicare Taxes and Benefits Over a Lifetime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rban Institute. January 2011. http://www.taxpolicycenter.org/UploadedPDF/social-security-medicare-benefits-over-lifetime.pdf (accessed June 10, 2011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47560" y="1504800"/>
            <a:ext cx="746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et lifetime Medicare benefits (own benefits minus own taxes paid), 2004 dollars in thousan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6 | Lifetime Medicare benefits grew fastest for low income workers, yet even for high income workers, net lifetime benefits exceed $30,000</dc:description>
  <dc:language>en-US</dc:language>
  <cp:lastModifiedBy>Jia Yao</cp:lastModifiedBy>
  <dcterms:modified xsi:type="dcterms:W3CDTF">2013-09-06T13:59:43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6 | Lifetime Medicare benefits grew fastest for low income workers, yet even for high income workers, net lifetime benefits exceed $30,000</vt:lpwstr>
  </property>
</Properties>
</file>