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FF2-00BA-4942-A964-A9830619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C6DA-1BA7-4905-9DD5-B416FE28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F48C-8076-4075-BE88-DA5D74E5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B69-C19E-455D-AB42-0AC92879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4F05-27C2-4D60-9E04-2333CACC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12D9-55A2-4155-997C-02C67B9B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2B1D-EF86-4E7D-9B14-4972F52B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0650-EFBF-4062-8092-9AAF2BD5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C374-F024-49ED-92BB-23AB3402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E35-45C0-4A4E-861B-B2374B67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9B8D-1322-4E0E-8849-362554B4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67A3-8F6F-4FF4-8957-E58C17A8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89D4-8E65-41E2-A4DC-3F78C7135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363680"/>
            <a:ext cx="912816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6Z</dcterms:modified>
  <cp:revision>16</cp:revision>
  <dc:subject/>
  <dc:title>PowerPoint Presentation</dc:title>
</cp:coreProperties>
</file>