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292-E65A-4073-BF2F-C6D5EB4B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730-42F7-4C93-B75B-3C6D49CE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6C8-7908-49AD-9533-97B1BB3A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F99-B9CE-4249-951F-3BD018A7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1DA-8882-4D40-8436-A7BF0BDE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E42-68E9-4749-A80F-81783895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04E-F7FA-4D4D-B01D-1F588CFD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F5B-EC76-410F-8D6D-538C30F0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731-EF4E-4E9A-9225-855CAEE6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DD5-89F4-4C42-BE0A-CF6AF0C8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2DD-43E2-4142-9080-0D01FD9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B05-1702-43F5-B31A-57E9E318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1DFE-83A9-4ECD-BC39-9A76EABB6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70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9Z</dcterms:modified>
  <cp:revision>30</cp:revision>
  <dc:subject/>
  <dc:title>PowerPoint Presentation</dc:title>
</cp:coreProperties>
</file>