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E96B-03B3-4446-B1E5-B53DF44F57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6.1B | COMPONENTS OF PERSONAL CONSUMPTION EXPENDITURES, 1929, 1969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406C-8CD4-4614-8975-D094B513BA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BC1F-8E18-4741-B382-9A8EB26E8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17F9-2856-48C8-ADBA-24A59770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A9F6-7DFA-4959-9FD3-1003AECEF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50CA-8F45-4F02-9B17-6DF148605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97D6-5E18-4854-874F-76972BC2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D365-6CC1-4782-8A85-7E24BC50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BFA5-14C4-4AAA-87C3-29478D58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9EA2-E7B6-442D-B1FE-873EF958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D8B7-876F-4041-BF0C-3F2B0F02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56C5-2D5C-492B-AC79-B08E4CC2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9015-3F86-445B-96E7-631857F0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7CA0-31BE-4C7A-A13B-B073F652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C292E-8B8F-4159-A384-6037420771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1b | The health share of consumption spending has grown as the portion for food, clothing and shelter has decl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7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43528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762120" y="617220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ajor components of personal consumption expenditures (listed [left to right] by amount in 2010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1b | The health share of consumption spending has grown as the portion for food, clothing and shelter has declined</dc:description>
  <dc:language>en-US</dc:language>
  <cp:lastModifiedBy>Jia Yao</cp:lastModifiedBy>
  <dcterms:modified xsi:type="dcterms:W3CDTF">2013-09-06T14:06:11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1b | The health share of consumption spending has grown as the portion for food, clothing and shelter has declined</vt:lpwstr>
  </property>
</Properties>
</file>