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FAFA-478E-4E15-B8AC-E81EA54C6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C | COMPARATIVE INDICATORS OF MEASLES, DPT AND FLU VACCIN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21A7-55A3-4B99-82A1-C0DBDF861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E85-E40C-4E0B-926C-AAF57796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031-F057-4530-AB64-AAABCB20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79D-8377-41C8-9CAD-6418851D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23B-3E71-46DC-A1B6-194D4313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D06-CBBF-43C0-993B-7B99534F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9CE-88B7-457D-8526-632F607C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019-39D4-48E4-8730-A93A9300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B08-4464-4130-8556-B033F09A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FE2-1784-4303-AE28-485F507A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D71-A364-4B7D-831F-B37E3325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D00-A3A6-4727-B070-48612576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A18-2025-4883-B742-4256B973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4C94-7200-4638-BF1E-C178D6262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c | Immunization rates in the U.S. are generally comparable with those in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88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c | Immunization rates in the U.S. are generally comparable with those in other G7 nations</dc:description>
  <dc:language>en-US</dc:language>
  <cp:lastModifiedBy>Jia Yao</cp:lastModifiedBy>
  <dcterms:modified xsi:type="dcterms:W3CDTF">2013-09-06T15:40:5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c | Immunization rates in the U.S. are generally comparable with those in other G7 nations</vt:lpwstr>
  </property>
</Properties>
</file>