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7D1B-4917-4858-82FB-A4EA3FFE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C45C-7517-49C1-9F33-E9C87B7C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E3EE-9EC4-40B1-8A6E-70383D2D7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1C74-384A-4D6D-B3A6-B9E63E0D4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BB73-358A-446B-9AD4-AD17ED28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B77F-219B-4C89-8500-0A0AF6E3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96B4-A6D5-4BE9-A976-81768FD5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07C4-CB3B-4F84-99DF-40D4C2DE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DFE5-0084-47B1-B2F5-9148AB76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978B-C564-4428-A838-FF9A813A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CDC7-92CD-4259-AD40-95A89160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8D4B-FAA3-4F3F-B48D-A951F1D2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E815-C260-49F9-9903-F647F60282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3120" y="0"/>
            <a:ext cx="853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6:30Z</dcterms:modified>
  <cp:revision>20</cp:revision>
  <dc:subject/>
  <dc:title>PowerPoint Presentation</dc:title>
</cp:coreProperties>
</file>