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124-AF1E-427E-B8B3-63872F11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E56-102B-4CBF-A032-DCBE90BB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186-B356-4AE7-88A7-019D57DC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229-B4D1-46C3-A43C-5742CC4D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B1D-E039-40BB-814A-7BFE9B2C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22D-128F-4E13-A1AD-E747B7B0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000-810D-48CE-B3A6-ED72469A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569-3329-4977-BC7E-31044DC3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4A2-399B-4C06-812D-5F00BC5D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30B-F1AD-44F8-9E52-F113C201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291-4410-4E99-B383-EAFF9AE7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6D90-ED98-49F2-B4C8-CDC83817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8D87-781E-4D65-95AB-A52D6D5CF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3920"/>
            <a:ext cx="91375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1Z</dcterms:modified>
  <cp:revision>10</cp:revision>
  <dc:subject/>
  <dc:title>PowerPoint Presentation</dc:title>
</cp:coreProperties>
</file>