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5830-C5E1-4E5C-9E4F-52A2FD81D8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8A | AGE DEPENDENCY RATIO IN G7 COUNTRIES, 1960, 1984 AND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7C83-2995-449C-B5B5-87988C8402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4FA3-AA12-460E-8D81-93E236359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CBEA-5639-4521-9840-11118B25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C70D-8FB9-46E9-A65D-04AA616C3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1836-9CBC-4A0C-9077-6FEA424C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A2F9-BAE5-479C-A29C-6893035D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D82B-05B6-4A46-8550-8E7C71B5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E583-D4FC-4985-B66D-C90350A4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0AFD-30E0-4A2F-BEE8-6C69CF7C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A99D-1157-4568-A33A-5048EB3A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B1F5-5616-4338-874C-3FAC838A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6B3C-26BF-4889-B0B4-74F19781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16AB-0535-46E4-98C8-80F2FA76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70DB-7EE0-45F7-BE5D-355EC9D30B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8a Over the past half century, the elderly dependency ratio in the U.S. has risen, but is lower than ratios in other industrialized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523880"/>
            <a:ext cx="71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lderly persons (age 65 and older) per 100 persons age 15-6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674280" y="623736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8a Over the past half century, the elderly dependency ratio in the U.S. has risen, but is lower than ratios in other industrialized nations</dc:description>
  <dc:language>en-US</dc:language>
  <cp:lastModifiedBy>Jia Yao</cp:lastModifiedBy>
  <dcterms:modified xsi:type="dcterms:W3CDTF">2013-09-23T19:14:36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8a Over the past half century, the elderly dependency ratio in the U.S. has risen, but is lower than ratios in other industrialized nations</vt:lpwstr>
  </property>
</Properties>
</file>