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A877-6230-48E3-83A7-3D95E2004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1 | NET PRESENT VALUE OF LIFETIME EARNINGS AND STOCK OF HEALTH FOR AMERICAN NEWBORNS, BY SEX AND RACE/ETHNICITY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5B99-2ADA-4C7D-A1E7-35E276422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DA6-90FE-4A77-B810-BBAF2F3F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1FD-B8A9-44AC-A9FA-16B6DF57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B87-97AB-4FBB-8EA7-691901B0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F78-DDFC-4102-A136-A9637433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19B-BB8C-4A09-BF75-759F700F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4D7-C2DD-4757-92E5-5A142B4A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CFB-ACB2-43B0-928E-B291579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29F-6DA6-4313-9FE5-41B809DE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288-A43E-4F02-B1C4-06074AF3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D06-87DB-49E6-ACA3-E28B91E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EE0-79C6-415B-B5E7-7A982007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39D-FAAF-468B-97BB-38C5591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888B-EA24-4849-831C-30DA18D37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1 | The average American’s stock of health is several multiples of their lifetime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using 3 percent discount rate (millions of 2005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1 | The average American’s stock of health is several multiples of their lifetime earnings</dc:description>
  <dc:language>en-US</dc:language>
  <cp:lastModifiedBy>Jia Yao</cp:lastModifiedBy>
  <dcterms:modified xsi:type="dcterms:W3CDTF">2013-09-06T15:31:18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1 | The average American’s stock of health is several multiples of their lifetime earnings</vt:lpwstr>
  </property>
</Properties>
</file>