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D5F-AC69-4626-90AA-40BD26C5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DC2-1809-450D-86FD-476F7DAE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65B-96C5-4B68-84A7-C3EF33C9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143-49EB-4CEE-8519-8EA6993F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93E-F5D2-4A04-9C52-88A05478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948-D913-44EC-974D-D5B5400E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E46-AE51-4A65-9A78-75CDF503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9C5-6358-4118-A4E9-BEEEDC55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121-0B4C-4174-A178-14FD789B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1E3-7687-4B8B-8DD1-48CCA93B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3B8-3D13-4DB0-9F2C-A371F8A9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7C8-2DF3-4D14-9FFC-983322A9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192E-3061-45C5-8B6E-460D6C881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236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3Z</dcterms:modified>
  <cp:revision>22</cp:revision>
  <dc:subject/>
  <dc:title>PowerPoint Presentation</dc:title>
</cp:coreProperties>
</file>