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39FA-7767-42C3-9AA5-03C7F2918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6972-98FF-4140-8C06-9FFC56608FE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2a | AVERAGE TAX SUBSIDY AND TAX SUBSIDY AS A PERCENT OF PREMIUMS, BY INCOME CLASS: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56E0-0D39-4051-97B5-F444A658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5246-A546-44D5-84CE-55CFA388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1671-D39E-4AFB-8679-13B640F9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3AB-D258-42A7-8611-76803D63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5869-3995-4E6F-AFBC-DDB272A2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15DF-5E08-417B-9A27-7B5622E8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1E29-B4B1-4EC5-B09C-46601A4E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76EB-8924-44E6-B873-89CD83D3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7AC1-B908-48D9-A1F7-01DD9C9D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1F43-7B81-4C27-93E8-2DF81920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640C-1D25-4CB6-93F6-CB536F3D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E89-5AC7-4AD4-B2D9-E22E7179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77E5-D754-43D5-A98B-95B8D9CA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E9EE-0B30-432C-B714-4B3196C7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C0FC-C752-4863-80E1-DD11AD7F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BEEE-41CD-4B16-9647-70DA6A0E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D046-C034-499B-88EA-07EA2CAF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3E8C-E582-4E23-AA8A-C992A329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2320-4D57-41FE-AB6E-C862AB85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8576-E313-4FBD-BA9F-C968EDF5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8B73-5563-4883-ABA0-47B39CFA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FB1B-DCF5-4025-BB5A-CD3378F0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7BEF-D9F9-4520-B01D-67941F09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BEB-E065-4D58-AD47-11741775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B18A-E33A-48F8-B75D-C4F403A9E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9E7A-7ECB-4E1E-8566-E35BB681A9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2a | Higher income families get a substantially higher subsidy from the employer tax exclusion compared to low income famili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06440" y="787320"/>
            <a:ext cx="836928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114840" y="5867280"/>
            <a:ext cx="96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Burman L, S Khitatrakun and S Goodell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ax Subsidies for Private Health Insuranc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o Benefits and at What Cost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bert Wood Johnson Foundation. 2009 Upda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ceton. July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2a | Higher income families get a substantially higher subsidy from the employer tax exclusion compared to low income families</dc:description>
  <dc:language>en-US</dc:language>
  <cp:lastModifiedBy>Jia Yao</cp:lastModifiedBy>
  <cp:lastPrinted>2002-05-16T21:44:34Z</cp:lastPrinted>
  <dcterms:modified xsi:type="dcterms:W3CDTF">2013-09-06T13:50:01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2a | Higher income families get a substantially higher subsidy from the employer tax exclusion compared to low income families</vt:lpwstr>
  </property>
</Properties>
</file>