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E1E-C667-49D0-99A2-2CDCBC24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FD7-4160-4744-9AD6-B82C6E5A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5AB-CFC7-4C12-B2E6-2F8F8343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E80-EBE0-44BA-9E93-4F37DB50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32E-640E-4FBC-BA2C-3D2336B9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7F6-5ADF-4680-8452-741586D8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E74-3A76-440B-9906-D0A95B00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D98-C3AF-4162-BE11-33D8189B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BFE-1611-40B7-8BF2-588F140D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FC9-B6C7-470C-9617-27F888F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6CF-55F7-4121-B680-A7F9DF5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728-6569-4111-86BF-0B38341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EBE6-3EA1-46DE-8CF0-432F1339E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8160" y="355680"/>
            <a:ext cx="9105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8Z</dcterms:modified>
  <cp:revision>22</cp:revision>
  <dc:subject/>
  <dc:title>PowerPoint Presentation</dc:title>
</cp:coreProperties>
</file>