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BF7-AD2E-401D-B6A5-7205A0E3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22C-B118-46EF-B12A-47FC41DA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544-5329-44A5-A2CA-8D03470E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0C3-D544-4082-97ED-9305F89C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5777-5488-4F5C-93CF-885BEC3C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A15E-B987-4EFF-985E-CEC81EE9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FA11-2C43-47B4-B231-0A39769D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6611-9F46-4409-89EB-FE9A37B5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707-1BC0-4AC5-BF54-3CA856AD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F766-B18A-49B1-B4C9-729E6E8B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F5D-DD1D-401C-A8A6-45B52150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E60-A473-45FA-94FC-DCE2CE5C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56B3-6EEA-4FBE-9642-69B64788C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20520"/>
            <a:ext cx="9117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0Z</dcterms:modified>
  <cp:revision>20</cp:revision>
  <dc:subject/>
  <dc:title>PowerPoint Presentation</dc:title>
</cp:coreProperties>
</file>