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179-ECCB-4142-B10D-4E2380D2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9BD-4BFF-40E7-8021-A92EF1C1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2DF-BBC2-433E-83DE-2AF89B24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AB5-B6DD-482A-A771-0DBF380E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EEA-0627-4CA8-855F-E6BE662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334-8624-4244-A9C8-AE5C7601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59C-B31B-4166-B433-F311F25C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BDD-8A53-4C1F-8C2A-5DE23B1C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DE6-F148-4EC5-BE43-AC13E61B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6FC-C932-47D0-A2D4-8C6C4C6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B22-EA7B-48A7-980D-44350D5F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F09-69C0-478C-B9A7-6F66D3B5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6335-141C-4418-9CAC-CCDA74FBD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24080" y="0"/>
            <a:ext cx="649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2Z</dcterms:modified>
  <cp:revision>32</cp:revision>
  <dc:subject/>
  <dc:title>PowerPoint Presentation</dc:title>
</cp:coreProperties>
</file>