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F91F-0E71-41E7-B6AB-36EDCE446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2A | FEDERAL, STATE, AND LOCAL EXPENDITURES, BY MAJOR PURPOSE, AS PERCENTAGES OF GDP, 1959, 1989 AND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9DCF-15CD-4E8B-A259-C379C4DC8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4136-1FD6-4184-A6BF-3596EB9D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ACEF-E0AC-4796-985F-DD98D82A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81C3-49B3-464B-BE6A-7B041348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EFCF-296D-4000-858F-F8D1FB4F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7442-BDAE-439A-A186-76C12309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BED8-7B98-497B-88EB-72351C51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34BC-DB35-4EE6-8B1B-23088268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94E2-7F47-4047-9D95-F64FA08C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A050-D8E0-45BC-A8F2-C7B91521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6851-1090-4865-A406-1ECF8778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A2C4-6AAC-4DAB-A3E8-AA444CCC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7015-C877-491D-8A97-F4C12267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186E-E6B3-476B-88C9-621088291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2a | Government health spending has been the fastest growing major component of government budgets over the past 50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48340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flipH="1">
            <a:off x="533520" y="6019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 this chart shows the 7 largest functional areas of federal, state and local budgets in 2010, rank-ordered by size in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2a | Government health spending has been the fastest growing major component of government budgets over the past 50 years</dc:description>
  <dc:language>en-US</dc:language>
  <cp:lastModifiedBy>Jia Yao</cp:lastModifiedBy>
  <dcterms:modified xsi:type="dcterms:W3CDTF">2013-09-06T13:59:30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2a | Government health spending has been the fastest growing major component of government budgets over the past 50 years</vt:lpwstr>
  </property>
</Properties>
</file>