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E7C7-AB93-4771-BB56-D3EC60A69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01A9-80CF-4902-AFC1-0EB19D13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A1A5-74FF-416C-B7D5-914F74452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885F-95FA-49D5-AB94-F4DE1EA91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BE17-B69B-461E-92B2-3DBA2315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5F33-61CC-4B6E-B37D-B54E1967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0B15-8172-4C97-A307-A3979C7E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9EB3-DF4F-4ADB-98C3-D1328733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E331-5F19-4F49-A0D4-6ED6CAC7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988E-9941-4CE2-A54A-ABCD9A7A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971D-AE42-4175-8902-46A6F90C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C218-2A08-4938-AC40-13601065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EDDF-C9E4-4A7E-BB5B-0B2B49C1EF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1400" y="1474920"/>
            <a:ext cx="902628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15Z</dcterms:modified>
  <cp:revision>35</cp:revision>
  <dc:subject/>
  <dc:title>PowerPoint Presentation</dc:title>
</cp:coreProperties>
</file>