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211-0B1A-42CC-8D59-772E384D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CDBC-415C-4165-81F9-03973B85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BBD-91CA-4195-92AA-8D65434D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245-4B5F-44CD-B7E9-D0FC45B3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591-A694-4F6D-BF80-A998233E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3F4-AAEB-468D-B686-E0262123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9C0-135E-4F4B-9350-08520B8C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B4A-5EBA-43FF-9964-AE892B5E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0D7-1663-4D4F-B3A9-89CEF30E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AD6-7AAE-49DD-AF4A-30A7C06A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583-2F53-437D-B726-FF164956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0F8-B7C0-4B6E-A7BC-8244D514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7804-3787-4515-AE85-EF5C35238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60"/>
            <a:ext cx="91598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4Z</dcterms:modified>
  <cp:revision>8</cp:revision>
  <dc:subject/>
  <dc:title>PowerPoint Presentation</dc:title>
</cp:coreProperties>
</file>