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4DCB-5143-4DC1-9BC9-34772AB022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5A69-AAF4-4125-8F90-6C902BAEB32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8a | Major Sources of Payment for Personal Health Care Expenditures, by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ge,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CC9C-75B5-46A9-851C-78C468E1B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4083-9FEF-4548-B724-016C28CE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5B75-69BD-4736-ABB5-79F57169D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DF06-9B92-4360-AE38-E76F2C0C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FA36-97F2-4C22-A3FC-B540FA3CF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5EC4-1AA7-4F8F-8338-390F3F15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A290-DCFF-4DFF-8C95-4E7D7ABD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45AA-7E43-4636-9478-B83982B6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FC5F-6CEB-4C56-8334-31F11126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3FE0-C014-4641-ABA7-EA4E05A3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983A-6863-459A-8316-820A0032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FC92-DDB5-4955-BCCE-0A31E8CD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5F3E-72B8-4990-B568-9512D603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B2C5-AE0F-4CB2-A5A0-66F3AD87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EBAC-F8C4-4BBB-B7F1-98656E07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CE4A-B54D-41C5-A7F4-D831E9303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6A12-217F-4739-AB66-D183DC91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32D5-DE16-435E-B6B3-41DE982A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3859-D1AC-4C45-919D-71560492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6C5B-3E68-4F4C-9D6F-8C9AED5E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CE12-034C-46A7-B59C-0DC9BE3F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DBEC-B129-4572-BBAC-793BBA32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BB40-A8B0-4C90-9B27-C2DFAB37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73EA-C9AB-4B4C-9422-69AF9653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6AF6-E7BE-413E-AEDF-0AC1E5D08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986D-AB72-40A9-A076-144982D727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8a | Less than one eighth of Medicare spending is financed through beneficiary premiums, but this varies greatly by componen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8a | Less than one eighth of Medicare spending is financed through beneficiary premiums, but this varies greatly by component</dc:description>
  <dc:language>en-US</dc:language>
  <cp:lastModifiedBy>Jia Yao</cp:lastModifiedBy>
  <cp:lastPrinted>2002-05-16T21:44:34Z</cp:lastPrinted>
  <dcterms:modified xsi:type="dcterms:W3CDTF">2013-09-04T21:04:10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8a | Less than one eighth of Medicare spending is financed through beneficiary premiums, but this varies greatly by component</vt:lpwstr>
  </property>
</Properties>
</file>