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B93-9D1F-46CC-A3E6-166A6637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AC4-011F-49DF-B247-5C349EC9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6DC-250B-4C6D-A9C7-DC8FA039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A80-08B0-4C32-B7C2-D31D85C3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8F4-845D-4B94-9562-EDF032A6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7C1-AF23-4545-BC50-9D926FDC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770-CF30-43B9-938B-DFDC2890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AB64-CFBE-4050-82C9-B0C8FC3F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BA2-F341-4CCE-8020-0793654E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1B8-DD05-4293-888A-A80A298A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6A4-14AE-4F89-B8E0-A8F27F6F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89F-97BB-4F08-BDC7-C939DAA5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1102-ED3B-4384-A3A1-497D3F060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1120"/>
            <a:ext cx="9128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8Z</dcterms:modified>
  <cp:revision>44</cp:revision>
  <dc:subject/>
  <dc:title>PowerPoint Presentation</dc:title>
</cp:coreProperties>
</file>