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E076-F328-4F08-807E-4044F4E7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75FC-216D-47F7-8EE6-E2155364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261A-3F54-4F30-931E-052F2C328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9A95-DF50-4E6C-B7CF-9275A32A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9C16-72A8-4528-ADC7-FF956E36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924B-0AE4-4995-A5BA-19C21B74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9677-EB72-4027-8F1C-3790FFD7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C57F-BA30-4B9F-BBFA-CB679085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AC8D-5367-49DA-94F6-87F2FA51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6AEC-C535-46C4-9940-D55FB7A0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DA12-C011-4CE3-A10F-E80262CF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48A0-C74B-4EBC-B00B-FA1E411E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440F-94D9-4DB8-AB43-6EE5BDC31D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84240" y="990720"/>
            <a:ext cx="8975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9Z</dcterms:modified>
  <cp:revision>43</cp:revision>
  <dc:subject/>
  <dc:title>PowerPoint Presentation</dc:title>
</cp:coreProperties>
</file>