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1EAF-CB41-45DB-9894-7B7ED9EC4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B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3215-2E1D-4EA2-ADEF-0F7D83479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3B8-6720-411D-95EE-D951EC11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6B4-29E3-4C7F-8554-8CDE8C99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AA5-29E0-417D-B3EA-947B583B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E0C-D90A-43AF-8024-CDCEF301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4CB-BEB5-4850-B811-527AC54D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024-486E-4D68-BEC8-71961869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717-EBF2-4AFE-83E6-38065EB4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2B8-8442-4722-9171-4E30DAAD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BA2-3225-4754-8AB9-7564E334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0BF-9CC4-4A3B-865F-8D3C9F0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830-3557-4259-BA2C-AB16773D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2B7-ED03-44EA-B6B3-60FF8863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3175-7C20-4EEC-AF9B-10E31681B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440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b | Gross operating surpluses—a very crude measure of profitability—are higher in ambulatory care than in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ss operating surplus (GOS)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410080"/>
            <a:ext cx="83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gross operating surplus (GOS) is the share of industry national income remaining after deducting compensation of employees and indirect business taxes (e.g., privilege licenses).  GOS is somewhat larger than pre-tax corporate profits since it includes net interest payments and adjustments for capital consumption and inventory valu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b | Gross operating surpluses—a very crude measure of profitability—are higher in ambulatory care than in health facilities</dc:description>
  <dc:language>en-US</dc:language>
  <cp:lastModifiedBy>Jia Yao</cp:lastModifiedBy>
  <dcterms:modified xsi:type="dcterms:W3CDTF">2013-09-06T14:17:0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b | Gross operating surpluses—a very crude measure of profitability—are higher in ambulatory care than in health facilities</vt:lpwstr>
  </property>
</Properties>
</file>