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B7FD-DB51-48E3-BA3C-5036E2762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2EFE-6135-45EF-9FDF-34E3E59E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8A85-01B0-4433-AECE-C04466280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8852-782E-46D7-9534-36C38D805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8704-E405-4F8E-9E11-D221B032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3BAA-2036-4432-8C40-7C9506DD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ED50-7823-4841-B84D-926B060D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DAAD-AA31-4C38-AA41-60F478A6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ED98-9D30-45E2-8E45-E0F380E8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E3DF-8A9B-4456-88A2-94E8FF8B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A893-4DA5-4E4E-B4B4-59B0DCB5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4D55-C493-4A7D-A9BA-48A53623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FB9F-1E04-4F9E-ABF0-196434648F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65200" y="0"/>
            <a:ext cx="79246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54Z</dcterms:modified>
  <cp:revision>37</cp:revision>
  <dc:subject/>
  <dc:title>PowerPoint Presentation</dc:title>
</cp:coreProperties>
</file>