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B6-A5AC-4360-A6DC-1F0AC48B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427-CD1B-4F88-9B31-75F5F33C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84F-A55B-47D5-A0FF-882116FA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048-979B-4EA6-AE0A-0D283F92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923-EA75-420A-9D77-CE143144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435-128B-4FEB-BFA5-BCA44211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80D-8889-4FD0-AD5E-1C902C13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A8C-605F-4E4A-9FC6-8A6902DB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4C4-E507-482F-89EA-33F9F0F7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12F-4A8D-4644-B8C8-DF7D8D3A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FD7-742E-4884-AD3E-BCC1B49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60D-B99F-406C-A3DA-39BD084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FF31-9BF1-49DF-A1ED-684F9B518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23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3Z</dcterms:modified>
  <cp:revision>10</cp:revision>
  <dc:subject/>
  <dc:title>PowerPoint Presentation</dc:title>
</cp:coreProperties>
</file>