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0B5-9C59-4E32-8329-34170B7F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1A8-2F54-4875-9F8B-31167022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399-F3D2-4402-B439-D43DA62C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F2A-9F80-4483-9A81-36650A4D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55C-4873-4DAB-9F9D-4B325191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2A4-FE3E-43EE-9A07-552BAF31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FD5-F839-4565-AEC8-5970B03C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147-69FD-4805-A104-9A6759A2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A2D-4A42-493A-BC0A-CBEE934F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F93-774E-4BB0-825A-CE417FEC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E7C-98DB-43C6-96ED-51F1408A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879-EDC2-401E-9EF1-8551004F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1E8C-E48F-4A9A-AC4B-4202542DD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54200" y="0"/>
            <a:ext cx="76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6Z</dcterms:modified>
  <cp:revision>20</cp:revision>
  <dc:subject/>
  <dc:title>PowerPoint Presentation</dc:title>
</cp:coreProperties>
</file>