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25D4-9EAA-4F8B-87C9-BD8A00F37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B | PER CAPITA SPENDING ON NONHEALTH GOODS AND SERVICES, ASSUMING "MODEST" ALTERNATIVE EXCESS COST GROWTH RATES IN REAL NHE PER CAPITA, 2009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5019-9C85-48A7-9EB6-8B9ADE0DE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6EC-72E6-4318-BC7B-88355004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97B-3323-45D2-ACBA-2E891450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A78-B954-41E1-B061-8972E51F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6CE-D45E-4D4B-A825-A0521C52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8FB-3AB0-49B2-8BD4-A8E497CE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022-E284-4FDD-8470-EA66BE29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165-714D-40B6-90D8-E25B9373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2E5-ABAF-4DAF-82B1-8081D15A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D51-7ADB-4194-8DA3-995DDAD1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A19-242E-4BCE-BB18-80C250C7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3A2-AAB4-454C-ABE5-F3E40C52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882-076C-49A8-8BC3-B155DED0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C0B8-DB3A-4C22-A024-DA9B2F54D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4b | Non-health GDP per person could decline within 5 decades if excess cost growth continues at historical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n-health GDP per capita (2010 dollars using adjusted CP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905120" y="3200400"/>
            <a:ext cx="4267080" cy="4572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irst year non-health GDP per capita dec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7"/>
          <p:cNvCxnSpPr/>
          <p:nvPr/>
        </p:nvCxnSpPr>
        <p:spPr>
          <a:xfrm flipV="1">
            <a:off x="4267080" y="2742840"/>
            <a:ext cx="53424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8"/>
          <p:cNvCxnSpPr/>
          <p:nvPr/>
        </p:nvCxnSpPr>
        <p:spPr>
          <a:xfrm flipV="1">
            <a:off x="4799520" y="2590200"/>
            <a:ext cx="229320" cy="610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10"/>
          <p:cNvCxnSpPr/>
          <p:nvPr/>
        </p:nvCxnSpPr>
        <p:spPr>
          <a:xfrm flipV="1">
            <a:off x="5105520" y="2209320"/>
            <a:ext cx="1219680" cy="99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b | Non-health GDP per person could decline within 5 decades if excess cost growth continues at historical levels</dc:description>
  <dc:language>en-US</dc:language>
  <cp:lastModifiedBy>Jia Yao</cp:lastModifiedBy>
  <dcterms:modified xsi:type="dcterms:W3CDTF">2013-09-23T19:14:2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b | Non-health GDP per person could decline within 5 decades if excess cost growth continues at historical levels</vt:lpwstr>
  </property>
</Properties>
</file>