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0447-C516-4895-8D84-6A99D576F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A | SELF-REPORTED HEALTH STATUS OF ADULTS AGED 18 OR OLD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5062-BB98-44D2-B2CD-A58BBA555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F82-9984-47F1-9B68-1C0A1D44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E18-54B9-4F98-ACED-004BF4F0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9A7-3443-4282-BDEE-C77A8326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068-A7E9-4736-94EB-33BF6194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CB0-D7CF-4383-9628-1A284A79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D9A-6D39-4D66-A02C-5592C220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4B6-84D4-40B8-A9AF-BF167B74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114-38FC-4BFF-8FD0-FAAA20C2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DDA-C672-49EA-89BD-946E0893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5AB-62B9-4AE5-9BBB-ED79C308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CB7-7A6E-4F3F-A93E-C3822D46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4F2-7EEA-4025-B49C-9D16FE04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0C87-2EB6-4C6F-A6CF-6F505E88C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3.3a | Based on self-reported health status, the percentage of people in fair or poor health is highest among the poor and near-po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a | Based on self-reported health status, the percentage of people in fair or poor health is highest among the poor and near-poor</dc:description>
  <dc:language>en-US</dc:language>
  <cp:lastModifiedBy>Jia Yao</cp:lastModifiedBy>
  <dcterms:modified xsi:type="dcterms:W3CDTF">2013-09-06T15:16:56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a | Based on self-reported health status, the percentage of people in fair or poor health is highest among the poor and near-poor</vt:lpwstr>
  </property>
</Properties>
</file>