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54E5-118E-49C9-9ADB-5DF9B78F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3E6-E10C-4438-A3CD-7963243E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726-33E0-4286-9157-BF90AAED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B3A-BA53-4A74-9F26-FDE78D00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1F8-4857-4F1F-941D-1E17E9BA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23C-E81B-496A-82E9-254832AA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200-C586-4973-A33E-563F62B8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733-BA4C-4D25-B481-9CD875AE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7A8-3A62-4955-80DD-F932FD45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9F6-8179-4D6C-89EE-BABABEBD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6CD-D79B-4CE5-90BA-6E55A547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096-3C8E-43EE-9223-6CF6F68F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F28D-8F20-45BB-BBA9-7EAFBBB56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6320" y="1362240"/>
            <a:ext cx="8972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0Z</dcterms:modified>
  <cp:revision>24</cp:revision>
  <dc:subject/>
  <dc:title>PowerPoint Presentation</dc:title>
</cp:coreProperties>
</file>