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94B4-1916-44FC-9D01-8A753CB6A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.8B |HEALTH CARE SPENDING AS A SHARE OF AVERAGE ANNUAL PERSONAL CONSUMPTION EXPENDITURES, BY HOUSEHOLDER AGE, 1984, 1996,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5DCF-8907-4CD5-A9A2-AC02E10F8E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E992-B627-4688-A126-708AC6854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0FEA-C015-4A93-8D4A-55CCDD36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4084-194F-47C6-93F0-A899E774E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AED7-7D5E-4B59-A1E9-7E2E49A51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CE4A-8B56-495B-9C44-0F0CD633D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53D4-4495-4AE2-B318-8E292623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2274-1B2C-484C-8091-CB0CE796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6788-B12F-4737-9533-679003B2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EB6F-DFAA-4B5A-8674-3C37EB04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72E2-CBE7-415C-A4EB-DA3ECF16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9DC3-BABD-45FA-9CFF-0CBBFDA9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B936-7886-4CC7-8567-B764B144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27AC-C133-42E5-8936-77FD7DFF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B294-B8B9-41CA-A76F-060B2996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1F25-A2BD-4FC4-B7DB-90956F14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0181-D3A9-4E03-92D8-B2C51B73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F157-E177-44D3-B7DE-D61648BC4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32FC-F50E-4370-9752-7C1FA6E1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0A8A-99C1-4294-AD57-680331F3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EEC9-96EF-4CAE-8841-B7776084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24A3-25A6-4523-92F0-BC4CFB9C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98F8-0848-4736-8C58-89879075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A38A-B709-4521-AA1E-87D834A1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EC41-8361-481C-84F8-989A0DCA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FFD9-7E8B-423C-A236-E32A876429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1345-7138-4680-8E31-EC5BB5DE25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8b | Real household spending on health has increased much more rapidly in elderly households than in non-elderly househol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20704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8b | Real household spending on health has increased much more rapidly in elderly households than in non-elderly households</dc:description>
  <dc:language>en-US</dc:language>
  <cp:lastModifiedBy>Jia Yao</cp:lastModifiedBy>
  <dcterms:modified xsi:type="dcterms:W3CDTF">2013-09-23T17:01:39Z</dcterms:modified>
  <cp:revision>260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8b | Real household spending on health has increased much more rapidly in elderly households than in non-elderly households</vt:lpwstr>
  </property>
</Properties>
</file>