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03B69-72A7-4E31-B3B1-70D289EC353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4.1C | PERCENTAGE OF PRIVATE EMPLOYEES IN SELECTED COMPONENTS OF HEALTH SERVICES INDUSTRY, BY SIZE OF FIRM, 2007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A454C-4547-4AF5-9A7B-8CB8E374DB4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B21C9-1C6D-4B3C-9B66-2BB0F68E5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80B49-2C8F-4555-B6B8-C1B1607E0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84AC8-731C-469E-BA9E-8A89B203E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CB644-01AC-4E14-8625-BE60436B6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CDB37-969D-4D2D-8EF8-8DB1A91FF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24A2F-63D6-4127-BAE0-200C522C7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A32AC-CD9E-4A8D-8FC9-0D15AEFD1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18C07-3D21-43D3-9FA4-A61B28123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256DE-356C-443A-AFB9-9D088BCD6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F8FBA-8339-48A0-8DCE-413CD2397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2FFE0-98E7-483A-90A9-3A91DE97E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892A9-DC60-4A17-9EF4-E349AFE7D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23382-F4DA-44EC-AA50-310CB7C054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4.1c |  In the goods-producing area of the health sector, most employees work in medium or large-size firm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291960" y="1015920"/>
            <a:ext cx="8560080" cy="589284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457200" y="1447920"/>
            <a:ext cx="762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ercentage of total employees within an industry working in firm size shown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8T12:01:16Z</dcterms:created>
  <dc:creator>Kristy</dc:creator>
  <dc:description>14.1c |  In the goods-producing area of the health sector, most employees work in medium or large-size firms</dc:description>
  <dc:language>en-US</dc:language>
  <cp:lastModifiedBy>Jia Yao</cp:lastModifiedBy>
  <dcterms:modified xsi:type="dcterms:W3CDTF">2013-09-06T15:22:51Z</dcterms:modified>
  <cp:revision>284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14.1c |  In the goods-producing area of the health sector, most employees work in medium or large-size firms</vt:lpwstr>
  </property>
</Properties>
</file>