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0613-24EE-485D-9FB1-7102D5184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4D92-09B7-4DE4-B3E4-C9A8D12E4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1640-194F-49B6-9B88-53014E533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7ADC-35A5-4B81-9B8D-711C03CC2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5A34-4C92-4418-9D64-D2C06DBBA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9D9B-7AC3-4DE3-92C4-786D3B1DE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09C5-1C30-417A-B7BC-C107ACE76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998D-3748-4675-A379-2915CFBCC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9EE1-7C83-43BF-B9BD-4A8DBADB8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7B21-D544-4491-A0F5-4C203BCEB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5F1D-972D-4A65-A283-6CF959453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3EA9-C107-494B-8CE1-8204E17F5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6DCAA-B5D4-4303-A010-64D2011874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57240" y="76320"/>
            <a:ext cx="9086760" cy="67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50Z</dcterms:modified>
  <cp:revision>39</cp:revision>
  <dc:subject/>
  <dc:title>PowerPoint Presentation</dc:title>
</cp:coreProperties>
</file>