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F47-F28F-4F44-ACF3-8196F7BA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0DC-EA62-4000-8852-8DF2B17A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A73-2113-4778-BA8E-56C9A486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62F-60F4-4B36-85AF-2BBE779A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1EC-C854-421B-8ADC-2A2E19F8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ACB-D863-43CA-876B-11CE67D5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470-7666-4D6F-B5F0-5564DEFD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405-F18D-4955-AC1F-5CF73C64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FE7-7229-4FDB-B733-551D6D02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95D-843A-4D12-B751-55D92091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319-C547-4A20-802C-CCE0D2A6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DA3-F0D2-42F6-A6E9-F7509A3D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05FF-F1F9-4C83-B249-4ACA56539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5480" y="0"/>
            <a:ext cx="46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8Z</dcterms:modified>
  <cp:revision>38</cp:revision>
  <dc:subject/>
  <dc:title>PowerPoint Presentation</dc:title>
</cp:coreProperties>
</file>