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A574-76EA-4AC3-A8CC-14CF292B0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A173-AFB6-46AA-87C1-D63929186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2 | Components of Health Expenditure Growth, 1966-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5D2-12CC-49F6-98D2-C1F1E57E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D1EF-E01E-44FB-BDF1-12E2466D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822-1A40-4D5C-A768-C1717720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1C7D-383E-4FC3-8FC8-B8F6AB51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E4D8-F7CB-48D7-BD13-208EF011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F5E0-F8B6-4116-B8B4-5D0E8CBE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1766-ADFD-4B88-827E-FC3DD81F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4363-63B5-4FF2-8720-4C04ECCB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8C08-0E09-4FF6-A815-8D99D103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C8BB-7347-4A4C-86C5-A38AA9AC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56BE-4171-465B-9DB2-7DE644A0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D11-1DEB-4333-9FBF-F84A32DB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C823-EE8B-4968-9DC0-C6E20722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59EF-95DC-4118-BDA2-3F2BC55C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8716-DA01-4B6B-9630-62647209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8B2D-0F0A-4426-B998-5F4D149D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C760-A93F-4DCC-B236-AF221121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5D28-20B2-4897-891D-A94A7923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FAE6-6B3F-45FD-998F-A5B90723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95C7-9E56-4483-960C-DF78AD9D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1D7-0B6A-4578-8DD5-DD368820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1E5C-7FB1-4704-B5A5-3580AB95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681-A920-4627-BD27-7F45163E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5614-CCF5-4A59-A38B-32D09223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9BCA-C53E-4579-AA16-816C62BAFA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2A86-0D54-4B3A-BFE1-FCB0B70C22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2 | The role of technology on health spending growth per person is sizable regardless of the time-frame and assumption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2 | The role of technology on health spending growth per person is sizable regardless of the time-frame and assumptions used</dc:description>
  <dc:language>en-US</dc:language>
  <cp:lastModifiedBy>Jia Yao</cp:lastModifiedBy>
  <dcterms:modified xsi:type="dcterms:W3CDTF">2013-09-23T19:14:1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2 | The role of technology on health spending growth per person is sizable regardless of the time-frame and assumptions used</vt:lpwstr>
  </property>
</Properties>
</file>