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A43-4CC0-43AB-8BBD-AC871326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979-2D5F-4FAF-BDD1-AB441EF5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77A-BC33-43A4-8C37-EF9FCAA8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6C3-3FEF-4B3B-A1FF-36D2CAA9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F14-4BB2-4BE9-BE01-6CCD141B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8C3-97DD-4E72-9056-96C8E77E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903-23B0-48F3-8FB6-C67975F7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7D6-B7FE-4B5C-9038-C7261051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063-8F14-4069-98B9-FE70E664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91D-1C05-49CE-8D5F-744E3F3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2C7-4DB3-4E7B-97DB-CF4B0F22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AD0-F992-4E22-BA72-F7FA290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B76F-94E5-4A11-8E7B-42693801B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6Z</dcterms:modified>
  <cp:revision>6</cp:revision>
  <dc:subject/>
  <dc:title>PowerPoint Presentation</dc:title>
</cp:coreProperties>
</file>