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B146-F93F-4B5C-B0E7-12177977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4CD-EFDD-4BFD-BC90-7086E01A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600-AE9D-4CC8-A063-FE5CEBEF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5EF-2663-47CA-9489-8FC82377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582-AE26-4E17-9585-F80407BF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C62-38A4-4557-B640-11E368A7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ECF-13CA-47E8-B608-70299AB9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E76-5988-4AEE-B411-0D5873FA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DEAF-4F8D-4092-BCB9-A128C184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CA0-E224-4EFC-B8A3-29CE5D1D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80E-BFF3-46AE-B085-B31F4AD5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BA4-99DD-4940-84F4-DDC6DF17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930B-A63A-4D28-9E27-EF888EDAA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295280"/>
            <a:ext cx="9017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7Z</dcterms:modified>
  <cp:revision>39</cp:revision>
  <dc:subject/>
  <dc:title>PowerPoint Presentation</dc:title>
</cp:coreProperties>
</file>