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2E0-18F9-4A56-BE19-081A145E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B66-AFDA-4C1A-AA3C-46E7A262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423-E653-4385-A0F8-0574709F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2B1-FD65-4F5B-B0E9-F2B420B7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753-5EC6-4DF4-82CE-82BECF71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1E2-F5B1-4BB5-AA49-C4B959B9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657-9834-4B23-8C50-54C5FF78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48D-B2E0-4694-87A1-955C4DAF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2F6-CB30-41A4-A07E-79DACA1D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53B-ABB1-4883-924B-AEE0325E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30B-BE38-4E8D-9F45-C1ED8BD3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BCE-5247-4594-9F75-645117F3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FE61-1B49-4FA1-A94C-29F594B90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1Z</dcterms:modified>
  <cp:revision>14</cp:revision>
  <dc:subject/>
  <dc:title>PowerPoint Presentation</dc:title>
</cp:coreProperties>
</file>