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2D7E8-4FCB-4B60-9D8D-3094723722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0.5c | If 1 percent excess growth persists, almost 90 percent of GDP increases  will be devoted to health care by 208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A4AE0-1FD2-4124-BEC1-C7A3B74E6A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994F-0FE4-4C0E-A268-9AF6A041D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828E-3878-40D2-B76D-A8F369AFF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3AE8-7E52-46D9-9FA0-4E1A8F494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4732-6A1D-4EDB-B169-341320B34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B4A1-8F7A-43FD-B601-B123C6862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840E-CB15-459E-BB77-75D1B3160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E1C0-9CA4-465A-A334-0D1EFC0F9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F65F-5D26-4C7E-9C21-C61CA216C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F178-3E7A-4CA0-A430-D7CA2308F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A657-EAB8-4298-9479-01127D541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C199-B415-4602-AAD4-7CCE083EF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1749-BAD7-4E24-B91A-4864F013C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648C7-C03F-491D-9FF3-B92072B338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5c | If 1 percent excess growth persists, almost 90 percent of GDP increases  will be devoted to health care by 208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015920"/>
            <a:ext cx="8331120" cy="505476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685800" y="1295280"/>
            <a:ext cx="16002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hare of increase in inflation-adjusted GDP per capita devoted to health ca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5T19:35:40Z</dcterms:created>
  <dc:creator>Jia Yao</dc:creator>
  <dc:description/>
  <dc:language>en-US</dc:language>
  <cp:lastModifiedBy>Jia Yao</cp:lastModifiedBy>
  <dcterms:modified xsi:type="dcterms:W3CDTF">2013-09-25T19:36:19Z</dcterms:modified>
  <cp:revision>1</cp:revision>
  <dc:subject/>
  <dc:title>20.5c | If 1 percent excess growth persists, almost 90 percent of GDP increases  will be devoted to health care by 2085</dc:title>
</cp:coreProperties>
</file>