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F72-D22A-40AE-8F37-9315B030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96E-26FE-4D6A-9ED8-51781CB4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C14-E03F-4A4B-AD44-96F48050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86D-73C2-45A4-91D2-0F25C541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B2B-DB9A-4F17-B18F-C61CD597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A86-F6BE-4994-A36F-C23C221F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E0D-159F-4687-A107-E5064698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869-0288-4FBE-A5E1-E7CBFEF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82E-C7CA-407A-A3D6-41E46EC9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33A-BF4B-49D2-9218-D47B5A00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B64-F53F-4D40-8263-CF15959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EF9-6945-41DC-A72D-BFA00FA0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604D-6C11-4C64-8CC2-8DD3D23F7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5Z</dcterms:modified>
  <cp:revision>10</cp:revision>
  <dc:subject/>
  <dc:title>PowerPoint Presentation</dc:title>
</cp:coreProperties>
</file>