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13A-008B-45AF-946E-4D71FE8F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C6B-BCA6-435F-B1F2-E97FB76D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DD74-D8E1-4FC4-B72F-7682B6BB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77FF-678A-4ED4-954D-9FC6D4D4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76A-E227-4EC6-BC7C-5F295929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8EE2-94E8-4FC8-9DB0-9D26F2B8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94D-30FD-4188-A4BD-D497CC1B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1D8A-1B7E-40A4-99D2-C88ED391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F99-CC92-4D35-9BD4-1A313B96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986-AE67-4677-924D-59FAF461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963-E8C5-4566-903F-23422597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4EF0-3DFC-4F9A-972C-1505344B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68D8-2AB1-4FA9-AD3E-6CFA7310C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37960"/>
            <a:ext cx="90057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2Z</dcterms:modified>
  <cp:revision>26</cp:revision>
  <dc:subject/>
  <dc:title>PowerPoint Presentation</dc:title>
</cp:coreProperties>
</file>