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884E-2FE3-414A-8B75-DA03CEB4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9EB0-40F8-401F-BFAC-BE59A7BE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968-1769-4B27-A1DC-E4E81AA9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6F1E-CAA1-48C5-BB39-AA209D55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CBF2-0BE7-4AF1-9792-F2FEB2FE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A68C-6F9D-4334-B56F-511C6609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8483-F7A6-40F1-A471-4AC23A8C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6E4D-4D5C-4424-8AFD-E8563ED8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6636-7F3D-410C-9216-F5242BBB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7AC-9484-49EB-A419-391A1FA3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291-C9AF-43FF-9E38-4218E8C2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197E-4866-483C-8D1C-5D087B1B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6105-C0A4-4AC6-A5D1-816D25618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00160" y="0"/>
            <a:ext cx="87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49Z</dcterms:modified>
  <cp:revision>31</cp:revision>
  <dc:subject/>
  <dc:title>PowerPoint Presentation</dc:title>
</cp:coreProperties>
</file>