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366A-2C14-489D-BBAD-6278FF6F1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6CBE-0F51-45DE-89A4-098D5D3646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a | Percentage Distribution of Personal Health Expenditures, by Sector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997-96BA-4150-AC21-D9207543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C6B-9182-439C-905D-C9152CA7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F0B-8E42-4755-A296-B071E8AB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3AC-E712-4E09-BB77-EC04DFB6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E254-0066-45BC-8AC5-B4565B3E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72BD-53C1-4378-B157-C33314E5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9EA5-41CF-44DD-996B-B3CF574C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9DB9-0355-4971-B7E2-C696F30B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41CB-9329-4174-8A1B-B9B4ED62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1F5E-0B86-4441-AC5B-233D1B38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1752-6E36-4BB9-AAC2-4D3644E0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9BA-6C5F-4EDA-B618-A2AB6BFC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412E-BB05-4FC3-97FA-CDD57727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CAA0-8D60-45F0-B741-3F7778B1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9F7E-4BB1-44FB-8A9B-3A2353D8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3152-1829-4FFC-A863-76DF197C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D21A-DF71-43F4-9FE2-4C3A09C7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B14-2985-4CFC-895A-29081123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201-773B-45FA-825D-65D40183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15C-51D9-4998-9088-4FA6CE59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2C3-42A2-468C-AEF6-AC417CB8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EE5-9115-470E-B64C-0AF69F42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AB0-495A-4E95-B507-DD0F7AD1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E04-94BB-43A0-91B2-610603F5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3EB8-07EC-4A3E-B765-E8CBD5388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82EA-7D80-4BB5-96EE-03FC52CAF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a | Since 1965, the growing federal share of personal health care expenditures has displaced private and state health spending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Straight Connector 5"/>
          <p:cNvSpPr/>
          <p:nvPr/>
        </p:nvSpPr>
        <p:spPr>
          <a:xfrm flipV="1">
            <a:off x="1523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traight Connector 6"/>
          <p:cNvSpPr/>
          <p:nvPr/>
        </p:nvSpPr>
        <p:spPr>
          <a:xfrm flipV="1">
            <a:off x="3429000" y="152388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9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12"/>
          <p:cNvSpPr/>
          <p:nvPr/>
        </p:nvSpPr>
        <p:spPr>
          <a:xfrm flipV="1">
            <a:off x="44197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15"/>
          <p:cNvSpPr/>
          <p:nvPr/>
        </p:nvSpPr>
        <p:spPr>
          <a:xfrm flipV="1">
            <a:off x="53341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6"/>
          <p:cNvSpPr/>
          <p:nvPr/>
        </p:nvSpPr>
        <p:spPr>
          <a:xfrm flipV="1">
            <a:off x="6324480" y="1523520"/>
            <a:ext cx="0" cy="44197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7"/>
          <p:cNvSpPr/>
          <p:nvPr/>
        </p:nvSpPr>
        <p:spPr>
          <a:xfrm flipV="1">
            <a:off x="7238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9"/>
          <p:cNvSpPr/>
          <p:nvPr/>
        </p:nvSpPr>
        <p:spPr>
          <a:xfrm flipV="1">
            <a:off x="4038480" y="152352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273200" y="213372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a | Since 1965, the growing federal share of personal health care expenditures has displaced private and state health spending </dc:description>
  <dc:language>en-US</dc:language>
  <cp:lastModifiedBy>Jia Yao</cp:lastModifiedBy>
  <cp:lastPrinted>2002-05-16T21:44:34Z</cp:lastPrinted>
  <dcterms:modified xsi:type="dcterms:W3CDTF">2013-09-04T21:03:4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a | Since 1965, the growing federal share of personal health care expenditures has displaced private and state health spending </vt:lpwstr>
  </property>
</Properties>
</file>