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4DA-09EC-4994-8483-1FD4DEE1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840-65B8-46BE-AD35-03E5AF71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B44-2190-4067-83D1-DCC2E7D5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B5A6-68EC-4292-8B32-2E510911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D4A-00E0-43C1-8905-93893A83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70B-8B72-4640-A506-F4AEE6E0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B53-FC38-4602-AE1B-61ED80BB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9FD-D36C-4F26-8A77-FEB9DB5A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1FB-E1A6-4094-BF61-28391937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160-E3D0-4237-8FBE-E7F69A10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A9D-9617-45DE-B304-9B9C08B3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D4C-9265-41E8-A863-22BD2735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59AA-EAD0-49CA-AD6D-5915EB97F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5560" y="1523880"/>
            <a:ext cx="9092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7Z</dcterms:modified>
  <cp:revision>28</cp:revision>
  <dc:subject/>
  <dc:title>PowerPoint Presentation</dc:title>
</cp:coreProperties>
</file>