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8744-5CD2-434F-B120-CF82478E0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DC50-ACF5-48D8-A39D-F3F2F1F0F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09BD-AB11-4636-A654-F287758D7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655C-6828-4FBF-9710-7D48E8295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3059-1C35-4836-BC5B-84FD04D6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F694-E884-4AC5-BA47-C54730E72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2D31-8A14-4E92-BBB7-93440E78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D5B0-95FA-4B56-9F1E-8A36E74E6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AFC3-70DF-4CFF-91BA-59E0A01E1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DCE9-C4CC-48ED-AC9F-29D57B4A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1699-2FFB-4404-8ADA-656F2A78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A711-05D7-4E13-A696-60C3C7F0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D2A69-10B4-4086-BE78-BDF0FA9B9C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93680"/>
            <a:ext cx="9094680" cy="64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2:10Z</dcterms:modified>
  <cp:revision>12</cp:revision>
  <dc:subject/>
  <dc:title>PowerPoint Presentation</dc:title>
</cp:coreProperties>
</file>