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E7D8-DC0C-4A44-8C84-C1DD00835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BBD9-CF3D-4C6A-84E6-678A15C8E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4F98-7435-4AD4-B73D-E43F63CE9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92B9-D192-4DE0-930F-0064525BA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B1BE-9AB0-4480-8D04-2A56F2112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3606-371D-4A4F-9402-9049C01ED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9398-42C1-4B6A-B3B3-40EDE19E3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F246-F660-497D-A59B-20CB7EDFE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DCB3-03AF-4ED7-A32E-4B76D143E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7CB9-2D80-4578-B87C-967937AF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63C1-DE5C-42CE-8990-64F9878C0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E362-B71B-4AA0-9736-0B9F048D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E3F9E-547C-4278-8807-AA6715E5D9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2320" y="1371600"/>
            <a:ext cx="9099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35Z</dcterms:modified>
  <cp:revision>26</cp:revision>
  <dc:subject/>
  <dc:title>PowerPoint Presentation</dc:title>
</cp:coreProperties>
</file>