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052-E249-44DD-BBFF-8190F212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823-1B90-4016-AD9A-BBDBED77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991-504E-4DD3-9202-46DF17AA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FCB-7405-45C9-919C-C6BFC545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F51-D698-413D-BBBF-DD0526F2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18D-A029-4147-9A3F-0B77EF6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780-3268-4B74-A92B-CB880A84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724-922C-41AD-AFC8-B85E8020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710-A021-4485-BA2C-8733C136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EF2-0DD9-4AC8-BEE3-697959C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357-BD05-4A76-82AD-A76883E1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173-A543-403F-8BDD-82198CDA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20F4-F18B-4C7D-B7CA-062922AE5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" y="990720"/>
            <a:ext cx="912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0:52:45Z</dcterms:created>
  <dc:creator>Jia Yao</dc:creator>
  <dc:description/>
  <dc:language>en-US</dc:language>
  <cp:lastModifiedBy>Jia Yao</cp:lastModifiedBy>
  <dcterms:modified xsi:type="dcterms:W3CDTF">2013-09-06T20:54:08Z</dcterms:modified>
  <cp:revision>1</cp:revision>
  <dc:subject/>
  <dc:title>PowerPoint Presentation</dc:title>
</cp:coreProperties>
</file>