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FE2-A2AA-4F81-8998-9D32E0968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PUBLICLY TRADED FIRMS FOR PHARMACEUTICALS AND MEDICAL PRODUCTS &amp; EQUIPMENT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78B-0BB9-4EF4-AA6B-4323E935B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49B-0E5C-4139-89ED-AE164001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335-353E-4ECD-9CD0-8962C08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32C-6064-4A1E-9D23-3F46AE80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581-FBA6-4FFC-AA62-361D6E2B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5C7-37E0-4FE7-AAE0-27E6C440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F1A-5316-4874-A3A6-557537D7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06C-1C21-45B1-BD89-A79BBDE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0AB-C27D-4654-9DC1-EF77F009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164-A340-4B84-BFAF-07308D98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4F8-17F4-4BC4-832B-B131DFF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E50-2F44-4330-A975-438ACBC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C0F-2931-4F7A-8460-0782488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2701-FCB1-4907-B41D-0E227AE18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8680" y="12193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OR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Jia Yao</cp:lastModifiedBy>
  <dcterms:modified xsi:type="dcterms:W3CDTF">2013-09-06T14:29:0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