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57F-BB8F-41C1-A197-FF2C2597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661-1216-4B02-87A2-4BC2283E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DAD-85B0-4036-8D79-C793F735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D53-1DD9-4015-A0EB-0798C869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956-05B7-4619-9906-0B7E29ED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614-3C4F-41A1-9A61-D8DDAF19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BFB-1941-4643-B792-DC658D16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D5F-D737-42EF-83CA-68EBDE21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18C-5585-406C-9EB8-4B3DB6C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E4B-F379-4AEA-867E-5394E29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82F-C54D-4A80-B489-46E1EBB3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B62-634C-4EB8-A2EF-6ACD0E20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9D75-8330-47E1-8B89-BD1856035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6Z</dcterms:modified>
  <cp:revision>18</cp:revision>
  <dc:subject/>
  <dc:title>PowerPoint Presentation</dc:title>
</cp:coreProperties>
</file>