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050-E282-4367-98CE-88E8C995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D2E-2781-43E6-BB34-1CF4A388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BA7-F2E3-403F-9BBC-ECF48B79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EAB-899A-47F2-951D-50C15D78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BB3-66B0-45B9-9286-E24BCDB1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5A0-4D0E-4199-8999-C65BEF01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DF3-DD8E-4106-A357-6BE1E4E0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07B-DFD4-48C8-A1E3-B9C949AF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005-8D8F-493E-8684-9FAF5B88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4A5-3291-46C1-B4EB-53492B50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067-6A61-4AF4-9E80-3E321084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80D-A7BE-4DB4-B600-8E614937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8665-318F-4FD4-BD9A-A03D81846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1000" y="1066680"/>
            <a:ext cx="898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8Z</dcterms:modified>
  <cp:revision>40</cp:revision>
  <dc:subject/>
  <dc:title>PowerPoint Presentation</dc:title>
</cp:coreProperties>
</file>