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E758-ECFE-4D61-8B03-C2E9A0D4B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9186-3FAA-4A5E-BF00-A257E779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2ECB-3921-4E9E-A7E3-1055A8589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E86E-D061-443F-B66E-D87F7C8F1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D3FD-4874-4989-9B91-E4625A5A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9C35-27AF-4773-B325-1167D8C4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A8DC-A074-4A3A-BA27-AEA54E32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D145-8386-42E4-A259-0F83E04B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6F8A-A4E7-4729-ABB8-55C3B748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B7CC-1F5F-448C-848B-2D7E1E05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D907-BC40-4672-A549-8C89E71C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7031-93AF-4C2C-9909-D62BFB1B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224E-E5DE-431D-8CAE-6DB38A4D23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35080"/>
            <a:ext cx="9144000" cy="63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7Z</dcterms:modified>
  <cp:revision>22</cp:revision>
  <dc:subject/>
  <dc:title>PowerPoint Presentation</dc:title>
</cp:coreProperties>
</file>