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3FD-0A35-4B55-8949-4AC685AE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CDA-5955-4E0A-97EE-885B5308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B6A-9A74-4F7F-90BE-F14B88BE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924-0CD7-484F-B6D3-916F1AE1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03F-EA15-40ED-8640-0CD01D4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F93-60D2-41E7-9CA3-F4698810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A71-E5D5-4966-9B8F-EE49107C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B50-7672-4B52-8F89-E31D9108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CBC-AB2D-487D-9477-0E58D3B4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536-F838-487D-B107-B929ED8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7F1-8FA2-4073-A379-B1F89C85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B32-F9AD-4AEA-A285-305DA351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B9C7-C557-4500-AA84-C980DE09A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896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4Z</dcterms:modified>
  <cp:revision>37</cp:revision>
  <dc:subject/>
  <dc:title>PowerPoint Presentation</dc:title>
</cp:coreProperties>
</file>