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041F-DBA4-43F3-9BD1-D7BC251B2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40C3-CBD1-4B0D-92F2-391518822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116D-851C-4AFE-B2B9-5175BA798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4EAE-C53C-492B-990F-F5115CD74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CA05-AD79-4F69-AF4D-E4067894E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4097-E8D5-4525-BD83-A3030229A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CE13-B5A2-4569-95B7-31F1F6459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AEF5-643C-4729-9C82-57084AEEF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5560-755D-453F-A48D-550D41E5F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4F96-21F8-4025-8E28-4627739D6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6734-0747-49FF-92BE-0D666C89E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AE2E-FE1B-438F-A7B6-478F13AB6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4DCA0-BCD6-4528-8A85-F8BF66468D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60480" y="0"/>
            <a:ext cx="9023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3:32Z</dcterms:modified>
  <cp:revision>14</cp:revision>
  <dc:subject/>
  <dc:title>PowerPoint Presentation</dc:title>
</cp:coreProperties>
</file>