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3F50-9788-45E8-82D7-B151C3A72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6CFA-55D5-4D96-8999-1C7F64DD3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73F3-011C-47C5-BAF5-114089506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463F-4BE2-4D0D-B138-631D3B478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0FA1-460B-455B-B82A-1C5AEFFE5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C731-6467-4E92-A8D8-008D34C22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35CE-2B73-4696-A1A2-CF7757C60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110F-8F42-4E7C-9610-126298FE6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8E52-DDA7-4762-81CB-6232C831D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4D26-357C-4622-85DB-4CD312E6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9A88-AE3F-4CED-A7E1-5FD5421C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8183-978C-4CD2-8211-3EE6988E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8554F-0B98-46C6-BB06-1CAC9775A5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43Z</dcterms:modified>
  <cp:revision>38</cp:revision>
  <dc:subject/>
  <dc:title>PowerPoint Presentation</dc:title>
</cp:coreProperties>
</file>