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92AA-8BA0-47DA-AA5F-40D584CA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35EB-8610-47B0-9B7F-895F8139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798-BAAE-4E21-AEDB-FEABFC45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22D1-1C8C-48DF-89FF-30D424EC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4F6-7B8D-4494-9220-738E2642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948-DEEB-4335-B8FA-6B0A4B17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589F-C59A-4460-B24B-00952874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34B-07F5-417A-A53D-908CD412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049-319C-4432-8096-A860595A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CA75-A7C8-4A5A-AAE4-60AA8245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5A3-8428-4F18-9B50-3FFD8435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8691-5C40-4227-8273-D5D3C285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C4B4-9C39-417F-9237-1CA19C6CB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6160"/>
            <a:ext cx="906768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8Z</dcterms:modified>
  <cp:revision>20</cp:revision>
  <dc:subject/>
  <dc:title>PowerPoint Presentation</dc:title>
</cp:coreProperties>
</file>