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33AF-9C56-414D-A166-D029C4822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A | HEALTH INSURANCE COVERAGE, BY POVERTY LEVEL, POPULATION UNDER AGE 65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9884-DEE7-4397-B6B6-1FC126D05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922-0CBC-4146-BE11-FDA0CB03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B1D-1428-4A04-85DD-A2E2911C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3CF-35FD-4963-B093-536D6B94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E38-E98F-49F8-A2C9-B9B200EE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77F-D344-4F8F-B54C-D9653F98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DE7-3762-429B-B526-07BEF3BB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63E-C138-4825-8E1B-8632FCF1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EBE-518B-4F91-A7FD-D7D66FE5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94B-A221-4BFA-8C11-D5120CC5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186-5BAC-44B6-A5BA-01E8FFE5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5B5-6C17-479C-AF71-403CCD09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1BF-45E7-4AAC-89B9-00E3147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E78A-257E-4C27-9446-1CB161F7B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a | About half the non-elderly poor have government insurance, while one-third are uninsured; the uninsured rate declines with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95480" y="149868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with coverage shown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a | About half the non-elderly poor have government insurance, while one-third are uninsured; the uninsured rate declines with income</dc:description>
  <dc:language>en-US</dc:language>
  <cp:lastModifiedBy>Jia Yao</cp:lastModifiedBy>
  <dcterms:modified xsi:type="dcterms:W3CDTF">2013-09-06T15:17:3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a | About half the non-elderly poor have government insurance, while one-third are uninsured; the uninsured rate declines with income</vt:lpwstr>
  </property>
</Properties>
</file>