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9245-9DB8-46AB-A7C2-8E921E7DD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BEEA-39FB-41BD-B32B-EBCC761A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2960-BD5A-40EC-A468-69F429B1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5132-346E-4877-A652-A624AE88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BD73-58BB-4AAE-B004-CB0B78E7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4F46-BF10-456D-AD8A-5134DB74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169F-CB0C-4F07-A94B-F9453025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C14E-8EB4-4BB4-97ED-411D9156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4283-A0B7-49AF-979A-C6B046AE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CFDC-D4C3-43A0-9AF0-C08FD37C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6143-02FB-481E-9021-F65FF1F3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A9B4-E3C6-4621-A2E6-CF487D49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0301-DB02-44A2-BBD3-B950CC740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69880" y="0"/>
            <a:ext cx="800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3Z</dcterms:modified>
  <cp:revision>37</cp:revision>
  <dc:subject/>
  <dc:title>PowerPoint Presentation</dc:title>
</cp:coreProperties>
</file>