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024-6508-4EFB-AE2F-B7A2FE2D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A91-726B-4FFF-BD12-639DF236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B36-4162-4A1A-AB2A-C27AF6B9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782-7F3B-41A2-BCF3-45CD560D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002-7CD7-48CC-89A1-71B894A3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02F-E469-4AE9-BAE7-40FCD63D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9C5-19E6-46F5-9FA9-F6BBAE15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588-5796-49C6-95FB-EC0E374F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996-01A0-427F-BE68-6A144F8F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112-92F7-43C0-81A3-AA3E3A83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61F-AC55-4885-A9D8-2BA41987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828-DE71-4D2F-9336-13430DE4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FE70-84B8-4501-B308-82D64E66D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0200" y="0"/>
            <a:ext cx="882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5Z</dcterms:modified>
  <cp:revision>37</cp:revision>
  <dc:subject/>
  <dc:title>PowerPoint Presentation</dc:title>
</cp:coreProperties>
</file>