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26BB-80FA-4855-B986-979A047A3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7DB8-6F01-476D-AD52-75C14C89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A875-EB7A-4241-9E1D-8E9A2BF22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BB61-A07B-49A5-A6F2-7333DE36A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F85C-6B4E-441B-95C4-38599299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3698-BEF4-4744-B40B-E3F6D00C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DBD2-2956-45E6-A260-DA5DFF1A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7191-5FFE-4962-BE33-1FB5F61E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76CF-154B-438C-89BD-14B7D5F0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EC0D-80CE-455B-916F-E02D5500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B326-E9BB-48C1-ACA7-77B33ABB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EC93-FA31-4935-B659-233BC654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A77C-D922-4E50-8CBB-B38E986403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1400" y="152280"/>
            <a:ext cx="90612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4Z</dcterms:modified>
  <cp:revision>39</cp:revision>
  <dc:subject/>
  <dc:title>PowerPoint Presentation</dc:title>
</cp:coreProperties>
</file>