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FB8-5CB7-4B00-8B6D-B0CC5B5B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710-7385-4779-9369-9A5773B5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9C2-38AB-4CE2-A48B-AAB2F197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4AA-8214-4DAF-88EF-C49A1E74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2C4-AF26-4603-BF3B-1BEFBD51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B4B-5E7E-4808-8952-3DADFE53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576-36B0-409F-82F4-8B891AAC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04B-37FD-4C33-A052-F411F17F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727-218C-4AC3-8F64-047A9DF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3A3-F602-4E51-BC2B-40136A6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ED1-E6F6-4233-BF8F-CF9CFEAC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89A-9690-4C25-B5C8-A69F8CA8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58D5-540B-44E8-8B31-B351A7F07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2Z</dcterms:modified>
  <cp:revision>39</cp:revision>
  <dc:subject/>
  <dc:title>PowerPoint Presentation</dc:title>
</cp:coreProperties>
</file>