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09E-3F97-474E-A7D9-560CA72A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A06-78CB-41A5-B381-1A80E2A5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FF7-28BC-4214-9B9E-CA575CD3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F04-5EA7-44E2-B3FE-DF1B00E1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4BB-C4C9-47EE-AF55-6B64BC9F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DF8-F170-4EDA-AC32-6A5941C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FC1-6FCB-4887-B9A3-66B07E48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D92-CEA7-4333-9661-6CAA3D95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187-7622-4DE9-8FE6-1520744C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2BA-A202-4185-B62C-9C5E4938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ED9-F82B-4111-8302-F4DE33CC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315-DB77-40C0-90EB-2509B564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38DD-F6DA-41F6-9D1A-1067716E1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1Z</dcterms:modified>
  <cp:revision>37</cp:revision>
  <dc:subject/>
  <dc:title>PowerPoint Presentation</dc:title>
</cp:coreProperties>
</file>