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A96-6CEA-4DDB-BE9F-A0F3DB78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976-2C6E-4042-BB3E-FC64F11B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016-A323-4EA6-8158-71F2A5DC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EA4-9104-487C-9BD1-0C403455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C8C-8BD6-46EE-831C-2CC269F3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F77-DB3B-4E1B-93A3-1859B9E5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1D8-67DC-4EC4-B7D5-4CEB61D4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76F-6430-4C35-8BDA-042E89E8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A88-7C76-4B0E-AF09-7D890FAF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CB0-12ED-4511-9C6F-3607AAF8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C54-6B50-4911-A32F-7890620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33D-C574-4366-A28D-032A0EC4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B53E-04CA-4FFD-A89B-125062462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446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4Z</dcterms:modified>
  <cp:revision>14</cp:revision>
  <dc:subject/>
  <dc:title>PowerPoint Presentation</dc:title>
</cp:coreProperties>
</file>