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D81-5276-4F9D-A301-0CCEDE12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44D5-7B03-47E0-A58B-DD727F29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64C-E5C3-4ABB-A30F-9C2E1501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821-9430-46AD-8F1A-D8E5A6B4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1CD-6D13-41F5-BABF-7B41611B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869-6F1D-4B87-AD9A-DEDAD4BB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D2CC-959C-4D58-8B65-8B03CD78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180-E029-48F5-BB1C-8CAAEE56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0315-A3C2-4E27-8DB3-23550C62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5CB-389F-4AE3-A892-69D727FF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634-7B33-4C20-B56E-99300F50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5D37-AFA1-4A0D-A3BA-2D2F17C2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0698-D63F-4FF2-81F3-D4B8D1CB7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2120"/>
            <a:ext cx="913608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3Z</dcterms:modified>
  <cp:revision>39</cp:revision>
  <dc:subject/>
  <dc:title>PowerPoint Presentation</dc:title>
</cp:coreProperties>
</file>