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572C-EACF-4737-A001-1C74020C1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D74E-40B5-40D5-815B-650620C59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DA11-982B-4B59-B223-EE3661C8D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85EC-93BE-469B-92A9-6E3630359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9093-6459-4804-8D0B-D2C734F4F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88DB-88C8-489B-A5D0-CE70FC8F5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4F7E-5437-4D90-AB7C-BEAF91518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2B00-4518-48AA-B06D-F2FC2CAEB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2FA0-4F9E-4762-A50C-72A63C37B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A882-DB24-464C-B407-235D0ED2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0FF2-C831-43D2-BFC6-13F239E6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2502-3C2B-480D-BDF9-6D133101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2A4AD-20B6-4E72-8E07-1E925D73B8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6360" y="228600"/>
            <a:ext cx="90712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48Z</dcterms:modified>
  <cp:revision>28</cp:revision>
  <dc:subject/>
  <dc:title>PowerPoint Presentation</dc:title>
</cp:coreProperties>
</file>