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8CB-1BA6-43ED-BDC6-87F36695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876-A3EA-4BB2-A92F-C3449354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285-E119-42C4-BD62-930F5D8B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3903-005D-4809-A902-CF5CD12D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5D04-23BB-4A76-A135-36C9FFF7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CE3-CA93-4E04-BDB0-CCC01F5C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6F2-0909-4755-8AC7-0AF82EC5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854-C6FF-499C-AE55-0A9E35ED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657-6A7D-421C-8742-87A3C1CA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A06-0115-4452-AF81-08B0D459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059-A9B0-426F-A395-B0C3F512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B35-AE96-4C40-842A-2BDB1E13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6A32-A79C-4F13-AE7F-892891D54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-4680"/>
            <a:ext cx="88329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4Z</dcterms:modified>
  <cp:revision>30</cp:revision>
  <dc:subject/>
  <dc:title>PowerPoint Presentation</dc:title>
</cp:coreProperties>
</file>