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68AF-3F7F-47EA-A6D2-D62351A15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2B | FEDERAL HEALTH EXPENDITURES WITH TRANSFER ADJUSTMENTS AS A PERCENTAGE OF TOTAL FEDERAL, STATE AND LOCAL HEALTH EXPENDITURES, 1929-20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B213-C1EB-42C4-B23B-1F8FE4FA1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27A-CD96-454C-8F37-6E24D670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3B0-6DAC-4480-9E0D-5F953422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C82B-C66A-4331-8E7B-2AB1D028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3F5-7EE7-4D1A-8CDC-F9B8E1CA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349A-AD05-4F5A-A42A-548E9E47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0AE-E545-4C75-A583-7D2DE72C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74A-0124-453D-BDC0-90933397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A4D-10C7-4D42-8DD2-8AD93DF5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FAF-F0A3-4BB9-8949-0699E3B3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8C1-A359-45DA-BF9C-E4CF9196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18D2-5C78-4B36-91A1-1D3A4E84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9B8-94B8-485D-A84C-C7DEE81A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8E22-68B8-46CB-B8BA-AEB142A97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2b | Taking into account Federal transfers to states for health, the Federal share of government health spending exceeds 70 perc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84440" y="1676520"/>
            <a:ext cx="459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ederal percentage of total government health expendi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2b | Taking into account Federal transfers to states for health, the Federal share of government health spending exceeds 70 percent </dc:description>
  <dc:language>en-US</dc:language>
  <cp:lastModifiedBy>Jia Yao</cp:lastModifiedBy>
  <dcterms:modified xsi:type="dcterms:W3CDTF">2013-09-06T13:59:32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2b | Taking into account Federal transfers to states for health, the Federal share of government health spending exceeds 70 percent </vt:lpwstr>
  </property>
</Properties>
</file>