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B3F7-D271-4966-9BF9-15A19A620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2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10B2-8473-4D83-B2AE-1BA0ED2F5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A54-1541-49C6-94E7-60A2AF62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16B-D8DF-490F-B4F5-F7B23EA3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9E7-D38B-44BE-8E0D-3B886B65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FFC-C920-4FF8-BBD2-CD1E632D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9F2-124C-48D8-BDC2-57BC0B36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D6E-D992-4895-9A1A-46F4E840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EF9-E727-4C47-A96D-9C2425FC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7ED-D94D-4EE4-924C-3F6086EA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E0B7-3AEC-4EBA-A064-A8CCA897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024-8F91-4F98-A0D7-F9F950B4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0E8-F5DE-4E06-A88C-CE6BDAB0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DE0-F90F-4714-9CA5-4A2712A7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8814-864F-4F24-BAC0-6C1CF50E0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2 | Most tax-exempt firms are voluntary non-profit agencies; government accounts for only about 10 percent in most  sub-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609480" y="60181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Medicare and Medicaid are categorized as government health plans. Percentages for health plan enrollment sum to more than 100% due to duplicate cover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2 | Most tax-exempt firms are voluntary non-profit agencies; government accounts for only about 10 percent in most  sub-sectors</dc:description>
  <dc:language>en-US</dc:language>
  <cp:lastModifiedBy>Jia Yao</cp:lastModifiedBy>
  <dcterms:modified xsi:type="dcterms:W3CDTF">2013-09-06T14:09:50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2 | Most tax-exempt firms are voluntary non-profit agencies; government accounts for only about 10 percent in most  sub-sectors</vt:lpwstr>
  </property>
</Properties>
</file>