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3EBB-35CB-4753-BD7E-0E3E342C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8B62-CEFE-49D0-9E69-AB37E66F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FC2D-38E5-46C9-BD36-B3CCDEFA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08A-D572-4F5B-AFB1-18181DAA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F6EA-CC95-44F9-9406-8D1DFE46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FBE8-A7F5-42CE-B4C4-9007C584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FA7E-F2FD-4A27-AFBA-20468406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C8C7-C9C1-4A55-AF94-2EB7A6E8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5495-EFBA-4E9B-A37F-F8C2252C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DE9E-A0DD-46A8-886A-7C01EA35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71CD-4BBA-46A3-A6D9-6DFCC864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4EEF-E2CE-4966-8E52-72D2C8C7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FCD2-EFC4-457A-A06E-83C3498285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480" y="380880"/>
            <a:ext cx="91310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6Z</dcterms:modified>
  <cp:revision>39</cp:revision>
  <dc:subject/>
  <dc:title>PowerPoint Presentation</dc:title>
</cp:coreProperties>
</file>