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D8AD-E601-44E8-B764-A799B21C0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c | Output per Hour and Output per Unit of Input Indexes (1987=100), Medical Equipment and Pharmaceutical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7976-EADC-4345-AA5A-97751CA93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ACE-ADB9-4155-9097-A5BD04D7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0BA-22A1-4A0A-956F-5D2D29A0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5B8-6775-4507-A71B-12CD14C1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D82-714D-40ED-9ADE-2B35FD57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22E-B5C1-4631-9F17-1407EAF1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359-2AFF-4905-8969-A43C0D13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BFA-D783-4897-9B03-2CD6E642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686-44D2-4029-B07F-FE7F2B56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0BE-A5F8-4B04-AC2B-A1CA28F8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9F5-3EBD-4D7A-9B01-E7C82122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349-D670-4595-ADAE-1999A1AE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448-3337-4B52-901D-2C284002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164E-4336-470F-B889-2F9B82E41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c.  Productivity has grown much faster in the medical device industry than the pharmaceutical industry, where output per unit of input is f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c.  Productivity has grown much faster in the medical device industry than the pharmaceutical industry, where output per unit of input is falling</dc:description>
  <dc:language>en-US</dc:language>
  <cp:lastModifiedBy>Jia Yao</cp:lastModifiedBy>
  <dcterms:modified xsi:type="dcterms:W3CDTF">2013-09-06T14:59:1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c.  Productivity has grown much faster in the medical device industry than the pharmaceutical industry, where output per unit of input is falling</vt:lpwstr>
  </property>
</Properties>
</file>