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F2F54-2426-4A87-82FD-86960DB0EE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9.5A | PER CAPITA DOCTOR VISITS, DENTIST VISITS, ACUTE HOSPITAL DAYS AND PHARMACEUTICAL GRAMS IN G7 COUNTRIES, 200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CF763-FCBC-4F29-972C-DB3871A3B8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A3A4-BA96-4D00-8457-3225C0834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2DA0-0125-4674-AADB-EA5281BF3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C9C6-0D2C-45AB-A4C7-6BD11AF38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279D-525C-4D04-9C2B-A6FEDABED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2D82-ADB8-4B52-A447-1A1B2191C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2B30-A81A-43CF-AA18-098E418DD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5010-64FD-41C0-A4F2-0BB15728A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46E7-170C-4149-964B-680D29271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6706-6D3D-4269-A189-2763AC18D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1C14-416F-40A4-8BC5-C4050BF44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E057-CE68-45B8-A2C8-67544B82E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8CEE-E4C9-4F16-A3A3-3F057B466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00E97-E7ED-4404-BC9F-54701CB973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9.5a | Relative to G7, the U.S. generally has lower utilization of acute care services such as doctor and hospital care, but not pharmaceutica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320840"/>
            <a:ext cx="8559720" cy="458136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533520" y="1447920"/>
            <a:ext cx="510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rcentage indexes: 100=U.S. rate of use (2006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6"/>
          <p:cNvSpPr/>
          <p:nvPr/>
        </p:nvSpPr>
        <p:spPr>
          <a:xfrm>
            <a:off x="715320" y="5851440"/>
            <a:ext cx="45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: figures for pharmaceuticals are for 2005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7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8"/>
          <p:cNvSpPr/>
          <p:nvPr/>
        </p:nvSpPr>
        <p:spPr>
          <a:xfrm>
            <a:off x="674280" y="6237360"/>
            <a:ext cx="57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OECD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OECD Health Data 2010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– Version: June 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6:26:20Z</dcterms:created>
  <dc:creator>Kristy</dc:creator>
  <dc:description>19.5a | Relative to G7, the U.S. generally has lower utilization of acute care services such as doctor and hospital care, but not pharmaceuticals</dc:description>
  <dc:language>en-US</dc:language>
  <cp:lastModifiedBy>Jia Yao</cp:lastModifiedBy>
  <dcterms:modified xsi:type="dcterms:W3CDTF">2013-09-06T15:40:52Z</dcterms:modified>
  <cp:revision>658</cp:revision>
  <dc:subject/>
  <dc:title>19.1a  Cost per Life Year Gained from Increases in Health Spending in the United States, by Age, 1960-20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9.1a  Cost per Life Year Gained from Increases in Health Spending in the United States, by Age, 1960-2000</vt:lpwstr>
  </property>
  <property fmtid="{D5CDD505-2E9C-101B-9397-08002B2CF9AE}" pid="3" name="SlideDescription">
    <vt:lpwstr>19.5a | Relative to G7, the U.S. generally has lower utilization of acute care services such as doctor and hospital care, but not pharmaceuticals</vt:lpwstr>
  </property>
</Properties>
</file>