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E84-B72D-48B7-BE1C-16A8D369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117-BAD6-4057-847B-7242B54F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936-AE7E-4206-9117-3CBDA8E1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8F9-89FC-4EA8-B8BE-37386347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FC3-9505-4C5E-871F-0976D9B2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F4A-3954-4375-800A-305C8E68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653-DE48-41C4-9FB4-2B45E2AC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C31-63A2-4CAA-9A02-E88DD460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D84-7A7F-4975-A576-AA1ABB8B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50F-8C84-4678-9DC9-AE63E5FF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281-06E8-48CE-8B05-2AA481E3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C78-123E-4EA9-AA83-3812A97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8B5D-CAC6-43D8-ADF5-21300284C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6Z</dcterms:modified>
  <cp:revision>14</cp:revision>
  <dc:subject/>
  <dc:title>PowerPoint Presentation</dc:title>
</cp:coreProperties>
</file>