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0FEF-0B5C-4D06-86BB-300B0C187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D75D-F83B-4CD2-ACD6-48F97E12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8FEE-57E7-43AF-8F02-FEFD5A194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1FCC-3065-43AF-9FAA-D060919BA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5A79-5C04-47D3-97EF-E6EB887D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FB3F-9ABE-49FC-BCDE-6FBACC6C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4D96-14AD-4B39-8082-91E585E4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92F7-09B2-4AC0-BFC8-68AF4432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AA81-A6E6-4C47-BA3C-2E6E0752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D489-1E83-4001-99FB-8461E644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80E2-0687-42E4-A356-617331BF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DCC6-DED1-4C8F-8A1E-8367CE4F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FA58-445A-4991-96C6-44C7A88806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60200"/>
            <a:ext cx="9144000" cy="653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Jia Yao</cp:lastModifiedBy>
  <dcterms:modified xsi:type="dcterms:W3CDTF">2013-09-03T18:47:42Z</dcterms:modified>
  <cp:revision>5</cp:revision>
  <dc:subject/>
  <dc:title>1.1a | In constant dollars, national health spending increased more than 60-fold over the past 8 decades, real GDP grew far less in this period</dc:title>
</cp:coreProperties>
</file>