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2CF-FD63-4F2D-B612-BA1C5CAD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3CE9-D472-4C56-B293-4637479B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C52-5A92-4510-B089-AFDE84C6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E30-D8B5-4570-91A8-29F23B99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EDD8-177A-439E-89B7-1105C660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BC3-9EA9-4DF6-B9D1-573D3AC0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760-4013-4431-96CB-B3282267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BED0-E669-43D5-9C34-A4584145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A10-F1B8-484D-8FD9-FAFA883D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E1C8-A236-41C1-AF9F-2774E8C8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9B7-8099-4976-AA98-C36347C8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3354-323C-4B3A-AD5C-173E6222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486F-4F1A-4697-B6F5-0517B58BB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6600" y="152280"/>
            <a:ext cx="907740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2Z</dcterms:modified>
  <cp:revision>31</cp:revision>
  <dc:subject/>
  <dc:title>PowerPoint Presentation</dc:title>
</cp:coreProperties>
</file>