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32FF-B8D6-456F-ADAC-BAF8509F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3511-5D96-4778-B159-42AB262A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8176-2A53-4C79-85F6-BEB319FA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3C9E-192A-422C-A825-638C2152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1DF6-4C50-4CAC-AEDF-4DA45FE6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4107-22C5-436C-8772-9D1123BC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E70D-AD1E-4D53-B487-8B13F3F1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1585-5CF6-4BA3-8114-FD145D2E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344-B5CD-4D42-9117-6C53E7AD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53F5-E910-454B-B4F3-CAE3681F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3824-18F2-4857-85DA-ECA2FF57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51E-7FFB-4FF7-B318-CE29FBB6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D76A-CB9A-4483-9CE9-9643BAF40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91960" y="0"/>
            <a:ext cx="856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3Z</dcterms:modified>
  <cp:revision>37</cp:revision>
  <dc:subject/>
  <dc:title>PowerPoint Presentation</dc:title>
</cp:coreProperties>
</file>