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C4B5-6AC0-4333-A1CF-5520B8463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6026-9080-4F54-9AF4-6D478DB8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E98C-8833-46CA-9D95-CAF554C87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9A9D-65D1-494E-A438-46A8DD417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59FA-FF8A-4D12-9D34-A20DB9F4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4026-C4F5-4EC2-A27C-533E27EF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1DA7-77C5-453F-B13F-05C37685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F861-10C1-4136-9647-72DBA0E1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9873-A5EE-44F2-9A25-EAB4FDBF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8F8D-88E5-421B-BEEE-DD34000B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A9FA-8847-47AE-952D-42A554CE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123E-95E2-477D-928A-C1A70BAD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BC4A-B7CB-4269-84E0-7773C3336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87480" y="838080"/>
            <a:ext cx="89690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5Z</dcterms:modified>
  <cp:revision>45</cp:revision>
  <dc:subject/>
  <dc:title>PowerPoint Presentation</dc:title>
</cp:coreProperties>
</file>