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A24FF-6059-4AC7-8711-DFB05F2768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6 | TOTAL GENERAL GOVERNMENT EXPENDITURES AND PUBLIC EXPENDITURES ON HEALTH AS A PERCENT OF GDP FOR SELECTED INDUSTRIALIZED COUNTRIES, 199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4B95-CE52-4B14-A1B9-F0B7488D5A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19DD-4E76-4C2B-9CAB-901AF393F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1896-CE68-44A2-B0B5-558FC67AB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6D66-69BC-48D5-BE7C-B02A0D5DB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3031-40A6-43CB-8FA3-AF41C62CA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C7FA-8149-4AE5-81CD-D136A8393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46FE-D4E7-47A0-9B57-2436FCF67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64F1-C6B3-4F0B-94A1-17A9DA549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3E71-6830-44BB-9F83-72CC66794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B2C8-D10C-427E-A3B4-1773A6293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E707-A68F-4FC5-88AA-48ED5B77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FD95-45A5-4735-93CD-349B62AB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B060-B8E5-45DD-B572-3FA6F1D7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8D715-969A-434C-9404-98B23BCFEC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6 | Lifetime Medicare benefits grew fastest for low income workers, yet even for high income workers, net lifetime benefits exceed $30,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96800" y="1092240"/>
            <a:ext cx="8331120" cy="459720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47560" y="5867280"/>
            <a:ext cx="8062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 Steuerle CE and S Rennane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Social Security and Medicare Taxes and Benefits Over a Lifetime.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Urban Institute. January 2011. http://www.taxpolicycenter.org/UploadedPDF/social-security-medicare-benefits-over-lifetime.pdf (accessed June 10, 2011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47560" y="1504800"/>
            <a:ext cx="746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Net lifetime Medicare benefits (own benefits minus own taxes paid), 2004 dollars in thousan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6 | Lifetime Medicare benefits grew fastest for low income workers, yet even for high income workers, net lifetime benefits exceed $30,000</dc:description>
  <dc:language>en-US</dc:language>
  <cp:lastModifiedBy>Jia Yao</cp:lastModifiedBy>
  <dcterms:modified xsi:type="dcterms:W3CDTF">2013-09-06T13:59:43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6 | Lifetime Medicare benefits grew fastest for low income workers, yet even for high income workers, net lifetime benefits exceed $30,000</vt:lpwstr>
  </property>
</Properties>
</file>