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E775-0078-438A-81BD-C292186CF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B | POVERTY STATUS OF UNINSURED, PERSONS WITH PUBLIC COVERAGE AND PERSONS WITH PRIVATE HEALTH INSURANCE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88A5-4634-4222-A618-F5322D650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E15-2E71-4ADF-A921-188B2A21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7DD-0EEE-40DC-99FF-1FE652F3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9D4-0D2F-4946-A718-AE89342E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422-CEF5-4DE4-A4D9-2AF6A5A1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72D-B977-4D13-85C0-2DE256B5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676-C69E-4BA2-86E0-19823ACD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5AD-5D89-4F18-9C56-CE3B12E6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ABE-78A1-4A09-8E0D-8207705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467-CE77-4300-AF75-125D1E8A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D26-45B7-430E-8032-BEAFDC5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0BE-D17D-4DA9-8BAE-0B097D26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D69-BE45-4AD4-BA35-2426480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D39-AFD7-4736-A002-A6B044809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b | More than half the uninsured and three fifths of those with government insurance have incomes below 200 percent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293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05740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5943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dividuals with public and private health insurance were placed in the public health insurance categ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b | More than half the uninsured and three fifths of those with government insurance have incomes below 200 percent of poverty</dc:description>
  <dc:language>en-US</dc:language>
  <cp:lastModifiedBy>Jia Yao</cp:lastModifiedBy>
  <dcterms:modified xsi:type="dcterms:W3CDTF">2013-09-06T15:16:5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b | More than half the uninsured and three fifths of those with government insurance have incomes below 200 percent of poverty</vt:lpwstr>
  </property>
</Properties>
</file>