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C9F-1D3E-4482-8208-E772F626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E86-2D77-4996-B706-CC4AD103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EEB-4DBE-4EEB-8E5D-E58E95BB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2EB-DD1F-49A0-AE71-639D8307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BCD-FEFA-49F3-8487-9511D81A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5CE-7BEF-407E-83B6-5763AE7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6F3-FEBD-4DD1-8579-9A6A45EB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1AF-B2C9-4A46-AF2A-2557BD56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3CD-FCEB-4C4D-9F74-081D2878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761-0DB7-46A5-B474-168C00D7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BD3-4602-4254-9492-149B0A7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BA6-9872-48B8-A417-0DAD617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17AC-5EF8-4FE6-8838-60EA2EE77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1320" y="19080"/>
            <a:ext cx="4581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9Z</dcterms:modified>
  <cp:revision>6</cp:revision>
  <dc:subject/>
  <dc:title>PowerPoint Presentation</dc:title>
</cp:coreProperties>
</file>