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28CD5-D33E-4823-9F2B-5C9F2B746A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6B | RATIO OF NURSES TO PRACTICING PHYSICIANS IN SELECTED INDUSTRIALIZED COUNTRIES, 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F6259-6478-4FBE-9B0A-1FF1A4A9B6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359E-CBC1-4F70-BD68-4A027A637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7C16-8BCE-4BCC-9E8E-A51F514A7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2575-DE0E-4D1C-ADF0-CC8F0BBF1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6240-B840-44A9-9703-8B2D44810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8D37-999F-4126-B925-972F4C563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6CA8-72E4-4FC1-A808-E2F5D12A5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1351-C589-46B4-8ED7-CAEC2A31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C233-11B3-4133-B7A3-A83A133BD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B891-E6FC-415B-9798-BAF753544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0071-8036-4E7A-9F83-DC777A35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4C0F-17C8-4A1C-9BEF-F437327A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A323-AC8A-4DA7-8BF0-FD65026F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E06DE-5A54-42D8-8FC6-2E82ECA805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9.6b | The ratio of practicing nurses to doctors in the U.S. is comparable to figures in other G7 n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54160" y="1549440"/>
            <a:ext cx="8635680" cy="459720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09480" y="1447920"/>
            <a:ext cx="563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tio of practicing nurses to practicing physicians (200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6b | The ratio of practicing nurses to doctors in the U.S. is comparable to figures in other G7 nations</dc:description>
  <dc:language>en-US</dc:language>
  <cp:lastModifiedBy>Jia Yao</cp:lastModifiedBy>
  <dcterms:modified xsi:type="dcterms:W3CDTF">2013-09-06T15:40:59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6b | The ratio of practicing nurses to doctors in the U.S. is comparable to figures in other G7 nations</vt:lpwstr>
  </property>
</Properties>
</file>