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8BA1-AB15-49DF-9B95-4B9F73EA6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7003-C394-45E0-8123-6E4C944CC1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b | Percentage Distribution of Personal Health Expenditures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C70-1583-47B4-A9BE-E755F47A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502-BF2B-49A3-9D35-F7639AA2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A36-014B-4247-94E3-94B04945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D3E-6BDC-436E-B40A-040D0473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B077-A469-4CF2-AB6C-F1999285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B330-F9EF-4F0D-8680-C9CF2072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F479-A320-4394-A845-B4CF6AD9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6302-D511-4704-B3CD-9BB5C34F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8A07-7E66-4B97-818D-C4B83AA5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4C30-FF68-4C33-880E-44C41E06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4D42-0EA5-4925-A852-4C9326A8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1FC-ACF1-4A3E-9A16-0B95AB5E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6939-7EB5-4730-A595-385E3FFF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8789-A1C6-4533-8D31-5BA49196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0215-74FC-478D-BB72-FB9064B5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FF60-74F7-40FF-B965-CB4CE89D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E76B-158A-4DEC-8131-B6E9DC48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24F-44A5-40DF-B9A8-DFC8FCC6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F7A-E49A-44DE-8AFD-71AB0BF2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AF4-D745-47BB-A423-EC7888FA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692-1D7B-42C6-8991-02110112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F05-C1E5-446E-9734-EF74FCA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4A4-8A7B-4D9F-9634-817292B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97E-C225-4354-ACB5-A9A95413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5001-8CAE-414A-A283-5CB07ACFB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90A5-47D2-4377-91D4-85F7CE60E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b | Tax-financed health spending expanded more rapidly than private health insurance after 19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92" name="Straight Arrow Connector 5"/>
          <p:cNvCxnSpPr/>
          <p:nvPr/>
        </p:nvCxnSpPr>
        <p:spPr>
          <a:xfrm flipH="1" flipV="1">
            <a:off x="4038120" y="5028480"/>
            <a:ext cx="5342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Straight Connector 6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7"/>
          <p:cNvSpPr/>
          <p:nvPr/>
        </p:nvSpPr>
        <p:spPr>
          <a:xfrm flipV="1">
            <a:off x="152388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8"/>
          <p:cNvSpPr/>
          <p:nvPr/>
        </p:nvSpPr>
        <p:spPr>
          <a:xfrm flipV="1">
            <a:off x="342900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9"/>
          <p:cNvSpPr/>
          <p:nvPr/>
        </p:nvSpPr>
        <p:spPr>
          <a:xfrm flipV="1">
            <a:off x="434340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4"/>
          <p:cNvSpPr/>
          <p:nvPr/>
        </p:nvSpPr>
        <p:spPr>
          <a:xfrm flipV="1">
            <a:off x="6248520" y="1523520"/>
            <a:ext cx="0" cy="44960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5"/>
          <p:cNvSpPr/>
          <p:nvPr/>
        </p:nvSpPr>
        <p:spPr>
          <a:xfrm flipV="1">
            <a:off x="7238880" y="1523880"/>
            <a:ext cx="0" cy="46483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2"/>
          <p:cNvSpPr/>
          <p:nvPr/>
        </p:nvSpPr>
        <p:spPr>
          <a:xfrm flipV="1">
            <a:off x="533412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1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b | Tax-financed health spending expanded more rapidly than private health insurance after 1965</dc:description>
  <dc:language>en-US</dc:language>
  <cp:lastModifiedBy>Jia Yao</cp:lastModifiedBy>
  <cp:lastPrinted>2002-05-16T21:44:34Z</cp:lastPrinted>
  <dcterms:modified xsi:type="dcterms:W3CDTF">2013-09-04T21:03:5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b | Tax-financed health spending expanded more rapidly than private health insurance after 1965</vt:lpwstr>
  </property>
</Properties>
</file>