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6BC-15AA-477C-A3B2-F8D04049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E5E-7BFE-4DE1-B395-3D334ED0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686-003C-4635-8FD3-9C8F0114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E3E-1292-439B-8B38-0541A92B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2D7-D147-4271-A789-30EE5E0E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72A-77BF-41B7-9051-F5565623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F71-0B39-41AC-A6E9-F7702328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290-C091-4D2D-83EA-ED07284B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28A-E17C-427B-BED8-27B14A8B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51F-C4FD-4624-94EB-3BF0463A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99C-7DB5-44AC-8A45-FBEF716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9BB-2F46-4EB5-B6EC-94BDE907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757D-5EB8-4D98-83D1-8E139A456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5200" y="0"/>
            <a:ext cx="792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4Z</dcterms:modified>
  <cp:revision>37</cp:revision>
  <dc:subject/>
  <dc:title>PowerPoint Presentation</dc:title>
</cp:coreProperties>
</file>