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E4E-FD36-400C-9047-4686CE2D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F1B-F648-4AF1-9F66-F1919EDE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2DE-64FE-493C-A5D6-8F9B9584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D9B-213D-4749-8CD8-F2F5E697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532-F593-4975-8027-E1413C20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3C8-0140-4A17-ADED-9362A76C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1AA-6DDD-4900-8BA0-083C83BE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7B6-D06F-4719-9E3D-A72FF2A5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5D0-82A2-4573-8881-68C3B84C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493-8004-4249-9669-9C1E1DC4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D52-F500-495E-BBAA-F2D29860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E4D-C621-4E8A-A757-46699E35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384B-6424-427F-9001-46F1F90CD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7920"/>
            <a:ext cx="9002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2Z</dcterms:modified>
  <cp:revision>18</cp:revision>
  <dc:subject/>
  <dc:title>PowerPoint Presentation</dc:title>
</cp:coreProperties>
</file>