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54A5-2D2B-4B2F-A9DF-7B0E73DF60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4A | PER CAPITA GDP AND HEALTH EXPENDITURES, OECD COUNTRIES, 20 LARGEST OECD COUNTRIES, 200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C3E2-96B0-4E13-A50A-EC869F4CB2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EC73-7983-4C2A-AFB2-52B12A7B0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5B5A-A88B-4C42-BE03-C6611E3C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10B3-0172-439A-8188-9FC68B7E6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3802-39A0-4564-9CC3-426FEF79D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4CFF-B29F-4C8A-89B5-823FEA90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172E-4118-47F7-8A75-844D52DF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709C-962A-4096-AE3C-D5BE501A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B4A3-7283-4ADB-94C7-DA523709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861A-D09D-433F-9752-4E7D0912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EAB4-F690-47FD-AB8D-1A1CA6EA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60C5-7947-488B-9B9E-EE7B4E29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874A-1C82-4FC4-9A36-79A97571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D10B-9B3C-4F39-B558-1ED0F8F8C6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4a | The conventional wisdom is that U.S. health spending is far above its expected level given the nation’s per person GD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01520" y="1320840"/>
            <a:ext cx="8864640" cy="5283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1722960" y="5867280"/>
            <a:ext cx="57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DP per person (U.S. purchasing power parity, 2004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4a | The conventional wisdom is that U.S. health spending is far above its expected level given the nation’s per person GDP </dc:description>
  <dc:language>en-US</dc:language>
  <cp:lastModifiedBy>Jia Yao</cp:lastModifiedBy>
  <dcterms:modified xsi:type="dcterms:W3CDTF">2013-09-06T15:40:47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4a | The conventional wisdom is that U.S. health spending is far above its expected level given the nation’s per person GDP </vt:lpwstr>
  </property>
</Properties>
</file>