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248C-A8B6-4F38-A901-58E842D4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674-99F3-4768-8ABE-32651FB1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BE92-73A8-418D-8FD3-2D996185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54CA-1F87-44D6-B444-7338F1D0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B10-B99D-4A65-98A7-8C12A22C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C926-6EBC-4297-8850-C2BCA67B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2F8-BF62-43B0-AFEC-D59DBA73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380-A9E0-47FB-B2CA-4A8362C4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DA13-56FE-4816-BF9A-2EE63B7C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8C6-8337-46C8-852C-F4125353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84E-76E4-4B76-99F4-6831E027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4A07-A267-4C2C-AC1B-C92FC6E1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B05F-DAE6-40AE-B20A-F8FC32260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8Z</dcterms:modified>
  <cp:revision>14</cp:revision>
  <dc:subject/>
  <dc:title>PowerPoint Presentation</dc:title>
</cp:coreProperties>
</file>