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60F9-B9CA-461E-9990-AF18F0C6A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5.2 | ANNUAL HEALTH EXPENDITURES AS A PERCENTAGE OF HOUSEHOLD NET WORTH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877D-36EB-45FD-B754-3AD9E04BF6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DCF5-DFA3-4040-B7AB-412BF53E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DABB-077F-4CDD-9EA6-76A8BEBB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6950-9023-4CD7-A7CC-A2B77B32A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F18C-ADF2-4D42-85F4-DA1B25889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8DE9-EAD1-4A56-A8B4-C65FB73B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9831-5611-4FAB-BBF6-2E10ECD2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98FC-663C-4DDB-B2E3-884184F0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7E31-7D7F-4D6E-AEC0-D41925B5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E748-9321-49E3-A3DF-59EB6DA5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A650-DD64-40EC-8706-4E7E98EB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EF40-D90E-46DB-97D5-9A0F2803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EFB3-2724-4A0E-B2A1-DCD90E1A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D27C-D933-4FFB-8E16-51ED688E5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5.2 | For low income families, the cost of having one member in the top 10 percent of health spending would exceed net wo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43689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5238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ulated spending as a percentage of family net worth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09480" y="57150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simulated spending estimated assuming 1 family member had health spending in the top 1, 2, 5 or 10% of individuals ranked by expenditur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4:15:23Z</dcterms:created>
  <dc:creator>Kristy</dc:creator>
  <dc:description>15.2 | For low income families, the cost of having one member in the top 10 percent of health spending would exceed net worth</dc:description>
  <dc:language>en-US</dc:language>
  <cp:lastModifiedBy>Jia Yao</cp:lastModifiedBy>
  <dcterms:modified xsi:type="dcterms:W3CDTF">2013-09-06T15:26:03Z</dcterms:modified>
  <cp:revision>291</cp:revision>
  <dc:subject/>
  <dc:title>15.1 Household Net Worth, GDP and NHE, 1929-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5.1 Household Net Worth, GDP and NHE, 1929-2009</vt:lpwstr>
  </property>
  <property fmtid="{D5CDD505-2E9C-101B-9397-08002B2CF9AE}" pid="3" name="SlideDescription">
    <vt:lpwstr>15.2 | For low income families, the cost of having one member in the top 10 percent of health spending would exceed net worth</vt:lpwstr>
  </property>
</Properties>
</file>