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0ACE-22B3-4BBD-B7F9-73D84741A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b | Multifactor Productivity Trends in Pharmaceuticals and Medicine and Medical Equipment and Supplies, 1987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2BC0-1131-41E0-A37F-B1046C9D7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B22-6023-4BBF-879B-140163BC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095F-E1EB-4520-AF77-897C637D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203-7FEE-4E63-B437-3992A910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B9B-95BA-40C2-A584-7124C5D5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F288-AFFE-4A7A-A8A1-B72937D6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10AE-B185-4410-93B7-F627CC03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A565-2137-455F-BC41-C5D9792C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F5CD-44F9-41E8-8850-4073A488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27F4-7900-4C30-AA03-3C1DE2F8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F253-2C0C-45F1-9918-2442B470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5B12-6B6F-4BFF-AE96-B8E407AF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CDE-EA38-485A-A7AA-097040D0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7012-CF23-4F3E-B90D-8B39A95B6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b | Multifactor productivity has fallen in pharmaceuticals even while rising in the medical device industry more quickly than the private secto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193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ultifactor productivity indexes: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b | Multifactor productivity has fallen in pharmaceuticals even while rising in the medical device industry more quickly than the private sector  </dc:description>
  <dc:language>en-US</dc:language>
  <cp:lastModifiedBy>Jia Yao</cp:lastModifiedBy>
  <dcterms:modified xsi:type="dcterms:W3CDTF">2013-09-06T14:59:38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b | Multifactor productivity has fallen in pharmaceuticals even while rising in the medical device industry more quickly than the private sector  </vt:lpwstr>
  </property>
</Properties>
</file>