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F4F6-085F-4D60-83B7-45EA69882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11B4-2E62-47A2-B61C-3E8BC368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35DE-0FCB-4F1B-A202-846ABB026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9170-2AEF-4746-8D36-B9A21E345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78B9-6F10-4816-B914-A3914897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434F-9DAD-4BBB-B4B1-8872830D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F7F8-B425-4EF7-A150-94904B3E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E1BE-6AD1-4A2E-9ABC-E2800772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1D16-4A2D-4015-B498-A431414A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6B76-7ADF-44AE-9BF6-1A2CAD01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7A62-4CB1-4EC8-83C7-907A70F1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1A10-A029-4224-91D9-F010F1D2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AC7F-2AF4-4BCD-98A0-9C7CAB2DD3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11240"/>
            <a:ext cx="9144000" cy="66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2Z</dcterms:modified>
  <cp:revision>39</cp:revision>
  <dc:subject/>
  <dc:title>PowerPoint Presentation</dc:title>
</cp:coreProperties>
</file>