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17F-9BD1-4611-81E2-5A0666F9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ED0D-24CE-4E1E-BAA2-1199497B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0D53-7EF5-4E88-8AA1-17225C01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0D1D-F631-42EF-AF82-A0D6E51A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99DE-3D2C-4481-849F-50C4014C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46CF-D40C-4851-8ABF-39DEA609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24DB-539B-4EC1-BE13-D1F487EB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A981-2669-41C1-9017-5E3012B3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9B6A-E722-44BE-A883-7F38D78E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AEF7-7FA6-4CA9-9BB3-6DEC630D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348C-FA47-4460-8371-225E8E46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7465-2C5D-4CED-A575-824C7CAB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C5E8-F524-44B1-B506-A16F7EE30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360"/>
            <a:ext cx="91551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5Z</dcterms:modified>
  <cp:revision>20</cp:revision>
  <dc:subject/>
  <dc:title>PowerPoint Presentation</dc:title>
</cp:coreProperties>
</file>