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17AD-1C16-4ED6-B1AE-EAB7C4D5F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5A | PUBLIC SPENDING AS A PERCENT OF TOTAL PERSONAL HEALTH CARE EXPENDITURES, BY FAMILY INCOME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2B61-3BFD-4F8B-B3DA-F82B3B971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0E6-A3FA-452F-97AD-EDCEEA40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02E3-D6F6-49E8-BC42-C0462EA2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08B-BD46-4562-9099-E978EE26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2432-A6C3-4E67-BC1E-BFD0137A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0297-2C0C-44BC-9A83-D4C55E62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964A-F8CE-4147-8B24-C4F12F77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9F0-6337-4CA6-AC99-56C1D567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133-69D5-4C29-B197-C8C16451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8712-C4E0-4E34-A697-06E1DD00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26EE-D558-4A26-9FC9-10D5A1E4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BB4-9B0E-4481-AADC-ACF90505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955D-6483-4FFD-B2E5-34FDE840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3F0B-D755-4AC0-AB9D-ABF936F62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5a | While the public share of health expenses rises as income declines, nearly half of spending for families above 400% of poverty is tax-financ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981080" y="5343480"/>
            <a:ext cx="49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federal poverty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33520" y="1447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5a | While the public share of health expenses rises as income declines, nearly half of spending for families above 400% of poverty is tax-financed </dc:description>
  <dc:language>en-US</dc:language>
  <cp:lastModifiedBy>Jia Yao</cp:lastModifiedBy>
  <dcterms:modified xsi:type="dcterms:W3CDTF">2013-09-06T13:59:39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5a | While the public share of health expenses rises as income declines, nearly half of spending for families above 400% of poverty is tax-financed </vt:lpwstr>
  </property>
</Properties>
</file>