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F3FB-327D-4D75-9C71-CCF9CF42E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330E-13BC-4757-9CF4-0E0D5B88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2E9B-3041-497B-8C76-759EA11E2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4AE4-614D-40E3-B75C-ADD2360A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5D43-A036-45A3-B750-83478A70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9C36-84D4-44E9-895A-6D729821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BEEC-7572-4CC2-B77D-CA15CC31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23DC-4128-48DB-AD70-2B940FE8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AA6C-89CE-4748-BEAF-F5BFB1EE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9165-320D-48F4-BE0C-0CF198D9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5482-9DB1-4353-BB65-63F244C7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3215-0C02-473F-A6CC-E441A4B8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D910-49E7-4050-81DB-BF42968DF5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090440"/>
            <a:ext cx="906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1Z</dcterms:modified>
  <cp:revision>28</cp:revision>
  <dc:subject/>
  <dc:title>PowerPoint Presentation</dc:title>
</cp:coreProperties>
</file>