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9DEFB-566C-4C28-91B6-E6E54AAF61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13B | ESTIMATED DEATHS IN UNITED STATES, BY UNDERLYING CAUSE, 20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0018C-3876-4B42-A709-786B0DE35F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72B9-5B8E-4C1B-808F-2C85D1699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5923-71BA-4D19-A6D7-456ECCE2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E702-F6DB-4B81-AE8D-59230594B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50D3-69A3-4134-B0AE-10969F51E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8226-7703-46A1-B79F-F3166BA58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68D8-484C-4891-A84D-F8B273FE9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8ABB-380A-4AE4-9B21-08268CBE7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9541-A87F-49D2-9821-3A776D923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53CB-B27D-4B4D-B3D6-F8AB7ADE3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4FEF-39BF-4E01-9184-8EF4D511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34E6-475A-4713-9A73-3B256510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F21A-A4DA-4B7A-8D75-4687E8CC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7101D-F80E-4D23-A812-89424EDDD5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19.13b | Changes in behavior/lifestyle would have a sizable impact on mortality rates in the U.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092240"/>
            <a:ext cx="901692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5181480" y="61722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tal U.S. deaths (200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13b | Changes in behavior/lifestyle would have a sizable impact on mortality rates in the U.S.</dc:description>
  <dc:language>en-US</dc:language>
  <cp:lastModifiedBy>Jia Yao</cp:lastModifiedBy>
  <dcterms:modified xsi:type="dcterms:W3CDTF">2013-09-06T15:41:24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13b | Changes in behavior/lifestyle would have a sizable impact on mortality rates in the U.S.</vt:lpwstr>
  </property>
</Properties>
</file>