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4F0E-88D9-4D49-B1AA-A2538B292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B9C-E420-40E5-9ECF-8B8FDF504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FD2-329A-4F29-A680-A2357E56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C4B-3C4C-4251-9950-3D9C6D58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891-6C91-4873-B937-6DA402CA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DFA-BAA5-4E55-9563-BD6BC638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4CB-0760-4172-AFF0-AC847BC9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9E9-B629-4EEF-8358-F59923C7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9F7-6E68-43D9-B1D2-762AEF1C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6EF-4A52-41B4-84D5-10679901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CDC-1529-4FFE-899A-3591359D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B56-C98D-4641-A222-6C08D2BC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51E-837C-4721-A89E-C8CAF169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E02-305E-4E6F-A46A-BC51F0DC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01F5-F971-4BCA-9E24-072C1BB8C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8.6a | Among health-related services, profit margins generally are highest for health plans and lowest for health care wholesal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67000" y="1143000"/>
            <a:ext cx="76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eturn on revenu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Jia Yao</cp:lastModifiedBy>
  <dcterms:modified xsi:type="dcterms:W3CDTF">2013-09-06T14:17:0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