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6E32-578A-4860-A645-A8CD84DC7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b | Output per Hour and Output per Unit of Input Indexes (1987=100), Health Facilities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F3B9-D207-4004-90C2-F11034909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A38-5D74-40A7-BE92-57782503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7AE-1AF6-468E-B3AD-5224FE4C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1AE-7494-4F6C-9701-B5FE1286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B2B-6A53-4CFF-BD96-22292E2A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63B-8BC0-4884-A1A7-F7106B15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36C-A958-45AA-9AE1-32CB213F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C27-9257-4380-BDA0-174DE872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3FF5-A124-4302-9979-DD9025DE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FE0-0496-457F-8F57-EBF2F77C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203-A440-4D55-BECC-28202EC2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509-7B54-4C68-8C7F-1AE580C7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C15-B06E-4FE8-9514-8C40B48C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362A-858E-45C8-B61C-AC251C17E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b.  Over 2 decades, health facilities hourly output rose even as productivity per unit of input remained relatively f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09480" y="5694480"/>
            <a:ext cx="84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Outpatient = ambulatory health care services; inpatient = hospitals and nursing and residential care facilit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b.  Over 2 decades, health facilities hourly output rose even as productivity per unit of input remained relatively flat</dc:description>
  <dc:language>en-US</dc:language>
  <cp:lastModifiedBy>Jia Yao</cp:lastModifiedBy>
  <dcterms:modified xsi:type="dcterms:W3CDTF">2013-09-06T15:00:3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b.  Over 2 decades, health facilities hourly output rose even as productivity per unit of input remained relatively flat</vt:lpwstr>
  </property>
</Properties>
</file>