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872C-93D3-4C74-AAD2-1A46F006E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1 | NET PRESENT VALUE OF LIFETIME EARNINGS AND STOCK OF HEALTH FOR AMERICAN NEWBORNS, BY SEX AND RACE/ETHNICITY, 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115F-1F79-4013-97A9-9FEE4A46B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25FC-C4A3-4724-8CD9-0CD52790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9F22-35A1-41F9-BFED-69C86AFF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5221-BCD2-4798-96B6-DF5C652D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CCCD-73FA-426C-BD67-41D3C61D5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E0F0-8079-42DF-9C65-FDB496D4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66A5-76DC-461F-8589-50FB346F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DA0B-8605-4A26-B66F-309AB049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74BE-F2D5-41DA-A11D-7F3F1448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2E71-E01D-4F80-B812-98794DD7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E7E1-7CD9-4C94-9068-65483570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8236-84CF-4659-B493-45B8EAC5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5540-B574-4098-B0FA-426AA595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C901-1585-4A80-B2BD-5F80A5B00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1 | The average American’s stock of health is several multiples of their lifetime earn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t present value using 3 percent discount rate (millions of 2005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1 | The average American’s stock of health is several multiples of their lifetime earnings</dc:description>
  <dc:language>en-US</dc:language>
  <cp:lastModifiedBy>Jia Yao</cp:lastModifiedBy>
  <dcterms:modified xsi:type="dcterms:W3CDTF">2013-09-06T15:31:18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1 | The average American’s stock of health is several multiples of their lifetime earnings</vt:lpwstr>
  </property>
</Properties>
</file>