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BD0E-5AF4-4E52-A0EF-F25FCACEA9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5B | TOTAL MEDICARE EXPENDITURES AS A PERCENTAGE OF GDP, CBO AND MEDICARE TRUSTEES, 2010-208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5C5E-4493-4F93-8E5C-D2A21A370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0A9E-7146-466A-B112-6589014E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C0CF-D608-4267-8FB7-A6386984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20F3-5B7C-45AF-89F0-2B743F3C8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83C3-57E1-46DE-A78E-D190D235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CA26-32E9-45C7-914B-E85E2E2B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2884-7D32-4DDC-9020-21D14FB6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765-BAB5-483B-8019-C791396C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D89E-3A1C-4102-AA77-BD053AB6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788B-B29A-410C-B31F-91251D5A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8D68-189D-44AF-B388-A3CB6B04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4B9A-569F-46F6-98E6-C4FC2672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4AF9-C1A3-4484-B77D-93959F51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482E-8122-467B-A48B-8CA53C4BD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5b | Official forecasts of Medicare spending differ dramatically due to different assumptions about GDP growth and health spending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1592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703440" y="134928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tal Medicare expenditures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5b | Official forecasts of Medicare spending differ dramatically due to different assumptions about GDP growth and health spending growth</dc:description>
  <dc:language>en-US</dc:language>
  <cp:lastModifiedBy>Jia Yao</cp:lastModifiedBy>
  <dcterms:modified xsi:type="dcterms:W3CDTF">2013-09-23T19:14:2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5b | Official forecasts of Medicare spending differ dramatically due to different assumptions about GDP growth and health spending growth</vt:lpwstr>
  </property>
</Properties>
</file>