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C371-2E01-48AD-8085-853A6EC932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7.2B | Reduction in Daily Cost of Therapy 24 Months After Patent Ex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48F6-91C6-4D50-9BBD-2A37F2F12D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5A8C-9645-4C13-8CA3-7171A23DA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43E0-1C57-479B-95A2-066E080D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2380-EE9C-4F0F-80E9-8523B24C7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A8CA-45FB-4496-8B14-4528FC377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B7A4-F941-47BC-B809-0629AA5A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15B9-32D5-46CB-827B-419B699C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66A2-CCF2-4B48-BF09-8E118728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8AC4-3174-456E-8BB9-6AB3CD03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3D59-781F-4975-AE84-A1594755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7223-A8F9-4213-9D60-76E4B064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04E8-E48C-4719-96BB-CBA193CE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8785-F9A0-4E20-A3A5-A1568DE7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66C3-6E11-43D7-A2E2-D7A39B65CA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0" t="19566" r="0" b="0"/>
          <a:stretch/>
        </p:blipFill>
        <p:spPr>
          <a:xfrm>
            <a:off x="592200" y="1523880"/>
            <a:ext cx="7959600" cy="4386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7.2b | After patent expiration, there has been a 51 percent reduction in the daily cost of therapy after 24 mon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762120" y="5880240"/>
            <a:ext cx="76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Berndt ER and M Aitken. A Different Perspective: The AARP Sponsored Schondelmeyer-Purvis Studies. 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caring Seniors: The AARP Drug-Price Repor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American Enterprise Institute. Washington DC. 201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2b | After patent expiration, there has been a 51 percent reduction in the daily cost of therapy after 24 months</dc:description>
  <dc:language>en-US</dc:language>
  <cp:lastModifiedBy>Jia Yao</cp:lastModifiedBy>
  <dcterms:modified xsi:type="dcterms:W3CDTF">2013-09-06T15:31:20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2b | After patent expiration, there has been a 51 percent reduction in the daily cost of therapy after 24 months</vt:lpwstr>
  </property>
</Properties>
</file>