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0378-50A4-4053-9FB4-2058598DD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3b | Projected Year of Medicare Hospital Insurance Trust Fund Insolvency, 1990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4871-7943-4F47-9DC8-FC88D99FA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1A2-5A1C-4CFE-B8B5-26439905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B166-63D0-41DD-9748-D39B7090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AFBF-8879-4120-A2C5-3D95CEA2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60DC-60FD-478F-8D63-AB8129B3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17FE-9997-42EB-BB61-0100D370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023-0739-443D-9EAD-DD30D564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2F7-4DB1-4335-BA8B-363A88AD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56FB-9DDE-443A-89D4-3303466E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D1F-1E69-4F6C-A780-24CD9D26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06B-18AE-4FB4-8630-171422ED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C02-5CEF-4D8E-ADA6-36E5055C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32B-9401-42A0-857C-8A302689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0EB4-F522-4FA0-B15D-202526C98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3b | Projections of Medicare Trust Fund insolvency have changed considerably over the yea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5597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25680" y="1447920"/>
            <a:ext cx="65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ed year of Medicare Hospital Insurance Trust Fund insolv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85800" y="60199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ar of Medicare Trustees’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3b | Projections of Medicare Trust Fund insolvency have changed considerably over the years </dc:description>
  <dc:language>en-US</dc:language>
  <cp:lastModifiedBy>Jia Yao</cp:lastModifiedBy>
  <dcterms:modified xsi:type="dcterms:W3CDTF">2013-09-23T19:14:16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3b | Projections of Medicare Trust Fund insolvency have changed considerably over the years </vt:lpwstr>
  </property>
</Properties>
</file>