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5195-806A-4EDB-BBB3-18678316C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5 | Annual Per Capita Health Spending, by Age and Sex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925D-8AE4-46BD-9DC4-4DF37EB5C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40B-A960-46CE-A3FC-4D850EB9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26B-8CD0-49B7-B4D3-A9ED2705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243-4642-472E-8A6E-C39C7495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F75-9559-4702-8E6B-6CEA23FB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385-FAF9-45FE-BAFF-D7072A93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76F-2FF6-4FE4-8208-97889B6C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6DC-8163-439F-BD15-77B4E98A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07C-2BB1-44D2-A3BD-5C7A1268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F91-8E54-42E2-9354-F9A3681A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796-2EFA-4A31-941D-8A6E9133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D15-883D-4EC8-97AA-2F910D31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426-22E7-4E98-A27E-0B97D3CB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E455-D329-45FB-8AAB-C09965287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5 Female health spending is higher than for males from childbirth through reproductive years and in early years of 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00=annual per capita health spending of males 18-24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5 Female health spending is higher than for males from childbirth through reproductive years and in early years of retirement</dc:description>
  <dc:language>en-US</dc:language>
  <cp:lastModifiedBy>Jia Yao</cp:lastModifiedBy>
  <dcterms:modified xsi:type="dcterms:W3CDTF">2013-09-06T15:13:1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5 Female health spending is higher than for males from childbirth through reproductive years and in early years of retirement</vt:lpwstr>
  </property>
</Properties>
</file>