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BEC3-80FA-44A6-BC1D-84431A50B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8641-49FF-4716-9632-26E88D3971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b | ADMINISTRATIVE EXPENSES OF PRIVATE HEALTH PLANS </a:t>
            </a:r>
            <a:br>
              <a:rPr sz="1400"/>
            </a:b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AND TRADITIONAL MEDICA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184-218B-4426-BA22-3AB9B1E7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A34-EAEB-4E88-8ED8-5EC80AB0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2D9-0E00-41F4-8D50-5BDD46AA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1EE-9432-4930-9320-3EA66974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CC7B-E4F4-430C-9742-76FFB115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190D-81CF-4679-AB9D-E0260899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7FAE-11C6-4941-8213-5C40B19F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D9CC-30FE-403C-8851-43FAEB56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D41B-3587-4D06-99E9-57A4B213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D774-FC31-4786-A440-8A59BA85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527A-7DD6-4C13-A010-965D9CD0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10D-1575-4741-A2FC-81430A49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AD1E-6181-431C-B195-A48CF56E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BA22-05BD-4662-BAD9-EEA45642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3642-ABF9-4CE3-8EA9-37C7A417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04B6-6374-4A56-83CC-4C5E75FA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B682-7206-4235-9BA5-1929F7F9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E72-B674-4CC0-A6CA-611A027D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5F5-8DF1-4A35-8390-ACCE0625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5CC-CDD5-4C73-9BC1-4F89E44B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5E1-44AD-4D0A-B612-21CEE0DC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631-7037-4813-8476-3AE8C693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26A-30E7-4F7C-9522-34653783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34A-03A1-4794-8302-54D52B6E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9058-ADB1-4100-A29E-E07CF1F94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6060-CE4C-4A0D-887E-F44F4A501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b | If private health insurance covered a similar mix of services as Medicare, this alone would cut average administrative costs by half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lue 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b | If private health insurance covered a similar mix of services as Medicare, this alone would cut average administrative costs by half</dc:description>
  <dc:language>en-US</dc:language>
  <cp:lastModifiedBy>Jia Yao</cp:lastModifiedBy>
  <cp:lastPrinted>2002-05-16T21:44:34Z</cp:lastPrinted>
  <dcterms:modified xsi:type="dcterms:W3CDTF">2013-09-04T18:13:18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b | If private health insurance covered a similar mix of services as Medicare, this alone would cut average administrative costs by half</vt:lpwstr>
  </property>
</Properties>
</file>