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AC3A5-3C23-428B-B734-53D46D6A90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3.3B | ADULTS AGED 18 OR OLDER REPORTING FAIR OR POOR HEALTH STATUS, BY RACE/ETHNICITY AND FAMILY POVERTY STATUS, 200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84C78-ECD5-4B44-B29F-4AB8B4934A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FD5E-9114-46BA-A7E5-FAC3192D5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607D-15BE-4478-80D8-749EBAC4D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3830-9C2A-4D72-AE37-1D4D3A4E4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F86E-9515-44C8-BBAE-A9419148A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644F-0BEA-4861-B47B-D1E1AF08D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B9C2-A981-4C50-AF21-5231269B0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8D58-3097-4370-9F9E-AD526A54B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BBFD-2F8B-4A45-AC3E-ECABA2E39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C7FF-1FD8-413B-8352-EC2ED111F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9876-A626-407D-AA9C-A46F42D5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D863-4977-461D-8366-594B4274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4AA3-5B11-45AA-8181-3483B558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B3A4E-8270-4F85-93C9-03A8ED76DF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3.3b | In all poverty categories, blacks have worse self-reported health status than whites while health status for Hispanics is bet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44792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individuals reporting poor or fair health (200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14:26:56Z</dcterms:created>
  <dc:creator>Kristy</dc:creator>
  <dc:description>13.3b | In all poverty categories, blacks have worse self-reported health status than whites while health status for Hispanics is better</dc:description>
  <dc:language>en-US</dc:language>
  <cp:lastModifiedBy>Jia Yao</cp:lastModifiedBy>
  <dcterms:modified xsi:type="dcterms:W3CDTF">2013-09-06T15:16:59Z</dcterms:modified>
  <cp:revision>1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3.3b | In all poverty categories, blacks have worse self-reported health status than whites while health status for Hispanics is better</vt:lpwstr>
  </property>
</Properties>
</file>