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2B2-834C-4A5A-A15F-D3DD9894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251-3B83-489A-A31E-A8A5933D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1D1-419D-47B3-B186-D3F475E8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7AC-5368-4F6F-8AE4-1E7832D9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5F1-AD91-4407-B126-9EEF5072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03E-AD12-4527-B619-86F4BB32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0EB-A304-4920-ABE3-E61459A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F29-9F44-43A4-9D7A-8C04AA08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099-00D7-4CF2-A813-6803E18F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614-3533-4453-A4AC-80E7A44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7BA-AD56-4233-B5E0-4E1BA5D8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02B-28BD-4166-AD84-5F76344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ED6D-8577-4767-9388-DFE701692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4Z</dcterms:modified>
  <cp:revision>14</cp:revision>
  <dc:subject/>
  <dc:title>PowerPoint Presentation</dc:title>
</cp:coreProperties>
</file>