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E450-65FD-4675-9AC4-692AE1CE0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B | AVERAGE ANNUAL GROWTH IN EMPLOYMENT FOR DETAILED COMPONENTS OF HEALTH SECTOR AND TOTAL U.S. EMPLOYMENT, BY DECADE, 1970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F0D7-6DB0-47A5-9F80-BB88565FA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AA6-BD1E-4591-B2F9-72E13412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C14-9A16-49D9-8A15-82E01179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DEC-4E9E-4AFC-8904-4FC353E9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2FC-9B2B-4C63-889A-2B9CCAA2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1D99-33ED-469F-893A-8B2A22C9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0A8-C56D-40F2-99AF-EDAE6663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1D9-5EE8-4A9C-9D60-79FB5990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602-026A-45AF-B6B3-5A27A36B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E88-1A06-44B2-8A99-01A39238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179-EDC1-4838-A4F9-AA7D1BC8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59A-4998-40E5-A2AE-3D19826C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5A9-DF0E-4E20-8980-E8A0C4BB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4AF6-8496-4E61-A173-2C68A2B2E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1b | Employment growth has steadily grown smaller since 1972, with the exception of hospitals, where worker growth rate increased since 200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4731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total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57200" y="548640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b | Employment growth has steadily grown smaller since 1972, with the exception of hospitals, where worker growth rate increased since 2000.</dc:description>
  <dc:language>en-US</dc:language>
  <cp:lastModifiedBy>Jia Yao</cp:lastModifiedBy>
  <dcterms:modified xsi:type="dcterms:W3CDTF">2013-09-06T15:03:4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b | Employment growth has steadily grown smaller since 1972, with the exception of hospitals, where worker growth rate increased since 2000.</vt:lpwstr>
  </property>
</Properties>
</file>