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6688-4826-42B4-9A47-250BF7F4B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1B2C-578E-48B4-A55D-D19EBE411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20.1 | EMPLOYER CONTRIBUTIONS FOR HEALTH INSURANCE AND OTHER FRINGE BENEFITS PER DOLLAR OF WAGES AND SALARIE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060-C7E4-4387-9BCF-C8C575C9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D47-8D8D-4AD8-9932-DF188AEF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2670-F2E4-407F-AE0F-103717BE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DBAD-AB7D-453D-BE38-DB843D31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9A17-E932-4BC7-8531-3735BDD2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EFBA-80F6-4E10-A6B7-1476F04B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3D6F-6C49-4F88-BB54-FDEA57C3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F06F-F8D4-4664-8980-696C034F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20CF-F96D-48C9-8136-553204E1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7FC7-A68E-4DAB-91EA-A5004EA1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C155-64F8-443B-AB72-69D0A163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5BC-1E68-4A70-949C-11C297C7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5819-909E-4F6B-9457-B2AE1217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BA37-84BE-4E5E-9237-ACEB7A33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95B0-D3DC-4CB7-9E94-7AD7157E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A062-B401-4BC9-BFB3-ECB98C6E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FB20-B245-4BFC-87A5-EE7B8EDE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11AC-E045-4C5F-AADF-EE9FF452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647-32A1-4EF1-A6EA-DE89F3C0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C88-77DC-48F0-AA79-904C8B21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E6E6-E34A-4029-97B3-4470FC4F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97FD-1EF6-419C-9B0F-3B5ECA13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171-C2FD-4A71-BB10-84A1E6AB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22C-767F-481B-BEAD-7F7ED1CC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5019-E980-4418-833B-A34BE65EC3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3A06-E52C-4D09-B55B-E88FCC0D0A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1 | At historical growth rates, the amount of health-related benefits per dollar of wages and salaries will quadruple over the next 75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1 | At historical growth rates, the amount of health-related benefits per dollar of wages and salaries will quadruple over the next 75 years</dc:description>
  <dc:language>en-US</dc:language>
  <cp:lastModifiedBy>Jia Yao</cp:lastModifiedBy>
  <dcterms:modified xsi:type="dcterms:W3CDTF">2013-09-23T19:14:09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1 | At historical growth rates, the amount of health-related benefits per dollar of wages and salaries will quadruple over the next 75 years</vt:lpwstr>
  </property>
</Properties>
</file>