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FB98-8C94-4F33-949C-82943CF6ED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7b | Trends in Health Spending as a Percent of Gross State Product, by Region, 1980-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26EA-510A-472B-A0E5-73D0867517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D1CE-DCDA-4AE2-A714-7611CF409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B554-6BD9-4675-AC6B-67573693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E047-F8D7-4055-BFE7-C4C5CF73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1102-AA6F-458D-94D3-0B0F33708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E66B-8D86-4969-B04D-5CF68B69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80DA-F45D-40F2-BE9E-9FA87C69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C9DB-00E1-40A7-97A4-9E9D5BC6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7C0E-11C6-49AD-B9FB-61ACFD03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1A69-B163-489A-BBF9-D1A224BF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530A-9E62-46C3-AD84-12C1660A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7C7B-EF40-43A8-88E0-FB3FB2CF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0605-7485-4E38-8E9D-48BE88FE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2A3F-562F-491B-AEAE-5E8EA4E404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7b | In just in one quarter century, there have been large changes in the relative burden of health spending across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92240"/>
            <a:ext cx="87883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2952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: health spending as a percent of gross state product (100=U.S. avera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7b | In just in one quarter century, there have been large changes in the relative burden of health spending across regions</dc:description>
  <dc:language>en-US</dc:language>
  <cp:lastModifiedBy>Jia Yao</cp:lastModifiedBy>
  <dcterms:modified xsi:type="dcterms:W3CDTF">2013-09-06T15:13:27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7b | In just in one quarter century, there have been large changes in the relative burden of health spending across regions</vt:lpwstr>
  </property>
</Properties>
</file>