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C7C50-5E60-4B81-9DB8-CD6CB6759F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3.2A | HEALTH INSURANCE COVERAGE, BY POVERTY LEVEL, POPULATION UNDER AGE 65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EB205-1EB5-4E66-AAFB-409E83AEF6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B647-60E1-4AA6-9CE2-F415A4774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CD6A-68C7-41A1-8903-FB62DC3F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68EB-31E0-40F7-9759-2D83C0A97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478F-DAA3-48E7-9125-50BEFCFCC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EB67-1F9B-46F3-8C37-D25FDDA35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1F54-2B76-4D12-8A10-188200D89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D8B8-E28F-4CF4-997A-6B38338DF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BA4D-F8C4-4E85-8390-DEC8A5261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8716-3F46-4609-928E-FEC91E018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A7D4-53DF-4A49-9E38-7394EEAC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97C1-2DCF-42A1-9EF8-2E457E39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D381-B17F-4071-8711-6A3E0751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2637B-9429-4981-B463-22B7DE987A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3.2a | About half the non-elderly poor have government insurance, while one-third are uninsured; the uninsured rate declines with inco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5597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2895480" y="1498680"/>
            <a:ext cx="524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U.S. population under age 65 with coverage shown (200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2666880" y="5943600"/>
            <a:ext cx="42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amily income as a percentage of poverty (200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14:26:56Z</dcterms:created>
  <dc:creator>Kristy</dc:creator>
  <dc:description>13.2a | About half the non-elderly poor have government insurance, while one-third are uninsured; the uninsured rate declines with income</dc:description>
  <dc:language>en-US</dc:language>
  <cp:lastModifiedBy>Jia Yao</cp:lastModifiedBy>
  <dcterms:modified xsi:type="dcterms:W3CDTF">2013-09-06T15:17:34Z</dcterms:modified>
  <cp:revision>1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3.2a | About half the non-elderly poor have government insurance, while one-third are uninsured; the uninsured rate declines with income</vt:lpwstr>
  </property>
</Properties>
</file>