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F44D-4ED9-4186-ABD9-A82B72643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4747-88EE-44DF-B5E4-BFDB9A4B1B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a | Percentage Distribution of Personal Health Expenditures, by Sector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69B-FF21-43E2-80A6-66F51D94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9A2-CE6D-4420-94E8-6D131D0F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1F4-4D53-4B45-97C1-9A96A93A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97C-2D5A-4F4F-A7FB-FBF1CAAD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1089-8B0C-4557-B87E-D5A031C6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C659-0570-465E-A8F1-56F9299F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1E2F-BD7F-4C8B-97FC-B90E5F0E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AE30-8D75-4974-8764-AC5910B5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1B18-80A4-404F-B4E6-126A8933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DBCE-7F87-4662-AB09-3CC99C3F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A81E-F532-4C21-844E-7606B09B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DF6-5657-44DA-B2BD-57BA5077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265F-1193-4D4C-9CA4-1E162039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8A99-818F-4515-A54B-C0C5BFFA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3862-5376-4CAC-904F-0C30F796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8095-64B8-436D-996C-EBAC354D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6BF5-823D-4AFB-896D-35F557E6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728-AFAF-4F91-AFBD-C5E4AFE4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D0F-5A4E-48EC-967E-BD58084D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0A5-7579-43F6-AAA8-8DA547F9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1A8-FFDC-4961-B02C-D68D55D0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A11-0E19-4D61-8A17-588ACA61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4FD-6B9F-4D5E-A714-6E546E94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C3C-1243-40B4-99C1-6B2766F7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87A1-BAE0-47CA-88E1-6DA3C88BB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5555-0595-4F59-8192-88698F913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a | Since 1965, the growing federal share of personal health care expenditures has displaced private and state health spending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Straight Connector 5"/>
          <p:cNvSpPr/>
          <p:nvPr/>
        </p:nvSpPr>
        <p:spPr>
          <a:xfrm flipV="1">
            <a:off x="1523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traight Connector 6"/>
          <p:cNvSpPr/>
          <p:nvPr/>
        </p:nvSpPr>
        <p:spPr>
          <a:xfrm flipV="1">
            <a:off x="3429000" y="152388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9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12"/>
          <p:cNvSpPr/>
          <p:nvPr/>
        </p:nvSpPr>
        <p:spPr>
          <a:xfrm flipV="1">
            <a:off x="44197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15"/>
          <p:cNvSpPr/>
          <p:nvPr/>
        </p:nvSpPr>
        <p:spPr>
          <a:xfrm flipV="1">
            <a:off x="53341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6"/>
          <p:cNvSpPr/>
          <p:nvPr/>
        </p:nvSpPr>
        <p:spPr>
          <a:xfrm flipV="1">
            <a:off x="6324480" y="1523520"/>
            <a:ext cx="0" cy="44197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7"/>
          <p:cNvSpPr/>
          <p:nvPr/>
        </p:nvSpPr>
        <p:spPr>
          <a:xfrm flipV="1">
            <a:off x="7238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9"/>
          <p:cNvSpPr/>
          <p:nvPr/>
        </p:nvSpPr>
        <p:spPr>
          <a:xfrm flipV="1">
            <a:off x="4038480" y="152352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4273200" y="213372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a | Since 1965, the growing federal share of personal health care expenditures has displaced private and state health spending </dc:description>
  <dc:language>en-US</dc:language>
  <cp:lastModifiedBy>Jia Yao</cp:lastModifiedBy>
  <cp:lastPrinted>2002-05-16T21:44:34Z</cp:lastPrinted>
  <dcterms:modified xsi:type="dcterms:W3CDTF">2013-09-04T21:03:4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a | Since 1965, the growing federal share of personal health care expenditures has displaced private and state health spending </vt:lpwstr>
  </property>
</Properties>
</file>