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F6B-8A45-4FFB-A9C2-A86097E9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16C-EBFF-49D4-8324-30C654CA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A43-ABB3-4010-908E-B73162AA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B7D-79CE-4608-B1DA-625CE9A1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2ED-03AB-4167-B749-C67273A4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BE3-85E2-4C62-8FE6-3A8E584C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232-762C-47A3-8642-26214090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323-E587-45EC-8ED5-52413CD4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90C-75A5-446E-85DB-2727216D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0FE-90FD-43E5-B585-4D71666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833-6099-4B09-8CB8-11BDAC9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953-E765-4C0E-B9E1-71C22DBF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9A2-F68C-421A-B670-719AFC979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5Z</dcterms:modified>
  <cp:revision>39</cp:revision>
  <dc:subject/>
  <dc:title>PowerPoint Presentation</dc:title>
</cp:coreProperties>
</file>