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BD4E-3218-4AD9-9603-BAC395B9F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2b | ANNUAL COMPENSATION IN HEALTH SERVICE INDUSTRY BY SUB-SECTOR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B983-F94F-41DD-B17A-756CEC9FC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D4C-0AC5-455F-99DA-75B6BD96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5F72-3C74-413E-8D07-BB5210F6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14D-A1E9-4D5D-ACA9-D61D6CDE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456-D237-4135-ABB1-7ECC4442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2E84-90BD-499B-A79E-C7BB85EA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B35F-4D1D-4164-938A-C40DF696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4E14-D69B-4ADA-B78D-C397BC51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94D-E9EF-45E2-B781-04B8CA65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8059-53B5-4709-8F94-AAD465B7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A99-E05C-4A21-A5B7-B460A772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C969-34DD-4417-B433-FA8D042D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C49-29F1-4915-A7B3-1D5BC43A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B563-E178-4B4E-894A-510040ABB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2b | Average annual compensation is much lower in long term care facilities such as nursing homes than elsewhere in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37160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compensation per full-time-equivalent worker (2008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2b | Average annual compensation is much lower in long term care facilities such as nursing homes than elsewhere in health care</dc:description>
  <dc:language>en-US</dc:language>
  <cp:lastModifiedBy>Jia Yao</cp:lastModifiedBy>
  <dcterms:modified xsi:type="dcterms:W3CDTF">2013-09-06T15:08:38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2b | Average annual compensation is much lower in long term care facilities such as nursing homes than elsewhere in health care</vt:lpwstr>
  </property>
</Properties>
</file>