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FC7B-9697-468B-A84A-486D9DC14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B | RATIO OF COMPENSATION FOR HOSPITAL NURSES TO COMPENSATION FOR ALL WORKERS, U.S. AND SELECTED OEC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649C-E196-4113-8391-D8705A0F3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A05-9398-4ACD-AD15-308F2999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4F8-0183-4DF1-85E9-3880AD0E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B2A-1FAC-4AA7-8E8E-18BB8623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976-0B64-4D59-BF9C-8B9F3BF8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014-F678-4DE9-B6A4-57CE7C69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506-1EB6-4154-8BA0-7175CA26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F0B-F7E2-447C-95D9-3F5D3890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3F3-E3E0-45B2-9967-FC623BF3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791-E5BC-453F-865E-93604B41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84E-5611-41B9-95BA-F879A1C0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8F7-A057-4342-8767-B0D5278C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7A2-A308-4346-AB27-F6797991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75D1-309B-4BDC-BAF4-257E873F1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4b |  American h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ospitals nurses are paid more than twice the average worker wage, but the same is true elsew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14080" y="1752480"/>
            <a:ext cx="79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annual compensation of salaried hospital nurses relative to all workers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b |  American hospitals nurses are paid more than twice the average worker wage, but the same is true elsewhere</dc:description>
  <dc:language>en-US</dc:language>
  <cp:lastModifiedBy>Jia Yao</cp:lastModifiedBy>
  <dcterms:modified xsi:type="dcterms:W3CDTF">2013-09-06T15:08:5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b |  American hospitals nurses are paid more than twice the average worker wage, but the same is true elsewhere</vt:lpwstr>
  </property>
</Properties>
</file>