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E8FF5-677A-4451-9D7E-DEF321840C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B4F2C-82FC-4C34-BED1-0C916C63BD7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4.3a | HEALTH INSURANCE BENEFITS OFFER RATES AND TAKE-UP RATES, BY SIZE OF FIRM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9E18-183A-4BB6-B388-7133D0625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9226-8B61-4947-BA94-4A16859C3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7232-91C3-407C-A810-087CC4799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D9A5-550C-4197-8AB2-641DF8494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23CBA-203F-44EB-89EA-7371B6634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D13BE-FC22-4B86-87F0-CBBEBD69B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EF4B5-7143-4C34-AA1B-663B6AB53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07599-4D34-4E1E-93DD-F1C18A4B2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A1F2E-C401-4163-B68E-546B71A19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58F30-AFC3-45F4-986D-887231C48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DF626-3F52-4E5A-B1E7-B3366A83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E116-3C60-4302-9086-76CAC0B77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26060-DB8B-455B-AE6F-B646C56C0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758F8-A2D4-405A-B043-E67C4FAB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7EA9B-3016-44D6-8133-435673E62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D2809-3C84-44DE-A061-A386EB064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854D8-B30F-4163-8FA6-9AF04E5EC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275D-6E7D-49C5-BFBB-53808741D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7A46-DB05-4C60-B713-CE7AF7A8A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62FA-C826-428E-B6F2-FFABA7B83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6A09-C0A2-432E-BB7D-A98C6F603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32D9-7730-4F57-AB9E-DC84F2A6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D326-A141-4919-B442-EE0C660B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9630-8CBB-4C5B-AFE0-AEE59E13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F35C7-C58D-485C-9EA6-0CA0E58731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5A2EF-7A7E-4FB8-A40B-DA26A9B09D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4.3a | Under two-thirds of small firms offer health plans, but the share of workers eligible and participating in such plans is similar to large firms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101520" y="787320"/>
            <a:ext cx="9045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>
            <a:off x="-29880" y="5867280"/>
            <a:ext cx="940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Kaiser Family Foundation, The. Health Research &amp; Educational Trust.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Employ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Health Benefits 2010 Annual Survey.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ptember 2, 2010. http://ehbs.kff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g/?page=abstract&amp;id=1 (accessed November 21, 2010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5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4.3a | Under two-thirds of small firms offer health plans, but the share of workers eligible and participating in such plans is similar to large firms</dc:description>
  <dc:language>en-US</dc:language>
  <cp:lastModifiedBy>Jia Yao</cp:lastModifiedBy>
  <cp:lastPrinted>2002-05-16T21:44:34Z</cp:lastPrinted>
  <dcterms:modified xsi:type="dcterms:W3CDTF">2013-09-06T13:50:05Z</dcterms:modified>
  <cp:revision>94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4.3a | Under two-thirds of small firms offer health plans, but the share of workers eligible and participating in such plans is similar to large firms</vt:lpwstr>
  </property>
</Properties>
</file>