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E25-471A-4802-B412-3B19386B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E31-C0C6-4805-BED4-AB795B49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26E-87E5-40A7-AB3B-2414FFDA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E02-027F-4237-B6B5-5FFF008E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0F5-488B-4912-BC36-D6F9D0D0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AF9-36E2-4C9D-95D8-FEE79C23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09D-8C17-4A5B-83B8-FEE3BB39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94C-F916-4D4C-A44B-43652205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F24-ABC6-41B8-B24C-E5B0DC9A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34B-75C8-4A8C-B944-18E8FC11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FF10-D7EA-4947-A9E0-633B12A9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B91-E039-4521-9B8B-43879B46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2755-8967-4043-B771-383A6A951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63680"/>
            <a:ext cx="91281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6Z</dcterms:modified>
  <cp:revision>16</cp:revision>
  <dc:subject/>
  <dc:title>PowerPoint Presentation</dc:title>
</cp:coreProperties>
</file>