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1185-57CB-471D-854A-8C3A00045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A | FEDERAL, STATE, AND LOCAL EXPENDITURES, BY MAJOR PURPOSE, AS PERCENTAGES OF GDP, 1959, 1989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3FDF-3A8F-4336-85BD-85B2CBDB7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C53-6510-4797-BF3D-C6EAAAF5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ECF-A2A4-4D31-AE35-0332F2DC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52B-5D20-4425-9A95-FD8D05F1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E10-E3B4-4110-BAC2-024FE42B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C58-4D54-4314-9924-2E457E4F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1D5-D2B6-4FDC-B57D-4E99D6EF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3AE-2086-433A-AB3B-DBE9F895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178-010A-46FB-A5DB-C422CE05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A89-525B-490A-96ED-F89FD64D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EB9-5672-464C-9496-234F5176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DE3-A292-4CCA-B293-78788494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BD6-6283-4F13-A6A9-8E64E968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5BF1-DDAE-4D39-AC90-B4B7A8B0C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a | Government health spending has been the fastest growing major component of government budgets over the past 5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flipH="1">
            <a:off x="53352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this chart shows the 7 largest functional areas of federal, state and local budgets in 2010, rank-ordered by size in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a | Government health spending has been the fastest growing major component of government budgets over the past 50 years</dc:description>
  <dc:language>en-US</dc:language>
  <cp:lastModifiedBy>Jia Yao</cp:lastModifiedBy>
  <dcterms:modified xsi:type="dcterms:W3CDTF">2013-09-06T13:59:30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a | Government health spending has been the fastest growing major component of government budgets over the past 50 years</vt:lpwstr>
  </property>
</Properties>
</file>