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DF4B-2573-44B9-A655-55954629B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1b | Health Spending per Dollar of Wealth, 1950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92EA-9F57-49FF-B383-56C9A47EC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F95-944D-4281-8354-4B5B47BF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EDD3-C330-465E-9E0E-1D430043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9CA5-339E-4707-A09B-C7B3C485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7AC-5605-44A7-B479-E756BE83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1117-95C1-4FA4-8833-1EBC6C4B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87E-6633-48B4-A13F-CD457372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083-DBB9-4B8F-AC49-53F63E79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AD7-3ADF-45CF-B4B3-33D70216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347-9482-4FF8-A592-C50FE864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D0F8-C95A-4B9E-971C-7114857B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DF9-7932-4FCD-A2AF-2CF7E0F7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8CD-CF17-4AA5-B370-4CF31A42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6B8C-90A8-43A3-8618-5281307F2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1b | Health spending per dollar of wealth has almost quadrupled over 6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alth spending per dollar of net worth held by households and nonprof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1b | Health spending per dollar of wealth has almost quadrupled over 60 years</dc:description>
  <dc:language>en-US</dc:language>
  <cp:lastModifiedBy>Jia Yao</cp:lastModifiedBy>
  <dcterms:modified xsi:type="dcterms:W3CDTF">2013-09-06T15:26:01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1b | Health spending per dollar of wealth has almost quadrupled over 60 years</vt:lpwstr>
  </property>
</Properties>
</file>