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B9E-B4D8-4698-890D-3C529A3C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63F-0A32-4965-8343-835ACEA7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502-25D9-422D-8E80-FDFA9B9D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4FC-FD22-40CA-BD01-43608321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341-BDF0-4294-BCC1-761C99A7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E60-A1FF-4B5B-8F85-D55538C1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157-178D-481D-844C-01F56D3C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1CC-79CA-41CF-874C-D3766F50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B57-975D-4557-BD1D-F7869171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BE9-B62D-4586-AC51-46AE766C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E14-ED87-44DF-A8A5-5D365AA0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D5C-F5A0-4381-9375-3BDB71FC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F8D7-62A8-4205-A9FF-FE09DD343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143000"/>
            <a:ext cx="892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5Z</dcterms:modified>
  <cp:revision>14</cp:revision>
  <dc:subject/>
  <dc:title>PowerPoint Presentation</dc:title>
</cp:coreProperties>
</file>