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A5E-905E-4244-BB6E-BE442758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573-E988-4094-8088-26343BB6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996-C342-4A72-98C8-E2637B51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2F4-3AE4-4A13-9D17-DF884DD1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ADD-88AC-4202-9714-63B0DB9A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906-6490-4AE6-AE1F-4C10980D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42D-067F-4ADD-8C15-BCC5A6D1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A59-392E-4053-B75A-53C34281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26C-15FE-446B-9984-E4ED17E8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A3D-439E-429F-B8C7-162313EE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4BD-EEA2-4CF7-A5F0-82D06D8D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F6F-1A86-48D1-8E64-4ECBB19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3E79-0C21-4ED1-9D67-B10D482A0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1360"/>
            <a:ext cx="9067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8Z</dcterms:modified>
  <cp:revision>31</cp:revision>
  <dc:subject/>
  <dc:title>PowerPoint Presentation</dc:title>
</cp:coreProperties>
</file>