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8A1B-9400-4D21-9DE7-F5C3EB95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9DE-232F-4ACE-AEFB-A6ECBDCC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7894-2E34-4915-AB6B-93150A4C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0063-3CD0-42B9-A21A-1054929B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A9DC-B8FC-4268-8796-1004D8CE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C301-8D79-40CE-962B-2A829546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21E6-18C8-4AAF-AA0F-1B489980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B53E-F7FF-4368-9093-41EB205A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B228-5144-472B-9D64-A5324A77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BCC0-76FC-4358-9F74-1506F438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99E5-274E-49D6-80B5-820B094C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23D-99C9-4110-806C-816FB90E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6FC5-576F-426D-B4A3-E764786ED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2440"/>
            <a:ext cx="9144000" cy="669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9Z</dcterms:modified>
  <cp:revision>14</cp:revision>
  <dc:subject/>
  <dc:title>PowerPoint Presentation</dc:title>
</cp:coreProperties>
</file>