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C2CC-5BFE-4FC8-8BCD-115C8C223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a | Output per Hour and Output per Unit of Input Indexes (1987=100), Private Sector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7961-D92C-487A-9318-BB1FD5366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A23-A37F-40E6-9294-6B929BE6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6A6-682A-4F16-A279-BA156206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923-69AA-4B6D-8755-826E61EC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98B-56E2-4BC5-A199-C3DFF69B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60C-80FE-496F-88E4-AFF86C99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B48-B26E-46A3-B1AC-55EEEA75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714-5FD7-4D64-BECE-34D81DD2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1BF-7DD7-4E94-876C-A9D8317C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C16-C209-467C-87A3-A9177858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F9C-29C7-44F9-A181-6A6312A7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503-20A1-4872-9336-44CDED59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8F0-7794-42C6-88A8-E4AEAA96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E32D-9A41-44EB-9A1A-F76CC7533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a. Since 1987, low or negative productivity growth in ambulatory health care contrasts with steadier private sector productivity g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015920"/>
            <a:ext cx="840744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a. Since 1987, low or negative productivity growth in ambulatory health care contrasts with steadier private sector productivity gains</dc:description>
  <dc:language>en-US</dc:language>
  <cp:lastModifiedBy>Jia Yao</cp:lastModifiedBy>
  <dcterms:modified xsi:type="dcterms:W3CDTF">2013-09-06T14:59:03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a. Since 1987, low or negative productivity growth in ambulatory health care contrasts with steadier private sector productivity gains</vt:lpwstr>
  </property>
</Properties>
</file>