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C0C7B-F334-4A0D-813D-10C9B9F44F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03D41-54A4-427A-8423-64EE78339BF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Arial Narrow"/>
              </a:rPr>
              <a:t>3.3a | Personal Health Expenditures as a Percentage of GDP, by Source of Payment, 1929-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8DE9-3C43-4AEB-869B-62B4F1AFA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204F-4646-48C0-AFFB-CE171F07A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555A-1983-46CD-9D8A-F5B795163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F952-005B-49BB-922F-B9D289022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00EB5-599B-48CF-BD34-7438EA650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52987-DB0E-42E5-A855-8EB1D0C9C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FD1E4-5B33-466E-8924-31FBB493E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6F93B-7797-410D-94C7-D8FA2AE7E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8061E-8161-40EB-AD96-BD01A6716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E71EB-5513-4CC2-A8AC-08074C869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5143C-58E7-4307-8909-DC8B22735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896F-F725-4ED2-8BAC-6F7C1C538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9304A-5212-4A54-9E14-5BB2D764A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805E3-E0F5-426F-8A8B-E5D603FB7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70B23-A2FE-4377-AC94-87B633AF3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32758-1FB6-4219-AF67-89BAD99AE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B9D59-1993-4CBF-ACE9-F8AE833FA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208B-36F3-4EDD-A528-41BE24DAF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23E3-2F3A-4DA3-83DC-3829CB16C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74C7-9E3A-4CDC-BA51-1AC07CA74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087D-9C74-4634-9F93-F7E23CF70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48BB-53FF-4652-9B93-D31C35136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9551-8F4F-4A8C-88BF-D6D64DD3C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5BAA-32EA-4EC6-B878-BD9883D6A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96EBA-57C5-4444-B01C-4FA80BC931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2D1E0-E363-43B6-87CD-A6061E0E3A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Object 3" descr=""/>
          <p:cNvPicPr/>
          <p:nvPr/>
        </p:nvPicPr>
        <p:blipFill>
          <a:blip r:embed="rId1"/>
          <a:stretch/>
        </p:blipFill>
        <p:spPr>
          <a:xfrm>
            <a:off x="-50760" y="787320"/>
            <a:ext cx="9198000" cy="61214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3.3a | Since 1949, all of the growth in the personal health spending </a:t>
            </a:r>
            <a:br>
              <a:rPr sz="2400"/>
            </a:b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share of GDP has come from increased payments by third parties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TextBox 3"/>
          <p:cNvSpPr/>
          <p:nvPr/>
        </p:nvSpPr>
        <p:spPr>
          <a:xfrm>
            <a:off x="4273200" y="1600200"/>
            <a:ext cx="4073040" cy="3682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edicare and Medicaid begin (1966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93" name="Straight Arrow Connector 6"/>
          <p:cNvCxnSpPr>
            <a:stCxn id="92" idx="1"/>
          </p:cNvCxnSpPr>
          <p:nvPr/>
        </p:nvCxnSpPr>
        <p:spPr>
          <a:xfrm flipH="1">
            <a:off x="4038120" y="1784160"/>
            <a:ext cx="235440" cy="442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94" name="TextBox 5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3.3a | Since 1949, all of the growth in the personal health spending share of GDP has come from increased payments by third parties</dc:description>
  <dc:language>en-US</dc:language>
  <cp:lastModifiedBy>Jia Yao</cp:lastModifiedBy>
  <cp:lastPrinted>2002-05-16T21:44:34Z</cp:lastPrinted>
  <dcterms:modified xsi:type="dcterms:W3CDTF">2013-09-04T21:03:48Z</dcterms:modified>
  <cp:revision>2214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3.3a | Since 1949, all of the growth in the personal health spending share of GDP has come from increased payments by third parties</vt:lpwstr>
  </property>
</Properties>
</file>