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CFB9-60B4-4B0E-8FFA-CE2E69AA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51A4-592A-4B3B-ACDD-15E336D9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930C-A73E-4BAB-8E8F-449BCF20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D201-95FF-47AE-9747-C9CA21B8D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E549-CF74-4F02-B367-6CC72286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EB72-CBBC-4803-A657-3A4D6E4F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1E3B-E8D3-48CD-B2F2-3453DC37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D2B9-F8CE-476C-B1C4-5A1AF75F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D5D8-9E8B-4F0E-BCD6-75315239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489C-5030-4DCA-9BED-38F67DDF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40B8-354B-4200-9B61-690A6DAB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7873-A040-4DB3-AE98-9CDC68E9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1FF5-C134-4607-9D6A-4DD439E2C9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90440" y="0"/>
            <a:ext cx="696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27Z</dcterms:modified>
  <cp:revision>20</cp:revision>
  <dc:subject/>
  <dc:title>PowerPoint Presentation</dc:title>
</cp:coreProperties>
</file>