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A1E6-317D-4A60-A78C-1C94FBBFC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E549-D97D-4335-9FFA-B0DA4641C9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9a | General Government Expenditures as a Percentage of GDP, 1993 and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485D-F172-4CFF-ABB5-F371529F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2EB1-73CF-4B16-8DD0-F2B03503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BFDE-0155-4C18-B8EA-4F30AAE8F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CE90-C7CA-49B8-B27C-E3AAB2AC5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5C80-4E0A-4CD7-88E7-C23DC04EC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4C5C-0FAA-4966-9DCC-2DB6B730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2538-A0C6-4BDD-9952-166E0EE1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1DE5-4E2B-437E-90B7-7EE4DC03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EB7C-7F6A-41AC-8441-43EDAEEB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75C7-4404-4D1A-A12B-01C9764E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D20E-EE66-4DE4-84FB-E98B2B51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EC58-E30F-4574-9145-D661DCBD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8149-A2BE-4562-B070-4090920E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CF6F-76E7-4853-A09F-7DCA2807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C40F-5EDB-4195-9ABF-A04BC59B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E0CD-DF26-4456-B9C9-AA85583D1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00E9-103C-4295-9EDF-F93D82304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7B32-D4EA-49D0-B1E8-756D5E24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A7C7-072F-4349-9A3A-6EE74B53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875B-F453-44CF-97EE-B7ADA7B9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DB0A-CF6F-4EF7-8F2A-5E95C864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BD4B-FBD3-4BA9-A969-1306EEB7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D95F-BB52-4F25-B256-F15329B3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7FD9-2576-4579-8B30-FEC48322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A4CC-14FD-4015-862E-F40D442836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CC44-3C11-4EB5-8696-347C2458F8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9a | U.S. has a lower burden of government relative to its major G7 competito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380880" y="1924200"/>
            <a:ext cx="8377200" cy="493380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2209680" y="57913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eneral government spending (all levels) as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674280" y="623736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9a | U.S. has a lower burden of government relative to its major G7 competitors </dc:description>
  <dc:language>en-US</dc:language>
  <cp:lastModifiedBy>Jia Yao</cp:lastModifiedBy>
  <dcterms:modified xsi:type="dcterms:W3CDTF">2013-09-23T19:14:42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9a | U.S. has a lower burden of government relative to its major G7 competitors </vt:lpwstr>
  </property>
</Properties>
</file>