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E5B5-260A-4855-9CD7-06D5AF8EAE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1a | Real Output and Labor Hours in Health Facilities Index (1987=100)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9C74-6D70-4711-94D5-0D132C00F5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4412-1219-42A2-BBFD-EB764B16A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9503-824F-4F54-8E07-39245F0A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A8E3-5D45-4840-AE32-7A0135822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E2CD-D115-4CAB-8A5D-8332B32B4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2252-3403-4AA7-AF21-A8B3CE9E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713B-BE49-418F-B59B-D402B1FB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C6BF-E934-49CE-9715-0378FAED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D16A-400A-4E80-A819-BC93C25C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C311-CE3F-4EC2-81A4-87D09C60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FCE6-ACAA-4C4A-8F24-B2DA956C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C8D1-F8A7-4397-AF61-14339CC1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4372-2C15-419D-AA36-9D02A65B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A118-1F4C-4F62-A0EE-1CA61F7609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1a. | In hospitals and nursing homes, real output grew faster than labor hours over the past decade, but more slowly than all inputs comb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5597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1a. | In hospitals and nursing homes, real output grew faster than labor hours over the past decade, but more slowly than all inputs combined</dc:description>
  <dc:language>en-US</dc:language>
  <cp:lastModifiedBy>Jia Yao</cp:lastModifiedBy>
  <dcterms:modified xsi:type="dcterms:W3CDTF">2013-09-06T14:58:57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1a. | In hospitals and nursing homes, real output grew faster than labor hours over the past decade, but more slowly than all inputs combined</vt:lpwstr>
  </property>
</Properties>
</file>