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1F97-E2E7-42C0-99ED-ADD809B51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A | LIFE EXPECTANCY AT BIRTH WITH AND WITHOUT DEATHS RELATED TO VIOL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E52C-9DE9-435A-A21E-FC95E08F8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B2B-ADAA-4820-A12C-D22DFBC7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D4F-F532-4138-B96B-E592F983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88A-2A81-4A30-ADDC-D98F9894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3C2-3FE2-401C-96C7-5AA1A6DF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920-92B3-4036-97B7-A5B0C1CD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B91-EC5D-46FD-AC3C-9BF31059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2CD-2585-4F17-A063-02394A18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C2D-91BC-4474-BFD1-3041AECB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B84-33DC-4F32-B829-A73EE0E5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4ED-68C2-49EE-9D72-FBF4FD78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EDE-BDF7-43C7-ADED-D1386772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BE2-0C47-40DC-9106-284EA809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08FE-9630-4322-90FF-C975E60B6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a | Once higher-than-average U.S. rates of violent deaths have been taken into account, the U.S. leads the world in life expect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5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588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 Life Expectancy at Birth, 1980-1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61880" y="541008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47840" y="44197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Countries are ordered by standardized life expectancy derived by assigning e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the mean OECD fatal injury rate for the period shown; figures in parentheses denote ranking on unstandardized life expectancy at bir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a | Once higher-than-average U.S. rates of violent deaths have been taken into account, the U.S. leads the world in life expectancy</dc:description>
  <dc:language>en-US</dc:language>
  <cp:lastModifiedBy>Jia Yao</cp:lastModifiedBy>
  <dcterms:modified xsi:type="dcterms:W3CDTF">2013-09-06T15:41:1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a | Once higher-than-average U.S. rates of violent deaths have been taken into account, the U.S. leads the world in life expectancy</vt:lpwstr>
  </property>
</Properties>
</file>