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1C90-2483-4C3C-B7AC-F3256C88B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3B | MAJOR COMPONENTS OF HOUSEHOLD EXPENDITURES, HIGHEST INCOME FAMILIES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BCC5-BDA1-45BD-9C86-0797C093B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40EA-D965-4E1E-9AB6-7BE128D8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95B-C4B5-4098-ADB7-F5DDC030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FEC-F0C8-4140-B39B-6377567C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3E1-1A5B-4F88-997A-125D8238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75D7-F69D-497E-AF61-E3EF14AE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561-00DA-4D98-9F4E-2E4D47ED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C548-EB1E-4942-868C-4EADA42F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DAA-3CDE-4441-980A-4878A3BA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74EE-176D-486A-BA3E-06D84457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92A0-ECD3-490C-96DF-38197C53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958F-4C3D-4882-BBA2-A3EA3AF3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E3C-C5C2-407A-9137-A7593690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4743-1FF4-4572-AF09-C82F53AC8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3b | Direct health expenditures constitute less than 1 in 20 dollars spent by the highest income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397160"/>
            <a:ext cx="8559720" cy="505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676520" y="632448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Household Expenditures (ranked by size in 200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3b | Direct health expenditures constitute less than 1 in 20 dollars spent by the highest income families</dc:description>
  <dc:language>en-US</dc:language>
  <cp:lastModifiedBy>Jia Yao</cp:lastModifiedBy>
  <dcterms:modified xsi:type="dcterms:W3CDTF">2013-09-06T14:06:19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3b | Direct health expenditures constitute less than 1 in 20 dollars spent by the highest income families</vt:lpwstr>
  </property>
</Properties>
</file>