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6A2A-DEE9-4CAA-B3F7-E441FA74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D2F-80C8-4CB9-BFC2-2BF1BD76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A17B-4EA2-4CBD-9BFC-D0946B52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E0DC-8D42-4294-B82B-A01863F2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B24-4BB9-4DF7-9F11-C35409D8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DA94-92B2-4E1E-B76C-1838F3C4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085A-F479-4CE3-A865-616FBA1F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F81-78FD-4A3D-956B-35B89018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9CE-87F7-4162-B777-C3F2BA44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E429-A8A7-4E17-83F7-BE66DDE7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1A0-2732-4EC3-BC14-63D1D962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D995-3AC1-4E2D-A2BA-CA4DE149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DDE3-1893-4CBE-9A09-1AA60BB98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6Z</dcterms:modified>
  <cp:revision>14</cp:revision>
  <dc:subject/>
  <dc:title>PowerPoint Presentation</dc:title>
</cp:coreProperties>
</file>