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5C55-7373-4A27-A869-ED9F5DD1E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A | COST OF MEDICAL TORT SYSTEM RELATIVE TO NATIONAL HEALTH EXPENDITUR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68C2-3250-457B-8D77-C9EC5A4E7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FA2-3DBE-4C19-897D-51705447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250-ABC2-468D-AE55-9DA99F89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D48-800C-4CEF-936A-3943B68B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B25-7CE5-43B5-8C27-96805ECA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68C-F0A9-4428-9111-CE294AC9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84F-0EDB-4F0F-B198-553042B5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468-42E0-4DC6-A82B-FFDC50FE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C12-ABED-4FB8-936A-5FCD2D5D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645-5F6B-4DCF-8E25-DFB99AE7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391-6895-4EE9-A6FA-06325F25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00C-E685-4082-95B0-69AA2C40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E75-5F21-4492-84B9-F350C206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5D75-413D-4908-ACB7-6FAF9CAE6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a | The direct and indirect costs of the medical tort system amount to about 6 dollars for every 100 dollars of health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cost per $100 of national health expenditure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85360" y="5759280"/>
            <a:ext cx="843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over CJ with EP Zeit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Services Regulation Working Paper No. MTS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shealthpolicygateway.files.wordpress.com/2009/06/mts1-medicaltortsyst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 (accessed August 3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a | The direct and indirect costs of the medical tort system amount to about 6 dollars for every 100 dollars of health spending</dc:description>
  <dc:language>en-US</dc:language>
  <cp:lastModifiedBy>Jia Yao</cp:lastModifiedBy>
  <dcterms:modified xsi:type="dcterms:W3CDTF">2013-09-06T15:41:0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a | The direct and indirect costs of the medical tort system amount to about 6 dollars for every 100 dollars of health spending</vt:lpwstr>
  </property>
</Properties>
</file>