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F4CB-DE8E-4285-B853-21856946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DCA2-9E3C-4117-AE5A-6F7EE923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186D-7023-49B2-9A8C-9AEF495C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C2AF-0B05-4422-AC1F-B0CF212D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8078-9628-4BAB-B84B-1AFE40D5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EEF2-8C98-4184-8A46-33750B9C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758F-5BF5-47FF-BE39-5FF78CC5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C722-78AC-4E3C-852D-D6F7EA88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A874-0828-4855-94B4-9FC6BBCD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1B68-5975-4919-8687-F8E5B946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5C2A-5F92-4FB7-B6C0-F16793C8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928A-885D-44B8-96D4-E87B99BE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CD2E-41D6-46A7-898E-A5741AD2E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187280"/>
            <a:ext cx="892944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9Z</dcterms:modified>
  <cp:revision>22</cp:revision>
  <dc:subject/>
  <dc:title>PowerPoint Presentation</dc:title>
</cp:coreProperties>
</file>