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C081-43CB-4C40-85D8-FE20697E48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7B | PER CAPITA SPENDING FOR INSURED AND UINSURED PATIENTS, BY SOURCE OF PAYMENT, 2008</a:t>
            </a:r>
            <a:endParaRPr b="0" lang="en-US" sz="1200" spc="-1" strike="noStrike">
              <a:solidFill>
                <a:srgbClr val="000000"/>
              </a:solidFill>
              <a:latin typeface="Calibri"/>
            </a:endParaRPr>
          </a:p>
        </p:txBody>
      </p:sp>
      <p:sp>
        <p:nvSpPr>
          <p:cNvPr id="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5816-0A13-4F6D-8B95-DAE3843D84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BB8AD-9B60-4EBA-99E2-6FC3092D7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69288-83F0-4528-A875-F39EE4A9A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C867E-2776-4A73-A857-525C8081E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F3F38-57CB-44C2-BC8A-A0C79A619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37977-20BF-435D-B4C0-CAB64F65D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09297-38AB-4B7D-BA9F-A497D345F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04AE4-AB45-4E7F-B754-D332C41FD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C6AFD-33C3-4E75-B950-ADC135915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52219-0873-4806-A0E1-5ABE7C3B3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AD5A7-C10B-48A1-B67F-CB09F049B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722BC-C948-4B83-8C30-89F7106B1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6A90F-F6B7-4D58-940C-A423A3B84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0C41-43E9-4E28-ABCE-9BEE2D44699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04560"/>
            <a:ext cx="8534160" cy="94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7b  | Relative to their adult counterparts, uninsured children have annual spending that is closer to the levels of those covered all year</a:t>
            </a:r>
            <a:endParaRPr b="0" lang="en-US" sz="2400" spc="-1" strike="noStrike">
              <a:solidFill>
                <a:srgbClr val="000000"/>
              </a:solidFill>
              <a:latin typeface="Calibri"/>
            </a:endParaRPr>
          </a:p>
        </p:txBody>
      </p:sp>
      <p:pic>
        <p:nvPicPr>
          <p:cNvPr id="49" name="Content Placeholder 4" descr=""/>
          <p:cNvPicPr/>
          <p:nvPr/>
        </p:nvPicPr>
        <p:blipFill>
          <a:blip r:embed="rId1"/>
          <a:stretch/>
        </p:blipFill>
        <p:spPr>
          <a:xfrm>
            <a:off x="330120" y="1168560"/>
            <a:ext cx="8559720" cy="5740200"/>
          </a:xfrm>
          <a:prstGeom prst="rect">
            <a:avLst/>
          </a:prstGeom>
          <a:ln w="0">
            <a:noFill/>
          </a:ln>
        </p:spPr>
      </p:pic>
      <p:sp>
        <p:nvSpPr>
          <p:cNvPr id="50" name="TextBox 5"/>
          <p:cNvSpPr/>
          <p:nvPr/>
        </p:nvSpPr>
        <p:spPr>
          <a:xfrm>
            <a:off x="2286000" y="5181480"/>
            <a:ext cx="493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ype of insurance coverage (non-elderly Americans)</a:t>
            </a:r>
            <a:endParaRPr b="0" lang="en-US" sz="1800" spc="-1" strike="noStrike">
              <a:solidFill>
                <a:srgbClr val="000000"/>
              </a:solidFill>
              <a:latin typeface="Calibri"/>
            </a:endParaRPr>
          </a:p>
        </p:txBody>
      </p:sp>
      <p:sp>
        <p:nvSpPr>
          <p:cNvPr id="51" name="Text Box 4"/>
          <p:cNvSpPr/>
          <p:nvPr/>
        </p:nvSpPr>
        <p:spPr>
          <a:xfrm>
            <a:off x="484200" y="5715000"/>
            <a:ext cx="827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e: all figures compare estimated spending for the uninsured in each category to simulated spending if the individuals in each category were fully insured, taking into account differences in health status, demographic, and socioeconomic characteristics.</a:t>
            </a:r>
            <a:endParaRPr b="0" lang="en-US" sz="1600" spc="-1" strike="noStrike">
              <a:solidFill>
                <a:srgbClr val="000000"/>
              </a:solidFill>
              <a:latin typeface="Calibri"/>
            </a:endParaRPr>
          </a:p>
        </p:txBody>
      </p:sp>
      <p:sp>
        <p:nvSpPr>
          <p:cNvPr id="52" name="TextBox 7"/>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11:52:14Z</dcterms:created>
  <dc:creator>Kristy</dc:creator>
  <dc:description>6.7b  | Relative to their adult counterparts, uninsured children have annual spending that is closer to the levels of those covered all year</dc:description>
  <dc:language>en-US</dc:language>
  <cp:lastModifiedBy>Jia Yao</cp:lastModifiedBy>
  <dcterms:modified xsi:type="dcterms:W3CDTF">2013-09-06T14:06:32Z</dcterms:modified>
  <cp:revision>26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6.7b  | Relative to their adult counterparts, uninsured children have annual spending that is closer to the levels of those covered all year</vt:lpwstr>
  </property>
</Properties>
</file>