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1975-DB62-4C01-B161-4324E807A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68D3-F77E-4ACE-8E27-716045629B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a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9E4-8944-408D-A534-06A64E64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BDB-0647-41A4-8539-5C7E618A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698-F36C-48E8-A224-654E3479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27D-36D2-4577-80C4-D1489AC7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38FE-3C08-4D97-B295-3F75FA55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26D5-9491-4A35-94F4-BFCAA363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9366-4F6A-4081-B089-79627762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6868-0099-4E44-A19C-206534B9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2893-BC8B-4BDD-9A56-F1B06C89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61F1-6403-43D7-BCBD-567E7CE7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A505-C724-484B-BF84-2ED9A041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203-4D73-45CF-A46A-095C2273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670B-DC4B-46B8-9864-F0E4538B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8235-3787-4918-896D-18E8BC1D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24F4-4207-46C2-99F1-2CBED0E1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FDD1-3891-40D4-A8C9-EB66E905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ED0A-F07B-45D3-9DFE-3D346D90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EF0-D98C-45A2-9CD4-C9854509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AEE-C344-4F1F-86B5-077B1FF2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EDB-1FF4-45D3-ADED-AF54CA0E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02F-9A33-4206-83E6-B3836FBD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599-82C0-4CC6-9BDF-5A633205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E92-EAB7-4605-8FA0-CB585951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5E8-CA07-4F6D-9B27-A3C2A4CB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5DA3-8331-44C0-AA97-B0ED29671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3EDD-5146-4BC9-8C0C-8B57806FC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a | Over six decades, both health and non-health supplements to wages and salaries have grown dramatically relative to worker p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a | Over six decades, both health and non-health supplements to wages and salaries have grown dramatically relative to worker pay</dc:description>
  <dc:language>en-US</dc:language>
  <cp:lastModifiedBy>Jia Yao</cp:lastModifiedBy>
  <cp:lastPrinted>2002-05-16T21:44:34Z</cp:lastPrinted>
  <dcterms:modified xsi:type="dcterms:W3CDTF">2013-09-06T13:49:57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a | Over six decades, both health and non-health supplements to wages and salaries have grown dramatically relative to worker pay</vt:lpwstr>
  </property>
</Properties>
</file>