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F44C-0C88-40FC-8B30-C5F2D0565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8BDD-3DD6-4C0E-BA51-4A6CC6E00D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a | DISTRIBUTION OF PERSONAL HEALTH CARE EXPENDITURES BY MAJOR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270-B63B-4184-8D40-04370127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720-ABDB-457A-9B0F-9F4219EB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6BA-69E2-4945-8894-E3865B50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0D2-59FE-42D3-9764-53A0F0BE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A6BD-4055-4B60-B99B-86193783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D5A-2C33-462F-BD04-7CBFED8F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456A-9FDB-4477-89AE-8AB50DA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652-5A49-4270-97E4-D47FDB5D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584B-272C-48C1-979F-5686326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A5B8-2A8B-460A-B441-E290D21E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7A22-5604-4280-80A6-CA13C5D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F7D-FF5C-43B0-8DD3-48CC3DE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77D9-BCC0-416A-81AB-4DAFD6D7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9918-38DB-4C99-AE17-3646EAB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7321-764C-4D6C-A896-828F012D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F8C-2A24-4664-AD32-07E5CCE0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B19-871D-479F-BCB9-52704B76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164-E92D-44AE-A773-C17AB08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589-4457-4ED3-A3B0-EA66F09A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003-876D-4EAB-AE9B-D019EF8D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AF9-B8FE-4EB1-970A-499044E1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195-EE81-4D8A-B1EB-7ECD11D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4CE-F8A0-4204-BC49-5D89144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4EC-7782-45D4-B4F7-85EE4C50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CC5F-9CAC-4964-9A74-803B65016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6485-F81A-4C7D-910C-25EE320F0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a | Professional services--once accounting for nearly half of all health costs--have returned to being the largest single share of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a | Professional services--once accounting for nearly half of all health costs--have returned to being the largest single share of spending</dc:description>
  <dc:language>en-US</dc:language>
  <cp:lastModifiedBy>Jia Yao</cp:lastModifiedBy>
  <cp:lastPrinted>2002-05-16T21:44:34Z</cp:lastPrinted>
  <dcterms:modified xsi:type="dcterms:W3CDTF">2013-09-04T18:13:21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a | Professional services--once accounting for nearly half of all health costs--have returned to being the largest single share of spending</vt:lpwstr>
  </property>
</Properties>
</file>