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4E0-0ABA-49D5-82D2-1E316721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A20-CF34-4B3D-A629-7D345C0F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2A87-09EF-4ED6-BF4F-C21404A2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E10-A9D1-4C2F-9B07-B6CF8E13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ABC-19A2-4D62-A067-B14BF4DA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7048-94B0-4DC3-A9A6-692473F1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B67-A8C5-4A37-9A95-2B9AF04F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946-8CA8-472A-B4E1-B5001509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9FD-50B9-40C1-B4B7-088977EC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C8B-ADE3-4D4E-AE0D-43B98348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296-597E-4D8A-A3CC-8499AB6E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22F9-FE14-4C02-986E-3022A8DF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2BA0-3242-490B-9BE1-F7DD9A119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0320"/>
            <a:ext cx="9144000" cy="65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8Z</dcterms:modified>
  <cp:revision>10</cp:revision>
  <dc:subject/>
  <dc:title>PowerPoint Presentation</dc:title>
</cp:coreProperties>
</file>