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B572-23BB-48E0-A70D-FD9628341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4A | MALE OBESITY RATE, FEMALE OBESITY RATE AND ADULT SMOKING RATE, G7 COUN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3017-2578-431A-BD39-20E07085F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AE5-89DD-4859-83B8-393F7846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A6F-8AFD-432C-AD7C-D6E567B6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146-7CAD-428B-BACD-CB5FE575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1F5-320E-4EB8-980D-041CC81B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82F-2E77-48A3-9382-A653435A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B09-53CA-4931-B4B0-D930380A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B05-A2A9-4834-9FEB-35800F93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EE1-9C89-422E-A51B-2E219754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DDF-EBE0-4EBE-8602-D6BB63BB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B45-CCC6-4765-9FF1-965E2960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39C-7E59-4A88-A516-E3AD20FC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B10-CF81-4ED1-A76E-86D83667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C824-1A8A-41EB-9219-466468D50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4a | The U.S. has far higher obesity rates but much lower smoking rates than its major G7 compet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Adults Age 15 and 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311840" y="586728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measured obesity rate.  SR = self-reported obesity r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4a | The U.S. has far higher obesity rates but much lower smoking rates than its major G7 competitors</dc:description>
  <dc:language>en-US</dc:language>
  <cp:lastModifiedBy>Jia Yao</cp:lastModifiedBy>
  <dcterms:modified xsi:type="dcterms:W3CDTF">2013-09-06T15:41:2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4a | The U.S. has far higher obesity rates but much lower smoking rates than its major G7 competitors</vt:lpwstr>
  </property>
</Properties>
</file>