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D3FB-5ECA-4B0F-9394-07F1F3D1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4038-199D-4DCD-BE51-F9436885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806A-8C31-420B-B25A-A5FBEBD0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2FDB-466A-444A-8F42-4F6B22C9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D564-D997-439C-9BB7-15FD72CA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1355-8BA0-47F7-8FA8-BA45B67E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3DD6-8440-4030-9FB5-664B7464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30FF-DA4F-4229-8664-4946E34D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EE1B-CDED-4DD9-A303-5C19E2D0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198B-C500-4CB1-AD7A-AFAC9388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0A33-5E0A-4069-86D0-E67237FC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4C0C-3643-4E2A-93B8-B56745CC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170B-B87A-41A4-9AA7-71C3DFDB5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360" y="355680"/>
            <a:ext cx="91076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27Z</dcterms:modified>
  <cp:revision>37</cp:revision>
  <dc:subject/>
  <dc:title>PowerPoint Presentation</dc:title>
</cp:coreProperties>
</file>