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2EE9-3B9C-4DD5-88F7-88578FCCD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C | TRENDS IN PROFITABILITY: RETURN ON EQUITY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3FC5-2BC8-4F94-AB68-81E834921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8A8-4B44-4349-9CBD-C9619747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3A1-61DB-48E8-BBBD-D5019B97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B94-F0C0-4FC1-8506-FDD3D638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732-BC08-4C8A-8C6D-1AF1513E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16F-7252-4BD5-BB16-09BF1B05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D88-BC06-4012-9EAF-231C883C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246-A30A-4476-A16B-6BFF1693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93E-4EC6-45F7-BFAF-F78F12CB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9EB-65C8-4E12-BBD4-17F2F260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934-09A2-469D-9AD2-22FCEDE8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F1B-353A-482F-8D8A-AD062270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6A66-A25F-45FD-A434-4A614F1F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33C1-AF42-4CDC-BC00-BF530D9E6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7c | Both pharmaceuticals and medical products have somewhat lower industry rankings on return on equity than other measures of prof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78880" y="1143000"/>
            <a:ext cx="66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Equity (RO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1440" y="5345280"/>
            <a:ext cx="834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11). While the number varies slightly by year and profitability measure, roughly 50 industries 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c | Both pharmaceuticals and medical products have somewhat lower industry rankings on return on equity than other measures of profit</dc:description>
  <dc:language>en-US</dc:language>
  <cp:lastModifiedBy>Jia Yao</cp:lastModifiedBy>
  <dcterms:modified xsi:type="dcterms:W3CDTF">2013-09-06T14:17:17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c | Both pharmaceuticals and medical products have somewhat lower industry rankings on return on equity than other measures of profit</vt:lpwstr>
  </property>
</Properties>
</file>