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D31C-5349-4067-BD46-3CE7F589B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2 | AVERAGE ANNUAL CHANGES IN HEALTH EXPENDITURES DURING ECONOMIC CONTRACTIONS, 196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68C7-D4FA-4F39-B6F4-0707059EB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6D3-DC39-40D1-B3DF-8A83B09D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D72-9134-477C-B295-3FF7768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C33-9082-49A6-B541-B7BF8E35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F5D-27AE-4B25-8CBC-7F0E1B00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011-68B4-45CF-A5F2-8697089A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92D-4B88-4482-B7B8-D45059EA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C68-B5DB-4DDD-A690-C72D594C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19C8-AC3A-4DC2-8FFB-FABD3C10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7B6-9EC8-4170-AFCC-38B1F072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F33-D529-43CF-8CAD-064EB255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DC7-289F-4A89-8670-40C2C49D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5EF-26FD-4E7A-9E15-D208ED5F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3508-6E98-41AE-97B8-0C2FE9DF3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2 | Medicaid spending occasionally is more counter-cyclical than other health spending, growing relatively faster in down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2 | Medicaid spending occasionally is more counter-cyclical than other health spending, growing relatively faster in downturns</dc:description>
  <dc:language>en-US</dc:language>
  <cp:lastModifiedBy>Jia Yao</cp:lastModifiedBy>
  <dcterms:modified xsi:type="dcterms:W3CDTF">2013-09-06T15:28:08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2 | Medicaid spending occasionally is more counter-cyclical than other health spending, growing relatively faster in downturns</vt:lpwstr>
  </property>
</Properties>
</file>