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33D5-F76C-417F-8773-BE9438775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0 | INFANT MORTALITY INDEX (US=100) BY NUMBER OF WEEKS OF GES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733C-EC86-41D9-909C-3C92E6DB6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5AC-5DD3-4205-B16A-80E6B29D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CB97-9C6B-468D-A5F4-A4153376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E45-BE45-493E-9EA9-AF535A61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7F9-FBDA-49D6-A0B6-42CB1A92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93D-DD1A-4616-8E06-C569E4AA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21E-CB9D-4692-9BC3-4AB5E0DB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2939-D2D7-4F08-81E4-499C8AB0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C12-A622-4FEA-B51B-6BC91A39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4E7-EF45-4A77-A86C-3371AAFE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E69-AF0E-416B-9B62-DF4F32D3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A7B-E28C-4140-8BFD-D4A2F438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C53-5284-4882-9C8D-D27891B9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2337-7DAA-459D-B656-6F8B81CE2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0 | Except for Sweden and Norway, the U.S. generally leads to world in saving the lives of premature inf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244520"/>
            <a:ext cx="8483760" cy="4368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0040" y="537516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: countries listed (left to right) from best to worst for infants with the shortest gestation perio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209680" y="1447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ant mortality index (U.S. 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00040" y="5764320"/>
            <a:ext cx="796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MacDorman MS and TJ Mathews. Behind International Rankings of Infa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tality: How the U.S. Compares with Europ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ional Center for Health Statis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ata Brie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23. Hyattsville MD. National Center for Health Statistics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0 | Except for Sweden and Norway, the U.S. generally leads to world in saving the lives of premature infants</dc:description>
  <dc:language>en-US</dc:language>
  <cp:lastModifiedBy>Jia Yao</cp:lastModifiedBy>
  <dcterms:modified xsi:type="dcterms:W3CDTF">2013-09-06T15:41:1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0 | Except for Sweden and Norway, the U.S. generally leads to world in saving the lives of premature infants</vt:lpwstr>
  </property>
</Properties>
</file>