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0C9F7-005C-4522-96AE-1DC926AB65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CB430-EDEC-4EA1-A24D-8D62DC3C3E2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4.1b | EMPLOYER CONTRIBUTIONS FOR HEALTH INSURANCE AS A PERCENT OF ALL EMPLOYER-PAID FRINGE BENEFITS, 1948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895B-1856-46F7-A1FD-7466EE78E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02BE-1EC7-42CB-9B7C-2D7545FEB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79B6-6096-4DDD-B4FE-6170CDE52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1159-681F-473D-AD2D-4FBB04322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2358E-6CC8-4BCF-BA25-239D1FC3E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CD317-136A-46B2-9EED-ADA4EF133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4CFAE-1B2D-468B-8DC4-2760231E0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00428-9EA4-49B7-B08B-46E499EE5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418D0-D356-4E41-9A25-72EF1BB6A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763A9-C647-4B00-9363-FB7C8E24E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18E85-0D4E-40BE-AAC5-D04A94C8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F31A-228F-496A-858D-B8508F93E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B8F26-EFEE-47C9-B9F3-AD2BA1D8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58ED3-0CB7-47A0-9CAB-C93750A0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90096-7CD9-46F6-BA5F-AC1A8A173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25207-278C-4F44-8D17-CE71C125A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547BB-49A9-4A64-9FA6-E90AE3D56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DFFA-F5ED-4414-A05E-2C517B659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EDB9-04CA-4A6E-9B2B-C437202B6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69EA-CF73-4512-BFA8-77093396D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A172-68A8-4B06-9B92-3E36E2EB3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B197-FAAA-4250-A5F8-AB0E5069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E3E3-8735-47B0-9472-F4AC7A73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F575-912A-430C-BB24-5726FE8A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0D9A2-8FFE-4AD3-B988-24D0DA7D47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D7954-20D0-4AF0-9A52-ADB452C1FB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4.1b | Health-related employer contributions have absorbed a growing share of supplements, now accounting for nearly half the total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4.1b | Health-related employer contributions have absorbed a growing share of supplements, now accounting for nearly half the total</dc:description>
  <dc:language>en-US</dc:language>
  <cp:lastModifiedBy>Jia Yao</cp:lastModifiedBy>
  <cp:lastPrinted>2002-05-16T21:44:34Z</cp:lastPrinted>
  <dcterms:modified xsi:type="dcterms:W3CDTF">2013-09-06T13:49:59Z</dcterms:modified>
  <cp:revision>94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4.1b | Health-related employer contributions have absorbed a growing share of supplements, now accounting for nearly half the total</vt:lpwstr>
  </property>
</Properties>
</file>