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D34C-5166-43B9-8693-3317321123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5c | If 1 percent excess growth persists, almost 90 percent of GDP increases  will be devoted to health care by 20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A6A9-344C-42C9-ADAD-EEC450089A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7F6A-B3B4-4D85-BF0F-5B521EA8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B5EB-3F1C-4803-9C8A-DA60BB32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7DC7-7118-4B14-B32B-D89630F2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7956-ED00-4BAE-A99C-BB68B439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6ECB-B19B-44CF-B654-652C47CD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FA70-D4E8-4695-80C3-11F356AB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9210-3152-4AB4-A45A-7E545D2D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8B0B-3DC9-48C7-B9CC-AE3852DC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ED58-CF03-4D7C-A403-BCFDCC09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49EE-6B8F-4630-94A9-0ACDFC3B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FBD1-0282-4334-A763-45C38114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9517-606F-4635-9010-92DB429A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96ED-52A1-479A-968C-2C501074E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5c | If 1 percent excess growth persists, almost 90 percent of GDP increases  will be devoted to health care by 208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054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95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are of increase in inflation-adjusted GDP per capita devoted to health c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5T19:35:40Z</dcterms:created>
  <dc:creator>Jia Yao</dc:creator>
  <dc:description/>
  <dc:language>en-US</dc:language>
  <cp:lastModifiedBy>Jia Yao</cp:lastModifiedBy>
  <dcterms:modified xsi:type="dcterms:W3CDTF">2013-09-25T19:36:19Z</dcterms:modified>
  <cp:revision>1</cp:revision>
  <dc:subject/>
  <dc:title>20.5c | If 1 percent excess growth persists, almost 90 percent of GDP increases  will be devoted to health care by 2085</dc:title>
</cp:coreProperties>
</file>