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E972-E575-47CF-AFBF-4DB2ACEF8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F48D-C08E-4D08-AF3D-11E43B884A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a | Health Spending, by Source of Financing, 20 Largest OECD Nation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98D3-D014-44B4-8633-0BD82CF4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DF4-F2B8-4928-8D5D-765AA369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E41-0B1D-4693-9003-F7AC5369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8F9-F9E2-4AD5-83CE-6AA84070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0244-7E9F-4A69-A0A8-628E4BE9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DDEC-A3A8-4051-8E91-687BBE3B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340D-53A8-49EA-88D0-18E82BA4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EC96-BBF1-4734-81E6-74EB28C7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5FC2-0B48-468B-AE99-2E0A90C2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1FC7-9D94-4A47-9A03-1F9E961B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DB50-796C-4ECA-BEFF-E2BBC35E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319-FB64-4974-99A8-0A29E481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8581-32F8-424E-BC0B-D31AA4DC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FA31-D128-41B4-8F23-028ABF09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5A0C-A5E3-4D33-BA4A-00D8D93B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7681-BA30-412E-BFF3-900CF435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A2E7-9E27-4B51-B279-129055DE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5D3-5939-445D-87CB-F8980EC8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7D9-B11B-419B-B518-15ED9FFB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F40-AEDF-4451-8AFF-7C58F8C8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1F2-9879-40A0-9813-F6F2C36E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504-9C7A-4C14-A833-B66CEBB6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29F-74D3-409D-B0FA-E2B403B3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057-60EC-4678-9BAF-850C5280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C25C-717C-4834-B747-06454A7F6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E22E-7C30-46C9-A00E-5BE676B8F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a | Among the 20 largest economies in the OECD, the U.S. has the fourth lowest percent of health costs paid for out-of-poc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291960" y="787320"/>
            <a:ext cx="8560080" cy="5626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495520" y="6019920"/>
            <a:ext cx="576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Countries ranked by out-of-pocket share of total health spend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a | Among the 20 largest economies in the OECD, the U.S. has the fourth lowest percent of health costs paid for out-of-pocket</dc:description>
  <dc:language>en-US</dc:language>
  <cp:lastModifiedBy>Jia Yao</cp:lastModifiedBy>
  <cp:lastPrinted>2002-05-16T21:44:34Z</cp:lastPrinted>
  <dcterms:modified xsi:type="dcterms:W3CDTF">2013-09-04T21:03:59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a | Among the 20 largest economies in the OECD, the U.S. has the fourth lowest percent of health costs paid for out-of-pocket</vt:lpwstr>
  </property>
</Properties>
</file>