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8BE-3610-44AB-989B-FEEDAE31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539-4DE6-40F6-8CC8-93673EDB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A46F-F872-46EE-8527-2F79F978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6D79-8F7B-4922-A1A4-045CB65B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225-B9A5-4193-AD2D-49586A82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CB5D-D426-4551-A93F-752BA3BD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6EE-B9E5-495F-96D0-844DF8A0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02CD-366F-47D2-BE0B-C04B62C3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078-4880-4884-912B-F2E26483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2E8D-10D7-4567-9D11-26524FA3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0DE2-CCB0-4CF1-8352-D9A77BDA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A54-16C6-465C-9D46-AC88A947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6072-CB92-4136-A4E9-761935912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80" y="76320"/>
            <a:ext cx="913464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6Z</dcterms:modified>
  <cp:revision>30</cp:revision>
  <dc:subject/>
  <dc:title>PowerPoint Presentation</dc:title>
</cp:coreProperties>
</file>