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0C93-3F30-4342-844C-A4C9466AB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C | PERCENTAGE OF PRIVATE EMPLOYEES IN SELECTED COMPONENTS OF HEALTH SERVICES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3158-4186-4A57-B267-2ED0542CF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3E3-7D68-44CD-90FC-E313DA90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EB1-3326-472F-BFEF-2AACA5AD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84F0-E17B-4C1F-9BF8-F51F10DA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6D9E-C47B-4735-843C-5D41DFE2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B77-6240-4114-A1DE-BB52F77C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4D0-F760-4136-9488-2BF054C8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94E5-2DA6-496E-9AA4-DB0EBA9A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6ECA-7952-4926-8EC8-D5C0B2C1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8551-6217-4300-97BB-24439443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787-1B2F-4123-BA9D-E654496E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47D-E595-4905-AEEB-D0C78E1A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7A2-6367-494C-AF58-5A29CB84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B54E-B6F0-4CF0-8347-730FC16E8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c |  In the goods-producing area of the health sector, most employees work in medium or large-size fi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1015920"/>
            <a:ext cx="8560080" cy="5892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447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employees within an industry working in firm size show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c |  In the goods-producing area of the health sector, most employees work in medium or large-size firms</dc:description>
  <dc:language>en-US</dc:language>
  <cp:lastModifiedBy>Jia Yao</cp:lastModifiedBy>
  <dcterms:modified xsi:type="dcterms:W3CDTF">2013-09-06T15:22:51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c |  In the goods-producing area of the health sector, most employees work in medium or large-size firms</vt:lpwstr>
  </property>
</Properties>
</file>