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416-4500-4564-81EC-C573E5573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A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050C-6B82-4041-8C5C-22E9E381F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A11-704A-49AF-B63D-1BC00C18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8AB-7D16-46AF-B78C-6A7C3CD5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B51-5B04-412A-AB64-9FCD2B19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613-4399-48C1-926E-F64EBA1B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D97-25D2-4F2D-A24D-B1DEE1B7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485-9137-430B-98B0-A60CFDD0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917-6AF0-4EEE-A71A-D76E432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33D-BA66-4F79-B968-FF81176E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A18-14A8-4F6B-AC6D-1FF5760E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6F1-799A-4B4A-8B0F-CA00F323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02D-74F3-4A92-940B-1DEFF109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CBD-528B-46F0-8B68-0A51122E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873D-7997-4BD7-B421-380722CE6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9.1a |  Even after accounting for the resources spent to add a year of healthy life, U.S. health spending appears to provide good value for 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5600" y="160020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, 1987-2000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1720" y="5759280"/>
            <a:ext cx="85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Health Report Card for the N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HE Presentation. June 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. http://healtheconomics.us/conference/2006/plenaries/powerpoint/cutlermadi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 (accessed August 1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a |  Even after accounting for the resources spent to add a year of healthy life, U.S. health spending appears to provide good value for money</dc:description>
  <dc:language>en-US</dc:language>
  <cp:lastModifiedBy>Jia Yao</cp:lastModifiedBy>
  <dcterms:modified xsi:type="dcterms:W3CDTF">2013-09-06T15:40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a |  Even after accounting for the resources spent to add a year of healthy life, U.S. health spending appears to provide good value for money</vt:lpwstr>
  </property>
</Properties>
</file>