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2F23-68B3-4982-8A8E-076E40BDE4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3B | PHARMACEUTICAL PRODUCTS AS A SHARE OF U.S. EXPORTS, IMPORTS, AND NET TRADE BALANCE, 199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58A0-3890-4EAF-9EAE-216D9E606B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EA1B-54E0-45B6-9ABD-B08BA305E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253D-73AD-4044-B8CE-16225D9F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A8EF-4559-4250-A284-7371F040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F85B-D4A6-42B8-9DB9-DF2E63160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D460-5B21-450E-A11A-36B92A21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3E33-B3DF-44F0-BF1A-A1204FD8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ED3F-15E9-4B5A-8F11-9A584604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F8AB-627D-4EFE-A387-760DFB60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49E5-47F8-4DE2-9D63-74024A56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A33C-EDE2-46BF-962D-6D3E80CB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9E96-AFA5-413A-AD32-99292367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8C26-7DA3-47C0-95FC-3F4F5772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D21C-2E9C-453F-B6C9-D53ED66219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8.3b | The health sector contributes a relatively small share of the U.S. trade imbalance, but it appears to be grow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13520" y="1371600"/>
            <a:ext cx="63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alance of imports over exports as a percentage of U.S. net trade bal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3b | The health sector contributes a relatively small share of the U.S. trade imbalance, but it appears to be growing</dc:description>
  <dc:language>en-US</dc:language>
  <cp:lastModifiedBy>Jia Yao</cp:lastModifiedBy>
  <dcterms:modified xsi:type="dcterms:W3CDTF">2013-09-06T15:34:01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3b | The health sector contributes a relatively small share of the U.S. trade imbalance, but it appears to be growing</vt:lpwstr>
  </property>
</Properties>
</file>