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327A-FB17-444A-9216-DA5666671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4 | UNION MEMBERSHIP AS A PERCENTAGE OF EMPLOYMENT IN SELECTED OCCUPATIONS AND INDUSTRIES, 1992, 2000 AND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68A6-9027-4B07-B31D-ED513282A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5C7F-9E01-4A8B-9435-8FDC2286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197E-0563-444F-B758-80FA1BE6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EC56-FD6B-4509-955F-D09B8194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E0CB-D681-4E4E-B479-EC5237D6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A018-4BBC-4C2E-9358-85F48B18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5B77-4BF0-4B1D-BBFC-DED5C096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01D7-CC3D-4120-9499-D9514B75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BC45-5E52-4F86-81F5-24490FB8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32E0-5D92-455F-8307-F49A10BB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7FAF-2C2B-4EE9-BC2F-964DC11A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0022-5068-42FB-B0B4-26C30885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6B87-40E5-4E60-BF08-7C7BCD77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9264-98A5-47AD-BC13-D9423FF7D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4.4 | Health industry unionization rates appear comparable to those elsewhere, but among some health occupations, unionization is much grea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workers in industry/occupation who are union mem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5 | Health industry unionization rates appear comparable to those elsewhere, but among some health occupations, unionization is much greater</dc:description>
  <dc:language>en-US</dc:language>
  <cp:lastModifiedBy>Jia Yao</cp:lastModifiedBy>
  <dcterms:modified xsi:type="dcterms:W3CDTF">2013-09-09T22:42:23Z</dcterms:modified>
  <cp:revision>28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5 | Health industry unionization rates appear comparable to those elsewhere, but among some health occupations, unionization is much greater</vt:lpwstr>
  </property>
</Properties>
</file>