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EFAF-C182-49C2-BAF5-F362F00E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5703-DDE1-4EA1-9A0A-1BA12205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3EAD-979C-4755-AD51-CA9F7AA8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9CD-154B-4F4A-8694-0FC8608C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3325-D299-460E-A6B7-33E3BA0E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41E-52BA-4838-A23E-BC77E396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A1B5-0976-481E-BF3B-3333B736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4EE-3ADC-4798-A0A3-69DD5713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A90-9619-42F2-9B47-CC2D743A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BAA1-0027-4EC3-86D3-273074D1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EAF-5518-4D5B-9C08-F0E4649A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737D-1D2D-4BDE-A9E3-48C22307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15E6-A7C7-4A78-A596-0419D2C29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1Z</dcterms:modified>
  <cp:revision>43</cp:revision>
  <dc:subject/>
  <dc:title>PowerPoint Presentation</dc:title>
</cp:coreProperties>
</file>