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9B44-2A94-46CA-8A0F-1F8362FCA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3C37-4A8D-4B8C-B08D-DCFC1B2B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18A3-7E01-4578-8827-4FC0051F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B1AA-AB5F-4248-8896-03BBB9899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B04B-F855-4F4D-B7CF-0456F54B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F987-970B-46FB-AD5E-E68F6177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9D03-6AA4-471D-8D5F-99DF9950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8BBC-294A-425A-9DE9-8090B448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5907-3C7A-417C-983B-65A830F2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A1A2-D9BD-4908-A549-20243D6A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7CD4-4378-42D2-92E6-3FDC5574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98C9-6C97-4FE9-8D0D-B0A1DC4E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1CA0-7E1A-49A1-A281-C6CB615155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52280" y="58680"/>
            <a:ext cx="876168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2Z</dcterms:modified>
  <cp:revision>8</cp:revision>
  <dc:subject/>
  <dc:title>PowerPoint Presentation</dc:title>
</cp:coreProperties>
</file>