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3232-052D-4ED0-BF2C-2E310AD89A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7b | Monthly Premiums and Cost Sharing as Percentage of Average Monthly Social Security Benefit, 2010 and 20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7AB7-FED2-4BA4-809A-BE78ED22B8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6BA2-2227-4CD4-9F20-7F3805D8B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A04D-EB2E-4C96-A9EF-6DF630A9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ED7D-2C4E-4C32-8A82-2DE48D5A4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98D4-DB1A-452D-A5C6-0C9B3832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4FA3-47FA-4FCC-B455-A79F215E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4E47-237D-4B25-998D-24C3CE51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4170-787D-4D20-B7BF-9D2BA972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6E11-8B2B-4B16-9AAC-6348E3B3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F32F-E739-4D79-9779-4E380943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0644-CB37-4B3D-B527-25E629E2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9EDE-F8F8-4298-880B-F5B99E7F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78F0-7446-48E9-BED0-E57FD6E8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7B8E-CD8C-4200-9B77-EFD8701E5B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6b The funding shortfall for major entitlements will amount to more than one third of taxable payroll within eight 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788320" cy="54291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09480" y="1143000"/>
            <a:ext cx="1600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nnual unfunded public sector liability as a percentage of taxable payro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457200" y="57150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Funding shortfalls for Medicaid, Medicare Part B and Medicare Part D are calculated assuming the share of federal revenues devoted to these programs in 2007 represents societal willingness-to-pay for them. All figures based on CBO’s alternative fiscal scenari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6a The funding shortfall for major entitlements will amount to more than one third of taxable payroll within eight decades</dc:description>
  <dc:language>en-US</dc:language>
  <cp:lastModifiedBy>Jia Yao</cp:lastModifiedBy>
  <dcterms:modified xsi:type="dcterms:W3CDTF">2013-09-23T19:14:28Z</dcterms:modified>
  <cp:revision>64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6a The funding shortfall for major entitlements will amount to more than one third of taxable payroll within eight decades</vt:lpwstr>
  </property>
</Properties>
</file>