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1768-BD0F-44BA-B311-102B790C1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29EA-E8FA-4FAF-8945-C8FF73536E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9b | Percentage Distribution of Sources of Payment for Persons, by Insurance Statu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4E0F-EF9B-4468-8DB1-389FBB39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4CF-14F9-4336-9FF4-5D5B51B4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731-F34E-49A5-8A99-390C6FF9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663-BC18-4BFE-9012-67C4CA15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00DC-A726-4225-AC2B-80B51A71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9610-C4F8-4C77-B944-7E599FC9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5108-94E0-4E24-9A00-6C05E452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7120-AE93-42D2-8062-68A4F30D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5C31-5952-4BAE-9784-41ED5C8A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2EEA-42F6-456F-B4C5-8DD59016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1889-5558-483F-854D-4BEA08F7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C1F-0692-400F-99DC-B542C5AD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4E82-F50A-4EED-872F-43387D79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5CE4-A7A9-4685-A01E-34293275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81C2-2CA3-4137-9A37-FA2ACFDB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3A4B-51CD-4F55-8EFA-8669D81D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5219-C489-481A-93A9-DA734035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102B-DAE9-4264-96D4-5395BC59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93A-E481-4191-BDC6-4CA55B3E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B7F-F86C-459B-A98D-250C9E43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797E-BBB2-4B5A-9D6B-D15D4272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C32-2D0B-4E58-9785-6EB675FE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7300-DEEB-4B34-B010-9E463CCC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BC7A-D0BA-4DA1-9FC5-356EEAD1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E59A-70AD-46BC-A71F-4E08F0D6C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3EEE-F35C-464B-9F10-56EACE40D8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9b | Nearly two-thirds of health expenditures for persons uninsured all year are subsidized through taxes or private charit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368280" y="787320"/>
            <a:ext cx="886464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609480" y="5610240"/>
            <a:ext cx="851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Hadley J, J Holahan, T Coughlin and D Miller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vering the Uninsured in 2008: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tailed Examination of Current Costs and Sources of Payment, and Incremental Co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f Expanding Cover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Prepared for the Kaiser Commission on Medicaid and the Uninsured. Kaiser Commission on Medicaid and the Uninsured. Washington DC. August 200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9b | Nearly two-thirds of health expenditures for persons uninsured all year are subsidized through taxes or private charity</dc:description>
  <dc:language>en-US</dc:language>
  <cp:lastModifiedBy>Jia Yao</cp:lastModifiedBy>
  <cp:lastPrinted>2002-05-16T21:44:34Z</cp:lastPrinted>
  <dcterms:modified xsi:type="dcterms:W3CDTF">2013-09-04T21:04:16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9b | Nearly two-thirds of health expenditures for persons uninsured all year are subsidized through taxes or private charity</vt:lpwstr>
  </property>
</Properties>
</file>