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B6F4-0721-44CB-9F87-674D53E9F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A59F-3F28-4E97-B592-7FAF8E3A9F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b | Alternative Measures of the Government Role in Financing Health Ca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F71-7806-49D5-8033-6716DD0E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F9B-6B7D-4D13-903B-4365D7ED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7AF-0360-408E-925F-F56E3C21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655-AED2-4DF3-8625-092E17C4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5C50-B036-49B0-8D65-85134B00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E014-0FF6-4024-86EA-13C5D2A0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0182-970A-41E8-8CFF-BF6FD2D3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AC6C-5A96-413E-9DF0-659FADC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F835-70FD-4457-A6F0-B2F958AD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6A7D-D95C-4882-B482-D6589ACE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6E2F-9DAC-4A47-9342-409DF572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462-0553-4091-8B01-F75594CC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C13-EB40-4B40-81E7-5F8A794F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ABA9-28BA-4AED-9F3B-2DA852D2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9F10-F996-484B-847B-33C30307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91B4-6104-4CED-8A7D-DEAF4E99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DEDA-D4D9-478D-B9F8-7DD013E0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95E-AD86-4C0C-85BC-976CCA83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EEA-C2C9-457B-A0CB-A8647B1B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9DD-6B18-4DE9-B5DE-AA91DCF2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9EF-D81A-4B43-B196-97C57E01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8D6-DA17-40B9-AAF9-C855893B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6FB-7D14-4D57-8E53-B8AD3AFC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F4A-C275-410C-BB9E-7A71A2A1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9606-685D-47BB-9EE8-F43B7DD3B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06CD-6B49-4964-82A5-23B4A71CA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b | Failure to account for health-related tax subsidies substantially understates the government share of national health spending (NH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b | Failure to account for health-related tax subsidies substantially understates the government share of national health spending (NHE) </dc:description>
  <dc:language>en-US</dc:language>
  <cp:lastModifiedBy>Jia Yao</cp:lastModifiedBy>
  <cp:lastPrinted>2002-05-16T21:44:34Z</cp:lastPrinted>
  <dcterms:modified xsi:type="dcterms:W3CDTF">2013-09-04T21:03:5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b | Failure to account for health-related tax subsidies substantially understates the government share of national health spending (NHE) </vt:lpwstr>
  </property>
</Properties>
</file>