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62A3-B2D5-4723-B85C-77ECDACF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8B58-4DFC-42A2-88DF-88EEE690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4EC7-0F52-40F4-A0D2-54C5B2B1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1468-3F76-4585-8474-C38B3B34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A37E-5E67-4C52-8975-06AFD8ED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6034-1272-4A19-B58B-9CB10279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9AAD-7572-4F97-B922-3131996B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167E-7725-4ABD-B6E7-9D49494A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931C-B2CC-466B-8AD9-810C1439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F09A-D7D0-40A0-903D-8D121689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7F9A-F245-4711-9694-D61AD90A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D84B-5625-47B2-B40D-3AF9BA56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655D-2ED9-4071-8AA6-A9136E285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871848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9Z</dcterms:modified>
  <cp:revision>14</cp:revision>
  <dc:subject/>
  <dc:title>PowerPoint Presentation</dc:title>
</cp:coreProperties>
</file>