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3008-FE13-4D8E-B61A-F9D3929C7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c | Net Burden of Health-Related Health Spending as a Percentage of Family Income, 1989 and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54DE-1886-4E07-B3E3-5953366A9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050-BDF8-46FE-AF5B-A6DF5B92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D2F-CA45-41A6-9934-293F8CA4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696-EB29-4667-816A-CADDBA8E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584-7F45-4FDA-B8D5-040F7226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440-967E-417F-BBEE-A9B6D8A6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3BA-D0F7-4B6F-93E9-A2B0BCB6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3AB-AEA1-4B19-8168-E6D333C9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E67-F847-4742-9692-3E8C2319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4DD-97E8-4339-B5D2-A2C4B467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284-15D4-4972-B87E-B8385802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FDE-CA21-4A7A-9E91-14332756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1D8-8629-4923-ABFE-90D58298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AD5C-6BB2-447A-8B66-A843241A5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c | The total net burden of health-related expenditures has roughly doubled at both ends of the income dis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3911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762120" y="13716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burden of health spending as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762120" y="54100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net burden of health spending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c | The total net burden of health-related expenditures has roughly doubled at both ends of the income distribution</dc:description>
  <dc:language>en-US</dc:language>
  <cp:lastModifiedBy>Jia Yao</cp:lastModifiedBy>
  <dcterms:modified xsi:type="dcterms:W3CDTF">2013-09-06T15:13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c | The total net burden of health-related expenditures has roughly doubled at both ends of the income distribution</vt:lpwstr>
  </property>
</Properties>
</file>