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7FC9-8C79-4EB6-AD2B-30B5D9D9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19FA-C702-4116-B255-2FCDE71C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65D9-E615-44C4-936A-4D773CAD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9C68-06E7-46DD-9811-DF320668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9A8C-12DD-489B-9C34-DE6918E6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04B1-CC49-4611-B3FA-BE3A420F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279B-DA05-421D-ACEA-E24983FF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4F88-3A1A-49FA-9930-73712FC2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3202-80F6-4022-BA29-EB783C14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EC29-4250-4B85-8E3C-06FF20FE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FA77-53F5-49DC-80F3-811EB205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1BEF-7319-4BFF-9D4B-4AF946DA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A728-F02D-44D0-A3EC-48D8E2590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64960"/>
            <a:ext cx="893448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07Z</dcterms:modified>
  <cp:revision>39</cp:revision>
  <dc:subject/>
  <dc:title>PowerPoint Presentation</dc:title>
</cp:coreProperties>
</file>