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F2F4-8681-4417-8EF5-46BFE591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7DD-B5A3-4FA0-AEB3-5A5B2FC7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466-A499-4519-805C-7006CF38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CB8-2705-4753-8BDD-36352EB8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E9E0-9E7A-468C-87D1-82D3BDA3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0E2-A445-4A68-B4ED-C3E0106C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768E-4647-4E35-A0C7-70892B16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5C1-7E10-4B31-9E64-E64722F6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F9A-6777-42D0-B8BA-11F7229D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C74-2CF4-4413-90B2-B65367DF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C18-1B4B-42F0-8D28-FD57EFB1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F81-9DDA-498D-A978-B344F3E2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14A5-BB1A-4FC5-8026-3EBF35DCF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295280"/>
            <a:ext cx="9017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7Z</dcterms:modified>
  <cp:revision>39</cp:revision>
  <dc:subject/>
  <dc:title>PowerPoint Presentation</dc:title>
</cp:coreProperties>
</file>