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211-DED7-4357-A910-44623872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4DD-D0F9-4631-9E5E-B627DE71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71A-978E-4972-84E6-4F511540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7D3-379B-4F8A-B562-28AA045F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C93-DF30-4E9C-BB46-C60D4C33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E7E-6D78-45C0-8574-DCA98DAD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CB3-B42B-4FBE-8600-418F32AB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BE0-F464-4CC3-BC59-B07969DB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609-7FE1-4F78-BFFE-65CDC2C3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942-CB68-45E8-AA8A-B0B9990C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353-366D-45E7-928E-A46E8541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0CA-7E6C-4C4E-9FC9-D7C9B830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EDAC-8AD3-4405-9095-22712FCF2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4920" y="22320"/>
            <a:ext cx="85629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9Z</dcterms:modified>
  <cp:revision>37</cp:revision>
  <dc:subject/>
  <dc:title>PowerPoint Presentation</dc:title>
</cp:coreProperties>
</file>