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955B-F666-4D69-9CB0-84002C9B76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1.5a | Hours-Adjusted Annualized Internal Rate of Return on Educational Investment Over a Working Lifetime, Selected Medical Specialties, 1955-198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594E-712E-48F5-B1B9-1ED34FB067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76CD-E62D-42AE-A6BB-661BC0D93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8595-0729-4554-A0FE-EA044C6D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9609-D089-4FBD-AFDF-C0ED9A7B5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1AC4-8CDE-4754-BABD-7B4465A20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A80F-CAAC-4183-92A6-89F41982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578E-5740-4AF6-8778-B7D77530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9B1E-5039-474D-AE5B-4A4BAB06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EF0A-53A9-4FDC-97B3-813D2D5D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E649-50A8-4831-A165-D3742560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FAA9-AFAF-4122-9962-975E472D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C7E0-3F99-45E3-9E91-5F8992BA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D66C-6572-49D9-85E8-9C1C5179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CCB2-1537-4407-8BFD-C882394DCB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1.5a | The annual rate of return to medical education appears for some specialists to generally have risen over many dec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30120" y="1549440"/>
            <a:ext cx="85597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09480" y="5562720"/>
            <a:ext cx="811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that interval between years is not equal. Each year represents a different study. These studies have similar but not identical methodologi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609480" y="1371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urs-adjusted annualized internal rate of return 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ucational investment over a working lifeti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5a | The annual rate of return to medical education appears for some specialists to generally have risen over many decades</dc:description>
  <dc:language>en-US</dc:language>
  <cp:lastModifiedBy>Jia Yao</cp:lastModifiedBy>
  <dcterms:modified xsi:type="dcterms:W3CDTF">2013-09-06T15:08:55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5a | The annual rate of return to medical education appears for some specialists to generally have risen over many decades</vt:lpwstr>
  </property>
</Properties>
</file>