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B31C-92BE-4FE3-9FCE-33368EA5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8AC6-582C-4C67-8F00-188516C2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16C-AB2F-4A4A-98D7-0A4F2EDA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0C33-4D55-4C47-AC9F-370529A1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7855-914A-44E1-A1FF-D783543F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F639-B1F5-44EB-BE2A-B4E070D3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4221-1CE3-43AF-B9E0-7C8E718E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7AF8-A6B7-42C7-AA9B-66021A44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1E81-497A-472C-90E4-3668AC6C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E1C3-2188-4D8A-8698-F09F66FA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A1A-1DC0-4B4A-9D36-D11CF183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D47B-DA87-4497-91A0-779BA644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53A3-44DD-449B-B64E-1E9D0F57D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5440" y="152280"/>
            <a:ext cx="90331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1Z</dcterms:modified>
  <cp:revision>31</cp:revision>
  <dc:subject/>
  <dc:title>PowerPoint Presentation</dc:title>
</cp:coreProperties>
</file>