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AC3-2ADB-4CD1-96E4-00E5784B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BAF4-42B0-4B78-B661-05EE824A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EC6-BC1C-4AFC-AB4F-BAAD53E1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AFA4-E8B6-4775-BC3B-AE9790D2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E55-518F-4BA4-A93E-8001DF2A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CF33-4549-45FE-9BA4-48929F5C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89B2-F763-41EF-8EC3-AB3F3212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61D6-FE50-4801-B1AA-B0A5A53C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907D-AC68-41F7-8AD3-BCF54E79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967-7225-4CF3-9EAA-08FA49BA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FA52-6FA0-41F4-91A7-97296836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A42F-0EF8-44C7-8B65-329588EB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4CF3-07B4-434A-8D2B-FCB934413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0:06Z</dcterms:modified>
  <cp:revision>10</cp:revision>
  <dc:subject/>
  <dc:title>PowerPoint Presentation</dc:title>
</cp:coreProperties>
</file>