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412B-7189-4ABE-8A8B-F43BCF03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FB15-E404-48FD-AE25-96C82738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0659-C7B9-42C5-B326-561525B1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2467-CC6F-42FF-94C8-FF97AEC5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709-6A20-47D8-B0B0-FEBCBFCD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2B4-C128-4041-9712-B385AEE1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030C-7E7E-434C-BFE3-5C8C2671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40D7-0A4C-42BA-8C0A-F6719516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04B4-BA35-4E5A-8CC6-B74DEF32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FF4A-CD43-4B24-8664-86E66832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82BD-DF6A-46FF-A091-EF2E8FD2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28E7-3200-4912-B927-7A3E0B97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CFCC-52B7-4E3A-BE07-6955D3881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1Z</dcterms:modified>
  <cp:revision>39</cp:revision>
  <dc:subject/>
  <dc:title>PowerPoint Presentation</dc:title>
</cp:coreProperties>
</file>