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563E-7420-45F6-A9F3-65BA60DBA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C83C-1D87-4143-B962-AA265CBCCD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6 | DISTRIBUTION OF U.S. PHCE RELATED TO 15 BEHAVIOR, LIFESTYLE OR OTHER AVOIDABLE CAUSE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137-59B3-426D-BDFA-6258CFF7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830-3E2F-4B95-B641-D6E3003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02D-A883-436E-8DCF-2F67F945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C7D-C83C-460C-984F-DCBCE2DB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6110-8F97-46F8-A4A5-AA018313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4DEB-0600-4A1D-9437-57DA9070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4573-BF49-4336-8897-C1766AFE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A2EB-BC32-446A-A73D-5284DB56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BF6F-84C2-4B89-9D46-6035120C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F7F2-3313-435A-AB15-543D8ECF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E69D-76A6-47E4-8A43-6082E041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6D2-C451-47D5-B138-1157B040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4F4C-3B2F-462A-8977-B6775C3C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0BE5-FBA7-4BC4-A566-F42B529D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7A07-DFDA-4653-8805-5D6CDD78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1F8E-A1D9-4CE3-9B26-DDF04F96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A5BD-63D7-4578-8751-8FF503E9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9FD-10E1-4B58-93BD-21BD2A83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5FB-F1E8-417E-B81B-EFC483D1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1A1-9CAB-46DC-B327-AAEDB806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648-4AB7-4EFC-AB46-AECC46DC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AFB-43BA-423C-BFE2-39B375C6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8EA-86BE-4283-BB0C-38A873F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A16-B755-40E4-8277-22451470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2668-D9C9-403D-99B8-89DDAC476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BB3F-1941-4450-9FFF-8BC6AF26E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Figure 2.6 | Probably half or more of health spending is related to behavior, lifestyle or other avoidable caus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660240" y="787320"/>
            <a:ext cx="98074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Figure 2.6 | Probably half or more of health spending is related to behavior, lifestyle or other avoidable causes</dc:description>
  <dc:language>en-US</dc:language>
  <cp:lastModifiedBy>Jia Yao</cp:lastModifiedBy>
  <cp:lastPrinted>2002-05-16T21:44:34Z</cp:lastPrinted>
  <dcterms:modified xsi:type="dcterms:W3CDTF">2013-09-04T18:13:29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Figure 2.6 | Probably half or more of health spending is related to behavior, lifestyle or other avoidable causes</vt:lpwstr>
  </property>
</Properties>
</file>