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BE71-FAB3-4808-BAAD-D2AC0B1FB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A | AVERAGE ANNUAL GROWTH IN EMPLOYMENT FOR HEALTH SECTOR AND TOTAL U.S. EMPLOYMENT, BY DECADE, 193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8F55-1DB2-42C8-A818-0A2B7D64D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667-E502-44AA-AEF9-5FACC7F8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23E-67F5-4A1E-8FB9-293FE84A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CF4-3CF0-4869-9366-526300C3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59B-B667-4AB4-8DB3-93727A56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96F-8DFC-42E9-BB52-95A4C9B7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576-FE90-4639-8551-4E920083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9F8-94B5-4B32-AE6A-324014B0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27A-9302-436C-8E1F-1ABABC9D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D08-F459-40FD-9BD7-13127ED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EA1-1AC6-4F51-984B-1819D6CB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FC8-A512-44AF-B0CC-737605E0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A14-65A2-48FE-9B3D-9985E3F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F3F4-7812-4414-A549-A78ECC835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1a | For 8 decades, growth in health services employment has greatly exceeded growth in all workers and those in private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3716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number of full-time-equivalent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562720"/>
            <a:ext cx="84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a | For 8 decades, growth in health services employment has greatly exceeded growth in all workers and those in private business</dc:description>
  <dc:language>en-US</dc:language>
  <cp:lastModifiedBy>Jia Yao</cp:lastModifiedBy>
  <dcterms:modified xsi:type="dcterms:W3CDTF">2013-09-06T15:03:43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a | For 8 decades, growth in health services employment has greatly exceeded growth in all workers and those in private business</vt:lpwstr>
  </property>
</Properties>
</file>