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AB69-5ACC-4127-BA67-A3CA5C97A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CDD6-5838-425A-B2D1-C53A773483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b | Percentage Distribution of Personal Health Expenditures, by Sponsor, 198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556-D845-4A15-88DF-CFC1D3C7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064-E91B-47A7-8354-149D52FA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E66-3F44-4646-A041-8223A4F2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CEE-241D-4BED-8A86-55551D8B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9AB5-CABB-4324-BF93-B7A97961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37F2-72A3-4CB0-B65B-F8DDC7CB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E20F-AC78-4B13-ABE6-286E4BF4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DCC5-C2A7-44D9-B140-AF56AE2E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9F89-4B27-49BE-8148-153CA461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6E0F-6C8F-484D-B6C0-21BA3ABA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4F15-D568-42AD-9402-16F692AB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7F8-54C5-433A-B757-102A5BB2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B577-E551-4FC0-9E8A-EBBF68EE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55FC-AE9B-4AF9-8D45-269551DC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CC0C-49AA-4216-8A82-311035C1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06F9-ACCA-4C69-96EB-5BA6E7D6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D689-4EA7-4B14-9FFB-791EF704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1B6-65F7-49E7-8798-E63727E8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D2B-35FB-4236-8046-8F42E046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A6A-F67F-4A2D-9976-90B9284E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471-DFA4-45C8-8C13-2123CC4B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3E9-D611-4B71-A5BF-224C920A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699-FA4B-4166-A305-05365552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110-FBD6-4B36-B632-8DD79434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46B3-851E-440A-9AFA-3094FF4F1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91D0-E302-488E-A533-8CEF72FA7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81000" y="787320"/>
            <a:ext cx="906624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b | Accounting for each sponsor’s share of health revenues results in a much more stable federal share of spending over 2 decad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b | Accounting for each sponsor’s share of health revenues results in a much more stable federal share of spending over 2 decades</dc:description>
  <dc:language>en-US</dc:language>
  <cp:lastModifiedBy>Jia Yao</cp:lastModifiedBy>
  <cp:lastPrinted>2002-05-16T21:44:34Z</cp:lastPrinted>
  <dcterms:modified xsi:type="dcterms:W3CDTF">2013-09-04T21:03:4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b | Accounting for each sponsor’s share of health revenues results in a much more stable federal share of spending over 2 decades</vt:lpwstr>
  </property>
</Properties>
</file>