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7887-8584-4BF7-A447-456242438E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7.2A | ALTERNATIVE MEASURES OF PRICE INFLATION FOR HEART ATTACK TREATMENT, 1983-199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1652-9A1E-4A0B-A336-1D45C2454B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D023-C998-412C-A65C-E5F3FAAA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77A3-3E56-461B-BB70-B56179FC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D108-79DB-4ADA-9F6A-A3C40DD33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7E37-5264-48C9-BCA0-1E312EA77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D7AC-FF7E-4B2F-88AE-28C618EF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AC11-07FD-48C6-B746-9F893945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F6D4-4086-4D42-9AA9-2222C1EB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E1FF-9C8E-4BC9-B2E2-2046974D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CA62-93A4-48C7-B59B-5ABE8506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A3FC-8EA3-427E-A032-9A817EFA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DC59-7513-46B3-BE45-FBE4B790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E311-8B8B-40FC-B2E2-8A0602E5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8157-6C92-4298-9928-9B461CB519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7.2a | The price of heart attack treatment rose by anywhere from under 10 percent to more than 35 percent depending on how prices are measu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788320" cy="4749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: 1983=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73120" y="579600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utler DM, M McClellan, JP Newhouse and D Remler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ricing Heart At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reatments. Medical Care Output and Productivit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National Bureau of Econom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earch. http://www.nber.org/chapters/c7634.pdf (accessed August 9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2a | The price of heart attack treatment rose by anywhere from under 10 percent to more than 35 percent depending on how prices are measured</dc:description>
  <dc:language>en-US</dc:language>
  <cp:lastModifiedBy>Jia Yao</cp:lastModifiedBy>
  <dcterms:modified xsi:type="dcterms:W3CDTF">2013-09-06T15:31:43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2a | The price of heart attack treatment rose by anywhere from under 10 percent to more than 35 percent depending on how prices are measured</vt:lpwstr>
  </property>
</Properties>
</file>