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0E0-A979-47F3-AFC1-08FA3488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5AD-B72D-41DA-B47A-469F7072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172-2D6D-441C-9B53-C91CC860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138-E40D-4C86-8920-42A15FE5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B7A-A0B3-4B36-81F7-DD43F2DB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7F1-4B46-4B98-9FFB-8C9C1C7D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B7A-6795-4C52-B236-593A34A7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8C2-F4D0-46D8-9067-95586660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A65-D723-437F-8C5A-5D160811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D91-EA7E-4449-8D07-1C48BACD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C92-DE54-4416-A8D9-7DCAC97F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128-1795-43A9-B23B-0C11BC96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ACFD-C8BA-4374-B2AD-F58AE6D88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3Z</dcterms:modified>
  <cp:revision>31</cp:revision>
  <dc:subject/>
  <dc:title>PowerPoint Presentation</dc:title>
</cp:coreProperties>
</file>