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FA4B-E0B2-427D-B5A5-2A626DF3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3E96-24C5-49FA-9273-A63F8E54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A2D1-D507-4AA7-8BE8-8B00A160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0FAE-54C3-4841-9F12-ECC6E4CC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1BF6-7886-4832-8E3C-A097FDD9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BB90-809A-4B3B-B296-4AEF0B16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AB5F-8083-4FFF-966C-82B4B607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5FB1-88BF-4C30-9C03-3839802D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AE5A-24CC-4CB2-A6F0-F6C84D44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0483-0518-4ABD-9C41-8910F22E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7989-4444-494C-A25D-7094DB52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5C69-5AF9-4602-848A-715FD016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5A9D-FB30-4671-946E-E6C19F27E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6480"/>
            <a:ext cx="89992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8Z</dcterms:modified>
  <cp:revision>31</cp:revision>
  <dc:subject/>
  <dc:title>PowerPoint Presentation</dc:title>
</cp:coreProperties>
</file>