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8B512-0944-4405-B432-E14CB9FF0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71F0E-828D-4BBB-A6DE-62DB279717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Arial Narrow"/>
              </a:rPr>
              <a:t>6.2A | HEALTH SPENDING RELATIVE TO TOTAL SPENDING, HOUSEHOLDS, SELECTED YEARS, 1987-2009</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A44A1-8AA8-42D3-98A1-3075E8FCC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325D2-AAA8-4193-AAB4-30EA23116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0F6FE-8CFA-4567-9270-2EA65FB30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5CB9D-B916-46B6-90A5-693DCC546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CE5C58-5644-497C-8C59-DEC722178B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B9264-00B1-4696-931D-B379242E7C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9DC36-C8BA-46AF-999D-2BAC906E8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901F6-5482-43BF-8D6D-DCEF9EABB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B6C59-BDD9-4CCA-BE8B-7A5EEFADA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DE0AE-E162-4465-B322-32BC23C0F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87F8D-4523-4377-970D-5BCA01AB8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424D1-D436-4120-A752-4D235C414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2CCFD-5048-4A4B-89EA-2AD463648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ECB77-DF2E-4ADC-BD9D-B44185C6D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182AE-23F4-4B70-B19C-6BB8E6936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3A7C5A-85C1-4B06-A3CB-F9B313590E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FCF0F3-58DE-40B7-BC96-E2F6FDAB3C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6188C-5D92-4382-B36D-078E08F99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353FE-D23C-4E8C-8700-878A6ABA9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94749-F3CB-4541-98C2-73CFF286E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6FACC-9599-4350-8970-F3123E003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A840B-199B-4B86-9811-CB89E964E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43CAA-20DF-4780-9501-C032B0371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9D6A8-B349-4152-8D39-6F7D1377B2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03751-A5C7-4F98-89A0-3E0B749B50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61ADC-B712-46EF-9B9D-A378DEE2AF5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360"/>
            <a:ext cx="830556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2a | In terms of direct spending on health care, households largely have been insulated from rising health costs  </a:t>
            </a:r>
            <a:endParaRPr b="0" lang="en-US" sz="2400" spc="-1" strike="noStrike">
              <a:solidFill>
                <a:srgbClr val="000000"/>
              </a:solidFill>
              <a:latin typeface="Calibri"/>
            </a:endParaRPr>
          </a:p>
        </p:txBody>
      </p:sp>
      <p:pic>
        <p:nvPicPr>
          <p:cNvPr id="90" name="Object 3" descr=""/>
          <p:cNvPicPr/>
          <p:nvPr/>
        </p:nvPicPr>
        <p:blipFill>
          <a:blip r:embed="rId1"/>
          <a:stretch/>
        </p:blipFill>
        <p:spPr>
          <a:xfrm>
            <a:off x="406440" y="558720"/>
            <a:ext cx="8331120" cy="6121440"/>
          </a:xfrm>
          <a:prstGeom prst="rect">
            <a:avLst/>
          </a:prstGeom>
          <a:ln w="0">
            <a:noFill/>
          </a:ln>
        </p:spPr>
      </p:pic>
      <p:sp>
        <p:nvSpPr>
          <p:cNvPr id="91" name="TextBox 1"/>
          <p:cNvSpPr/>
          <p:nvPr/>
        </p:nvSpPr>
        <p:spPr>
          <a:xfrm>
            <a:off x="457200" y="914400"/>
            <a:ext cx="1600200" cy="36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irect household health spending per $100 personal income</a:t>
            </a:r>
            <a:endParaRPr b="0" lang="en-US" sz="1800" spc="-1" strike="noStrike">
              <a:solidFill>
                <a:srgbClr val="000000"/>
              </a:solidFill>
              <a:latin typeface="Calibri"/>
            </a:endParaRPr>
          </a:p>
        </p:txBody>
      </p:sp>
      <p:sp>
        <p:nvSpPr>
          <p:cNvPr id="92" name="TextBox 6"/>
          <p:cNvSpPr/>
          <p:nvPr/>
        </p:nvSpPr>
        <p:spPr>
          <a:xfrm>
            <a:off x="457200" y="4267080"/>
            <a:ext cx="82296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te: In the framework of “health sponsors,” household health spending includes only components that are directly paid by families or individuals, including the employee share of group health insurance premiums, the employee share of Medicare Part A payroll taxes, voluntary premiums paid for Medicare Parts B or D and non-group health insurance, and any out-of-pocket spending not covered by public or private insurance. </a:t>
            </a:r>
            <a:endParaRPr b="0" lang="en-US" sz="1800" spc="-1" strike="noStrike">
              <a:solidFill>
                <a:srgbClr val="000000"/>
              </a:solidFill>
              <a:latin typeface="Calibri"/>
            </a:endParaRPr>
          </a:p>
        </p:txBody>
      </p:sp>
      <p:sp>
        <p:nvSpPr>
          <p:cNvPr id="93" name="TextBox 8"/>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11:52:14Z</dcterms:created>
  <dc:creator>Kristy</dc:creator>
  <dc:description>6.2a | In terms of direct spending on health care, households largely have been insulated from rising health costs  </dc:description>
  <dc:language>en-US</dc:language>
  <cp:lastModifiedBy>Jia Yao</cp:lastModifiedBy>
  <dcterms:modified xsi:type="dcterms:W3CDTF">2013-09-06T14:06:13Z</dcterms:modified>
  <cp:revision>260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6.2a | In terms of direct spending on health care, households largely have been insulated from rising health costs  </vt:lpwstr>
  </property>
</Properties>
</file>