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B3C-06CF-4EBC-AFDC-78C8142A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E42-1172-4D07-B257-B7C19AD4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CA8-EDC2-48DD-8427-3487338C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375-D278-44E8-BFD7-C17F2F5D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186-35D8-4202-B698-9C954006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265-BD94-4D7F-B4B2-2D46B61D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3089-6DF1-4819-8BEB-82421F48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753-54BE-4077-A37A-51D13C2D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09EE-7697-4373-9378-4F849D91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C52-D16B-4E77-A715-22E7128F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102-BC15-4362-B12C-19D6B18A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C92-25BA-4F4A-A4F8-F5AAB6F7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D39C-3502-4BF2-8D3F-4A554A67C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0Z</dcterms:modified>
  <cp:revision>6</cp:revision>
  <dc:subject/>
  <dc:title>PowerPoint Presentation</dc:title>
</cp:coreProperties>
</file>