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A377-EC95-4B57-82B2-31230CD8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1894-2D4A-4C6C-AAFA-47329FD5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62A-2AAA-4E54-AC1F-05410944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125-C801-40A3-A51B-08F112A7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BE1-C772-423D-AC04-A4A57C75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24F-EAE2-4363-93DC-42EECB72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31F4-81B5-4B23-9280-D5D17B13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801-7F9D-457B-B6BB-37B7AB73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5A62-63E1-4F7E-AB43-8AEC55AA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BE9-D6BB-4F6D-8CE7-55F9CEC7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7E1-6D4B-4580-B044-6846B999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B1F-94A7-4814-9489-E5CF633F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DFD4-3F67-4FE2-BEBC-2A3CA67B0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152280"/>
            <a:ext cx="90313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9Z</dcterms:modified>
  <cp:revision>39</cp:revision>
  <dc:subject/>
  <dc:title>PowerPoint Presentation</dc:title>
</cp:coreProperties>
</file>