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6D5-CD8E-478B-BD98-2C5C00C7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ABC-B699-433D-A694-CFF67698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25F-9F16-4EEE-87DC-A07F61B1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284-5311-43B1-985A-637F83CB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F80-64C3-4A3E-930A-6D1636C8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634-9A77-4E51-B47F-D7948EB7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44A-0C8E-4338-A051-AD66737D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956-A5F4-46A0-A19F-83E8D112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1A2-4250-4962-8C0C-971FBB13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1D7-FB12-4E0F-AAF5-6C9BEE7C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5FA-2E63-4F63-8F78-AC1C16F3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5C9-5058-409C-8E40-D33EBF43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AE64-5A3B-4C6D-AB00-37D7B2EE8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5Z</dcterms:modified>
  <cp:revision>8</cp:revision>
  <dc:subject/>
  <dc:title>PowerPoint Presentation</dc:title>
</cp:coreProperties>
</file>