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0937-24CA-4A5E-8524-45ADB8D52D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4 | CHANGES IN PRODUCTION OF HEALTH CARE, GOODS, SERVICES, AND GDP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E19B-7A53-421E-BEF0-4D48F02230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C2FF-0C5A-47C0-9F58-C62D29919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DD8D-4499-4694-99FE-2D3188C6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D349-3FBE-4856-9371-8EBB54646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2DC5-90C7-4967-B0B3-C045E9A09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00D0-33E7-4E68-A070-C359EE15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9A5C-DA40-4B89-843F-250A0431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8A44-1F45-4E6C-B855-904F779F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5963-F35C-44E6-BF0A-CB2D3419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EBDA-8099-4359-A31F-45CBE71D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EE3A-C790-4165-97F2-7E08C3D4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7363-CA90-4A12-83AE-BA7161BC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DCDE-5AAC-427C-8CFA-8D8A8B6F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7716-DC92-43C1-A0E9-266ECD67DA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7.4 | Output in the health sector has increased much more rapidly than in goods-producing industries, service sector or GD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636040" cy="5283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09480" y="1447920"/>
            <a:ext cx="688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hained quantity index (1929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4 | Output in the health sector has increased much more rapidly than in goods-producing industries, service sector or GDP</dc:description>
  <dc:language>en-US</dc:language>
  <cp:lastModifiedBy>Jia Yao</cp:lastModifiedBy>
  <dcterms:modified xsi:type="dcterms:W3CDTF">2013-09-06T14:09:56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4 | Output in the health sector has increased much more rapidly than in goods-producing industries, service sector or GDP</vt:lpwstr>
  </property>
</Properties>
</file>