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618-3037-4481-A590-8B152458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AFF-3832-43E5-8C67-76C6C89F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54A-DB2D-4BBF-BA9D-01A2808E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754-99E4-4D08-930D-E3127E9F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E5B-E265-4237-A4FA-94BEE744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9D1-E949-43B9-9459-40E740BE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608-2875-409F-AB61-BDDA1B70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2B7-0B22-4379-AC46-61838E23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E5F-4D36-47FE-839A-CAD594B6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670-2841-4FD4-A7B5-2DCF2050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52D-98B8-480D-A140-8BE6F069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2CC-C7BD-4C46-AA44-45C5AB68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BC09-B28D-44D4-974F-F0C4AF304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4Z</dcterms:modified>
  <cp:revision>6</cp:revision>
  <dc:subject/>
  <dc:title>PowerPoint Presentation</dc:title>
</cp:coreProperties>
</file>