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4BF7-7F4F-4E6E-A688-62A414BB2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5A | AVERAGE ANNUAL WORK HOURS FOR SELECTED COMPONENTS OF THE HEALTH SECTOR,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9F1C-9BEF-48F9-849D-CE705E77B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C8E-80E1-45F8-BB46-571DB372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1BC-80B7-4863-A00E-D06E433F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887-77FB-4A55-901F-00D0AF65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C51-E770-44EA-98B4-425D9BC6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0B2-245B-4756-A61F-B56D6FB2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A09-D933-404F-BED8-14A3EAA4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BB1-5FC4-45F6-B2EF-88DAE6F6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7AB-6D1C-4147-9594-85CCF760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FFE-4BA4-4D56-A8B9-43F758B3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F70-8915-4A3D-BDB9-0A1364CA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4D9C-0C15-4E47-B404-EA7FD7D1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D0B-7DFB-4CB0-93F6-054D9962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9E48-7BEA-4CBB-9BE6-41705B418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5a | Across the health services industry, annual hours per worker are shorter than in private business or general econom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1549440"/>
            <a:ext cx="856008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hours of work per employee (200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5a | Across the health services industry, annual hours per worker are shorter than in private business or general economy </dc:description>
  <dc:language>en-US</dc:language>
  <cp:lastModifiedBy>Jia Yao</cp:lastModifiedBy>
  <dcterms:modified xsi:type="dcterms:W3CDTF">2013-09-06T15:04:11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5a | Across the health services industry, annual hours per worker are shorter than in private business or general economy </vt:lpwstr>
  </property>
</Properties>
</file>