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C88-985B-41EB-A680-B372C31F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0A0-21E5-46E9-B742-F9DB10E2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021-63FE-4CCF-AC14-491B6659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6A3-270D-4873-A88B-58074CD0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8F6-C296-41FD-AF16-C8AC4900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890-A51A-4176-9255-60E6552C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1E9-29BD-47F2-A721-39E6DCA7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EDF-EFA2-4101-A5FB-B797FDEF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AD6-2F69-4923-82C6-F7A9FA3D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91E-D378-4F87-B44C-7C1A0728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BBC-1ABF-4A71-B27C-59AD43BC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FAA-B8F3-4083-AA88-A2E06809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3392-100E-4E0C-A48E-155906411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8Z</dcterms:modified>
  <cp:revision>35</cp:revision>
  <dc:subject/>
  <dc:title>PowerPoint Presentation</dc:title>
</cp:coreProperties>
</file>