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B182-C6BB-4E7F-9A44-3609EADD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CA0-9F7B-4723-873A-758C3D51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C19-4920-446D-9AC1-4A3C4E98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077-D45A-4265-B435-C30D0A63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381-673D-4706-A2DC-4002C155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A50C-6C54-4085-8813-3F9B5EE7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60B-0F9F-4485-A144-4BD1EA3B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E8C9-0DFD-4F58-B9A0-61C6D103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5D5-23D1-4166-86C6-230B4ECB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4649-D123-40CD-B9DE-290CD96C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DD0-4FBA-42B1-9D6C-691465D7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6ADB-EE08-418F-81F7-26B4DFFF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C661-E020-4667-8252-E9A959EFB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8920" y="49320"/>
            <a:ext cx="89028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7Z</dcterms:modified>
  <cp:revision>39</cp:revision>
  <dc:subject/>
  <dc:title>PowerPoint Presentation</dc:title>
</cp:coreProperties>
</file>