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A784-8C36-43EC-856F-88B670DF2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C | COMPARATIVE INDICATORS OF MEASLES, DPT AND FLU VACCIN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05B5-E3A7-4B09-AE16-39DEBF1ED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A11-78F5-4570-81C3-0A25CFC7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167-B7BC-4242-B540-7A748CE2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C59-46A0-489B-A324-7DB2528E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D90-5AB6-4E47-9666-B3A21136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86E-35EF-45B8-816E-A052A9D4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8A2-25C2-4FCF-B3F7-AD57C16A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A1F-9FDC-4418-BD32-90F34875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3AA-44BC-43D8-8D75-97B542A1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859-A391-48AD-A5D1-0E3BAC48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328-51FB-4239-85CD-A0589615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723-5165-4D37-813E-5F39A729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BD3-135C-480D-A7E4-3FB8D838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70F0-B020-40CC-B4F0-A654EC140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c | Immunization rates in the U.S. are generally comparable with those in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88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c | Immunization rates in the U.S. are generally comparable with those in other G7 nations</dc:description>
  <dc:language>en-US</dc:language>
  <cp:lastModifiedBy>Jia Yao</cp:lastModifiedBy>
  <dcterms:modified xsi:type="dcterms:W3CDTF">2013-09-06T15:40:5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c | Immunization rates in the U.S. are generally comparable with those in other G7 nations</vt:lpwstr>
  </property>
</Properties>
</file>