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993-5DA3-4368-8C36-44671A04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143-F8E4-4D92-850D-2EC785C4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A8A-CEF7-4D0F-A561-8ACD1802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BCE-B7B7-46A1-B677-37ADBB2E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407-DB85-45DE-833D-A4E7F9D4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6F8-C02D-4667-9170-A2D5DE8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A90-E31C-41C9-A0D3-0255DA0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453-D77B-4F28-B7DE-B9A0680E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4A8-5678-4383-B418-703D19A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76B-714A-4220-923B-726A17E0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EF0-FB85-4E6C-A364-5AC55F26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466-3524-46BF-9116-FD0E958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AFA3-CCD3-4F61-A2D0-48C3F8A88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76320"/>
            <a:ext cx="9094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7Z</dcterms:modified>
  <cp:revision>20</cp:revision>
  <dc:subject/>
  <dc:title>PowerPoint Presentation</dc:title>
</cp:coreProperties>
</file>