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4235-0160-4D10-80EA-FE9A9E8C47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8A | HEALTH CARE SPENDING AS A SHARE OF AVERAGE ANNUAL PERSONAL CONSUMPTION EXPENDITURES, BY HOUSEHOLDER AGE, 1984, 1996,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3E69-404B-490A-9B9F-70C5CF3827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8F27-DDB9-4433-A21A-21FB26D76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AD0F-98AD-4B5C-BD9F-7F0EAB99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B284-4923-494C-9A61-2897BA5B5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69DD-C1F2-4E28-9744-7E75221D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D114-01AA-4428-A822-562700D7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1086-BBDC-4589-8259-C5F3E9C3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8CA5-D3A5-4351-83EE-48581CB6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D525-1769-4A9A-AB38-F9B01D65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3A9E-EAAB-4000-BB03-B5A5C7C9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F5C0-9DBE-48E5-A797-E2D0CC3A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B40A-5C3D-4E62-9AA6-8655F6B6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EE48-FBCD-41CC-81C9-2F52207F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7F6E-3533-48B0-9AC4-CB45140AD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8a | The share of consumption spending devoted to health has grown faster in elderly households than non-elderly househol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2235240"/>
          </a:xfrm>
          <a:prstGeom prst="rect">
            <a:avLst/>
          </a:prstGeom>
          <a:ln w="0">
            <a:noFill/>
          </a:ln>
        </p:spPr>
      </p:pic>
      <p:pic>
        <p:nvPicPr>
          <p:cNvPr id="50" name="Chart 6" descr=""/>
          <p:cNvPicPr/>
          <p:nvPr/>
        </p:nvPicPr>
        <p:blipFill>
          <a:blip r:embed="rId2"/>
          <a:stretch/>
        </p:blipFill>
        <p:spPr>
          <a:xfrm>
            <a:off x="406440" y="3149640"/>
            <a:ext cx="8331120" cy="1854000"/>
          </a:xfrm>
          <a:prstGeom prst="rect">
            <a:avLst/>
          </a:prstGeom>
          <a:ln w="0">
            <a:noFill/>
          </a:ln>
        </p:spPr>
      </p:pic>
      <p:pic>
        <p:nvPicPr>
          <p:cNvPr id="51" name="Chart 7" descr=""/>
          <p:cNvPicPr/>
          <p:nvPr/>
        </p:nvPicPr>
        <p:blipFill>
          <a:blip r:embed="rId3"/>
          <a:stretch/>
        </p:blipFill>
        <p:spPr>
          <a:xfrm>
            <a:off x="406440" y="4521240"/>
            <a:ext cx="8483400" cy="238752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8a | The share of consumption spending devoted to health has grown faster in elderly households than non-elderly households</dc:description>
  <dc:language>en-US</dc:language>
  <cp:lastModifiedBy>Jia Yao</cp:lastModifiedBy>
  <dcterms:modified xsi:type="dcterms:W3CDTF">2013-09-06T14:06:34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8a | The share of consumption spending devoted to health has grown faster in elderly households than non-elderly households</vt:lpwstr>
  </property>
</Properties>
</file>