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28E5-9843-44AF-A5C0-0161A2D9E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B | MEDICAID EXPENDITURES AS A PERCENT OF STATE AND LOCAL GOVERNMENT EXPENDITURES FOR THE HIGHEST AND LOWEST STATES (IN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E2E6-5B88-482E-A9D3-60C83E6F0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372-F62A-4EEB-968E-DBC72E19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8C0-6488-4884-ADBA-DD89B077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D54-DFDE-412B-845B-D0D32999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9EE-D1B4-49E8-8905-C597C8A7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DDF-90DB-40FB-8292-50FE7096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AD6-3B55-4302-8BE6-5703C402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B77-4C68-431F-8330-42817E4A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64C-B1BC-4C42-8173-5385358A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305-B372-4E6B-BCFE-C530F724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FC1-2E43-4621-A146-3827ABAD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DA8-99E0-410E-B6BD-372CAF52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B5F-7A12-48BF-8A8C-C7737646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6695-E4BF-4DF0-AA37-EA8B28010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b | The Medicaid share of state spending varies by a factor of 3 across st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863640"/>
            <a:ext cx="8425080" cy="26161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388800" y="3149640"/>
            <a:ext cx="8196480" cy="30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2057400" y="533412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in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b | The Medicaid share of state spending varies by a factor of 3 across states </dc:description>
  <dc:language>en-US</dc:language>
  <cp:lastModifiedBy>Jia Yao</cp:lastModifiedBy>
  <dcterms:modified xsi:type="dcterms:W3CDTF">2013-09-06T13:59:46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b | The Medicaid share of state spending varies by a factor of 3 across states </vt:lpwstr>
  </property>
</Properties>
</file>