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6F42-4B00-4FE9-8481-606CDB9A40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1B | EUROPEAN CANCER SCREENING RATES AS A PERCENT OF U.S. RATES FOR SELECTED CANCERS, BY A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077F-A61C-4C1A-B5B2-968832C9BA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D560-D3BD-4880-880F-4DA0E6FBA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87A6-96EB-4741-8CA3-D62903BA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44FF-4898-4C1C-8443-E4637CBA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3F22-08C0-4FD1-AA34-5C055F590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9F5D-B958-4EE6-A363-6E859AA0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4FAE-B5E5-4DB4-BCAA-418DDBEC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B165-C73B-4964-8293-53CBB0DE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EA04-F0C7-42B0-9237-10332AB0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EF8E-D681-4D63-B227-86A0E893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ADE9-864F-432B-B023-4D264E9E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60DA-B36F-4E63-A9CA-6EF026FE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F356-7D98-4876-B3CC-5B79709F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67E7-A40E-4F60-B9AF-41EFD46B22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11b | Despite a larger uninsured population, cancer screening rates for adults 50 and older are much higher in the U.S. than in Euro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152388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uropean cancer screening rates as a percentage of U.S. r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75920" y="5827680"/>
            <a:ext cx="77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 D.H. Howard, L.C. Richardson and K.E. Thorpe, Cancer Screening and 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United States and Europe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Affair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2009; 28(6):1838-47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1b | Despite a larger uninsured population, cancer screening rates for adults 50 and older are much higher in the U.S. than in Europe</dc:description>
  <dc:language>en-US</dc:language>
  <cp:lastModifiedBy>Jia Yao</cp:lastModifiedBy>
  <dcterms:modified xsi:type="dcterms:W3CDTF">2013-09-06T15:41:18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1b | Despite a larger uninsured population, cancer screening rates for adults 50 and older are much higher in the U.S. than in Europe</vt:lpwstr>
  </property>
</Properties>
</file>