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031-3435-4DB4-851F-ABC94B0B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7D2-1365-460F-A14A-5940CBE4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559-5CE6-430C-AC78-6AE5D1D9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D46-EE4C-41EA-A196-C38E45EF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7E5-1072-4FFE-8CC8-99CE1783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CAC-4852-4A88-BC02-D75C1604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AB1-6D5F-4FEE-B669-61343546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DE9-8D02-4BF3-BF99-68364CE8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84B-7EF0-472E-B26E-967BA6A6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1E9-0186-4E9F-8E2B-57B63719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7DE-12F7-4B04-B6A7-05502347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775-4906-4C3D-B6A0-78EDB446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EBCB-AEDB-4441-8305-1BCDB206F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3320" y="1143000"/>
            <a:ext cx="893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5Z</dcterms:modified>
  <cp:revision>22</cp:revision>
  <dc:subject/>
  <dc:title>PowerPoint Presentation</dc:title>
</cp:coreProperties>
</file>