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355F-E506-4057-A4C9-F1BDDB2EB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6a | Trends in Per Capita Health Spending by Geographic Region, 1966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2FA9-D0DF-4E52-8EAA-6B935CFF0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4CF6-CD9F-44C1-9FDA-EF14E133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EA5-8252-41AE-8F65-35576D2E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10C8-CB6B-4A5F-8B7E-51BCFECD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6AC8-D376-4440-814E-7402BAC4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1E08-AC18-4944-8BDE-5ED7718F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E52C-C2AD-44AE-AD15-29DAEEDD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5F13-4279-4653-8BA1-CC9FEF51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5F3B-8433-474E-8604-7E194F90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0D30-7C67-4E02-A5E2-F5A7B46F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1839-F314-4786-8CB7-3DF3D253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9A62-9B01-40EB-B8F3-760BE441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9462-71E7-4134-BAA3-F58F6B9F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BFB7-9707-4A87-AF2C-A54F708EB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6a | Regional differences in per capita health spending narrowed from 1966 to about 1985 and widened thereaf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878832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2193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Per Capita Health Spending by Location of Service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33520" y="6095880"/>
            <a:ext cx="81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igures not available for years 1967-68 ,1970-71 or 1973-1975, so they have been interpolated to avoid distorting the length of the bottom ax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6a | Regional differences in per capita health spending narrowed from 1966 to about 1985 and widened thereafter</dc:description>
  <dc:language>en-US</dc:language>
  <cp:lastModifiedBy>Jia Yao</cp:lastModifiedBy>
  <dcterms:modified xsi:type="dcterms:W3CDTF">2013-09-06T15:13:1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6a | Regional differences in per capita health spending narrowed from 1966 to about 1985 and widened thereafter</vt:lpwstr>
  </property>
</Properties>
</file>