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D1D8-915F-4CE6-B527-92A85C8E9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1 | AVERAGE ANNUAL CHANGES IN HEALTH EXPENDITURES DURING ECONOMIC CONTRACTIONS, 1948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102E-E7AF-467E-A08E-3A09E8ED95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B293-CFA9-4225-BF21-9CF049B8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C5FF-1D7F-43D2-B370-0044D46E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5870-86A1-44E1-A362-C98B59EC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168A-AD5C-41E9-89D5-DAAB38DC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69C6-1D45-4A99-BC36-F3E30CC3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5997-A85F-48DD-A1EE-AFCA3F75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E00D-0547-4B4D-9345-3EF67593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DA13-B8A8-4A87-91E9-41526CFE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56A8-99B1-42D8-9FC8-2099CB72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9E88-A094-44B3-9622-8C64CE82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5769-79B6-4AB6-B242-7923E197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B96B-39BA-4B6F-A573-0916221A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E0D9-62A5-4D1F-A1D5-0E5F03F68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6.1 | Aggregate health spending growth appears to be largely independent of fluctuations in the business cyc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066680" y="14479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1960" y="6172200"/>
            <a:ext cx="80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R=rece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1 | Aggregate health spending growth appears to be largely independent of fluctuations in the business cycle</dc:description>
  <dc:language>en-US</dc:language>
  <cp:lastModifiedBy>Jia Yao</cp:lastModifiedBy>
  <dcterms:modified xsi:type="dcterms:W3CDTF">2013-09-06T15:28:06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1 | Aggregate health spending growth appears to be largely independent of fluctuations in the business cycle</vt:lpwstr>
  </property>
</Properties>
</file>