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4C7-0817-442B-9356-1C04CAEF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896-33B1-45C0-AE70-39F7F576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EAB-61D8-466F-8390-BA8CA66E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5A1-BB96-4AE5-A4D3-8EEF850D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401-4EA7-4F68-B3B5-6E4A2D5E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CBE-5A9E-4257-9AD2-90FE8D49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236-0BA3-450D-8407-EE6C2B99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C24-9F4E-4779-9E71-969D47C7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8FB-1550-4643-AD35-8ADB952C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7E0-3FCB-4E3A-978E-10064117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BF8-7B65-48F8-A6DF-2BAA117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9A2-C1F8-4C8D-8924-99546D0C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952-0E1A-4454-8E44-A33EABEA9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907884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2Z</dcterms:modified>
  <cp:revision>31</cp:revision>
  <dc:subject/>
  <dc:title>PowerPoint Presentation</dc:title>
</cp:coreProperties>
</file>