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EDFD-AE57-4BDE-9D92-B3E7E0C25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5C7D-04DD-44CF-8346-4E5DE8DA3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1A | COMPONENTS OF PERSONAL CONSUMPTION EXPENDITUR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70BE-FFA9-4181-8A34-F4AF33AF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38B-C4EA-4A52-8274-2B7F31DB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F86-50FC-4F7A-B268-7968A6FE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871B-53BE-41C1-B25C-37C70490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DA44-0298-42EB-8AEF-204B7273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CFB1-1623-4064-97F3-84E5F1E4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6D8F-AF98-410C-8EC3-B243553D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C374-F6D4-4CB7-B406-8A266812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2157-C9E1-42E8-9000-E99C89BB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C0B9-3BAE-4E4D-9AE4-99DB5D51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5931-04C9-4FDD-A27C-100AFAB9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DBCF-A663-425C-9AE7-0203A3D7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27FE-8E61-4DC2-9577-652434EA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3FF2-E242-4CF8-84C6-00E5346A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53B3-4171-4453-942B-3A031CAB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180D-24FA-4678-A9A5-B06D1E33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A51E-1807-4776-8A72-6F7D3A77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9708-76E2-4AF1-8F7B-E023BF03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08BB-7D93-4833-9A5D-4519B037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297-9BC4-4339-B794-A2D1BB2F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7F7-CF31-4B32-A400-4663B6B3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780C-10E2-42C1-ADA1-08BE27BD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BF69-2DB9-4BBA-8FCD-EAA25F4D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97C2-41FA-4178-8B9C-B7DC3A5C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2444-850B-41CA-8B97-31CB426426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7FB6-C385-498C-8217-AE04A40414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1a |</a:t>
            </a: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lth care is the second largest component of personal consumption spending by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712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5289120" y="5638680"/>
            <a:ext cx="32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sonal consumption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$10.1 Trillion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 rot="16200000">
            <a:off x="-2305080" y="342756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1a | Health care is the second largest component of personal consumption spending by families</dc:description>
  <dc:language>en-US</dc:language>
  <cp:lastModifiedBy>Jia Yao</cp:lastModifiedBy>
  <dcterms:modified xsi:type="dcterms:W3CDTF">2013-09-06T14:06:08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1a | Health care is the second largest component of personal consumption spending by families</vt:lpwstr>
  </property>
</Properties>
</file>