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AD9F-C809-4327-95C3-723B29702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B | AVERAGE ANNUAL WORK HOURS FOR ALL CIVILIAN WORKERS, ALL PRIVATE INDUSTRY WORKERS, AND SELECTED COMPONENTS OF THE HEALTH SECTOR, 198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6ABF-5089-4237-8C6F-2663A8299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CCF-131A-495A-AC2A-5426B86E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D25-A332-4AA9-9CC9-78164FFE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38F-CA82-4C7A-9455-131A5060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90E-A25D-4ABD-BE02-5092D9DE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B2E-122A-4EFB-8311-6B60F404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2D5-0C71-442C-B8FE-540775E0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760-671C-4FA7-9044-84ECC34C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8A8-1D2B-4BF9-9570-7C371DCB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7CD-64C3-4B1D-A52D-FB48CE75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C59-F161-4D0C-B545-B2293FC2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8E4-3A33-43C6-B759-1DAE275F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386-F3D2-41E3-9366-66607C2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A329-B5B5-4FAD-B3B9-0D6A2A946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b | Annual hours per worker have declined in long term care facilities during the past decade, but have generally risen in hospi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work hours per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b | Annual hours per worker have declined in long term care facilities during the past decade, but have generally risen in hospitals</dc:description>
  <dc:language>en-US</dc:language>
  <cp:lastModifiedBy>Jia Yao</cp:lastModifiedBy>
  <dcterms:modified xsi:type="dcterms:W3CDTF">2013-09-06T15:04:14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b | Annual hours per worker have declined in long term care facilities during the past decade, but have generally risen in hospitals</vt:lpwstr>
  </property>
</Properties>
</file>