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1022-616C-4A23-9519-1BDBC2FF0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A2C5-0761-42CD-958F-A28E865400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9b | Government Health Spending (all levels) as Percentage of GDP, 2002 and 20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ahoma"/>
              </a:rPr>
              <a:t>Source: Kotlikoff and Hagist, Who’s Going Broke? Comparing Healthcare Costs in Ten OECD Cou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ahoma"/>
              </a:rPr>
              <a:t>NBER Working Paper 1183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F962-AB99-4735-87E4-D42011CB4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AE3C-9AE8-485A-9D03-ADAFC2B7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EBA8-6273-4D2C-9C42-DD406F69F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0173-1CB9-42C6-BDE7-A46500FC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5D8C-70A8-4FF4-B90E-83808F4E0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EAF9-DD02-4792-8049-0B27EBDD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544E-6B60-490C-8668-B7C73E94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7264-68CE-4049-9677-9118FFF4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014A-CC43-489D-B685-C9B47F2A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C4D3-584D-4AAA-9720-60A11FA1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2E80-115F-4278-ABD1-FF2A2B39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14F5-292B-4ABD-8111-C1ABF9D2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650E-8349-44E1-8596-2AC70E7F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A1D5-3F38-44C3-A874-F76F7079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3E8B-B515-4C3F-8768-ECB79018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A38A-DED7-465E-BEA8-6593AA3EA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4731-A52B-4EAC-93E2-BED1C4984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4A8D-A3B4-44A3-8459-B3D95805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556E-5926-47F8-9880-04565CF0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067F-888E-47D2-82A7-70F1F46F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B198-7F70-4165-B650-A8E13706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5C49-8030-4395-BFAB-FCC25543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9F9E-17A3-4A94-9FCD-E22AB177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CEAC-1136-425B-A814-6AC12D0C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B18E-E93B-45CA-A306-7CF871BCB6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B932-D058-4B8F-9C85-FE64E51E29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380880" y="1397160"/>
            <a:ext cx="8377200" cy="49273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447840" y="5715000"/>
            <a:ext cx="8696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figures calculated assuming age-adjusted health benefit rates grow at historic rates for 60 yea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9b | But rapid growth in government-paid health care threatens to eradicate this margin of advan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2286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576720" y="6095880"/>
            <a:ext cx="797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gist C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L Kotlikoff. Who’s Going Broke? Comparing Healthcare Costs 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n OECD Countries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BER Working Pap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. 11833. December 200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2209680" y="5334120"/>
            <a:ext cx="54864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overnment health spending (all levels) as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9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9b | But rapid growth in government-paid health care threatens to eradicate this margin of advantage</dc:description>
  <dc:language>en-US</dc:language>
  <cp:lastModifiedBy>Jia Yao</cp:lastModifiedBy>
  <dcterms:modified xsi:type="dcterms:W3CDTF">2013-09-23T19:14:44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9b | But rapid growth in government-paid health care threatens to eradicate this margin of advantage</vt:lpwstr>
  </property>
</Properties>
</file>