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C6C-8219-4A6E-ADE5-E791E2EC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FD0-C68D-41DD-860B-E09B5999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C9E-8E4A-4FE0-B5C7-CF8191EC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1E3-338D-49DC-A98B-1D90AAFF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B30-30E5-404C-BD2B-A1DBBCA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962-FF19-49F3-A8F7-67D0D1B0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E5A-BB9E-4E93-B086-3CEA0F47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1F0-CDA0-4625-A85D-5759A1FB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BBB-B209-49BF-986E-A1FCCB80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A31-C988-42C5-A752-DD0B810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63E-2B63-47ED-A0AC-EE544FB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EB5-45D6-4040-B8BC-49E2282C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147C-C888-4D11-86A8-5B4C75B43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480" y="380880"/>
            <a:ext cx="913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6Z</dcterms:modified>
  <cp:revision>39</cp:revision>
  <dc:subject/>
  <dc:title>PowerPoint Presentation</dc:title>
</cp:coreProperties>
</file>