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13F1-AB76-462B-BEF2-402673585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B | F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9A0B-6239-4AA2-ABCC-B710C5166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C54-0DB6-44BD-B007-4902B4C1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8C2-FCCE-479A-ABEB-8EAD9DE0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1B2-F15B-4D06-80AC-EC2C83BA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D28-18B7-4C99-93DA-CEE59066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3DB-12B3-4B31-8FC8-985E84CB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019-4EAF-4130-8B35-7FCA54DE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D13-C556-4263-BAA8-C43D3A0F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CB4-E271-418D-9314-4FBE223E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E32-6053-4CDF-B89F-81190E18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236-62AD-4036-9F9B-EE7837DA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456-BD5E-497B-B8AC-D725525F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3BC-401E-4687-8C61-126411C2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B1AF-1F5A-4A9B-9A52-6C6610D18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b | Females tend to be concentrated more in healthcare support occupations than healthcare practitioner or technical occup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b | Females tend to be concentrated more in healthcare support occupations than healthcare practitioner or technical occupations</dc:description>
  <dc:language>en-US</dc:language>
  <cp:lastModifiedBy>Jia Yao</cp:lastModifiedBy>
  <dcterms:modified xsi:type="dcterms:W3CDTF">2013-09-06T15:04:0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b | Females tend to be concentrated more in healthcare support occupations than healthcare practitioner or technical occupations</vt:lpwstr>
  </property>
</Properties>
</file>