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28FC-A83A-4FC5-90BC-26D951E5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F52-CC2D-4BF9-A612-0B092ABD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A330-2542-4C8F-A665-B5244818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0133-31A7-4DBE-A267-5A25CFEF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1D50-8696-44E4-A483-F631F997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605-F177-4554-834D-8449B764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3F1-3F89-46D8-A12E-04596BCD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1E8A-A18D-44C5-9533-42A25176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28F9-2897-46CB-A4D2-37E48BCE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5B76-A962-4928-857E-3C90EBC0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1AF-E458-44B9-B36A-006D6DF2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4A75-D202-407C-AE3D-3C4B1216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C4F5-BC55-4B39-B806-7448D418D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082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5Z</dcterms:modified>
  <cp:revision>35</cp:revision>
  <dc:subject/>
  <dc:title>PowerPoint Presentation</dc:title>
</cp:coreProperties>
</file>