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EC76-50F5-4719-BE5D-6134C9E3C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A | RATIO OF PHYSICIAN COMPENSATION TO GDP PER CAPITA, GENERALISTS AND SPECIALISTS, U.S. AND OECD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7029-8AF7-412C-9839-73F36C19D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B7C-9796-40B2-8F4C-00DE2E98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99F-2395-4BF5-92E8-56118AD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1CC-F132-4A1C-B48F-8F28B374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B45-076F-4FD2-96B2-94C5E2CA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CC1-D328-4A4B-83B9-B4D08126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B8E-BC22-4569-BB3D-C49AA4C1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CC7-8074-4A8C-96D5-BAFB4632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2A9-8CD8-4A7C-8D83-2EB055A2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082-D465-4BD2-B788-558C445B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E7F-D64F-4B3C-908E-3A03656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09F-D128-4941-9DF0-6B6FEFF7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5E9-9A17-41EB-8303-77EDF1FC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D2C9-DB3C-4FFB-B676-9524FFBCD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4a | Physicians and nurses are paid relatively more in the U.S. than in other OECD countries, but the largest pay differential is for speciali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0640" y="13716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annual compensation to own country GDP per capita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a | Physicians and nurses are paid relatively more in the U.S. than in other OECD countries, but the largest pay differential is for specialists </dc:description>
  <dc:language>en-US</dc:language>
  <cp:lastModifiedBy>Jia Yao</cp:lastModifiedBy>
  <dcterms:modified xsi:type="dcterms:W3CDTF">2013-09-06T15:08:49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a | Physicians and nurses are paid relatively more in the U.S. than in other OECD countries, but the largest pay differential is for specialists </vt:lpwstr>
  </property>
</Properties>
</file>