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6B5-4000-401B-A9E3-C94EEFF3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921-987E-4000-8CC8-E4737D99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3C8-AB3A-487A-A470-7E6EB369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209-9916-4A31-996B-900B3B78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25F-E2A7-4C28-96C7-451825F0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1E0-54C2-4403-AC09-62A3CA2B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B35-6049-4ECF-BB09-0390FF76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310-7968-4912-94AB-9CA566A5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862-A3D7-4739-B317-6E31D959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A68-C348-4E79-B256-59F4BC92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96C-313B-4D39-B141-6DA4E0FF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7C7-4DD7-4301-B305-46E928E8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75EE-86A5-482C-B2B6-689F239DB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3920"/>
            <a:ext cx="913752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1Z</dcterms:modified>
  <cp:revision>10</cp:revision>
  <dc:subject/>
  <dc:title>PowerPoint Presentation</dc:title>
</cp:coreProperties>
</file>