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44AC-8E69-4219-A778-304BC4D19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82EC-D8F1-47EA-AAF0-0E0B5EDC7E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b | HEALTH INSURANCE BENEFITS ENROLLMENT RATES, BY FIRM SIZE: 1999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D5A-51C8-4CB8-B93A-5BE5CDAA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D87-A51B-445C-859A-4FE6EB6E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ED1-2278-4416-9913-A3BAC1E9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743-EF4A-48E0-BD97-FFCDFB3B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54B2-EC61-4F4E-A1F9-4880BDCB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23F3-6AC9-4D9E-AE7E-CC34A941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E251-33E9-48C0-8A2D-F8D22FC2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20A2-BDE5-4851-9C6E-37F12513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AC36-5AEB-4B1C-A742-A4C23D7A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F9C0-1F4F-459B-8350-012D982A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97C8-E088-4326-8850-CB44866E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3DE-17E0-4D4A-9ED9-54502105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272E-1790-4106-9E95-DA2EE12B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C246-EBFA-4BCE-8F28-2CC20AD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4CA2-6060-4CBF-90DB-CCC3B1D1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F971-0A84-48C2-9A6D-24424F88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5B69-FF83-49BC-AE72-2EBD9541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F9D-150D-462D-AB01-A6094D62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98F-1360-41E9-8D77-16B22CB2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D3C-D9A5-4FD1-837C-BBB1A99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4DF-CBC7-4172-8C57-9856B1D0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FB8-D2A3-4DEC-9920-EB46CF38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69A-3CB3-4C1F-9D44-B8E16200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2F6-5FC4-4979-BDB6-8D7EDD8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5B98-EB7D-44D9-912F-369BEC4B4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E454-C5CE-4E29-9DAC-0B479D241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b | Over the past decade, the percentage of employees in health benefits plans has declined in nearly all firm-size categor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b | Over the past decade, the percentage of employees in health benefits plans has declined in nearly all firm-size categories</dc:description>
  <dc:language>en-US</dc:language>
  <cp:lastModifiedBy>Jia Yao</cp:lastModifiedBy>
  <cp:lastPrinted>2002-05-16T21:44:34Z</cp:lastPrinted>
  <dcterms:modified xsi:type="dcterms:W3CDTF">2013-09-06T13:50:0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b | Over the past decade, the percentage of employees in health benefits plans has declined in nearly all firm-size categories</vt:lpwstr>
  </property>
</Properties>
</file>