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6DA5-84F8-41F9-A84C-C662F07C9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661D-6F64-4F05-8F98-5AF98DA8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F4AC-B4EC-4236-B6F3-E5E2F3A22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8BB3-E4AD-4186-BA60-7F586ED1F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F5D5-9997-4ADA-9D01-B6A002A6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07AD-FA3A-4376-9A5C-9F8B876A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F9DE-741E-417C-9780-79ADD163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C54B-5624-4E13-BE55-31AD080C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1D68-FA1D-4C63-85DF-D89BDE46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ABBE-5EF6-4CCA-8090-5A0CF28B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0CEF-B069-4BFC-995D-2CA38F71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8670-1341-4E84-BCCB-83AF9094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7AB9-DD2C-407A-90B1-1568340D15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4520" y="0"/>
            <a:ext cx="899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1Z</dcterms:modified>
  <cp:revision>8</cp:revision>
  <dc:subject/>
  <dc:title>PowerPoint Presentation</dc:title>
</cp:coreProperties>
</file>