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8B88-CEBF-4374-8A05-9EEE6A0DE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11A5-58E2-469E-98A8-0FB6DA30A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B | RATIO OF HEALTH SPENDING PER CAPITA FOR ELDERLY RELATIVE TO NON-ELDERLY IN SELECTED INDUSTRIALIZED COUNTRIES, 1960, 1984, AND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2F3-0A3F-4A89-A4BF-E0C9E47D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5BA-B99F-4726-9320-975C81E5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904-7FA4-45B5-BD75-40F125F7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428-04C9-4FFE-80BE-A9F7E3E6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CA3F-4719-4786-AB1D-F892618C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1BD2-B1C2-454F-A312-97CA5B1E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3DF9-2FC6-4DBC-8ACE-6493F1F2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EFF0-8AEF-45F1-B093-2E773116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F371-B80E-4DB6-88FD-89E385B9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0004-2A38-45CC-A31E-5D6D4326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18A8-34DD-4B7F-882C-AFAAAC2F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E50-2183-465A-A4F2-D34F7DEC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9B65-7821-45D1-90A7-46E82C0A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814F-E7BC-4455-8BBA-FD961B8C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2DEC-EF72-4BB1-A790-428EE535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6BCA-9492-42B8-A865-4DD8585A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999B-67C2-4651-86EB-7205E5A1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F51-D1CB-4B34-BBC2-9755E207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E6B-2EA2-4672-8586-D9E32659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387-0988-4EF6-BE5F-E90B75C7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70A-03CF-4ED4-A325-B0FBB2E0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929-38C7-4699-9F7C-6D858C6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852-50C5-4BBB-8274-AEC93428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CFE-CA38-4F45-84D5-3727EE20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18F6-A3E7-4E2F-BE89-9C63228B5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4796-CE7F-4EB6-977A-ABEF76C6A2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b | The ratio of annual health spending for elderly relative to non-elderly is similar in U.S. and oth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602784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b | The ratio of annual health spending for elderly relative to non-elderly is similar in U.S. and other countries</dc:description>
  <dc:language>en-US</dc:language>
  <cp:lastModifiedBy>Jia Yao</cp:lastModifiedBy>
  <dcterms:modified xsi:type="dcterms:W3CDTF">2013-09-06T14:06:4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b | The ratio of annual health spending for elderly relative to non-elderly is similar in U.S. and other countries</vt:lpwstr>
  </property>
</Properties>
</file>