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BCDF-C102-4F17-8499-08F8452A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79BA-FF9F-4EC1-B8A3-B0614063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1884-60AE-4AEC-A792-83789A86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B2AD-E44D-4788-8778-731F175C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B35B-6BC8-4550-8F2B-0EBEFB8D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43D1-A8DD-4A60-ACC4-FC47AF3D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91CC-380F-44AC-8331-CA86E986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A8BA-3FDB-42FD-A9D7-E734A2DD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6CC4-AC77-47AE-872D-F4076B1E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D516-3E36-4CF7-9B82-49681F9A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759F-AA84-4384-914C-31E2E8F1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DEB9-9BA0-4883-9F3A-94CA8BD2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0B9F-5B5A-4A0A-A37E-42DA56DE40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6360" y="228600"/>
            <a:ext cx="9071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8Z</dcterms:modified>
  <cp:revision>28</cp:revision>
  <dc:subject/>
  <dc:title>PowerPoint Presentation</dc:title>
</cp:coreProperties>
</file>