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D3FD-1E9A-49A6-89AF-0C3B64A76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CF66-FF13-415E-8B3D-5FE6E9E69C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8a | Major Sources of Payment for Personal Health Care Expenditures, by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252-7B7C-47E5-9E9E-AF7A30F4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8FB1-7092-4634-8D37-4F9BB06A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90C-1EA6-4145-A933-CF87F897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87D-E8E8-407C-97E8-CEA7C9E1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F6EC-8990-4053-9C14-D0E605FD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4189-6B97-4ACA-BB52-EDB3B712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02CB-A796-4275-B303-7D225F82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5D81-A916-4CD4-A6A3-F6C48DF0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7654-B162-46F8-AFC9-22925F7C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8D32-9397-4713-A247-7DF64F5F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838B-BE9C-4224-BF85-9EB2F450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A51-0719-4BA2-8CCF-49256AA8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DB20-7EAE-4C56-A662-7FA5EE05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89DD-76A3-456F-854C-B48B16BB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E4E8-4034-4FCB-947C-6461775F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2185-3B86-423E-9EA4-FC9A5FC1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C1CA-309C-4CFD-9C0C-12210DC9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3E5-5C16-42C1-9132-ED51D818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838-4E7D-4C4E-AAD2-1E74C406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3DF-4D71-41AB-8FE1-3450579B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AA6-CF7B-472D-98CD-BF1D22EF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481-1382-4D3B-BA85-484FC917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BE2-E6AD-4AF6-BFD7-F39EB831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82B-BBE8-4478-8506-876D448F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A50A-044C-4744-B2FE-40FA3489C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DFCC-70A2-470E-BACB-F731A4687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8a | Less than one eighth of Medicare spending is financed through beneficiary premiums, but this varies greatly by componen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8a | Less than one eighth of Medicare spending is financed through beneficiary premiums, but this varies greatly by component</dc:description>
  <dc:language>en-US</dc:language>
  <cp:lastModifiedBy>Jia Yao</cp:lastModifiedBy>
  <cp:lastPrinted>2002-05-16T21:44:34Z</cp:lastPrinted>
  <dcterms:modified xsi:type="dcterms:W3CDTF">2013-09-04T21:04:1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8a | Less than one eighth of Medicare spending is financed through beneficiary premiums, but this varies greatly by component</vt:lpwstr>
  </property>
</Properties>
</file>