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C51-B4C5-43E7-B987-05087FB2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D166-99E3-4DD8-AEEB-687E7A79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C1D-B26A-4946-9586-074B1F27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F39-FE8B-406C-A754-71042F37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2F3-2167-4AB0-939B-B56757F4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02A-5A31-4A9E-9974-9DDC1F85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8821-FA59-4B79-82D3-994EF275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881-FAA8-40E4-9035-4E1792B7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5A92-9198-4D24-8D03-A5C9D19B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26A-EA50-4344-B540-65C1C4E5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3A7-D90C-43FB-BA57-87BF0357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1D7-881D-4FDF-B8F7-39B103AB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68B6-86A2-4F93-A110-27AB40E5A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-4680"/>
            <a:ext cx="88329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4Z</dcterms:modified>
  <cp:revision>30</cp:revision>
  <dc:subject/>
  <dc:title>PowerPoint Presentation</dc:title>
</cp:coreProperties>
</file>