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489C-351F-49FA-92C9-696780F6E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3693-B881-4947-91CC-67DF634E793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3b | HEALTH INSURANCE BENEFITS OFFER RATES AND TAKE-UP RATES, BY SIZE OF FIRM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E1D3-C9C1-41F4-BC3A-6A67C0F9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A748-F494-4F20-9464-91F609AC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619E-28C4-4251-A850-59831913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E5BD-FC6E-4532-B84F-27191ADF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302E-76EA-4BA5-B973-9A10839B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2085-3D49-48DC-88AC-B787C9FA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D6CF-A659-418A-84DA-8CED216B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830C-9BD3-40D7-BF5C-C2C8511D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0C45-34B5-4055-9EA5-AAD60355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C957-5D94-4B40-BE6A-5ED9593C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51C4-C4C6-49BE-A7C2-48E9F669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35F1-FF07-49C4-A0FE-922A0CBA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3D80-C60B-43A6-B1C8-720F103C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0749-066D-4D53-8ECD-FF2383A8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BA1B-E020-4BD5-8D9A-1DD5611B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2386-ACB6-4D89-A5F1-A42FF36C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8D5D-3363-43DC-8C82-3C66D1AE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B30-F4ED-48CE-B3DB-60E68C47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79D7-B521-404C-90E8-67CFECBE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A01C-5515-40C4-AC7B-F7CA7111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3F85-C750-4E6B-9C97-55FDC6BE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D905-265D-4015-A376-9A05744B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033A-EF79-4741-88EE-BF035DA0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3329-0893-4158-A2CA-F481D7BA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F7FA-51A6-4B2E-B73D-647D3B048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8321-7F75-40F5-8C67-E463C96F2C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3b | Among all industries, health care and retail trade have the lowest rates of offering health plans, reflecting their large number of small firm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9045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2840040" y="838080"/>
            <a:ext cx="3463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(201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3b | Among all industries, health care and retail trade have the lowest rates of offering health plans, reflecting their large number of small firms</dc:description>
  <dc:language>en-US</dc:language>
  <cp:lastModifiedBy>Jia Yao</cp:lastModifiedBy>
  <cp:lastPrinted>2002-05-16T21:44:34Z</cp:lastPrinted>
  <dcterms:modified xsi:type="dcterms:W3CDTF">2013-09-06T13:50:06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3b | Among all industries, health care and retail trade have the lowest rates of offering health plans, reflecting their large number of small firms</vt:lpwstr>
  </property>
</Properties>
</file>