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FCA4-7502-4BF8-9A24-121AEB8A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03D8-534E-484A-80B1-16EFBD73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9EFE-FFF6-40FC-8CE9-77FB5640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82D2-21B7-4356-9F8A-1B5F4A77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86F0-88B4-4E3F-B8C1-3E57A57F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A1CA-3925-4CD7-A389-F6276724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B4C-A332-4637-A249-299A21E6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9AF5-ABD1-401C-A2A9-7FD052FD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4CE3-1C0A-41DC-8311-BB9200EC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11B-46B9-431C-8734-DB6A559D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D71-D1B9-4786-8F91-E95E362E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3A02-FC72-41FD-B17D-73EE5F1A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57B2-4C62-491F-84EF-E9D1BE0F8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-20520"/>
            <a:ext cx="9117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20Z</dcterms:modified>
  <cp:revision>20</cp:revision>
  <dc:subject/>
  <dc:title>PowerPoint Presentation</dc:title>
</cp:coreProperties>
</file>