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0CAC-AED3-4929-B10D-C380BE8882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2B | FEDERAL HEALTH EXPENDITURES WITH TRANSFER ADJUSTMENTS AS A PERCENTAGE OF TOTAL FEDERAL, STATE AND LOCAL HEALTH EXPENDITURES, 1929-20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0D5C-3727-4736-8558-76C4ED318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458-0870-494C-A5CC-B80C4AC4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1607-4AA4-499E-9185-8B9CF268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1A74-D1AE-48ED-A248-52D35867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E18F-FA2C-4A3D-AC30-4897C9B5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CA4B-4CFA-4682-8BE2-E0077B5C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BB07-3C03-432D-9F81-6702B86B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B2F3-F7BB-4E58-A65F-F759C73F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FF26-A5C5-414B-9372-08B0625D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B0DA-F3F0-4BD7-9640-6DD27FD0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420F-CA5E-4C46-B94A-30AFCF9E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EF32-2E28-42D6-A5F8-AD02CA56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9D7-3EF7-4CA9-BA43-12751118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8686-CACD-4622-A1AF-054AB56BD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2b | Taking into account Federal transfers to states for health, the Federal share of government health spending exceeds 70 perc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84440" y="1676520"/>
            <a:ext cx="459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ederal percentage of total government health expendit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2b | Taking into account Federal transfers to states for health, the Federal share of government health spending exceeds 70 percent </dc:description>
  <dc:language>en-US</dc:language>
  <cp:lastModifiedBy>Jia Yao</cp:lastModifiedBy>
  <dcterms:modified xsi:type="dcterms:W3CDTF">2013-09-06T13:59:32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2b | Taking into account Federal transfers to states for health, the Federal share of government health spending exceeds 70 percent </vt:lpwstr>
  </property>
</Properties>
</file>