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C237-DBF0-42C5-921B-E17917056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a | Net Burden of Health-Related Expendtures by Family Income Decil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063E-39AA-4727-AD88-C60897C56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D8D-8EA6-420C-8119-B6883493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AD2-1B72-45D1-A93C-4213F2FE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858-77E8-432E-87E2-E92C78A9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634-19BA-4083-83A0-8968B8F2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C06-40FB-440A-BF32-E9E79847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F69-E9C8-4A88-9397-A7583366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435-0349-4176-B461-2C05C274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64F-4E93-41D1-A94B-AC831841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9E8-E872-4940-9C88-617FD9B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FB0-953A-4CE6-8C10-31E8F4E9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CBC-8CF5-4406-99EA-4DEA5AA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AAB-641F-4EE5-878D-A6EC18F4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983E-3A46-4812-92F4-7BB404042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.2a | The net burden of health-related expenditures is about 2-1/2 times as large for very low income families compared to very high income famil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86000" y="4178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62120" y="1371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nding as percentage of family income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4200" y="457992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family burden of health expenditures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200" y="581508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a | The net burden of health-related expenditures is about 2-1/2 times as large for very low income families compared to very high income families.</dc:description>
  <dc:language>en-US</dc:language>
  <cp:lastModifiedBy>Jia Yao</cp:lastModifiedBy>
  <dcterms:modified xsi:type="dcterms:W3CDTF">2013-09-06T15:12:5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a | The net burden of health-related expenditures is about 2-1/2 times as large for very low income families compared to very high income families.</vt:lpwstr>
  </property>
</Properties>
</file>