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4C48-3AC6-4FAC-8CE2-DB5ACA5D6A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418F-99B8-436B-9C11-5E1314D835F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1b | DISTRIBUTION OF NHE BY TYPE OF EXPENDITURE, 1929-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66D0-A61E-4BA2-812F-E8BCB029D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6C36-0447-4AE0-ACE4-D6439B17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765A-46B8-4F09-8948-1D17DF40A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390D-26F9-4E8F-A370-2039FDA9D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4965-830E-4F57-B384-A68B73C72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A0A5-F5B6-489B-8652-CB048126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8198-B5D7-41C3-B219-BAC8B3FC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3117-E5A0-41DB-8C1C-664E46CB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9503-4547-46BC-B982-FC1D0386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EC9D-DA00-4D27-ADD2-D52B92D7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FB2D-227E-467E-B06F-5EF477E8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548F-43BA-417B-826D-4E3F940B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05ED-F5A1-4984-8C5A-3C467F69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F377-CC00-4997-8C74-F08EA5A9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CF47-3040-4955-8A61-2A9868D7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3C1F-378C-473A-AD9C-DEF9F7EDA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03C1-FF75-4562-B432-D9401B9B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6EAD-3729-4875-8D02-C7CABE1F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F14A-CE66-4893-B856-E4C28597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BB98-9844-44D0-8C4B-DB0BF0E1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A72B-2AA2-4A14-A9BB-F3F6A523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49B0-DDAF-4D9F-99CC-7089BC32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8CB4-77A5-4DE6-A23F-1F696827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3A17-D720-4F55-804F-F58F8BA4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0224-6D6E-4CFD-94F1-BBBA1D1E3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927F-9903-4285-88ED-1D15CBB89C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1b | For over four decades, spending on personal health care has exceeded four-fifths of national health outlay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1b | For over four decades, spending on personal health care has exceeded four-fifths of national health outlays</dc:description>
  <dc:language>en-US</dc:language>
  <cp:lastModifiedBy>Jia Yao</cp:lastModifiedBy>
  <cp:lastPrinted>2002-05-16T21:44:34Z</cp:lastPrinted>
  <dcterms:modified xsi:type="dcterms:W3CDTF">2013-09-04T18:13:12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1b | For over four decades, spending on personal health care has exceeded four-fifths of national health outlays</vt:lpwstr>
  </property>
</Properties>
</file>