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319-9ABC-47E4-9A35-98C45ECC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AD0-0824-4C86-9A28-5C25CC65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ED2-6AA0-4882-AD35-34CFFB94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F02-3A6D-42E2-8520-EB4CD002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AAA-8DCF-41E1-9708-63330F72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2E9-C734-47A9-A203-54364184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76C-0396-493F-B9B5-2395FCD6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031-46F3-4DBD-A223-761363ED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75F-CE2B-4EE1-9BF1-2EFCF35E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D09-3E70-466F-8157-59D78556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B3A-AF34-4AB5-B0BC-89C92D3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53B-367A-49A2-A289-0DF838F9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BCC8-3B25-424D-8CD7-16898F1AE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160" y="76320"/>
            <a:ext cx="91328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6Z</dcterms:modified>
  <cp:revision>22</cp:revision>
  <dc:subject/>
  <dc:title>PowerPoint Presentation</dc:title>
</cp:coreProperties>
</file>