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99E6-50DA-4FA2-B67B-542E659CE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B |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1D48-E788-4924-8329-CF5143398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B21-2D41-40C4-BF8B-97541E6E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12F-30AF-4827-AB9F-8BCD2A93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841-5816-41D5-A2D8-4BD7B6D1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834-A4B9-447A-B937-3AB19A48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C1DC-4B56-4657-9541-D4514919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DDBC-0398-4492-A9A4-4786E440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1E63-CC8E-41C9-B66A-52BFA92B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9348-8480-44B9-B353-4D9F2520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AB5D-F830-4615-AC7F-19F688A1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7D06-5363-429A-90AE-57F60F43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24A3-8059-4E61-BC3F-172A6990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E22-5E9D-44A1-92AC-19308894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1DC5-D585-4749-BB20-D664C222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36C6-9E56-4574-A874-AF5A33E3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7679-C3B7-42C9-BBC5-E7ADF421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FDD0-6CE0-48CF-9BB5-2CE2AE82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99CD-E2C3-4C27-8B3E-5F327F1B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E8D-121B-40EA-A5DB-34DA2313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2FE-C114-4D4F-8C74-8C628984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530-E78A-41CF-81C4-93418239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C5BE-7E59-46D9-8049-3CC279D5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DB3-C5F4-4578-A033-5B95FC6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B3A-AF28-4E6F-A352-43BCD96C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D7F-6FC5-4AF1-80F3-86A0341F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0DE7-BF06-4AAA-BFE0-A491B2F50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4C1E-A5D1-415A-9DD7-D794AE39F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b | Real household spending on health has increased much more rapidly in elderly households than i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207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b | Real household spending on health has increased much more rapidly in elderly households than in non-elderly households</dc:description>
  <dc:language>en-US</dc:language>
  <cp:lastModifiedBy>Jia Yao</cp:lastModifiedBy>
  <dcterms:modified xsi:type="dcterms:W3CDTF">2013-09-23T17:01:3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b | Real household spending on health has increased much more rapidly in elderly households than in non-elderly households</vt:lpwstr>
  </property>
</Properties>
</file>