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66B0-AC85-42CF-B51B-43A9E5D40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591D-5598-4411-AF0F-21486D40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0FCF-A124-4CAF-8155-A2A895263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77B3-66E5-43F5-ABA0-CE8AD883B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4852-CE49-45CC-8283-C43677F3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C297-F211-4E45-9308-334C790D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0864-A5B0-4E73-8EA3-14B0D998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B524-8977-484F-9470-549153EC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CB68-A73B-40FF-A371-376C9F58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EE91-6FC7-4C6F-968A-C45C2EB3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E188-3641-48BF-8456-F6F30282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B77D-3C4D-4056-A5CC-BB11911A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93DF-46B7-417D-A693-833730FE3F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01520" y="1447920"/>
            <a:ext cx="89409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6Z</dcterms:modified>
  <cp:revision>41</cp:revision>
  <dc:subject/>
  <dc:title>PowerPoint Presentation</dc:title>
</cp:coreProperties>
</file>