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5CB9-E5B0-4F5E-A896-848A797EF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6 | NUMBER OF UNINSURED AND PERCENT WITHOUT HEALTH INSURANCE, 1940-20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Tahoma"/>
              </a:rPr>
              <a:t>Source: Author’s estimates based on CPS, HIAA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B8A8-BAD6-4AD9-B14E-B5C1084CCB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9083-9B05-4562-8113-34974393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CA20-D733-44EA-ABEE-7B16AE18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DB1A-5383-4544-BC9E-9EC307D4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75B5-4F2A-4036-92C5-1C3443AF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9CD3-4AAA-4784-862E-2EB36F99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C769-AF57-4F91-A7DA-682A1E06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B9EE-0631-452A-9F9C-41CBA0F8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6784-ECF3-4041-AB1E-3AFFCF60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6E98-EA34-4C07-B472-FDEA5941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5A7A-6184-43B0-91B9-62030B3C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D846-BF3E-4431-8976-32517C73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9C52-15A3-49F8-87BA-0648B59F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5982-7D4D-47B9-9064-2259989468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6 | The risk of being uninsured has declined by more than 80 percent between 1940 and 201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863640"/>
            <a:ext cx="8331120" cy="55116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1066680" y="914400"/>
            <a:ext cx="2286000" cy="512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325440" y="5943600"/>
            <a:ext cx="865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: Figures simulate the gross number of uninsured as if measured by today’s Curren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pulation Survey. No adjustments have been made for the 10 to 20% overcounting o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nsured by the CP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TextBox 1" descr=""/>
          <p:cNvPicPr/>
          <p:nvPr/>
        </p:nvPicPr>
        <p:blipFill>
          <a:blip r:embed="rId3"/>
          <a:stretch/>
        </p:blipFill>
        <p:spPr>
          <a:xfrm>
            <a:off x="4979880" y="914400"/>
            <a:ext cx="3140280" cy="512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6 | The risk of being uninsured has declined by more than 80 percent between 1940 and 2010 </dc:description>
  <dc:language>en-US</dc:language>
  <cp:lastModifiedBy>Jia Yao</cp:lastModifiedBy>
  <dcterms:modified xsi:type="dcterms:W3CDTF">2013-09-06T14:06:28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6 | The risk of being uninsured has declined by more than 80 percent between 1940 and 2010 </vt:lpwstr>
  </property>
</Properties>
</file>