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6CF-136F-4385-B4FE-236DD2E6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E4D-42D1-4476-8F16-280048EA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C74-67C6-4786-8D8F-7F2B527A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5C4-0222-49B4-8C7A-AFDAF4FC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B266-4C21-45FB-AF43-4AA8B486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1E2-909A-4D05-8E1F-F42BDADD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F30-DC98-4D8C-A33A-7B0F191C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E6D-1326-4641-AFB1-87C89692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015-6B5C-4B0D-8EB6-2C6CD76A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360-D906-41E3-9C35-F9EDBFA9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348-FA21-4D6C-BF98-FFCB0F40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C0A-F16F-4B95-A3DA-989512FE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62AB-B615-41AC-BF70-1E334B685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2360" y="0"/>
            <a:ext cx="62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3Z</dcterms:modified>
  <cp:revision>22</cp:revision>
  <dc:subject/>
  <dc:title>PowerPoint Presentation</dc:title>
</cp:coreProperties>
</file>