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01B-0EDB-4866-9046-7A31195E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71E-F7D6-43FC-9CFF-41E2B104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437-1BBF-4C87-A632-A08FDDA4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77F-D744-484C-9429-7B7C6AF3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CCE-D414-4911-8BD6-EC39BD9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F6F-3870-4B58-BF16-7F73862D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70C-B3F6-4603-B630-5D81207C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792-384C-4FBD-AD4F-87C8EEDE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38D-DC9B-401B-9BFF-7CD77AB8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719-907B-4E54-BF60-6959884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25C-767C-4E65-9394-02679259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0DB-E9FC-4EAF-B5D6-3BA4C630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EC9A-70A3-448C-A348-6D0406EB6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5Z</dcterms:modified>
  <cp:revision>10</cp:revision>
  <dc:subject/>
  <dc:title>PowerPoint Presentation</dc:title>
</cp:coreProperties>
</file>