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6C33-0D61-4D31-BDF5-5DB880E3B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C | RATIO OF HEALTH-RELATED UNFUNDED LIABILITIES TO U.S. GDP AND HOUSEHOLD NET WORTH IN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0339-1638-4DED-BF78-84C5B9322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CDF-170F-4494-9895-23B20187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2D7-1986-466D-9CAD-4FE3EFCA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728-BD03-4DF7-A9F5-D3653096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27B-0619-4182-BD42-DBFB4D6F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97D-1D73-4F70-B04B-DC0C7CBB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2D6-9695-4851-9841-1319E8B8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9B4-9227-4BA9-AAC6-D5F7492B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65D-9B59-4D89-BABC-A47A2ABB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E4F-0E7E-4D38-9908-E5EC20FC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126-773D-458E-9015-734A7267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167-2510-4391-BEC4-E508F635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99F-2BF7-468F-A884-13229E51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47A5-4C26-4E85-836C-F00599967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c | Health-related unfunded liabilities alone are  at least double national income; in the long run, they exceed current U.S.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2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55480" y="1405080"/>
            <a:ext cx="1600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 of unfunded liabilities for Medicare and Medicaid relative to measure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2680" y="603720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funded liabilities calculated as of January 1,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c | Health-related unfunded liabilities alone are  at least double national income; in the long run, they exceed current U.S. net worth</dc:description>
  <dc:language>en-US</dc:language>
  <cp:lastModifiedBy>Jia Yao</cp:lastModifiedBy>
  <dcterms:modified xsi:type="dcterms:W3CDTF">2013-09-23T19:14:3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c | Health-related unfunded liabilities alone are  at least double national income; in the long run, they exceed current U.S. net worth</vt:lpwstr>
  </property>
</Properties>
</file>