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2C5D-413A-43B8-83BB-C1E3F6CB2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FD1C-0EF6-4096-8D40-BD7BDBAC166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7b | Percentage of Personal Health Care Expenditures Paid by Medicaid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047E-9E7F-4E21-873A-3B9EFEEA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B346-35CA-4668-ABB3-5BB5B4CF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C624-65A2-4C65-BE3E-7F852BAE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5FC3-084A-4D0E-8077-F0E356FA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86D1-283C-4A5C-80D5-DF0E9A73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8949-78E8-49CF-A0DA-AFCF31A4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9680-018B-4626-B9D6-B89A0A21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EBB6-A362-458B-AC4E-FD030054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63B2-8EA7-42E7-945C-8200D950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5747-DEF5-4189-AF3D-CCBE0EAC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ED5D-C22C-45D0-ADF3-F15A66CA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AF21-B48C-4A52-8FDA-85413D93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DFD1-A297-4BF4-A7E4-CBB7E11D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6278-49FB-41F3-917F-6EF101B6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8A69-D0B6-4279-8A6C-D3A0285B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E31E-4264-4D56-A2DE-729681C2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F6E8-60E5-4EED-9575-DFD12BCC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9DC5-4300-41BE-82EF-C179313F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F76B-154B-489E-8C17-252170FE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8523-8310-4A3D-A277-F23999A3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7D71-31BA-4F4D-A1D3-71D284E1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490E-5BED-4A9C-92E8-D5172FB8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854E-A976-4D2C-A70E-6E1B27BC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172B-6FE0-478F-A6CB-C6EC3061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01D8-7154-4F42-AADC-1D27BE594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C837-C7A9-4CCE-8493-AD5A65E921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7b | Medicaid covers about two fifths of the nation’s long term care spending, but a much smaller share of acute care spend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7b | Medicaid covers about two fifths of the nation’s long term care spending, but a much smaller share of acute care spending</dc:description>
  <dc:language>en-US</dc:language>
  <cp:lastModifiedBy>Jia Yao</cp:lastModifiedBy>
  <cp:lastPrinted>2002-05-16T21:44:34Z</cp:lastPrinted>
  <dcterms:modified xsi:type="dcterms:W3CDTF">2013-09-04T21:04:05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7b | Medicaid covers about two fifths of the nation’s long term care spending, but a much smaller share of acute care spending</vt:lpwstr>
  </property>
</Properties>
</file>