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B584-456F-4A17-B824-19C90F4C5E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92EF-D3F9-431C-B26B-D36C2DB39C4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9a | Sources of Payment for Persons, by Insurance Statu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A9EB-D04F-4C26-980D-90C2D11F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A7E2-ADE5-4BE6-854B-D2060993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B660-18F8-403B-8C54-53D5E7748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D669-E67B-4F83-9FEF-8839647E8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9E22-C64A-4D7C-8D49-3AC63A3EA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E2C9-4538-4E37-A2B9-8C68C440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E447-44B9-4DD7-9675-50FDFD02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5992-072A-4501-9BB8-80B70665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4F34-B2AE-40E0-BE3D-00E76137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EC40-826A-42AC-915A-054BE470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C247-0599-414A-9C99-EE12F2FC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8C81-3795-404D-8194-21C41E5A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5F2C-FA55-40DE-9F07-FF7DC871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913B-0B69-441B-A2D5-F1E7F53B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3551-973A-404E-96EA-6115B086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2255-A9CE-4606-B00D-2D5BB0B30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3BF9-1F03-4EBB-86AC-2281C358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F1BF-4721-48B9-9E24-A54CB9AA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66DA-8659-4541-A46E-AA200F5B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8EE5-46AB-4DFE-B014-E620417B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AB13-4F31-4830-8F9F-B6039DE4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F08E-C40A-476D-A018-F6DBB477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78CE-2463-45E2-B1B1-DFD92AF6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ACD9-65AE-49DB-B1AF-9172EFD0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2EE8-6ED5-44E1-A27E-15623CFCB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6A00-646A-4E28-A92D-0D52C04482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9a | Out-of-pocket spending is similar among the uninsured and privately insured, but the former receive much more subsidized car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77840" y="787320"/>
            <a:ext cx="890280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380880" y="5610240"/>
            <a:ext cx="8553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Hadley J, J Holahan, T Coughlin and D Miller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overing the Uninsured in 2008: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etailed Examination of Current Costs and Sources of Payment, and Incremental Cos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f Expanding Coverag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Prepared for the Kaiser Commission on Medicaid and the Uninsured. Kaiser Commission on Medicaid and the Uninsured. Washington DC. August 2008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9a | Out-of-pocket spending is similar among the uninsured and privately insured, but the former receive much more subsidized care</dc:description>
  <dc:language>en-US</dc:language>
  <cp:lastModifiedBy>Jia Yao</cp:lastModifiedBy>
  <cp:lastPrinted>2002-05-16T21:44:34Z</cp:lastPrinted>
  <dcterms:modified xsi:type="dcterms:W3CDTF">2013-09-04T21:04:14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9a | Out-of-pocket spending is similar among the uninsured and privately insured, but the former receive much more subsidized care</vt:lpwstr>
  </property>
</Properties>
</file>