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801-A169-478B-A5A5-F4AF5D76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70E-704B-4A45-A2DA-A23D6A77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C7D-58A1-4704-AA3F-E23B80C5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30A-EC07-410B-A7E8-E69C8E89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C82-C051-419E-A0A3-567BDC1D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F0C-1111-4AE1-93D1-AF89658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148-F852-488E-97B1-5616D10E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317-8566-40A2-B0EC-00D7DC2D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724-A35E-4DD0-908F-EAE389E1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E68-47A6-4DE3-8731-136647BD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E8E-D772-45A6-BAB0-AA4E5B73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F4B-2698-47ED-A0F1-9D7C6803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3341-57B0-429A-9754-B20960154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360" y="85680"/>
            <a:ext cx="90536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3Z</dcterms:modified>
  <cp:revision>35</cp:revision>
  <dc:subject/>
  <dc:title>PowerPoint Presentation</dc:title>
</cp:coreProperties>
</file>