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D552-D8A7-4589-941A-DFD7BE46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AD0A-DFC4-4DB8-BBAD-E2C97789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B930-C6B3-4DDF-A1FD-4FEF7F2D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8DE8-B5C7-4B8A-9923-7C798154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7E7F-E323-40BA-ADBF-EA30FB85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8BF3-E9FB-4E50-A7C0-5C0080BB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61F0-DFD9-48C4-8733-37B96A68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7548-A1AC-4776-A9F9-1C360BDD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A46D-6F98-4E48-AE39-C8AC7C6D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59CF-8008-4E0A-B74D-CBA3F7F4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52AF-EC04-40AC-9420-BEADB5CF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50D0-1BB8-40C9-B4D1-1743F126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5F9C-F805-43AE-8FF0-1BEEFDBB6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152280"/>
            <a:ext cx="89856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16Z</dcterms:modified>
  <cp:revision>37</cp:revision>
  <dc:subject/>
  <dc:title>PowerPoint Presentation</dc:title>
</cp:coreProperties>
</file>