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9EDB-2605-4958-B821-A5ED38F47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B | LIFE AND WORKING-LIFE EXPECTANCIES FOR FE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89E5-A354-40C5-93E3-C501380D4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BFB-4765-40E8-A718-28F92817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32F-424B-4BCD-8126-20AA65C4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92D-1BBC-4956-9AA1-C27D6828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31C-A11D-43B5-96FB-801CEB78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52D-EA04-4335-BB88-7FBB79F0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878-B361-46D2-8430-C0DA1E70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D74-B74E-493D-883C-B1C925D2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975-37FD-4875-AC92-952B490F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28F-4E17-446A-8362-93D9E741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BAF-83C0-4F14-8421-A889BF4B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960-9347-4579-A702-5C872E97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ACB-57A4-4D4E-9CE9-241E9ED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3301-EFCB-426D-847B-05E5FBE47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b | Increased life expectancy for females generally has been accompanied by rising working-life expect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working-life expectancies not available for females in 19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b | Increased life expectancy for females generally has been accompanied by rising working-life expectancy </dc:description>
  <dc:language>en-US</dc:language>
  <cp:lastModifiedBy>Jia Yao</cp:lastModifiedBy>
  <dcterms:modified xsi:type="dcterms:W3CDTF">2013-09-06T15:04:20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b | Increased life expectancy for females generally has been accompanied by rising working-life expectancy </vt:lpwstr>
  </property>
</Properties>
</file>