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A0BA-22DE-4F92-8BBD-FD79AB38B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c | Output per Hour and Output per Unit of Input Indexes (1987=100), Medical Equipment and Pharmaceutical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6A2C-6382-49F3-9C3A-6FDF78B5C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E58-508B-4BD2-8FBD-DFCBAB34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539-ECC5-45E8-8A52-6933FBF6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8A2-0F3F-41BC-A162-D89773D0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36C-523A-436D-9A4B-2338AAEC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EAF-B98A-435B-B155-CB780D35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95F-D6B1-4BDC-B23C-4351A916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108-CF0C-4664-96CC-CA755235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825-C426-40C9-B735-71845623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8FE-3C8E-43C5-B544-B0D9A6D9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53D-4955-49E8-9834-144DA740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B653-36E7-4490-B90A-C7D67E6F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A587-845B-4D8A-BEF3-EE9A8D46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8643-BB4A-471F-8CC6-9F0EE0BBB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c.  Productivity has grown much faster in the medical device industry than the pharmaceutical industry, where output per unit of input is fa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48340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c.  Productivity has grown much faster in the medical device industry than the pharmaceutical industry, where output per unit of input is falling</dc:description>
  <dc:language>en-US</dc:language>
  <cp:lastModifiedBy>Jia Yao</cp:lastModifiedBy>
  <dcterms:modified xsi:type="dcterms:W3CDTF">2013-09-06T14:59:1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c.  Productivity has grown much faster in the medical device industry than the pharmaceutical industry, where output per unit of input is falling</vt:lpwstr>
  </property>
</Properties>
</file>