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BF3-027F-4245-88A9-46B9E91F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C01-5C5F-4568-80B5-D6205315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9C0-9DDF-44A3-84B1-F61FAE74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142-CF63-47AB-9F9E-6DD6EF43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473-410E-40B5-8DF9-484F7E96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98E-3E21-41C9-B7F3-0C015FEB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359-3902-4E5F-B96A-9076A57A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66B-EC52-470F-AF03-C2D2CF58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D18-CC8C-4779-B1C5-ED89D3DE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10D-7BF7-4941-A240-78D3649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A3B-3BB9-4A47-ACAA-C1D45F6F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03A-BE33-4948-A5E0-8EB81A4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07DF-2A84-4F92-A142-2F4695CD9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59:59Z</dcterms:created>
  <dc:creator>Jia Yao</dc:creator>
  <dc:description/>
  <dc:language>en-US</dc:language>
  <cp:lastModifiedBy>Jia Yao</cp:lastModifiedBy>
  <dcterms:modified xsi:type="dcterms:W3CDTF">2013-09-06T22:01:57Z</dcterms:modified>
  <cp:revision>1</cp:revision>
  <dc:subject/>
  <dc:title>PowerPoint Presentation</dc:title>
</cp:coreProperties>
</file>