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E04-1219-403A-94D1-078B4C68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DF6-AF33-4D0D-934F-D66F1433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0BA-9EF1-4D39-AC67-963604F4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035-87A9-4F5E-B8A3-EA4699A1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0FE-0BDC-47C3-94EC-BAA3D1EB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A72-3247-426F-AF4F-96E83AB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E6F-01B7-4651-AA4A-D07B6758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ACF-E105-48E7-A1BC-9E894051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407-1BFE-4EDD-861F-2332A2B9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F25-BF79-48DC-AF96-961FA16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3B9-0852-4DB5-B29C-A0AAE139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48F-838E-47D5-BE90-6BD9731E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CF03-819A-4514-8D7D-0373484DA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228600"/>
            <a:ext cx="900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1Z</dcterms:modified>
  <cp:revision>39</cp:revision>
  <dc:subject/>
  <dc:title>PowerPoint Presentation</dc:title>
</cp:coreProperties>
</file>