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9216-AE97-4F63-8482-99E1EFBDB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4b | Information Capital per Labor Hour, Private Health Care Services and Private Busines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8D93-00A4-4E1A-A913-5157BB373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12A-8A00-4A8C-B31D-9DE402B8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6B6-E4F8-4505-9449-61DAF612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5FA-C302-45C9-947E-8BD16FF3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FD2-EEFC-4CCE-8B9E-644AB400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400-8DF9-4818-A03E-1B8C503D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039-A243-4C73-A504-00AB2B97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C73-FE5E-41BB-B9A2-0063008E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D02-3065-400F-9AA7-E5F555FD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9EA-4C17-4D62-AA7A-F7AC8841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53B-11D9-4597-A92F-E50222C3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9DC-5D28-40C2-B36D-B70C29FC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DEE-5484-4F2C-A50D-C734E6BE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23FC-7B44-400B-9274-F5BFD7349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b. | Since 1987, real information capital per hour in health facilities grew nearly three times as fast as in ambulatory health ca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78915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b. | Since 1987, real information capital per hour in health facilities grew nearly three times as fast as in ambulatory health care services</dc:description>
  <dc:language>en-US</dc:language>
  <cp:lastModifiedBy>Jia Yao</cp:lastModifiedBy>
  <dcterms:modified xsi:type="dcterms:W3CDTF">2013-09-06T14:59:2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b. | Since 1987, real information capital per hour in health facilities grew nearly three times as fast as in ambulatory health care services</vt:lpwstr>
  </property>
</Properties>
</file>