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DFC4-9D18-4399-AC1C-6773270B2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651C-05E5-4BF4-94A2-4EC2DDC24A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a | Distribution of Elderly and Disabled Enrollees and Expenditures under Medicaid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0FCA-1681-451D-BAC7-63FBB4C4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A16-1C6E-454A-9362-335D9321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40A-B871-4D08-A60B-A793E811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ADE-9B7A-4B67-B0D9-699A88DD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255F-A186-4A47-9F05-4083F5CF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9F57-4FF8-47F0-B401-FC1A6B7C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01A6-18E6-4792-B1CF-7C3E547E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9388-4938-4DB6-A804-10F8F92D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BF8D-91D7-4D00-8A4E-7CDA0300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0CC2-CFE6-47EC-BEB7-A8D1CC69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DE3D-F975-4DB6-A860-D553F249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606-8590-4AC0-8632-8A5137FC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41D4-051A-4DDD-AE7B-EBB60C27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2299-C7BD-4730-84F8-980A877A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0A99-F711-42B2-A82C-887BA4E9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DDF4-9EB1-42E0-A0E7-FA9A234D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FA4C-E5E1-48B7-80C0-155F9E4B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765-3F17-4EA2-8E3F-56624D56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54F-5BAC-43C3-83BD-033FBDED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074-5671-45AE-853C-AC9CCFB2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57A-11E9-4893-BC34-78984D8D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7C9-0F01-477D-83AE-F533FAC4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CA1-202E-4671-950D-93DA0044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9CC-D138-4B92-AE23-1A0F3AD3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0246-37C2-468A-A87E-A426C1BAB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26DE-0CFE-4553-9612-40103C28F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a | The elderly and disabled constitute one quarter of Medicaid enrollees, but more than three quarters of Medicaid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09480" y="5867280"/>
            <a:ext cx="815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Kaiser Commission on Medicaid and the Uninsured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edicaid: A Primer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ey Information on Our Nation’s Health Coverage Program for Low-Income People. June 2010. http://www.kff.org/medicaid/upload/7334-04.pdf (accessed October 13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a | The elderly and disabled constitute one quarter of Medicaid enrollees, but more than three quarters of Medicaid spending</dc:description>
  <dc:language>en-US</dc:language>
  <cp:lastModifiedBy>Jia Yao</cp:lastModifiedBy>
  <cp:lastPrinted>2002-05-16T21:44:34Z</cp:lastPrinted>
  <dcterms:modified xsi:type="dcterms:W3CDTF">2013-09-04T21:04:03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a | The elderly and disabled constitute one quarter of Medicaid enrollees, but more than three quarters of Medicaid spending</vt:lpwstr>
  </property>
</Properties>
</file>