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1180-D03D-4B9C-B2A4-23AE9B43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FAE1-B6CE-4247-8FE6-F36BC69C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FE70-DDE5-42E2-B04F-CC3D12DE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A164-921B-481C-9828-D476530DC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3448-C255-4C6D-AFA3-E13EAC92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F541-B8E4-4444-BF9E-29EA6C21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0D9E-05FA-494E-83EF-41EB834F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DB79-459D-4473-9EB0-1399C7C6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DE4F-9389-4E45-88BC-05CDAC70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17CC-0574-4EC9-A279-7D96DBA5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FF95-60AE-4DAE-83E0-226E359F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1965-38B6-4C73-BD27-E4E34AAA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431A-82AA-4444-BF24-5A45002A6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160"/>
            <a:ext cx="915984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4Z</dcterms:modified>
  <cp:revision>8</cp:revision>
  <dc:subject/>
  <dc:title>PowerPoint Presentation</dc:title>
</cp:coreProperties>
</file>