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7DE4-EBD2-4E0F-9D18-CAF717739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5B | PRIVATE HEALTH INSURANCE COVERAGE OF ELDERLY 65 AND OVER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8D76-8DA5-45A8-A8D5-CE999F89B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6C2A-A006-46EF-B8D0-ECA65444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03A4-0C0B-43C8-977C-F77EC82E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89DF-3DE5-4084-B614-58434683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13A4-F967-4777-A612-249E04CE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4AF1-8B30-4731-92B5-21D48D28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6F87-FE08-4811-A776-AE75FE4D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7F5-CA84-4323-8286-FBB61A00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2638-4E4B-4BBF-BDCA-C7A9F66C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1E5E-467D-49C7-BCDD-855B90B2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FA41-5897-4A54-98C0-EC953108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F655-CBCE-47E2-9284-D36532F6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CA4E-CB8A-4806-841C-9504FD53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0753-5ED5-499A-8F9F-4389E5D7A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5b |  A large fraction of the elderly has supplemental Medicare coverage through employers or non-group pl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168560"/>
            <a:ext cx="92455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20574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who have coverage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5b |  A large fraction of the elderly has supplemental Medicare coverage through employers or non-group plans</dc:description>
  <dc:language>en-US</dc:language>
  <cp:lastModifiedBy>Jia Yao</cp:lastModifiedBy>
  <dcterms:modified xsi:type="dcterms:W3CDTF">2013-09-06T15:17:05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5b |  A large fraction of the elderly has supplemental Medicare coverage through employers or non-group plans</vt:lpwstr>
  </property>
</Properties>
</file>