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97AF-479F-4E70-9313-A60A62F0B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a | Direct Health Spending as a Percentage of Family Income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52FB-F1ED-45B4-8E16-5FF9EAD6C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15C-AD3E-47AE-9ED5-0C010AFF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899-CC4F-4C22-934F-93991FD0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ADB-7D88-4615-A2B3-7200990D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366-E5E5-4C07-A1EE-1D004E08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A01-3E03-4959-B591-E6962E6E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695-4A4D-4C97-B5C5-AAD04570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633-3576-422B-8AEE-316E7F01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2BC-FEA6-4E03-818E-B61A98FF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2D7-6746-497B-A641-F25FD46A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258-22B2-46EB-9585-AD6895B4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95D-776F-4E46-BC25-E8CB6D1A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D07-A7A8-4C9A-9EEE-38BCAFA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1174-0FB2-4652-BAB9-44CE8F600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a | Direct health spending has been declining as a share of family after-tax income for families with the lowest in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85720" y="15764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 health spending as a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a | Direct health spending has been declining as a share of family after-tax income for families with the lowest incomes</dc:description>
  <dc:language>en-US</dc:language>
  <cp:lastModifiedBy>Jia Yao</cp:lastModifiedBy>
  <dcterms:modified xsi:type="dcterms:W3CDTF">2013-09-06T15:13:0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a | Direct health spending has been declining as a share of family after-tax income for families with the lowest incomes</vt:lpwstr>
  </property>
</Properties>
</file>