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A6F3-D1B3-4559-BA1E-229EA8119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2 | INDEX OF AGE-STANDARDIZED DEATH RATE PER 100,000 (100=US) FOR MORTALITY AMENABLE TO HEALTH CARE (BOTH SEXES COMBINED) IN 19 OECD COUNTRIES, 2002-20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2CD7-D080-4FF8-9038-08074C35E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4269-32A9-465E-9B15-AC60AF69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A423-A9D0-49BA-9414-1C8B679F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DE49-1978-4CA0-B6AA-27BA4DC4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919F-A1C2-4F18-B5E1-BDC13D59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AB0-58BF-4269-8C8B-17345832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70F1-9B30-4858-9ED4-0CE65D74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967-C460-494D-9453-86A22828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8669-3D28-415A-BCFB-3A65C095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0DFD-FFC1-42F9-885B-216FC5CE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9CB-E01E-477F-970F-1BB4C214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AE98-ED17-4A13-BB5B-004F2EE6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D6A1-9FCD-4876-8024-75D9D784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FC0B-1E80-4041-B923-6EFC45AA3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2 | Compared to many other OECD countries, the U.S. has a higher death rate from conditions amenable to health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244520"/>
            <a:ext cx="87120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914400" y="138276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 (U.S. = 100) of standardized death rate per 100,000 (ages 0-74), 2002-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3520" y="5897520"/>
            <a:ext cx="85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Nolte E and CM McKee. Measuring the Health of Nations: Updating an Earl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alysi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58–7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2 | Compared to many other OECD countries, the U.S. has a higher death rate from conditions amenable to health care</dc:description>
  <dc:language>en-US</dc:language>
  <cp:lastModifiedBy>Jia Yao</cp:lastModifiedBy>
  <dcterms:modified xsi:type="dcterms:W3CDTF">2013-09-06T15:41:2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2 | Compared to many other OECD countries, the U.S. has a higher death rate from conditions amenable to health care</vt:lpwstr>
  </property>
</Properties>
</file>