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D7AC-B154-4CA8-BA60-CBD3A2BC6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191D-E53E-4174-B2D0-86C20DD6FA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a | AVERAGE TAX SUBSIDY AND TAX SUBSIDY AS A PERCENT OF PREMIUMS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B01-EDF2-486D-ACFB-365A6E20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42D-F476-44E7-983D-7BFFB52E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D92-D44E-429F-AABD-A7B7CA06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153-E809-4CAA-B8D9-268713BD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FE77-2EFD-4004-8AF2-97202F81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2BC1-D0F0-46F3-BE3C-4D41D8C1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2F56-40C0-47B7-8C0B-9D002CB6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6E60-3D16-49E6-937D-C9E701B1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0D12-3036-4214-9D68-1509B1EF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9659-D5BB-40B8-B200-99F175D1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C494-D577-4B82-BD97-E2590694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832-1773-472A-9756-B17388AC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A038-862A-46EB-BF5C-2F51C6F4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05F1-BE2A-46F6-8F02-F214886C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CB20-A9DD-4DF1-9327-0A0F076B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CF04-7555-4D48-B605-949E08F0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B4AF-F9B9-47C0-90E2-A7AAD3FC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164-A322-4656-9A47-A79883AB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8BB-8FBD-4E58-ADA3-201A4367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4DF-697E-4B2F-B61F-7A83F336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608-92D6-46C3-A3E2-DC14EDC3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E61-E388-467E-9830-701D0849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632-3CE3-4F99-BE24-34C7735C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F53-FAB6-4C8C-B440-E4CFB87B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A0FB-1357-459E-8722-D3F61CBEA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5CB2-A184-49EF-9E2C-B7BD75257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a | Higher income families get a substantially higher subsidy from the employer tax exclusion compared to low income famil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692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148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a | Higher income families get a substantially higher subsidy from the employer tax exclusion compared to low income families</dc:description>
  <dc:language>en-US</dc:language>
  <cp:lastModifiedBy>Jia Yao</cp:lastModifiedBy>
  <cp:lastPrinted>2002-05-16T21:44:34Z</cp:lastPrinted>
  <dcterms:modified xsi:type="dcterms:W3CDTF">2013-09-06T13:50:01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a | Higher income families get a substantially higher subsidy from the employer tax exclusion compared to low income families</vt:lpwstr>
  </property>
</Properties>
</file>