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019-E1E3-4711-8A37-54C8C0DF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3BA-E89B-4781-867D-6400B9DF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E19-5E6B-4D71-AD65-4F6794AD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09C-27F5-45EE-A06B-173EA3A2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A77-7FEF-404B-A0D8-D916F683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AE9-BBC6-44D3-988B-77AFA781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DE8-4B44-471C-8C00-B5132633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7F7-CE8D-4EBE-817B-AB1D4D22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F9A-6223-4FC8-87A2-E60951A7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082-56A0-4248-86B6-BCABE75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93A-6BA6-4F6C-A524-160B925F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785-9DB9-4725-8183-B8747116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A5D7-DA5E-4465-9F57-3E41BAAE1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3Z</dcterms:modified>
  <cp:revision>6</cp:revision>
  <dc:subject/>
  <dc:title>PowerPoint Presentation</dc:title>
</cp:coreProperties>
</file>