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386F-ED2F-4613-A5C6-92B15209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13D3-943C-447C-8A08-76AC266F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B12A-53D4-47C9-8360-E04A97F3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DF6-D8B2-4F73-8E3B-FE3A5A7E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F28-18B1-4C77-ACCE-852790E0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ACA-2339-401E-8623-47C1BC4C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CCB8-2716-47DB-8B9E-DDFB608C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D660-3A45-424B-8C7F-9954F58E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0D2-2D2A-4496-9A4C-B6EE7453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4F8-6AD4-4259-B9BA-8B86A45D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8A4F-751D-409A-BE14-8A5F345D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B56C-CB89-4816-8853-2DA8A7C5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76D8-4E14-445B-AAF8-2150B9997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6Z</dcterms:modified>
  <cp:revision>18</cp:revision>
  <dc:subject/>
  <dc:title>PowerPoint Presentation</dc:title>
</cp:coreProperties>
</file>