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C8F1-F48E-4DA6-AD50-959E0B7BB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3.1a | Number of Persons Below Poverty Line, by Poverty Measure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B0A9-A5FF-4C1A-94C2-B68E22A83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AFAE-82C5-4B2D-9353-224BDAFE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4F2-1AC8-4C2D-B0C3-DC97E9D8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F71-3B64-492B-AF2D-80225290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BF8-D13E-46AB-8846-9DF7869C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244F-8841-449A-B3F9-935FFA11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EE7A-824C-4BED-99FF-7CD091DE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F0A5-FA31-4E0A-B770-3EC7F884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54FE-F0E7-47D4-99AE-E46489EF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2FC3-4336-4892-80BA-35C877A7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C7A-DAB1-4BFB-9805-87754DDB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F270-E72F-4047-943E-8469C616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A207-3B9E-47D6-87A5-13D8A163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2156-4AB9-41BB-B4A7-69FDFCBD5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1a | Taking into account medical expenditures decreases the estimated number below poverty by up to 4.5 million peo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tal number below poverty line, in million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1a | Taking into account medical expenditures decreases the estimated number below poverty by up to 4.5 million people </dc:description>
  <dc:language>en-US</dc:language>
  <cp:lastModifiedBy>Jia Yao</cp:lastModifiedBy>
  <dcterms:modified xsi:type="dcterms:W3CDTF">2013-09-06T15:16:48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1a | Taking into account medical expenditures decreases the estimated number below poverty by up to 4.5 million people </vt:lpwstr>
  </property>
</Properties>
</file>