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0CF2-7123-4646-8479-86FB55808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BD24-41FC-4C96-B531-F046B544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19FF-8FC2-4077-806A-6EA4CBC1F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D5B1-86FE-4A96-92EB-A7EE2CEA4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CC9B-AB35-410E-A3A7-6C6710CF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6314-CF26-4547-AC90-EB1A9DE6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C86D-B3D6-4314-834B-DFB59702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16A6-4591-425D-849A-ABBD1D5A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41B5-610B-4B81-A77E-74BA808B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C2BE-5C02-40EB-A751-FE9D8B8F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6F23-CA87-4FCF-B391-41DA0F44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EC12-D95B-4416-AE88-9A72D402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CCB7-AC1B-4323-83D9-E07295ACB3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76320"/>
            <a:ext cx="9123480" cy="67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2Z</dcterms:modified>
  <cp:revision>8</cp:revision>
  <dc:subject/>
  <dc:title>PowerPoint Presentation</dc:title>
</cp:coreProperties>
</file>