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CD0C-7792-4C00-8330-A0831D8C6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3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0498-59C9-4DD5-9605-F8E7EC8AB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76E-B9EE-44B2-AF94-5C13FE38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1DD-CE0D-47F7-A75C-1A06B463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2CD-14C7-42F1-A96A-857592B3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555-C547-4A23-85DE-E49D38DE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846-D11B-48CA-B158-C00F1FD8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0AA-8E88-4A82-BFBB-6EBC5ED3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F4E-05F9-4CFD-A713-D08514F8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45B-DD62-40E7-BDB7-549D4EC5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EE3-B4CC-431D-B97A-C7FFA64A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5AB-D098-4E15-B9BF-ED659938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DA4-355E-4FA0-9270-9C9FED22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894-2F29-4D43-9DC1-10B55590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682E-1EE2-4CC0-9D73-32DF63F1D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3 | About one quarter of bankruptcies are related primarily to medical debts; medical debts are a factor in just over one th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5597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17600" y="57592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hur A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edical Bills and Bankruptcy Filing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 Institu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ei.org/docLib/20060719_MedicalBillsAndBankruptcy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33520" y="1600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3 | About one quarter of bankruptcies are related primarily to medical debts; medical debts are a factor in just over one third </dc:description>
  <dc:language>en-US</dc:language>
  <cp:lastModifiedBy>Jia Yao</cp:lastModifiedBy>
  <dcterms:modified xsi:type="dcterms:W3CDTF">2013-09-06T15:26:05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3 | About one quarter of bankruptcies are related primarily to medical debts; medical debts are a factor in just over one third </vt:lpwstr>
  </property>
</Properties>
</file>