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D4F6-149B-489C-BF67-AE17C71BD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A | MAJOR DETERMINANTS OF PREMATURE MORTALITY IN THE UNITED ST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1D87-D382-4071-B8AC-0069EAC20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9C7-9ACB-4E9C-910C-BCB1BA2F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F80-B74E-415B-9CA2-450FBE73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B32-4294-4731-AFB0-C84EF0A4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39B-D251-4336-B38A-44D44EB9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AD7-9837-4CC3-B16D-176DA0B5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D1A-F06A-4FA1-9998-66A13109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381-F7A3-4EB6-8F3D-266FE901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F57-D73F-4FC1-9BF4-D34D516D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3FF-D4B0-4F4C-A021-8DD71363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E79-30FF-44B5-8B33-A95F3C7E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A58-C0EF-4C45-A2AA-6AB344C0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BDB-A404-470F-812E-2A15E755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55D6-573F-4851-BEF1-FDCF6072A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a | Roughly half of premature mortality relates to behavior/lifestyle; only one-tenth relates to medical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329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015200" y="2971800"/>
            <a:ext cx="18205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ermina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m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84920" y="5827680"/>
            <a:ext cx="86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epartment of Health, Education and Welfare. Office of the Surgeon Gene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y People: The Surgeon General’s Report on Health Promotion and Disease Prev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97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a | Roughly half of premature mortality relates to behavior/lifestyle; only one-tenth relates to medical care</dc:description>
  <dc:language>en-US</dc:language>
  <cp:lastModifiedBy>Jia Yao</cp:lastModifiedBy>
  <dcterms:modified xsi:type="dcterms:W3CDTF">2013-09-06T15:41:2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a | Roughly half of premature mortality relates to behavior/lifestyle; only one-tenth relates to medical care</vt:lpwstr>
  </property>
</Properties>
</file>