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870F-EE7D-47E7-885F-8E09F5D863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3B | TOTAL GOVERNMENT EXPENDITURES ON HEALTH CARE AS A PERCENT OF GDP: 192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BC64-D15F-49CF-9B52-C0A8FE2AE8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56B2-FA5C-46EF-8BED-C3188835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0A96-63B3-4CFA-A396-9547304C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DF06-ABC9-4A6A-9DDC-DEC55332B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E885-70AB-4121-BD6A-306AAD3B3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83FA-7919-4BD8-818E-6C2CBF34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C7C7-32C4-407D-8C7C-57654FCF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4123-041A-4810-BAB0-DC6E8963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A1CC-3EA0-43CB-96AE-46382DC6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689F-3727-42DA-B73D-AA6AB387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973C-8B6F-41F9-BABC-F4EF24DD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CA76-B09A-4A85-9FDB-CA83304F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FB07-516E-4CA1-A2FE-5FC46F25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930F-AEB5-45AC-BEA8-B466C21E5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7.3b | As a producing industry, the value added by health services has grown more rapidly than for goods or non-health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473120"/>
            <a:ext cx="8940600" cy="4292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295280"/>
            <a:ext cx="5943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alue added as percentage of private industry output (based on current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3b | As a producing industry, the value added by health services has grown more rapidly than for goods or non-health services</dc:description>
  <dc:language>en-US</dc:language>
  <cp:lastModifiedBy>Jia Yao</cp:lastModifiedBy>
  <dcterms:modified xsi:type="dcterms:W3CDTF">2013-09-06T14:09:54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3b | As a producing industry, the value added by health services has grown more rapidly than for goods or non-health services</vt:lpwstr>
  </property>
</Properties>
</file>