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7F4-11BE-4E58-98A1-EE60A219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8A2-C7C8-4712-8A01-C677E742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5DD-50F3-4E79-A9EC-AE08CBCA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D93-67DD-4265-ABF6-6A7DF688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BB4-FC70-4F93-83A5-95BBAF0B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97C-98B9-40DB-AF73-B302BA8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DDC-4D1C-4EE7-9C4B-18F1F7D5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528-6018-44A1-BDA7-B58E1915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FE3-891F-4DE9-9C88-277FE50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DE1-4157-46F1-8E5E-710FF64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E5D-4561-41F5-8CA4-EB6E52C0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55C-3697-4431-8347-8AB8DF7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0C07-54E9-4B63-86CE-CC53F52A6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0"/>
            <a:ext cx="8972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31Z</dcterms:modified>
  <cp:revision>35</cp:revision>
  <dc:subject/>
  <dc:title>PowerPoint Presentation</dc:title>
</cp:coreProperties>
</file>