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80C-E962-4799-B087-7E6E4FBE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475-C55E-4D7D-914B-EB79997D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408-B5DC-4394-BBD5-53B1376F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AEE-EA8D-4249-A3B7-2226EC7D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C60-C686-465A-99FD-F66DBA64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A0E-0C36-4BA4-B1CC-117BE7DB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F87-F5BF-4285-BAFE-4C4B1366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9A7-9562-40C0-937B-2A4C8508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910-A51D-4FC1-A313-A74F7E17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A6C-979F-4326-A926-5BB76800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907-053B-407B-9083-EF5793AC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18F-D60D-4C92-B938-C19F1A93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C6CB-D778-4531-B9EE-5520F21CF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6920" y="0"/>
            <a:ext cx="461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9Z</dcterms:modified>
  <cp:revision>38</cp:revision>
  <dc:subject/>
  <dc:title>PowerPoint Presentation</dc:title>
</cp:coreProperties>
</file>