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2181-00E5-47FA-807D-BFE31817F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7A | INCREASE IN MANDATORY FEDERAL HEALTH SPENDING AS A PERCENTAGE OF GDP, 2010-20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B7CB-97D6-499A-8F47-A83206F603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E788-1C52-4CF4-96FC-C6B8768E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3C44-2000-4977-98FF-809227AA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15AF-786B-4A98-90A6-0EE6991D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CAB9-2A12-4E4D-A6B8-B84FCFC1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0B0F-1504-4572-BFC2-6D0CD114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BCF7-FF49-4D7A-8CC8-BB786FEE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7A2B-65EE-4181-8FB9-3FB12B06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E336-8BB1-4A0D-A148-ED1BB8C5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02F2-B857-492C-B7AF-A661B00A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8CA0-E07D-41E1-B02D-E5AE0786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92D4-B35F-45C2-823F-A5014107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3311-32FD-4C0C-AA4A-78C9D0B2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B069-D211-4753-8159-E098D235C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20.7a | The projected 75-year increase in mandatory federal health spending exceeds revenues from the three largest sources of federal tax reven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244520"/>
            <a:ext cx="825480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457200" y="14479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7a | The projected 75-year increase in mandatory federal health spending exceeds revenues from the three largest sources of federal tax revenue</dc:description>
  <dc:language>en-US</dc:language>
  <cp:lastModifiedBy>Jia Yao</cp:lastModifiedBy>
  <dcterms:modified xsi:type="dcterms:W3CDTF">2013-09-23T19:14:3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7a | The projected 75-year increase in mandatory federal health spending exceeds revenues from the three largest sources of federal tax revenue</vt:lpwstr>
  </property>
</Properties>
</file>