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0654-7F99-4B86-AF47-4E57DA655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1 | TRENDS IN EARNINGS AND SUPPLEMENTS TO WAGES AND SALARIES, 1948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F861-ACA6-4974-987E-00A97C01F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C38-2D9E-40C1-8900-7096EA88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CBA-3D30-4F5E-886D-9A58DD72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C41A-D52B-4B4D-9772-32529DE1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B1F-BE2E-4B58-BEB4-8900D93E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A702-5DED-44D2-B82A-6FDCE1FF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113-FB65-41FC-B7DB-0A865A37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3512-D37A-42AD-9C29-1AE71F7D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7297-409C-432D-969E-E4F70A03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BD0-D8D7-4E64-8D38-2CDAD9FA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FF94-9EFB-471B-8D67-6133D2CF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ABA7-DF07-4373-991F-7C1D909C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83B8-7067-4340-8491-DA6317AA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DAFC-3B07-433E-9F68-0B86C0219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1 | Rising health-related supplements are an important reason real hourly earnings have grown less quickly than average compens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85800" y="1447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ation-adjusted hourly wages index using personal consump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nditures deflator (1948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1 | Rising health-related supplements are an important reason real hourly earnings have grown less quickly than average compensation </dc:description>
  <dc:language>en-US</dc:language>
  <cp:lastModifiedBy>Jia Yao</cp:lastModifiedBy>
  <dcterms:modified xsi:type="dcterms:W3CDTF">2013-09-06T15:08:3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1 | Rising health-related supplements are an important reason real hourly earnings have grown less quickly than average compensation </vt:lpwstr>
  </property>
</Properties>
</file>