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AA6D-3677-4BB1-BFAD-B7A888BD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66C-CB43-462D-B831-33633050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998-E849-4247-9066-9A091BB2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DEFD-EA73-47C3-8528-B1436135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1844-6BC2-4E1D-AD5D-2F6CFBC7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BF3-1C4C-41F7-962D-BF7F2479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BEA8-469F-4CAC-A8AD-CD987CC5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5717-8B92-4B20-BFC1-A3B33179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B370-23AD-4901-9ECC-D889A6D1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0CF-EDFF-47EF-AB64-5C610136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9575-2190-46E5-B2F1-FCFCE87A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6AC8-0FA8-47C9-9B58-EF77CA5B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ECA2-622A-46FC-8435-6CFD4E507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8680"/>
            <a:ext cx="912024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3Z</dcterms:modified>
  <cp:revision>18</cp:revision>
  <dc:subject/>
  <dc:title>PowerPoint Presentation</dc:title>
</cp:coreProperties>
</file>