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E053-502E-40B8-B277-E9951EEC1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55CD-AB4F-4C09-BABF-8F8E5C45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1199-2408-4F6D-A03D-C28151E6B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B511-66AF-4CCF-99FC-723886899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FB15-87C5-4B46-912E-5C3AEA87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0DC8-744A-4270-956C-35DB4751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B3DB-AF08-4CD4-AECC-B3F71AAB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3DF5-A238-4B57-B067-E3590591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4264-FF60-47FC-96D9-61D52A71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584D-FD40-4324-8585-C0682B67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4249-69AC-4760-9036-B38F5189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2BCF-0709-4DF7-968A-17A4C6CF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A432-B055-4AAA-8BAB-40472738BD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639720" y="0"/>
            <a:ext cx="786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19Z</dcterms:modified>
  <cp:revision>37</cp:revision>
  <dc:subject/>
  <dc:title>PowerPoint Presentation</dc:title>
</cp:coreProperties>
</file>