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035C-DD2B-48E5-BCA6-768347F5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8ED5-5EFF-4B9D-BF8A-A42A1F8F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064B-B9AD-4130-8759-74CE0729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EAB-5E33-43E4-992E-5AA48FC2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85C4-38E3-4391-A097-D01B9890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E789-B040-4757-8DA0-19F70AEB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3659-97E5-4A9D-8A50-A9E1EB55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2639-AC80-4AA2-8372-0E599D89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300D-46AD-4D9D-A0CD-4CCE2122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8B85-8BED-4DB4-B637-E2AFB96D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6374-9284-4EC7-AA38-DC7101ED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FB03-BF38-4738-A70F-5DBBF7ED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D413-706D-4990-9CE0-C63273CD8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1Z</dcterms:modified>
  <cp:revision>37</cp:revision>
  <dc:subject/>
  <dc:title>PowerPoint Presentation</dc:title>
</cp:coreProperties>
</file>