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CECF-A8DA-450D-AF93-7876BFD98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2CD3-DACF-44A8-8688-9E729E39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9F32-9A48-47FD-A278-36903CA3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B3CD-3BB6-46B0-AC97-CD3F7DDC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D02F-3B2F-48A3-A08A-7B816978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0E99-2564-4C3B-9F83-29230204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32EF-47BA-409B-B870-50A6DA08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9479-17D9-43E7-ACC9-6C969469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A74F-394C-44E6-80C2-F9BEC84A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9056-635D-40E7-87D0-5E8FF527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24D1-3C97-48EE-B5CC-ECA0D7B6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240C-E059-433C-A975-34C1583D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FC64-838B-4661-BD6C-B1F2BF8A0A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6600" y="0"/>
            <a:ext cx="901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0:57Z</dcterms:modified>
  <cp:revision>31</cp:revision>
  <dc:subject/>
  <dc:title>PowerPoint Presentation</dc:title>
</cp:coreProperties>
</file>