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41976-7027-4D70-BE8F-30BB85426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9AF81-EC76-4B8F-8510-8C469DFF9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FF5C0-6D15-4AB4-AFE9-78DC2CC10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ABB3F-991B-4301-A842-4AC2AC02F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C348B-EA73-4DE7-BAB4-F71607447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06F29-9AE8-4960-AE1C-FD04A0CBC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4BC1C-39F9-47E7-B7E9-751D1C41F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8D278-88A2-461F-A677-C56E3D57B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2F3C1-EAD8-4067-AA0C-10EFB3CFE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29EFF-63FE-483D-BDA6-7B44ED440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F3911-02FE-4CF6-8483-81BDA5560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233A7-8265-452B-BF87-CA754AAC9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5497E-2194-4A55-9735-B63A697384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55440" y="1371600"/>
            <a:ext cx="90331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23:17Z</dcterms:modified>
  <cp:revision>41</cp:revision>
  <dc:subject/>
  <dc:title>PowerPoint Presentation</dc:title>
</cp:coreProperties>
</file>