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EBDF2-B5E8-43E1-9C07-1CA29A1B12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9.3B | MEAN INCOMES OF WORKERS 18 AND OLDER WHO WORK FULL-TIME YEAR-ROUND IN HEALTH INDUSTRY, BY EDUCATIONAL ATTAINMENT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60FB7-72DA-4314-B9BD-D7824DD545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FCD0-445B-4D8F-BD8B-19EF06BF0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64DC-DBFF-43A9-9145-CED0527B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A112-8630-43CD-B54C-EC6BBAC38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FFDF-D75A-4836-97CA-C093B15EF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D2BC-2A57-4BFC-9822-8D1804D7F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3C8A-3DC2-4B2D-B747-2F7804E94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322A-5641-408E-8D2E-B755E5F5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5EE4-5E64-4884-94F2-EB0AAAA18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6533-699B-47C4-8581-4EEE8BA7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8842-E47C-46D8-8E17-6DD6705D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F408-F0B7-47C9-9B39-80E0E5FD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A116-92D3-4AEA-9024-8E998D98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FB30F-7F61-4FC1-B3CB-470A94AA36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9.3b | Average earnings for full-time, year-round workers in the health industry generally increase greatly with edu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"/>
          <p:cNvPicPr/>
          <p:nvPr/>
        </p:nvPicPr>
        <p:blipFill>
          <a:blip r:embed="rId1"/>
          <a:stretch/>
        </p:blipFill>
        <p:spPr>
          <a:xfrm>
            <a:off x="177840" y="1168560"/>
            <a:ext cx="8788320" cy="574020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533520" y="990720"/>
            <a:ext cx="190476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dex : Average earnings for full-time year-round male workers with high school diploma = 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3b | Average earnings for full-time, year-round workers in the health industry generally increase greatly with education</dc:description>
  <dc:language>en-US</dc:language>
  <cp:lastModifiedBy>Jia Yao</cp:lastModifiedBy>
  <dcterms:modified xsi:type="dcterms:W3CDTF">2013-09-06T14:59:16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3b | Average earnings for full-time, year-round workers in the health industry generally increase greatly with education</vt:lpwstr>
  </property>
</Properties>
</file>