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28F0-4466-4266-89D0-F5FA8544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6AE-5904-49B0-B402-E460E271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21B-CD86-40D1-B495-7DB28838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806F-386D-4294-B831-19729325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432-CC58-4415-888E-7FC6CCCD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5B6-F2B3-4346-9682-39AE6396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0E67-DB8A-4B26-9056-57B9BE10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66C-FEF6-44D5-8206-D34D9C01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395-06EC-4F39-A30C-8A56B233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810B-1EE9-4CAB-A015-A5231DC1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D4F-E05C-451F-B0AE-4CC6ADC2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B4C-67C3-49B6-80B0-7D32EE4D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6F7C-6C78-40F7-A4A4-F9D8346CE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65160" y="0"/>
            <a:ext cx="721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23Z</dcterms:modified>
  <cp:revision>31</cp:revision>
  <dc:subject/>
  <dc:title>PowerPoint Presentation</dc:title>
</cp:coreProperties>
</file>