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F358-2AC8-4A94-9A7C-3CD9D6E89C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C | RATIO OF ELDERLY PER CAPITA HEALTH SPENDING TO AVERAGE ANNUAL EARNINGS OF PRODUCTION WORKERS IN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A2EE-FF8A-4638-928F-1720DDB5B4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9728-68D2-4543-BC1B-82F576D7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8051-A50C-4FBF-BE8B-DFAAF661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CA83-9419-45B3-8D4D-E48A65FA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5C24-931E-4EF7-B909-996587A9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5450-E311-4151-88E9-E6C9319E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EA87-9B16-472D-9D66-1451B0AE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AE2E-443A-4BD6-B430-2CAA475D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E3CC-CEED-4DEC-8D5E-18F43767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E2E-76E5-44FC-9785-E99408A6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5FBA-19B1-403F-ACE9-BE0970C4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36D1-F5F0-433B-B989-919FE9BA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8B3E-BA11-44C2-994B-8FF26A46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ACA3-CFAC-429E-8C64-162C49960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c | Relative to competitors, U.S. health spending per elderly person is a much higher share of average manufacturing compen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47840" y="1643040"/>
            <a:ext cx="83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lderly health spending as a percentage of average annual compensation in manufacturing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c | Relative to competitors, U.S. health spending per elderly person is a much higher share of average manufacturing compensation</dc:description>
  <dc:language>en-US</dc:language>
  <cp:lastModifiedBy>Jia Yao</cp:lastModifiedBy>
  <dcterms:modified xsi:type="dcterms:W3CDTF">2013-09-23T19:14:39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c | Relative to competitors, U.S. health spending per elderly person is a much higher share of average manufacturing compensation</vt:lpwstr>
  </property>
</Properties>
</file>