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814E-0447-45C3-AC30-D11B697C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FACE-B89C-49DD-93B6-EE9ADDB2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5314-FA7E-40F6-BBBA-F9FDF936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A5C3-25A1-4D0E-8FE3-BC8A11C7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48DA-1604-4BC0-97B9-579CB72E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462E-3E5A-4B0E-933F-91B7704E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7A56-A1E0-4505-B512-176D1AEE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7F98-2F77-4997-BA51-B382A077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C3F8-49E3-4C04-A009-6960D6FD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5E13-1CEB-4263-9F94-B005BB99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803E-B957-4BB3-B806-63EAF4EF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A21E-05C4-4947-9F6D-E9181BD9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A805-8DA8-4BD3-879B-EC5B01C8FB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0600"/>
            <a:ext cx="910116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51Z</dcterms:modified>
  <cp:revision>28</cp:revision>
  <dc:subject/>
  <dc:title>PowerPoint Presentation</dc:title>
</cp:coreProperties>
</file>