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89F5-C31F-4FE9-8352-A934B3F64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4 | PRIVATE HEALTH INSURANCE COVERAGE OF CHILDREN UNDER AGE 18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E7E1-476A-4DFB-BF84-28302F1DB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76C9-FF72-48C8-8B5D-B4087782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95C-7258-4BF6-B9FF-3E791639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2B01-F791-4F54-B5E9-912E4768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F5E9-449A-47B9-B736-254C6493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9D00-1299-4BC9-B7E2-2FD8904B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412-0958-4F37-A132-028BB03C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41A-2579-4202-833A-124CCE54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B661-C5D2-4D15-BE30-EC12C4BB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8C3C-5DB2-4BAC-8091-7822989A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25B-7FCC-41DF-935C-85C703C6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76B5-6A03-479F-828B-5C8BBB8C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24A-5948-481D-9D45-98E055D8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643F-C5B1-4221-BA07-344A5F7A8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4 | Children below poverty are only one fourth as likely as the general population to have employer-sponsored health co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4 | Children below poverty are only one fourth as likely as the general population to have employer-sponsored health coverage</dc:description>
  <dc:language>en-US</dc:language>
  <cp:lastModifiedBy>Jia Yao</cp:lastModifiedBy>
  <dcterms:modified xsi:type="dcterms:W3CDTF">2013-09-06T15:17:01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4 | Children below poverty are only one fourth as likely as the general population to have employer-sponsored health coverage</vt:lpwstr>
  </property>
</Properties>
</file>