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328-C9D6-4374-83F5-4DAB6E38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39C-A773-4491-9F28-29ED0E13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2F0-61AD-40DC-BFA5-E8D1ED80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D1F-B370-489F-8089-9B51DB1E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FEE5-C9A9-4FF2-8B5C-FD33E0CA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0BB-465E-4756-957D-937244EC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EC1-C91E-402D-9F08-BB8D7489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337-CE75-4A57-BE7A-A513FB7E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138F-7A8C-4232-ADDD-1D1DC9F2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946-F494-4C37-91DF-FF63C3B0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2A03-5FE2-48E8-949D-0B290851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AA7E-E62F-469E-AB0B-D70433C6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9A26-9947-4F6E-B865-CEAF17171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62080" y="52560"/>
            <a:ext cx="681984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1Z</dcterms:modified>
  <cp:revision>4</cp:revision>
  <dc:subject/>
  <dc:title>PowerPoint Presentation</dc:title>
</cp:coreProperties>
</file>