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E8D8C-DA72-408D-8887-5390026338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75365-2C53-4A07-AF72-8D7A43203C2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6b | Out-of-Pocket Share of National Health Expenditures in G7 Member Countries, Selected Years, 1960-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6F13-AEB0-4BC7-9441-35F89FBAC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0053-E647-4115-B973-A1D6A45D3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7D07-F0C1-47D3-BBEA-F0F68CAA4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1E36-327B-4BED-A90B-55949CCC6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DF8C2-05E8-4901-A714-3F34D597F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7E142-D6B1-4D33-917B-C9861B0B7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A9604-591B-4ED8-8038-B0ADB46D2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03F7A-CBFC-4F76-9AD6-0DA223536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354FB-C559-4F7F-9BC8-5549A2ECF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74FEF-87BD-4B9F-8AA0-FE6DAF6AF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B311A-9A60-4F6D-935F-A8F24714B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90F8-ADEA-47AE-8249-5D4914C44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54EA7-E5ED-4441-B565-EE3A67604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1CD3F-9CF4-443D-8C37-868D53A50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ECB91-FE1D-4F4F-A3F1-B10866793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3B670-CC86-4631-9902-CA64B1394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A384D-BDBC-4BBA-9B35-56C87B9CD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BAED-DC01-4BDF-9285-40D583AF0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85D7-EE8C-45A6-BF37-00C3209DD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11A2-0883-4C7A-9F2A-CD9A8213B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EFC8-6151-49E7-937C-F63670250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16C5-CB85-4677-898E-92E07A7A5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2C60-5515-4D3D-90ED-4DB0455F9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9AA1-B973-4C80-81E2-1D72F141B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0E650-D401-4E56-BD74-52FF188FEC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FB6E8-9D1F-4A11-9926-894832C897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6b | The U.S. in the past relied far more on out-of-pocket spending compared to its competitors, but that is much less true today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254160" y="787320"/>
            <a:ext cx="855972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5"/>
          <p:cNvSpPr/>
          <p:nvPr/>
        </p:nvSpPr>
        <p:spPr>
          <a:xfrm>
            <a:off x="293400" y="6392880"/>
            <a:ext cx="644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– Version: June 201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6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6b | The U.S. in the past relied far more on out-of-pocket spending compared to its competitors, but that is much less true today</dc:description>
  <dc:language>en-US</dc:language>
  <cp:lastModifiedBy>Jia Yao</cp:lastModifiedBy>
  <cp:lastPrinted>2002-05-16T21:44:34Z</cp:lastPrinted>
  <dcterms:modified xsi:type="dcterms:W3CDTF">2013-09-04T21:04:01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6b | The U.S. in the past relied far more on out-of-pocket spending compared to its competitors, but that is much less true today</vt:lpwstr>
  </property>
</Properties>
</file>