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8CFF-D5FF-4024-AB83-1322E2392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7373-68ED-4740-BC08-D016D34E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C6E2-934F-4DF6-825A-670E3317A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5124-1A4A-4F15-AC42-BDE199CCD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C76E-A7D8-4EBA-8695-6FCA605F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BD89-69E5-4D0E-8447-F1637E77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71B3-E439-4D15-8B04-B33C8E15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F637-04B3-45B0-928E-56EDA9E5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0FF5-CDE2-4379-AC5B-D703BF90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76FD-5DE8-49F5-B4D8-A07E3604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7E01-217D-4D51-A882-AC05D2D6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7609-4053-4921-932F-C2AD6595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2A07-A47F-437E-ADE3-3807B54A6F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519200" y="0"/>
            <a:ext cx="610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3Z</dcterms:modified>
  <cp:revision>20</cp:revision>
  <dc:subject/>
  <dc:title>PowerPoint Presentation</dc:title>
</cp:coreProperties>
</file>