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6A4F-0DEF-4108-8757-1E7C9C28A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A | SELF-REPORTED HEALTH STATUS OF ADULTS AGED 18 OR OLD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3BC9-DE0F-457A-950A-72444A1CC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785-68DC-438C-AB55-AC9E9486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D532-3F28-4B93-BCC6-C12936EA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060-809C-4847-8743-257C944F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2D8-E5E9-4A3D-BE72-A75E1B0A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D43-B27B-4AD5-81F9-2415DB74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773-89FF-4426-A6C9-0EFFD947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7D2-6F78-43BA-AB85-B9AFD965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3FA-7922-4228-BC5F-C2464284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9BF-FC06-43ED-A8A0-B137843F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F18-F9C0-4598-8731-2174168D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772-6B4C-4DE7-9B26-5C96369B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69D-73D0-46CF-B161-7C023AAC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E2FB-AD72-47C7-9ED5-F1F96F2BF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3.3a | Based on self-reported health status, the percentage of people in fair or poor health is highest among the poor and near-po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a | Based on self-reported health status, the percentage of people in fair or poor health is highest among the poor and near-poor</dc:description>
  <dc:language>en-US</dc:language>
  <cp:lastModifiedBy>Jia Yao</cp:lastModifiedBy>
  <dcterms:modified xsi:type="dcterms:W3CDTF">2013-09-06T15:16:56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a | Based on self-reported health status, the percentage of people in fair or poor health is highest among the poor and near-poor</vt:lpwstr>
  </property>
</Properties>
</file>