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7296-F215-4493-A759-E45688FBF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.14b | Percent of Adults Age 15 and Older Who Are Obese, United States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6D54-CC84-4ED4-A34D-610D0E9CD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8CF-3D1A-4F66-B0B1-F7F723E8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BC3-9E78-4687-BD7A-2C3D54E9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7B5-BA97-48F5-9EDA-F68998B4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CB4-9E84-423C-9C2E-A8198DE6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B041-C3FD-4BB6-B8B3-66E3D11B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35A-ED92-42C8-9E58-6D78DAE5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C20-F844-45AE-A429-EA6D4812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A5E4-58A3-4293-A7B8-75458F85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9D8D-9DB3-4B6D-966F-D6540284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565-8AF6-477A-8153-9F7E7628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553-26D2-44E4-B76E-C81C7C6A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D2E-E51B-47F3-A8EC-4183C288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C8D5-EFFA-43F5-AFD3-3D4875224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dc.gov/obesity/data/adult.html" TargetMode="External"/><Relationship Id="rId3" Type="http://schemas.openxmlformats.org/officeDocument/2006/relationships/hyperlink" Target="http://www.cdc.gov/obesity/data/adult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9_17.png"/>
          <p:cNvPicPr/>
          <p:nvPr/>
        </p:nvPicPr>
        <p:blipFill>
          <a:blip r:embed="rId1"/>
          <a:stretch/>
        </p:blipFill>
        <p:spPr>
          <a:xfrm>
            <a:off x="762120" y="4572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876240" y="50472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4b | Percent of Adults Age 15 and Older Who Are Obese, United States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83720" y="6067440"/>
            <a:ext cx="71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enters for Disease Control. 2009 State Obesity Rates, available 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verweight and Obesity. 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cdc.gov/obesity/data/adult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7:58Z</dcterms:created>
  <dc:creator>Jia Yao</dc:creator>
  <dc:description/>
  <dc:language>en-US</dc:language>
  <cp:lastModifiedBy>Jia Yao</cp:lastModifiedBy>
  <dcterms:modified xsi:type="dcterms:W3CDTF">2013-09-10T20:48:40Z</dcterms:modified>
  <cp:revision>1</cp:revision>
  <dc:subject/>
  <dc:title>PowerPoint Presentation</dc:title>
</cp:coreProperties>
</file>