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06F4-0CC8-465B-BDB6-5273463F1F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5b | Hours-Adjusted Annualized Internal Rate of Return on Educational Investment Over a Working Lifetime, Selected Professions, 19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F7CF-6C60-4620-8498-9371AE47C2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97FF-8FF1-4A10-ADEC-5C4F1F3A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7F8-1076-4D7A-8725-C78C67E2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DF39-AC20-474C-B144-6264BF2F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6767-6AFF-4A0C-87F2-B7427EA3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7504-42CB-4F1B-BE57-58C9F7B2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2B4E-2B1F-4F79-A340-13530BC4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F118-E5A9-43E3-A3FC-921FB411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3FA-1A69-4474-8AFF-8DDD4FBC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4A9-F50C-48A2-A258-12B1BDC5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DC04-C8D3-4DDF-9EBF-8E5D56AC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A0D9-03D9-43AE-8AE3-67977775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42D4-AB68-4375-9975-8DD23C13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9342-FF96-4CC1-81A1-250F7F60D7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5b |  Physician specialists have higher educational rates of return than primary care doctors have, but these rates are lower than those for lawyers or for those who have MBA degr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625760"/>
            <a:ext cx="8636040" cy="5054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85800" y="1523880"/>
            <a:ext cx="834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ours-adjusted annualized internal rate of return on educational investment over a working lifeti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865440" y="5880240"/>
            <a:ext cx="72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William B. Weeks and Amy E. Wallace. The More Things Change: Revisiting 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arison of Educational Costs and Incomes of Physicians and Other Professional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cademic Medicin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2002;77:312-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5b |  Physician specialists have higher educational rates of return than primary care doctors have, but these rates are lower than those for lawyers or for those who have MBA degrees.</dc:description>
  <dc:language>en-US</dc:language>
  <cp:lastModifiedBy>Jia Yao</cp:lastModifiedBy>
  <dcterms:modified xsi:type="dcterms:W3CDTF">2013-09-06T15:09:00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5b |  Physician specialists have higher educational rates of return than primary care doctors have, but these rates are lower than those for lawyers or for those who have MBA degrees.</vt:lpwstr>
  </property>
</Properties>
</file>