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1F1F-C1DB-48B8-8928-EEAAB32C5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3a | Total Rates of Reimbursement for Noncapitated Medicare per Enroll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rtmouthatlas.org/downloads/reports/Spending_Brief_022709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D448-3F1F-467B-810C-40EC63B80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30A-E45B-41A1-A717-A0D46FFD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6D1-20E8-490E-9CCC-1F6F2F64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5D1-4E76-4026-B7D0-0912F4AE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FDA-78E8-4716-BBB6-14984374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708-E5D1-4983-BAD2-DC513455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D40-EEDB-4AB8-88DB-3C637509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1F9-BF7C-4BDD-8C83-E2BDB7A5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6E1-0DD3-44E4-928E-9784752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5EF-4DA0-4290-A485-DF3EE1E4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B0F-140B-4F33-881F-7605A7CE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D8F-B61B-48D3-858B-6D0AE2D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98C-4E23-4D56-BB76-123A872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66BB-4A5E-4880-87D0-71B1AE0F7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a | Medicare reimbursements per enrollee vary substantially across hospital market area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772400" y="1371600"/>
            <a:ext cx="11430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6560" y="5791320"/>
            <a:ext cx="81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isher E, D Goodman, J Skinner and K Bronn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Care Spending, Qua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Outcome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rtmouth Institute for Health Policy and Clinical Prac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over NH. February 27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1680" y="1143000"/>
            <a:ext cx="830880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858000" y="1168560"/>
            <a:ext cx="1828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a | Medicare reimbursements per enrollee vary substantially across hospital market areas in the U.S.</dc:description>
  <dc:language>en-US</dc:language>
  <cp:lastModifiedBy>Jia Yao</cp:lastModifiedBy>
  <dcterms:modified xsi:type="dcterms:W3CDTF">2013-09-06T15:40:4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a | Medicare reimbursements per enrollee vary substantially across hospital market areas in the U.S.</vt:lpwstr>
  </property>
</Properties>
</file>