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1AAB-3F82-4E12-8C08-6404F1B5F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6A | UNFUNDED LIABILITIES DUE TO MEDICARE AND SOCIAL SECUR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3F62-5096-45EA-B5F2-8E6F35199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465-0450-42B4-B3F4-53861D59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3A8-CDBA-450F-B278-A194C75E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1E9-7B94-4E03-9D1D-F26582BB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CD6-DA4E-40E6-A711-034BFB78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E379-BE78-40FC-8CC0-3EB23694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D86-F2C0-4D73-A14D-87E434E3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3D3-6EB4-4374-A046-8629B8C7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61C-5AF7-4C7A-86B0-C1AE8D34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20B-DE3C-4312-B1BD-50512BC7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DBBB-ECF5-4D0E-AA61-1B69FDCF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023F-78D0-4624-B6D6-8F95288F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19B5-4217-4072-86C1-9B1A3DD3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8AF5-8023-4E2D-BCD4-6FB0034CD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a | Even assuming the health law works as intended, unfunded liabilities for entitlements will exceed $80 trillion over the long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48340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present value of unfunded liabilities (trillions of 2009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29596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or Medicare Part B, Medicare Part D and Medicaid, unfunded liabilities are calcu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ssuming the 2010 share of GDP represents current willingness to pay for these programs. 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rease in spending above this share is calculated as an unfunded liability for which hig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axes must be paid eventu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b | Even assuming the health law works as intended, unfunded liabilities for entitlements will exceed $80 trillion over the long run</dc:description>
  <dc:language>en-US</dc:language>
  <cp:lastModifiedBy>Jia Yao</cp:lastModifiedBy>
  <dcterms:modified xsi:type="dcterms:W3CDTF">2013-09-23T19:14:26Z</dcterms:modified>
  <cp:revision>6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b | Even assuming the health law works as intended, unfunded liabilities for entitlements will exceed $80 trillion over the long run</vt:lpwstr>
  </property>
</Properties>
</file>