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C1F7-6FF5-4326-8D8E-F5308365C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B667-F77E-43D0-84F8-88678015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ACDD-ED97-4901-94F5-D5541A05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3DAD-6816-4476-9CE3-FAFB6BC0C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AB53-218B-4BD8-9795-BEC92DD2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FEAE-B3F5-4561-82CF-C86C1CF0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7AFB-68BE-4692-A1A9-31A4DED2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14E4-30A8-4452-81CD-0460B3FF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87EA-670E-4483-B691-B7358F35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D4D9-B527-4E69-8BE7-B4416206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822B-A2A2-405F-94D8-07CABA66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D4F6-0C52-4504-90FF-CB8960CD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E98D-B380-40D4-8149-E684249884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12840"/>
            <a:ext cx="9144000" cy="62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56Z</dcterms:modified>
  <cp:revision>37</cp:revision>
  <dc:subject/>
  <dc:title>PowerPoint Presentation</dc:title>
</cp:coreProperties>
</file>