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09F-CDF1-48D7-93E9-636D9567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480A-885E-4004-8133-A051ACB6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823-6C0B-414C-AA81-BDF3EC11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81A-5579-4D5E-8B9F-A3034089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999-522E-4E71-B061-32463429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A70-DCC4-4676-A259-685BF4E9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E5EB-3A6C-445C-80B1-16D9B13E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3CA-2051-48DE-87CC-3B68DC1A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C24-12EC-46B5-AF86-563021E8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658-540C-43E9-8DD0-2F5DAECB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FC4-56E3-4A2C-A9A5-6A20BCEC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502-1F7C-48DC-9305-BE1DF64E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D2D6-3D53-43B8-ACD9-E0A14E05A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73160"/>
            <a:ext cx="9144000" cy="65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5Z</dcterms:modified>
  <cp:revision>6</cp:revision>
  <dc:subject/>
  <dc:title>PowerPoint Presentation</dc:title>
</cp:coreProperties>
</file>