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C0B3-1111-430A-8D74-9D777F81D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EB69-A861-478A-98A6-44C90AF96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9A73-D6EB-4297-92AE-59CDB8BA9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0C84-6A6E-49A4-99EA-C0519C1C9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DFC2-E0FB-46EC-B2D7-48E0F462E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7672-FAB4-4744-9083-889F5D580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9263-56C1-442C-9D15-740D3888D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FEC7-323E-426E-8FDB-44229AC55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1E91-5CDE-4E57-8D64-C83203D4F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4177-E519-477D-A93C-92E31C42B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0C00-C347-42DB-ACF5-FC02CC9D8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9222-7B42-4BE7-9385-244708A0B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EF17C-5827-444B-B154-D87F475B83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73080"/>
            <a:ext cx="9144000" cy="67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3:24Z</dcterms:modified>
  <cp:revision>14</cp:revision>
  <dc:subject/>
  <dc:title>PowerPoint Presentation</dc:title>
</cp:coreProperties>
</file>