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E77-71D8-4569-B60F-D71C1D70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B98-481B-4D1E-BE06-8C35CAF4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EDC-A4D9-4CBA-A698-76A290E5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878-98D5-4BE8-A7F7-E696A6E4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F85-CC05-4FE0-A12A-86F72772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5DD-7E2F-40A2-AB97-14A58309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027-9675-471F-8F73-76146C09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E37-1C17-4B91-986C-C9F97B58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727-0FB0-4B87-A418-2E585578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992-E4A0-4F5B-B5B9-7A7CA595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D72-6273-40B3-A4B1-056654A0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4B5-FC7A-4249-A6EB-C5E0CD8E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35C7-342F-451F-B3AE-9FC29A01A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228600"/>
            <a:ext cx="91454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0Z</dcterms:modified>
  <cp:revision>22</cp:revision>
  <dc:subject/>
  <dc:title>PowerPoint Presentation</dc:title>
</cp:coreProperties>
</file>