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6E9-3E69-45AC-ADB6-15915CAB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128-81C7-4043-8866-6555FDFA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215-5382-424B-8355-AD220446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AD0-FC45-4885-9F7C-037C288A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210-CDDD-47B5-A832-50069251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FE5-483C-47F1-9F72-07197429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14F-E5A2-49C4-A6A8-FE1BFBA1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DD5-79DA-4282-A472-0521B1FA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B1C-61FC-452F-8E6A-0A4AC967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251-87B2-4E72-B188-5B8AF2FF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76D-D42D-4B33-A73D-4FD89948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B67-1079-4CCC-9498-6F97E15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591F-D3CF-4687-8574-08478F0F4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203480"/>
            <a:ext cx="89582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6Z</dcterms:modified>
  <cp:revision>39</cp:revision>
  <dc:subject/>
  <dc:title>PowerPoint Presentation</dc:title>
</cp:coreProperties>
</file>