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F51A-0114-4FC7-9D8F-5D39DCBF0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4 | SOCIAL BURDEN OF POOR HEALTH IN AMERICA, 1963-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9657-DE62-4A05-A9B8-52C47DCA5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AED8-BA96-4B35-9CD2-57C19B763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B8A2-2FF8-4502-A451-2CBC9679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25E5-8E66-4657-8C25-9350B06B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7E17-8183-4FD4-B030-4A48F13E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EAB7-2867-40E0-B448-9729CE5F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905A-5FC4-4DBE-B92B-FA32EA87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D35F-78D5-447E-8466-AD6D3B44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B1ED-400C-4E30-9E40-84003176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D372-2E50-49C2-B3DC-489D8135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1563-A021-4E30-B61C-9BE4BE2C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67B8-AFD0-43F5-A3D7-44D0AC5D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58E7-7737-48BB-836B-235A8C2F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0885-19FD-4E48-BD5F-A9C50112A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4a | The economic burden of illness has risen since 1963 even though loss related to premature death and morbidity have decl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09480" y="16002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conomic Burden of Illness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09480" y="571500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rect losses = national health expenditur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rbidity losses = lost earnings due to illnes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rtality losses = lost earnings due to premature death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4a | The economic burden of illness has risen since 1963 even though loss related to premature death and morbidity have declined</dc:description>
  <dc:language>en-US</dc:language>
  <cp:lastModifiedBy>Jia Yao</cp:lastModifiedBy>
  <dcterms:modified xsi:type="dcterms:W3CDTF">2013-09-06T15:31:24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4a | The economic burden of illness has risen since 1963 even though loss related to premature death and morbidity have declined</vt:lpwstr>
  </property>
</Properties>
</file>