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D5E-8BB3-4975-A440-5F6CF30B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A66-069E-47FD-869B-42988C8E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E27-7A14-42C3-B1BC-EE3E5D4E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240-5E3D-4121-8BCC-5E9F023C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182-2AD6-486E-8D20-6991C96D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164-D1F7-4528-B3CB-D1D808A7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A90-C4B8-464A-A239-9C55ECE4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AAA-1135-4E16-A72A-1BB050D8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3CA-2909-4B32-96C2-2230084E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508-AD24-4DEE-B035-C8F8A78C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2A2-DAF3-4808-BC90-7518058E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C94-5446-4BA8-A753-08494D25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A258-E776-4BBA-B873-830EA13F7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520" y="304920"/>
            <a:ext cx="912348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3Z</dcterms:modified>
  <cp:revision>14</cp:revision>
  <dc:subject/>
  <dc:title>PowerPoint Presentation</dc:title>
</cp:coreProperties>
</file>