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C1E49-1875-491B-8FB6-D8998311DA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2.1B | TRENDS IN CONCENTRATION OF MEDICAL EXPENDITURES, 1928-20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736BC-7779-4E39-8850-FF7D9C5BF3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AAE6-21E9-48A5-9DF2-873955DF3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9A30-4C90-43B5-BF20-57B13EAE5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3037-68B1-4A52-B6DE-97A8379CA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257C-38DB-445F-84FD-A89A2DBBF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3662-2134-4501-8D74-957FA0EF3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AF69-7AB4-4F5B-934A-3980D554D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67FE-CE59-4B88-B74D-65C145AF0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0CA7-25AB-4782-8884-0EDA9BF52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E77F-E9D2-47A0-9116-435735BD1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7004-6F33-46F9-B33B-025400F54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2E38-E2CB-45FD-9175-65F058563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C34F-AA2C-4475-8F39-6A9F7BBC7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7DF29-E0FD-4AAB-8000-22F9194A76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2.1b | The concentration of health spending has been quite stable over decades, but there is some indication it has declined recent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177840" y="1549440"/>
            <a:ext cx="9016920" cy="49021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453600" y="1523880"/>
            <a:ext cx="569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centage of total annual health spending accounted for by grou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1T13:12:38Z</dcterms:created>
  <dc:creator>Kristy</dc:creator>
  <dc:description>12.1b | The concentration of health spending has been quite stable over decades, but there is some indication it has declined recently</dc:description>
  <dc:language>en-US</dc:language>
  <cp:lastModifiedBy>Jia Yao</cp:lastModifiedBy>
  <dcterms:modified xsi:type="dcterms:W3CDTF">2013-09-06T15:12:52Z</dcterms:modified>
  <cp:revision>23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2.1b | The concentration of health spending has been quite stable over decades, but there is some indication it has declined recently</vt:lpwstr>
  </property>
</Properties>
</file>