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091-8641-4512-9B8C-6573830E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DEC-F975-451A-B463-87B7FA9F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E3E-ECE8-4DB7-B4B6-EAE5EAC1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1CB-1055-4D07-958B-9DB7DD55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570-D897-422C-8B48-49B8DE16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4B0-3E3B-46D7-B885-8A3362A5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ED8-CA4B-4A86-BCBB-5E318335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03F-4C56-4657-AFBB-613EC23D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2E1-2DF9-4BE8-B178-58E221A9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E82-3D51-4A6D-8B18-50480744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337-4C2C-46A7-BEF3-469980D4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C57-B804-4FDA-97E7-8FDD6580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3E8D-8326-4709-979C-88771C78A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70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9Z</dcterms:modified>
  <cp:revision>30</cp:revision>
  <dc:subject/>
  <dc:title>PowerPoint Presentation</dc:title>
</cp:coreProperties>
</file>