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2D0A-FAE8-44F0-8FD7-1ABC94DD4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FCFA-9DE2-4F32-B664-12A5431C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F9D6-2B67-462E-90D5-32E2C1781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8833-B699-4261-8CBE-161291CD0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C6C4-B848-41C8-9079-ACC29267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1C7F-5F2A-445E-A931-FBB2D39C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9703-2D59-4F21-94D2-F0539C76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616C-281A-4325-B2C4-6A6EE5AE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5F74-F928-47E8-A42C-113274AF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2245-77F1-4B57-9AE3-FBFCB570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7011-F169-44D1-8F7C-E34DC9A4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EFC7-B723-46EB-8095-1E766E73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2524-8511-4676-BBEB-86A4284127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-1440" y="0"/>
            <a:ext cx="914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1Z</dcterms:modified>
  <cp:revision>39</cp:revision>
  <dc:subject/>
  <dc:title>PowerPoint Presentation</dc:title>
</cp:coreProperties>
</file>