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E634-09C8-4168-A867-11992D1E3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7781-D4B3-4C0F-A09B-F1A599A0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168E-5F91-41EF-B10D-4568DB574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87CE-6F60-4851-BB1A-2CF74F03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AE66-8597-4ACF-B2F6-BE700576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4B65-07EC-4FA2-B243-98FDF0F1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5A3A-C5F5-48D6-96B5-94C2EBFF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5524-6A8A-446A-8CB7-4B83405F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C5AF-A0DE-4AEF-9E67-872291E9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94F6-963A-46A0-B75B-8953C84A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BCD7-36BD-4213-9C1F-4CACD23F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28F9-E099-4172-A543-5AB6032C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CE3D-F662-4DCD-9450-B721C4EAD3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-3240" y="1219320"/>
            <a:ext cx="914724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4Z</dcterms:modified>
  <cp:revision>31</cp:revision>
  <dc:subject/>
  <dc:title>PowerPoint Presentation</dc:title>
</cp:coreProperties>
</file>