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6C66-4E57-4430-B729-1C7753B5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7A5-FE2B-4E55-87C7-AC09E79A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05A-93E1-49C8-8457-1109577F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5D6C-CBA6-447C-9D54-37CCA046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196-0FCD-4467-BF37-8EB38385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FD03-D310-4939-B979-E8678815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AF0-98A3-47EA-9E49-9A2A7FE8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981-6A42-4F88-BD80-9E2A54EE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B97-5EB6-42D4-A209-8A32E900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0D0-44AD-414D-ADC0-8565E881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D3B-A03C-4D9A-B5A0-F7795767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430-C18A-40E9-8E86-CEE8CE21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232A-1744-4324-A255-81720DDD8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7:42Z</dcterms:modified>
  <cp:revision>5</cp:revision>
  <dc:subject/>
  <dc:title>1.1a | In constant dollars, national health spending increased more than 60-fold over the past 8 decades, real GDP grew far less in this period</dc:title>
</cp:coreProperties>
</file>