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8E26-0983-462D-A097-975300483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26D0-1682-4FD0-8600-EE159D128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440-0C1C-45C6-B179-E46C9946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DE1-BD61-4216-9F75-D17F394D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F8A-DBE7-4885-895C-C632CC8C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05C-5128-4F5D-BF5F-5E25DA8E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827-17C9-4D17-A1F6-F740E891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22A-5809-4DFE-B1A2-427954C0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664-B68F-44C8-B685-23F41815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048-F4B7-4DF7-9F2A-E80C6668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14A-A366-4D60-8C57-BAF379E3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69C-56E3-4363-B91A-071F66FC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328-124E-450B-A540-4BB68778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B31-489B-4F8D-8BE9-9F99A165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8CBE-E161-4E58-BD9F-F913EC6F8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7b | Typical Medicare premiums and cost-sharing will consume virtually all of the average Social Security check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6225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thly premiums and cost sharing as percentage of average monthly Social Security bene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26400" y="6221520"/>
            <a:ext cx="42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MI=supplemental medical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b | Typical Medicare premiums and cost-sharing will consume virtually all of the average Social Security check by 2085</dc:description>
  <dc:language>en-US</dc:language>
  <cp:lastModifiedBy>Jia Yao</cp:lastModifiedBy>
  <dcterms:modified xsi:type="dcterms:W3CDTF">2013-09-23T19:14:3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b | Typical Medicare premiums and cost-sharing will consume virtually all of the average Social Security check by 2085</vt:lpwstr>
  </property>
</Properties>
</file>