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D8F79-D357-40B6-AA84-35735BDFBE4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15.1a | Inflation-Adjusted Per Capita Household Net Worth, GDP and Health Spending, 1952-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11DDC-7BCF-4495-9452-A79A358CDCE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64DAB-A887-47A6-A5DC-2C0D3D5F6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0DFF8-B032-4BD3-8FD3-0DF4DC279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E9145-B9E8-4EBC-855A-7F847B764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AE7F6-7C5B-4AA5-859B-7ABCD327C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33F99-4B94-4F00-9CA7-61E6A8FC8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77E39-1874-4C90-AD1B-8F7066481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FFB51-A90F-488E-9A09-EA19ECB2C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6ADCA-D5EF-4A64-BEEE-A4E14D8C6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B749F-59A9-4122-AC89-4128D4290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82393-BB8D-4026-9BD9-090308227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EF614-11F9-4FEE-8FD5-4E78C344B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925BB-6D0F-4D8A-B57F-EB42F79FD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EB1A5-9D38-4C89-8BC5-3C14744AB2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5.1a | Since 1950, inflation-adjusted health spending per capita rose much faster than per capita household net worth or GDP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168560"/>
            <a:ext cx="8331120" cy="574020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762120" y="1295280"/>
            <a:ext cx="761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dex of real amounts per capita, 2005 chained dollars: 1950=1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9T14:15:23Z</dcterms:created>
  <dc:creator>Kristy</dc:creator>
  <dc:description>15.1a | Since 1950, inflation-adjusted health spending per capita rose much faster than per capita household net worth or GDP </dc:description>
  <dc:language>en-US</dc:language>
  <cp:lastModifiedBy>Jia Yao</cp:lastModifiedBy>
  <dcterms:modified xsi:type="dcterms:W3CDTF">2013-09-06T15:25:59Z</dcterms:modified>
  <cp:revision>291</cp:revision>
  <dc:subject/>
  <dc:title>15.1 Household Net Worth, GDP and NHE, 1929-2009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15.1 Household Net Worth, GDP and NHE, 1929-2009</vt:lpwstr>
  </property>
  <property fmtid="{D5CDD505-2E9C-101B-9397-08002B2CF9AE}" pid="3" name="SlideDescription">
    <vt:lpwstr>15.1a | Since 1950, inflation-adjusted health spending per capita rose much faster than per capita household net worth or GDP </vt:lpwstr>
  </property>
</Properties>
</file>