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9A96-414F-49F8-93CF-CFA87037E0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3C | ANNUAL GROWTH IN MEAN INCOME OF WORKERS 18 AND OLDER WHO WORK FULL-TIME YEAR-ROUND, BY EDUCATIONAL ATTAINMENT, 2003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D714-0362-4354-B2ED-0B2C469D1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1AD1-D8C8-4059-A03D-8DE366CB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348F-2AD6-453C-9BA2-448B71FC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57A7-1CB9-4FFD-82C9-F29657B7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3BFC-3054-4121-9C60-D5A46DB2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C129-BA44-450C-9145-8895D2F0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9B53-5279-4379-84E7-4D9BEC4C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8B26-EE7D-4D3E-BC70-DC64F876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0967-876B-4892-BC51-610DDB35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61D7-16DD-4598-99DA-DC0E24F7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1E9C-9B75-4DE4-BE6C-5185E513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36C3-33DB-4FAB-A748-AEB98266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C623-9DBF-485C-92E1-DD097461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770B-949B-4C82-9B7F-7945CDA8D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9.3c | Excepting those at the lowest education level, recent growth in health sector earnings has been slower than for other work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90169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380880" y="990720"/>
            <a:ext cx="19051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nual Growth in Mean Earnings of Full-time Year-Round Workers 18 and Older, 2003-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3c | Excepting those at the lowest education level, recent growth in health sector earnings has been slower than for other workers</dc:description>
  <dc:language>en-US</dc:language>
  <cp:lastModifiedBy>Jia Yao</cp:lastModifiedBy>
  <dcterms:modified xsi:type="dcterms:W3CDTF">2013-09-06T14:59:1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3c | Excepting those at the lowest education level, recent growth in health sector earnings has been slower than for other workers</vt:lpwstr>
  </property>
</Properties>
</file>