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8BC-3B47-4449-8D02-253EEEFC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095-701D-47B8-9AFC-84C3019B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CED-DFC0-4B04-9E8C-2D5F83D5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15F-A682-4440-B645-41508E41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BC9-9129-48EF-AE47-F3DCE421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1E0-8024-47F9-88DF-7AB33300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BC4-3C3F-422B-833D-F31BEC27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E47-4492-40B5-B0D6-BCC39D94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A08-D6FB-43E7-B43F-DED6B8FB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2B5-A635-4587-93FE-4CAF5153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48C-C61E-4CA6-A424-FED565C5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592-8649-4AEA-AAB6-656D150A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3478-0407-4948-82C4-5DF3937D3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7Z</dcterms:modified>
  <cp:revision>37</cp:revision>
  <dc:subject/>
  <dc:title>PowerPoint Presentation</dc:title>
</cp:coreProperties>
</file>