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6E45-994E-46C3-B712-7FEA3F7C7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1B | U.S. POVERTY RATE ACCORDING TO VARIOUS DEFINITIONS OF POVERTY, 1985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2CE0-4331-486D-BFA9-9E3566BFC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F99-9393-43A3-8D6C-6E6EDD47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D8A-9A8A-4704-A0AC-591AD39C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BD7-06E0-4DA1-AD02-9F11F04F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9A2-4458-4AF7-84C8-C181C4F2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90E-69DC-4458-A36C-ED018931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794-349E-48D9-BA44-EFD5D206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930-8B9C-490E-AB74-AD269919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7C6-2D5E-44B0-9251-7608983B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82DD-650D-46F6-9E20-51C5F8BA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732-949D-4559-AE74-263D6117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15E-91B1-4EDC-AD9B-9B762040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CD1-6494-4BB8-9925-AF9911E0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AA20-1558-4548-A8ED-1528CBDC5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b | How medical expenses are treated in measuring poverty has a negligible impact on measured trends in poverty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below poverty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b | How medical expenses are treated in measuring poverty has a negligible impact on measured trends in poverty rates</dc:description>
  <dc:language>en-US</dc:language>
  <cp:lastModifiedBy>Jia Yao</cp:lastModifiedBy>
  <dcterms:modified xsi:type="dcterms:W3CDTF">2013-09-06T15:16:50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b | How medical expenses are treated in measuring poverty has a negligible impact on measured trends in poverty rates</vt:lpwstr>
  </property>
</Properties>
</file>