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ADE-7BD1-43BD-8659-B5FA5AB0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B31-F30B-4F66-A5BA-544CEAC0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3DD-6837-4D5D-AF71-52430688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99B-5DFD-46DF-ACC0-D6B063CF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BB9-25A1-4AF0-A241-8EE82F8A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495-7B4B-4DDA-A91C-76979D38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4BE-06FE-481D-BBDF-B0EA7D9A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712-DF8F-4EE5-BD2C-BE083F37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FE1-9BD0-47BA-A81D-51649ECB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190-4452-4CD7-BA85-E320620F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D83-D67E-4BF0-8940-C2BA11FA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7D4-2A03-4AD8-8FA3-6D085165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3501-21DA-4136-895E-05EB83DCA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904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35Z</dcterms:modified>
  <cp:revision>30</cp:revision>
  <dc:subject/>
  <dc:title>PowerPoint Presentation</dc:title>
</cp:coreProperties>
</file>