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308-81D1-40D4-AE1B-25E6A559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6BE-CABB-4BF6-BB55-ACD9D74D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951-0B6A-4917-8610-A8AC2DCE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31C-EDE7-4457-B48F-B8B28204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36D-E1EB-4CC4-A97D-A619AAF5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887-AE8A-4DEC-80BF-3DE8CD8B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CF7-CEB4-4D5A-8C5C-95749F9E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646-578A-49CF-8349-4F1B301C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E5F-A81A-434F-B227-0DE4D08F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D9B-5A31-45B1-A1C7-C94E1007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BE5-853C-4DC7-931F-7C3754D1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C6F-0086-44F9-A00E-CB1D7BF9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80D5-6FDE-48E9-9408-223D2A917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1Z</dcterms:modified>
  <cp:revision>14</cp:revision>
  <dc:subject/>
  <dc:title>PowerPoint Presentation</dc:title>
</cp:coreProperties>
</file>