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9C80-5791-4A5F-AA06-71B5880A0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2F57-8AC0-4AF1-ABFB-EB8D85BC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0438-B8DF-454A-B6E6-9AC44F6E6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12E9-9C03-4260-95DE-55C7A730B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2CB2-EAE6-4F66-A631-9866B974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A1C2-2985-428F-A523-7DF17F45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0AE4-0284-44D7-8A3F-D01F679C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C1A9-9E1F-451B-BDD2-7851BA44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0BE6-CFF3-4859-886F-308D062D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23DF-E5B2-4D8E-875C-1390F0ED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F55A-AD2E-4B32-8C99-BAC9CB19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7CB4-4362-4FE2-A6A7-85499396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77B3-C620-4669-B698-1E03A30827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00160" y="0"/>
            <a:ext cx="87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49Z</dcterms:modified>
  <cp:revision>31</cp:revision>
  <dc:subject/>
  <dc:title>PowerPoint Presentation</dc:title>
</cp:coreProperties>
</file>