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C151-9BD5-4CA9-A1DB-E554A00B08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9.6B | NATIONAL HEALTH SPENDING AND AVERAGE GROSS SAVING AS A PERCENTAGE OF GDP, G7 NATIONS,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B31E-EF65-4E9F-882B-0518A9BC91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5E0B-9854-4131-A05E-ED9745ACC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A6BD-2217-4D4B-ADD9-3134143C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E728-8EA0-407F-B4CB-7ED4E67BE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DE34-C211-4127-B7E6-EFE7F5E92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EA9B-E09E-4A0C-80A2-7B5CDF0F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A37D-30AE-4B62-A1E2-43FD1871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8DB3-8199-425A-B7FB-4CE34471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2535-28C0-4237-94BC-2D23442E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24DE-2A26-452D-8546-D7A9CDCE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13F8-05DB-486E-A3A2-C0602441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79D9-4302-4085-91E9-F7D806D4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84AB-DE38-4A41-87A8-F951E1A2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16AA-3899-49CD-BD5A-FB7B7B35F9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6b | Health spending matches gross saving in the U.S.; in most other G7 countries, the national savings rate is much higher  than NH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82760" y="1320840"/>
            <a:ext cx="848340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33520" y="1143000"/>
            <a:ext cx="1957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GDP, 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6b | Health spending matches gross saving in the U.S.; in most other G7 countries, the national savings rate is much higher  than NHE</dc:description>
  <dc:language>en-US</dc:language>
  <cp:lastModifiedBy>Jia Yao</cp:lastModifiedBy>
  <dcterms:modified xsi:type="dcterms:W3CDTF">2013-09-06T14:59:32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6b | Health spending matches gross saving in the U.S.; in most other G7 countries, the national savings rate is much higher  than NHE</vt:lpwstr>
  </property>
</Properties>
</file>