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39CF-BE24-4A43-A709-39999DA0B7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3A | TOTAL GOVERNMENT EXPENDITURES ON HEALTH CARE AS A PERCENT OF GDP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03F2-304A-493A-8B43-9614BD14E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2727-07DD-43C1-B815-A915E8D3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FE07-7B26-49D5-BAE9-08D869F0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9EA4-9311-4DFE-B6CB-3680A2E7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4952-A6DA-42A2-A16F-8217435C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36BF-5BCB-4345-98DE-46DC033F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22CD-8ACE-4292-AAD6-D3A139BB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2C0D-8CF8-424F-9EE6-9258AA9D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3E6C-8DAF-4D06-BE8D-C6F5C3F2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D3CE-E142-4A22-8175-11470389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081F-FFCA-431D-B8FA-2A8D73FD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3D61-CC46-4E88-8D85-4DA305E0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319C-9E48-4E36-A7D7-D405666B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4B12-D396-4504-A736-B9F0FC97C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7.3a | Rapid growth in the health care sector has been a major factor in the rising share of total national output purchased for services since 194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9406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295280"/>
            <a:ext cx="594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3a | Rapid growth in the health care sector has been a major factor in the rising share of total national output purchased for services since 1948</dc:description>
  <dc:language>en-US</dc:language>
  <cp:lastModifiedBy>Jia Yao</cp:lastModifiedBy>
  <dcterms:modified xsi:type="dcterms:W3CDTF">2013-09-06T14:09:52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3a | Rapid growth in the health care sector has been a major factor in the rising share of total national output purchased for services since 1948</vt:lpwstr>
  </property>
</Properties>
</file>