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C86CD-280E-45AE-8975-1B46F945B9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8B | MEDICAL MALPRACTICE PAYMENTS RELATIVE TO TOTAL NHE AND EXPENDITURES ON PHYSICIAN SERVIC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7B819-A788-4834-BA29-F7C776CC69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FB3C-FBAE-4CCE-97CB-8299294E2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CBDF-AB60-4AD2-AC75-8986D76B3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9172-F1A4-426B-8B03-A79F99CFA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E664-C356-48DF-B9FE-29F66BAA9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926C-098A-4761-BB4A-DDC58417B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B4DF-6459-4844-AB4C-315CC9F7B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72A5-2384-42DF-9793-2651C6DBE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9377-35E0-4B44-9BF9-C9987F22F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AD89-D07C-4026-B85C-360D76F09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6C6F-B9D9-4452-9209-4FA4E0825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1E78-DF26-4E17-964E-233FE1F8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A128-1DFF-47C8-A6D4-AA5B00E3B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47A02-18D3-46DA-834F-0429740CB2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8b | Medical liability payments as a share of total or physician spending peaked in the 1970’s and have declined through 200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320840"/>
            <a:ext cx="8331120" cy="55879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533520" y="160020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dical Malpractice Payments per $100 of Expenditu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8b | Medical liability payments as a share of total or physician spending peaked in the 1970’s and have declined through 2009</dc:description>
  <dc:language>en-US</dc:language>
  <cp:lastModifiedBy>Jia Yao</cp:lastModifiedBy>
  <dcterms:modified xsi:type="dcterms:W3CDTF">2013-09-06T15:41:07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8b | Medical liability payments as a share of total or physician spending peaked in the 1970’s and have declined through 2009</vt:lpwstr>
  </property>
</Properties>
</file>