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E24D-C41A-4560-BB44-C912FEFBF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7951-766C-4F3F-B98A-33FD87C0C4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5b | Percentage Distribution of Personal Health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32C-2DE2-4A13-87F3-E9547036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C6A-8C33-4A72-9040-E75E4BA4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DB2-9B72-4341-AC25-15E43D0C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F48-A9BA-450A-8175-D77CDCBC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BD47-CA6A-4E01-A624-ADD48DAC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F8C7-F25A-4F70-AEEB-6315D02C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E6AD-9C52-4227-AE37-1083C10A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ADE4-D7D8-4040-B0A5-D3F45795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B10F-4949-4087-B585-045DE14D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2542-9BAD-45A4-8157-F259EBD5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757C-828B-4065-955F-C3802532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90E-8B95-4802-9C41-C07E1FEA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09E2-C381-4A9D-A07B-CE050050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569E-8FA0-466A-A380-0F90CC06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AC29-B35E-4EC0-B918-A3D8B5BF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65C5-4140-42BE-8E86-3755E20B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76C2-EBB6-4EE7-B429-AD95B94D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2FA-350A-406C-8830-14A0BDF3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223-6BA1-45E9-90F3-B3DEB8A3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EBB-F75C-47E1-B9E4-9FBA014D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AA3-64C2-4CF4-AE97-B3B89A15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F2D-069A-4034-9B21-3142BEE6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F54-86CF-4A83-A0FA-94D58BC8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F54-B461-401C-A4F0-EFDE6181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E176-DB39-4827-883A-0C20BBF59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310D-4903-4CE3-B7A8-AF36D06CE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b |The out-of-pocket share of spending has declined much more rapidly for hospital and physician care than other health services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b |The out-of-pocket share of spending has declined much more rapidly for hospital and physician care than other health services </dc:description>
  <dc:language>en-US</dc:language>
  <cp:lastModifiedBy>Jia Yao</cp:lastModifiedBy>
  <cp:lastPrinted>2002-05-16T21:44:34Z</cp:lastPrinted>
  <dcterms:modified xsi:type="dcterms:W3CDTF">2013-09-04T21:03:5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b |The out-of-pocket share of spending has declined much more rapidly for hospital and physician care than other health services </vt:lpwstr>
  </property>
</Properties>
</file>