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35CC-E22E-4184-93FC-7242F948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A9D4-7854-44E3-A58A-94C1EBAF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0C8-08CC-4D03-9D5C-C19036E7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A4EF-03B4-4B44-B642-DA694A2E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7BB-E4F8-4B93-A986-8E4EE39C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DBD-FFFE-4CE0-B9B7-93B24850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6684-DA6E-4A11-BCE4-6799E0F2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2C3-3C74-450B-BD42-6A0B3FBE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E569-62D1-4250-ABCF-F2E738F6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820D-0501-425E-889D-9B3C8166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04D-C3DE-44CE-8821-32F6D370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E5A-AF41-4BDD-A299-5E3F55FF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22D5-1140-483E-A2A3-DE4DE0926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01600"/>
            <a:ext cx="910584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8Z</dcterms:modified>
  <cp:revision>30</cp:revision>
  <dc:subject/>
  <dc:title>PowerPoint Presentation</dc:title>
</cp:coreProperties>
</file>