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1910-BAE5-42A9-B295-EC897E550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A | PER CAPITA DOCTOR VISITS, DENTIST VISITS, ACUTE HOSPITAL DAYS AND PHARMACEUTICAL GRAMS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5683-46A6-4718-A38D-496B440BF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968-7F62-4D7F-8FFE-E6FACD71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422-CEA7-484D-A3F8-E706C0CC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41B-59CE-44B8-A2ED-841272C5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436-EB8B-4F4D-A66B-99F6B499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617-A80E-401F-A97E-3247A655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260-B4AA-4E26-9E01-A2345B46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6F6-38C6-45DB-A449-A3D83D1E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8FB-4D13-4ED4-B8FB-673066B3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0A6-D48E-494F-B5C5-4FC79CB6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E7F-5BA9-4B1A-ADD9-5B5B6B50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F7B-AAAB-408D-963E-850481B4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ECE-2315-4E80-ACCA-6EA0EC61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C311-730A-4C74-9119-0EBCF454B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a | Relative to G7, the U.S. generally has lower utilization of acute care services such as doctor and hospital care, but not pharmaceutic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4479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15320" y="5851440"/>
            <a:ext cx="45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figures for pharmaceuticals are fo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a | Relative to G7, the U.S. generally has lower utilization of acute care services such as doctor and hospital care, but not pharmaceuticals</dc:description>
  <dc:language>en-US</dc:language>
  <cp:lastModifiedBy>Jia Yao</cp:lastModifiedBy>
  <dcterms:modified xsi:type="dcterms:W3CDTF">2013-09-06T15:40:5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a | Relative to G7, the U.S. generally has lower utilization of acute care services such as doctor and hospital care, but not pharmaceuticals</vt:lpwstr>
  </property>
</Properties>
</file>