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352D-8A5A-4D83-8071-229C98A115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4 | PUBLIC SPENDING AS A PERCENT OF TOTAL PERSONAL HEALTH CARE EXPENDITURES,  BY SELF-REPORTED HEALTH STATUS, FOR THE U.S. CIVILIAN NON-INSTITUTIONALIZED POPULATION, 200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A8A3-B02F-40FE-B6C8-5A7E5590C1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9F0D-32FA-49A6-8D4D-D18BE4DE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1E5E-61FD-45AF-ABA9-CDCA843E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A7BD-6C2A-45F8-ACA1-2604C2AA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29B5-7289-49EC-ABF6-08F20A5E1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8A46-FD6F-4302-A7D0-98B18704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500A-0F9A-47C2-BD1B-50E77444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F329-5A57-407B-B5AD-EEAF40DE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24CA-15B1-45CD-987A-6040D507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3E87-952F-4B10-AE77-BC0D4D65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DE98-D8AF-4475-BD86-0943730F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9496-BBFC-41EC-A6D4-49D92EAA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A156-67C3-4B2B-96C7-4C64DDC5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58E0-2770-463E-A50F-66E5300121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4 |  The share of health spending covered by government increases as physical or mental health status dec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3285720" y="5486400"/>
            <a:ext cx="259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elf-reported health status, 20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14520" y="5853240"/>
            <a:ext cx="795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Seldon TM and M Sing. The Distribution of Public Spending for Health Care in the United States, 2002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b Exclusive 2008; 27:5w349–w35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content.healthaffairs.org/cgi/reprint/27/5/w349 (accessed June 14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838080" y="152388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personal health spending paid by government (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4 |  The share of health spending covered by government increases as physical or mental health status declines</dc:description>
  <dc:language>en-US</dc:language>
  <cp:lastModifiedBy>Jia Yao</cp:lastModifiedBy>
  <dcterms:modified xsi:type="dcterms:W3CDTF">2013-09-06T13:59:37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4 |  The share of health spending covered by government increases as physical or mental health status declines</vt:lpwstr>
  </property>
</Properties>
</file>