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5840-E61E-499B-A8DC-5E8002A22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6b | Trends in Per Capita Income by Geographic Region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1EEC-71FB-40FC-B469-95945D54D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61F-528E-4448-9494-F6DA5BE2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0DE-5FDA-4ECD-8D6E-743CC7AC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889C-B846-4C3D-814E-B194318C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101-639B-4D7B-8B44-074404DD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A682-5764-4D63-A583-2058084F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340-79F7-474B-AE45-59E2E59B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528-1255-49C3-AAA4-9D248689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F2B-5914-4899-8A60-DA8100FD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BD4-C70A-47CB-8903-937EC8D9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23C9-6E3E-40DD-A443-131CA8EF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BC3-0930-4DAB-90D8-859A3AE1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3A8-B65F-4BA6-A579-3378FA20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6EFE-E471-47B6-8D26-05BB5C315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6b | Regional income disparities have narrowed considerably over the past 8 decades, but have widened somewhat since 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31840" y="1146240"/>
            <a:ext cx="8680320" cy="5479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143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Per Capita Income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6b | Regional income disparities have narrowed considerably over the past 8 decades, but have widened somewhat since 1979</dc:description>
  <dc:language>en-US</dc:language>
  <cp:lastModifiedBy>Jia Yao</cp:lastModifiedBy>
  <dcterms:modified xsi:type="dcterms:W3CDTF">2013-09-06T15:13:21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6b | Regional income disparities have narrowed considerably over the past 8 decades, but have widened somewhat since 1979</vt:lpwstr>
  </property>
</Properties>
</file>