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4A7E-7004-4F47-B3E7-C2A203C2A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8DA5-4533-470E-B1D1-9060C074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0CE1-36A3-42EF-888A-5DD1E0F37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EC60-9DA4-4451-8BF9-7EB6D2678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3740-E666-4BEE-9F6B-012B14100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E76A-90A7-42B9-A78A-9AE1FA7CD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007D-F8C1-4DE0-BA65-4ED01AA4C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2E91-DB2E-41AF-8B56-60FA4328D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7005-0AE3-404A-9FAF-06A07350B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0F2E-CBE7-46B9-97C8-5B0BC468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7506-308F-40F8-B93E-F0D54EF1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AFE2-6925-45BA-9F05-3D93DB71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3F94A-DCF8-477F-828D-32A3A86CD3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57240" y="228600"/>
            <a:ext cx="90295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41:58Z</dcterms:modified>
  <cp:revision>4</cp:revision>
  <dc:subject/>
  <dc:title>PowerPoint Presentation</dc:title>
</cp:coreProperties>
</file>