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9D0D-3943-4636-B802-C806094F9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AAFE-F428-4F7B-8662-D8D09E632F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b | TAX SUBSIDY AND PREMIUM AS A PERCENT OF AFTER-TAX INCOME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DA8-4670-4317-AC91-8DE9A6C5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92E-B8C3-4B59-A275-C4DFDCB0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63B-787E-4357-90DE-83E22D0A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205-74FE-4F3F-95D0-5B006197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3177-4053-4F71-A9A9-D51DDD5A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14BF-3FC1-46B2-A760-E70D1622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542E-D2DA-4686-A020-2ABBF795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899E-AF77-436A-AE3E-3EA70A48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852B-5188-43F1-B0F3-930016AE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2E98-F0CB-453B-9CBE-F431A477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2CBD-4A57-42C6-8479-DD475EB6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0D6-A97C-4666-94E0-06042299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2C60-21BF-43C6-A9F5-DD96C4D1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21F7-FF96-4397-9F43-A16A3700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18E3-A572-4880-8F0C-CC7267F0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7FEB-294B-4F66-B58B-0ABE06D3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92DB-C4CC-4B48-8572-151AF6F9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FFD2-CCD9-47FE-A603-D36176DB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2A3-15BB-492C-8355-8150BDD3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CEE-9A7B-4092-B442-42914930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591-D5FD-45B3-AF98-71CFD3A5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16C7-D8EF-4F5D-9139-5B5BF32C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5E4-D9CA-42EB-B7B0-3DC1751F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62A-689B-4684-82F2-E03EA00C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966C-2E6E-4BF4-B8CC-F4D6737FE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1ED7-057D-47C9-A576-EC54FEFC19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b | The share of income needed for health insurance rises sharply as income declines; the tax exclusion mitigates this only slightl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44600" y="787320"/>
            <a:ext cx="85215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12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b | The share of income needed for health insurance rises sharply as income declines; the tax exclusion mitigates this only slightly</dc:description>
  <dc:language>en-US</dc:language>
  <cp:lastModifiedBy>Jia Yao</cp:lastModifiedBy>
  <cp:lastPrinted>2002-05-16T21:44:34Z</cp:lastPrinted>
  <dcterms:modified xsi:type="dcterms:W3CDTF">2013-09-06T13:50:43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b | The share of income needed for health insurance rises sharply as income declines; the tax exclusion mitigates this only slightly</vt:lpwstr>
  </property>
</Properties>
</file>