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58CEB-03B8-4718-9DA5-8AE7CB6527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7C | HEALTH CARE EXPENDITURES AS A PERCENT OF STATE AND LOCAL GOVERNMENT EXPENDITURES FOR THE HIGHEST AND LOWEST STATES (EXCLUDING FEDERAL FUNDS)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9032B-54EE-4DC3-8593-923539C872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BBC4-1012-4BA5-ADB3-823995F0E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D47C-9C75-4330-A6E6-D08D4483B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5FD0-85F9-4CC0-99AE-899949544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84FC-C5FB-4510-9257-21913BB83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3DB0-894B-4049-979F-B5D6A0F15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B5E0-77B9-4F9D-88CF-09B9ACE68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5219-66C4-441F-9A73-D20D5DB5A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A27B-A6F5-40DD-B3E4-87733ADB5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726F-1B83-47EA-A73F-4BCE23370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F637-B215-47C9-A088-B679F9F1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0B39-D84C-44B4-AE31-510296E5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3F16-E2D0-490D-BCD1-FBC3CDF5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70293-E24F-4B03-8755-8BEADB4251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7c | If Federal funds are excluded, the Medicaid share of state expenditures is much smaller, but varies by a factor of 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512640" y="1092240"/>
            <a:ext cx="8224920" cy="2387520"/>
          </a:xfrm>
          <a:prstGeom prst="rect">
            <a:avLst/>
          </a:prstGeom>
          <a:ln w="0">
            <a:noFill/>
          </a:ln>
        </p:spPr>
      </p:pic>
      <p:pic>
        <p:nvPicPr>
          <p:cNvPr id="50" name="Chart 4" descr=""/>
          <p:cNvPicPr/>
          <p:nvPr/>
        </p:nvPicPr>
        <p:blipFill>
          <a:blip r:embed="rId2"/>
          <a:stretch/>
        </p:blipFill>
        <p:spPr>
          <a:xfrm>
            <a:off x="512640" y="2997360"/>
            <a:ext cx="8301240" cy="3149280"/>
          </a:xfrm>
          <a:prstGeom prst="rect">
            <a:avLst/>
          </a:prstGeom>
          <a:ln w="0">
            <a:noFill/>
          </a:ln>
        </p:spPr>
      </p:pic>
      <p:sp>
        <p:nvSpPr>
          <p:cNvPr id="51" name="TextBox 6"/>
          <p:cNvSpPr/>
          <p:nvPr/>
        </p:nvSpPr>
        <p:spPr>
          <a:xfrm>
            <a:off x="2286000" y="5486400"/>
            <a:ext cx="586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edicaid percentage of total state/local government expenditures, excluding federal funds (2007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563400" y="6213600"/>
            <a:ext cx="821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 National Association of State Budget Officers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State Expenditure Report Fiscal Year 2008.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www.nasbo.org/Publications/StateExpenditureReport/tabid/79/Default.aspx (accessed June 15, 2010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7c | If Federal funds are excluded, the Medicaid share of state expenditures is much smaller, but varies by a factor of 4</dc:description>
  <dc:language>en-US</dc:language>
  <cp:lastModifiedBy>Jia Yao</cp:lastModifiedBy>
  <dcterms:modified xsi:type="dcterms:W3CDTF">2013-09-06T13:59:48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7c | If Federal funds are excluded, the Medicaid share of state expenditures is much smaller, but varies by a factor of 4</vt:lpwstr>
  </property>
</Properties>
</file>