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77A8-2DCF-4D57-B2ED-5D57AE163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20FB-ABA3-4A1F-9134-799C518D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69F2-48BB-4C91-ACEF-3E882D3DE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C1C7-93DC-4B0D-A307-4BF7D4C35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9792-F137-4460-B00F-75C55C5F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51E2-13E7-4B40-B715-37750175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C192-641F-450D-81B0-1521F9B1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2E71-D04A-4983-83EE-3A4479D4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9DF8-B53F-43AD-95FC-445770BE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4BBD-BC92-4A73-BA69-5C5ED320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0E4F-DD39-4A8C-9F1F-963E82D2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CA2C-A192-4FCB-8592-A7D2480E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1FED-E025-44A3-83AB-816BE31CBA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6080" y="1523880"/>
            <a:ext cx="90518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4Z</dcterms:modified>
  <cp:revision>31</cp:revision>
  <dc:subject/>
  <dc:title>PowerPoint Presentation</dc:title>
</cp:coreProperties>
</file>