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DF0A-E30F-47C8-B803-A03E7258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19E-C13F-42B2-B0B5-8E657E19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BC69-8AEC-46C5-90FD-2C6E7FEB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B5E3-49C9-4A60-BCB1-E62F5A33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5E1-E27C-4ED5-9712-065005CA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460-2D49-4F2F-B816-D528D00C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E13E-4FB5-46D3-A89F-CB66A241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0D5-947A-4AF0-8C4B-86E7BD88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BBF-71CC-4C09-B776-CA7983F0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DFA-05F2-46B7-9870-87202A7A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A2AE-A5AB-463C-9ED6-B2DC8B75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AB1-6824-4B1C-A7F8-F3A5060E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90E0-9734-45B0-92D1-19F4B8337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6320"/>
            <a:ext cx="914400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4Z</dcterms:modified>
  <cp:revision>35</cp:revision>
  <dc:subject/>
  <dc:title>PowerPoint Presentation</dc:title>
</cp:coreProperties>
</file>