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509B3-2D18-4898-A78D-E5231B82B39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6.7A | PER CAPITA SPENDING FOR INSURED AND UINSURED PATIENTS, BY SOURCE OF PAYMENT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36EE7-9EAF-4C21-9340-08CB4906F98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29B08-D74F-42C1-AA3D-D11A822F2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183EA-9EFC-41C7-AE2B-9F23629F8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A5A59-D2A7-4595-8C96-1B3D6703C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7F5E1-882A-4546-A586-2CD11C5E4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8E4D9-6A43-43C7-83E5-41B7A3117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BB99C-76EE-4A81-827F-AD28E9512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DC352-AE13-4C61-844E-751B0C072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8C83C-8245-4EF9-9BD1-DFE51CF6F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B8CA9-57C3-4A2C-83E7-1DD45AC47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AD25C-4705-414A-A208-0A07EDBD3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6DDAE-E122-464C-8894-F99E247E8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9BCB6-3232-4BE7-B905-D6273B8FD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86B6C-FEBF-400C-888B-687EEF5AEC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274680"/>
            <a:ext cx="86868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6.7a  | Annual health spending per non-elderly person uninsured all year is less than half of the amount for those privately insured all yea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4" descr=""/>
          <p:cNvPicPr/>
          <p:nvPr/>
        </p:nvPicPr>
        <p:blipFill>
          <a:blip r:embed="rId1"/>
          <a:stretch/>
        </p:blipFill>
        <p:spPr>
          <a:xfrm>
            <a:off x="330120" y="1168560"/>
            <a:ext cx="8559720" cy="5740200"/>
          </a:xfrm>
          <a:prstGeom prst="rect">
            <a:avLst/>
          </a:prstGeom>
          <a:ln w="0">
            <a:noFill/>
          </a:ln>
        </p:spPr>
      </p:pic>
      <p:sp>
        <p:nvSpPr>
          <p:cNvPr id="50" name="TextBox 5"/>
          <p:cNvSpPr/>
          <p:nvPr/>
        </p:nvSpPr>
        <p:spPr>
          <a:xfrm>
            <a:off x="2057400" y="5486400"/>
            <a:ext cx="544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Type of insurance coverage (non-elderly American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642960" y="6019920"/>
            <a:ext cx="8277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ote: estimated spending for full year privately insured individuals under age 65 was $3,914 in 2008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7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23T16:59:50Z</dcterms:created>
  <dc:creator>Jia Yao</dc:creator>
  <dc:description/>
  <dc:language>en-US</dc:language>
  <cp:lastModifiedBy>Jia Yao</cp:lastModifiedBy>
  <dcterms:modified xsi:type="dcterms:W3CDTF">2013-09-23T17:00:36Z</dcterms:modified>
  <cp:revision>1</cp:revision>
  <dc:subject/>
  <dc:title>6.7a  | Annual health spending per non-elderly person uninsured all year is less than half of the amount for those privately insured all year</dc:title>
</cp:coreProperties>
</file>