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AF87-1ACB-412A-90DA-1370A5CB7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3A | PROPRIETORS' AND RENTAL INCOME AS A PERCENTAGE OF NATIONAL INCOME FOR SELECTED INDUSTRI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6152-76D0-481F-912E-4E010BAA73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FC8-F483-437D-AC2D-83648606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D8AA-6602-4DF5-BE48-DC6282C7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2C20-B4F8-4C7A-AA1D-6C13428F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C308-3AAB-446B-8C0B-BD7DB55F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B34C-D123-4BB7-8AE4-D1C886C2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3CDA-873E-44C4-92B2-87E73A80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47FA-A805-4C9F-AEA0-FC471316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A8FF-1E11-4116-9C85-A663CB9A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F255-3826-4EB7-8EB0-38510386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3D09-E189-4699-8369-4047BE4E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8040-B274-4E91-91B2-E145720F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3F64-CEB7-4FF0-97DD-4875CBEB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9039-6E16-45F7-BFD9-268A590D3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3a | The share of health-related national income accounted for by proprietors’ and rental income has declined dramatically over 5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5238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sector-specific national income to proprietors’ and rent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3a | The share of health-related national income accounted for by proprietors’ and rental income has declined dramatically over 5 decades</dc:description>
  <dc:language>en-US</dc:language>
  <cp:lastModifiedBy>Jia Yao</cp:lastModifiedBy>
  <dcterms:modified xsi:type="dcterms:W3CDTF">2013-09-06T14:16:56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3a | The share of health-related national income accounted for by proprietors’ and rental income has declined dramatically over 5 decades</vt:lpwstr>
  </property>
</Properties>
</file>