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B60-70A0-411C-ADF5-F5D992F3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533-A5DC-47C6-8609-5F3320A4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9C7-84DF-4891-90A8-6691F530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538-11FC-4C02-BAC7-50381EEA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99B1-0D3A-4CCD-B512-E07EE0CB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8AC-EF3D-4FCE-8E3E-0BD3FDA9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EB5-3442-4E91-98CF-CAF36A73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F6C-32E8-4690-9392-E27FD362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FF1-E174-4BB8-8314-4FC66920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D7C8-29EF-4424-9875-FB4C2066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A6A-EF01-40E7-B6E9-B39F1AA7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C781-FC0B-499F-862A-BAE88C30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DDD3-4BAE-4B57-B7FE-94E4F7C83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5000"/>
            <a:ext cx="911844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55Z</dcterms:modified>
  <cp:revision>14</cp:revision>
  <dc:subject/>
  <dc:title>PowerPoint Presentation</dc:title>
</cp:coreProperties>
</file>