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1F5-5D4F-4754-B6BA-66730477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912-4495-4D54-8978-9B1DAA71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8C7-42C9-4C93-907C-3221D713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AB5-2710-45BC-9123-03E131E0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9A1-CBA7-40A1-AFC1-5BF17047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BA8-976B-4564-8DE4-CABC6BBA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AD3-F1E7-46DE-87A1-09F4BB9B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048-B8DB-4578-8A86-6F7DA2A9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7D9-7FDC-43F8-BB52-CCF04F8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14C-AACB-4CDB-BFCA-6FB10873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B2F-E62C-4B91-BBDD-8065443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F7D-AC2D-4DD6-AD8B-78C93E97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EA59-E4A4-4BB9-A90E-016CAD3FC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080" y="152280"/>
            <a:ext cx="8997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6Z</dcterms:modified>
  <cp:revision>37</cp:revision>
  <dc:subject/>
  <dc:title>PowerPoint Presentation</dc:title>
</cp:coreProperties>
</file>