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D0207-4D3F-4F32-99DD-5D1DDCF6A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26A09-6851-4DA4-A651-09A47FCF3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5F109-C4D1-4615-9DBB-78F5CF9E4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BF18D-023F-4A93-9356-C406BCB8F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8BEF0-89C0-4823-A2D4-FD79DBF94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34AB5-D38C-4270-A14B-5D226A529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0468E-DE05-447A-B827-E51F095AA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8FB35-1D26-4622-8C63-D92C5F2E3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F7F87-210C-4F09-B268-3A0769224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499E4-EEF6-42CE-9690-98C4E175E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6B779-592D-434E-8503-AFA9607B1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3FA7A-61FE-4F5B-BBDF-DC1A111BC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AAB77-1DA7-4D95-87DB-DD0215196E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1057320"/>
            <a:ext cx="9124920" cy="47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2:53Z</dcterms:modified>
  <cp:revision>31</cp:revision>
  <dc:subject/>
  <dc:title>PowerPoint Presentation</dc:title>
</cp:coreProperties>
</file>