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5CA-3FE0-4C4B-BF57-CAD328F3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B25-9467-412C-8023-D40D61F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7CA-59A2-4BA1-9A16-6187EBBB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DBD-F4A7-4DBA-B3BE-20098621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6F0-B214-45F3-BFE2-EB8D7A09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82B-144C-4FC1-928F-0EB95A3B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A68-6700-45E7-9DF6-4AD9947D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6E0-A550-4336-9DC9-EFE2EBE8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CBD-0822-4EC5-B6AE-580E2C5C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7DB-D85A-4E51-8CF4-C6BEADF0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F5D-D5E6-4BE2-83FE-4843399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A38-98CD-4119-8E75-5923E608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D86A-7F68-4E05-BB12-43185700C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2Z</dcterms:modified>
  <cp:revision>45</cp:revision>
  <dc:subject/>
  <dc:title>PowerPoint Presentation</dc:title>
</cp:coreProperties>
</file>