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6BDB-7CEC-4D2D-AB90-A13B8EC87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5A | SELECTED MEASURES OF HEALTH SYSTEM PERFORMANCE, BY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0648-EF0A-4AC2-BE7B-835A19E66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DB3C-CE40-4B92-A32B-D2F2CA42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6CA-D2A1-4204-B72A-4DEFE274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D3A1-EB52-4D10-808F-1C8E0103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50F-D879-45AE-A59A-0C774CF0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844-1845-4F32-B347-8EED65E7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A9E-067E-4042-A04A-A30D0A4C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7BF2-F7A5-4B23-8CAD-E580ED2F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EA0-47BC-45D3-9570-313368E5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0B4-FA54-405F-93FA-28799802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FC02-430B-48E8-A0BF-10560A43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08A-46AD-460B-8009-3A9339CC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8F2-1E59-439C-938D-35CBC9F8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AB1C-D25B-4984-824D-8BED0C0BE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5a | There are large differences in health system performance across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38280" y="5638680"/>
            <a:ext cx="817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nited Health Foundation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merica’s Health Rankings 2009: 20th Anniversa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d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http://www.americashealthrankings.org/2009%5Creport%5CAHR2009%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%20Report.pdf (accessed June 15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09480" y="130644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: 100=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5a | There are large differences in health system performance across states</dc:description>
  <dc:language>en-US</dc:language>
  <cp:lastModifiedBy>Jia Yao</cp:lastModifiedBy>
  <dcterms:modified xsi:type="dcterms:W3CDTF">2013-09-06T15:41:3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5a | There are large differences in health system performance across states</vt:lpwstr>
  </property>
</Properties>
</file>