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E4BC-E489-4EE2-8EBB-9324732DA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9B | MAJOR DETERMINANTS OF LIFE EXPECTANCY AT BI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FF23-8199-43C4-94E4-7A4E501B6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C3FC-AFDB-4D60-A4DA-D676A574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2A4-CBAB-497B-A564-9C539B25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BCE4-1FE0-4F29-BBEA-0E98C3C5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583C-7385-4D51-8A3F-DD474CEC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7CF6-4E6C-4DCA-B001-2489E7A4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0EED-31BD-4BE4-8F99-C04053FB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C2D5-E996-4EC2-AE74-A7AF0DB4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8950-310C-477A-A05A-A724EC63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B3BC-D230-4E70-91E3-467E6C64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045C-D219-442C-A955-138F9F84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1201-C8A2-4255-8999-456D9B57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CCC-C9FF-453D-BDE4-60E0C899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248C-7BB8-4FA8-8035-1FF5DA3EA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dx.doi.org/10.1787/240858500130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9b | Other determinants of life expectancy at birth are of equal or greater importance than the availability of doctors and nur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600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 change in life expectancy at birth per 10 percent change in f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0160" y="5759280"/>
            <a:ext cx="831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Joumard, I., et al.  (2008), "Health Status Determinants: Lifestyle, Environment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Care Resources and Efficiency", 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Economics Department Working Pape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. 627, OECD Publishing. doi: 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0.1787/2408585001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9b | Other determinants of life expectancy at birth are of equal or greater importance than the availability of doctors and nurses</dc:description>
  <dc:language>en-US</dc:language>
  <cp:lastModifiedBy>Jia Yao</cp:lastModifiedBy>
  <dcterms:modified xsi:type="dcterms:W3CDTF">2013-09-06T15:41:1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9b | Other determinants of life expectancy at birth are of equal or greater importance than the availability of doctors and nurses</vt:lpwstr>
  </property>
</Properties>
</file>