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D7C-772F-4C93-AAF1-9529535A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ABF3-3B5C-4914-9D7A-D96FA284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67D-C3D1-49A8-82EF-DAC2C3FA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BE9-3DC8-4780-9C1A-37981437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39F-9D4A-4F54-A394-9C5703A7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919-9139-424B-BCD2-05C92A89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6DD-29D3-45B7-BB94-9F61D9E9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5F8-E940-4B15-BE1C-FE94E661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215-9844-468B-BD47-A74632B9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172-5B02-472F-8B7F-8ECA9A04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334-30F6-4D3D-8238-E8BFB15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540-89E5-43D9-9B2E-B8537BD1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62B7-90A2-42B8-993C-7A24DAF8F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1Z</dcterms:modified>
  <cp:revision>20</cp:revision>
  <dc:subject/>
  <dc:title>PowerPoint Presentation</dc:title>
</cp:coreProperties>
</file>