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17E-3E9D-4E76-8388-88DEA018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A5C-B979-4A72-BC0F-75CA884F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60B-D226-4C33-A06F-86534C6B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0BDE-3F96-4330-8D12-A84E1C08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9C78-18F5-4253-B7C3-8484AD6A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413-D3A6-4152-A75D-46BC3426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876-8298-4AEC-9E7C-860E7127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955-1203-484D-BAD2-8912536C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638E-8259-4E68-BEA3-3188A5A9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3303-E647-42E9-8974-B26BEA01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176-A735-4C4B-91E5-83047F0C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C62-FFED-436F-96ED-8F44B082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617C-4758-40CF-A25B-8985D413B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6Z</dcterms:modified>
  <cp:revision>30</cp:revision>
  <dc:subject/>
  <dc:title>PowerPoint Presentation</dc:title>
</cp:coreProperties>
</file>