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6A9A-1D08-43F3-9EDD-C60467FF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76E6-A26E-4DFF-BE5F-641525D1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92BE-1F03-48CE-9926-4869941BB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A920-8003-4B1E-BF27-45739506C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AD2C-0E00-48E6-9A95-7FB6A6A3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970A-EF9B-471B-A564-8D7BD0D3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B0AA-690C-4693-9235-937BDBD1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13FE-E7B8-4130-A61B-B21FBE4A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C971-F38E-4D55-B1BF-8BA841FA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9AE8-DBC1-4E2F-A609-0F69F329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8FCA-19DC-47DD-9A8B-B0D6B004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0ADA-59DA-468F-82E1-314DA636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ADF4-9114-4322-B9D5-393B4EF682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2840" y="1143000"/>
            <a:ext cx="9058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5Z</dcterms:modified>
  <cp:revision>31</cp:revision>
  <dc:subject/>
  <dc:title>PowerPoint Presentation</dc:title>
</cp:coreProperties>
</file>