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9C3-02E4-4A34-9892-64A1C2DA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ACB-E3CD-4968-93BD-45A8B1D5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DBF-2BE5-43BA-85DF-F8E7B71D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2403-BA78-4B82-8761-DD3A043B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70A-D02B-4494-A3FA-7F78483F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22D-84E7-42E0-84EA-875BE6CF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14D1-666B-4ED1-90B1-8526F74B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4EA-1E1B-456C-AA6B-8337290A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7C12-330C-43FC-9EB0-AA3224C4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9F0-BC5D-49C9-A036-FC637BFB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255-AA4B-47D6-84A4-FEA0DE7D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2E3-7F03-45FA-A807-14B21579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20DB-0872-4647-BADC-36273EAA6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9600" y="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0Z</dcterms:modified>
  <cp:revision>33</cp:revision>
  <dc:subject/>
  <dc:title>PowerPoint Presentation</dc:title>
</cp:coreProperties>
</file>