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015-FCF1-4520-8006-7CE9C937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A5C-81C1-4511-8CF2-63750F92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4C4-B648-4B8F-9CEB-714F678F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BC1-81F2-4C7B-B21B-8BBB8AF8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306-1095-4EB0-9FB9-05889CE8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546-48B2-42BB-843F-F694F9F9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275-F7D1-4A54-9A82-6197359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EF2-92FA-4B0D-BC39-14A06C37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AE2-CB74-44B5-BD3B-2BDCC30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938-A50B-4EDC-98C5-E382AB5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0FE-EDDB-400F-9F35-0FB0AAC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183-C315-4C0D-B197-C35EA1BB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8911-629C-4476-9FD5-4186AA5AE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2120"/>
            <a:ext cx="9136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3Z</dcterms:modified>
  <cp:revision>39</cp:revision>
  <dc:subject/>
  <dc:title>PowerPoint Presentation</dc:title>
</cp:coreProperties>
</file>