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4AFE-F0BE-42A4-A28C-E3433724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257-95B5-4C8B-98B5-345FD68C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438F-6C79-4F76-861B-3DBF9310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8170-1FA6-4070-9B00-4559BC9C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ACB-143B-4F65-BC3B-13530277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BCC-EACD-4DC4-97C2-279A25E0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D3A-FD27-4B27-914D-73CA9FE9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1E1-8AA4-494B-93A7-213ABB8C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F10-AAEE-4568-9FC5-29AE6628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1D2-47E8-4BDD-9A90-91CF9D43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9E2-0459-4EB0-BF10-8D0E5668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A6A-C9C1-4F71-B4B2-B383CA94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1835-BE9C-48A9-BA62-5A74C3900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4Z</dcterms:modified>
  <cp:revision>12</cp:revision>
  <dc:subject/>
  <dc:title>PowerPoint Presentation</dc:title>
</cp:coreProperties>
</file>