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4EE0-1E74-4CA0-B212-29C04C0D4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B | PHARMACEUTICAL WHOLESALE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5B42-74C9-46DA-B54F-99946F07B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B01-564A-471F-9C81-4BAC67C3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D6A-E6D3-44FA-A6DA-31FE07C2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6CF-66DA-4BF7-91F3-30FF305C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CFE-3A9D-4098-BA06-CFF91B79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299-6C1F-4C0A-B7F2-76086997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405-EDB5-40CE-A666-5DA30E06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C4F-DB1D-43DC-B679-53B5C7F3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8D5-8354-4DAA-B940-30070105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C1D-FA97-427F-A693-1105ADEA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D70-C6CD-4BF2-965E-B13F3AEB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FA5-A494-4C30-9712-0391E0FE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BFE-AF6B-4632-B0F6-0B1D4E46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ADCF-8D4C-45C2-8C0E-D7117E39B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b | Manufacturer’s prices generally are higher in the U.S., but U.S. pharmaceuticals are generally more affordable due to higher inco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 price 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b | Manufacturer’s prices generally are higher in the U.S., but U.S. pharmaceuticals are generally more affordable due to higher incomes </dc:description>
  <dc:language>en-US</dc:language>
  <cp:lastModifiedBy>Jia Yao</cp:lastModifiedBy>
  <dcterms:modified xsi:type="dcterms:W3CDTF">2013-09-06T15:41:0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b | Manufacturer’s prices generally are higher in the U.S., but U.S. pharmaceuticals are generally more affordable due to higher incomes </vt:lpwstr>
  </property>
</Properties>
</file>