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A5EB-FBE2-4526-8018-7076890F8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a | Health Spending by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C368-29FF-46CD-AF17-97809BE28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19F-7360-471F-8510-FDB4D073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C85-776A-486E-9F44-3EA54A5A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AB9-308A-4D62-9182-0DE37D12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82E-2357-4BD7-9328-AE94F0E5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97F-82C8-4F80-A538-6F203070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12D-E766-43FF-B899-834D4B05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B7E7-9DDA-4AFC-8D34-E2AC4B00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7E0-80AB-4CE8-BD2F-C1A2E6D5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A8D-C850-486E-BE57-55F1AB21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0D2-0A4B-4D06-8D29-0CEB4828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71F-A5E0-4AD9-BC52-A8B0CEEC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821-C6CD-4C2C-B20C-6D43DA7F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EFFC-AE6D-425B-B629-67944EC48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a | Annual health spending rises sharply by age; health costs for the “oldest old” are about nine times as high as for school-age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4479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health spending in 2007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a | Annual health spending rises sharply by age; health costs for the “oldest old” are about nine times as high as for school-age children</dc:description>
  <dc:language>en-US</dc:language>
  <cp:lastModifiedBy>Jia Yao</cp:lastModifiedBy>
  <dcterms:modified xsi:type="dcterms:W3CDTF">2013-09-06T15:13:09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a | Annual health spending rises sharply by age; health costs for the “oldest old” are about nine times as high as for school-age children</vt:lpwstr>
  </property>
</Properties>
</file>