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2A9C4-D238-4C80-B0F7-DA0961ACBF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ABBF4-1FA2-450C-B609-E72F90F400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5761-6F64-409F-89D6-404603A4F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E1D4-65BD-49F2-B3DA-C1451BC22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AA46-398E-4779-A7D3-E52DF5AE4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C85E-0623-407B-B3EA-B66E9B34F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383C-3568-43EE-8C1B-5DD00E31A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C832-852D-488B-BD60-8FCC8FD82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4D08-F3B2-4F73-90AF-3BCAF81FF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2D0E-83D8-493D-A3F9-7799BB9D5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AF5E-E567-43FD-91E9-9E0CF262B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16E4-2D83-44E6-9B8E-E168739D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5DBA-0EFE-439F-AB73-195EA053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6FE5-C16F-4329-BCF7-41D986B4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E14A6-DEAD-4597-8E84-1FF2031988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http://aas4064.asadmin.duke.edu:60620/results/C/Users/lc135/conovermapchart19_16b.png"/>
          <p:cNvPicPr/>
          <p:nvPr/>
        </p:nvPicPr>
        <p:blipFill>
          <a:blip r:embed="rId1"/>
          <a:stretch/>
        </p:blipFill>
        <p:spPr>
          <a:xfrm>
            <a:off x="1447920" y="380880"/>
            <a:ext cx="6819840" cy="51148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1619280" y="43344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9.14c | Percent of adults age 15 and older who are daily smokers, United States, 20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477360" y="5495760"/>
            <a:ext cx="861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Centers for Disease Control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e-Specific Prevalence of Cigarette Smoking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Smokeless Tobacco Use Among Adults --- United States, 2009. 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ortality and Morbid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Weekly Repor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November 5, 2010 / 59(43);1400-1406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cdc.gov/mmwr/preview/mmwrhtml/mm5943a2.ht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0T20:48:54Z</dcterms:created>
  <dc:creator>Jia Yao</dc:creator>
  <dc:description/>
  <dc:language>en-US</dc:language>
  <cp:lastModifiedBy>Jia Yao</cp:lastModifiedBy>
  <dcterms:modified xsi:type="dcterms:W3CDTF">2013-09-10T20:49:20Z</dcterms:modified>
  <cp:revision>1</cp:revision>
  <dc:subject/>
  <dc:title>PowerPoint Presentation</dc:title>
</cp:coreProperties>
</file>