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844A1-55E8-4C5F-9C95-FFD26EA10B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2.4b | Per Capita Health Spending, by Major Age Category, 1977-200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E5511-4892-4823-A181-0601425E7D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4FB4-FF23-40E0-95C5-05D631E6A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6919-C155-4E34-A4B8-84C8F7A23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62FD-5077-4A7E-80C3-026C9BDAD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458F-0312-42C2-85FC-53AF21B5B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0581-0AE1-4081-83E7-3841E0566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F693-6ABE-48DD-92B9-D949C4618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8719-94D0-488D-B7AB-D1F9DF43A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4047-626E-457D-96F4-5800BCBC6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1C11-BFB3-4304-905B-CCD197797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043E-D97B-46F4-A407-F1EC546ED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6330-11D3-4DA4-8150-A202B5F7C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F552-E536-45A1-BBEC-E8422815B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E4C15-4941-43AF-B970-34784E4E12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2.4b The rate of increase in per capita health spending declined for all age groups between 1977 and 2004, though at varying ra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33520" y="16002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mpound annual growth rate in per capita health spen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13:12:38Z</dcterms:created>
  <dc:creator>Kristy</dc:creator>
  <dc:description>12.4b The rate of increase in per capita health spending declined for all age groups between 1977 and 2004, though at varying rates</dc:description>
  <dc:language>en-US</dc:language>
  <cp:lastModifiedBy>Jia Yao</cp:lastModifiedBy>
  <dcterms:modified xsi:type="dcterms:W3CDTF">2013-09-06T15:13:12Z</dcterms:modified>
  <cp:revision>23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2.4b The rate of increase in per capita health spending declined for all age groups between 1977 and 2004, though at varying rates</vt:lpwstr>
  </property>
</Properties>
</file>