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5DF9-ECBA-4535-B22E-9C917C222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9A | REAL PER CAPITA NON-HEALTH SPENDING, BY HOUSEHOLDER AGE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4108-A427-432F-99A2-8A5B1F1A6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054D-476D-4939-A730-CEBA9DF1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E904-8F6B-4410-B806-76C286CA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F08D-581B-4C56-8E3E-9C382980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13BE-11F9-4B9A-A9F1-AE9DEF08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F3B0-BA3C-4F46-B568-C8A5830A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BEC0-85DD-467E-8E59-66021D01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B591-96C9-44C4-8CE9-D33D6B84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C336-E0CA-4F52-AB33-48CBEF32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7EC8-45A9-4736-A56D-9E97EF8F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A229-00C0-4055-92C1-B4612031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0D19-6CA8-4282-956D-6AC0E4F0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8C6D-36F6-43FB-9B49-A71CE036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8A82-DF1E-4552-B6AF-56DE1A32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043A-D67D-4F95-9665-7FC0D31C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1FB0-78B8-434C-ACA9-C2F8C263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90AF-3E67-4394-A062-EED35092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B773-DAEF-40CD-9366-DB85F7EF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C5CD-A88F-41DE-9586-353EB8F7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9375-62E6-4705-8A26-FB9E9DF7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27CE-90FE-45FD-890F-431C729B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C973-934F-451D-A427-93AB5864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A90D-B7FB-4555-A73D-8C9D9D39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6C0F-8D97-41CF-B081-56195A9E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24EF-B39E-441B-B7E4-05A5DDE8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CC61-C903-4968-A782-3B41AE1381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C15C-13DE-46F2-A12F-4AD7B9067E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9a | Real per capita non-health spending currently is higher in households headed by elderly people; this was not true in 198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388800" y="1092240"/>
            <a:ext cx="8348760" cy="1854000"/>
          </a:xfrm>
          <a:prstGeom prst="rect">
            <a:avLst/>
          </a:prstGeom>
          <a:ln w="0">
            <a:noFill/>
          </a:ln>
        </p:spPr>
      </p:pic>
      <p:pic>
        <p:nvPicPr>
          <p:cNvPr id="91" name="Chart 4" descr=""/>
          <p:cNvPicPr/>
          <p:nvPr/>
        </p:nvPicPr>
        <p:blipFill>
          <a:blip r:embed="rId2"/>
          <a:stretch/>
        </p:blipFill>
        <p:spPr>
          <a:xfrm>
            <a:off x="388800" y="2921040"/>
            <a:ext cx="8348760" cy="147312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762120" y="1371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98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572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09480" y="4191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hart 9" descr=""/>
          <p:cNvPicPr/>
          <p:nvPr/>
        </p:nvPicPr>
        <p:blipFill>
          <a:blip r:embed="rId3"/>
          <a:stretch/>
        </p:blipFill>
        <p:spPr>
          <a:xfrm>
            <a:off x="388800" y="4292640"/>
            <a:ext cx="8634600" cy="208260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990720" y="617220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al per capita non-health spending (thousands of 2009 dollars using GDP price defla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1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9a | Real per capita non-health spending currently is higher in households headed by elderly people; this was not true in 1984</dc:description>
  <dc:language>en-US</dc:language>
  <cp:lastModifiedBy>Jia Yao</cp:lastModifiedBy>
  <dcterms:modified xsi:type="dcterms:W3CDTF">2013-09-23T17:02:09Z</dcterms:modified>
  <cp:revision>26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9a | Real per capita non-health spending currently is higher in households headed by elderly people; this was not true in 1984</vt:lpwstr>
  </property>
</Properties>
</file>