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6F0-8665-423C-881F-E6CA2875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248-68D3-4040-8856-1C67CAE9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031-E26E-4CDA-91A3-36FDF8BD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A34-8233-4F5A-BC6C-57A31FDE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ED4-ECC2-42EE-978D-C5CD21BD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5AA-81DE-4038-8508-1CEECE0F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557-8059-438E-8C8B-345835E1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CA0-47B9-4AB6-AC9C-D2943BC1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7E8-B5CF-403A-852D-5C736D88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C5C-0726-4852-885C-BEED77AF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9AE-BF2D-4FEF-BA5E-78655EE8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A7A-3088-492D-9C16-58386666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DB41-7189-4EFC-AAD2-931DBAD1E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117360"/>
            <a:ext cx="90946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2Z</dcterms:modified>
  <cp:revision>37</cp:revision>
  <dc:subject/>
  <dc:title>PowerPoint Presentation</dc:title>
</cp:coreProperties>
</file>