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BAF-E450-4C89-951F-67BD1EE1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703-0818-43BE-83C3-58100E8D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DEC-1C34-49DA-A810-9AE1957C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C0D-FC47-4FAA-92BE-762E94E4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8F4-BF91-46B2-8616-CA53D080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692-62B6-4084-B2B0-01C2072C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127-D516-4052-871B-B01BE7E0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1F7-3649-4E37-802E-17EB7FBD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6B6-853F-41FD-B013-6F717C20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B2D-FCED-4717-A312-FE47D99C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202-FCB4-4B8F-A656-691D83F6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890-6D73-4E66-A014-06DE063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5224-C2F2-4F4A-AE37-A7FCED77D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6Z</dcterms:modified>
  <cp:revision>6</cp:revision>
  <dc:subject/>
  <dc:title>PowerPoint Presentation</dc:title>
</cp:coreProperties>
</file>