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A4A-D3C7-40BA-8F70-FE936437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561-A34A-459A-BAA2-83FC6FC7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ED7-F064-4E63-ADE1-C3B97992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64A-AC7A-4D2E-B33B-7D6A0CAD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7D0-C3F3-4306-9345-98247472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8A6-89F2-472E-AA4D-7E22B40B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83E-2204-41A3-A03C-D7058FFA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2EE-ED72-4595-94C9-68D28075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8A0-1404-436A-B728-DB8332DB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536-85D9-4259-9B2A-BA1894EC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E62-75F3-482E-BD81-73757914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260-3858-41BF-BD3D-DAA9C7D3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6909-A2FC-4BFC-99B6-D0E059867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412920"/>
            <a:ext cx="90756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8Z</dcterms:modified>
  <cp:revision>39</cp:revision>
  <dc:subject/>
  <dc:title>PowerPoint Presentation</dc:title>
</cp:coreProperties>
</file>