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2CF-3F98-4204-9623-F6AEC8E2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6FA-C960-416C-9B69-7C041E73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D89-DDEB-4986-9BA9-DF250347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A8C-0CD6-4E32-BE10-E68BFC48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63F-019D-44DD-BBBE-9023F5EC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AD4-BC3E-406B-A96B-C184EB32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4CC-C122-4D77-BEBE-10B093EB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0BC-D404-45A5-8AD4-B96BF67E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830-9978-49E5-BE3C-2D0B261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BD9-7C7F-4C57-A159-EE98976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53B-F3C6-4AD6-A516-2332BEFD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65C-EC22-4DFC-9C3B-FE1346C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0183-2B3B-4988-8F72-AA23B2E60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048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1Z</dcterms:modified>
  <cp:revision>12</cp:revision>
  <dc:subject/>
  <dc:title>PowerPoint Presentation</dc:title>
</cp:coreProperties>
</file>