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6DB-C879-4A56-9760-22488440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8F28-EB28-43D8-8DF4-D130C3AD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8707-0807-4FBA-8E1C-39D97AA2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9DB8-4753-4F52-9F5B-CDF22835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89C3-EEF5-4DCC-8BCD-28EC73FB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73A5-7491-49DB-BC00-E6CED2A7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9E3-A9D9-4B79-A4AC-F2C08829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7145-0802-44FE-A164-79B825E8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7447-19AE-48B1-988C-DD313AB8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085-562A-4B22-84C4-05C3AB34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F138-BDB6-46C5-87B7-D06FBD9F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29F8-47AE-4D10-B80C-F8846318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AB26-A43E-489F-992C-E2406D943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79440"/>
            <a:ext cx="91407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4Z</dcterms:modified>
  <cp:revision>31</cp:revision>
  <dc:subject/>
  <dc:title>PowerPoint Presentation</dc:title>
</cp:coreProperties>
</file>