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37CD-C837-49C5-B926-E102D8EEC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D23F-6CFA-4E3B-86BE-D2920249A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7BCC-EEF5-4578-A9BD-144E2BA59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A5DE-A2F7-431F-ADA4-B6556E49D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D6FA-DE8E-4E2D-9EEC-F3405278D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9758-341B-4378-BC6E-CB35A4759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0D55-BE88-495D-98B7-9CD5D4603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7271-B90C-4738-9E6A-BA78A3053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8F9A-1EC9-4DA3-B7C3-CCFF0DE44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8CDD-8346-49B0-92AF-EB7A0277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8049-ACAA-4275-8499-11193EBC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9FDF-1742-43E2-926E-F23BEE35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0FB54-CDE2-403A-A77B-EDECCACD51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301680"/>
            <a:ext cx="9144000" cy="62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1:04Z</dcterms:modified>
  <cp:revision>31</cp:revision>
  <dc:subject/>
  <dc:title>PowerPoint Presentation</dc:title>
</cp:coreProperties>
</file>