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2C74-16B4-4428-A4AC-3A7394397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3B | PERCENTAGE OF METROPOLITAN STATISTICAL AREAS WITH CONCENTRATED OR HIGHLY CONCENTRATED HEALTH SECTOR MARKETS, BY TYPE OF MARKET, 1994-1999, 2000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A155-15E2-4E7E-B3D4-6FB733E55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E73-4E68-4B05-9422-3A529EDE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4F3-0E55-4F7B-9938-F9C3478A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0A7-3B79-4B83-877F-878381F2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B59-1479-467B-867D-90D982CA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28F-80F2-4C49-8048-34299E7E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EBD-F716-4F2F-9EC7-3E720D31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05A-2729-4E8C-9E5A-35FADCDC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96F-3FA3-47A1-AB7E-06E0CD4A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926-A5E3-4287-96F3-2F1049E5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53F-35DF-498A-A73C-65A84300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3F8-5604-4934-8923-563080E6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69E-C79B-44BD-BEC7-1070FB32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6939-4524-4470-820F-C5A0BA2AD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b | It appears that concentration is rising in both the hospital industry and HMO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7200" y="1523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with concentrated or highly concentrated 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7600" y="5791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hen YC, VY Wu and G Melnick. Trends in Hospital Cost and Revenue, 1994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5: How Are They Related to HMO Penetration, Concentration, and Fo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 Ownership? Health Services Research 2010; 45(1):42–6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at the time of this analysis, the threshold for “highly concentrated” was a Herfindahl-Hirschman Index score of 1,800 or above; “concentrated” is defined as an HHI of 1,000-1,800. Since August, 2010, the FTC has the first threshold at a score of 2,500 or above and the second at 1,500-2,5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b | It appears that concentration is rising in both the hospital industry and HMO industry</dc:description>
  <dc:language>en-US</dc:language>
  <cp:lastModifiedBy>Jia Yao</cp:lastModifiedBy>
  <dcterms:modified xsi:type="dcterms:W3CDTF">2013-09-06T15:22:54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b | It appears that concentration is rising in both the hospital industry and HMO industry</vt:lpwstr>
  </property>
</Properties>
</file>