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9B80-1B01-4B2A-BC53-710B8084A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A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F0BF-8D4F-4629-889E-8AF6CD25A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CA9-B758-4BFF-9C3F-8A51614A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7CA-C321-4D4E-9E10-7EBD1A58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7D3-4EF7-4EDA-9166-321E344B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060-D3D6-41C1-A2A6-11267632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252-7F2F-46D1-9798-4B224032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933-1BDA-4377-BFC6-351862A9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F64-D81A-44C1-8D34-593E9EE9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FAA-313A-4D25-83BA-D54FAFF1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0FD-3A5D-4CA9-836F-6C96CB25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C1E0-236F-4990-B6E2-951F4D74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BD6-2DE4-4DE6-8585-46A46455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703-9791-4008-8DB3-A7284D47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D040-BEE8-4DF8-8461-F8FFDEB9A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a | The U.S. share of GDP devoted to tax-financed health spending is comparable to that of its G7 competi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96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819520" y="5867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7 members ranked by size of 2007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a | The U.S. share of GDP devoted to tax-financed health spending is comparable to that of its G7 competitors.</dc:description>
  <dc:language>en-US</dc:language>
  <cp:lastModifiedBy>Jia Yao</cp:lastModifiedBy>
  <dcterms:modified xsi:type="dcterms:W3CDTF">2013-09-06T13:59:3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a | The U.S. share of GDP devoted to tax-financed health spending is comparable to that of its G7 competitors.</vt:lpwstr>
  </property>
</Properties>
</file>