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4EE0-4D99-4B88-951C-E3CC68508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3B | COMPONENTS OF ANNUAL MEDICARE SPENDING PER BENEFICIARY, BY QUINTILE OF CARE INTENSITY, ???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4059-05EA-4754-B203-DDC36F683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A9A-7DCB-45D9-987C-8FEB26B1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E26-A942-410C-AA6A-97932310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03F-14F6-4DDB-9E57-FA91EE53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B85-DA84-4168-9595-E7E638E2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767-23A4-4FBA-AB1C-9C38D09D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21E-6089-4461-96F0-8B3C9855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EC4-1AD5-4695-A6DF-2D851525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E47-3833-4DFE-A7AC-EF4FC4E7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3EE-83F5-4518-ADC2-39C7E9A1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BED-699F-4329-8A61-C719BE83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9B6-92AF-4E11-9000-21E733D4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5EE-5D2D-4660-9A50-4FB043EE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AE54-4C72-4F7D-A31F-231F1F4E3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b |  Differences in income, race or health factors explain less than half of the spending differences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21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40160" y="1295280"/>
            <a:ext cx="68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per capita Medicare spending (dollar difference from Quintile 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301200" y="36385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ntile of care inten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33520" y="4037040"/>
            <a:ext cx="835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ertical bars show the proportion of the difference in spending between regions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of the four top care-intensity quintiles and the regions in the lowest quintile th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explained by differences in patients' race, income, health factors (self-repor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, presence or absence of diabetes, blood pressure, body-mass index, and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), and regional factors. All models control for age, sex, and urban or rural resid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56560" y="5791320"/>
            <a:ext cx="79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utherland JM, ES Fisher and JS Skinner. Getting Past Denial—The High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Health Care in the United Stat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61:1227–3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b |  Differences in income, race or health factors explain less than half of the spending differences across regions</dc:description>
  <dc:language>en-US</dc:language>
  <cp:lastModifiedBy>Jia Yao</cp:lastModifiedBy>
  <dcterms:modified xsi:type="dcterms:W3CDTF">2013-09-06T15:40:4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b |  Differences in income, race or health factors explain less than half of the spending differences across regions</vt:lpwstr>
  </property>
</Properties>
</file>