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067A-88AE-41A8-ACDE-281E8229D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B | PER CAPITA SPENDING ON NONHEALTH GOODS AND SERVICES, ASSUMING "MODEST" ALTERNATIVE EXCESS COST GROWTH RATES IN REAL NHE PER CAPITA, 2009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642D-C9BE-447B-926E-E04DAD2B0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E9C-CCBB-4152-BEA3-3FF5A45E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EE0-AF74-4194-B9A9-EEAA93EE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2E9-9968-423B-B285-139C6C51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8B1-596C-444C-8A42-96A2AB89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5F2-0901-47AF-846A-1644099C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48B-EF17-4D44-9CCB-ECCB0ADB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22F-46E1-44C5-9BED-35861000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C69-A598-404D-9DDB-098D061F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7A2-A4F8-4D92-B528-C21EA9EC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95A-6FAC-48EA-9CE2-70F9108C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3DA-120F-46B4-8505-EAC89B3B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3AB-706F-48AD-85AA-66206636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E60-331A-4566-8478-FE4FD059B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4b | Non-health GDP per person could decline within 5 decades if excess cost growth continues at historica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health GDP per capita (2010 dollars using adjusted CP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905120" y="3200400"/>
            <a:ext cx="4267080" cy="4572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irst year non-health GDP per capita dec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V="1">
            <a:off x="4267080" y="2742840"/>
            <a:ext cx="53424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V="1">
            <a:off x="4799520" y="2590200"/>
            <a:ext cx="229320" cy="61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0"/>
          <p:cNvCxnSpPr/>
          <p:nvPr/>
        </p:nvCxnSpPr>
        <p:spPr>
          <a:xfrm flipV="1">
            <a:off x="5105520" y="220932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b | Non-health GDP per person could decline within 5 decades if excess cost growth continues at historical levels</dc:description>
  <dc:language>en-US</dc:language>
  <cp:lastModifiedBy>Jia Yao</cp:lastModifiedBy>
  <dcterms:modified xsi:type="dcterms:W3CDTF">2013-09-23T19:14:2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b | Non-health GDP per person could decline within 5 decades if excess cost growth continues at historical levels</vt:lpwstr>
  </property>
</Properties>
</file>