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C9D-6F6D-4D8E-AED7-F57D47BE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0D5-7067-47C9-922D-7061ADE6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1AD-2324-49B6-AABF-24D448F0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699B-AF44-4ECA-9ECA-2F46964A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8EB-F5FD-4F42-8BAC-7B1B30F7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375-DFD6-4943-8427-F432AB16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8AD-76D8-4FEE-A461-AA21F533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AB8-2F68-4CFB-BA50-C8256286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A5D7-3E7A-4A28-A159-B871D9C1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9F8-0512-4E22-B5C6-4322ACEB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989-63EE-4FCF-B931-E7C1F62E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929-A662-4811-AA6B-DB7F7915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ED7C-0377-44EC-9064-717904BDD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1680" y="360360"/>
            <a:ext cx="911232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1Z</dcterms:modified>
  <cp:revision>31</cp:revision>
  <dc:subject/>
  <dc:title>PowerPoint Presentation</dc:title>
</cp:coreProperties>
</file>