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8C6C-9539-4B33-8862-E25B35862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B | CAT SCANNERS PER MILLION, MRI UNITS PER MILLION, PTCA PER 100,000 AND CABGS PER 100,000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0126-A541-4811-BF41-476F1A9B2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A76-298D-45C1-AA96-B9F490D2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2F4-BE60-4C4C-8BAC-03B8E4D5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3B5-D3E4-4D70-87C1-EB9FE971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683-A02A-4A6F-964B-FB4593F9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9C1-77BB-48E4-821C-8081329C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4EB-F878-424E-9C0C-7120D120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877-144D-4176-91BF-B6354CCB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EE6-AC2C-40A9-B4D3-80BA6288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E41-E283-414B-8C63-074240DD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009-5819-406A-970A-77DBD624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B27-678A-4094-91CA-589EB816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FF8-7C75-4A37-8336-DC9262DA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8918-3930-4130-905F-AC174705D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b | With the exception of Japan and Germany, U.S. use of technology generally is much higher than among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b | With the exception of Japan and Germany, U.S. use of technology generally is much higher than among other G7 nations</dc:description>
  <dc:language>en-US</dc:language>
  <cp:lastModifiedBy>Jia Yao</cp:lastModifiedBy>
  <dcterms:modified xsi:type="dcterms:W3CDTF">2013-09-06T15:40:5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b | With the exception of Japan and Germany, U.S. use of technology generally is much higher than among other G7 nations</vt:lpwstr>
  </property>
</Properties>
</file>