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400-08B7-4931-B5A1-CD0CDA76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044-E329-4E7F-AC34-4804B252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816-A43B-4BF8-B1C6-80184723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089-6CA3-4B00-97C8-9BD2A9FA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EC6-E9F4-41FF-A28B-8AD2244B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56E-6B2A-4651-BEB9-B60E69BD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22D-CCAB-4C4B-B8C1-C283B604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AD5-6E07-4AC8-8CC3-08F3965A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401-FEA4-4AB2-89B2-F590AF34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63A-D1D6-43E1-84C7-851B6132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2E5-3CC7-4B2A-9C51-E19632D0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7E7-F2BE-4688-8AFD-BF8FAF0D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6502-76BF-49DE-8412-68CC673B9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7000"/>
            <a:ext cx="887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3Z</dcterms:modified>
  <cp:revision>31</cp:revision>
  <dc:subject/>
  <dc:title>PowerPoint Presentation</dc:title>
</cp:coreProperties>
</file>