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C36C8-28F8-4A1A-B65A-B79B980EC8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F5681-955F-4316-BF40-66D9FCE03B4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Arial Narrow"/>
              </a:rPr>
              <a:t>2.5a | EXPENDITURES ON CHRONIC CONDITIONS FOR ADULTS AGE 18 AND OVER, BY AGE, 200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D39B-3D78-4964-BE7C-B7DBF9C89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0365-1B69-4677-B6FE-F169A632C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26C1-04B2-4867-8394-D89890EC9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6DCC-84FB-4C0C-A590-CCD9F3531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7C91F-9287-415E-BC69-BE3F03C9E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BA368-19EB-4492-8381-3752678ED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701D4-E318-49A9-97D8-EC5A03560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90609-E714-4758-BB0A-CE1837C21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CC272-627D-4505-AEE4-CC22A6661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35953-5751-463B-9F6B-5C9FBFC95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B1A76-96CB-4AB8-A09F-C1F57F041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487B-E4D8-435A-AEEE-EA7A02005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74883-7E88-4945-9B27-B726F27E9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F782D-7872-4C11-9267-2E785E05D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F4779-8255-45DB-A0BD-4E5EEDF4B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5A434-613C-44A8-83E6-C00E6C6AA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2163E-21FB-4EA8-95B4-BC77FF3A4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5488-E829-4B68-A750-1F2E4865F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F804-B700-4180-B67E-310B99A5F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BC52-CC2B-417A-89D0-5E1B918BA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4642-A7B7-41AE-998E-7858182F1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2934-D40B-438B-B83C-4CFF6FE86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3368-59D9-42BB-8938-B0B396CA9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F356-867B-4296-95FB-A02A4797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7EDDB-A987-4D4E-A9EA-051CE07B99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33978-BC33-4E36-A4EC-D8AA5FA6A0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2.5a | About half of adult health spending is for chronic conditions; 90 percent of spending is on adults having at least 1 such condition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254160" y="787320"/>
            <a:ext cx="855972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2.5a | About half of adult health spending is for chronic conditions; 90 percent of spending is on adults having at least 1 such condition</dc:description>
  <dc:language>en-US</dc:language>
  <cp:lastModifiedBy>Jia Yao</cp:lastModifiedBy>
  <cp:lastPrinted>2002-05-16T21:44:34Z</cp:lastPrinted>
  <dcterms:modified xsi:type="dcterms:W3CDTF">2013-09-04T18:13:25Z</dcterms:modified>
  <cp:revision>346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2.5a | About half of adult health spending is for chronic conditions; 90 percent of spending is on adults having at least 1 such condition</vt:lpwstr>
  </property>
</Properties>
</file>