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E524-5F08-44C6-98E7-8E7144530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47D8-4DA1-46BE-AD64-2E14CD079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5962-83FD-40AD-BEC1-09E864CCA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2FDE-8AE6-4D98-A5E1-F3BC2BDF8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713D-7AB1-4141-936F-07F8A20E7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881B-F720-47BF-A192-1BF9CDE3C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3716-204D-4595-979F-C53C8CE0C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7101-4C78-4327-8B3F-E71C387A5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EA28-B27E-4054-BA23-BD3B8CDD8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9753-0E77-4550-9E55-A53C1222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9D39-23BF-473F-AF53-693BDA55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71D0-759C-43C6-86FD-BE3942FE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A3644-D170-4688-924C-B0F1FA44BF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598320"/>
            <a:ext cx="9124920" cy="565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1:00Z</dcterms:modified>
  <cp:revision>30</cp:revision>
  <dc:subject/>
  <dc:title>PowerPoint Presentation</dc:title>
</cp:coreProperties>
</file>