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A2E-709B-4B43-B8C3-49CCD67C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C00-6636-42CC-8868-9F392452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C8F-C95C-440A-AAF1-D7D11C2F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E6C-D590-4764-9250-0004EBC3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07E-14A9-4B05-961C-BCB5F9FC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4CB-BE61-40F6-95CE-BCDFB031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D8C-DC3F-42CF-95A1-1CA1A7F9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21B-6232-4A1F-8821-5996D241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756-EECC-4F50-A6D9-C8E46B1B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8D1-767C-4802-A833-90FF1D7F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9DB-D237-4E1F-845E-AD52BF3B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500-4D4A-4606-83E5-DEECE369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0F60-5A45-4D79-8FDF-1F816E4EA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7000"/>
            <a:ext cx="887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3Z</dcterms:modified>
  <cp:revision>31</cp:revision>
  <dc:subject/>
  <dc:title>PowerPoint Presentation</dc:title>
</cp:coreProperties>
</file>