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7FA4-00AC-42EB-BD02-FF21A26F5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A | AVERAGE ANNUAL GROWTH IN EMPLOYMENT FOR HEALTH SECTOR AND TOTAL U.S. EMPLOYMENT, BY DECADE, 193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DFF6-27DB-46C1-8C74-CA63330FC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3E3-4887-4C5E-BF03-4772222B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AF9-069F-4006-99ED-991BD7A8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90C-E9A5-474E-A68F-DD19116D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565-EEBA-4F44-BD12-E3F50C9B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C055-7E50-4B54-B093-9B221623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E04-FC66-4B3D-BA6C-5A6E0022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411-AE89-4952-9534-2185A15E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2AF-01F6-4757-859B-678F979B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7A3-A8D0-43D3-B471-F6785378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148-14F5-49EC-ABF0-43F5DA8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7C1-B52B-4A6B-9932-F46DAE26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B19-583E-44D6-BA55-FCB0D71C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27D1-13F9-4ACC-AC5D-5A74BA256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1a | For 8 decades, growth in health services employment has greatly exceeded growth in all workers and those in private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3716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number of full-time-equivalent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562720"/>
            <a:ext cx="849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a | For 8 decades, growth in health services employment has greatly exceeded growth in all workers and those in private business</dc:description>
  <dc:language>en-US</dc:language>
  <cp:lastModifiedBy>Jia Yao</cp:lastModifiedBy>
  <dcterms:modified xsi:type="dcterms:W3CDTF">2013-09-06T15:03:43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a | For 8 decades, growth in health services employment has greatly exceeded growth in all workers and those in private business</vt:lpwstr>
  </property>
</Properties>
</file>