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0DD9E-E8CF-4287-94C5-ACBD56BA91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0.3A | TOTAL WEIGHTED HEALTH EMPLOYMENT AS A PERCENTAGE OF POPULATION IN G7 COUNTRIES, 200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0FE49-6C57-444E-9B3F-16BF4787A6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1F1C-1B80-4017-A8E2-FD17180E5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740E-B614-4DD1-B391-708EF2F8A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D3EC-277F-4C31-9B07-F7BA9EEB2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C323-5E51-4FC7-8B5E-6D3D4184E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D617-FEC5-493B-9626-489F94B2E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EC69-30A9-4C6D-86CE-0554CCA55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AEF4-E66D-4AB4-918A-CB2FC185F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68BA-8286-49AA-BE83-7E15CF14F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1D6D-87C3-4E55-8BBA-36ACE1768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23F0-F48F-45E8-A98D-8A47C2C7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B901-DE0D-438A-874E-3FF1497A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7037-435E-47B8-A61F-B089A068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1876E-510D-4B5B-92C4-3F1961D7C5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0.3a | The opportunity cost of medical workers is only slightly higher in the U.S. relative to the rest of the G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559720" cy="51307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09480" y="1295280"/>
            <a:ext cx="723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Weighted health employment as percentage of total in 200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439560" y="4952880"/>
            <a:ext cx="8572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ighted figures are calculated by multiplying the number of general practitioners, specialists and all other doctors times their respective weight and adding this to the total number of non-physician health sector employees. The weights were calculated as the average ratio of compensation for doctors relative to nurses for 9 countries (6 shown plus the  3 more with the highest level of health spending per capita: Netherlands, Norway and Switzerland).  The ratios were: 1.8 for GPs, 2.8 for specialists and 3.0 for all other MD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14:15:29Z</dcterms:created>
  <dc:creator>Kristy</dc:creator>
  <dc:description>10.3a | The opportunity cost of medical workers is only slightly higher in the U.S. relative to the rest of the G7</dc:description>
  <dc:language>en-US</dc:language>
  <cp:lastModifiedBy>Jia Yao</cp:lastModifiedBy>
  <dcterms:modified xsi:type="dcterms:W3CDTF">2013-09-06T15:03:57Z</dcterms:modified>
  <cp:revision>123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0.3a | The opportunity cost of medical workers is only slightly higher in the U.S. relative to the rest of the G7</vt:lpwstr>
  </property>
</Properties>
</file>