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DFA-E9F2-4097-93BF-C50EF834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B2C-EFBF-45B4-ABF9-989DC1C9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02B-8630-4E6B-9303-69A0C278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AFB-0E39-44FA-88CE-E1402F61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990-EC22-4D96-9305-FECFA8CF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B18-C64A-4AA7-ADD3-81C0F649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278-EA79-457F-AB96-CE4FD5B5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631-6223-4B32-AA5C-9E58C247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333-D93F-425B-8F98-F74B778C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624-76F9-4EED-9324-4695967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DCC-7AC6-40BB-934E-9FD7B02B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C48D-6F3D-43BB-AB3F-759EDC27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D19F-C1BC-4D05-B0F6-960BA25E8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7Z</dcterms:modified>
  <cp:revision>30</cp:revision>
  <dc:subject/>
  <dc:title>PowerPoint Presentation</dc:title>
</cp:coreProperties>
</file>