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251C-239E-47C2-B7CF-B90E1CFCE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9630-A442-47B5-A19B-71F4E1C4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47DC-237B-440A-BA69-400DF873B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886D-8931-4612-BAAB-0FACF325C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178B-F84D-4408-8E5F-FD046D4E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9FC1-42A0-48C7-8F56-37A8AF01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8BF2-BE81-425C-BDA1-B95345D2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E24B-89B8-405C-964A-90FCBACA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1410-4603-43AC-92C4-453BF197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D292-5398-438E-9106-A51F4381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5F86-29EE-42E7-91D8-0421298D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6278-B4B4-4F74-BA60-304DD1C2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F8D6-194D-46CF-8E73-0D10A7ADF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680" y="76320"/>
            <a:ext cx="913464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6Z</dcterms:modified>
  <cp:revision>30</cp:revision>
  <dc:subject/>
  <dc:title>PowerPoint Presentation</dc:title>
</cp:coreProperties>
</file>