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4149-E3E3-467E-87F8-37C21E1E5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6A | LIFE AND WORKING-LIFE EXPECTANCIES FOR MALES AGED TWENTY YEARS, 1900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CCCE-FB6C-4CD5-BE8E-0BA2D706B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8ACE-B47C-47AF-AB8D-7BC1FBA2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4EC-0BAE-4F43-BEAF-44DE260E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3B7-8606-4D3A-9255-0801D23C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B0E-926D-4DF3-8718-369E7106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9621-01BC-45A8-BE64-BC89B3F2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184-F02C-4EB9-BEB1-48B0AA7D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7ADC-3A3E-4A7A-9588-397CFA99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6B3A-5E7E-456C-8146-AF548A78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9DA-133B-40E2-A2AE-E43B63C1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7660-B7E2-4453-8808-5A9FCA1E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C037-D762-46C3-B96A-B629C162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5EE-479A-44BC-9271-1D67CCD5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4F49-DE82-48F5-A327-E26B171A5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6a | The health sector helped contribute to increasing male life expectancy over the past century, yet working-life expectancy decli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ditional years of life expectancy at age 20, m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6a | The health sector helped contribute to increasing male life expectancy over the past century, yet working-life expectancy declined </dc:description>
  <dc:language>en-US</dc:language>
  <cp:lastModifiedBy>Jia Yao</cp:lastModifiedBy>
  <dcterms:modified xsi:type="dcterms:W3CDTF">2013-09-06T15:04:16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6a | The health sector helped contribute to increasing male life expectancy over the past century, yet working-life expectancy declined </vt:lpwstr>
  </property>
</Properties>
</file>