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0E1-20EB-4B25-8CBF-3070B15E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CDA-804B-45B3-82D4-A5E52A45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CB5-4369-4CBA-8235-952C9A08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C3F-9F59-4D12-A86B-C00D5DD6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509-007A-4986-A846-E6C76241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5FD-A1F5-4847-AA29-F2FBF79E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75E-073C-40A8-8A22-6E5FB550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2FA-0442-4A85-98F9-B929E77B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196-6EA0-4B59-8144-FFE86830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9B2-FAB7-4093-83D1-92082CF6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C6B-CAC2-431D-A11F-A24E161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02D-2FBD-4577-8B4D-9BD04D8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60B3-08D2-40E5-AD87-6843D916C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9884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6Z</dcterms:modified>
  <cp:revision>30</cp:revision>
  <dc:subject/>
  <dc:title>PowerPoint Presentation</dc:title>
</cp:coreProperties>
</file>