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8E59-E1DE-492E-B81B-E23E0A3EF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5B | AVERAGE ANNUAL WORK HOURS FOR ALL CIVILIAN WORKERS, ALL PRIVATE INDUSTRY WORKERS, AND SELECTED COMPONENTS OF THE HEALTH SECTOR, 1987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5430-E990-402C-A7C7-1290C38E1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ACE-7EFF-4DC6-B33A-2BAC1833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AB1-CE1C-4D43-B8DA-E7FF7E19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37C-E669-4B96-80CE-D534775A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E927-6F7C-43D7-8562-8337C729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30C-34F3-4664-9DA6-7C12232A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94B-801C-4816-B6EC-C6DA5213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565-DF41-46D1-8B1E-BE71198C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D90B-207C-49AF-B05B-B2E385EA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675-B6C8-46F2-9020-34A299E9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752-E1CB-46D8-B98E-5B8F63BC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E888-5FE4-41FE-878D-187CBED0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AC6E-84B5-4D0C-8E81-B1B9163A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778E-7CE4-4554-BF78-B8AA79DAE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5b | Annual hours per worker have declined in long term care facilities during the past decade, but have generally risen in hospi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work hours per employ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5b | Annual hours per worker have declined in long term care facilities during the past decade, but have generally risen in hospitals</dc:description>
  <dc:language>en-US</dc:language>
  <cp:lastModifiedBy>Jia Yao</cp:lastModifiedBy>
  <dcterms:modified xsi:type="dcterms:W3CDTF">2013-09-06T15:04:14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5b | Annual hours per worker have declined in long term care facilities during the past decade, but have generally risen in hospitals</vt:lpwstr>
  </property>
</Properties>
</file>