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4E8-D410-4F67-B61F-8284D489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054-EDEC-40EF-8685-DCD1E0EE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0F9-88E8-4C27-979A-D7FB8774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60F-DD6B-4F8E-B7A9-D217A36A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033-0E05-4733-BED9-A6FBBDA4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D3A-340C-4E6E-BFC0-7271944B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3DD-1798-48A8-9064-5AFD8031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066-394F-469D-933D-D8B3F5A6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34E-5666-4ABD-899A-5A07E1C8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A76-8241-479B-8AB6-E9F28048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FAD-72E3-4B4C-96D1-888BC65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39E-0808-416E-ABAE-8E9A070E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E978-15CE-46E5-9323-6467E24E3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4Z</dcterms:modified>
  <cp:revision>31</cp:revision>
  <dc:subject/>
  <dc:title>PowerPoint Presentation</dc:title>
</cp:coreProperties>
</file>