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A6C2-6B45-4D6B-96AD-022768E71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B | AVERAGE ANNUAL GROWTH IN EMPLOYMENT FOR DETAILED COMPONENTS OF HEALTH SECTOR AND TOTAL U.S. EMPLOYMENT, BY DECADE, 1970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1B05-7981-46D3-9201-CBA2FA2F2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24E-42EF-4BC1-813A-AF6763D4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602-39EB-4BE8-86DC-7A99FE2A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4BB-1EB3-4B78-B631-2B5A5778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384-E717-460F-99C7-472CE0A3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111-F0FE-4BDD-B235-E0D5C4D2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5BC-B723-49F2-9A17-9E75EAB0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4C5-21A5-45F0-8B20-D1A04F73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63E-3712-4095-BC87-89408A8B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724-3B76-4F15-AFE2-76234E98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D1C-FB9C-4A44-BFCD-BB703F68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A18-2E3E-4DAE-B17A-001DF19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690-8CD7-4880-BB77-5352AD4D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3873-788B-4768-ABA0-AB9A76293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1b | Employment growth has steadily grown smaller since 1972, with the exception of hospitals, where worker growth rate increased since 200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4731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total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57200" y="548640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b | Employment growth has steadily grown smaller since 1972, with the exception of hospitals, where worker growth rate increased since 2000.</dc:description>
  <dc:language>en-US</dc:language>
  <cp:lastModifiedBy>Jia Yao</cp:lastModifiedBy>
  <dcterms:modified xsi:type="dcterms:W3CDTF">2013-09-06T15:03:4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b | Employment growth has steadily grown smaller since 1972, with the exception of hospitals, where worker growth rate increased since 2000.</vt:lpwstr>
  </property>
</Properties>
</file>