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371-23D2-4A56-8D60-DFF4A455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70E-261C-493E-80E2-3192B62C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078-71B7-48D4-B647-6BEA3875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279-FDE2-409B-AD96-FE17012D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FE9-5303-4440-A343-5A3CB00F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AB4D-0263-4E1E-B763-7A4072D5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38A-C1EB-4BFF-A406-65992114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B13-68A3-44AC-9A8E-8475A35C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3A70-CC6E-47F3-95F2-565701E8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80F-73E8-4A39-830E-180F4AD6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F3C-9D23-4B51-919D-C512EFB1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268-E31F-4FA9-9119-8110076A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8C34-A4EC-49F6-B48E-7A84F9F27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7Z</dcterms:modified>
  <cp:revision>31</cp:revision>
  <dc:subject/>
  <dc:title>PowerPoint Presentation</dc:title>
</cp:coreProperties>
</file>