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1055-35F5-4380-925B-0D108313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E458-83F2-4113-B1EF-487FE7C0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7494-6813-4AF4-AF5F-ABAF7354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ECF-9FB3-4257-8061-28E43C77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6CA-40AA-410A-B903-F3D4F44B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6FC-6E75-4E96-89E8-4EA69D94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FFFF-C901-4FCC-9F11-3628BCF5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10E-565F-4E2D-BD0A-CA2687BA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1BA-8FD5-4ABF-972A-ECBBF71A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26B-D929-4ACF-8FF2-87DB363D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28C-715C-490A-AFBD-39C0E8F3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B4C-959F-4BCC-A480-3BCFD042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81A9-8F1B-42DF-AA75-F64AC251A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98320"/>
            <a:ext cx="9124920" cy="56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0Z</dcterms:modified>
  <cp:revision>30</cp:revision>
  <dc:subject/>
  <dc:title>PowerPoint Presentation</dc:title>
</cp:coreProperties>
</file>