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A7DE-F39F-4878-83E0-A4B0A3013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DC73-DDE6-44E9-946F-5FEFD1B5A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47BF-04F2-4793-8165-BB189A7BD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1D60-D7E1-4A48-AE7A-ED53EC43B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0594-1023-40E2-9824-586F989AA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76BA-B979-4227-926C-703B6D40B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650D-8811-4DE6-9F84-376863D77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1DE5-21AA-4BCC-B8C2-9A0C9B560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AA9D-E809-4893-9231-6BBB2B77A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0AD4-220E-4E5A-8F96-597F5285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4620-9976-450B-8F6D-14820382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663C-2725-4194-8E9B-DFEF7CC0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C0B43-156D-492C-AB27-A05C6FE0D2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6480"/>
            <a:ext cx="899928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1:08Z</dcterms:modified>
  <cp:revision>31</cp:revision>
  <dc:subject/>
  <dc:title>PowerPoint Presentation</dc:title>
</cp:coreProperties>
</file>