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9731-6EF9-407A-B90C-CF8D04EF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E64-D17F-4190-97D3-187905E5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C3AE-5F5C-46CD-934D-BAECCFB1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66A1-2E7E-4FBD-931B-2DB2185F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B9B-709D-425A-ABEA-E5011366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853-9F2F-49F3-AC8F-3FB9CF08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513-EAC0-4D3A-A89E-3E10F0EE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71A-C387-457A-9CC9-D04294EE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428-9BD2-4E57-8970-B4A589DA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136-AE84-4E0F-A6AC-AC6BF86A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0F05-940E-4ED1-BC80-BB7B2332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FFA-6898-45CD-A6B0-6C2BD602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9069-1A5F-4A88-85F8-7693A249B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98320"/>
            <a:ext cx="9124920" cy="56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0Z</dcterms:modified>
  <cp:revision>30</cp:revision>
  <dc:subject/>
  <dc:title>PowerPoint Presentation</dc:title>
</cp:coreProperties>
</file>