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F1D4-CEAE-4258-9859-C2F36CEF2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A | 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42E1-6B64-43FB-BDBB-1311B1CF3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23C-A176-46FE-946F-4F649D7F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E82-2731-4B75-8859-F491AE3D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B4A-3EC7-43B5-9715-8D9BEF99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8C3-8C92-4DFB-862B-AB6AF53A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80E9-1852-4F99-89BA-9130940B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B6FD-4471-4D2D-9E7F-B14B7574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9B0-8AF9-4CAB-A881-2C505B58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4AD-0F94-4C95-89DF-C8569F5D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855-9B95-40E9-9965-83DB5979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486-BA97-45AD-A4EE-D4ED46C9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679-598A-4D00-9DA0-AE46A576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37C-AF0C-49E1-B9EA-E4EBB8AD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B949-3B0F-4B11-B1AB-F8F9B2DA7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a | Females account for more than three-quarters of health sector workers, compared to less than half of civilian employment over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a | Females account for more than three-quarters of health sector workers, compared to less than half of civilian employment overall </dc:description>
  <dc:language>en-US</dc:language>
  <cp:lastModifiedBy>Jia Yao</cp:lastModifiedBy>
  <dcterms:modified xsi:type="dcterms:W3CDTF">2013-09-06T15:04:05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a | Females account for more than three-quarters of health sector workers, compared to less than half of civilian employment overall </vt:lpwstr>
  </property>
</Properties>
</file>