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2EF6-C6C8-4411-8C3A-4988A1D8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CCE-343F-48EC-98B9-D4B9593F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CEFC-81E4-4170-BA07-07234A2D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363-F2D1-4053-A3B1-E2AC654B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C97-08ED-4130-9343-F6BF60CB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199-437D-4745-ADEB-A4288970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686-1A62-4363-9A1A-7A1C4EF8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16FF-F42A-4E5D-9344-33EBA2DC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5805-73F6-48C7-A6E1-6E8BA707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1ECA-33CF-4771-8CD5-9AB8468A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99A-0581-49F9-8732-471EC3DD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CBA5-A380-4125-87E9-985B7DA9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3153-F4DA-49CD-9053-68DDA170E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4Z</dcterms:modified>
  <cp:revision>31</cp:revision>
  <dc:subject/>
  <dc:title>PowerPoint Presentation</dc:title>
</cp:coreProperties>
</file>