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0D7-34BD-456C-994D-ADDFD04C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A59-8066-4792-90E3-0EAAB644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6C3-4177-4CD2-9A4B-6B7D7D40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E97-B05E-4315-80A0-975922BB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253-B770-4B3E-BEBD-7E9EF0F7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222-017E-435F-83F8-1E795978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D98-3059-45AF-8371-F30214DC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3E5-A0DE-45B3-AC35-8D4DEE60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786-81D5-4DDC-9233-4258D332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424-3E48-47AE-8346-AD3352B0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1F87-F305-4C9F-B413-E3A6B50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28D-FBB9-46DD-8DD1-6863C5EA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BDD9-0CB6-4920-9022-20E6B51BF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144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7Z</dcterms:modified>
  <cp:revision>30</cp:revision>
  <dc:subject/>
  <dc:title>PowerPoint Presentation</dc:title>
</cp:coreProperties>
</file>