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5E45-DF44-4CDB-9094-ED1CC392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2B3E-E6DE-4BE2-B84B-BDA452C9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5DD3-D4D8-47CC-A180-0F56D244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0E64-F853-4814-B5DF-9C529445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5419-DEE4-4383-884E-5DB7C801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2A35-CD20-486D-85FA-FCC45024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0A0A-F2F1-4A43-8A7E-0B2622A9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CA94-F924-4DDD-A563-DAE467E2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ECCE-F36C-40CC-80F0-59CF8C9C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20C8-C57D-4771-8939-1DC9FB9E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E48B-F309-48BF-A0A1-B581D0E3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C452-3B10-405D-B4BE-0F22EB00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5267-F807-4C47-AC33-1777A65DE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01600"/>
            <a:ext cx="910584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8Z</dcterms:modified>
  <cp:revision>30</cp:revision>
  <dc:subject/>
  <dc:title>PowerPoint Presentation</dc:title>
</cp:coreProperties>
</file>