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9F4F-7742-4A16-AB29-CA3168F3A3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1B | AVERAGE ANNUAL GROWTH IN EMPLOYMENT FOR DETAILED COMPONENTS OF HEALTH SECTOR AND TOTAL U.S. EMPLOYMENT, BY DECADE, 1970-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52DE-151C-4AA6-A03F-DFE3F41BA4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FE64-8EFE-4334-A6AC-131B6B95F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3EEE-D301-4AFE-8630-C25F32D7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5FE8-08AE-49C5-AC8A-BF7DC1878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B17E-68F2-405F-914A-B882770BE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E5A6-7D8D-40CA-B9A3-41BDB737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1310-CC0E-4C4C-AE3E-39A6B502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E9A0-8F4C-4458-9FF2-43ABE138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7B60-EE09-4141-BBA6-84B848C8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2797-F6B3-4673-B531-51681921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E110-FF85-4744-8A0B-9C16FB4C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FC0D-FCB5-4139-9B24-E1F6EB31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3F19-A572-4D9F-8E1F-D00D94A2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214F-D747-40BE-88C8-874CBCFB58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0.1b | Employment growth has steadily grown smaller since 1972, with the exception of hospitals, where worker growth rate increased since 2000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473120"/>
            <a:ext cx="85597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57200" y="14479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growth rate in total employees (perce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57200" y="5486400"/>
            <a:ext cx="84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all growth rates calculated through the end of the last year shown in each interval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 services includes private sector ambulatory health services, hospitals,  nursing and residential care facilities. It does not include pharmaceuticals, medical devices, health insurance , or government hospital work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1b | Employment growth has steadily grown smaller since 1972, with the exception of hospitals, where worker growth rate increased since 2000.</dc:description>
  <dc:language>en-US</dc:language>
  <cp:lastModifiedBy>Jia Yao</cp:lastModifiedBy>
  <dcterms:modified xsi:type="dcterms:W3CDTF">2013-09-06T15:03:48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1b | Employment growth has steadily grown smaller since 1972, with the exception of hospitals, where worker growth rate increased since 2000.</vt:lpwstr>
  </property>
</Properties>
</file>