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0353-0124-448B-A6C8-E3B697A07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1A | AVERAGE ANNUAL GROWTH IN EMPLOYMENT FOR HEALTH SECTOR AND TOTAL U.S. EMPLOYMENT, BY DECADE, 1930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2180-92D7-4974-A62F-B59AD30E5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5D2-92CE-4DB4-A52E-4448703A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1C4D-0086-4FB9-AD29-7DD75CB8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F08-2CDB-4752-A69A-13F992CF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71A-B2C1-4D49-9C61-34AA7A72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FFF-D1BC-44D2-9A2F-3F88897A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915F-4D79-4101-9D2A-9E2EF208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29C0-CA54-4874-AA69-B244CC19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8364-DBD4-4DFF-9DF0-2720C991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8FA-56E2-4CBC-8B21-C885FB58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EDE-D0BF-4165-93B8-0644B568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DE6D-027F-41B2-988F-1E36DB81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149-29A7-4F7B-85A6-F5160673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883A-E3C8-4BE3-9BFB-60B637671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1a | For 8 decades, growth in health services employment has greatly exceeded growth in all workers and those in private bus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3716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number of full-time-equivalent employees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5562720"/>
            <a:ext cx="849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all growth rates calculated through the end of the last year shown in each interv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ervices includes private sector ambulatory health services, hospitals,  nursing and residential care facilities. It does not include pharmaceuticals, medical devices, health insurance , or government hospital work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1a | For 8 decades, growth in health services employment has greatly exceeded growth in all workers and those in private business</dc:description>
  <dc:language>en-US</dc:language>
  <cp:lastModifiedBy>Jia Yao</cp:lastModifiedBy>
  <dcterms:modified xsi:type="dcterms:W3CDTF">2013-09-06T15:03:43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1a | For 8 decades, growth in health services employment has greatly exceeded growth in all workers and those in private business</vt:lpwstr>
  </property>
</Properties>
</file>