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EEE0-F014-4573-B25B-FD1506611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B | LIFE AND WORKING-LIFE EXPECTANCIES FOR FE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6AFC-88D3-43C8-B30B-391EDB513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720-80DD-460A-8DA2-801E74DE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F8C-E233-4DA6-A4A9-79C904E3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D3D-5CE4-42DE-A26D-6FB4BA99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011-1C0C-4C8A-9F9F-2300DCB6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653-A580-4EC0-9908-78958E99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5A4-504C-4833-B33B-FA8B0DF8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3B3-067B-4CB9-96A8-95BBDD42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AEA-219B-4273-984B-604C3594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552-8615-4254-A446-12CD363D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B6B-85DD-46BF-A2A5-F987A46D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3BD-4491-4646-AD7C-E58B2471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0A2-BE3E-4901-A9A6-39D69F1F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762A-A863-4429-A8B7-A7E51D545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b | Increased life expectancy for females generally has been accompanied by rising working-life expect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fe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working-life expectancies not available for females in 19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b | Increased life expectancy for females generally has been accompanied by rising working-life expectancy </dc:description>
  <dc:language>en-US</dc:language>
  <cp:lastModifiedBy>Jia Yao</cp:lastModifiedBy>
  <dcterms:modified xsi:type="dcterms:W3CDTF">2013-09-06T15:04:20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b | Increased life expectancy for females generally has been accompanied by rising working-life expectancy </vt:lpwstr>
  </property>
</Properties>
</file>