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A3B5-FF72-480C-85A7-2C2D4A39B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B | AVERAGE ANNUAL WORK HOURS FOR ALL CIVILIAN WORKERS, ALL PRIVATE INDUSTRY WORKERS, AND SELECTED COMPONENTS OF THE HEALTH SECTOR, 198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2B7D-A934-40FF-A2D4-7962E4FED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838-2FC8-4A7D-AA39-6175ACF9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A2E-D45B-4111-AFE7-FCFCC8EE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BC4-C6A7-4402-8DDA-1B1ACC85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2F8-8C2F-4C95-9A2B-36D4AC8E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DF5-A501-4869-90F8-55FA6593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2BB-7864-4C51-AD56-A8522789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1D7-3210-4BDC-A2CF-05BD099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F5B-F831-44FA-9685-2F34D9C5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74D-D9A8-4EE9-B8EC-0FBBDCD2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B9D-AD6D-433D-AD26-64A29A64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E18-39C9-4EAF-BC98-FA03C613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0AB-B08F-49A3-AB1B-4CDAA38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1E0B-0CA0-4E6B-A2BF-0F489C9B6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b | Annual hours per worker have declined in long term care facilities during the past decade, but have generally risen in hospi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work hours per employ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b | Annual hours per worker have declined in long term care facilities during the past decade, but have generally risen in hospitals</dc:description>
  <dc:language>en-US</dc:language>
  <cp:lastModifiedBy>Jia Yao</cp:lastModifiedBy>
  <dcterms:modified xsi:type="dcterms:W3CDTF">2013-09-06T15:04:14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b | Annual hours per worker have declined in long term care facilities during the past decade, but have generally risen in hospitals</vt:lpwstr>
  </property>
</Properties>
</file>