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F271-8A18-4899-9F2E-C1B4BF6621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4B | FEMALE PERCENTAGE OF ALL EMPLOYEES BY HEALTH SUB-SECTOR AND TOTAL CIVILIAN EMPLOYMENT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6725-8BBB-47DF-B980-45A95E9294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9979-09E3-4B32-B1FA-D01FE067D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8887-3F27-414E-BD37-F59FC924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2582-9831-41CD-850F-4F44148A0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A09B-E096-46FB-90A8-3BD530BD9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6E6F-C3C5-4743-BBEB-0E0322C4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5EF8-E389-4FBB-9C6E-9352309B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8EDF-9965-4B86-9387-8EC5900C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B181-662C-45FA-85A4-5CFBE80C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EE92-C926-4956-A7AD-9FDF9DC8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D6F5-2CE1-4C91-8ED7-CAF5D103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389B-3AC1-4E31-A341-EA266BC0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FE94-6E90-4BD2-A1BE-104A5C39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11FA-C6E3-4B14-9202-ED29C63EA5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4b | Females tend to be concentrated more in healthcare support occupations than healthcare practitioner or technical occup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092240"/>
            <a:ext cx="90169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4b | Females tend to be concentrated more in healthcare support occupations than healthcare practitioner or technical occupations</dc:description>
  <dc:language>en-US</dc:language>
  <cp:lastModifiedBy>Jia Yao</cp:lastModifiedBy>
  <dcterms:modified xsi:type="dcterms:W3CDTF">2013-09-06T15:04:08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4b | Females tend to be concentrated more in healthcare support occupations than healthcare practitioner or technical occupations</vt:lpwstr>
  </property>
</Properties>
</file>