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4B077-5CED-4D2D-9216-D70E6E51F9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5A | AVERAGE ANNUAL WORK HOURS FOR SELECTED COMPONENTS OF THE HEALTH SECTOR,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32EFB-C124-4F6E-A704-8796213ACB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4287-F2D1-4F36-A324-47BA0FF7F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5C7C-A8FE-4E40-8B4B-C7CA2CC72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0A15-AAFC-471E-A23A-B05F8C6EC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57AB-157D-4C86-A67C-ACB648F40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837B-D070-4F9B-A35B-C9C32353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8AF7-533A-46E0-AE35-32AC8482F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8195-8C50-45D6-8EC8-DFC6D848B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F73C-5137-426B-AB48-E7369B163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756E-E2CF-4B62-80E3-C592AB59F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6CDD-422A-42B2-8315-AC074B6C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C128-03F7-4290-A17B-2DEC8BE5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8E6C-53E2-4DCD-9669-98DFD3AA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81F8B-99C2-4E33-A246-6587B26CB6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.5a | Across the health services industry, annual hours per worker are shorter than in private business or general econom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91960" y="1549440"/>
            <a:ext cx="856008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44792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verage annual hours of work per employee (2009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5a | Across the health services industry, annual hours per worker are shorter than in private business or general economy </dc:description>
  <dc:language>en-US</dc:language>
  <cp:lastModifiedBy>Jia Yao</cp:lastModifiedBy>
  <dcterms:modified xsi:type="dcterms:W3CDTF">2013-09-06T15:04:11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5a | Across the health services industry, annual hours per worker are shorter than in private business or general economy </vt:lpwstr>
  </property>
</Properties>
</file>