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B6B4-A8C8-4201-AFBF-B4D64A8CD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2B | HEALTH SECTOR EMPLOYMENT AS A PERCENT OF TOTAL CIVILIAN EMPLOYMENT IN G7 COUNTRIES, 1996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7F77-85F6-47DF-B936-CC296F728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66E7-32AB-4FCF-847F-70ECB8F9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3B67-3F08-45DA-AA7D-C6261DF5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C38-A733-4960-8CFD-A10FB52F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970F-E252-42A0-A0EF-FFD2A71E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1B19-61E2-4061-B98D-1945F02C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62F4-057D-4DCF-BEE0-E01D6DEA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D93D-0149-4643-A05D-D46FB5C8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66FA-19A2-45AE-BF90-8352B947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2228-9322-4F3E-96D9-A9F3E2EF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95E-CE62-4512-B319-C9E9E307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0A3-9B99-4A11-99B4-D9098FEB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4B4-9293-4795-8F27-6474EE64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F8D2-1EEB-41E4-9B72-692B7894B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2b | U.S. growth in health sector employment relative to total employment has been roughly comparable to elsewhere in the G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371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(CAGR) in number of health /social work workers minus CAGR in number of all civilian workers, 1995-2008 (percent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2b | U.S. growth in health sector employment relative to total employment has been roughly comparable to elsewhere in the G7</dc:description>
  <dc:language>en-US</dc:language>
  <cp:lastModifiedBy>Jia Yao</cp:lastModifiedBy>
  <dcterms:modified xsi:type="dcterms:W3CDTF">2013-09-06T15:05:19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2b | U.S. growth in health sector employment relative to total employment has been roughly comparable to elsewhere in the G7</vt:lpwstr>
  </property>
</Properties>
</file>