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F3EE-62FB-4B23-9D37-34654DEA5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CDEB-AC95-4818-B556-AF0F43030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F79E-2726-42DE-9D0E-A60A30A48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F696-291A-4650-AD81-5D9FEB6BA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D84A-6F01-40A2-BB7C-0686FDBC5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D47B-9AF4-4869-9887-1D9B8A3F9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C216-7261-4C09-8B58-C02B50018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F017-94E0-4FAB-A11B-A16E5B4D9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8CB3-C7C8-4B31-9185-FC4F74242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15B3-F3AC-4F8C-9B50-A654DEBF9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6654-B089-4EA7-B898-F79B67831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226A-37B9-402B-A593-EDE86E4BF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A7547-A371-41C2-B702-E9780975F7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19080" y="1295280"/>
            <a:ext cx="9124920" cy="42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9:40Z</dcterms:modified>
  <cp:revision>28</cp:revision>
  <dc:subject/>
  <dc:title>PowerPoint Presentation</dc:title>
</cp:coreProperties>
</file>