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23A-088A-4633-B736-3824CB7A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5EC-DEBD-469F-8C7A-4A29EF07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2E8-A801-4C2A-B380-3900E7FA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475-D6B5-4518-ABAE-1498CA54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80A-D347-4D24-A6C1-B1182FE9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45E-F76A-40E9-8743-EEA8C106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EC7-C3BE-4D58-B6E5-7BA46336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CB7-F240-414D-A529-762AE79F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A36-27BA-4A8C-BE68-6582ECB0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DF7-4A99-4218-8B4F-4A356B65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0B8-6680-4601-9FCE-D273DED1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CE2-4D4D-4B29-B2DE-D3E2F576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1C0E-A8E8-4287-AE3F-C92CD0778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49400"/>
            <a:ext cx="898848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4Z</dcterms:modified>
  <cp:revision>26</cp:revision>
  <dc:subject/>
  <dc:title>PowerPoint Presentation</dc:title>
</cp:coreProperties>
</file>