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C1D-C3E0-4105-B918-C644C28C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547-D3F9-46A9-8417-E5D756F4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3CC-4161-4889-8215-82AF4E95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FDD-60A1-4C3B-BBCF-CAEDBE51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3B7-87C3-4FC5-B86E-DF13DAE8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72B-ED4A-48AB-A458-FB2142DB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28F-9579-4EA3-98BA-4A195AC1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2CB-B9D3-4010-8C05-F587816A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792-15AC-4D56-A6AB-9EB0466E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D31-EED4-4496-81DC-48B542FE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4F8-2A87-4C31-A2B8-FD9BF16E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90F-3C98-4FF8-9D7F-95C22823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927A-3F4A-4612-BF09-4AC7CBBDB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988920"/>
            <a:ext cx="883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6Z</dcterms:modified>
  <cp:revision>26</cp:revision>
  <dc:subject/>
  <dc:title>PowerPoint Presentation</dc:title>
</cp:coreProperties>
</file>