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737-FE8A-46CD-B44D-38AC5FA0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4ED-F9C3-41D7-BB7D-485D50CC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DAB-A15A-4EC9-98D6-DEED5C9F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441-E094-4B14-BEAA-FE9FF376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3E0-9EA8-445D-A622-3E8D65C5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A75-4538-4EA0-A56E-D1AE438D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474-3852-4014-B46F-1B8CED6D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2F3-754C-437A-8EAB-AF9B6D24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091-ACE0-4CBC-85CD-C5BFE472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9FE-4F45-4DD5-B16E-BD3863BB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407-6A0A-4EE4-96E9-44A7E5A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CF1-795C-4617-91E9-AC8C1315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C2B0-DFB0-4185-8B81-646734F0F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228600"/>
            <a:ext cx="907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8Z</dcterms:modified>
  <cp:revision>28</cp:revision>
  <dc:subject/>
  <dc:title>PowerPoint Presentation</dc:title>
</cp:coreProperties>
</file>