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1F5E-3640-40DF-B8E5-720F7D74D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838A-CF61-40C3-9390-E60261F7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62C3-DCC2-4D2D-B7F0-9B64030E1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E2F5-064B-41FD-ACB0-553A5F4B6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D3FF-0267-498F-A9D3-88129937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2AAE-C3EC-4C79-B705-8B20A612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B752-3044-4C87-B9C4-0BB5CAED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A681-45D3-4271-8F07-DF1FCE2F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F45E-8A72-463D-8BE6-E5C86E88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AA5D-3746-4AE6-B8B6-880217DB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EB79-09E4-44A8-A54B-13513708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3069-795F-4295-9A23-FE235A08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9B63-C882-4897-B189-19C0D9EE27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240" y="380880"/>
            <a:ext cx="90835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4Z</dcterms:modified>
  <cp:revision>28</cp:revision>
  <dc:subject/>
  <dc:title>PowerPoint Presentation</dc:title>
</cp:coreProperties>
</file>