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CC3-356A-403C-87AF-3981DD44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CDE-4B8B-4CFE-8F17-C6A79351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392-4A24-4EBF-9F85-6F2D5240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199-C4EA-40F3-AFE1-658088CE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79A-8D2D-448F-8E6F-F3366A71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61B-CADB-49C0-B7B3-4B07CEF6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3D1-C6EF-4C92-ABC0-326F30C0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5E5-7675-4CFD-A465-750328D9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E55-EA79-4243-A991-BBB7FBA4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E38-62A9-43CD-8B2A-23C4CEC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AFA-5847-4FE6-AD1B-29681CB5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FC7-FC2E-4D93-8F88-79E441DF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7271-017B-4833-9854-7C5B37F12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234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9Z</dcterms:modified>
  <cp:revision>28</cp:revision>
  <dc:subject/>
  <dc:title>PowerPoint Presentation</dc:title>
</cp:coreProperties>
</file>