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B6FE-890F-4C77-A9CB-DC0E99831B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6a | Personal Savings and Personal Health Consumption Expenditures as a Percent of Disposable Income, 1947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F1AF-55F0-488F-811D-B5F4625FC0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12B5-C3B3-46D3-8B9D-DAD3E5880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0357-B53E-4AAA-A23F-45B42CC8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F66E-30AB-4A94-83F1-D1F8DDE35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B9F2-F581-4916-B5F9-B518DD3F8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5E3B-8EEE-4E53-BE32-052AE29E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F80C-35D0-46BB-BD17-1B11F08D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1125-ED7A-4651-9278-C9C64F56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BD24-1717-4242-9A21-92A13712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3590-FEB8-4E75-81F5-06B8353A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5FD2-E1B5-4CDF-9E39-86068DF9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54BE-6A97-4E6D-B554-44A67F15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D4D4-6801-4001-8EFF-6F4FA33A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3076-B1B8-4117-ABBB-BA7D0F37B0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9.6a | The share of income going to personal health care and personal savings both increased prior to 1982, but savings generally declined thereaf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85800" y="12193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disposable personal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6a | The share of income going to personal health care and personal savings both increased prior to 1982, but savings generally declined thereafter</dc:description>
  <dc:language>en-US</dc:language>
  <cp:lastModifiedBy>Jia Yao</cp:lastModifiedBy>
  <dcterms:modified xsi:type="dcterms:W3CDTF">2013-09-06T14:59:30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6a | The share of income going to personal health care and personal savings both increased prior to 1982, but savings generally declined thereafter</vt:lpwstr>
  </property>
</Properties>
</file>