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36E-0C25-44D1-A54E-937BB992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6A7-BB6B-45B9-B69B-9BEEA262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29A-5299-4EC0-BF91-D3AD4B44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2BD-2F45-4681-AA7F-3964B999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573-5719-40C1-9235-3B2CC8D0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ED6-05AF-4CD9-9A02-9AD920AB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6F5-94C6-4ECF-9127-10063A3C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111-6A18-4BF1-9837-76C688FE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604-2A85-444D-BB43-999B18B8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986-4145-4EDD-86B7-DE81D6E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3FC-D43F-4E30-9AAB-53ACFADE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61C-480A-4988-8ADC-9E38EC66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903B-376B-4521-8F1B-BF5FD8401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807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2Z</dcterms:modified>
  <cp:revision>28</cp:revision>
  <dc:subject/>
  <dc:title>PowerPoint Presentation</dc:title>
</cp:coreProperties>
</file>