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2F3F-5B70-4779-8D7A-9634F3F6D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a | Multifactor Productivity Growth in Health Services, 1990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293B-F14C-4EE4-8CD7-DD5C6E601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263-8C6A-4C6C-9123-6A1DCD6F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B7F-D172-450E-B651-59F15EDA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C8E-92E6-4ECA-A1B9-8CC75F18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913-DD84-4434-B1D9-7C984A4B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4FB-FEA8-4499-9A8E-2EAB8847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2A2-D135-42EF-AD74-A837747C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B74-1BCC-4EEA-A393-4673AC66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F96-49CC-49F1-891E-DACE30CD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7A6-47D7-4418-8443-9CF1ABE0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1F9-7626-476E-84AC-5957EB5C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6D5-2C40-4563-AAE3-626861A1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233-094C-40E4-BCB9-F1D5C69F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EB67-774A-4B19-A1D3-677F3983A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a | Multifactor productivity growth has steadily increased in ambulatory care over two decades but still is negative for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rate of change in multifactor produ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a | Multifactor productivity growth has steadily increased in ambulatory care over two decades but still is negative for health facilities</dc:description>
  <dc:language>en-US</dc:language>
  <cp:lastModifiedBy>Jia Yao</cp:lastModifiedBy>
  <dcterms:modified xsi:type="dcterms:W3CDTF">2013-09-06T14:59:35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a | Multifactor productivity growth has steadily increased in ambulatory care over two decades but still is negative for health facilities</vt:lpwstr>
  </property>
</Properties>
</file>