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E4BFF-1166-4D96-BD3B-185DF41ADC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9.2b | Output per Hour and Output per Unit of Input Indexes (1987=100), Health Facilities and Ambulatory Health Care Sector, 1987-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BE042-1E1B-4DDD-B6F7-D7FDCB44AB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EAF9-D1CE-4C88-8A3F-02408D5D4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DA88-69A4-4AD6-B967-C4F5E40B6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C997-0682-4A49-A1E4-A9404234A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D9A1-1B63-4530-BA92-30D46D9EB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A1F2-2454-45C5-B297-07ABB27D5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DD57-5E28-4564-A87B-D8FEC8368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E156-0297-49F7-AF06-AC652EA1C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03DD-0EE8-4F8A-B2BB-3FE637976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EDF3-E821-4598-A5C9-366A43D82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23C9-C899-4906-AF05-0A4AC1FF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E4E8-8220-43AE-AEBA-E2E829EF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BF0C-B62E-40E7-B544-B9FF6FA7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4355A-A567-45C9-BB79-BBDA907AC5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2b.  Over 2 decades, health facilities hourly output rose even as productivity per unit of input remained relatively fl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015920"/>
            <a:ext cx="85597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TextBox 6"/>
          <p:cNvSpPr/>
          <p:nvPr/>
        </p:nvSpPr>
        <p:spPr>
          <a:xfrm>
            <a:off x="609480" y="5694480"/>
            <a:ext cx="842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Outpatient = ambulatory health care services; inpatient = hospitals and nursing and residential care facilitie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2b.  Over 2 decades, health facilities hourly output rose even as productivity per unit of input remained relatively flat</dc:description>
  <dc:language>en-US</dc:language>
  <cp:lastModifiedBy>Jia Yao</cp:lastModifiedBy>
  <dcterms:modified xsi:type="dcterms:W3CDTF">2013-09-06T15:00:37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2b.  Over 2 decades, health facilities hourly output rose even as productivity per unit of input remained relatively flat</vt:lpwstr>
  </property>
</Properties>
</file>