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622-192E-4DA3-84EA-84770A22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10A-E26A-4F02-94DA-A95F9FE7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E81-225B-4EF2-A8C2-795D4EA7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AE2-7F2C-47BA-8D58-6F59103D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D9A-FA51-4EBD-9FB2-A7D7CD6D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0439-7B65-4D17-B684-1AC4683F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7CB-681A-4D10-A980-F9A889D2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136-F3B5-4815-8E71-F770C48A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4D5-010D-42B4-B36D-59C03898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6B2-F3EA-47CA-9738-D2F0DAA2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372-FB39-4D9D-9C38-C30BA45E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A35-D33B-4510-ABB7-296355E2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6274-F790-4B5F-A1DA-9F5E4532C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0600"/>
            <a:ext cx="91011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51Z</dcterms:modified>
  <cp:revision>28</cp:revision>
  <dc:subject/>
  <dc:title>PowerPoint Presentation</dc:title>
</cp:coreProperties>
</file>