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31A-45EC-4A69-A858-01D039C9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DA9-940E-47C8-B6AE-E5DF87C3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CCB0-4A88-4284-ACFF-80AE90C5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0AA-A207-4F3F-8927-838B99BC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72A-DC72-47E2-8503-A44C1971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C74-C814-4C9A-85B5-39E66549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A7B-B8F4-4472-B103-4D7B3F02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B5F-CC41-49BD-B374-DA82D0DD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BBB-E37D-4F35-ABFD-32234EC5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0A1-C9AD-4994-ACD5-55B2D79F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FF5-E321-4C81-9994-1CD5AFB9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38E-EF98-4214-A041-39B6AB21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1BB2-3166-426C-9CF1-75D9DCB5A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320" y="1371600"/>
            <a:ext cx="9099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5Z</dcterms:modified>
  <cp:revision>26</cp:revision>
  <dc:subject/>
  <dc:title>PowerPoint Presentation</dc:title>
</cp:coreProperties>
</file>