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6320-8781-45F2-933E-515B1D44A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A | PERCENTAGE OF WORKERS AGED TWENTY-FIVE TO SIXTY-FOUR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13A5-07FB-4201-B4D3-7AFF7C3FE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417-7DA6-42F4-8FED-B650D99C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C4CC-E557-45AF-874D-CDB6CA19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C3D-0677-450C-9A69-BF8F10F7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110-069D-492D-B07F-E32A4CDA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D41-4A90-43FC-A9DE-BE97FB21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3B0-A323-45A8-97A5-0CD55B88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A6A-738B-486B-B0CB-9C9C42AC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52F-A2F3-44DD-83CE-1AB9DBEE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8AA-F114-4366-9BEE-AC61DFF2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9C0-5542-447D-B5D2-7921A0D5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553-95A6-4A9F-84B8-51DDE6CF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E14-DF28-428E-9296-18B89C9D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F4BA-718F-4DD6-A513-285BEFEA9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a | For both men and women, education levels are much higher in health services than among other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388800" y="1393920"/>
            <a:ext cx="8577360" cy="5514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55680"/>
            <a:ext cx="1905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with education level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a | For both men and women, education levels are much higher in health services than among other workers</dc:description>
  <dc:language>en-US</dc:language>
  <cp:lastModifiedBy>Jia Yao</cp:lastModifiedBy>
  <dcterms:modified xsi:type="dcterms:W3CDTF">2013-09-06T14:59:14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a | For both men and women, education levels are much higher in health services than among other workers</vt:lpwstr>
  </property>
</Properties>
</file>