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AFEF-67C4-4D01-9A8F-A54C1B8BB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b | Net Stock of R&amp;D Capital per $1,000 GDP or National Health Expenditures (NHE), 195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E028-DEF3-49AE-892F-5421F098C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A04-E1BE-46C1-8C0E-E6AA924F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3C4-5E25-407A-B98A-A64D7483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4EB-A154-4AAE-B2CF-8F75F6CB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9253-69C1-42D1-A6AF-A1FAF651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BA9-1823-4CEA-8454-3051FD69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AD7-0EFD-4673-9D70-49142650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795-C42B-4354-95C8-7942DADA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767-6CB2-4AD0-9FD7-5255BEED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260-0726-436E-A433-A32FD00B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5E0-884A-4895-ACB2-689B8A9F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D32-15D0-4A87-A8C2-E32D5C55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790-605C-42E0-B5ED-B11C3952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5C98-F787-4E6C-A79F-6A2B5B364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b. | The ratio of R &amp; D capital to GDP is higher than the ratio of health care R &amp; D to NHE; the reverse was true from 1960-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83487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 &amp; D expenditures include both private and public sector spending, regardless of where the R &amp; D was actually condu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b. | The ratio of R &amp; D capital to GDP is higher than the ratio of health care R &amp; D to NHE; the reverse was true from 1960-1979</dc:description>
  <dc:language>en-US</dc:language>
  <cp:lastModifiedBy>Jia Yao</cp:lastModifiedBy>
  <dcterms:modified xsi:type="dcterms:W3CDTF">2013-09-06T14:59:2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b. | The ratio of R &amp; D capital to GDP is higher than the ratio of health care R &amp; D to NHE; the reverse was true from 1960-1979</vt:lpwstr>
  </property>
</Properties>
</file>