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4A99-480A-43D5-8792-6457C06046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3C | ANNUAL GROWTH IN MEAN INCOME OF WORKERS 18 AND OLDER WHO WORK FULL-TIME YEAR-ROUND, BY EDUCATIONAL ATTAINMENT, 2003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BA6A-9493-49D9-BBF0-EAAEB78C78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D31E-6348-4ECF-AAA9-A0E012BF0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77B4-0AB7-45AD-9450-CE650008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02A5-F96B-48B8-A41F-BB8DA6ABE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3A7D-2CEA-4A1A-9E3F-0BD6467C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A5E0-E095-4E3A-AABF-81FAC1CB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D016-884A-4C03-9CA0-DF03EF9E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CB8B-6E99-40EF-BAA5-648D5351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D416-3C7C-40D4-9618-6073FAF7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C6E9-185F-4B68-A5D6-EF693335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A6BA-8283-489A-90A0-CA95B7DC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85A3-37E5-41F9-A3D7-6F0FAA5B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F35C-C459-4F50-A1F7-A9780A18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8F37-818D-4832-8944-389DAC6D16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9.3c | Excepting those at the lowest education level, recent growth in health sector earnings has been slower than for other work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77840" y="1168560"/>
            <a:ext cx="90169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380880" y="990720"/>
            <a:ext cx="19051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nnual Growth in Mean Earnings of Full-time Year-Round Workers 18 and Older, 2003-20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3c | Excepting those at the lowest education level, recent growth in health sector earnings has been slower than for other workers</dc:description>
  <dc:language>en-US</dc:language>
  <cp:lastModifiedBy>Jia Yao</cp:lastModifiedBy>
  <dcterms:modified xsi:type="dcterms:W3CDTF">2013-09-06T14:59:17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3c | Excepting those at the lowest education level, recent growth in health sector earnings has been slower than for other workers</vt:lpwstr>
  </property>
</Properties>
</file>