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6030-9735-4220-BA13-4058CA158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F003-93A8-485B-BA6E-952754C4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8F91-BF69-4859-9B64-10A9A08C7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0F34-7F52-40DA-9982-3C240FE79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499B-B559-4791-B2D0-09478860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DA80-731E-4759-AFD3-B56F8FD0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E0F7-8380-4348-BE81-BD057C8C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6F1F-2C90-4A61-8FEF-01B33C20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C408-7FD4-4C92-976A-9F23A2D9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0F78-E5E9-4D49-9EB7-9E47B6D1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958F-717F-41A3-9CBD-7F0AC96C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D1BF-010F-4DC8-A13F-13D71DB1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56DB-9F70-4B01-A94E-C7660FB295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6360" y="228600"/>
            <a:ext cx="9071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8Z</dcterms:modified>
  <cp:revision>28</cp:revision>
  <dc:subject/>
  <dc:title>PowerPoint Presentation</dc:title>
</cp:coreProperties>
</file>