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9761-9980-46E8-A548-BDD660FE9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0FCC-6F24-400D-9013-DABACBBD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4CA1-985C-4694-BE04-DD7CEDA22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F7E6-66DD-4CE3-A218-0A6E2C1E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3D6B-8629-417F-A322-A04765F5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4AF8-BB7A-461C-8B80-157F7289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AF9D-F71A-4C9E-8435-55DF3CC3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A800-A70B-4128-8753-9C0A37B9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BA21-CF5F-4617-A02E-C94E4DD7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C1E9-8B9F-4007-8A42-69B7F783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A057-A86D-4DEE-BE07-0346FC07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EE5F-0ADF-4675-B56B-F738534F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0A8C-FB2F-471D-A57C-DB4BEA3B5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20600"/>
            <a:ext cx="910116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51Z</dcterms:modified>
  <cp:revision>28</cp:revision>
  <dc:subject/>
  <dc:title>PowerPoint Presentation</dc:title>
</cp:coreProperties>
</file>