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431-BAB6-46E8-9E27-694A242E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727-B4D3-4CA9-8C34-15DE8B5D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1DA-62AE-4AA9-9F5A-90E70ADB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4BC1-EACB-4A27-A2D4-288C48EE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FE5C-704B-4B20-9F99-6D32C7F7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5C4-9C5B-42A9-97AE-739D8AAE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3B2-9471-4C6C-A523-5576CB5F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4A2-609F-4710-89AD-F9BF1DD0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E1A7-90AC-4D02-8BF1-A294ACB8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C26-9584-454B-8604-A7D36471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383B-C58D-4915-9772-5898E800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311-3B3D-48F3-9381-9DE1086C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1502-D757-48C9-8A97-87CD0F63B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9840" y="152280"/>
            <a:ext cx="90043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7Z</dcterms:modified>
  <cp:revision>28</cp:revision>
  <dc:subject/>
  <dc:title>PowerPoint Presentation</dc:title>
</cp:coreProperties>
</file>