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30C-A7FD-4230-B376-A695FFAA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5AB-1546-410C-9BB7-655BD85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2E7-9599-49AD-B068-139B067D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99D-204C-4BA2-98EF-C78BCD82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61F-B6C3-477D-B2CB-EDAF3279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7A7-5E68-41BD-BD83-2A5894B7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697-CACC-46A5-A08E-39EB1068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A15-4A59-47C1-BB19-AC98D78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682-B6BD-4767-A0B4-95E29A84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F4-D0B9-4194-B0F2-6883863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5CA-E760-4865-8246-3634D941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B00-0520-49CD-9E1B-A8F4536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2BAD-9345-4577-A34C-EE68A56F4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09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7Z</dcterms:modified>
  <cp:revision>28</cp:revision>
  <dc:subject/>
  <dc:title>PowerPoint Presentation</dc:title>
</cp:coreProperties>
</file>