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EED2-D372-4A75-8810-A290E291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169-2998-41A5-A56B-655B4DDA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A35-457B-46C9-948E-42E034FC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438-6867-426D-9762-13D47A01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8D0-8490-473F-8F12-7219D3C7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79B-DC59-431F-A9C6-4DD16013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F58-8970-489A-A47D-23174457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50F-40CA-43B5-B0B2-081940BB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4BBE-F426-47BA-B51C-5EEAD915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D12-3DD0-4940-9E5B-A925BFBD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F90F-1FFB-41A8-A17E-EEEAB8DB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A5F-7145-4EF2-9DAB-E252ACEC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3335-44E5-4113-A385-6077A80ED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090440"/>
            <a:ext cx="906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1Z</dcterms:modified>
  <cp:revision>28</cp:revision>
  <dc:subject/>
  <dc:title>PowerPoint Presentation</dc:title>
</cp:coreProperties>
</file>