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69DE-E247-4724-99FB-54E0FB740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919E-B0D8-4BA3-B06F-5B456F078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9E14-153B-4C04-9680-E885654CF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FDFC-4DE9-4736-BDE6-F58D02140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3F3E-86AB-4C01-B817-1712541FC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0A1E-C266-43A0-A065-BD8022177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6D62-5518-4E24-A935-A68843AAF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11C8-97A9-40D2-935F-2785DF3A4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581D-7AC1-4FF6-9111-82FC1C82B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D03C-7A09-4033-9804-30FE099C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8FE5-40C2-4B69-AAAA-57DEBB25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DA11-7502-4DC3-AF31-190F973C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C6D43-436D-414B-941C-3E6DBEAB50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2320" y="1371600"/>
            <a:ext cx="9099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35Z</dcterms:modified>
  <cp:revision>26</cp:revision>
  <dc:subject/>
  <dc:title>PowerPoint Presentation</dc:title>
</cp:coreProperties>
</file>