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EA55-DE59-4F5C-9435-C47B55FAE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c | Output per Hour and Output per Unit of Input Indexes (1987=100), Medical Equipment and Pharmaceutical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B48B-553F-4D5C-8D75-A222DD985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6D3-6A28-4AEA-97AE-C7BDAED5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4FA-BCF1-49BE-8A3A-ED1C9CD8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ECB-FEE9-49D8-973A-D1DA55EF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C66-D337-4AEA-AC88-F8907E27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935-D5FB-4322-AF94-F80BE511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D33-704D-4B2D-99C9-214A5094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08D-5817-4017-A5BA-6D86DB2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830-BE2B-4412-BDCF-D190B282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54F-91EE-4104-8B17-BD4EFAD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723-42EF-4399-BEB5-B7B03B4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716-E7A7-42FA-B7CD-BFC7960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F48-8C81-49DA-9D36-B58982E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274-69C2-4E5A-9F8A-96E551E11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c.  Productivity has grown much faster in the medical device industry than the pharmaceutical industry, where output per unit of input is fa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48340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c.  Productivity has grown much faster in the medical device industry than the pharmaceutical industry, where output per unit of input is falling</dc:description>
  <dc:language>en-US</dc:language>
  <cp:lastModifiedBy>Jia Yao</cp:lastModifiedBy>
  <dcterms:modified xsi:type="dcterms:W3CDTF">2013-09-06T14:59:10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c.  Productivity has grown much faster in the medical device industry than the pharmaceutical industry, where output per unit of input is falling</vt:lpwstr>
  </property>
</Properties>
</file>