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D839-F00E-479A-8A13-87C0983B0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B | MEAN INCOMES OF WORKERS 18 AND OLDER WHO WORK FULL-TIME YEAR-ROUND IN HEALTH INDUSTRY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665-0300-44D2-A608-F1E825536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600-9FEB-4C73-8DF6-4C5E18AD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F4F-B555-4C63-9C13-090FD1A7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623-CFC1-4B5B-8CB3-A23EDD4D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681-4CD0-44DC-856C-94FAD661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F17-77AC-4ECE-B911-CD5D1F6D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BD2-BB72-482B-AB19-FEB5CCF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371-EF03-47B3-9CA9-D21366C1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372-7948-426E-9C78-10937C4A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F42-8E9D-4189-B1F1-96761940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79E-C790-4F65-AEDE-1C29BBE6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A2A-2C4E-4043-B97F-FDC83DE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306-28E4-4386-8307-76468CEF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3A54-3A5D-4F23-B87D-A5F6DE14B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b | Average earnings for full-time, year-round workers in the health industry generally increase greatly with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177840" y="1168560"/>
            <a:ext cx="87883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990720"/>
            <a:ext cx="19047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 : Average earnings for full-time year-round male workers with high school diploma =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b | Average earnings for full-time, year-round workers in the health industry generally increase greatly with education</dc:description>
  <dc:language>en-US</dc:language>
  <cp:lastModifiedBy>Jia Yao</cp:lastModifiedBy>
  <dcterms:modified xsi:type="dcterms:W3CDTF">2013-09-06T14:59:16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b | Average earnings for full-time, year-round workers in the health industry generally increase greatly with education</vt:lpwstr>
  </property>
</Properties>
</file>