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6FEA-D5B1-491F-BBDC-9E1516FEC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4A | INFORMATION CAPITAL STOCK, HEALTH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E6D-8583-45FF-9E60-C55EC4617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0A1-1A79-41E5-AE7D-27D584A0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9001-2649-44D6-B3C1-5E64B75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51D-4538-4CB8-8BC2-CFAC17E4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F54-30A9-4FA1-B131-C6BA46D6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8D5-4ECB-412F-A311-E7FA620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851-F41A-4CE7-82AC-9B7C282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821-40D1-4B8D-8F2C-BB8BBA92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80C-7A8E-450F-93B9-1F5C7C41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94B-5D9B-4443-8397-0BA0B4E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0FBE-B375-4313-98C2-0046599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E72-DDF5-436D-A1C0-D72B8BF4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A99-4001-4AA4-A6AE-FA8E823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7AE-A56C-4D2A-96EA-163AC5BAA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4a | Information capital stock in the health services sector has quadrupled during the past  two deca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01520" y="1244520"/>
            <a:ext cx="863604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55627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health services includes ambulatory health care services, hospitals and nursing and residential care facilities. It does not include pharmaceuticals or medical devices. However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ther office equip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medical and nonmedical instruments used in the health services subsec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4a | Information capital stock in the health services sector has quadrupled during the past  two decades </dc:description>
  <dc:language>en-US</dc:language>
  <cp:lastModifiedBy>Jia Yao</cp:lastModifiedBy>
  <dcterms:modified xsi:type="dcterms:W3CDTF">2013-09-06T15:00:4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4a | Information capital stock in the health services sector has quadrupled during the past  two decades </vt:lpwstr>
  </property>
</Properties>
</file>