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8B3B-E38A-42FA-8157-944B8F18F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a | Real Output and Labor Hours in Health Facilities Index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24CF-FA1D-477A-BCBD-F0186EAE7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ED1-4E4B-494B-BE01-3E1E4E7F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25F-C42F-4D53-BD15-B16910B5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ED6-416F-4C6A-8B13-B48C5D48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B6C-582F-4638-AF51-9C354BA9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E51-C6FC-46BB-A86D-C4A706D3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421-0440-43BB-9E20-33B7E01E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453C-B784-4247-8A87-FDA2C862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2536-F521-4B96-8D08-5EDD428B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33C-D814-42AD-A3F7-569B22B6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694-1C6E-4DE1-85F0-7BF24B17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9BA-6DC6-40EE-901C-008DC615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EB34-E83B-4199-9820-67B383D0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0D60-D961-4986-BB0A-0FEDA6693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a. | In hospitals and nursing homes, real output grew faster than labor hours over the past decade, but more slowly than all inputs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5597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a. | In hospitals and nursing homes, real output grew faster than labor hours over the past decade, but more slowly than all inputs combined</dc:description>
  <dc:language>en-US</dc:language>
  <cp:lastModifiedBy>Jia Yao</cp:lastModifiedBy>
  <dcterms:modified xsi:type="dcterms:W3CDTF">2013-09-06T14:58:5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a. | In hospitals and nursing homes, real output grew faster than labor hours over the past decade, but more slowly than all inputs combined</vt:lpwstr>
  </property>
</Properties>
</file>