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2765-E397-4E92-B175-EC364BA75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5a | Net Stock of R&amp;D Capital Compared to Productive Capital Stocks, Health Services and All Private Business, 1987-2007 (R&amp;D per $1,000 of Productive Capital Stock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CDD2-B04B-4AEC-8DE7-4122C7EC4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93B-2498-45E7-A570-C8D826AC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9FD-5C5A-418C-93B0-E8F57780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05E-2DE9-480C-BF89-8202B515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CC4-215D-47C0-BD67-9E157ECD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278-7EEF-485C-B397-B1E67FF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4E0-06A4-4B7A-A947-C47FBC2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277-A406-4A90-B95B-9C02C666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697-20BB-4AD5-B375-571EA00D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E78-4997-4943-8EB5-7028BBF3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CF6-08FA-4806-BE8F-A523E1B8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03B-807C-43A6-9256-1EA662F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4C4-A1C4-472A-9B05-8146735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2D70-CAEA-47C9-96EE-A375F1D85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5a. | The ratio of R &amp; D capital to productive capital stocks is roughly five times as high in private business as in 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39560" y="6019920"/>
            <a:ext cx="87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idential care facilities. It does not include pharmaceuticals or medical devi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5a. | The ratio of R &amp; D capital to productive capital stocks is roughly five times as high in private business as in health services</dc:description>
  <dc:language>en-US</dc:language>
  <cp:lastModifiedBy>Jia Yao</cp:lastModifiedBy>
  <dcterms:modified xsi:type="dcterms:W3CDTF">2013-09-06T15:00:4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5a. | The ratio of R &amp; D capital to productive capital stocks is roughly five times as high in private business as in health services</vt:lpwstr>
  </property>
</Properties>
</file>