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C868-F5EE-4D3D-B933-D9ADF19E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9BE-89D0-4D13-9FC3-A352B246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632-E25A-4D3E-9DFD-0DB1F10C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B236-EF86-4821-8D0C-12059095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5E6-2867-4D57-8A78-9B78D968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CCD-C7E9-4447-B62B-117B77B9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84F-C59F-4E69-8EFE-89E9DE51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6025-7A67-49EA-BD33-08C5BF49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A18-5834-4B63-B045-61925CCF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22D-AA3A-44BF-9C6E-DEE7CEEB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0D7-39B6-437B-894D-554AA998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9FC9-1424-4F85-877F-D3BE420E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2F7A-26A1-445D-B6B0-A58A3B1A2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17440" y="0"/>
            <a:ext cx="8807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2Z</dcterms:modified>
  <cp:revision>28</cp:revision>
  <dc:subject/>
  <dc:title>PowerPoint Presentation</dc:title>
</cp:coreProperties>
</file>