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8D18-FAD5-40AB-A9CD-86A2AE9D1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CDD1-216B-458F-9F5C-DCE34C89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5D35-40F6-433F-BCF7-E35B4BB6D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4339-C50C-4D5B-BB2F-92C63C63B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E56A-9A75-4A31-881B-7D764DFE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8D37-B574-4B2A-B9D6-D673A95D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0A58-7CFA-4152-9EB3-8563AE94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2B18-343A-4FD2-8E76-B3B1DF07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AA5C-BA76-4EC2-AFFD-0106415A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9A06-3A4F-496F-9857-70873B55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265A-FCB5-47E8-875B-2D9A3BDB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D952-D18B-45F3-BAB2-168F48FB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9DE4-2AD6-4ECC-A219-5EF73C5E02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9200" y="149400"/>
            <a:ext cx="898848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4Z</dcterms:modified>
  <cp:revision>26</cp:revision>
  <dc:subject/>
  <dc:title>PowerPoint Presentation</dc:title>
</cp:coreProperties>
</file>