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B8BA-39F1-46C4-B818-78A0BE8CB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b | Output per Hour and Output per Unit of Input Indexes (1987=100), Health Facilities and Ambulatory Health Care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DBC5-31EB-4DD9-8D9B-F450C9DAE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603-941B-4B76-9E81-5D787541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ED3-B0B9-4756-9CC4-535701D1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E122-C7E1-43F4-BF55-06DFB883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18A7-2B99-40C7-9556-DA4D3325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C7E0-E03D-4ABF-94E6-8BD04849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A119-E61B-4D21-BA35-F255E98F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DCB-D905-4124-98AF-0FCEE2FA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83A2-6A58-414C-9E71-E4AA195E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04F-0A8C-4929-9272-46EA5877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DDD-E0DC-4759-9DE9-977F4B41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E7DC-952E-4F76-B0DD-3D3228B1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338-05BF-4403-BFA1-BA828A1A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9275-0FBA-4C2C-B620-91566D926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b.  Over 2 decades, health facilities hourly output rose even as productivity per unit of input remained relatively fl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609480" y="5694480"/>
            <a:ext cx="842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Outpatient = ambulatory health care services; inpatient = hospitals and nursing and residential care faciliti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b.  Over 2 decades, health facilities hourly output rose even as productivity per unit of input remained relatively flat</dc:description>
  <dc:language>en-US</dc:language>
  <cp:lastModifiedBy>Jia Yao</cp:lastModifiedBy>
  <dcterms:modified xsi:type="dcterms:W3CDTF">2013-09-06T15:00:3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b.  Over 2 decades, health facilities hourly output rose even as productivity per unit of input remained relatively flat</vt:lpwstr>
  </property>
</Properties>
</file>