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DDC8-E54A-4F71-8E19-19D2712DC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6a | Personal Savings and Personal Health Consumption Expenditures as a Percent of Disposable Income, 194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B495-1020-4AE9-8238-EADFB9512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9FE-0949-42F7-AC24-CB7C638B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37B4-10E5-44CE-8028-EF4A7FA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3A8-2229-4B43-80A8-05D25AB7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8BB-8B9D-4B01-8BCB-1B625002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39C-29C2-4CCE-8E1C-DE06D0D5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E3E-06A3-4E7F-957E-683C2FFD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945-9A9E-4D3C-BCEA-6667AF60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4F8-5664-4207-9FB9-981B017D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C18-A064-48EA-B016-862F2973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9E7-8B36-47E2-A10F-8ABF6D36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2FD-EA4B-4F63-BCA4-91D3C5E0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371-3AD6-4A18-8142-FAAFAF25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B498-6D5E-4594-8807-B549F5CF4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9.6a | The share of income going to personal health care and personal savings both increased prior to 1982, but savings generally declined thereaf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disposable personal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6a | The share of income going to personal health care and personal savings both increased prior to 1982, but savings generally declined thereafter</dc:description>
  <dc:language>en-US</dc:language>
  <cp:lastModifiedBy>Jia Yao</cp:lastModifiedBy>
  <dcterms:modified xsi:type="dcterms:W3CDTF">2013-09-06T14:59:3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6a | The share of income going to personal health care and personal savings both increased prior to 1982, but savings generally declined thereafter</vt:lpwstr>
  </property>
</Properties>
</file>