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D201-C98C-4322-9AB3-229BCD71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23C-BFC9-4BA1-B70E-4EFA98DC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CB5-393E-44C0-AEBB-11C07957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7C8-2194-46EE-A5C8-B041E399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4BC-04CB-4950-8EBA-06904B1B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C74-C172-4E1B-AC5F-09C4A180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56A-952A-4115-B69E-B9EE797D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4235-A0DD-4249-B1D3-FFBB120A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3AD-1AE7-467B-9C9D-00714EE1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47B-57B8-411C-BB96-EAF8F9F4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50C-6371-4D5D-B49A-3F16F1D4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25F-5927-4A8A-9DC3-D023418D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A939-FF69-4FAE-9C28-00D51BCFF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36440" y="1371600"/>
            <a:ext cx="887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8Z</dcterms:modified>
  <cp:revision>28</cp:revision>
  <dc:subject/>
  <dc:title>PowerPoint Presentation</dc:title>
</cp:coreProperties>
</file>