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CF3-64C6-4C1F-A73E-C1CEA4F0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6D6-FD5A-4FD0-8197-A9F88DA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BCD-1251-4DC5-96C5-72B18A3B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BFA-4470-48DA-9F54-BA4ACFAD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858-FE21-4F12-B3AA-6DBB33E0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3C26-98D9-42F8-8AE4-FFEAB61D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313-849C-477D-9834-D523697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E75-5790-4DD3-A470-6C95DFA2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62E-9E08-4662-968D-8CF8657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99C-5F89-46BE-859A-9E70B5E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17A-1F73-47CC-9D27-493BC2D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0AF-36B9-4B01-9496-8EAA121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79D-6B2F-4FEF-99B6-D5EBF00A3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249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0Z</dcterms:modified>
  <cp:revision>28</cp:revision>
  <dc:subject/>
  <dc:title>PowerPoint Presentation</dc:title>
</cp:coreProperties>
</file>