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0C6-E51B-4353-BE64-3B13C2595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C | ANNUAL GROWTH IN MEAN INCOME OF WORKERS 18 AND OLDER WHO WORK FULL-TIME YEAR-ROUND, BY EDUCATIONAL ATTAINMENT, 2003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D18-34D1-4F91-BCEF-AB2B5D291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1BB-F9E4-4CCC-9FF4-F80584F7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74D-51AA-47E2-A608-A8A6DC67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271-678E-4E88-AC61-3CBDB6BD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118-39EB-47D9-AA56-CD46C3C4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700-38D5-4092-B1F5-E754A008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C41-B555-43D5-A7F7-1833C05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DD4-24A7-4B7C-8235-44D45FC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458-F0E7-48D1-8A41-72419811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36C3-379B-42C0-AD96-13B84185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6B4-17B6-420A-A4A1-44B81776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C61-DEC9-44AB-A3D0-3568979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3B0-693F-4B57-B3B3-94F71826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C555-85EB-4AB2-890F-A17DB73B0B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9.3c | Excepting those at the lowest education level, recent growth in health sector earnings has been slower than for other work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90169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80880" y="990720"/>
            <a:ext cx="1905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Growth in Mean Earnings of Full-time Year-Round Workers 18 and Older, 2003-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c | Excepting those at the lowest education level, recent growth in health sector earnings has been slower than for other workers</dc:description>
  <dc:language>en-US</dc:language>
  <cp:lastModifiedBy>Jia Yao</cp:lastModifiedBy>
  <dcterms:modified xsi:type="dcterms:W3CDTF">2013-09-06T14:59:1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c | Excepting those at the lowest education level, recent growth in health sector earnings has been slower than for other workers</vt:lpwstr>
  </property>
</Properties>
</file>