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568-207C-4976-8DA3-39AE7388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65D-A628-45CF-9E2F-0D227C1F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C67-E8CD-4B49-A636-34E6A1DB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BDF-DCC5-4182-81B4-B0F675CF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7C4B-900B-48FB-B4CC-8AB6EA0F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1BA-0586-4C0E-99B7-C9458B10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7B2-31A1-458A-AAB7-EF11231D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6DCB-BC72-4B95-B107-ADE7A0F3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5E9-5092-4B0E-82F0-B1FAC25F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CB1-233F-46DC-AC0F-522066BD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FF1-390D-4384-846F-5199BA44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72B-9A24-410A-BEC5-A24BC97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4CCF-7257-4D94-A07C-775D2E525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93760"/>
            <a:ext cx="912816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6Z</dcterms:modified>
  <cp:revision>28</cp:revision>
  <dc:subject/>
  <dc:title>PowerPoint Presentation</dc:title>
</cp:coreProperties>
</file>