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2DF-6E11-4BDA-A23F-705E554F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A31-BF47-49EE-A0B5-F4FDAA4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F434-646F-4417-9885-80C9EA5B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A88-32FC-4922-BE44-25941D81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D4A-CDEE-4381-8B6A-C1FD7C1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496-732C-41FE-90EC-BF34E1EA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2FF-E381-449E-B53F-6AA5034D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3EC-E1E1-44C9-8FF3-219D7E82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810-4B82-4B3C-8F65-ADF5B170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7018-FD71-4D58-86E5-CCF7D34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CE6-CF8B-45E8-9F56-0EE7A6D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4E6-5FCB-4933-A049-E6609049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A75D-C22C-4E90-B5A1-30825BCEC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100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5Z</dcterms:modified>
  <cp:revision>28</cp:revision>
  <dc:subject/>
  <dc:title>PowerPoint Presentation</dc:title>
</cp:coreProperties>
</file>