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22B2-6B38-46E4-B60D-031B757B5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9.3A | PERCENTAGE OF WORKERS AGED TWENTY-FIVE TO SIXTY-FOUR, BY EDUCATIONAL ATTAINMENT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D600-F270-42E0-BA23-CAF11E1C0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9F8-9621-40B4-8F52-1766DEB1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05C-FC2F-48B4-9BFB-17335A01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6BB-7C2A-4142-81AA-3D6D0944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772-002B-4648-9BFE-2172A13F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41A-D925-4C18-8A55-135315BD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5FD-D21D-4A18-90E0-46EADADD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5F3-C88A-4DB9-A383-50D18156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F21F-83D9-4B68-B05A-04B13669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445-98CE-44CD-8A0B-1B63B019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8F3-C740-44EC-9879-11FBADD7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999-FE81-4726-B507-87C75179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9D5-7CC3-42BE-8EE3-276BB53B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32BE-4232-4009-AFE4-4DACD8838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.3a | For both men and women, education levels are much higher in health services than among other wo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388800" y="1393920"/>
            <a:ext cx="8577360" cy="5514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55680"/>
            <a:ext cx="1905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with education level show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3a | For both men and women, education levels are much higher in health services than among other workers</dc:description>
  <dc:language>en-US</dc:language>
  <cp:lastModifiedBy>Jia Yao</cp:lastModifiedBy>
  <dcterms:modified xsi:type="dcterms:W3CDTF">2013-09-06T14:59:14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3a | For both men and women, education levels are much higher in health services than among other workers</vt:lpwstr>
  </property>
</Properties>
</file>