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A693-6E41-4942-B521-DEBF90EAC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b | Net Stock of R&amp;D Capital per $1,000 GDP or National Health Expenditures (NHE), 195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6FE0-5BB7-4F59-A5BA-68C9A6484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9A8-581A-464C-A9AB-7F42FE32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9B1-5E9E-41BE-AD3A-FE1BB0D3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336-85E4-47A0-8534-F7F19615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C78-A09D-4241-AF96-370DFB94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8EA-EDCB-459A-82E0-71CD7404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5D1-0D6D-4E59-A7DE-825E592F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704-B704-4098-8FA7-3F9B0A1E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651-C1FE-498B-8D1E-A41E23D6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0DD-0D8B-4301-9632-FAC74A05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F7A-D3A5-47BC-8198-83FA8F48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2D1-30A2-44E7-BC53-F873C8C7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FD7-5A71-4454-BEBB-EDB0401C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B48B-7E31-4FE1-BDAF-AF0566C52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b. | The ratio of R &amp; D capital to GDP is higher than the ratio of health care R &amp; D to NHE; the reverse was true from 1960-19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83487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R &amp; D expenditures include both private and public sector spending, regardless of where the R &amp; D was actually conduc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b. | The ratio of R &amp; D capital to GDP is higher than the ratio of health care R &amp; D to NHE; the reverse was true from 1960-1979</dc:description>
  <dc:language>en-US</dc:language>
  <cp:lastModifiedBy>Jia Yao</cp:lastModifiedBy>
  <dcterms:modified xsi:type="dcterms:W3CDTF">2013-09-06T14:59:2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b. | The ratio of R &amp; D capital to GDP is higher than the ratio of health care R &amp; D to NHE; the reverse was true from 1960-1979</vt:lpwstr>
  </property>
</Properties>
</file>