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7A98-8CFF-453F-8B08-4ED9DBBC2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6B | NATIONAL HEALTH SPENDING AND AVERAGE GROSS SAVING AS A PERCENTAGE OF GDP, G7 NATION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C213-8782-4F20-B2CC-286BF9D0C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1E3-34F8-491F-BD03-154D6BF1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A97-E5E9-47BC-9C73-C48967DE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BB7-7193-4DB0-BC7B-E1CA96DE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E08-CB55-4C20-8B3B-026D4458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F9F-78D4-4291-BDDA-E29C2023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BFE-9771-4725-BA2D-ED2A0C75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B45E-692C-4609-BACC-34032EC0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5EC-0F39-4FA2-AEA1-0F70F7F5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12C-FA43-4073-9455-33BEE20A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5A7-B1C3-449D-B675-5D30D2CF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79A-24F3-40EC-93D2-A82D9183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5D8-87F8-4EB0-A57A-B6D97B24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4430-1E37-403D-A74E-F8B9C63DA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6b | Health spending matches gross saving in the U.S.; in most other G7 countries, the national savings rate is much higher  than N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320840"/>
            <a:ext cx="848340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b | Health spending matches gross saving in the U.S.; in most other G7 countries, the national savings rate is much higher  than NHE</dc:description>
  <dc:language>en-US</dc:language>
  <cp:lastModifiedBy>Jia Yao</cp:lastModifiedBy>
  <dcterms:modified xsi:type="dcterms:W3CDTF">2013-09-06T14:59:3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b | Health spending matches gross saving in the U.S.; in most other G7 countries, the national savings rate is much higher  than NHE</vt:lpwstr>
  </property>
</Properties>
</file>