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196-634C-4148-B97C-7142B0ED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FE9-BB6B-4F3C-84CA-E8097DD6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EE7-A254-41A0-9B06-EF3C833C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F00-8B3E-4C89-B9B1-ABA67367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F31-B665-4BD3-B7F1-448B9E52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39BE-6BCD-471B-BAD1-B703147E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9C2-BDB8-4B0C-9D64-7007FD42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369-5C72-43D3-ACEA-C32A713F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53A-916A-466F-AAF5-45741DA7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1A9-51A1-45C2-BB6D-6E5C8EDB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F27-8827-4B0A-B05B-E6F7A129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4549-1B64-4DD5-913D-B697B60D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5E83-A9DD-499D-AA31-FEDD1DDE2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37960"/>
            <a:ext cx="90057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2Z</dcterms:modified>
  <cp:revision>26</cp:revision>
  <dc:subject/>
  <dc:title>PowerPoint Presentation</dc:title>
</cp:coreProperties>
</file>