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5938-C288-45B8-A3AF-34F214980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2a | Output per Hour and Output per Unit of Input Indexes (1987=100), Private Sector and Ambulatory Health Care Sector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5EF7-CDED-4197-B4D3-72C0B7B60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B71-D501-4EE3-A302-74B35BBB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296-A1E3-465B-BC3A-652BF5C5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07C-4C94-49C8-AC86-5A747B87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C52-D447-4379-A625-5D78B072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182-949B-4704-8BD6-FF5ECC05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1F0C-64C8-4DFF-9411-EDB86D2B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CDB-2641-4749-8851-F707844F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A38-D90B-46AE-9B86-CA5412F5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896-4734-4339-BB37-3F6D6CBD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931-4BE9-4648-8C39-D14926D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050-D263-409D-A219-98AEBAB8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9F6-01F4-422D-886C-E4648A59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3ADB-E006-462A-9C42-8AFE2B6E0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2a. Since 1987, low or negative productivity growth in ambulatory health care contrasts with steadier private sector productivity g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015920"/>
            <a:ext cx="840744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2a. Since 1987, low or negative productivity growth in ambulatory health care contrasts with steadier private sector productivity gains</dc:description>
  <dc:language>en-US</dc:language>
  <cp:lastModifiedBy>Jia Yao</cp:lastModifiedBy>
  <dcterms:modified xsi:type="dcterms:W3CDTF">2013-09-06T14:59:03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2a. Since 1987, low or negative productivity growth in ambulatory health care contrasts with steadier private sector productivity gains</vt:lpwstr>
  </property>
</Properties>
</file>