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6FDCC-C635-429A-8DA6-2C059F71C4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9.4b | Information Capital per Labor Hour, Private Health Care Services and Private Business, 1987-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39603-13E5-41D3-B653-F6E2290A20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FC9B-8977-4391-9974-37AF55765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E8AC-0B07-489F-95CE-11968753A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D2CC-AE3B-4413-900B-EE3A8386A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FD5B-0C4E-4811-81CC-8F07A1782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E329-DC1F-497A-AC0C-FB638D8F7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9826-211F-4A24-8613-CD3966D7A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5E84-DC53-4C17-A064-644AAFF54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E00B-CA83-474D-BD95-E379A3444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6644-2014-4000-96C1-FDE4475ED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AA2C-D940-49E4-9504-520D81128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7C05-F5FE-40D0-A525-5DAC297F0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22F1-043D-431F-980A-4E700CC28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61A93-748B-4B08-9DAF-77FBCD0614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4b. | Since 1987, real information capital per hour in health facilities grew nearly three times as fast as in ambulatory health care serv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388800" y="1015920"/>
            <a:ext cx="7891560" cy="5435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4b. | Since 1987, real information capital per hour in health facilities grew nearly three times as fast as in ambulatory health care services</dc:description>
  <dc:language>en-US</dc:language>
  <cp:lastModifiedBy>Jia Yao</cp:lastModifiedBy>
  <dcterms:modified xsi:type="dcterms:W3CDTF">2013-09-06T14:59:22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4b. | Since 1987, real information capital per hour in health facilities grew nearly three times as fast as in ambulatory health care services</vt:lpwstr>
  </property>
</Properties>
</file>