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F3C-5464-4B33-94BB-BBD975DE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452-E34E-43CB-911E-D2EAFE4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FFD-1507-4526-AB35-7B8E8AA1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4E8-7CCB-45D6-8CB5-833CA401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76B-0F51-4401-86BC-2350518A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E75-0544-4BDC-BB5E-9EE41F65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2AA-4AB1-4E9F-A3A1-D44302A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DC3-C5D5-405A-B461-CE57F69B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E17-DC7C-45A5-A646-178A0438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C16C-CB5B-43E5-BF38-6204C9B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69E-2D7A-4969-898C-BB02C6D6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A12-7D4E-4114-98D0-40C70F21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349F-8B34-4FE9-AA4C-C4B5D87C0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2280" y="988920"/>
            <a:ext cx="8837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6Z</dcterms:modified>
  <cp:revision>26</cp:revision>
  <dc:subject/>
  <dc:title>PowerPoint Presentation</dc:title>
</cp:coreProperties>
</file>