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3D9-DC7D-4334-85F3-75D50304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1E9-F9B5-44AC-8B86-9838532D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906-B731-45B3-B25D-B2BF0E64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A04-3DCB-4FEC-ADE4-0EECBB36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3B5-65FA-4431-A5D5-F2295F89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0DA-069E-4679-8528-B8C82B4E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B9B-A7FC-4CEF-B524-7E094AC2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783-C0C0-48D1-A9B6-D00BD172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D53-2A4E-446B-A976-C0CCECC4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C62-3B00-4D4B-BF8B-8E7DEDCE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07D-DFDC-4CC0-A432-0EEB9C9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A94-71B1-4FFE-8FB1-9879610D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E5BF-A8B4-4947-8864-CB10CFB7B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0240" y="380880"/>
            <a:ext cx="9083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4Z</dcterms:modified>
  <cp:revision>28</cp:revision>
  <dc:subject/>
  <dc:title>PowerPoint Presentation</dc:title>
</cp:coreProperties>
</file>