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3308-1B96-46B2-927C-E23A8804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6F59-E569-46FB-AA62-0F3C7A65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4411-3828-4C6A-9D57-F6015A4B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49B0-629A-4256-9A73-86C3922E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90EA-A9A2-4C01-B076-CE75BA39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2789-7372-4060-B597-1D2575F3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F32-75C3-451D-AC89-B4FFBB35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55C8-7FDF-4BEF-9D06-3B337875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2164-2A24-4A73-9EE6-89A9A42F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5C6B-4D5A-4739-B6D4-A6DB454F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77DE-443A-49AF-9829-67D5DC2F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D7E8-CA00-4E50-B4E2-AEE35150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0268-B0A5-4408-B127-93046F407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1440" y="228600"/>
            <a:ext cx="914544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0Z</dcterms:modified>
  <cp:revision>22</cp:revision>
  <dc:subject/>
  <dc:title>PowerPoint Presentation</dc:title>
</cp:coreProperties>
</file>