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43C8-27C0-454B-9B9B-7E70F5621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FIRMS FOR HEALTH-RELATED SERVICES INDUSTRIES, 2005-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A0FD-B207-45BC-97E9-05A37E4A5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776-E057-4634-99C5-2202F978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FC2-62B4-4599-A2E8-877C20A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ED4-6484-41EC-B970-FDBBF205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E2E-BA2F-46E8-8A09-094FA635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1CA-AC6D-4769-8F61-CE6AE4D4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0AC-6A32-468A-8321-BB84082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AE6-3B02-47ED-AD04-E6F2AD17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EA3-8E41-4FB2-A7E4-220958F2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752-AC1E-47C1-9660-70CE6527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4A8-1F5E-4B2A-BC24-A4FAE93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8DC-E936-4324-A0B0-468E0E43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750-AF96-41F5-BB94-6946343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87C8-C09E-4654-BF64-1471E1FD7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rtune.com/fortune50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assets (ROA), Fortune 500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ortune.com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7Copy</cp:lastModifiedBy>
  <dcterms:modified xsi:type="dcterms:W3CDTF">2014-06-21T21:14:57Z</dcterms:modified>
  <cp:revision>9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