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34CC-A4F4-44C5-BCE2-C0C981F2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B91-A76E-4F16-B81B-24CB65F9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EE78-7482-4C75-B251-D3D1A877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C26-CD7E-4745-8CB2-12085688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405-4042-4F99-BC38-26E2C3F8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7F95-2E74-432F-BDC0-C2D11101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9FBE-4733-4C25-A561-BA256385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504E-9472-486B-A56D-44927B2B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59B8-C1C2-4EA4-8F0F-A48B7271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C2D5-4602-4BFA-BBF7-62DF67A6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4E73-F869-4740-BB1B-44BEE43E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8B0C-75D4-4809-A16A-7024015B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07E9-0027-45E5-970E-39054A490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35080"/>
            <a:ext cx="9144000" cy="63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7Z</dcterms:modified>
  <cp:revision>22</cp:revision>
  <dc:subject/>
  <dc:title>PowerPoint Presentation</dc:title>
</cp:coreProperties>
</file>