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A2E9-86B3-4BB7-B536-532B27326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A73C-03C8-4A3A-A1B9-0A8C53309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08C-9889-4648-A2B6-47C6B801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030-5DEC-4460-9A67-D0E0657B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02C-9534-4F13-97BC-54A7C185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178-7FC2-48CA-8162-2008A550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F02-5F63-4F7A-B78E-73CFB500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816-AF6A-46AF-8FA8-80D043A0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63A-EEFF-4171-8EDB-AE587A4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19D-8D5E-4F62-A608-08F77066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464-EAA3-4864-B635-59ADDEA5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95F-6F92-46D4-8D81-994D548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164-0DDC-4035-A2F4-9706E58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123-EFC3-4D37-90C3-D8A73668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C25-FAFC-4795-B106-E90CDBDA9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76360" y="1143000"/>
            <a:ext cx="55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7Copy</cp:lastModifiedBy>
  <dcterms:modified xsi:type="dcterms:W3CDTF">2014-06-21T21:24:4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