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DAEC-D4DE-4C60-A2AB-B450AB72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4984-6AF5-41BC-A80C-33AF078B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0B5E-D180-4237-8288-E70FC2F5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079-C9F6-49FF-900C-E335E22E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92F-1D32-491F-96DB-95F57BFA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6FA3-043B-4DC4-B173-5B9D1C02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BE7E-AB46-4483-9A36-828E1D9F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DD78-EC4B-4681-B776-C02A0A48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8D8-E72D-44D1-8A91-9B0419DE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458-6145-428E-9812-02E53E5A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289-BFC7-43BF-AEB5-4B53B936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05D5-BD81-41C3-A0F1-8FF34B54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3C58-3A5B-4DE5-9FCE-714063199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76320" y="1362240"/>
            <a:ext cx="8972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50Z</dcterms:modified>
  <cp:revision>24</cp:revision>
  <dc:subject/>
  <dc:title>PowerPoint Presentation</dc:title>
</cp:coreProperties>
</file>