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2835-EC58-48C3-8567-47B5E625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7EB-65D2-4635-91CF-6DDFDC5F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CA8-4C12-4B6A-9022-3097402D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7D5-5601-4B23-A473-5CF02EFC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450-124E-477C-9EF8-EB9F6ECD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587-A7FE-496E-8584-DCF5B8D1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C45-541E-40D0-BD89-2D241B01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D3A-31D7-4143-9142-AAC34125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96B-D2A1-45F0-8124-081B9684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936-C463-49AE-A4D5-9398D367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43F-B2DD-4BC8-ADB3-9D5D8F02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2BE-6542-45C6-981E-4B201645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0B95-4220-41BC-A73B-F790AE80D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8160" y="355680"/>
            <a:ext cx="91058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8Z</dcterms:modified>
  <cp:revision>22</cp:revision>
  <dc:subject/>
  <dc:title>PowerPoint Presentation</dc:title>
</cp:coreProperties>
</file>