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24C28-270B-4B10-B61E-CFDF50C68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874D0-1AAD-4829-ACDF-E165D040F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B4761-F38F-4C23-842C-05118FE9E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FE604-5E0A-4580-8180-E506957E9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1874B-D14E-4062-8CC1-8A98EEDED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B5372-BA90-4E7B-BAC6-49AB8C054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020E2-BF8E-4177-B24C-3677C6E3D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EA31E-3040-43CF-AAC8-DD38EDAE2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7555E-3441-414F-B60C-0C10EA3B8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53490-4CD2-4626-8F6C-DD5622554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4EC91-69B5-41AD-B905-AF643DB75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CD65D-8B59-40D1-8202-9A54B51B4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4175C-34AC-423B-AB1C-EA97378170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11160" y="76320"/>
            <a:ext cx="9132840" cy="671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7:36Z</dcterms:modified>
  <cp:revision>22</cp:revision>
  <dc:subject/>
  <dc:title>PowerPoint Presentation</dc:title>
</cp:coreProperties>
</file>