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A02-503D-478A-AB94-A093ED72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376-0925-438F-A62C-E3951536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A5B-97EA-4FCB-ABB8-A7EF5887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11D-2982-4322-B8AC-C0B9DA78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D4D-DF1D-4164-B3D0-01595AFF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07F-18C4-42A0-9D2B-833F5F74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FA1C-387A-4A91-A68E-A517E674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3E4-2246-4786-A648-7E2C83F3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66D-84F9-4C05-B3BF-A2D1C444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8AD-A0A5-4FFB-B059-0656A79D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3A3-70D6-41BB-A79F-671ECCBB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3D8-C411-401A-B1BF-91AE340D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FAA9-58AA-4B01-ADCF-73D655DC8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155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7Z</dcterms:modified>
  <cp:revision>22</cp:revision>
  <dc:subject/>
  <dc:title>PowerPoint Presentation</dc:title>
</cp:coreProperties>
</file>