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B70B-F558-4C4B-8C14-993BB612B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2B | EMPLOYEE COMPENSATION AS A PERCENTAGE OF NATIONAL INCOME RELATED TO HEALTH SERVICES, 196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BA43-2539-41E5-9906-53CD680AD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FEFB-36C0-4290-862F-A34B17D9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550B-131D-4B43-AE3F-0EDEEDFA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890B-FFC7-47F5-998C-A858227D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5CDE-F506-48DF-B5BA-7232CFA3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1C06-43F0-4E5E-903F-EFABD62F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8A5A-AE7C-483B-93E6-6AB40393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9163-2302-4CBB-8182-24CF4984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557B-46DC-47DB-8CDB-43381E8A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1375-C8C7-4504-AB94-226D7A05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E23-BA25-4D5B-A8D1-1B06A152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720-63AC-4438-8A15-FE8E5163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2FC5-DDF8-4E54-9A77-13E77664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A2E4-D0E0-4AF9-922E-BBE3A7D7D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2b | In the health services sector, both wages and salaries and fringe benefits are substantially higher than they were 5 decades a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3716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national income related to health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6"/>
          <p:cNvSpPr/>
          <p:nvPr/>
        </p:nvSpPr>
        <p:spPr>
          <a:xfrm>
            <a:off x="1219320" y="1752480"/>
            <a:ext cx="0" cy="42674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1620360" y="1981080"/>
            <a:ext cx="359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care and Medicaid begin (196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10"/>
          <p:cNvCxnSpPr>
            <a:stCxn id="52" idx="1"/>
          </p:cNvCxnSpPr>
          <p:nvPr/>
        </p:nvCxnSpPr>
        <p:spPr>
          <a:xfrm flipH="1">
            <a:off x="1294560" y="2165040"/>
            <a:ext cx="326160" cy="273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4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2b | In the health services sector, both wages and salaries and fringe benefits are substantially higher than they were 5 decades ago</dc:description>
  <dc:language>en-US</dc:language>
  <cp:lastModifiedBy>Jia Yao</cp:lastModifiedBy>
  <dcterms:modified xsi:type="dcterms:W3CDTF">2013-09-06T14:16:54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2b | In the health services sector, both wages and salaries and fringe benefits are substantially higher than they were 5 decades ago</vt:lpwstr>
  </property>
</Properties>
</file>