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19641-5322-4E34-BE4B-B105AE59090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ldImg"/>
          </p:nvPr>
        </p:nvSpPr>
        <p:spPr>
          <a:xfrm>
            <a:off x="1143000" y="685800"/>
            <a:ext cx="4572000" cy="3429000"/>
          </a:xfrm>
          <a:prstGeom prst="rect">
            <a:avLst/>
          </a:prstGeom>
          <a:ln w="0">
            <a:noFill/>
          </a:ln>
        </p:spPr>
      </p:sp>
      <p:sp>
        <p:nvSpPr>
          <p:cNvPr id="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8.5 | CORPORATE PROFITS BEFORE TAXES AS PERCENTAGES OF  NATIONAL INCOME RELATED TO HEALTH CARE, 1963-2008</a:t>
            </a:r>
            <a:endParaRPr b="0" lang="en-US" sz="1200" spc="-1" strike="noStrike">
              <a:solidFill>
                <a:srgbClr val="000000"/>
              </a:solidFill>
              <a:latin typeface="Calibri"/>
            </a:endParaRPr>
          </a:p>
        </p:txBody>
      </p:sp>
      <p:sp>
        <p:nvSpPr>
          <p:cNvPr id="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3CE73-D6B7-435F-A3B4-B5A7F2A8450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214758-B95C-4926-A1FC-DCF4595E45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07E27-332E-4029-960A-41CD7D188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CA9935-9F35-4A2C-B745-5D1092FDF5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CF31EA-00B1-433A-9E4E-FF4A30775B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3D66C-842F-49D4-8BF8-9052FACF4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99C64-3FD6-4B08-B572-22BB83622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C7C9C-9389-4C0F-9F30-916ED6C3E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8E14B-892C-453C-8EAD-FC9505B0B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74E18-C882-4897-9D0F-BB87F4898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249DD-D73A-4830-AB2D-16860D6ED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B23B2-4291-439E-AF20-B7EB97AE4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5E5EA-BC20-427C-A28B-43B48C6744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913CD-A0DB-451A-A805-6065172B047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74680"/>
            <a:ext cx="8610480" cy="944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8.5. | Pre-tax profits as a share of income are lower in health care than in goods-producing industries, but comparable to non-health services </a:t>
            </a:r>
            <a:endParaRPr b="0" lang="en-US" sz="2400" spc="-1" strike="noStrike">
              <a:solidFill>
                <a:srgbClr val="000000"/>
              </a:solidFill>
              <a:latin typeface="Calibri"/>
            </a:endParaRPr>
          </a:p>
        </p:txBody>
      </p:sp>
      <p:pic>
        <p:nvPicPr>
          <p:cNvPr id="49" name="Content Placeholder 3" descr=""/>
          <p:cNvPicPr/>
          <p:nvPr/>
        </p:nvPicPr>
        <p:blipFill>
          <a:blip r:embed="rId1"/>
          <a:stretch/>
        </p:blipFill>
        <p:spPr>
          <a:xfrm>
            <a:off x="406440" y="1320840"/>
            <a:ext cx="8331120" cy="4856040"/>
          </a:xfrm>
          <a:prstGeom prst="rect">
            <a:avLst/>
          </a:prstGeom>
          <a:ln w="0">
            <a:noFill/>
          </a:ln>
        </p:spPr>
      </p:pic>
      <p:sp>
        <p:nvSpPr>
          <p:cNvPr id="50" name="Rectangle 4"/>
          <p:cNvSpPr/>
          <p:nvPr/>
        </p:nvSpPr>
        <p:spPr>
          <a:xfrm>
            <a:off x="685800" y="1219320"/>
            <a:ext cx="632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rofits before taxes as a percentage of industry’s own national income</a:t>
            </a:r>
            <a:endParaRPr b="0" lang="en-US" sz="1800" spc="-1" strike="noStrike">
              <a:solidFill>
                <a:srgbClr val="000000"/>
              </a:solidFill>
              <a:latin typeface="Calibri"/>
            </a:endParaRPr>
          </a:p>
        </p:txBody>
      </p:sp>
      <p:sp>
        <p:nvSpPr>
          <p:cNvPr id="51" name="TextBox 5"/>
          <p:cNvSpPr/>
          <p:nvPr/>
        </p:nvSpPr>
        <p:spPr>
          <a:xfrm>
            <a:off x="439560" y="5257800"/>
            <a:ext cx="8590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e: the industry classification system changed in 1998, substantially changing the components of the non-health services industry.  Although every effort has been made to retain comparable industries within this category over time, this classification change may account for at least some of the apparent gap that appeared that year between health care and the rest of the services industry. </a:t>
            </a:r>
            <a:endParaRPr b="0" lang="en-US" sz="1800" spc="-1" strike="noStrike">
              <a:solidFill>
                <a:srgbClr val="000000"/>
              </a:solidFill>
              <a:latin typeface="Calibri"/>
            </a:endParaRPr>
          </a:p>
        </p:txBody>
      </p:sp>
      <p:sp>
        <p:nvSpPr>
          <p:cNvPr id="52" name="TextBox 6"/>
          <p:cNvSpPr/>
          <p:nvPr/>
        </p:nvSpPr>
        <p:spPr>
          <a:xfrm rot="16200000">
            <a:off x="-2305080" y="3597480"/>
            <a:ext cx="5181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From The American Health Economy Illustrated Onlin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9T21:34:12Z</dcterms:created>
  <dc:creator>Trinity Technical Services</dc:creator>
  <dc:description>8.5. | Pre-tax profits as a share of income are lower in health care than in goods-producing industries, but comparable to non-health services </dc:description>
  <dc:language>en-US</dc:language>
  <cp:lastModifiedBy>Jia Yao</cp:lastModifiedBy>
  <dcterms:modified xsi:type="dcterms:W3CDTF">2013-09-06T14:17:04Z</dcterms:modified>
  <cp:revision>93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Slide 1</vt:lpwstr>
  </property>
  <property fmtid="{D5CDD505-2E9C-101B-9397-08002B2CF9AE}" pid="3" name="SlideDescription">
    <vt:lpwstr>8.5. | Pre-tax profits as a share of income are lower in health care than in goods-producing industries, but comparable to non-health services </vt:lpwstr>
  </property>
</Properties>
</file>