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A411-A7E0-4948-BABA-FE1AF8DA28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7A | TRENDS IN PROFITABILITY: RETURN ON REVENUE AMONG FORTUNE 500 FIRMS FOR PHARMACEUTICALS AND MEDICAL PRODUCTS &amp; EQUIPMENT INDUSTRIES, 2005-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5D6D-737D-4D52-A83B-1C8BA925FA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86D6-FEB7-4A63-ABC3-EAD7DCC8D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C139-F376-4444-AFB1-E2161060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159B-AA35-42C6-B575-8D35F9BCC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E23E-3B15-4AEF-95B2-5FFE0C958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CA8F-E99B-440C-A1A7-648F2D43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B37E-DE9D-4AA0-8A88-58398E69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9C94-28B3-4758-9913-E69571EB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9D3E-2CAF-4383-8384-D5CB8CA0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48C7-5C64-4EEC-8F31-D1ECBC0E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30B5-E368-4583-A2C7-A9F608DB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C446-C96C-430C-86A6-FFC296F0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9A19-1A86-484D-ABA0-62E0365A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0350-DA2F-4E66-8D82-AB260A700D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rtune.com/fortune50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8.7a | Pharmaceuticals and medical devices typically rank in the top 10 among all industries in their return on reven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77840" y="1168560"/>
            <a:ext cx="87883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501480" y="1219320"/>
            <a:ext cx="569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age of revenue (ROR), Fortune 500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33520" y="5275440"/>
            <a:ext cx="8343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R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2011). While the number varies slightly by year and profitability measure, roughly 50 indust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533520" y="6342120"/>
            <a:ext cx="83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fortune.com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7a | Pharmaceuticals and medical devices typically rank in the top 10 among all industries in their return on revenue</dc:description>
  <dc:language>en-US</dc:language>
  <cp:lastModifiedBy>7Copy</cp:lastModifiedBy>
  <dcterms:modified xsi:type="dcterms:W3CDTF">2014-06-21T21:23:53Z</dcterms:modified>
  <cp:revision>9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7a | Pharmaceuticals and medical devices typically rank in the top 10 among all industries in their return on revenue</vt:lpwstr>
  </property>
</Properties>
</file>