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288-0BB7-4063-B777-8EE4916C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2D4-85B7-4B69-893F-E9C49428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8E6-13D8-4B15-BC8E-80731AC8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2CD5-C21D-4806-BEF0-1ABFA294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49F-6F7C-4621-B1A0-35AEBB40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B932-3517-4A3A-8A2A-0D7EDF49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BEC-16CD-4170-9CEB-FA3EFC17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FB4-898A-41BC-9730-D8E11DD3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E7A-90D6-4B98-A9EF-877B9823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C59-2E2F-40FB-879B-B6A31381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FDE-3DAC-4C0B-A2B0-8DCCC9BD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D0E-D69E-4FED-A24B-BE5FC665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D8E7-9F62-40DA-96D5-7A21EA4E2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9280"/>
            <a:ext cx="9131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3Z</dcterms:modified>
  <cp:revision>20</cp:revision>
  <dc:subject/>
  <dc:title>PowerPoint Presentation</dc:title>
</cp:coreProperties>
</file>