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D03D-3733-4164-AC1E-DAD28B82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56F6-487B-43D6-9929-329FE338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E1D2-7A7D-4432-8D3D-9CF80A12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3AA-9FC2-4541-8727-982C51CD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861-28F5-468E-BC8F-1C994447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4F3-3BE7-4B44-86F8-E8F0C97D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3EC-317E-41EF-AE5A-669D4932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8F8-FE25-4571-8689-CD319A84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317-5891-486C-9ADD-F17A5340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127-081C-4EAE-B3E8-B3C44AEA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957C-4ACF-4C20-A089-ACC8A4E5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558-BCEF-4AF6-BD44-6B242C97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672C-AA4E-4C79-B1DD-E972B4620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6840" y="1143000"/>
            <a:ext cx="895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8:09Z</dcterms:modified>
  <cp:revision>22</cp:revision>
  <dc:subject/>
  <dc:title>PowerPoint Presentation</dc:title>
</cp:coreProperties>
</file>