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76B4F-2543-4509-BD58-9F600E8E64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8.3B | HEALTH-RELATED FRINGE BENEFITS AS A PERCENTAGE OF NATIONAL INCOME BY TYPE, 1948-2009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42F53-164C-480F-B1FA-FB6B9590CF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1D3D0-5131-447E-B8DE-3A8DD572F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8D962-7804-4042-A37E-1BE233B6C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2410C-24D1-4B4C-896B-64A992D60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CD9FA-C082-47EB-A6E8-F4A59AE55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D041A-DC91-4764-B84E-B02A22CE5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79374-D254-4AA6-9303-82CB2326F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B522E-6570-4CBE-AD17-0EE0CC4A9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7CCC3-86F8-44B7-B30B-547D636A8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717F3-BFE9-4212-BD2F-498B78B6F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CD11F-9D43-48F3-986B-961A51497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E73FF-9F72-4DD8-9B8C-C44A7B2A9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58076-7403-49A5-B811-AA9B79EC2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4546D-88A6-4B8C-BF77-D8266381B9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8.3b | The health services share of owner income is nearly as high today as it was in 1929; the share for all other services has increas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101520" y="1244520"/>
            <a:ext cx="8864640" cy="520704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9T21:34:12Z</dcterms:created>
  <dc:creator>Trinity Technical Services</dc:creator>
  <dc:description>8.3b | The health services share of owner income is nearly as high today as it was in 1929; the share for all other services has increased </dc:description>
  <dc:language>en-US</dc:language>
  <cp:lastModifiedBy>Jia Yao</cp:lastModifiedBy>
  <dcterms:modified xsi:type="dcterms:W3CDTF">2013-09-06T14:16:58Z</dcterms:modified>
  <cp:revision>930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8.3b | The health services share of owner income is nearly as high today as it was in 1929; the share for all other services has increased </vt:lpwstr>
  </property>
</Properties>
</file>