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590-1295-4807-BA62-BAB682787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CA0-0B50-4630-8423-5F274E74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9CE-E7C7-4100-A687-8D3BB786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391-598A-42D3-978D-8FC2E813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A8C-6D82-4CFC-BD13-969552F1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2E9-FE5A-4825-AEB1-C9F55672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A8A-83F3-4C53-9F97-C590D9F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714-1D27-4555-A8F3-0FC6AA25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775-5226-4754-B51E-7492A680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CFF-41E6-4B0A-960E-38E7948C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0DC-F553-4EE1-BCE3-7C7B534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42D-C8FC-40FE-9190-B630963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35B-17D0-451E-B9EE-A22ACDF2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A58-9876-4B55-8483-0D5DEB3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F8E-5B64-4986-A990-1C87EC058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8.6a | Profit margins generally are highest for retail pharmacies and lowest for health care wholesalers for all health-relate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13360" y="114300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revenue (return on revenue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7Copy</cp:lastModifiedBy>
  <dcterms:modified xsi:type="dcterms:W3CDTF">2014-06-21T21:07:21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