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F313-AD91-4855-8B50-CE60244DE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E024-0A51-45EA-A22F-DAF6B249A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ECB9-9978-4AA0-9484-B6349834E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6183-A5F1-464E-94D5-B38C6446B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5BD3-30D2-4B30-A1BB-3A9D404EF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B555-161A-4B54-8B25-F7CFC7760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9F7A-C314-4F3C-9F7C-BB6908D79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7EC6-6FE7-4F60-9979-637F7789E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BC8B-2160-4AA4-AD36-1BF841F59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FBA9-9D41-4D4F-ACA7-B54F0101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F1D8-8361-4B22-9A20-19740C7A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51FA-5CFD-42EF-8020-CBAF9C59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7633A-DC8F-480E-B169-75AB2078A7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25280" y="1295280"/>
            <a:ext cx="8893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51Z</dcterms:modified>
  <cp:revision>26</cp:revision>
  <dc:subject/>
  <dc:title>PowerPoint Presentation</dc:title>
</cp:coreProperties>
</file>