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F60F-548E-474E-BBA1-513E20A88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3A | PROPRIETORS' AND RENTAL INCOME AS A PERCENTAGE OF NATIONAL INCOME FOR SELECTED INDUSTRI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CCF2-38F2-4269-9362-37B9A56AFC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75B3-7381-443E-9C75-4612AF96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82F5-4BF1-41B0-9A03-6E665A8D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D711-B8B7-4FB2-9F55-7CC81E50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9305-D7DD-45F7-AAAC-4336384D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8D88-BC6D-46FD-B3BB-E0981ABA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037F-0CE5-4E10-BB84-4AE6790B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BCFB-796D-488F-B3FD-32D73F3E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A748-BE7C-4059-B599-A9C45814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7D5E-7BA3-43F7-BC33-13A59641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3752-65E3-4D74-B4BF-88F16A73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2F18-AAED-428A-9E81-F92EC940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32F2-502C-4316-881A-21987724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14AF-6A12-48F6-B5FF-02F7E5E39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3a | The share of health-related national income accounted for by proprietors’ and rental income has declined dramatically over 5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5238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sector-specific national income to proprietors’ and rent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3a | The share of health-related national income accounted for by proprietors’ and rental income has declined dramatically over 5 decades</dc:description>
  <dc:language>en-US</dc:language>
  <cp:lastModifiedBy>Jia Yao</cp:lastModifiedBy>
  <dcterms:modified xsi:type="dcterms:W3CDTF">2013-09-06T14:16:56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3a | The share of health-related national income accounted for by proprietors’ and rental income has declined dramatically over 5 decades</vt:lpwstr>
  </property>
</Properties>
</file>