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735D-EFB4-4EEC-85F9-E92AEF1DE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A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4E7-AB9E-4166-BC80-8C1E542BF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671-9702-415C-ACC5-E2107B7E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53B-2CFC-44A0-BB80-B130836D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DB2-B057-4AD2-86DD-9547409F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934-2540-42B3-92DF-18B9E5A8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2DC-42E1-4ABB-80BD-9572F142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9C9-3DAD-4AA0-B7D4-0D332BA2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804-FB63-48B3-ABB9-376DC424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573-C4DE-4513-960E-38A0B454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A4C-9351-4083-BF80-65A2DBF0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D9D-8594-4B7C-ACBE-F5D2ACB0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282-B298-48A2-9AAD-CA0D4038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923-D038-4238-BE1A-FF372F5C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9414-8195-41D2-971B-9769A7B7C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a | Health services profits have increased substantially since the advent of Medicare and Medicaid, but still are below a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a | Health services profits have increased substantially since the advent of Medicare and Medicaid, but still are below average</dc:description>
  <dc:language>en-US</dc:language>
  <cp:lastModifiedBy>Jia Yao</cp:lastModifiedBy>
  <dcterms:modified xsi:type="dcterms:W3CDTF">2013-09-06T14:17:00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a | Health services profits have increased substantially since the advent of Medicare and Medicaid, but still are below average</vt:lpwstr>
  </property>
</Properties>
</file>