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60F0-A495-4781-BFB3-71B9EDEDC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3B | HEALTH-RELATED FRINGE BENEFITS AS A PERCENTAGE OF NATIONAL INCOME BY TYPE, 1948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34E2-C6D1-4546-8ED4-FAC3DC571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FFF1-88C5-41BA-AC47-0C45B4B7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9AD4-0830-4C66-B96B-26C92EB1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BF1B-3469-4A41-88ED-6C44356A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EC94-4FAB-4A32-82FC-B013ED15A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335D-E6C7-4C0B-85E8-00DC7961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54DC-FA88-4394-9972-1C9AC1D0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4ED5-9D5A-4D47-AEBE-AFE3C285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4C7C-E181-47B1-B86F-AA3F4363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3FAD-BA07-456D-8B54-1A47475B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1545-BA40-4473-9C1A-D161BF02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F98A-BDD5-4D89-9365-83D74A48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7C0D-431C-4959-9AA8-37AEACA9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08A2-1323-4560-A573-A3979812D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3b | The health services share of owner income is nearly as high today as it was in 1929; the share for all other services has increas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01520" y="1244520"/>
            <a:ext cx="88646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3b | The health services share of owner income is nearly as high today as it was in 1929; the share for all other services has increased </dc:description>
  <dc:language>en-US</dc:language>
  <cp:lastModifiedBy>Jia Yao</cp:lastModifiedBy>
  <dcterms:modified xsi:type="dcterms:W3CDTF">2013-09-06T14:16:58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3b | The health services share of owner income is nearly as high today as it was in 1929; the share for all other services has increased </vt:lpwstr>
  </property>
</Properties>
</file>