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6AF5-B136-4622-A3B2-5D633E090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FA3B-03E5-45A8-9D61-C9049132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FED6-A5D2-44B7-A989-E03E6DD44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C330-9E95-4224-A752-C41E179E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671E-1EDC-4BAF-BD8A-D72E3371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1261-269A-4280-849E-FBD3ADAA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2C77-DBFD-4ABA-BEDB-24BE7650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8168-C5D3-481C-A4F9-1C900E82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167A-7A47-4D22-AEF9-5987BEC9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902E-2EFD-416D-BE0B-09C3BA0C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44E2-DABD-477C-860A-B771AE64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5ED9-A695-466E-8A0B-478584E0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D257-4986-4487-A4F6-4CF224CFF5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422360" y="0"/>
            <a:ext cx="629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3Z</dcterms:modified>
  <cp:revision>22</cp:revision>
  <dc:subject/>
  <dc:title>PowerPoint Presentation</dc:title>
</cp:coreProperties>
</file>