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EFD5-196C-4A4B-8229-7D1F9D366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B | TRENDS IN PROFITABILITY: RETURN ON ASSETS AMONG FORTUNE 500 FIRMS FOR HEALTH-RELATED SERVICES 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049D-958D-44D1-AAA7-D2D856741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AC5-E8C4-42E1-962C-977C8AAA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E42D-CD6E-4B07-8DB2-598A0802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6B1-FB3A-49E4-9332-16A5EC46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8A4D-B03B-4AD2-8442-C9DF3645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C522-2B6A-4EE9-AA05-B4BFF919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C85F-CEE5-4C01-9E04-75DE15AD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B19C-9389-47B8-889E-0AB5B7B8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E41-2EBC-4BA6-919C-E1427CF0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0EB-0F14-4383-8325-7F3F8AB0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65F9-3E24-42BD-B156-8F996FB6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27BE-4020-4115-B6EF-82CCC22C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03E-59AA-4BA5-ABDE-63D79A01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01E7-35DE-433D-89AE-73941A9F3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b | Among health-related services, retail pharmacies generally have the highest return on assets and medical facilities the low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40744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143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assets (ROA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439560" y="5283360"/>
            <a:ext cx="851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A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b | Among health-related services, retail pharmacies generally have the highest return on assets and medical facilities the lowest</dc:description>
  <dc:language>en-US</dc:language>
  <cp:lastModifiedBy>7Copy</cp:lastModifiedBy>
  <dcterms:modified xsi:type="dcterms:W3CDTF">2014-06-21T21:14:57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b | Among health-related services, retail pharmacies generally have the highest return on assets and medical facilities the lowest</vt:lpwstr>
  </property>
</Properties>
</file>