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597F-672A-4B69-9198-E451EFA81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2D78-D284-4E11-BE83-6C637B717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56A9-D13E-4C4A-9D52-683BCA465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4881-E69B-4DB1-8AF6-D31B6934C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F1EB-B6BF-47B0-96B9-E98D32947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5C23-866E-46C3-B596-F9EAEAA01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B8AA-797A-4AE9-8862-6ABFBC6EE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19AE-972E-47AE-97D0-94B256B5E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11AA-2669-4CB3-959E-64579B7D3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AEBC-D506-48C6-8298-354DCD6E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3D8A-69C3-4E09-9577-BE596C70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2526-8BF7-449F-9252-A0123664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9F245-3F50-402A-903E-4B36885FFB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03320" y="1143000"/>
            <a:ext cx="8937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45Z</dcterms:modified>
  <cp:revision>22</cp:revision>
  <dc:subject/>
  <dc:title>PowerPoint Presentation</dc:title>
</cp:coreProperties>
</file>