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E388-6A36-47D4-8E05-0679C555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D1E-CA77-4E18-A2FA-0D11F05E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9139-7C0B-44BE-9FE2-35A8C447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15D1-DE1B-430F-AAE7-EAECFFCB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44C8-9479-4DCB-83B6-3F5A64A7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AC2A-EC5E-4B85-A37B-BB3E97EC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6B13-A0BE-4EE2-B4E6-A9259F8F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5ED6-1165-4F9B-B8A1-D0872EB9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4028-5740-4C96-A75D-51781B76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7BAF-5F93-4941-8467-070AC8AD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A82D-A21B-4BDA-837A-BA4D48A1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DE70-6FE8-4501-B077-5F19BB0F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F255-EB45-44A2-961A-5C69A1A57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76320" y="1362240"/>
            <a:ext cx="8972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50Z</dcterms:modified>
  <cp:revision>24</cp:revision>
  <dc:subject/>
  <dc:title>PowerPoint Presentation</dc:title>
</cp:coreProperties>
</file>