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07DC-140C-4D84-A6E9-A62E3C38B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4B | CORPORATE PROFITS BEFORE AND AFTER TAXES AS PERCENTAGES OF NATIONAL INCOME RELATED TO HEALTH CARE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2694-FF20-4B14-B349-60D59620A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57EF-873B-45AD-8AC8-96685610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CD7-4C8A-458E-B57B-CE3E5D8C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F715-022D-48E9-95ED-F2B11187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117-911D-4A1A-9F8C-602FB530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DBB6-7A34-4A1A-B22D-BB8B293D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0936-205A-48CB-A768-D89F9F3E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197-9762-452B-B726-DBE14AB2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7B6-E5FC-48C1-AFF8-29AB87F7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C4E7-7B02-4297-852D-5CFF7615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A922-C1FB-490D-A58A-1A2EE18B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5F4F-8B0E-4175-92A3-E91CD8EB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375-50DC-4196-8754-C1FCA4A6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6076-ED2E-45B8-8B6A-9338A6B26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440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4b | Gross operating surpluses—a very crude measure of profitability—are higher in ambulatory care than in health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oss operating surplus (GOS) as a percentage of industry’s own nati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5410080"/>
            <a:ext cx="836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gross operating surplus (GOS) is the share of industry national income remaining after deducting compensation of employees and indirect business taxes (e.g., privilege licenses).  GOS is somewhat larger than pre-tax corporate profits since it includes net interest payments and adjustments for capital consumption and inventory valu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4b | Gross operating surpluses—a very crude measure of profitability—are higher in ambulatory care than in health facilities</dc:description>
  <dc:language>en-US</dc:language>
  <cp:lastModifiedBy>Jia Yao</cp:lastModifiedBy>
  <dcterms:modified xsi:type="dcterms:W3CDTF">2013-09-06T14:17:02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4b | Gross operating surpluses—a very crude measure of profitability—are higher in ambulatory care than in health facilities</vt:lpwstr>
  </property>
</Properties>
</file>