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B92B-7233-4728-86F9-D74A7C401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FIRMS FOR PHARMACEUTICALS AND MEDICAL PRODUCTS &amp; EQUIPMENT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BFB-C293-4172-8DDB-C03C83A1C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614-71A6-4DAC-988E-875CA733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339-340C-4BD2-A03D-661A3B0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DA2-E388-48CD-B777-7C861CA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54F-7A58-4592-B97E-330E3412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5B2-2DFF-41FC-B587-C88D566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804-0339-412B-943B-0868035B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8A1-D8AC-48A8-8759-F79C6105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A1D-61B8-4EC5-817E-83B2692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CEA-49A2-4C88-941A-7BF05F5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052-77B5-4945-9BBA-377BBD2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476-1ACE-42EF-959C-8FBE6A5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FBB-F4A8-4108-B1FA-9C38BAE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A41C-78C0-4742-B3D7-34E0B5B9D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1480" y="1219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OR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7Copy</cp:lastModifiedBy>
  <dcterms:modified xsi:type="dcterms:W3CDTF">2014-06-21T21:23:53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