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AE32-CC94-4709-A691-AA27D8355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7028-2001-4C50-B973-319F1081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B599-F633-498E-856D-03CB93650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2864-D089-49B9-A8D8-3C6CF7110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73A3-86D4-4D17-99BB-B4E4E4B2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9D23-780C-47D2-B4F9-690FFC71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0BBD-C1E2-4E95-9319-7C053B39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68E1-6AAF-45A0-BE2C-EF837F4C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26DD-3D33-4A25-9D39-ECF037DE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2829-7C32-430F-A2E4-E3FD250E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1815-5513-4005-966A-90F25F8F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742B-BFB1-4097-9330-25046D75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81A6-11E6-437A-82EC-04086A80EC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1160" y="76320"/>
            <a:ext cx="9132840" cy="67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36Z</dcterms:modified>
  <cp:revision>22</cp:revision>
  <dc:subject/>
  <dc:title>PowerPoint Presentation</dc:title>
</cp:coreProperties>
</file>