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7E50-389B-40AC-AB24-72EE3230D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C | TRENDS IN PROFITABILITY: RETURN ON EQUITY AMONG FORTUNE 500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HARMACEUTICALS AND MEDICAL PRODUCTS &amp; EQUIPMENT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1A04-9475-4FC0-8BFC-6104AD21D7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5DE2-C7E8-4393-9212-12F93E18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9911-3F17-44FB-B50F-415FC5E9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EA41-64E2-40A0-A3A9-B1C5E1BD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9FF0-8F04-4824-8577-D3DB66C8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19F5-4B0E-406D-98FC-1E2F696C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8A29-1828-4D30-8F03-D73D72FB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9753-388E-4A7B-83C9-FE241345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D6B5-F08B-411E-AA08-F8F180FC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1FF7-6663-4CC0-B64D-2C1574FD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3CFD-A29B-4802-B422-69ADAF70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686C-1CF9-4667-AAA9-A8C33F4A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0094-0BCE-421A-9E2B-1118E3AF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AB19-D4EE-4A66-B002-823E741B1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8.7c | Both pharmaceuticals and medical products have somewhat lower industry rankings on return on equity than other measures of prof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7883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98320" y="114300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equity (ROE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41440" y="5345280"/>
            <a:ext cx="834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E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11). While the number varies slightly by year and profitability measure, roughly 50 industries a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c | Both pharmaceuticals and medical products have somewhat lower industry rankings on return on equity than other measures of profit</dc:description>
  <dc:language>en-US</dc:language>
  <cp:lastModifiedBy>7Copy</cp:lastModifiedBy>
  <dcterms:modified xsi:type="dcterms:W3CDTF">2014-06-21T21:25:36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c | Both pharmaceuticals and medical products have somewhat lower industry rankings on return on equity than other measures of profit</vt:lpwstr>
  </property>
</Properties>
</file>