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748F2-35F0-4B94-9B31-00405F735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6AFAD-EF64-4A1E-9129-06464B941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133A6-5E61-4838-8291-808F5DCB4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9D288-FCE9-44FA-9A57-9FCBBCC6B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96B75-7569-476C-9A5D-06CA2657E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D805E-8928-47FF-89D5-0A8B7F11B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99119-5BFD-4D87-93E3-2B12BC0FD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48A21-1186-450A-8F35-A9C5E5AA9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606BC-B837-41A6-90F6-8FC3E8C18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3B0B1-39BF-4512-A2DB-0A9DE47B3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23EF2-FDC7-4F51-AC1B-017340AD3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06011-CC27-46F1-8FC8-5F7020030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97631-5B89-42CE-B61B-4A4821525F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235080"/>
            <a:ext cx="9144000" cy="638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7:37Z</dcterms:modified>
  <cp:revision>22</cp:revision>
  <dc:subject/>
  <dc:title>PowerPoint Presentation</dc:title>
</cp:coreProperties>
</file>