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5B6-A6A2-4A16-AEA8-71E3A503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B42-B0AC-4DEE-8963-86C4716D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700-A1F0-46C2-892A-088C4D19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ECD-77B7-4452-9645-E2882FC1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BDB-9203-4455-B1AD-627E509F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00E-A9E9-4B30-95D2-27CA4355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9BE-9CF2-4402-A382-171BA59E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44E-8AA9-4497-B585-EC23AE18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1D4-486D-4CA3-AF84-A52DA8A3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ABD-7EB2-4B89-BCA4-DC43C504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0D0-DD4D-41DB-8764-5C889753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888-69B5-4342-B1F4-86162E2A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9C2D-C00D-46BE-8D6C-8DE84C2E3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400"/>
            <a:ext cx="90104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2Z</dcterms:modified>
  <cp:revision>22</cp:revision>
  <dc:subject/>
  <dc:title>PowerPoint Presentation</dc:title>
</cp:coreProperties>
</file>