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2CB9-A135-4F2F-A759-8F0464CDE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AB95-9041-4B7E-A26B-1D2C4FF5F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21F-64A7-4414-A4F5-F6EAF60B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C6B-0349-44A3-A01F-C82FD5D8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8A9-7B16-4F61-B4B6-398FEB82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0E4-2604-4671-82E6-09FD8F0A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C21-19AC-4426-9FE4-D7D03572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1D2-A686-4FA9-B39E-80190767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CDE-B94E-4A7F-9D3E-6C61E7E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17D-CAAD-4722-89A5-5E459B0B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971-8924-4E52-91D1-2BC8B2C6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77F-D18B-4193-A97B-F7D916B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8D1-669F-4A23-B2A1-5BE342F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EA9-7489-46D4-BECF-C316279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3DB-44C3-4E01-B9E3-22E9328B1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8.6a | Profit margins generally are highest for retail pharmacies and lowest for health care wholesalers for all health-relate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13360" y="114300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eturn on revenu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7Copy</cp:lastModifiedBy>
  <dcterms:modified xsi:type="dcterms:W3CDTF">2014-06-21T21:07:2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