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5D30-AB21-47DA-8648-E976C406F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.1a | Wage and Salary Supplements, by Type, as a Percentage of National Income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C83-FF95-4926-BA51-83DD07C0E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250-BACA-4369-85F3-5DEC9054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79A-ECAB-4C58-8012-3B203CED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3BF-EE29-4628-99EC-D6CC84AE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74F-A6DB-46B2-89B7-BC9333F4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AAC-9ACE-48A8-9766-B1CA4E1B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E9F-4261-49C8-8AE2-182B197E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54D-CE5F-4991-9DE3-8AECF1D7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8C9-E976-4556-BB48-5D3E7506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DCD-BF4F-43DA-A6FC-5530AB54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3AB-9F21-4A8D-BC74-860887DF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9D7-15C8-45E7-B6A9-2BB1DD26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B13-6E17-43AA-885D-31BAAA5E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7B21-8C2F-4E80-B5AB-A54E20C5C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1a. Despite rapid growth in health-related supplements, employee compensation as a share of national income has declined since 19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14200" y="957240"/>
            <a:ext cx="856008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5943600"/>
            <a:ext cx="842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: Health-related supplements include employer contributions to health-related social insurance  (Medicare Part A, workers’ compensation, temporary disability insurance) and private group health insuran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1a. Despite rapid growth in health-related supplements, employee compensation as a share of national income has declined since 1980</dc:description>
  <dc:language>en-US</dc:language>
  <cp:lastModifiedBy>Jia Yao</cp:lastModifiedBy>
  <dcterms:modified xsi:type="dcterms:W3CDTF">2013-09-06T14:16:4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1a. Despite rapid growth in health-related supplements, employee compensation as a share of national income has declined since 1980</vt:lpwstr>
  </property>
</Properties>
</file>