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524A-BBD6-4890-9E4F-406D8EFA3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A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6E0E-DEA8-41F9-A1F7-5DCCBC772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867-DF48-4D9C-95BE-971DA6AA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1CE-7624-4C96-8C20-ECF10536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7EE-EB85-4787-B7E0-882CC5CB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DC8-8479-41E8-80D3-8EAAD788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A5C-B276-4779-8D55-4D64EB15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E9F-8424-4117-9959-62A37F87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01B-9BF2-4FC2-B145-D2D36135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C6A-9D02-4F1C-900B-2A0B442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0CE-C26C-4FEF-B292-70061F41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3BD-616A-4BCD-944A-8883A44E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1FC-7B98-4DE1-8E07-B0D61F4A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7AC-D864-4FF0-B719-55708111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5217-E701-43A3-B800-3EC3D25B0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a | Health services profits have increased substantially since the advent of Medicare and Medicaid, but still are below a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a | Health services profits have increased substantially since the advent of Medicare and Medicaid, but still are below average</dc:description>
  <dc:language>en-US</dc:language>
  <cp:lastModifiedBy>Jia Yao</cp:lastModifiedBy>
  <dcterms:modified xsi:type="dcterms:W3CDTF">2013-09-06T14:17:00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a | Health services profits have increased substantially since the advent of Medicare and Medicaid, but still are below average</vt:lpwstr>
  </property>
</Properties>
</file>