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4214-5ABA-4FAA-8338-A0BCCE6AB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C79C-D79F-4E0D-9CA3-01398114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7950-0349-4695-912D-BD6FCEE31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7820-737A-41B2-BBA0-84E357EE9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557E-BD50-4480-932B-A0158E84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77DF-F2F0-49E0-B763-6EA53A1E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1273-9936-4692-994F-529F6191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7F86-9952-4AC7-A6DE-55FEBF0A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23C1-DD69-478F-9CED-7A9C4797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1FE1-EE48-4457-A251-1B4A4C00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2B61-C21D-4145-A143-DC9ABE51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7703-F290-42BD-AC6F-FADC1AFF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7986-8882-4E39-AC6B-BC377AC9F6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447920"/>
            <a:ext cx="911556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47Z</dcterms:modified>
  <cp:revision>22</cp:revision>
  <dc:subject/>
  <dc:title>PowerPoint Presentation</dc:title>
</cp:coreProperties>
</file>