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EA6-45B3-4913-99E0-4BFF1195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DF3-B89E-4AD0-A630-FCCA1F96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AA1-76FB-4824-9429-5B41A8AF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B98-132D-47FC-9923-ED7B79C1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777-1D84-4E49-BF60-1909237E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207E-D689-4D43-9C86-269516FE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E45-902F-4BFA-BE63-0DB526DE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C673-4171-42E0-B640-AC6735F8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275C-DB6F-4762-800B-7DCED230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4FBB-FCEB-4C77-8574-21A352B9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3743-D482-4F23-9EDD-BBEE5B19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D704-5FF4-433B-9E93-234EFD00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FE54-9CC6-40D7-9E11-8A04A7AED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3000" y="0"/>
            <a:ext cx="86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5Z</dcterms:modified>
  <cp:revision>22</cp:revision>
  <dc:subject/>
  <dc:title>PowerPoint Presentation</dc:title>
</cp:coreProperties>
</file>