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80288-1323-4B1A-842C-5A8F2FDCE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C3B22-2788-4457-A963-976151E72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5F9E6-56D7-4C59-BEDC-7C75EF201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46C08-7277-4841-900E-04FBF6AA0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A1CAC-8D43-4498-8272-6B3F6B249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00D44-0FFC-4595-9311-CFD85A925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9F229-A043-45A5-B117-5FD835BDE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6A534-9725-47B6-BC0D-84D5DB33C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A5BDE-4C40-4872-8950-D7178AC95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C9117-2287-4BA1-9308-A6B4D5F59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8B8F8-F92E-4B20-BE63-E242A4CE1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A2099-1634-4BAC-9872-72221F87A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7112B-344D-4D0D-959C-DFB819805F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76320" y="1187280"/>
            <a:ext cx="8929440" cy="445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7:49Z</dcterms:modified>
  <cp:revision>22</cp:revision>
  <dc:subject/>
  <dc:title>PowerPoint Presentation</dc:title>
</cp:coreProperties>
</file>