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0CD-07C6-4335-BCB6-FBA20AFC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2AF-5842-4415-80F9-108E0A3F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A01-669D-455E-AAFA-92B1813E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438-E681-42AE-A03B-D41DE7F9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98C-C73A-4444-AB6B-766504AF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61B-34EF-4249-B2DC-F893686B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2F3-37A4-418D-90D5-9D21213B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C58-539F-4879-928D-E72FD837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46B-77F5-4BD2-BA3F-4244BCC9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850-6FA2-4AFB-9916-A55853E8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EA9-EE33-418C-B072-AC271BDB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858-F823-4886-B4BB-919372D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7264-A88F-48CA-BD03-2ABE62DB8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9280"/>
            <a:ext cx="9131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3Z</dcterms:modified>
  <cp:revision>20</cp:revision>
  <dc:subject/>
  <dc:title>PowerPoint Presentation</dc:title>
</cp:coreProperties>
</file>