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21DF-C358-4DC2-86F7-0070A506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5499-5C09-4ADB-9B1C-68657E86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E443-82F3-4F7D-8DAF-FC8865EA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5B17-4DF3-4A59-875C-C3A88DFF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06DF-9552-4AF0-9402-78355E04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25E8-633A-4AC8-A0EC-85FC7333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C0FA-9CA2-4A84-8767-C7489918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A0F1-23BC-4C14-BFF6-6511A0D8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3506-4BE2-404F-BD98-5E153F4F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DE4-838F-4530-84C1-3D0048D2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8A00-9F75-4C8F-82EC-C36C0F70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8C5E-E236-4E3E-8067-C07E3462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EC7C-BA01-4942-9455-65F584FE1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5680"/>
            <a:ext cx="91440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8Z</dcterms:modified>
  <cp:revision>22</cp:revision>
  <dc:subject/>
  <dc:title>PowerPoint Presentation</dc:title>
</cp:coreProperties>
</file>