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8FE1-1879-48CD-A07A-7FF7353F6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B | PRIVATE HEALTH INSURANCE COVERAGE OF ELDERLY 65 AND OV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38E8-8189-4EEA-899C-C10A1969A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A14-C221-4231-AE87-8960A67B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5A8-1B12-4DF7-BEFE-B551C648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FC3-5F20-44F2-837C-45397AD5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DDC-9BF7-406F-88C6-5139F2F6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815-DE3F-462E-8596-05C1AD9A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8E3-1E4D-4EE0-9956-6AF8AF52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37D-C7BF-4892-88CA-7CAB9148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E7B-93F3-406C-A5DE-50980352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3DB-0D46-4049-B3A2-D4042ED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D5B-75C8-4FC4-AC16-1E88CBE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7AB-8D2D-4D3F-9140-5BF4800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70E-EB6C-4349-AEA7-88D54CF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471E-33B3-45E1-8AF0-FF63B39E9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b |  A large fraction of the elderly has supplemental Medicare coverage through employers or non-group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168560"/>
            <a:ext cx="92455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20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b |  A large fraction of the elderly has supplemental Medicare coverage through employers or non-group plans</dc:description>
  <dc:language>en-US</dc:language>
  <cp:lastModifiedBy>Jia Yao</cp:lastModifiedBy>
  <dcterms:modified xsi:type="dcterms:W3CDTF">2013-09-06T15:17:05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b |  A large fraction of the elderly has supplemental Medicare coverage through employers or non-group plans</vt:lpwstr>
  </property>
</Properties>
</file>