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7EB-E725-462D-94E5-5556F619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DB4-38FC-40A3-9A35-DAF39C7E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C4E-228B-4E39-B403-FEBB87AF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33B-B6F4-4EE9-9A18-F1338261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AF7-F29F-4EAD-96DA-6E886091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78F-DE0A-481F-86EA-B43A3C39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1FA-81ED-4421-B464-9EA501BD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595-F59C-4FE5-B262-F23FFEC2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3EB-79ED-43E3-BE35-ECD2C27C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FC4-CF9E-4EAC-9A54-0C5179E4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BDD-B6D5-404C-83F1-70FF6E35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82E-1D35-4491-8DD5-681C0276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85FC-9BFC-465D-9421-F144F50C0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82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5Z</dcterms:modified>
  <cp:revision>35</cp:revision>
  <dc:subject/>
  <dc:title>PowerPoint Presentation</dc:title>
</cp:coreProperties>
</file>