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B99-58CE-42C3-B5EE-2D0702D9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0C4-EA54-4DCF-867D-D6D9F86D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FEB-69CE-4E76-99BB-7EADC018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003-4328-471D-BCA8-E9B61B6E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7F8-DCF7-45EB-A7C4-C5746B32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36A-7B1F-4275-892F-9CD09980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D5B-D373-4721-8A35-4410575B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B9B-A0B1-4F0C-830C-C292ACDD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1C2-1DD6-4A52-B33D-BE5AE71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B15-7366-4CEA-827E-8EB2DF4A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9BD-1045-4533-ADBA-AF7F6F15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C4E-5D04-4A5F-B2B3-1423ABD1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379C-16DD-4875-9D5F-41C3744D3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1Z</dcterms:modified>
  <cp:revision>33</cp:revision>
  <dc:subject/>
  <dc:title>PowerPoint Presentation</dc:title>
</cp:coreProperties>
</file>