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2367A-EF99-4071-96B1-CF493859B3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3.3B | ADULTS AGED 18 OR OLDER REPORTING FAIR OR POOR HEALTH STATUS, BY RACE/ETHNICITY AND FAMILY POVERTY STATUS, 200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FDEAB-F894-46D1-B018-F42D48D3AD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AD1D-D59E-48A7-BC97-D4A193BEA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C430-A4D7-4344-9B37-B5FB74B51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1C33-16A2-438B-AD77-F464124E2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6A0B-A978-4B19-9208-59FBECA88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5826-3E05-47E9-8E5F-FEC20377E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53B9-EA14-443A-BD28-1C79F80E3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0023-A677-4EED-BAB8-BC8AA3C71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3211-EC66-4E29-995C-67CE513A3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D8B3-32C8-45EA-BC0C-A8156EBCA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1315-1B20-4B45-9B84-2C7537462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822D-073F-4AAB-BAD9-8651A003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FB6A-D0DD-4D57-9C66-A22F00ED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5C7BA-0244-4963-9178-8F0CD83CA0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3.3b | In all poverty categories, blacks have worse self-reported health status than whites while health status for Hispanics is bet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44792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individuals reporting poor or fair health (2003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6T14:26:56Z</dcterms:created>
  <dc:creator>Kristy</dc:creator>
  <dc:description>13.3b | In all poverty categories, blacks have worse self-reported health status than whites while health status for Hispanics is better</dc:description>
  <dc:language>en-US</dc:language>
  <cp:lastModifiedBy>Jia Yao</cp:lastModifiedBy>
  <dcterms:modified xsi:type="dcterms:W3CDTF">2013-09-06T15:16:59Z</dcterms:modified>
  <cp:revision>13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3.3b | In all poverty categories, blacks have worse self-reported health status than whites while health status for Hispanics is better</vt:lpwstr>
  </property>
</Properties>
</file>