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9151-AB39-4C76-B87C-B502C0EFA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2B | POVERTY STATUS OF UNINSURED, PERSONS WITH PUBLIC COVERAGE AND PERSONS WITH PRIVATE HEALTH INSURANCE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EAC5-0C45-413B-8398-FB503E954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061-D661-485B-A711-27724A07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F308-2FD4-4AA9-B4F7-256A3AD3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F83-E436-4752-B37A-28F875E7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20E-5E52-4162-8DCF-EEE3389C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D6A1-6EE7-41D7-A11D-D0714DE0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F2A-4DE8-4ABC-89F8-657196DD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F3B5-18F9-4C02-B30E-EBDD9A9E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609-6CD2-422A-BA84-23114C71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FAEC-28C2-4A6A-929C-2AA615D8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42B-1E01-433E-BDB9-8ED2B8A3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A049-C027-43D7-8CC5-A6B50F79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786-053F-4FC7-AB22-81D7C624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F5ED-D85E-4B75-A7B3-D3491A727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2b | More than half the uninsured and three fifths of those with government insurance have incomes below 200 percent of pov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2933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057400" y="1828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under age 65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85800" y="5943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individuals with public and private health insurance were placed in the public health insurance catego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2b | More than half the uninsured and three fifths of those with government insurance have incomes below 200 percent of poverty</dc:description>
  <dc:language>en-US</dc:language>
  <cp:lastModifiedBy>Jia Yao</cp:lastModifiedBy>
  <dcterms:modified xsi:type="dcterms:W3CDTF">2013-09-06T15:16:54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2b | More than half the uninsured and three fifths of those with government insurance have incomes below 200 percent of poverty</vt:lpwstr>
  </property>
</Properties>
</file>