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B7F-1EBB-41CB-8F46-9A4894C7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A3C-C708-4CF1-95C4-7EEEDE4B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FE1-752C-4849-BBD4-CCE4894A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4C7-7864-4D08-915B-1F365D6D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799-9DFC-4094-B5AC-AD31909C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BB6-5BCA-4164-A706-9945D68C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7F6-B8CB-4DB7-B24F-9501B4E4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5D7-D639-4E5B-9B95-4376DA75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6D2-C822-451F-B1FA-C2686A1C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897-833E-4CFD-93BC-46C4E580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F60-9419-4A11-B393-3F07A6C3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35D-9C91-4373-BF10-06322689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F2E0-41AA-4DC8-B232-857949885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70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9Z</dcterms:modified>
  <cp:revision>30</cp:revision>
  <dc:subject/>
  <dc:title>PowerPoint Presentation</dc:title>
</cp:coreProperties>
</file>