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6CA-0242-4F6D-9CD5-10F4FF7E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01E-5B64-4C03-81E6-9AEFF9AE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7EF-E6E2-46E2-B2A5-D7BF9C6B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37A-AFF6-4656-8B78-ECB17969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498-A4B0-4890-9E54-4FEF202D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2C4-2DB3-4448-A256-12B01DAE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6B3-1F2A-4053-87FD-37EC1B1E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C8A-3B3F-4D8D-9AC8-2A9B418E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E10-A4B8-4F56-BCAF-796060B3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D28-BDE9-4817-9A2A-1A96892E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A82-B70C-49FB-AF07-8549A245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588-130A-42F0-B6AC-5BE75F05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3542-E358-4FBA-BD76-1CC20F4BA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0"/>
            <a:ext cx="892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6Z</dcterms:modified>
  <cp:revision>31</cp:revision>
  <dc:subject/>
  <dc:title>PowerPoint Presentation</dc:title>
</cp:coreProperties>
</file>