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247-4331-4FE7-911C-A979C04A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230-A39A-4817-9025-FBB50AC6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75F-9D69-4ECF-A2D1-EFB31932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FEC5-5742-4068-9937-D2787C16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A1DB-D670-4474-86D5-06E45E3E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418-1AD3-49CD-A27A-E826335F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33F-D4B5-4D53-8463-7B907164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878-55E2-43A7-BC83-D52C1809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5D3-3D74-427E-A3C4-EC4BE5ED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182-F62C-47B1-A9DC-E87F1D14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DA9-16FC-4A8A-AF38-9D977EAB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35A-0BD9-46CA-A6C4-EA958B6C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F40D-DB93-4070-93AF-F242659FD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0360" y="85680"/>
            <a:ext cx="905364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3Z</dcterms:modified>
  <cp:revision>35</cp:revision>
  <dc:subject/>
  <dc:title>PowerPoint Presentation</dc:title>
</cp:coreProperties>
</file>