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9EAD-3687-42FF-A620-8AD99249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7D7E-C528-4B5D-B2E4-12E47243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9BE2-4EAC-461F-88E9-BA8F816DD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9B1A-3EC8-46B4-94F0-7ACD5012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8DF5-EF5E-486A-851B-D28160FE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272B-0AB0-4B6E-B2D2-3F9219D6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D278-93CB-43B0-9F4B-42FE6CF7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C687-D56F-43A1-A417-73A07B63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9B83-4F78-44B9-A693-729C9F0A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6641-45ED-4E6D-B010-BB94C44F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B421-4852-468C-85FD-7E17870B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FDC6-C2BA-4219-AAC8-7DB5E6B2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8CCC-A169-4D8B-AC70-AE870E9E33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6080" y="380880"/>
            <a:ext cx="90518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25Z</dcterms:modified>
  <cp:revision>31</cp:revision>
  <dc:subject/>
  <dc:title>PowerPoint Presentation</dc:title>
</cp:coreProperties>
</file>