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EA00-2379-40F2-8382-75A6FAC19B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4 | PRIVATE HEALTH INSURANCE COVERAGE OF CHILDREN UNDER AGE 18, BY FAMILY POVERTY STATU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8925-D88D-431E-818F-3860302813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B511-A858-4357-8B14-6BE5DE89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3585-28CF-4047-9A55-4DD78D75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B5A1-BAEA-4144-9217-F7D39F973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CB02-CBDA-47FA-8F4A-5B730D91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DE82-BFC0-4DCB-A51C-563A70A4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BB94-A305-47D4-9298-ECCAC448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099B-242E-424E-ABD5-D12D3EF2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4EE1-CF61-46EF-A54A-EEE9CDCF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6D46-200E-47A8-8F9F-FABCAF44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2484-BD08-462A-9A80-2DDB6240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61E3-8881-4A26-85DB-F587C688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BE77-80B4-4195-A778-D6A02994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0A2D-CFC3-405E-81F2-325298B5C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4 | Children below poverty are only one fourth as likely as the general population to have employer-sponsored health cove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3716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who have coverage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4 | Children below poverty are only one fourth as likely as the general population to have employer-sponsored health coverage</dc:description>
  <dc:language>en-US</dc:language>
  <cp:lastModifiedBy>Jia Yao</cp:lastModifiedBy>
  <dcterms:modified xsi:type="dcterms:W3CDTF">2013-09-06T15:17:01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4 | Children below poverty are only one fourth as likely as the general population to have employer-sponsored health coverage</vt:lpwstr>
  </property>
</Properties>
</file>