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EAB4-C53E-452C-92E8-A962AA453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A | PRIVATE HEALTH INSURANCE COVERAGE OF NON-ELDERLY ADULTS AGE 18-64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527A-31A7-49CA-9447-6A463AAFA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381-5B52-4A48-89DA-0FB3F27E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F0A-F5F9-423A-ACBD-8F2E4658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960-B558-44D1-8A28-A44398D4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76D-CDC8-4A6A-855E-1BC11215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03D-2A69-44DA-9844-4EBAEDDC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D0F-B163-4B4B-8153-D0D05B2D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A09-746B-4DAC-81C1-6010DF09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307-76DD-42BF-9A7F-7EE4AA20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1D3-67DE-47C5-AB60-6A11FE82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4A6-1D08-4538-B34B-E8B10B3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089-7449-4784-B787-0B7FE64C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C2A-AEA5-414E-9E0D-9E8DE250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CBD2-B28C-469B-88EF-EBD838A50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a | Poor adults under the age of 65 are more than three times as likely to be uninsured all year than to have employer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47312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a | Poor adults under the age of 65 are more than three times as likely to be uninsured all year than to have employer health coverage</dc:description>
  <dc:language>en-US</dc:language>
  <cp:lastModifiedBy>Jia Yao</cp:lastModifiedBy>
  <dcterms:modified xsi:type="dcterms:W3CDTF">2013-09-06T15:17:03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a | Poor adults under the age of 65 are more than three times as likely to be uninsured all year than to have employer health coverage</vt:lpwstr>
  </property>
</Properties>
</file>