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9C4-2FDB-4379-A460-DA423BC6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AF9-BF69-499D-A2E0-DD4E184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770-A198-414D-AC42-B1369679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AA5-25F9-42D2-9A16-D1DA3832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607-DDF1-4C5D-B771-A5A8CA1C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202-AE05-49FD-80A8-E238DDAB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80B-03BC-4612-9887-6BF35764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D89-2583-46D7-94B9-61A4544B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E52-B295-4194-BD68-84696EC9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82C-7C77-4D32-BF00-43FDB180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C43-AB04-47DB-85FC-C0B4AD8C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3C2-24B2-47D0-94A0-9813F540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5712-9369-4F9F-BDDE-07C0002D4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1Z</dcterms:modified>
  <cp:revision>33</cp:revision>
  <dc:subject/>
  <dc:title>PowerPoint Presentation</dc:title>
</cp:coreProperties>
</file>