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CB8-2745-4DBF-85B9-E6FC6AA0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FEF-5C92-4CCE-80BA-2BDFFE27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DE0-F7FC-4D5F-8410-AA862B9D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30C9-98D6-4636-BBD4-473753EB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6AE-E1E2-40BB-AE31-5E31CA80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C19-900B-409A-86F5-2C3DCE01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3F24-E6F1-4FBD-B3EC-8B198411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46C-6968-498B-B939-1F21BC9C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4FD-41B8-44D3-8AFC-78BE2634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0C6-81A4-4232-ACAB-3CCBEC00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096-2DB1-484D-A2E0-4644C7DD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788-31C6-49C8-A409-29D1A9A9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C6EE-20A2-4C58-8C4B-5BF548F34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380880"/>
            <a:ext cx="9051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5Z</dcterms:modified>
  <cp:revision>31</cp:revision>
  <dc:subject/>
  <dc:title>PowerPoint Presentation</dc:title>
</cp:coreProperties>
</file>