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C1D3-7EB2-472E-B534-D28437CEE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3.1a | Number of Persons Below Poverty Line, by Poverty Measure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75CD-1588-4F56-925D-ABFB285E4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2A5F-F8E8-4C10-9B04-D1D74080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C84-1665-4B36-B51F-11CB6A0B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0BF5-FDC6-493C-BE39-ACF47294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7CD-BCA6-4AEF-9D36-A4376ADC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43D0-79EF-493E-86FA-E22FFAA1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483-D541-4769-9509-2191EBAE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F37-3B28-4D0A-B82E-3722AE9C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7D25-3F34-4D15-B3D8-56203182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A47-67B7-4B7B-A811-058ADA5B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ADF-82E1-4F36-80DF-059DB7DD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658-003E-4BA3-A1FB-5D3BB368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7873-745E-4C46-B101-2F8D8973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1CB8-80F8-4EEE-B163-1C7C37B97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1a | Taking into account medical expenditures decreases the estimated number below poverty by up to 4.5 million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tal number below poverty line, in million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1a | Taking into account medical expenditures decreases the estimated number below poverty by up to 4.5 million people </dc:description>
  <dc:language>en-US</dc:language>
  <cp:lastModifiedBy>Jia Yao</cp:lastModifiedBy>
  <dcterms:modified xsi:type="dcterms:W3CDTF">2013-09-06T15:16:48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1a | Taking into account medical expenditures decreases the estimated number below poverty by up to 4.5 million people </vt:lpwstr>
  </property>
</Properties>
</file>