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EDFC-3548-429D-81E0-8CF1ECB3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4048-1AF9-4ADF-B741-6C19CDC9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01D-EBD8-4052-AE5E-A49582A5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7A4-3CFD-48D9-B4E2-302C4AA9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BE3-668C-4041-99FD-C9272710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F08-2B5F-4D7A-AC8F-202B85A1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3C9-6C66-4639-8F85-633E34D7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94A-374F-452B-9FEA-3C9FC1F8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655-0F70-45C0-9BBB-79439D1D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EFA-CBC1-4B00-86AA-B5040A10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5CE-361D-47F8-8578-CE962B63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F36-6E65-4C1C-B56A-704687A3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47B1-0A15-47E0-8FD6-319E257F7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0360" y="85680"/>
            <a:ext cx="905364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3Z</dcterms:modified>
  <cp:revision>35</cp:revision>
  <dc:subject/>
  <dc:title>PowerPoint Presentation</dc:title>
</cp:coreProperties>
</file>