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3FD-84B1-418C-BB0D-66801880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565-B46C-4F7D-8982-0196A5E3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A64-CE64-4BF4-87AD-3F47CEFB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34B-457F-4739-AAD1-627F5280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9E6-7633-4B5F-B7E0-8A30FE66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BD7-98BC-4F69-8311-5F340FF4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8E7-D1A9-4378-BF49-DEB0DA66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FD1-68BD-4AB1-93F3-2B657CEF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CCE-5EF1-45CB-8D2A-8CA8470D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900-418B-48E5-909E-8B07F84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23F-7068-4BBF-94AB-ECD9359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9F8-1066-4EDF-8408-30505F30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E976-D4CD-41E0-8EA0-9A622800B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70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9Z</dcterms:modified>
  <cp:revision>30</cp:revision>
  <dc:subject/>
  <dc:title>PowerPoint Presentation</dc:title>
</cp:coreProperties>
</file>