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311F-B0F8-4DAD-B59A-BED23DBC4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3F9F-893C-423B-AE69-9D862AF96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11B3-237F-4E7C-B62E-336B2AEE0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AD0F-7FC6-44F3-BD26-5968C621C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2765-18E7-4232-81BE-EF1D7D15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F16C-CFDC-477E-A9BA-8A3A57370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3F38-05EC-4B40-A030-936E6D11A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8318-0A27-4183-881A-37982D8E3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AF31-79AB-47F3-A8B8-02E3BB940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CFF8-9B56-4424-80A8-9DB9CC47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19EC-25DC-40ED-8E24-CC6439B4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8C08-B0DE-4ADA-BF7D-947CF2F9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57C29-B353-4654-B043-36ABB9D22D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441360"/>
            <a:ext cx="9067680" cy="60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6:28Z</dcterms:modified>
  <cp:revision>31</cp:revision>
  <dc:subject/>
  <dc:title>PowerPoint Presentation</dc:title>
</cp:coreProperties>
</file>