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758B-083C-4E9A-A357-D7D1B4BF9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2B | POVERTY STATUS OF UNINSURED, PERSONS WITH PUBLIC COVERAGE AND PERSONS WITH PRIVATE HEALTH INSURANCE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ACC4-D82A-4D2B-9110-9086292F5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9234-736A-42BD-AE9C-7B5CB943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752F-2090-45F7-81CC-825E84C1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A677-DEEC-4173-95DC-563AF072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7A7-00B9-4C34-8C9F-C293FAF2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3DF8-55E1-49CD-B813-A584ED5B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9ED8-54DC-4A39-A467-2121582D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15D-477E-42B9-A8C3-D1FB51F6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67C8-D7AD-4546-9B01-7B120E0B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AFCC-2BE0-47CC-8DE9-C263E863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CF5-A02C-4C45-BDFB-E1DF5B12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E37-0F8C-4FA5-B92B-39431294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C808-159A-4AA1-A2D9-0CF22E7F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1BAE-C17A-42AB-9133-52DD0A6A7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2b | More than half the uninsured and three fifths of those with government insurance have incomes below 200 percent of pove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2933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057400" y="1828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under age 65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85800" y="5943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individuals with public and private health insurance were placed in the public health insurance catego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2b | More than half the uninsured and three fifths of those with government insurance have incomes below 200 percent of poverty</dc:description>
  <dc:language>en-US</dc:language>
  <cp:lastModifiedBy>Jia Yao</cp:lastModifiedBy>
  <dcterms:modified xsi:type="dcterms:W3CDTF">2013-09-06T15:16:54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2b | More than half the uninsured and three fifths of those with government insurance have incomes below 200 percent of poverty</vt:lpwstr>
  </property>
</Properties>
</file>