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11AC-D4DC-460D-A530-71E39E1D9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B | ADULTS AGED 18 OR OLDER REPORTING FAIR OR POOR HEALTH STATUS, BY RACE/ETHNICITY AND FAMILY POVERTY STATUS, 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F523-9A71-4D64-B838-7CE45D2E0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87C-0B0F-4092-BC25-28E47E85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0BB-E867-4BA7-A852-9A2DA275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33B-3AC4-4549-97A1-A2B0ECE6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8F6-4314-49BD-867C-0DF430E1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D40-5041-4929-A64E-9F9403A8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B75-CFC1-4793-9FEA-0DB2D876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CF6-1058-4A9E-B513-32AF3C5F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F16-7320-46F1-B6A7-1A890DFD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9D5-460D-436B-A70D-2DA22B3D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BE3-F280-4BE7-A485-919EE9BA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5221-8D41-4F8C-8AF7-CB011294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960-0C8C-44C3-8478-1F338A33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37B3-CFC3-4F2B-8952-6EC1A8FAA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3b | In all poverty categories, blacks have worse self-reported health status than whites while health status for Hispanics is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reporting poor or fair health (200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b | In all poverty categories, blacks have worse self-reported health status than whites while health status for Hispanics is better</dc:description>
  <dc:language>en-US</dc:language>
  <cp:lastModifiedBy>Jia Yao</cp:lastModifiedBy>
  <dcterms:modified xsi:type="dcterms:W3CDTF">2013-09-06T15:16:59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b | In all poverty categories, blacks have worse self-reported health status than whites while health status for Hispanics is better</vt:lpwstr>
  </property>
</Properties>
</file>