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39A1-8A5B-4FEE-80BA-015F33ED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856A-36DB-4880-B90D-E7297885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1330-DD97-448E-BB83-F0D0137B0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22EA-1D6C-452F-B0A6-A8FB2B248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7B76-8B35-4ED5-AF2F-ED43CA70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1B4F-D23F-4D2A-BABE-CCA8D2E7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32DE-9037-4D2B-A790-F5E6F854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76EF-354D-4A87-A25D-71578E96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AC46-3030-4DAD-8C57-59F76CA2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69A2-F476-4EDC-BBBC-765ED84C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1F89-220A-48BB-A9FE-B2AD2C68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D708-39CD-4443-A77B-A7EBE317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4FA8-4C85-4172-B142-FFAAEE22F7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9440" y="0"/>
            <a:ext cx="892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26Z</dcterms:modified>
  <cp:revision>31</cp:revision>
  <dc:subject/>
  <dc:title>PowerPoint Presentation</dc:title>
</cp:coreProperties>
</file>