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AC3-CCEC-4206-AA3A-DFEC7F2A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898-A785-4358-B349-09B6DC96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8A3B-8B21-41FD-A592-7FDA6013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DAF-286C-4FB1-81E4-59CE1629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AB9-6BA6-49F0-955E-6311F331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BD67-4C54-49B4-87B7-E83173E9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E8D-E43B-41A5-846D-FBB7768B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A7B-5BBF-480E-8081-21FE7663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358-3523-4F36-A408-755289DA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964D-2A77-44AE-9478-DCD0FEBB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FE0-388D-425A-A6D8-4ABC1333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D8C-C801-4117-8A8F-62D508E9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1A21-6EDF-4CA0-861B-02082A151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082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5Z</dcterms:modified>
  <cp:revision>35</cp:revision>
  <dc:subject/>
  <dc:title>PowerPoint Presentation</dc:title>
</cp:coreProperties>
</file>