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9143-5013-4CDB-A767-B2C7C3CB82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2.1A | CONCENTRATION OF MEDICAL EXPENDITURES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51B9-2AC5-45F7-AA20-513811C998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B23E-3ADE-4D22-985F-30A7FBC25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FFBB-E4E5-4E6E-8A79-12044EF1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EB02-7F9B-4523-8865-EF28FDD17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3B4A-148A-4CEB-8957-FCE25BFFD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D545-25FD-4A13-953B-B3CB0A39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C4BD-13FD-4629-8FDA-24918085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2CAA-5E8C-406F-B242-A716E5C0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872B-58DF-4168-875A-844A49D9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69E2-53DF-458A-BB2D-82D732AB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6A76-E6C8-4C2B-8BF7-6AA4CA3B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ABDB-0D89-44FD-9B6F-A3504B69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69EF-4BE4-4C5E-A98F-DAA168EE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CC88-7F5F-4861-AAF0-E69367497E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12.1a | Only 1 percent of the population accounts for about one quarter of health spending; 5 percent account for nearly half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-50760" y="977760"/>
            <a:ext cx="8788320" cy="49024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4529160" y="1160640"/>
            <a:ext cx="37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total health spending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170360" y="1160640"/>
            <a:ext cx="328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stimated per capita spending (201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609480" y="54864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percentages are for the civilian, non-institutionalized population based on Medic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xpenditures Panel Survey (MEPS) data for 2008.  2011 per capita spending has bee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alculated from 2008 figures, adjusted to account for increased personal health spendi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 capita and to reduce differences between MEPS and National Health Expenditure estimat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523880" y="502920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stribution of population ranked by annual per capita health spe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0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1a | Only 1 percent of the population accounts for about one quarter of health spending; 5 percent account for nearly half</dc:description>
  <dc:language>en-US</dc:language>
  <cp:lastModifiedBy>Jia Yao</cp:lastModifiedBy>
  <dcterms:modified xsi:type="dcterms:W3CDTF">2013-09-06T15:12:48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1a | Only 1 percent of the population accounts for about one quarter of health spending; 5 percent account for nearly half</vt:lpwstr>
  </property>
</Properties>
</file>