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B71-790B-4AE3-9AF4-A607F5C7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EDE-DB3E-4ECD-A7D4-1825E0AA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608-6FA4-4FB8-8BD6-2301A3D6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E81-03E9-41D0-B324-F6E867F3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74C-D565-47A9-A2FD-CC228D5C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C49-8698-4145-8095-6D1E1A84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270-EDC6-46BC-B40F-7FAB7EF2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65A-3615-4277-A3B3-290063C8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874-AFD3-4078-89CD-D1213D87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7E2-CA33-4C82-8578-88C9DCA6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0F3-1556-4D2A-AF30-A4E6123F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1CC-03AF-4B7E-86B8-261A739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2BFF-3D14-4DCC-910F-FADADA986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0160" y="0"/>
            <a:ext cx="87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49Z</dcterms:modified>
  <cp:revision>31</cp:revision>
  <dc:subject/>
  <dc:title>PowerPoint Presentation</dc:title>
</cp:coreProperties>
</file>