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C836F-9C49-4ECE-BFA7-212858267A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2.7b | Trends in Health Spending as a Percent of Gross State Product, by Region, 1980-200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DFF9D-5DAD-455F-8AD3-2173E2DABB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59F1-F1EC-4770-96FE-282BC37AD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22C4-5C51-4549-8B2F-575C61272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F94E-8FCD-46FE-8F86-88B28AD9E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95DC-F5CF-4850-92EA-4E7BD3142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F520-1C6D-4D6B-A314-12D1B793F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4E7D-CE4E-4528-8321-F1901DB29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8565-4A0B-49FD-B2B3-EE48DCFF3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A01F-765E-4997-A749-CE53B1016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7A75-D42A-43D9-A3E3-58023219F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D4B6-3B7A-4E78-B968-7F2D47B2E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299E-514E-42CD-8509-C55AC6EFD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B87E-9247-4212-AACA-0AE5E5A77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A5371-1D4B-4CF0-A054-B5846A0DDC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274680"/>
            <a:ext cx="89154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2.7b | In just in one quarter century, there have been large changes in the relative burden of health spending across reg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177840" y="1092240"/>
            <a:ext cx="8788320" cy="55879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533520" y="1295280"/>
            <a:ext cx="76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dex: health spending as a percent of gross state product (100=U.S. averag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1T13:12:38Z</dcterms:created>
  <dc:creator>Kristy</dc:creator>
  <dc:description>12.7b | In just in one quarter century, there have been large changes in the relative burden of health spending across regions</dc:description>
  <dc:language>en-US</dc:language>
  <cp:lastModifiedBy>Jia Yao</cp:lastModifiedBy>
  <dcterms:modified xsi:type="dcterms:W3CDTF">2013-09-06T15:13:27Z</dcterms:modified>
  <cp:revision>23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2.7b | In just in one quarter century, there have been large changes in the relative burden of health spending across regions</vt:lpwstr>
  </property>
</Properties>
</file>