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67AE-1E70-4E61-9C23-1EC46CD56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a | Trends in Per Capita Health Spending by Geographic Region, 1966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D487-3CA0-45CE-AD10-69EAF3197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D2E-0AFA-4272-BB15-9B62508E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A46-BBC6-4F34-A330-70B5EA87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471-CC04-4250-9108-6885894A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E95-C927-4DBA-9E58-E44677C9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B0D-697B-4B93-853A-B7D286ED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459-4C28-4B3A-8DCA-89FE0D4B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AA4-1BAA-416C-A163-486CCC19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BBA-6739-4E77-91FB-3FCF0D9A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019-F46B-44C2-833C-B9CDFEDC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3DC-34B2-4B96-8B43-148D7407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66E-50C3-42E2-8FF3-EABE6C23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983-7FA8-4916-8190-F10E341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BEF1-CACD-41A5-A91D-C2609AF09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a | Regional differences in per capita health spending narrowed from 1966 to about 1985 and widened thereaf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Health Spending by Location of Servic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6095880"/>
            <a:ext cx="81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not available for years 1967-68 ,1970-71 or 1973-1975, so they have been interpolated to avoid distorting the length of the bottom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a | Regional differences in per capita health spending narrowed from 1966 to about 1985 and widened thereafter</dc:description>
  <dc:language>en-US</dc:language>
  <cp:lastModifiedBy>Jia Yao</cp:lastModifiedBy>
  <dcterms:modified xsi:type="dcterms:W3CDTF">2013-09-06T15:13:1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a | Regional differences in per capita health spending narrowed from 1966 to about 1985 and widened thereafter</vt:lpwstr>
  </property>
</Properties>
</file>