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D863-B1B8-4468-89BB-9D369212C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54160" y="684360"/>
            <a:ext cx="4549680" cy="343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7a | Per Capita Income and Health Spending as a Percent of Gross State Product, by State of Residence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39EB-1EEE-4E5A-BBEF-964182A1A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2A7A-52A0-48BA-BA64-C9C2EF83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FADC-AE94-437F-9FA8-893D9F6D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E086-EAEB-4217-8332-CE5AE689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4EE6-5F4B-4130-8F87-D523E8F1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8E43-C415-47BC-83BF-C048B9A2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AA84-70A3-4414-AB04-86BBD435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677A-139E-459E-9170-219A867E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647D-2C93-4CA0-9A87-15AF9ABE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898F-5F18-4287-8429-20CC7850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18C4-DCC3-47B9-B336-3A75336C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37B2-26AB-432A-95D1-115B6BC7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3DCF-90FB-4136-9D2F-D2E12B671C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3" descr=""/>
          <p:cNvPicPr/>
          <p:nvPr/>
        </p:nvPicPr>
        <p:blipFill>
          <a:blip r:embed="rId1"/>
          <a:stretch/>
        </p:blipFill>
        <p:spPr>
          <a:xfrm>
            <a:off x="0" y="1473120"/>
            <a:ext cx="8686800" cy="51307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7315200" y="5410080"/>
            <a:ext cx="44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523880" y="38862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2514600" y="19810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4572000" y="4724280"/>
            <a:ext cx="44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1" name="Straight Arrow Connector 24"/>
          <p:cNvCxnSpPr/>
          <p:nvPr/>
        </p:nvCxnSpPr>
        <p:spPr>
          <a:xfrm flipH="1" flipV="1">
            <a:off x="4272840" y="4571280"/>
            <a:ext cx="299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2" name="Text Box 10"/>
          <p:cNvSpPr/>
          <p:nvPr/>
        </p:nvSpPr>
        <p:spPr>
          <a:xfrm>
            <a:off x="4572000" y="42670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" name="Straight Arrow Connector 26"/>
          <p:cNvCxnSpPr/>
          <p:nvPr/>
        </p:nvCxnSpPr>
        <p:spPr>
          <a:xfrm flipH="1">
            <a:off x="4304880" y="4343400"/>
            <a:ext cx="26712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Text Box 10"/>
          <p:cNvSpPr/>
          <p:nvPr/>
        </p:nvSpPr>
        <p:spPr>
          <a:xfrm>
            <a:off x="4572000" y="3429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5486400" y="3429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143000" y="2286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33"/>
          <p:cNvSpPr/>
          <p:nvPr/>
        </p:nvSpPr>
        <p:spPr>
          <a:xfrm>
            <a:off x="533520" y="15238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 health spending as a percent of gross state product, 2004 (100=U.S. avera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tle 1"/>
          <p:cNvSpPr/>
          <p:nvPr/>
        </p:nvSpPr>
        <p:spPr>
          <a:xfrm>
            <a:off x="228600" y="274680"/>
            <a:ext cx="86868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7a | Differences in per capita income alone account for more than one third of differences in health spending burdens across st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3733920" y="518148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Straight Arrow Connector 37"/>
          <p:cNvCxnSpPr/>
          <p:nvPr/>
        </p:nvCxnSpPr>
        <p:spPr>
          <a:xfrm flipV="1">
            <a:off x="3961440" y="4952160"/>
            <a:ext cx="68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" name="Text Box 10"/>
          <p:cNvSpPr/>
          <p:nvPr/>
        </p:nvSpPr>
        <p:spPr>
          <a:xfrm>
            <a:off x="2286000" y="23623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3809880" y="28195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9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/>
  <dc:language>en-US</dc:language>
  <cp:lastModifiedBy>Jia Yao</cp:lastModifiedBy>
  <dcterms:modified xsi:type="dcterms:W3CDTF">2013-09-06T15:13:24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/>
  </property>
</Properties>
</file>