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657-D14F-4D46-99A6-C4AC5AF5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9B5-2A86-49BF-8076-313DA0F0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520-AF5F-4498-A9A4-83FF3FD0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FE6-D48C-4C39-9652-00031F62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F1A-F63A-4972-BADA-4C26F685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764-6148-4984-AA49-62ED0193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200-8D98-4FEB-9FC0-75E958D0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D2F-E9A7-43B7-8F27-B6DF6838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409-091A-416E-A85E-4337299D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9A3-68C2-4BE5-9A0A-770DF037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9B7-1D9A-472E-89CD-F03FD754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F5D-362C-48BD-81FE-56D62CB1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6AAB-DD52-4383-9FAF-932F315AF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1523880"/>
            <a:ext cx="905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4Z</dcterms:modified>
  <cp:revision>31</cp:revision>
  <dc:subject/>
  <dc:title>PowerPoint Presentation</dc:title>
</cp:coreProperties>
</file>