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49C-1331-4D44-B43C-DD1F34A0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708-CC99-4C62-8571-D25375C7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ED0-CC31-41E9-B97E-C56CCE5D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9BB-C887-4EC2-9D06-609E2A77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959-739B-4906-B115-28E28547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F49-170C-428F-A59A-8E798F8E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B39-4799-46BB-9683-E08E5EEE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E71-970F-4F39-A3C7-48A0DE53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E0E-2D0C-4509-8BC1-F3477065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133-86F9-47F2-B0B1-7980D9C4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9D5-AE53-48B1-88A9-C4AAA478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151-130C-4664-B8E4-C491EF22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7C51-E6B1-4AC0-829C-AB30BAFE3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2Z</dcterms:modified>
  <cp:revision>31</cp:revision>
  <dc:subject/>
  <dc:title>PowerPoint Presentation</dc:title>
</cp:coreProperties>
</file>