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9AB-7AA0-4E6A-839A-BEF729EA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F1B-8111-4C93-BFDB-8CF4C803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1525-7066-472B-AEF8-5779E931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654-7A86-4996-9521-12A78123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CB4-CD37-4E46-81C8-F87602BA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C34-B694-4A46-BFD6-BD2050A3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BC7-2717-4729-A124-859F81B3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1D6-3E0A-4DD0-9184-0DED0020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2A7-4E75-4C5A-BC36-7CF0604F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CFD-E71B-4A42-9AD5-8DB15112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FA3-42F1-4ABE-834B-C890EFEC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292-384C-42C1-AF79-BDFF6C3A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9F11-01A6-4FAF-8792-38E0553A1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143000"/>
            <a:ext cx="905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5Z</dcterms:modified>
  <cp:revision>31</cp:revision>
  <dc:subject/>
  <dc:title>PowerPoint Presentation</dc:title>
</cp:coreProperties>
</file>