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5D4E-E6D4-435A-89AC-504A275CF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b | Direct Health Spending as a Percentage of Family Consumption Expenditures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2101-4940-4B7A-BDC2-55E50E21A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E41-6179-4552-B596-BCD0FF55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D19-1BD2-4847-831B-49572926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AA3-8A6C-4EE6-8711-F1D2F78A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EC5-5E21-48E2-8883-986CA550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8C2-D091-487C-A130-A44AB1B5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B4D-EA52-4206-BDFF-11652DA4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BE0-3CDE-48F2-8CD9-50FB09EC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4CE-8F0F-49F1-B679-6298661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46F-2A2C-4668-A06F-B3AB07E0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D6C-65E1-4142-8795-33ED2DE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687-076F-4CA7-A23C-883CD477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C04-4B4D-48FA-8401-0077C1A4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9506-753D-4821-975B-85CB08788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b |  The burden of health spending is far smaller when compared to consumption rather than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597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health spending as a percentage of family consumption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0440" y="57913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irect health spending includes only the family share of premiums paid for private or public health insurance, along with all out-of-pocket spending on medical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b |  The burden of health spending is far smaller when compared to consumption rather than spending</dc:description>
  <dc:language>en-US</dc:language>
  <cp:lastModifiedBy>Jia Yao</cp:lastModifiedBy>
  <dcterms:modified xsi:type="dcterms:W3CDTF">2013-09-06T15:13:0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b |  The burden of health spending is far smaller when compared to consumption rather than spending</vt:lpwstr>
  </property>
</Properties>
</file>