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80C-3D8F-4E42-8F05-2D3C766A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2D9-6432-490E-9211-ACDC038E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38D-AB69-4309-976F-953B9880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661-BC32-4C29-8EC9-2CE27706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885-F963-4322-B67A-153519F1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F0B-0DA8-4C28-B342-BA321B35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682-CA23-4A64-AF5F-EB447ED0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8DE-8EC4-4759-A21A-CA6F8DCE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DED-2BAB-4D7B-BDE5-456374BF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4DC-5E9D-481C-85B0-04B50129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891-6402-48A3-9D8D-8ECF71B4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267-F1C4-4997-991E-24CED19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9ACA-0D2D-40ED-9396-083E6B80C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3Z</dcterms:modified>
  <cp:revision>30</cp:revision>
  <dc:subject/>
  <dc:title>PowerPoint Presentation</dc:title>
</cp:coreProperties>
</file>