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3DEED-98B4-4E61-91C6-66C7633796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2.4b | Per Capita Health Spending, by Major Age Category, 1977-200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04CEB-EF6E-4CEA-A0A2-3CE8F5CF3D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A14F-D6ED-4D45-B531-309F7C850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7787-535D-48DD-BD19-7CD115AB1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36FC-EC86-4AC3-AAE6-097A36A23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F438-3F97-4507-80F3-29E5F3909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5A6C-A613-48FF-997E-99E831CFF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EB40-C4AF-45C1-85DE-37106576C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7D0B-59E3-449F-BD1E-17DD038DF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FFAF-5180-49F7-9F77-BE9924565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B84A-1660-4E62-A447-9A4296241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66B3-3D2F-47F0-8686-E8996B820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B474-9656-43C5-8666-461167DBC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23FF-822D-49FC-96E1-21A5E9F02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F4CCA-14B7-40F2-93EF-FAA9069383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2.4b The rate of increase in per capita health spending declined for all age groups between 1977 and 2004, though at varying ra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33520" y="16002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mpound annual growth rate in per capita health spen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13:12:38Z</dcterms:created>
  <dc:creator>Kristy</dc:creator>
  <dc:description>12.4b The rate of increase in per capita health spending declined for all age groups between 1977 and 2004, though at varying rates</dc:description>
  <dc:language>en-US</dc:language>
  <cp:lastModifiedBy>Jia Yao</cp:lastModifiedBy>
  <dcterms:modified xsi:type="dcterms:W3CDTF">2013-09-06T15:13:12Z</dcterms:modified>
  <cp:revision>23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2.4b The rate of increase in per capita health spending declined for all age groups between 1977 and 2004, though at varying rates</vt:lpwstr>
  </property>
</Properties>
</file>