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646F-1AE0-4827-99B2-A2222B8C8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a | Health Spending by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ACF8-415E-439F-A1E7-841E6C316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FD3-3704-470D-8E40-30047A4A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CAD-53F2-4A96-A2EF-08A532B5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333-0EEE-451C-8737-3E667410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E38-DD05-4269-9F70-FD01A894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015-7836-4F5A-AAEF-35EADFEE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985-6BA3-4E60-8AB4-A136E0FC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97B-A8C4-4E74-9CE4-F198742A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1CC-316B-4262-953E-7D3303FF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5ED-092E-4810-85FD-3BC086CD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E28-548A-4193-8CDD-C01E764C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6F3-E04D-4DD7-B6F2-485434A4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BE4-39CC-43CC-9397-40766FBD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1361-61A7-4DEB-B28F-EB8289CD3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a | Annual health spending rises sharply by age; health costs for the “oldest old” are about nine times as high as for school-age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447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health spending in 2007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a | Annual health spending rises sharply by age; health costs for the “oldest old” are about nine times as high as for school-age children</dc:description>
  <dc:language>en-US</dc:language>
  <cp:lastModifiedBy>Jia Yao</cp:lastModifiedBy>
  <dcterms:modified xsi:type="dcterms:W3CDTF">2013-09-06T15:13:09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a | Annual health spending rises sharply by age; health costs for the “oldest old” are about nine times as high as for school-age children</vt:lpwstr>
  </property>
</Properties>
</file>