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7F7-919A-40FD-B2F0-AA63956D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7EC-8ECF-4E4A-9C37-773E4CDD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A02-2553-4EE0-A74C-0CFC74AC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B64-AB69-49D9-8E6C-C5EEF24D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4CD-5711-4E6A-9B66-64F16F79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4D1-ED0D-498F-8A00-033C2D82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2B6-A04A-459F-A9B9-C7F1CA4C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1E8-A98F-444B-8CFD-B6868D5C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852-AB19-43FA-8756-84A9E51D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79C-4BB2-4769-BD21-544BA5BF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E4CA-C128-4B40-B742-B341C12A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A0B-F4F1-4E89-949E-7806D7E8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D316-26B5-4A10-ADF7-9BACD9360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52280"/>
            <a:ext cx="9078840" cy="65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2Z</dcterms:modified>
  <cp:revision>31</cp:revision>
  <dc:subject/>
  <dc:title>PowerPoint Presentation</dc:title>
</cp:coreProperties>
</file>