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132-7B9B-4579-B820-76D3B118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1F0-8550-40BD-B5F5-BC8DDBB1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A38-33CC-45C1-9106-2D1B52CA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041-7009-4D55-B497-5E39B356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251-2272-42E9-A106-455640A9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9D9-8F31-414A-A2C3-E5E567B5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493-C874-40EA-91E1-BC9BED56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244-A707-4CBF-BDB6-39B877DD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B7B-D4B6-4080-8E5A-3A77E675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DCB-19E0-4EF5-B1CF-18D03452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7D8-3F6A-42FE-A814-8EA83203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51B9-2D07-49A0-AB30-FC47D1E8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9918-873F-4B00-8CC5-7907B1DF8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5160" y="0"/>
            <a:ext cx="721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3Z</dcterms:modified>
  <cp:revision>31</cp:revision>
  <dc:subject/>
  <dc:title>PowerPoint Presentation</dc:title>
</cp:coreProperties>
</file>