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915B-4E34-48E3-9374-0255C23EEE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2.1B | TRENDS IN CONCENTRATION OF MEDICAL EXPENDITURES, 1928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1D33-FA7B-4785-965B-836CF395AB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CF9D-0CB3-4194-B90B-D7474F7B6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8BA1-2FCB-490B-87F6-5C6B1FD7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8BFB-7EC2-42CA-A0A0-63151CE43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1E05-E767-4EA8-82D5-3C0ABAB95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A30A-0C8E-4038-8D13-8FCDEA22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A4BC-1D4C-4278-912B-DBAD1614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6ADB-7607-4FC9-9D00-87ED7BAF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EFA3-EA82-4897-8CA3-015700AD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2C8E-F54F-421F-BED2-8B7B048C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2562-9872-4CF1-A1E1-02D23F3D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B29B-1C0C-4C09-AF1B-1BC1BE4E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6339-CB42-4993-869F-2C9EDA05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D646-0F41-4EC6-BED7-77A4C7AA13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1b | The concentration of health spending has been quite stable over decades, but there is some indication it has declined recen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549440"/>
            <a:ext cx="90169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3600" y="1523880"/>
            <a:ext cx="56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total annual health spending accounted for by gro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1b | The concentration of health spending has been quite stable over decades, but there is some indication it has declined recently</dc:description>
  <dc:language>en-US</dc:language>
  <cp:lastModifiedBy>Jia Yao</cp:lastModifiedBy>
  <dcterms:modified xsi:type="dcterms:W3CDTF">2013-09-06T15:12:52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1b | The concentration of health spending has been quite stable over decades, but there is some indication it has declined recently</vt:lpwstr>
  </property>
</Properties>
</file>