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BC78-7490-48BB-BE59-AF0CCA2180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6b | Trends in Per Capita Income by Geographic Region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593D-7142-4B2E-B813-295776DAB1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3AB2-6A67-498B-970B-84947312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F8C1-6891-4E90-8AA1-BCAB570D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BBCB-392C-4288-86EF-4508AAEA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353A-CE1A-4AF5-B35C-B453265E6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EA2B-5DF9-4467-850F-188F06A5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E5F9-C1F9-458F-982A-C2A8C761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2024-3A5F-4016-99C3-6556CD5D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0A93-3F01-4603-A110-F9C59E2D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07FA-66F9-46D2-AD94-BA0F959C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8BA0-5C9A-4704-BDF2-16402C8E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5993-9675-4C11-8799-43DFEF66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41F4-155A-4F5A-AD45-D8219C64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B86B-4199-496D-9B31-FA47BC69C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6b | Regional income disparities have narrowed considerably over the past 8 decades, but have widened somewhat since 197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31840" y="1146240"/>
            <a:ext cx="8680320" cy="5479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1430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Per Capita Income (100=U.S. Aver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6b | Regional income disparities have narrowed considerably over the past 8 decades, but have widened somewhat since 1979</dc:description>
  <dc:language>en-US</dc:language>
  <cp:lastModifiedBy>Jia Yao</cp:lastModifiedBy>
  <dcterms:modified xsi:type="dcterms:W3CDTF">2013-09-06T15:13:21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6b | Regional income disparities have narrowed considerably over the past 8 decades, but have widened somewhat since 1979</vt:lpwstr>
  </property>
</Properties>
</file>