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7DC-764F-485B-84EB-7646EF4D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A2B-4EBC-415F-B749-140165F0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388-D6E9-4A29-A944-1919E860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467-E6EA-4298-A563-17D5A134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D5D-FC09-4CDB-995C-B8A58849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096-A80E-4415-848D-8047BFA5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6A6-DE4A-42D9-ABD9-AD739D36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045-BBEB-46A6-A738-E396DB38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5D68-B90C-4C8B-8979-3BA7189B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CBC-DB76-4A7C-A25E-7E70540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5BF-E348-4F3B-9A19-3FA21BEC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E3C-B2A7-4905-B896-1B035006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BEDC-AC75-4D24-A618-F4558919C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0160" y="0"/>
            <a:ext cx="87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49Z</dcterms:modified>
  <cp:revision>31</cp:revision>
  <dc:subject/>
  <dc:title>PowerPoint Presentation</dc:title>
</cp:coreProperties>
</file>