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A49-8626-4C64-A03B-A0D7D40E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988-3163-40CF-8638-38CC68F6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2EE-0504-4736-B62F-AC28AD0A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986-8EB3-4DED-89C8-712C9D73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A99A-BF77-4AC5-83D8-67903C0F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55F-5449-484F-A6C0-61F5B898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D58-9EC0-4AF8-9877-4E61DEBC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2116-F969-42EC-9700-023BD1A9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B8B-0E43-4956-AEE7-EA42B8CD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958-177D-424D-BA31-045D2F56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708-A43A-447A-B14A-4A618B5A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7303-97EE-48DF-AEC7-EC2D7C60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1316-71A0-4F9C-B74F-242072991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52280"/>
            <a:ext cx="907884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2Z</dcterms:modified>
  <cp:revision>31</cp:revision>
  <dc:subject/>
  <dc:title>PowerPoint Presentation</dc:title>
</cp:coreProperties>
</file>