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BBBD-4A9A-40A6-AA4A-DE4CAB8EA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B | TRENDS IN CONCENTRATION OF MEDICAL EXPENDITURES, 1928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A742-2528-46D3-9359-3CEE15587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858-D5A0-4C50-B43D-23E2092F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C42-76CE-4BE1-8BAA-6D89F015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9A3-0BB2-4FBE-98FC-49EAD0E0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34D-EB8B-4A89-BA74-AEF3B817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71D-EA75-45E0-BB4B-F56AD27C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C21-D36F-4DB5-A1FE-D767779D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66C-2FD0-4F56-A59C-BE1E0BBD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E48-A896-449C-B279-4960D238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401-A3C3-4902-83AF-1F939702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2D4-8FC2-4CDC-8C65-99549565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71F-1865-4195-9240-ECBFFA2F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3744-0E4C-4882-8A91-56CFEE84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4B47-1123-4F96-84BA-DFDFCF253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1b | The concentration of health spending has been quite stable over decades, but there is some indication it has declined rec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90169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3600" y="1523880"/>
            <a:ext cx="56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annual health spending accounted for by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b | The concentration of health spending has been quite stable over decades, but there is some indication it has declined recently</dc:description>
  <dc:language>en-US</dc:language>
  <cp:lastModifiedBy>Jia Yao</cp:lastModifiedBy>
  <dcterms:modified xsi:type="dcterms:W3CDTF">2013-09-06T15:12:5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b | The concentration of health spending has been quite stable over decades, but there is some indication it has declined recently</vt:lpwstr>
  </property>
</Properties>
</file>