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78F6-4C5B-45D7-997E-5D7BB8FD56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3a | Direct Health Spending as a Percentage of Family Income, by Income Quintile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D8A5-F17D-4D66-A25D-BE1597EB1C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7B26-837B-4541-8B1A-A3AD4D098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ECE2-CC1C-485E-BCF9-D703DBDF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FB6D-BCD2-4FAB-A9DA-772F91FF0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5750-08DA-4CFC-8409-4446E10F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0524-D777-4DC2-8312-E551D62F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1D8D-FBB9-49F8-908C-2F8C8407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5DF4-1959-431F-BA73-9CAA9781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207C-4C68-4A42-890D-BD5055CA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5486-D9B4-4CA9-BDC1-2F98372A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2468-B32A-43A8-BB8B-8E2825A3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A390-3EA7-4592-B95A-098CEDB9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880B-9767-41F9-82BB-51D63E65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1F9D-467C-4C13-A592-292F9BCE9D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3a | Direct health spending has been declining as a share of family after-tax income for families with the lowest in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85720" y="157644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rect  health spending as a percentage of family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3a | Direct health spending has been declining as a share of family after-tax income for families with the lowest incomes</dc:description>
  <dc:language>en-US</dc:language>
  <cp:lastModifiedBy>Jia Yao</cp:lastModifiedBy>
  <dcterms:modified xsi:type="dcterms:W3CDTF">2013-09-06T15:13:01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3a | Direct health spending has been declining as a share of family after-tax income for families with the lowest incomes</vt:lpwstr>
  </property>
</Properties>
</file>