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41A-5A92-47F9-B142-6825BC8E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3AF-B18C-4B7F-A06D-3A85536A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31D-EC11-4B25-8608-51FB51E4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147-28F8-4507-A02B-BF859332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EA8-2846-4346-92D1-7B04FB05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ABB-4E3A-4CB7-8EC7-3987FE61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C0F-246C-463D-85EF-24B3FD05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FB1-C9AB-4530-BBED-8E83ED01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015-7677-41F9-9DEB-97DE5ED0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EE5-A066-485C-AE08-DB670EC6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C30-46AE-4214-91E9-DF8F0EB3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6C5-ED4B-4A1E-80E6-61314626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2B5C-C8B8-4F36-A835-61DD2928B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79440"/>
            <a:ext cx="91407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4Z</dcterms:modified>
  <cp:revision>31</cp:revision>
  <dc:subject/>
  <dc:title>PowerPoint Presentation</dc:title>
</cp:coreProperties>
</file>