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8F00-540A-47D1-93A2-C571C52CE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a | Per Capita Income and Health Spending as a Percent of Gross State Product, by State of Residence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566-30F1-4434-80E0-3184BCD5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E09-F9FD-4CA4-A2B8-7046ECE6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CF9-B235-471E-9CDC-A2407D08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55A-647F-47DA-82B9-8E858F61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A15-2CCE-4492-A391-10B788CB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3BB-21C9-4CA1-9F17-7EB96C4A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E31-5B74-419B-8DA4-DAC65E3D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F6B-5517-45B7-8839-93CA99FB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9CE-CE0A-407D-AD92-24B94F3F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562-9E1B-41A5-85B7-E373C852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C15E-B481-4367-B388-DF4BDE6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02C-0199-43B5-AC24-4FB36046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E589-4771-4315-B34B-108787A5A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3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315200" y="54100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14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47242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24"/>
          <p:cNvCxnSpPr/>
          <p:nvPr/>
        </p:nvCxnSpPr>
        <p:spPr>
          <a:xfrm flipH="1" flipV="1">
            <a:off x="4272840" y="4571280"/>
            <a:ext cx="299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 Box 10"/>
          <p:cNvSpPr/>
          <p:nvPr/>
        </p:nvSpPr>
        <p:spPr>
          <a:xfrm>
            <a:off x="457200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6"/>
          <p:cNvCxnSpPr/>
          <p:nvPr/>
        </p:nvCxnSpPr>
        <p:spPr>
          <a:xfrm flipH="1">
            <a:off x="4304880" y="43434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 Box 10"/>
          <p:cNvSpPr/>
          <p:nvPr/>
        </p:nvSpPr>
        <p:spPr>
          <a:xfrm>
            <a:off x="45720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4864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53352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health spending as a percent of gross state product, 2004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228600" y="27468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a | Differences in per capita income alone account for more than one third of differences in health spending burdens across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3920" y="518148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 flipV="1">
            <a:off x="3961440" y="495216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 Box 10"/>
          <p:cNvSpPr/>
          <p:nvPr/>
        </p:nvSpPr>
        <p:spPr>
          <a:xfrm>
            <a:off x="228600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09880" y="2819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/>
  <dc:language>en-US</dc:language>
  <cp:lastModifiedBy>Jia Yao</cp:lastModifiedBy>
  <dcterms:modified xsi:type="dcterms:W3CDTF">2013-09-06T15:13:2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