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A40-3F53-4C02-BA8A-84CDF880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551-51D4-4A1E-B7C5-076EB690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B5D-B035-48A9-9F37-E0370DE7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EE0-BC13-4BB6-954C-74566EED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27D-F81D-4D5C-8400-FD65CD83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CDF-2D9F-4C53-991E-EFE435D0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468-FD56-4729-94CA-767533DC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33D-66A9-40EB-A8D3-CF7DDE6E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8D9-A390-4F39-94B0-01B3FD8E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C6A-2EB2-44F3-8DB8-E449F62E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804-7058-4EE8-9651-EF4D90DB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828-BBD2-4184-BAE4-CB6888E7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839C-00DF-4040-A268-56291E567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1680" y="360360"/>
            <a:ext cx="911232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1Z</dcterms:modified>
  <cp:revision>31</cp:revision>
  <dc:subject/>
  <dc:title>PowerPoint Presentation</dc:title>
</cp:coreProperties>
</file>