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9AFE-C345-4FF5-AF1A-24C1D5544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E74B-EB2C-48D0-8F55-CDE825DFA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1AA5-542A-4AF1-BF39-0DBF67176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DB2E-6673-44C4-B304-16346E466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3BBA-6BDC-4D95-ABCC-6F994A403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9E78-9B57-4315-BB88-762380758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CE09-B009-4F7F-944E-B81417998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DDE2-9498-4039-87DC-74D606AA3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35DA-6C7C-4316-AE3E-C641809FF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49FC-2534-4682-A283-B36AD4682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3E13-655B-4A7E-A8E5-9444712FD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D423-5E0C-48A4-A0B8-8E62AC9FB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95D87-28C9-441B-95A7-4067EC3332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46080" y="1523880"/>
            <a:ext cx="905184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4:54Z</dcterms:modified>
  <cp:revision>31</cp:revision>
  <dc:subject/>
  <dc:title>PowerPoint Presentation</dc:title>
</cp:coreProperties>
</file>