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A3F-0098-40FF-9A96-04F2A60D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792-F810-48AA-95DF-219EEB18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963-3A59-46FA-81D5-6A1FA54A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64F-5E16-4656-BA78-A704A331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A5D-8D26-4E55-A63F-AB90412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DD6-6C12-47E8-B949-9940F328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36B-3837-47AA-9429-B2326F77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44B-67FA-48BA-B8C6-FF16E76F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09B8-6CCB-4CF9-85A9-AE9AF111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ABD-E5C5-496A-AB0A-EF8A422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AB0-81E4-488C-B7F8-9EC7788F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5AB-E461-4393-8D35-D132A3DF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B3BB-B826-4527-860A-1DAFF59E0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8Z</dcterms:modified>
  <cp:revision>31</cp:revision>
  <dc:subject/>
  <dc:title>PowerPoint Presentation</dc:title>
</cp:coreProperties>
</file>