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1576-407C-49EF-9814-9CEBED6D3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b | Direct Health Spending as a Percentage of Family Consumption Expenditures, by Income Quintil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C27B-9EFC-4AD5-AEE6-529737FBE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0A5-0994-4985-9A77-14EBA03E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E87-9730-428B-9A39-3B5517A0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ED7-D03B-477E-B038-C2BD8817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D55-B497-4439-BB57-92E76953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EDB-9E07-4588-BF32-2D663F39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133-6E31-4D2E-A049-EEC9E866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91F-DB45-400C-BE8A-5A1BDCDF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90E4-CAA4-41FB-BEDA-19EDD744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406-3E06-4E9C-94C8-01359278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113-6D94-4FA1-8C10-D5A881AA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A95-28CA-4176-86BB-63970EB8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FB2-BEFE-4105-8440-DBCD74D0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1A9D-7D10-43A9-B3D5-2192428A6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b |  The burden of health spending is far smaller when compared to consumption rather than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597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health spending as a percentage of family consumption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0440" y="5791320"/>
            <a:ext cx="82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irect health spending includes only the family share of premiums paid for private or public health insurance, along with all out-of-pocket spending on medical ser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b |  The burden of health spending is far smaller when compared to consumption rather than spending</dc:description>
  <dc:language>en-US</dc:language>
  <cp:lastModifiedBy>Jia Yao</cp:lastModifiedBy>
  <dcterms:modified xsi:type="dcterms:W3CDTF">2013-09-06T15:13:0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b |  The burden of health spending is far smaller when compared to consumption rather than spending</vt:lpwstr>
  </property>
</Properties>
</file>