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4F5A-4FD9-4A9C-9753-34FA7DFB45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4b | Per Capita Health Spending, by Major Age Category, 1977-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236E-42CD-4515-AC6B-A464859CA4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E9AE-8F78-49D9-8A37-CA113648A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6474-0C6D-4A6A-8596-17588CA4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09F8-2B19-47F3-869A-99605429B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B4DA-BD55-4E83-8F53-5E68D1DB3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0CF9-EAAA-4FE8-B6D5-6C466010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7665-B86E-4DAA-81DF-643C8B6F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8328-8EB0-40BC-9A1F-3D9A5056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B7AD-495A-4FF1-BDA9-1DA4DDED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6E47-562E-4328-AC08-D3B81A44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6303-C4C2-496A-8F4B-32EB241D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84CF-5B80-4D9F-85F0-EE715324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33D3-3087-4B43-9910-3EB71E47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EA90-70FB-4EEA-92CD-2C2B8836CA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4b The rate of increase in per capita health spending declined for all age groups between 1977 and 2004, though at varying r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6002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 in per capita health spe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4b The rate of increase in per capita health spending declined for all age groups between 1977 and 2004, though at varying rates</dc:description>
  <dc:language>en-US</dc:language>
  <cp:lastModifiedBy>Jia Yao</cp:lastModifiedBy>
  <dcterms:modified xsi:type="dcterms:W3CDTF">2013-09-06T15:13:12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4b The rate of increase in per capita health spending declined for all age groups between 1977 and 2004, though at varying rates</vt:lpwstr>
  </property>
</Properties>
</file>