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7DC5-D2F2-4F7A-9472-E6DD54134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7b | Trends in Health Spending as a Percent of Gross State Product, by Region, 1980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5BF2-C65D-4260-AE98-FFFCFA54B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D52-6703-40CE-A936-A9806649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220-1112-43DA-ADAF-8FD036B9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1CD-8F29-4FF5-8219-9007108D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DA0-17BB-4ECF-94CF-2FEC35AC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1DB6-772A-475F-9AAA-83D79210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68D8-06BA-42CE-9F0A-21AE1334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1FB-09E3-4949-A0B7-8AEC4159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F006-E8ED-409B-BE26-DC70BC8B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594-3C06-4B23-BEED-CE508CC5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EB1-7EE5-427C-A646-0D6807DE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8DD5-9713-44ED-9EDC-78E818CE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72A-2BF4-49F1-83F6-80856FF4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87C8-3934-4DA6-BD5D-07D62855D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7b | In just in one quarter century, there have been large changes in the relative burden of health spending across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health spending as a percent of gross state product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7b | In just in one quarter century, there have been large changes in the relative burden of health spending across regions</dc:description>
  <dc:language>en-US</dc:language>
  <cp:lastModifiedBy>Jia Yao</cp:lastModifiedBy>
  <dcterms:modified xsi:type="dcterms:W3CDTF">2013-09-06T15:13:27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7b | In just in one quarter century, there have been large changes in the relative burden of health spending across regions</vt:lpwstr>
  </property>
</Properties>
</file>