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A95E-F339-4A28-8FBF-AD779B1A2D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2a | Net Burden of Health-Related Expendtures by Family Income Decile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0CD6-F242-4FBF-893F-C933F8FE83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CC20-EEB9-404D-BB19-F2216EB95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A001-EA03-4EE3-A832-A8B675C3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5CE7-CAC4-4DF2-82ED-F972A83A6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56C9-55C3-44E9-A853-6AB72DF19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C692-7003-478D-A525-2311C124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3195-BB5C-491B-BC30-0C3A91F7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A5AF-8A24-439E-A6C3-D414AEDD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DB6F-7B05-4D69-B472-89A0D14F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BD93-3278-4B03-99CE-4F96026A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DD5F-5069-4D1F-B500-045F0F96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4764-85B2-4C59-A6C3-8E9860B7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B47E-E193-497E-BA92-525EDF26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4DC5-7127-4E97-B4FF-2F33941A16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2.2a | The net burden of health-related expenditures is about 2-1/2 times as large for very low income families compared to very high income famil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386000" y="417816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ome decile (1=10 percent of households with lowest incom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62120" y="1371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pending as percentage of family income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484200" y="457992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The family burden of health expenditures includes out-of-pocket spending; premium payments for group and nongroup health insurance (including the employer share) and Medicare Parts B and D; and health-related taxes, including payroll taxes for Medicare Part A and the family’s share of other taxes used to pay for publicly-financed health care.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84200" y="5815080"/>
            <a:ext cx="843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Selden TM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Using Adjusted MEPS Data to Study Incidence of Health Care Finance.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gency for Healthcare Research and Quality. http://www.ahrq.gov/about/annualconf09/selden/selden.ppt (accessed July 16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2a | The net burden of health-related expenditures is about 2-1/2 times as large for very low income families compared to very high income families.</dc:description>
  <dc:language>en-US</dc:language>
  <cp:lastModifiedBy>Jia Yao</cp:lastModifiedBy>
  <dcterms:modified xsi:type="dcterms:W3CDTF">2013-09-06T15:12:55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2a | The net burden of health-related expenditures is about 2-1/2 times as large for very low income families compared to very high income families.</vt:lpwstr>
  </property>
</Properties>
</file>