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2D5-54B2-4FF9-B827-773CE84B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13FF-2F56-48BC-95B6-3BD71576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629-4BA2-455A-ABD3-9A0C4BBE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6BA-6FFA-4143-981A-ED23E46D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828-6FCA-44FB-856C-EE53D5B6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8E0-947C-4E6C-B4F6-D408E143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583F-1954-423D-99DB-C45D5980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5B3-EFF2-454F-92E1-9A0F7FCC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CB6-797B-4E15-82DF-369320B0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0D6-8F2C-4135-B76A-EBBA6849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B85-4E0D-4CEB-BDCA-9E426019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849-490C-4445-8780-9BECA6DB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6A29-B24B-4464-BDDF-FA2D07ADB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5160" y="0"/>
            <a:ext cx="721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3Z</dcterms:modified>
  <cp:revision>31</cp:revision>
  <dc:subject/>
  <dc:title>PowerPoint Presentation</dc:title>
</cp:coreProperties>
</file>