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DB0-DE18-4718-84DD-99B57CDC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319-29B4-4D83-A6F7-E421AB23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22C-5D0A-4B85-A8F5-1F164845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860-9C86-4215-A592-8B12DF62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F72-BD72-43E8-85D5-D50AAA72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F2F9-7D27-4BEF-B864-F98B79CC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504-6805-459A-95A1-60840763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815-D756-498C-81C6-9D666470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A23-0A09-44A0-8276-FD412F0A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70F-5C53-4FAB-8CC0-F1A98880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BCB-A906-4F7E-87C8-05006862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FB3-B698-455E-A8C2-096732FF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7456-C5F3-48F7-B8E9-6ED7ACFF9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143000"/>
            <a:ext cx="905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5Z</dcterms:modified>
  <cp:revision>31</cp:revision>
  <dc:subject/>
  <dc:title>PowerPoint Presentation</dc:title>
</cp:coreProperties>
</file>