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3223-662E-44D2-B8E2-A7A8C334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9763-0D2E-41FF-B4F4-E80FF6C1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8381-5FAF-42F9-8A5B-1833C1BC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E880-E13F-4839-B097-47FD6868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237F-1878-46BB-B7A2-865750D8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675E-DDAC-44E3-95AC-4AE9B369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2D04-763B-43AE-9A97-B54BA3D5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4598-60A5-4FB8-BD68-2DAEBEE2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B052-9085-430F-BC8B-527F0228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0707-0281-409A-8334-D9E9AC5D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9758-B7AE-495C-A797-5F41ED5E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BF6B-A0D8-4E5D-8CCF-3CDF4F9A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68A2-115F-4623-A3A4-B737504C5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1920" y="0"/>
            <a:ext cx="902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25Z</dcterms:modified>
  <cp:revision>31</cp:revision>
  <dc:subject/>
  <dc:title>PowerPoint Presentation</dc:title>
</cp:coreProperties>
</file>