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06BB-43CB-4FEA-B402-59B6A6CF07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5 | Annual Per Capita Health Spending, by Age and Sex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3B7A-8081-45C8-9F40-79D0E39EB3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3E21-F857-4FE3-9A09-9BD272E3D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3924-EC2B-4059-A664-775EF520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67F2-D894-4739-B5A5-48E524FF3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A743-E1B4-476B-9AD6-61A7C569C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CDB3-BB6F-472A-8C50-243BF849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9CE5-8BCA-41FE-957B-5B0118B3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28CA-0BB8-4F97-BE73-B0E111D1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807C-A1BE-4A4A-8129-7D8BE0F0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DC23-2823-4049-91B4-BF7917F8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82E5-ABA9-4B98-9A97-8D9C7CB2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5CC8-408C-4B00-BA7F-01506C9F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C036-84E4-4D20-A919-C8065E35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4A09-9079-4782-9C64-C4BC9B7028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5 Female health spending is higher than for males from childbirth through reproductive years and in early years of reti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52388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: 100=annual per capita health spending of males 18-24 (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5 Female health spending is higher than for males from childbirth through reproductive years and in early years of retirement</dc:description>
  <dc:language>en-US</dc:language>
  <cp:lastModifiedBy>Jia Yao</cp:lastModifiedBy>
  <dcterms:modified xsi:type="dcterms:W3CDTF">2013-09-06T15:13:14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5 Female health spending is higher than for males from childbirth through reproductive years and in early years of retirement</vt:lpwstr>
  </property>
</Properties>
</file>