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098C-1F38-4668-AD73-3F189BF65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B389-4D98-4135-B29A-6C44EBD7B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CDFF-C034-489E-8173-7A84760EA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DF21-7723-4913-A302-E44695D84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19A0-2E64-47F6-B735-820C6AC64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3383-9954-4666-8D91-93DB0AF75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740B-6C3D-43FC-B818-80DC722B9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196C-B1DD-4EC6-817F-8C0BC2D7E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64E3-FC90-4E01-AB5B-CF592736D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2343-69A8-4124-832E-8B17D6091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DF0C-FC69-47BD-B40F-7CC9733F4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B066-28F3-4EA0-B879-A50B487DC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A64A1-4465-4D20-A67F-47756D8710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5:03Z</dcterms:modified>
  <cp:revision>31</cp:revision>
  <dc:subject/>
  <dc:title>PowerPoint Presentation</dc:title>
</cp:coreProperties>
</file>