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0369-BE17-4C83-872D-7210EFBC7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a | Hours-Adjusted Annualized Internal Rate of Return on Educational Investment Over a Working Lifetime, Selected Medical Specialties, 1955-19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2E1A-DE93-4967-A29F-C91B9CE5D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D33B-24DF-40C1-9AF8-9685F8D5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002-91BE-4F80-A7E2-A2E21FC3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7722-3617-4537-9E7A-4E5B94E0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B50-EC95-4CAB-B1A2-B88063BA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E94-0036-4252-9A8A-6B9490A9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732-96E2-4298-91C9-D9ABE88F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0A9-4D01-4FDA-B31B-2E96886C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9C9F-F252-4039-88B6-8016247B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8202-365E-4C38-8643-9334B91F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7A8-E947-4756-8C3B-8276D81F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F291-4631-4032-87EB-66325FE1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205-D5EC-4301-AD0C-F97C8B36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C79E-4F7E-4BB8-9DB3-623BD389D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5a | The annual rate of return to medical education appears for some specialists to generally have risen over many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5562720"/>
            <a:ext cx="81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that interval between years is not equal. Each year represents a different study. These studies have similar but not identical methodolog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0948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urs-adjusted annualized internal rate of return 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ucational investment over a working life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a | The annual rate of return to medical education appears for some specialists to generally have risen over many decades</dc:description>
  <dc:language>en-US</dc:language>
  <cp:lastModifiedBy>Jia Yao</cp:lastModifiedBy>
  <dcterms:modified xsi:type="dcterms:W3CDTF">2013-09-06T15:08:55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a | The annual rate of return to medical education appears for some specialists to generally have risen over many decades</vt:lpwstr>
  </property>
</Properties>
</file>