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C48B-18FE-47AB-9C97-21A42463A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A | RATIO OF PHYSICIAN COMPENSATION TO GDP PER CAPITA, GENERALISTS AND SPECIALISTS, U.S. AND OECD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31FC-1893-450A-9E8E-4311AD2FE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286-F69F-4CC2-A43E-66DB949E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F0D-78D0-401D-A3C8-E9E52399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1D6-F70A-42D9-B395-77B5AA93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5F2-C282-4BA8-A26F-BBF6816F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F50-60BC-44EA-A220-7938EAFB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EBE-677B-4287-A835-52F60991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F2FC-08DA-4670-8F37-341E6B56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DBB-D533-4F4C-9E00-6C88BBED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E2C-E673-4762-9EE7-0B5EB1DA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DB7-0E6A-4B7E-A79F-3C01AFAE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986-12C0-4A2D-B31E-2F3587A9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0C3-BD82-448E-A96F-BF126BC5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0DA0-7058-48E2-AA4D-F727A953A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4a | Physicians and nurses are paid relatively more in the U.S. than in other OECD countries, but the largest pay differential is for speciali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0640" y="137160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annual compensation to own country GDP per capita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a | Physicians and nurses are paid relatively more in the U.S. than in other OECD countries, but the largest pay differential is for specialists </dc:description>
  <dc:language>en-US</dc:language>
  <cp:lastModifiedBy>Jia Yao</cp:lastModifiedBy>
  <dcterms:modified xsi:type="dcterms:W3CDTF">2013-09-06T15:08:49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a | Physicians and nurses are paid relatively more in the U.S. than in other OECD countries, but the largest pay differential is for specialists </vt:lpwstr>
  </property>
</Properties>
</file>