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ED8-CE2B-47A5-B81A-A0AA768F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8F3-BAFF-408D-A238-BDCD9940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7F3-42C4-4987-A2A1-D04E11C5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2C8-B1E0-4D9D-8E5D-0E369641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A34-D3D8-42E9-8CA4-9DFF01D0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6C9-B86B-4CF2-A371-D21C3080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DCE-A66C-4928-A8E4-158EBC69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00D-61E4-4AA7-9B7E-40DB1718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22E-ABA6-4171-BAFA-71E73F88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8C5-2171-4598-9E37-30CEA668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3F9-7524-4AAD-B5A8-C7332A6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A26-767D-45FD-855B-03E40CEF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B082-4DC1-4D5D-A461-10CF6CD75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3240" y="1219320"/>
            <a:ext cx="91472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4Z</dcterms:modified>
  <cp:revision>31</cp:revision>
  <dc:subject/>
  <dc:title>PowerPoint Presentation</dc:title>
</cp:coreProperties>
</file>