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F47-C83B-433D-93BE-F4D880DE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651-9C4F-4F18-BBCF-018422F6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7065-F6C4-4679-81A9-4B0283D4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D2B-0705-4C4D-BCE3-C5DB87BA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B7C8-61FC-4E96-8093-71CC5566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C74-3D82-4CBC-9712-BD3171E8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E752-5F00-47E3-A3B8-DBB655DA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A44-E885-414F-8227-56200CB6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162-B8B1-4BC8-8769-F8B9E758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DBF1-C01C-452A-AE27-B2F5B675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BE7-4D84-4FC5-B7F8-00CC1239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B36-8029-445F-9660-3EDB3B45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12B1-6D5A-4113-8178-696DE1726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5440" y="152280"/>
            <a:ext cx="90331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1Z</dcterms:modified>
  <cp:revision>31</cp:revision>
  <dc:subject/>
  <dc:title>PowerPoint Presentation</dc:title>
</cp:coreProperties>
</file>