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BAE0-9F46-4550-93CB-4F8EFC31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AB24-E92D-4F11-BD3B-67B5A27E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E129-FF41-46BD-8C65-6515F39D5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C69A-C2BF-4F65-AB69-F70CDE7DB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F900-3D2C-434B-9867-4C9D85C0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A500-3CD9-45E4-B50E-7E30A735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6523-8567-4BB2-AA7E-7A96145E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5FB1-9D7E-47FC-8EC2-D67CBDEF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1007-C296-495E-B7A1-8895E9D1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A5F2-A770-4560-B66E-5A1B05C9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19DC-4639-402C-85F8-384719B4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7931-66CE-4AEF-9E6C-8856D0B9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4F4F-FBAC-42BF-A622-86192F3A20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3012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46Z</dcterms:modified>
  <cp:revision>30</cp:revision>
  <dc:subject/>
  <dc:title>PowerPoint Presentation</dc:title>
</cp:coreProperties>
</file>