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9D9-F846-4E8C-8E1C-F2FF7E45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B56-CC84-4228-A3DB-F3CC5AEC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49C-905C-4170-A5E1-0CE7A7D2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13C-29A6-44C7-B70B-9CF6A14E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267-4142-454D-8F87-D5F0971B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D47-3425-4E10-85A9-12F5F148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EC6-EECB-4026-AD76-B1AC9D0E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0DC-A31D-4CE6-8EFE-006927F4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436-E32E-43DE-BCCD-878630FC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3CF-F6AD-4D95-95B6-CD22A7D5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BB4-9BD7-480D-8974-0885591F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767-D203-4224-8046-A58D6F6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5308-038B-4963-B6E5-9E2CA3F20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57320"/>
            <a:ext cx="912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3Z</dcterms:modified>
  <cp:revision>31</cp:revision>
  <dc:subject/>
  <dc:title>PowerPoint Presentation</dc:title>
</cp:coreProperties>
</file>