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D808-F770-4D2D-8AF6-8D4BB145B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b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8E5D-1FF3-4D95-A3E4-AEEB7D465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CD0-C7FB-41F4-BD45-85B3DD3C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EC8-8EAD-4C20-9ACF-80EA19EE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3E2-6145-43E2-8AC1-0B3F5A72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622-891C-4581-BE0C-EB54D13A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C9EA-CF0F-4072-8B52-047032AB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EE2-2C60-4D8D-903F-1400D28A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01F-0D03-4988-869A-D321E23E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530-D685-44AD-9DF7-0F93AC42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EAA-287B-4A90-902D-2882A0A1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984-0911-45D6-B203-EA761578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118-9C99-49B9-B4B2-88F1D578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B8B-D665-4711-8AE0-80215464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A0CB-BBFC-4B72-BFE4-DFC44FD5F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b | Relative to the price of hourly output, real hourly compensation in ambulatory health care has fallen since 1992; it rose in private business overa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6680" y="144792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b | Relative to the price of hourly output, real hourly compensation in ambulatory health care has fallen since 1992; it rose in private business overall </dc:description>
  <dc:language>en-US</dc:language>
  <cp:lastModifiedBy>Jia Yao</cp:lastModifiedBy>
  <dcterms:modified xsi:type="dcterms:W3CDTF">2013-09-06T15:08:4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b | Relative to the price of hourly output, real hourly compensation in ambulatory health care has fallen since 1992; it rose in private business overall </vt:lpwstr>
  </property>
</Properties>
</file>