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134-BD07-4D95-AEB6-835EEA80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79F-DA3C-4F30-83E5-DCDC6CBA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B3F-2124-4FBD-AAFC-2568C91B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D959-2E02-4EB8-8A6E-20D4E1B5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5F1-CFBB-4375-B5F8-6EB2C101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43C-136B-4A74-9580-27B374C5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ABE-5CB6-4961-A88C-60F754D3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E1F-1737-4A73-A851-10749EC8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9A8-A26E-4AC0-BCA6-684149AE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05CA-38F4-4B19-A2D4-52292296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67F-ABB3-4A4A-8735-FD35337A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1EB-2B78-4111-8952-F6AD7967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2723-F614-4321-9034-9CC5765BE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3680" y="0"/>
            <a:ext cx="46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3Z</dcterms:modified>
  <cp:revision>30</cp:revision>
  <dc:subject/>
  <dc:title>PowerPoint Presentation</dc:title>
</cp:coreProperties>
</file>