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C434-6F71-4E88-B8C4-55B42210B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CE59-93D4-4298-A81E-89068A24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4C1D-1F8C-4DE0-A946-F4728912C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B717-6836-4767-ACFD-88DFD66AB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BA29-16B4-44EC-9891-5D448E6F8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1C94-FD40-4B3A-A6A4-E35AE835B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8072-2F98-4E3F-A4C8-5D28CF5DE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C058-480C-4B97-B7F2-8DD5C7039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840E-3A04-4398-AAAF-34995DB9F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BB92-C9E5-464C-86EC-FF511B30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D9D6-139E-4A4D-A13D-7A28E263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A92B-6896-4F5D-9A99-669484F9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376DE-8F69-4566-AAAC-FCD5008AB4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58680" y="0"/>
            <a:ext cx="902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2:44Z</dcterms:modified>
  <cp:revision>30</cp:revision>
  <dc:subject/>
  <dc:title>PowerPoint Presentation</dc:title>
</cp:coreProperties>
</file>