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DB37-864F-4DB4-B19B-8AA48EC13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b | Hours-Adjusted Annualized Internal Rate of Return on Educational Investment Over a Working Lifetime, Selected Professions, 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2078-89BD-4BD1-870A-BEFEA1456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B3D-5F16-47AD-9F1A-280FC3DA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6CC-F32F-4B84-9D3B-9A0BDD04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A8D-0ECF-4B19-B0D3-854AFEF3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DBD-DF13-454D-B0EB-6C05A292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334-D88B-4881-917A-468B5FDA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F2D-B26A-4F09-8907-DDD83366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815-E470-43AC-8EEA-11C09E41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679-5F18-4EFB-A649-1E76927D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38D-ABD1-4FD7-9C4E-A7047C41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9AB-8D86-4F4F-A991-6E448BF4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07A-5C87-4D94-82D4-6F3A9BFF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351-B9F5-4D5F-94F1-2A37F4F5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19E4-8533-4B05-B626-9CD8FCD20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5b |  Physician specialists have higher educational rates of return than primary care doctors have, but these rates are lower than those for lawyers or for those who have MBA degr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625760"/>
            <a:ext cx="863604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85800" y="1523880"/>
            <a:ext cx="834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urs-adjusted annualized internal rate of return on educational investment over a working life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865440" y="5880240"/>
            <a:ext cx="72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William B. Weeks and Amy E. Wallace. The More Things Change: Revisiting 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rison of Educational Costs and Incomes of Physicians and Other Professional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cademic Medicin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02;77:312-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b |  Physician specialists have higher educational rates of return than primary care doctors have, but these rates are lower than those for lawyers or for those who have MBA degrees.</dc:description>
  <dc:language>en-US</dc:language>
  <cp:lastModifiedBy>Jia Yao</cp:lastModifiedBy>
  <dcterms:modified xsi:type="dcterms:W3CDTF">2013-09-06T15:09:00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b |  Physician specialists have higher educational rates of return than primary care doctors have, but these rates are lower than those for lawyers or for those who have MBA degrees.</vt:lpwstr>
  </property>
</Properties>
</file>