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D8B9-F261-4BD5-AA4F-52FC60D99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B | RATIO OF COMPENSATION FOR HOSPITAL NURSES TO COMPENSATION FOR ALL WORKERS, U.S. AND SELECTED OEC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6E8-58DB-44CB-B1CE-17B85F93D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E46-52A7-4492-83E1-7C0893D3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607-E407-4989-AE9E-35152541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2E1-4E85-4C0F-B079-D488D14D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126-F80A-4202-BFA7-FDF12859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C25-7D2E-41D7-A407-F9EE61B7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328-15FA-4BCA-BF09-A0A7CDEF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181-5CC1-457C-A80C-9B80BBA9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E32-CBBE-427A-8075-0936D47D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7F1-2F07-4256-8FB0-2728E3C7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79A-11AB-4CD1-B707-AF578350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46F-135B-4DAD-AA1C-C63CBD1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267-C814-4E1B-9954-EAE474E5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5719-D924-4248-84A1-D363783BA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4b |  American h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ospitals nurses are paid more than twice the average worker wage, but the same is true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14080" y="1752480"/>
            <a:ext cx="79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annual compensation of salaried hospital nurses relative to all workers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b |  American hospitals nurses are paid more than twice the average worker wage, but the same is true elsewhere</dc:description>
  <dc:language>en-US</dc:language>
  <cp:lastModifiedBy>Jia Yao</cp:lastModifiedBy>
  <dcterms:modified xsi:type="dcterms:W3CDTF">2013-09-06T15:08:5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b |  American hospitals nurses are paid more than twice the average worker wage, but the same is true elsewhere</vt:lpwstr>
  </property>
</Properties>
</file>