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4A2-080D-47E8-B059-3423CBD6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702-E8A8-46C6-8D61-65B589CD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94A-677F-47EF-9DE7-7737C4AF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61D-C81E-4C17-B661-B96209FA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B98-3DB8-488E-AB5B-3121F85B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EE7-5388-4B23-86D0-FCE3D1CD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E90-30EC-4264-844C-A209AC3E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02E-FB94-4B08-BC73-7727002B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043-D994-4282-A934-EADAC359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692-2891-41EC-9647-F05E0500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201-A706-41FE-8268-8A355767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BF9-4761-4B07-8366-A3F40E7D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02DD-337F-45BC-81A0-36BAEB687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5Z</dcterms:modified>
  <cp:revision>31</cp:revision>
  <dc:subject/>
  <dc:title>PowerPoint Presentation</dc:title>
</cp:coreProperties>
</file>