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B2A4-AA77-4055-AE3A-4AB47FC62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2b | ANNUAL COMPENSATION IN HEALTH SERVICE INDUSTRY BY SUB-SECTOR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DFCE-B71C-4381-BA40-0C6631226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4DBF-9392-4793-A9EB-E6F56FE9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07F5-C5C8-403B-9729-413FC647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55D-AEDF-456F-9C87-D1781DB1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63A-FCA7-44C6-9FA9-396B8FE7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A98-2209-4637-9C6B-2ADF7F5A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F10A-94A8-4415-9D9D-17A7779D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BBDE-A155-464C-8AA1-EEB467D1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7FDE-5BAD-4B15-9FB8-7DEEE0E4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E587-411A-4D47-A5FF-0DB076FC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9DEF-1AE5-459F-8D9B-E1064B4B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2EA-FDC7-4C8D-8964-191311D4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64D7-8C03-4A9F-92B5-63A22F74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936A-6CAB-4CC9-AA2D-1C62E18C5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2b | Average annual compensation is much lower in long term care facilities such as nursing homes than elsewhere in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37160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compensation per full-time-equivalent worker (2008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2b | Average annual compensation is much lower in long term care facilities such as nursing homes than elsewhere in health care</dc:description>
  <dc:language>en-US</dc:language>
  <cp:lastModifiedBy>Jia Yao</cp:lastModifiedBy>
  <dcterms:modified xsi:type="dcterms:W3CDTF">2013-09-06T15:08:38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2b | Average annual compensation is much lower in long term care facilities such as nursing homes than elsewhere in health care</vt:lpwstr>
  </property>
</Properties>
</file>