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551-5A00-4C0A-A6EE-85D54DF7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3B60-BC7E-4B92-843E-44098A19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28F-F039-45D8-A460-329B5665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5E3-14FA-45D5-A59B-81F00850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38E-4E26-4999-A845-A120623E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93E-A76F-44A5-965E-B7A6DF6B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CD3A-F3F6-4C43-8F67-E7853A6F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D59F-562C-481B-AFA3-345943D1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4AC-0194-4DF8-991B-AE0B673F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1285-78CC-456A-889C-8A03B4D0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E4B-CE03-412D-A987-D963101C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359-4876-4C07-A116-5580B7EA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B6D9-31CD-4FD1-8B6E-E4CA304DA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57320"/>
            <a:ext cx="91249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3Z</dcterms:modified>
  <cp:revision>31</cp:revision>
  <dc:subject/>
  <dc:title>PowerPoint Presentation</dc:title>
</cp:coreProperties>
</file>