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D697-E7F8-4643-B9F0-A99FA2FC74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1.4B | RATIO OF COMPENSATION FOR HOSPITAL NURSES TO COMPENSATION FOR ALL WORKERS, U.S. AND SELECTED OECD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7FDA-158A-4B65-BC6D-638A12CE65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F5A0-C570-4D84-B87A-DC1312FDF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2253-892C-47B3-BEAD-19FD6722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79D2-9360-4A02-9E8A-E808263B2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482D-5876-4D87-B6E8-90C6B4F43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3231-C642-49C2-8AB1-676462D3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F4D8-5EC0-4D0C-8B73-BBCA2DB9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C7B0-B34A-44EA-8A53-02D76E00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F0E9-86E3-4217-99F0-10ABCE3A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7231-B04D-46CC-885D-BE8B5520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53C0-F752-4283-98AC-C28AED58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2B5D-DF82-48C1-A56B-7C83D7E3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BC50-D33B-43C8-ACD9-7CC73911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141B-8E1F-483F-8C30-F237FE7380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.4b |  American h</a:t>
            </a:r>
            <a:r>
              <a:rPr b="1" lang="en-US" sz="2700" spc="-1" strike="noStrike">
                <a:solidFill>
                  <a:srgbClr val="000000"/>
                </a:solidFill>
                <a:latin typeface="Arial Narrow"/>
              </a:rPr>
              <a:t>ospitals nurses are paid more than twice the average worker wage, but the same is true elsewhe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549440"/>
            <a:ext cx="871200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14080" y="1752480"/>
            <a:ext cx="790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o: annual compensation of salaried hospital nurses relative to all workers, 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4b |  American hospitals nurses are paid more than twice the average worker wage, but the same is true elsewhere</dc:description>
  <dc:language>en-US</dc:language>
  <cp:lastModifiedBy>Jia Yao</cp:lastModifiedBy>
  <dcterms:modified xsi:type="dcterms:W3CDTF">2013-09-06T15:08:52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4b |  American hospitals nurses are paid more than twice the average worker wage, but the same is true elsewhere</vt:lpwstr>
  </property>
</Properties>
</file>