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79C4-7606-4F26-9C6D-2FA5FEBD3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A | RATIO OF PHYSICIAN COMPENSATION TO GDP PER CAPITA, GENERALISTS AND SPECIALISTS, U.S. AND OECD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A0C7-1807-4301-8126-93AA9D061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81A-4508-490B-9124-11A4D079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764A-2E8E-460E-A85A-A00DA731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565-5477-4F63-A7AE-2E8CD3F3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D34-AF9C-41EE-8DD0-03FCD4BD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DF1-A8D1-4494-9BDD-E6206E65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B23-3D37-4185-B97B-BA8B0664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A61-0311-4EFF-A5E7-5AD0EEB2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4BC-CA4D-4DF8-AFEA-A47EA632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A14-F2FB-4782-AC27-FF487F32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5BA6-EA8A-4778-8C9A-769EBA7A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02C-CB59-424A-A52A-35B4709A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0CC-E89B-4364-AA66-F4CF199D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CA78-E826-4B39-9251-FAB6B1254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4a | Physicians and nurses are paid relatively more in the U.S. than in other OECD countries, but the largest pay differential is for speciali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0640" y="137160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annual compensation to own country GDP per capita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a | Physicians and nurses are paid relatively more in the U.S. than in other OECD countries, but the largest pay differential is for specialists </dc:description>
  <dc:language>en-US</dc:language>
  <cp:lastModifiedBy>Jia Yao</cp:lastModifiedBy>
  <dcterms:modified xsi:type="dcterms:W3CDTF">2013-09-06T15:08:49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a | Physicians and nurses are paid relatively more in the U.S. than in other OECD countries, but the largest pay differential is for specialists </vt:lpwstr>
  </property>
</Properties>
</file>