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4EB-5D87-4334-A836-07DE91759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b | Hours-Adjusted Annualized Internal Rate of Return on Educational Investment Over a Working Lifetime, Selected Professions,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0056-1D49-44BB-99CE-58EB1CAAD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426-5395-42DD-A8D5-39DD7DA7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715-83D7-41FB-8E65-F561BF1F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67A-3ADE-41DF-8E5F-ED5A3B93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739-EE8B-4688-9FBE-70FACF34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378-1504-4B9A-B9F9-8554F910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71E-0B3D-43F8-B0D4-FA564FA6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DF2-1C19-4AB5-9B7F-8EC8ABE2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A1A-D165-46AE-8390-245509B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4F70-A2B5-4781-A57C-BAC0DC47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3B3-8963-415A-852B-0A6763A9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CB8-234A-4E73-A275-F377A00A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57E-1377-4376-AC2B-C7BF2FD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E98A-6B9A-412B-A497-C2AD78064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5b |  Physician specialists have higher educational rates of return than primary care doctors have, but these rates are lower than those for lawyers or for those who have MBA degr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625760"/>
            <a:ext cx="863604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85800" y="1523880"/>
            <a:ext cx="834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rs-adjusted annualized internal rate of return on educational investment over a working life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65440" y="5880240"/>
            <a:ext cx="72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William B. Weeks and Amy E. Wallace. The More Things Change: Revisiting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rison of Educational Costs and Incomes of Physicians and Other Profession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ademic Medic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2;77:312-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b |  Physician specialists have higher educational rates of return than primary care doctors have, but these rates are lower than those for lawyers or for those who have MBA degrees.</dc:description>
  <dc:language>en-US</dc:language>
  <cp:lastModifiedBy>Jia Yao</cp:lastModifiedBy>
  <dcterms:modified xsi:type="dcterms:W3CDTF">2013-09-06T15:09:00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b |  Physician specialists have higher educational rates of return than primary care doctors have, but these rates are lower than those for lawyers or for those who have MBA degrees.</vt:lpwstr>
  </property>
</Properties>
</file>