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6CA90-BE09-41DA-AFBD-614A5AD8CD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1.5a | Hours-Adjusted Annualized Internal Rate of Return on Educational Investment Over a Working Lifetime, Selected Medical Specialties, 1955-198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0B2AA-FE9C-4BD8-A06A-6D3CE53AC8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CC0F-A3FE-48EA-A73E-2F8838183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51AA-E30B-4348-8AA8-F54F50C06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EC3A-A1A3-4E86-9374-C6ADC859C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4D6B-08EC-4DA3-8A3D-026D1D89F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C48B-09C1-4CDA-892B-8AA434EDD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B052-90D8-442A-A364-7EF56AEB6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A69F-7972-4498-BD81-9A2E86871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3637-6DD4-4B53-A29E-7DCA1D736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E877-2AA3-4395-AFB7-1C8917CA1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4319-71D4-42F9-BDC5-F7F9E1DD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C05A-7008-436C-93ED-BC46C8C3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2EF0-9D9E-45F2-9B1A-9C6F5F40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054ED-DEE4-46F8-88D0-6ECF9F1221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1.5a | The annual rate of return to medical education appears for some specialists to generally have risen over many dec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330120" y="1549440"/>
            <a:ext cx="85597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609480" y="5562720"/>
            <a:ext cx="811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 that interval between years is not equal. Each year represents a different study. These studies have similar but not identical methodologi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609480" y="13716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urs-adjusted annualized internal rate of return 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ducational investment over a working lifeti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8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9:24:58Z</dcterms:created>
  <dc:creator>Trinity Technical Services</dc:creator>
  <dc:description>11.5a | The annual rate of return to medical education appears for some specialists to generally have risen over many decades</dc:description>
  <dc:language>en-US</dc:language>
  <cp:lastModifiedBy>Jia Yao</cp:lastModifiedBy>
  <dcterms:modified xsi:type="dcterms:W3CDTF">2013-09-06T15:08:55Z</dcterms:modified>
  <cp:revision>8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1.5a | The annual rate of return to medical education appears for some specialists to generally have risen over many decades</vt:lpwstr>
  </property>
</Properties>
</file>