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73952-9095-4E37-9733-A4EF9AB5ED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1.2A | ANNUAL COMPENSATION PER FULL-TIME EQUIVALENT WORKER, HEALTH SERVICE INDUSTRY AND OTHER MAJOR INDUSTRIES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6B3C9-95B0-4956-9539-14C9106B5E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46609-DD21-47EE-A054-BE886DEE6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F32A3-346F-4AFA-AB57-6E04B7557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CE6A0-9B54-4D9C-95E3-3360E1391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6FFB1-FE54-4F17-B6C2-8C2B63863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AA21C-F7AA-4BCC-825D-D612D1D52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7B7A4-23BC-44E2-AD8C-2746E4EC2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F337A-9491-4B8C-9F8F-785E04E7E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EE64D-93B1-46CF-91B4-647F1BC29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A7415-113B-4A35-91CA-60D6B3C05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6349B-7C8C-4AD9-BA6D-03E02A90C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95C6F-9FC6-425F-87D2-611D5C01B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3F6BA-6FC0-4333-AD76-41FFBB725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6CAE3-1D85-4B69-995A-A200AC439B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11.2a | Average compensation in the health care industry is higher than in the rest of the service sector but lower than for public employe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-279360" y="1015920"/>
            <a:ext cx="10159920" cy="566424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12T19:24:58Z</dcterms:created>
  <dc:creator>Trinity Technical Services</dc:creator>
  <dc:description>11.2a | Average compensation in the health care industry is higher than in the rest of the service sector but lower than for public employees</dc:description>
  <dc:language>en-US</dc:language>
  <cp:lastModifiedBy>Jia Yao</cp:lastModifiedBy>
  <dcterms:modified xsi:type="dcterms:W3CDTF">2013-09-06T15:08:36Z</dcterms:modified>
  <cp:revision>81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1.2a | Average compensation in the health care industry is higher than in the rest of the service sector but lower than for public employees</vt:lpwstr>
  </property>
</Properties>
</file>