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96C2-6505-4AE7-9DCD-6FD4C505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AC4-6FBB-46FF-8838-CB990503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273B-4F15-49EA-BD5B-F91BD9C2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1B3A-42BD-42A1-95C5-B1D34EFC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1836-4235-4E6E-8541-3CFE232E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B7F-3DB4-416A-B42F-62FED947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5746-0BE3-42BD-90A7-25BB3F17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945-5DDA-49A1-A049-31F6BB0E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96B7-C362-4D4B-97EC-9B427475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C42-26CA-40F7-9290-3331656B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777A-C348-4B39-99AA-817AB78B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859-224F-4075-B9AE-172E6031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0F0C-C349-4EB8-8288-50D96A970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7732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9Z</dcterms:modified>
  <cp:revision>31</cp:revision>
  <dc:subject/>
  <dc:title>PowerPoint Presentation</dc:title>
</cp:coreProperties>
</file>