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CB82-21B4-4EE9-B5CA-820EEBDA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8C8E-036B-4F8D-BAEA-99C45971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1E05-8804-455C-9439-FC5D2D88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E487-2A0D-49AB-A96E-94DA98AA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BBE7-D24E-40EE-A1EA-B08C3D09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CD49-0BE8-4912-9C7C-300011EC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CDE2-F29A-48F1-9628-5A9E5C9C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CF7C-1BEC-4B16-ACD4-D1B3FF89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B99D-F8C2-4E97-A09D-32B5B392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7479-D8C2-4499-B4DD-C4E60A54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E7C1-9A49-4F0F-8BC8-0672786E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55ED-F77F-4F86-83E4-12D36F53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4856-4FE8-402E-A54E-FC6AFB865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3012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6Z</dcterms:modified>
  <cp:revision>30</cp:revision>
  <dc:subject/>
  <dc:title>PowerPoint Presentation</dc:title>
</cp:coreProperties>
</file>