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D768-4354-4A70-B88F-DBCC38D90D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1.1 | TRENDS IN EARNINGS AND SUPPLEMENTS TO WAGES AND SALARIES, 1948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336C-61FA-4EB0-9D4D-116D75D25D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84AC-66D8-4E16-933D-7CDC3775A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E776-0033-43E2-8A6C-EBF24BDF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B6B1-FCAA-4222-B514-D3F96E351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E765-C7C6-461F-B1F9-25777155C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10D9-F0A2-4ECD-B15B-AF945173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78A0-AD4E-40A1-AC02-00B4C470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367C-4506-4017-B074-36C3CBEA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728C-6766-4F9E-8DB4-D89312CC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2E23-2125-4BBB-8113-E10BC3B9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FC99-8169-44C1-A6DA-62556C79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8EEA-5A9B-4E34-B453-6985F007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9391-DB4F-4EA7-A028-A2FBAE5C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6E27-E17E-4844-A7C6-D2D2F0AD12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1.1 | Rising health-related supplements are an important reason real hourly earnings have grown less quickly than average compens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85800" y="1447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lation-adjusted hourly wages index using personal consump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penditures deflator (1948=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1 | Rising health-related supplements are an important reason real hourly earnings have grown less quickly than average compensation </dc:description>
  <dc:language>en-US</dc:language>
  <cp:lastModifiedBy>Jia Yao</cp:lastModifiedBy>
  <dcterms:modified xsi:type="dcterms:W3CDTF">2013-09-06T15:08:32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1 | Rising health-related supplements are an important reason real hourly earnings have grown less quickly than average compensation </vt:lpwstr>
  </property>
</Properties>
</file>