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6C62-DE53-447C-BE0E-CE6FB51CB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4.3A | Alternative Measures of Concentration Among Health Insurers Across Metropolitan Statistical Areas, 200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1B3C-BD19-48FE-816F-D9912D5BF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5CD-B4F3-4F61-8258-93D0FE5D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984F-5C10-468A-AE11-791C301B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6C4D-49A4-4DDF-A2D7-1F046B4AD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1E12-4AFE-4B87-91FB-71BFA143C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C85A-5AEF-40EE-841D-8A568AC0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319-214B-4CF7-9181-34843093E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B24E-6296-4FE5-BB3E-E59A6DB9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2E9B-AE68-4D71-B804-530C26DC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91F6-AE2B-4B1F-BB39-AE47A997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9BA-A525-46CA-BE5F-A7212CC9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A834-246C-44E4-946E-96A4B1ED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C5A0-B834-4A53-9E48-CED4010F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C213D-4DA2-4CB4-B682-217AF536A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2a | By conventional measures, many metropolitan areas appear to have very high levels of insurance company concen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176040" y="1558800"/>
            <a:ext cx="8788680" cy="5359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609480" y="1447920"/>
            <a:ext cx="746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Metropolitan Statistical Areas (MSAs) with concentration level (200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53960" y="6095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American Medical Association. Competition in Health Insurance, 2010 Update. Chica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10. Managed Market Survey © 2008, HealthLeaders-InterStudy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2a | By conventional measures, many metropolitan areas appear to have very high levels of insurance company concentration</dc:description>
  <dc:language>en-US</dc:language>
  <cp:lastModifiedBy>Jia Yao</cp:lastModifiedBy>
  <dcterms:modified xsi:type="dcterms:W3CDTF">2013-09-06T15:22:53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2a | By conventional measures, many metropolitan areas appear to have very high levels of insurance company concentration</vt:lpwstr>
  </property>
</Properties>
</file>