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901-04EF-4664-9AE8-24CBB12509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4.3B | PERCENTAGE OF METROPOLITAN STATISTICAL AREAS WITH CONCENTRATED OR HIGHLY CONCENTRATED HEALTH SECTOR MARKETS, BY TYPE OF MARKET, 1994-1999, 2000-200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D25A-80AF-4943-AC23-BFCC605A9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748C-0B60-4120-B3AD-CFD6E0505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C761-899F-49BC-AE5E-131AD2D05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7D76-934E-4B95-B275-862F0B152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BE9-0F12-40BF-9262-515C9966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8204-9025-4A1E-B244-CBCDE628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B29-F17A-4ED7-A981-99033097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3AFA-0B36-481A-9F29-69E4218B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830-D7BD-411D-BEA5-14CFD524A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99D-4AD3-4A10-A7AC-E1074C122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160-22E1-463A-B570-0A784337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4536-40A6-4A55-9296-4743C986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4701-1671-4125-B0B2-BAE791D6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7704-9C52-4F13-9DA0-1DD15158E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4.2b | It appears that concentration is rising in both the hospital industry and HMO indust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254160" y="1549440"/>
            <a:ext cx="8712000" cy="4825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57200" y="15238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Metropolitan Statistical Areas with concentrated or highly concentrated marke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7600" y="5791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: Shen YC, VY Wu and G Melnick. Trends in Hospital Cost and Revenue, 1994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005: How Are They Related to HMO Penetration, Concentration, and Fo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ofit Ownership? Health Services Research 2010; 45(1):42–61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457200" y="45720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ote: at the time of this analysis, the threshold for “highly concentrated” was a Herfindahl-Hirschman Index score of 1,800 or above; “concentrated” is defined as an HHI of 1,000-1,800. Since August, 2010, the FTC has the first threshold at a score of 2,500 or above and the second at 1,500-2,50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2:01:16Z</dcterms:created>
  <dc:creator>Kristy</dc:creator>
  <dc:description>14.2b | It appears that concentration is rising in both the hospital industry and HMO industry</dc:description>
  <dc:language>en-US</dc:language>
  <cp:lastModifiedBy>Jia Yao</cp:lastModifiedBy>
  <dcterms:modified xsi:type="dcterms:W3CDTF">2013-09-06T15:22:54Z</dcterms:modified>
  <cp:revision>28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14.2b | It appears that concentration is rising in both the hospital industry and HMO industry</vt:lpwstr>
  </property>
</Properties>
</file>