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B62F-F65B-438F-91AE-5FF09D94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ED37-DF1B-4C07-BCF1-354DB17F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5269-5A5C-467C-896A-BAC98AB8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FCD2-16B2-4772-AD31-D839B985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068-E872-4C0F-A11F-56A4FD739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545B-F644-4B4B-B990-BAFC57502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C9A2-ADD2-4FB0-8827-8A432B70E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1399-7597-49F4-9336-AB9A8BF0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22B0-B975-4DC5-9689-A7D797E9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96E8-464E-459C-9D30-B1B674C6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4EAD-EBC7-47CA-A54F-1D52F44C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C21E-008B-4493-9424-1D853CDF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BE81-029A-4645-8D7B-3E0059074D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2Z</dcterms:modified>
  <cp:revision>35</cp:revision>
  <dc:subject/>
  <dc:title>PowerPoint Presentation</dc:title>
</cp:coreProperties>
</file>