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10771-E426-48A0-AC0E-F5A48E731D3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4.1C | PERCENTAGE OF PRIVATE EMPLOYEES IN SELECTED COMPONENTS OF HEALTH SERVICES INDUSTRY, BY SIZE OF FIRM, 2007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5068A-069D-45C0-AAD6-D6551AD27F7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5D827-EC81-458D-A053-179D89823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11374-4B15-4CC2-AFFB-3EC96275C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95246-8DCC-4455-A863-CD1E30F9D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6E8AB-B166-4CAA-A48A-CE6A40246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3E3A6-DB0C-4206-AFE1-57358D16D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960BE-850D-42BF-9DE6-5DAD9CC88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F9DB6-3ED7-477B-9BE9-D3A424F7E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00DD6-FDC7-4665-9505-0FBBD1C2C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F2833-C670-4B96-92B3-1C362E8F3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FC285-F880-4A45-AF6E-CA33F7603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F041E-0C96-4D4F-A0AB-49AFD9198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42646-4986-4A62-86B7-EB9EC6091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50988-794C-406C-9BE0-EF777C676A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4.1c |  In the goods-producing area of the health sector, most employees work in medium or large-size firm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291960" y="1015920"/>
            <a:ext cx="8560080" cy="589284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457200" y="1447920"/>
            <a:ext cx="762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ercentage of total employees within an industry working in firm size shown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8T12:01:16Z</dcterms:created>
  <dc:creator>Kristy</dc:creator>
  <dc:description>14.1c |  In the goods-producing area of the health sector, most employees work in medium or large-size firms</dc:description>
  <dc:language>en-US</dc:language>
  <cp:lastModifiedBy>Jia Yao</cp:lastModifiedBy>
  <dcterms:modified xsi:type="dcterms:W3CDTF">2013-09-06T15:22:51Z</dcterms:modified>
  <cp:revision>284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14.1c |  In the goods-producing area of the health sector, most employees work in medium or large-size firms</vt:lpwstr>
  </property>
</Properties>
</file>