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809C-12AC-4C54-9588-D34FF7D13A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1B | PERCENTAGE OF PRIVATE EMPLOYEES IN SELECTED COMPONENTS OF HEALTH SERVICES INDUSTRY, BY SIZE OF FIRM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914B-77A2-4A21-93CE-318E5C56AE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5195-8278-4D1A-8603-4B586A1C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A00C-2FBB-4233-BACC-704DDDE6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8834-3358-4F51-9F7D-AC35C8E0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D574-9398-4F87-981D-27DB0681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B670-A5BC-4408-BA48-7DF27800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9F12-1EA3-4468-948C-F58C3A670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4CB1-A4C6-4ECB-A67E-10B18974A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B135-798D-4EA2-B4E6-F8CCBDB61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89A9-C73C-4B17-AA33-6EE91CC3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71AA-79AF-41B8-B2B5-756005FC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B5C6-CA3E-4847-B6E8-C044C77F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C1A-0604-4398-96FB-E31DF55A1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E057E-4234-4AE9-B6E0-E5730B012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1b | More than half of hospital and health insurance employees work for firms with 500 or more work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91960" y="939960"/>
            <a:ext cx="8560080" cy="5206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employees within an industry working in firm siz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1b | More than half of hospital and health insurance employees work for firms with 500 or more workers </dc:description>
  <dc:language>en-US</dc:language>
  <cp:lastModifiedBy>Jia Yao</cp:lastModifiedBy>
  <dcterms:modified xsi:type="dcterms:W3CDTF">2013-09-06T15:22:49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1b | More than half of hospital and health insurance employees work for firms with 500 or more workers </vt:lpwstr>
  </property>
</Properties>
</file>