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0F2D-D29A-4131-B7F1-F62027A68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660F-C518-4348-B410-D42D02C6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3935-4E72-4D5E-BA20-22A2F45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811-4C41-438C-86BC-F86996CBD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7DF-CE1D-4141-921E-0C704C0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EAD1-06BF-48DB-96CD-4A9644A8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AAFD-85AD-40A6-93D1-E2A3EDE6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2539-0B36-4932-A904-0FD4C35D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2E7A-D58B-474A-8403-081E6F01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91D-6E5C-4F10-8707-26FFD3BB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E95-FD24-47C1-BBBA-F9B177CD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FF4-270B-44BB-B98B-910296144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632AC-7C53-42BE-BF84-0EA8FC74A9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42840" y="228600"/>
            <a:ext cx="9058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16Z</dcterms:modified>
  <cp:revision>35</cp:revision>
  <dc:subject/>
  <dc:title>PowerPoint Presentation</dc:title>
</cp:coreProperties>
</file>