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B9CE-60E9-4B87-85F9-0A01FE7A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94B0-6CEF-4205-8A0D-BAFA4783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0101-B6B9-4193-9BA4-D1A59E27F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7EBC-4464-411D-A90F-2A689B95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ED7B-B085-4C26-848E-A37E7906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8336-0C4B-4389-94BF-B37D6986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8B9-07BE-4853-8DD8-49842090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B12F-D32E-4D0F-96B0-04B069D6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68C-EFCD-46F2-82C5-087F0BA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6B8-E173-4B9F-9A21-44CD90B3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880E-E496-43E2-BB00-059830A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A9C-0545-402E-8F86-E6AEE2B5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3402-6F44-4ACC-B3AE-3B90A18B4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760" y="0"/>
            <a:ext cx="828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8Z</dcterms:modified>
  <cp:revision>35</cp:revision>
  <dc:subject/>
  <dc:title>PowerPoint Presentation</dc:title>
</cp:coreProperties>
</file>