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6C3E-A93D-4E4D-AC8E-8088AAEB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130B-3BE6-4A6F-B020-CEABF35E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36D1-23BC-45F5-8D24-A91AF5FF6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518D-FBBA-4180-8FE9-F80F621DC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9964-B496-434E-8C39-B97B8F13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5E93-CB96-4CDB-9EB7-B3CDA0CD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B9F2-16E8-4E90-8795-B3C361A7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76BB-71CF-49C7-A487-CE897413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DC80-A1F5-4C55-84BF-F4F9A086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F11C-6B63-4A8F-8E5E-F66DD762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99D-E7E8-4709-8D6C-FA59447A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126F-102B-44AF-8631-A0D7BED1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8B69B-8FD2-4DD6-95C1-9B43BC3136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34920" y="0"/>
            <a:ext cx="897264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7:31Z</dcterms:modified>
  <cp:revision>35</cp:revision>
  <dc:subject/>
  <dc:title>PowerPoint Presentation</dc:title>
</cp:coreProperties>
</file>