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5D19-6ED6-4523-A626-6DA9B2DC7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800D-0163-4CD1-854C-37B230A0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3B4-96BC-4A42-BD52-9CD3498A6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9E46-6794-4304-B85A-32C68847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F7EE-743F-4792-BA7C-F1284CE2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0665-C26C-4CC3-9F5D-E119B14E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ED7-1130-430F-B094-DDC3538FE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2CA-8D72-48BD-855E-BFCD3185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58DE-D719-43FE-8A24-740D145A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92B9-08B5-4D35-89B8-19801B4D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4A00-B456-46D6-AA1D-F2042A6F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CE5-DFB1-49B5-A85B-01FADD9F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8169-4271-42AB-84A9-5FF577EF6E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46320"/>
            <a:ext cx="9144000" cy="43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4Z</dcterms:modified>
  <cp:revision>35</cp:revision>
  <dc:subject/>
  <dc:title>PowerPoint Presentation</dc:title>
</cp:coreProperties>
</file>