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FA8A-9E42-4BC3-B6ED-0EF63E1A1A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4 | UNION MEMBERSHIP AS A PERCENTAGE OF EMPLOYMENT IN SELECTED OCCUPATIONS AND INDUSTRIES, 1992, 2000 AND 2009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D659C-C051-4760-A6A7-4B628593A5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B82-77DB-4C50-9FC8-60F05EE6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4B58-D2C4-45E5-8AC0-6DF82F300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B482-ACE0-4624-A150-573B81591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F0A9-9A25-48B4-B01E-F5F4507ED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33DE-2502-4F70-86CB-73DA7080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AFF-C0AB-4CCF-AEDE-DC35ECF9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B81-93A2-4811-A67D-6B232345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A04-64A4-4070-A60F-DBE3E750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395-48F1-4D2F-B440-85515A70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54C-7A13-40CE-8F56-664F45EA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F56-54A1-416B-A1C7-89F9932C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F9EF-3484-4F4A-BB96-43573D9A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0ED0-9C8E-46F3-B628-AE677E42D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4.4 | Health industry unionization rates appear comparable to those elsewhere, but among some health occupations, unionization is much grea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559720" cy="5359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533520" y="13716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workers in industry/occupation who are union memb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5 | Health industry unionization rates appear comparable to those elsewhere, but among some health occupations, unionization is much greater</dc:description>
  <dc:language>en-US</dc:language>
  <cp:lastModifiedBy>Jia Yao</cp:lastModifiedBy>
  <dcterms:modified xsi:type="dcterms:W3CDTF">2013-09-09T22:42:23Z</dcterms:modified>
  <cp:revision>28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5 | Health industry unionization rates appear comparable to those elsewhere, but among some health occupations, unionization is much greater</vt:lpwstr>
  </property>
</Properties>
</file>