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A6C6-48BE-43EF-BFCB-1B69D63E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3C37-8CB3-45D6-A60C-9D2B605F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BE3-F42B-4DEC-9B58-5AB62421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D4D6-AB4B-45E9-92E2-413CF546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3CFA-7346-499D-91B2-FBE197F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95E-4C2C-4F7F-BCD3-0DE0EC7C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984E-58B9-4DFE-A765-989759387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175-6F5C-4848-A0C4-F0333D6D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4702-872D-4639-936A-2F5ABFA1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9888-C0A5-4ED3-9BEA-6AA454BB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AB2D-35DF-44DC-ADFD-0318F528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1F0-6FDA-4B96-A1B2-7171A21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7F4AF-F32B-4103-8BE6-65AA8FBDD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639720" y="0"/>
            <a:ext cx="786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9Z</dcterms:modified>
  <cp:revision>37</cp:revision>
  <dc:subject/>
  <dc:title>PowerPoint Presentation</dc:title>
</cp:coreProperties>
</file>