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C6B2B-E346-4076-B48F-4B91B6E55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1A | PERCENTAGE OF FIRMS AND PERCENTAGE OF PRIVATE EMPLOYEES IN HEALTH SERVICES INDUSTRY AND ALL PRIVATE INDUSTRY, BY SIZE OF FIRM, 200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DD88-43AD-4B8E-8292-34EB9B8AEB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5208-97B2-468F-8D2C-262DC80B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147D-629E-4E96-89AA-3C93ADB8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122C-8E41-47F4-96D7-D3C6F209E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8775-EB91-46F8-B7BC-C15788B6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5A5-BFBB-467C-97C7-28F2503B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02AB-8FDF-4C30-90DD-647B4AE9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F24B-B2C0-40D1-A097-32DC834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7D2A-A2B1-4410-9DB8-3EC19A7B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4620-2FA6-4487-A462-156137C3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7C9-3FDC-44F8-B1DE-26ABA80E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7053-37FF-435F-91F3-5A41830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5CB-4C9D-4FD6-ABD2-155543E7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589DD-2BF3-4BDE-B3CC-B5D961D404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1a | Compared to all private sector workers, a much higher share of health services employees work for very large fir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331120" cy="47862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533520" y="182880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total firms or employees within an industry working in firm siz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5575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health services employees include those in ambulatory health care services, hospitals, and nursing homes and other residential care faciliti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1a | Compared to all private sector workers, a much higher share of health services employees work for very large firms</dc:description>
  <dc:language>en-US</dc:language>
  <cp:lastModifiedBy>Jia Yao</cp:lastModifiedBy>
  <dcterms:modified xsi:type="dcterms:W3CDTF">2013-09-06T15:22:47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1a | Compared to all private sector workers, a much higher share of health services employees work for very large firms</vt:lpwstr>
  </property>
</Properties>
</file>