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077D-EE59-43C3-A641-2DD79E1F5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 | State Rankings of Health Services Regulation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3608-F16A-4832-B4E7-4DA50A33A1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27B9-C372-4BD9-AB32-20CDD2DE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BC3-FDC9-4849-9E16-2344D749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5B6E-C018-4FCF-BCD2-F7103AD5F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2382-C2EA-48C8-B069-6E4E4D41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977-ED43-4F56-90E2-B728BC80B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29EF-221C-43AF-A255-6CF476A43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4C32-D506-4A22-9647-FEEBF250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E526-E600-4145-BCAD-9ADBB006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0D1-34FA-4754-B3B0-46498F1A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FE9-189A-4B7A-9914-D813795E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19DD-AB29-46A9-B774-1094F297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D67B-AF14-461D-9CC2-97A28A29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3351-9962-4620-A588-BC5D23DFB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aas4064.asadmin.duke.edu:60620/results/C/Users/lc135/conovermapchart14_3.png"/>
          <p:cNvPicPr/>
          <p:nvPr/>
        </p:nvPicPr>
        <p:blipFill>
          <a:blip r:embed="rId1"/>
          <a:stretch/>
        </p:blipFill>
        <p:spPr>
          <a:xfrm>
            <a:off x="912960" y="571680"/>
            <a:ext cx="6935760" cy="5197320"/>
          </a:xfrm>
          <a:prstGeom prst="rect">
            <a:avLst/>
          </a:prstGeom>
          <a:ln w="0">
            <a:noFill/>
          </a:ln>
        </p:spPr>
      </p:pic>
      <p:sp>
        <p:nvSpPr>
          <p:cNvPr id="49" name="Title 2"/>
          <p:cNvSpPr/>
          <p:nvPr/>
        </p:nvSpPr>
        <p:spPr>
          <a:xfrm>
            <a:off x="1447920" y="76212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4.3--State Rankings of Health Services regulation, 2007 (1=lea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609480" y="585144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Graham J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dex of Health Ownershi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3rd Edition. Pacific Research Institute. 2009. http://www.pacificresearch.org/docLib/20090720_IHOP_3_2009.pdf (acces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ly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8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9T22:45:09Z</dcterms:created>
  <dc:creator>Jia Yao</dc:creator>
  <dc:description/>
  <dc:language>en-US</dc:language>
  <cp:lastModifiedBy>Jia Yao</cp:lastModifiedBy>
  <dcterms:modified xsi:type="dcterms:W3CDTF">2013-09-09T22:45:55Z</dcterms:modified>
  <cp:revision>1</cp:revision>
  <dc:subject/>
  <dc:title>PowerPoint Presentation</dc:title>
</cp:coreProperties>
</file>