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A2FC-8C9D-4E81-A92E-46B2491F9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4DEB-F762-41D6-898E-E2CF01B7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84C2-D6F8-47F6-BF1E-FB841AB52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D4A0-B40F-4089-90E3-51F0DF21B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9E07-6A72-4E36-9C2C-73F03F10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1F69-DABD-4308-8FED-05C644CF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91B3-EF20-46FA-9F6F-C5BA2D247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42F0-E77A-44CB-B5AF-79927528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242B-5621-4F01-9597-68B038CA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E26B-E59D-4506-BB87-B945B3F4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AFAD-6A9A-45BE-8085-DD989593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2050-CB7E-4616-8820-4326BE08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B91E-07B5-44A1-BBEB-DE0BF9A011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1400" y="1474920"/>
            <a:ext cx="902628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15Z</dcterms:modified>
  <cp:revision>35</cp:revision>
  <dc:subject/>
  <dc:title>PowerPoint Presentation</dc:title>
</cp:coreProperties>
</file>