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41B8-28DD-40C5-84DA-750004069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4E4C-F4C9-4921-98DC-09E89D7B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DF7B-00F9-4CC5-8DF5-E8990CE67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89D6-B461-4B85-B93C-66ACDAAAC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5ABA-9574-4255-ABEC-5ED1088E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F72D-04E4-4C2F-AFFA-C7A23399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1570-5873-4687-A2D8-86B381E1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5FFC-C258-479D-A9BA-D99F3086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8174-77C9-4F32-983F-0C13E505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ACD7-928B-44CB-81D0-F4156B00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CB8B-9394-47C5-9323-6D9CFE7A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D446-C096-4A64-95A4-43CE25D6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3B3E-F0C0-4A77-A532-B6891E3E3A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12Z</dcterms:modified>
  <cp:revision>35</cp:revision>
  <dc:subject/>
  <dc:title>PowerPoint Presentation</dc:title>
</cp:coreProperties>
</file>