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A26F-F47E-44BB-8920-99A956302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3B | PERCENTAGE OF METROPOLITAN STATISTICAL AREAS WITH CONCENTRATED OR HIGHLY CONCENTRATED HEALTH SECTOR MARKETS, BY TYPE OF MARKET, 1994-1999, 2000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C5A8-1678-4FA1-B96F-B7F197EF8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F3C-84AC-4E92-90DA-A4EE32FA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9A3-AE88-4050-B018-15CA36FF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C1C-55F3-4ABB-B2A8-D1289DE2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845-E473-4798-BE48-A8F3127A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946-C74B-4D5F-8E65-8E753DB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7B0-175D-4FDD-98C3-9C233CA8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5C7-0586-4EFE-8172-81E09DBB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0DD-750B-49C4-81A2-08EA63DF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ADD-3145-4FB7-A243-BF8F9BA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87A-3AF9-4B26-80AA-A6A2D8C2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652-ABF2-4B77-AEC8-36B5C06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EB7-DA5C-4202-83C1-F3F7F4DF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5B92-5A32-4FC5-9D9F-F68BFC476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b | It appears that concentration is rising in both the hospital industry and HMO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7200" y="1523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with concentrated or highly concentrated 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7600" y="5791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hen YC, VY Wu and G Melnick. Trends in Hospital Cost and Revenue, 1994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5: How Are They Related to HMO Penetration, Concentration, and Fo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 Ownership? Health Services Research 2010; 45(1):42–6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at the time of this analysis, the threshold for “highly concentrated” was a Herfindahl-Hirschman Index score of 1,800 or above; “concentrated” is defined as an HHI of 1,000-1,800. Since August, 2010, the FTC has the first threshold at a score of 2,500 or above and the second at 1,500-2,5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b | It appears that concentration is rising in both the hospital industry and HMO industry</dc:description>
  <dc:language>en-US</dc:language>
  <cp:lastModifiedBy>Jia Yao</cp:lastModifiedBy>
  <dcterms:modified xsi:type="dcterms:W3CDTF">2013-09-06T15:22:54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b | It appears that concentration is rising in both the hospital industry and HMO industry</vt:lpwstr>
  </property>
</Properties>
</file>