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6B6A-3D0C-47A5-B2C1-2CC48DD1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F09C-8C39-4F36-B840-DDDB1B37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072-C182-40C6-98E4-31C532A3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BE65-FFE8-481E-AF4A-2BC90316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6368-18FD-46E4-B253-1CF5FD63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DD70-3E99-4F54-9275-E573667C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C315-500B-43E0-BD83-41B9C3BE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5C78-07F9-47CE-B78D-9AF0BB90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D24-0F1A-4425-BFAC-4BC3BA00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48A-3853-4145-AD75-E8CE08A4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7136-2377-4F28-9C2D-60424779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34F8-13AA-4E62-9170-B6A194E9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44EF-AFCF-4CB3-9AEC-07711F0ED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1474920"/>
            <a:ext cx="90262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5Z</dcterms:modified>
  <cp:revision>35</cp:revision>
  <dc:subject/>
  <dc:title>PowerPoint Presentation</dc:title>
</cp:coreProperties>
</file>