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E15-56B1-4469-9F16-68D2E397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E47-2AEB-4147-B6AF-5FBBE1A7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589-223A-42D6-81A4-8823F58D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BDD-CB3B-4A8D-9BB4-3F70AE33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9FE-8126-4387-8216-64A8CC11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950-D96C-4C37-A2EB-E1EA09B0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1B1-B2E7-4994-AAF9-DCC7BFAD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2184-39F0-4E93-B9D7-37CF927E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29B-B179-440D-84D5-8217B507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6A3-AD34-439E-9132-B3D7101F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073-E242-49F8-8165-1A3EE16C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BEC-0BD4-4FDB-8A03-36FC0EBB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A2B1-79E4-409F-B6D2-C830766A0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760" y="0"/>
            <a:ext cx="82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8Z</dcterms:modified>
  <cp:revision>35</cp:revision>
  <dc:subject/>
  <dc:title>PowerPoint Presentation</dc:title>
</cp:coreProperties>
</file>