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F3F50-BF5B-491E-B2A4-DABE73CD5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5BF87-E21C-4230-809D-3B75A2CFD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F7C80-533D-4AE3-91B3-205CC78A7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5CB19-5BB1-4CAA-9FB8-88676D662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2687D-70AB-4281-B76F-F983553B7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76442-78CF-4F22-A84B-9F3D8FAFD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315D5-0F28-419A-9F2E-D20010993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2185E-AF04-4205-83F6-0CB4C0610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810D5-54AA-484A-A4B1-B18773420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72472-6DBE-492B-9F78-48E67C262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78357-E06F-44AA-A60D-9660DC33D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F86EC-130A-4B1F-A4ED-C18C18758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95D45-3491-4B21-A1BB-5D653857FA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1246320"/>
            <a:ext cx="9144000" cy="43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7:14Z</dcterms:modified>
  <cp:revision>35</cp:revision>
  <dc:subject/>
  <dc:title>PowerPoint Presentation</dc:title>
</cp:coreProperties>
</file>