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2DC6-982E-4950-8DCD-F8DB50C4C8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4.3A | Alternative Measures of Concentration Among Health Insurers Across Metropolitan Statistical Areas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D206-A4DE-478E-90DC-2A595C4BED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7E06-C480-4354-91A6-36E286FE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97C5-7A59-4692-9B13-B519BB57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0BE0-BEA4-4DAE-947A-05A93365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28CE-9007-416F-9E63-0261C1FD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D955-3C31-42C6-8617-B7608D58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238-9D77-43CB-8DB3-494689DD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D9B1-0FF4-45C7-B3C6-F7904724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C56A-1305-4588-BFF6-7E8F9EE8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D229-5511-483F-A133-82735C32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31C2-62A4-40DB-BE42-F5E3EB2E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2378-A4CA-4501-AF6C-E451489E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7B0C-8777-404F-A2D9-AB1097E9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EA48-DE16-4072-BB5A-8BBC07CC80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2a | By conventional measures, many metropolitan areas appear to have very high levels of insurance company concen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176040" y="1558800"/>
            <a:ext cx="8788680" cy="5359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609480" y="144792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Metropolitan Statistical Areas (MSAs) with concentration level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53960" y="6095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American Medical Association. Competition in Health Insurance, 2010 Update. Chica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10. Managed Market Survey © 2008, HealthLeaders-InterStud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2a | By conventional measures, many metropolitan areas appear to have very high levels of insurance company concentration</dc:description>
  <dc:language>en-US</dc:language>
  <cp:lastModifiedBy>Jia Yao</cp:lastModifiedBy>
  <dcterms:modified xsi:type="dcterms:W3CDTF">2013-09-06T15:22:53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2a | By conventional measures, many metropolitan areas appear to have very high levels of insurance company concentration</vt:lpwstr>
  </property>
</Properties>
</file>