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B60A-CFAE-4207-AB5A-0EB669893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4.3 | State Rankings of Health Services Regulation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AD98-15C5-4778-82B0-ED53BB63A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34B2-3FD1-421D-8CC2-E90952BF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A21B-6092-480A-9506-A9170355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C0FA-D50F-4A17-A2EF-91D03369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B5B-E832-4BD2-864F-5BDE8F13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B26-D72D-4162-971B-52F20F76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D95C-7142-4596-B11D-B882560B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03B-8F3D-4CAC-BA74-4DF7139D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D27-C99E-409C-9256-A2370B60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EECD-81FC-419C-96A7-9AEDCE3A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258E-AEBF-4FD9-B6BE-68779C24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0C9D-C385-4126-A02E-947C31AA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761-DF82-44DB-8978-1806C685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9726-BF8D-4F01-9DB4-9FCB72433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4_3.png"/>
          <p:cNvPicPr/>
          <p:nvPr/>
        </p:nvPicPr>
        <p:blipFill>
          <a:blip r:embed="rId1"/>
          <a:stretch/>
        </p:blipFill>
        <p:spPr>
          <a:xfrm>
            <a:off x="912960" y="571680"/>
            <a:ext cx="6935760" cy="51973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447920" y="76212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4.3--State Rankings of Health Services regulation, 2007 (1=lea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09480" y="585144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Graham J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dex of Health Ownersh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3rd Edition. Pacific Research Institute. 2009. http://www.pacificresearch.org/docLib/20090720_IHOP_3_2009.pdf (ac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22:45:09Z</dcterms:created>
  <dc:creator>Jia Yao</dc:creator>
  <dc:description/>
  <dc:language>en-US</dc:language>
  <cp:lastModifiedBy>Jia Yao</cp:lastModifiedBy>
  <dcterms:modified xsi:type="dcterms:W3CDTF">2013-09-09T22:45:55Z</dcterms:modified>
  <cp:revision>1</cp:revision>
  <dc:subject/>
  <dc:title>PowerPoint Presentation</dc:title>
</cp:coreProperties>
</file>