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F246-9A15-40E4-98ED-F59462122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2467-6D75-4F56-BA05-FCEECABA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7C08-6377-4373-B28C-214E3D7B2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87FC-04A9-4927-AFF5-0798A0543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BED4-3047-454A-B789-10AC9101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189F-0EF1-49BC-80F2-D14858D9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6011-BD11-4765-AD00-DEF15BA8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2ECB-3619-42A0-92B0-35F02768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0E00-A930-4A5A-A5E6-71AFA339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8DD5-186E-4588-8180-A382ED55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B9C7-0541-4910-80B3-D85B3E26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D80A-D69F-4EEE-94CC-FFF1DF3C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031C-8433-4BD2-A037-878E6024F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639720" y="0"/>
            <a:ext cx="786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9Z</dcterms:modified>
  <cp:revision>37</cp:revision>
  <dc:subject/>
  <dc:title>PowerPoint Presentation</dc:title>
</cp:coreProperties>
</file>