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9760-63BC-47CB-B27A-9C1DA91637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5.1b | Health Spending per Dollar of Wealth, 1950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4FCA-95AB-4A2E-B7F4-5EEA8F919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0687-C369-4317-8324-3C54CB33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8055-DC4A-4FB2-86DC-0B7E5AEB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1BC1-1308-48D5-8D43-51FF1F3D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40D0-8262-4D9A-A8C3-85529483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FC60-D9C6-4899-A54D-1574853E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0480-223C-4888-B49D-2FA41C77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CC94-DB89-46A6-BEFD-CA547280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80BE-89AE-4F0A-B0A5-8855C460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C87C-BC87-47D6-BA0F-2FE77615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140D-D841-4606-9647-37C6D9F6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4CD6-34CA-4FB3-BA65-B6812ADC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1B71-651B-46D7-8CC4-5B398B05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EC49-C49A-4912-8A41-38956F8F4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1b | Health spending per dollar of wealth has almost quadrupled over 60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2952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ealth spending per dollar of net worth held by households and nonprof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1b | Health spending per dollar of wealth has almost quadrupled over 60 years</dc:description>
  <dc:language>en-US</dc:language>
  <cp:lastModifiedBy>Jia Yao</cp:lastModifiedBy>
  <dcterms:modified xsi:type="dcterms:W3CDTF">2013-09-06T15:26:01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1b | Health spending per dollar of wealth has almost quadrupled over 60 years</vt:lpwstr>
  </property>
</Properties>
</file>