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BED9-EBA3-4F9C-933C-58802E91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451D-0042-4357-A836-2329F21B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5E45-E1FE-4BCC-B5C0-37AA4B9D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0CA0-A1F2-4239-8D00-A658FBB3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1E57-8ACA-4A96-A35C-E32106AB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361A-C466-4E37-8D3F-BB357646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44C4-ACCA-4209-9729-DDFF922F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04D8-DB40-40E3-BCA3-EE87CB81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0917-18BE-4C15-AAEE-FE418F1B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C662-40F7-4E2F-A537-7C87D6B7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30E-6472-4FF8-92E8-16CAF59F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19AB-519D-4FFE-8E00-EF1E2722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19CB-C747-4A3A-91B5-4560F4168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98440" y="0"/>
            <a:ext cx="674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18Z</dcterms:modified>
  <cp:revision>36</cp:revision>
  <dc:subject/>
  <dc:title>PowerPoint Presentation</dc:title>
</cp:coreProperties>
</file>