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BB9-79E1-4897-A7C9-566C3F07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353-E21B-4BEE-9780-73D4B5C4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A08-135A-41A9-956C-B79B8091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B29-9D55-4C78-B5E2-3B2D0D62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9FD8-E641-4653-9595-1E028934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A92-B6D4-45B0-AF77-D375BAD1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353-7501-4224-BC0D-4F50D79A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471-A5FC-4F65-A417-D2C4DA65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047-F487-4A8E-BD51-E37E9020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0E82-AAF9-4374-AC5A-5A0C4922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832-7F36-485D-A17D-F064CD4B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FEE-09E2-451F-81E8-8B380596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374B-47AD-4A24-B996-682574242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533520"/>
            <a:ext cx="9013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20Z</dcterms:modified>
  <cp:revision>37</cp:revision>
  <dc:subject/>
  <dc:title>PowerPoint Presentation</dc:title>
</cp:coreProperties>
</file>