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440-F804-4441-AB50-1CFAEC0E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76E-2E3A-42D1-A906-B28DCF9C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E19-AC71-4662-AA34-28BAA4CA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16A-3721-4594-80A5-8D6FB011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9A7-E504-4CF5-8262-583D66E4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D3C-A3CE-46CF-BAB7-24DEF68B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B1E-BA04-4704-90BD-B29C6FDC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CDB-7BE5-452E-A2F5-00E165E5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741-9CA4-4EEB-9A5D-352FDEE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650-9E51-4BBA-8081-3B01FEC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82B-EE0A-4E81-A8D4-F1AB92E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D46-CA4D-4C42-8EB0-84AD548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F14E-CAF3-4473-839F-69E72AE90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52280"/>
            <a:ext cx="898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6Z</dcterms:modified>
  <cp:revision>37</cp:revision>
  <dc:subject/>
  <dc:title>PowerPoint Presentation</dc:title>
</cp:coreProperties>
</file>