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80F1-3753-4A87-AFEC-93E566893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3 |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ercentage of Bankruptcies Related to Families with Medical Debts, 1994-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0B8D-7160-4FA5-B312-9C90097E3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30A-7677-4472-A788-D0626EB4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F088-81BC-47F9-B9A2-1226DBCD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F7E-6159-4781-A490-C031A979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F342-56F0-437E-B810-0978907A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109A-BE9B-40A5-B75C-4B91C8F0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1AD-51EE-43BD-AE7D-6560F985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A11-3178-405D-98A5-6F2D3EA7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684F-4A56-4DA1-BB89-18ECE23D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BC1B-355A-4646-BF0C-933EB4B0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292-F937-4CDE-A57D-29119322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F4ED-3629-403F-B348-61480508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092-B8A6-495F-9532-AE99AD22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DB7E-8814-41A3-A4D5-850F3E9ED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3 | About one quarter of bankruptcies are related primarily to medical debts; medical debts are a factor in just over one thi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5597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17600" y="575928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hur A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edical Bills and Bankruptcy Filing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 Institu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ei.org/docLib/20060719_MedicalBillsAndBankruptcy.pdf (ac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28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533520" y="16002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bankruptcies related to families with medical debts, 1994-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3 | About one quarter of bankruptcies are related primarily to medical debts; medical debts are a factor in just over one third </dc:description>
  <dc:language>en-US</dc:language>
  <cp:lastModifiedBy>Jia Yao</cp:lastModifiedBy>
  <dcterms:modified xsi:type="dcterms:W3CDTF">2013-09-06T15:26:05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3 | About one quarter of bankruptcies are related primarily to medical debts; medical debts are a factor in just over one third </vt:lpwstr>
  </property>
</Properties>
</file>