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E2F0-9BCD-4841-8451-34DF4C3E8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3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0C4E-5470-4D17-95E3-2E296E2F9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726-1646-436D-8DCA-6C97AE41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AA1-A609-4E57-8700-8EA9B800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FC2-372B-4AB3-848E-B8D4BAD9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D60-0949-4F5A-B59F-40CB20A7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05B-74F6-4E5C-B2A1-17363D5E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686-592A-4FD4-93B5-5EF3EC8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9CB-4C8C-4874-9BB9-9BD051E0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090-8AB7-43EC-811E-F9E5264D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BE8-6671-4C6C-B3D3-8D78E154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9C8-8E92-4A4B-9898-9D98EC28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911-1B6F-4AE1-B28B-1F452794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816-758A-4D89-961E-03CB502F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9814-79E3-4B3F-AD00-EB094CE01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3 | About one quarter of bankruptcies are related primarily to medical debts; medical debts are a factor in just over one th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5597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17600" y="57592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hur A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edical Bills and Bankruptcy Filing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 Institu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ei.org/docLib/20060719_MedicalBillsAndBankruptcy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33520" y="16002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3 | About one quarter of bankruptcies are related primarily to medical debts; medical debts are a factor in just over one third </dc:description>
  <dc:language>en-US</dc:language>
  <cp:lastModifiedBy>Jia Yao</cp:lastModifiedBy>
  <dcterms:modified xsi:type="dcterms:W3CDTF">2013-09-06T15:26:05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3 | About one quarter of bankruptcies are related primarily to medical debts; medical debts are a factor in just over one third </vt:lpwstr>
  </property>
</Properties>
</file>