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2D3-903E-4C68-9114-9572456D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076-FB3C-4701-AD64-86BFBF39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0C2C-C13A-47CB-B420-06A0DC1C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2AC-2D41-4C98-B118-72C4E1CE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808-EA19-43A6-B766-59814436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519-8D62-41D3-9046-9079E506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570-05B4-4ADB-A2AD-981C12D0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180-7675-4E10-8A49-C505AD5D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F538-4400-44A1-9C1A-CCE32EE2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5D5-4395-435F-8ECE-57ECDFDF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DA4-D6D2-487D-A0C8-1AAD5134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105-5F97-452A-9082-324E8FF9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581E-2941-429A-AE61-70D49C4B9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52280"/>
            <a:ext cx="8985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6Z</dcterms:modified>
  <cp:revision>37</cp:revision>
  <dc:subject/>
  <dc:title>PowerPoint Presentation</dc:title>
</cp:coreProperties>
</file>