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152A-E417-40BE-BD4E-610AC2434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5.2 | ANNUAL HEALTH EXPENDITURES AS A PERCENTAGE OF HOUSEHOLD NET WORTH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A827-AD62-46E0-81B3-62F30BD66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01D-D9B5-40B6-BDCB-ABA267EC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F76-EE96-46F3-8394-32EFACED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4BA-8A1F-44D2-893C-606D6258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8EF-B64B-444C-8E93-025087D6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71D-F107-45C2-8FB5-F1F77565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C3C-C5CE-4806-BB80-CC3FBFFB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C32-0CA9-44BD-8443-6AD0FDCF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C78-E091-4807-A3C7-41E33A31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FC4-706B-45E9-A9D1-3020530E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761-4537-46F8-ADD0-DC7B470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9C7-3B9B-49E8-9245-C85DE4D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92C-BFAE-42D3-808E-E8F0F5FC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E0C1-26C5-4D85-80E3-B78CA8534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2 | For low income families, the cost of having one member in the top 10 percent of health spending would exceed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ulated spending as a percentage of family net worth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simulated spending estimated assuming 1 family member had health spending in the top 1, 2, 5 or 10% of individuals ranked by expendi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2 | For low income families, the cost of having one member in the top 10 percent of health spending would exceed net worth</dc:description>
  <dc:language>en-US</dc:language>
  <cp:lastModifiedBy>Jia Yao</cp:lastModifiedBy>
  <dcterms:modified xsi:type="dcterms:W3CDTF">2013-09-06T15:26:03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2 | For low income families, the cost of having one member in the top 10 percent of health spending would exceed net worth</vt:lpwstr>
  </property>
</Properties>
</file>