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EACB-024C-43FC-A5CF-C5ECA5E2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D04-6C1C-4A0E-9EF7-FE6E6E17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081-22A1-4C74-A2BD-408DDB31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CF3C-9EC1-4950-9BBA-06A066A5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567-AA65-42D4-8FA6-943AA185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0CD-B3EB-405F-963D-ADAA3533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A31-F3FF-4C7C-84CB-502FCA3A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865-4715-45E7-AA8B-F82958B7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FB7-AC8E-42B3-9E4B-D177F3D0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38E-A61C-48FA-9E36-33F2FC7C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51E-CFE1-4CA4-9C9D-D5D53636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4750-4A39-46C7-83A1-813865B7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EEB2-83CB-4FAB-867E-E80B66CD7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533520"/>
            <a:ext cx="9013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20Z</dcterms:modified>
  <cp:revision>37</cp:revision>
  <dc:subject/>
  <dc:title>PowerPoint Presentation</dc:title>
</cp:coreProperties>
</file>