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596-75CF-4818-B981-D019FEB6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F7E-C5F3-42B9-8F46-A3BDE618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753-E0DF-42F3-A9D0-1DABC0C0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89D-678E-46CA-B4E3-41FD732F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53E-9799-41F4-A357-41B3B248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E97-85D6-44D5-BF0F-2219EED2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C0E-8E69-4093-8ADF-D75A5F1B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A1F-6E54-4972-AD0E-901D6D9D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3FA-D6EC-4997-AB0F-C659117C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0C0-3F00-4541-9C0E-DFE6414A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F4E-E35D-413E-A74C-BCFD87CD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9F5-A009-4EF7-97AE-51B56AC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286D-18B1-4662-8B9D-B3A5A359B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9844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8Z</dcterms:modified>
  <cp:revision>36</cp:revision>
  <dc:subject/>
  <dc:title>PowerPoint Presentation</dc:title>
</cp:coreProperties>
</file>