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E4BC-4607-4630-9DEC-33F82F3DE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403B-E628-4FEF-99BC-14B2DEA61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80E3-14FF-4EB3-93F2-2E5A3D646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3327-4AD3-4262-AA36-7B79773D3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3213-FB3E-43C9-BBCC-B8ED9ED05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84F2-BFC9-42C0-BD6A-70F1F54B5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9FC7-7C1A-4F92-9671-152B6CE5D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CE76-9919-4B4D-BB1A-003B5A4B6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0B4D-79E9-48EE-9AD1-3D59AE616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7CF4-0698-4671-B4AB-3709D235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77F1-1F8D-4E23-B87C-1EAB7FE2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77C0-49FF-432B-9523-D2A0ED72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96F0F-84E8-4B08-8276-A5AF5E9E4C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93600"/>
            <a:ext cx="9144000" cy="66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8:17Z</dcterms:modified>
  <cp:revision>37</cp:revision>
  <dc:subject/>
  <dc:title>PowerPoint Presentation</dc:title>
</cp:coreProperties>
</file>