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1F75-3EDB-4C61-82E2-1D55D32EB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2 | AVERAGE ANNUAL CHANGES IN HEALTH EXPENDITURES DURING ECONOMIC CONTRACTIONS, 196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6A1E-157D-46AE-AAD1-4388E862D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771-8341-4DFB-92E8-CD3ACD6E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657F-2EB8-4A59-91B6-3539B25A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412-8C6F-4A7B-AE4B-6A02CEF7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6D3-D991-4599-9978-24F107DE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C11-46B6-44A7-B58B-8ECC1B67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FA3-D881-4CE4-9A86-D8A52895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935A-5A94-42DE-8747-6E98E6D1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A35-0C59-4E2B-9CDD-5C1E1A57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044A-119E-4E58-9AF3-D67F7EF9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625-03F1-4A42-8D29-9EAD091B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B44-2083-4443-AF07-BF689959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77B-E1EC-4186-9D1E-FDF94113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4F8B-1361-4B2B-945B-B01F8E62F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2 | Medicaid spending occasionally is more counter-cyclical than other health spending, growing relatively faster in downtu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143000" y="1523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2 | Medicaid spending occasionally is more counter-cyclical than other health spending, growing relatively faster in downturns</dc:description>
  <dc:language>en-US</dc:language>
  <cp:lastModifiedBy>Jia Yao</cp:lastModifiedBy>
  <dcterms:modified xsi:type="dcterms:W3CDTF">2013-09-06T15:28:08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2 | Medicaid spending occasionally is more counter-cyclical than other health spending, growing relatively faster in downturns</vt:lpwstr>
  </property>
</Properties>
</file>