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0A2-CC0D-4B15-B6DC-E47D89A2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2BC-8255-4F26-8C81-77384C17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7A9-19AB-4817-8D74-D385CD37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87C-EA5B-487B-87EC-F0B85A09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16A-212F-40C0-BFFC-487AB4B5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D1E-CBDA-4049-9626-F281D23E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444-AFAC-41CA-9481-623A533D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018-8019-4716-9867-3C658C04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1A9-AE16-4580-84E3-A8AB6ABD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19F-B591-4537-857B-93CCBB58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9DC-3C81-4A29-999C-6F0912E0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675-855F-4DB1-9D76-1B6E0747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FA23-4422-4B74-B6CA-48FEA54B9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5200" y="0"/>
            <a:ext cx="792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4Z</dcterms:modified>
  <cp:revision>37</cp:revision>
  <dc:subject/>
  <dc:title>PowerPoint Presentation</dc:title>
</cp:coreProperties>
</file>