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444-5F4E-4500-87A9-60BD254C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640-5975-448A-802A-7308A7B3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4EB-071B-47A8-A59A-479205F2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BFB3-6F9B-4CF8-BD60-2E5678EB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07B-5528-4077-B7B2-DDFE380D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512B-CCDE-4E2B-B694-BAFE8C40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0A5-2F42-40BE-A7E0-D40A930C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534-1877-4805-8030-EE96F646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CC9B-77DF-4F4A-96AC-D778EE06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E15-DAD2-48D6-B3EB-C2E880E4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DD4E-0981-4602-86D5-71378C0C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F03F-D145-4D7F-BD52-C85FE7D3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0C9A-BD3E-4E02-9D15-12FB9501F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60200" y="0"/>
            <a:ext cx="882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5Z</dcterms:modified>
  <cp:revision>37</cp:revision>
  <dc:subject/>
  <dc:title>PowerPoint Presentation</dc:title>
</cp:coreProperties>
</file>