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FDA-A751-4723-B87B-C9E998ED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74A-12A3-4D80-A47D-304206F9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17A-BEA3-4BA5-878E-2E0BBAA4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889-60C2-4065-A195-F9D086A0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89C-42C4-473C-85BF-DBC889F7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6DB9-7A4C-4DA9-90BF-4E6608F8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06D-41E3-494E-A832-C61CFEAA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79C-01FD-4A3D-8E77-80F0D63C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F41-4B8C-4A76-93EF-BA9EC571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FAE-8B5A-4A8B-8777-26CC45A2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152-ADE8-4482-AA52-7CF54B02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909-CD00-41F1-9B9D-16B9E99D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0A51-8B51-4781-979B-79527B8C7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6Z</dcterms:modified>
  <cp:revision>37</cp:revision>
  <dc:subject/>
  <dc:title>PowerPoint Presentation</dc:title>
</cp:coreProperties>
</file>