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4EAC-0B5B-4A3A-92FF-ECCAA1FF1D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6.3B | UNEMPLOYMENT BY SEX, OCCUPATION AND INDUSTRY, 1962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BAE9-9D38-48B0-BD59-3AD3DBF20C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E159-E0AA-4F6D-9F72-0E54C5FDF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4527-62EB-40A0-AE0C-5CC07ED5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C8C9-FEC8-4364-88B1-E28C03723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A754-BC5A-4926-9DC3-0F344AFDA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6639-BCCA-458C-A488-BC884EEA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27D8-E972-4AD2-922B-8F52E1F1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2E64-09D5-47F2-AEFB-70B2CE62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77EC-CE08-4C80-B4A7-7DAF8D81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7C08-13F3-4DD1-81E3-176CB636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A8C4-ADAD-4909-B301-AB9FC732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2BBB-61E8-45FA-9BFE-178C2BEC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5BB2-ABEB-4DB4-A93E-1A183EA7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BB36-EB62-4514-BB98-CC1DA37899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6.3b | Unemployment rates among females working in health services, but not hospitals, are higher than for females overall; this has not always been tr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5" descr=""/>
          <p:cNvPicPr/>
          <p:nvPr/>
        </p:nvPicPr>
        <p:blipFill>
          <a:blip r:embed="rId1"/>
          <a:stretch/>
        </p:blipFill>
        <p:spPr>
          <a:xfrm>
            <a:off x="406440" y="1397160"/>
            <a:ext cx="8331120" cy="49780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371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verage annual unemployment rate within industry (perc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5:25:35Z</dcterms:created>
  <dc:creator>Kristy</dc:creator>
  <dc:description>16.3b | Unemployment rates among females working in health services, but not hospitals, are higher than for females overall; this has not always been true</dc:description>
  <dc:language>en-US</dc:language>
  <cp:lastModifiedBy>Jia Yao</cp:lastModifiedBy>
  <dcterms:modified xsi:type="dcterms:W3CDTF">2013-09-06T15:28:52Z</dcterms:modified>
  <cp:revision>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6.3b | Unemployment rates among females working in health services, but not hospitals, are higher than for females overall; this has not always been true</vt:lpwstr>
  </property>
</Properties>
</file>