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BAE-FC91-4DB8-BF3F-F0DB7D72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3F8-2D39-40F3-8B02-D50E8EB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DDB-809A-4DB7-A81F-A14C7E8D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829-848B-4ADA-A8B5-892E1152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991-FAEA-4D30-9524-417498AF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B46-B5B3-4D0D-B53B-C63C5BBD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69E-4713-4238-938A-40DAAE19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FD9-7147-473C-A2E7-A7F91E7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3AA-F797-477C-87E1-A7EE0E99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F67-87BB-43D5-A32E-9BC62D9E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AA1-9670-4645-A06A-4FB836C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CAE-9522-4B63-A170-3CB12BFE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A97-841B-4B3F-A544-A2E12537D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1960" y="0"/>
            <a:ext cx="856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3Z</dcterms:modified>
  <cp:revision>37</cp:revision>
  <dc:subject/>
  <dc:title>PowerPoint Presentation</dc:title>
</cp:coreProperties>
</file>