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DDB2A-9B38-41AF-B7F8-F5A16A0928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6.1 | AVERAGE ANNUAL CHANGES IN HEALTH EXPENDITURES DURING ECONOMIC CONTRACTIONS, 1948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D69E7-B1A6-476A-8C51-9F50B475F6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26D1-3C1A-4846-8CA8-BECB4236A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64C3-5AA8-4DF4-87B4-5E624FD84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9BFB-0D57-4025-A8E4-1E8C59497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D2B8-1481-4085-A9B4-1C55EA402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9F17-E13D-44A3-ADE8-2D22B5E84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8D06-8B4E-4FAA-8DF3-501AA3C66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48B3-7A8C-4CE2-A390-E3A4D1B0C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0606-060E-41D7-A7BF-85A00F1EA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A9AF-D46E-4958-842B-AA19156C2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321B-4D6D-40A3-9BAD-4F5AF3D9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2752-A087-4ECA-AD0E-E7B75B66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D8DE-1C57-4300-B92C-4BEF99D4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D3B30-3A55-4172-818F-D8C568B5A6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6.1 | Aggregate health spending growth appears to be largely independent of fluctuations in the business cyc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1066680" y="144792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mpound annual growth r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61960" y="6172200"/>
            <a:ext cx="802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R=rece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9T15:25:35Z</dcterms:created>
  <dc:creator>Kristy</dc:creator>
  <dc:description>16.1 | Aggregate health spending growth appears to be largely independent of fluctuations in the business cycle</dc:description>
  <dc:language>en-US</dc:language>
  <cp:lastModifiedBy>Jia Yao</cp:lastModifiedBy>
  <dcterms:modified xsi:type="dcterms:W3CDTF">2013-09-06T15:28:06Z</dcterms:modified>
  <cp:revision>2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6.1 | Aggregate health spending growth appears to be largely independent of fluctuations in the business cycle</vt:lpwstr>
  </property>
</Properties>
</file>