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B8C-CAF0-4FBE-88DA-49E1B306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B46B-BCEA-44BB-BBEF-08E59F84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5B7-0110-4678-ABE9-303B4D65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752-C670-4C72-91DD-0CDE304D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A28-AE4A-45D0-9B21-08471A1D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007-C8C1-42B4-A264-9B4BC10B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C6C-0288-4882-B7DF-4D2D2805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950-4A84-4BD2-A634-74D56BDD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DFB-4FF8-48A9-BD43-C72AF88F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582-53CA-416A-AF3D-26AE9F21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E0AA-0B35-4A29-97C2-A979266E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85B-0AB6-41A3-964A-716B15D2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674A-7429-423A-B2EF-49CD326F5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5200" y="0"/>
            <a:ext cx="7924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4Z</dcterms:modified>
  <cp:revision>37</cp:revision>
  <dc:subject/>
  <dc:title>PowerPoint Presentation</dc:title>
</cp:coreProperties>
</file>