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098-EB03-454D-BBF8-73434A0C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2CF3-6B9D-44DB-8041-FE234D32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497C-EDEA-4DA3-9C4D-6DFE71C6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0FB-6975-463E-AB8F-B27EFB86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0C9-FE45-45EC-8457-902F401C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1C5-0609-4AFC-BE4C-FBB37B8B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C7E-8764-4A0D-A64B-8706A47D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64E-54D1-46A0-BC05-58F5DE3F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D769-3A86-4CEC-9BDE-60F8A8BC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243-A02A-400E-953B-96AEF7D3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C253-A1E6-403B-90BA-AC8DB46E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51A-1903-4A47-93E6-3FF982C9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EC27-EC9B-4715-AB58-7535A764B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60200" y="0"/>
            <a:ext cx="882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5Z</dcterms:modified>
  <cp:revision>37</cp:revision>
  <dc:subject/>
  <dc:title>PowerPoint Presentation</dc:title>
</cp:coreProperties>
</file>