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B0E61-7F3C-4BC3-B343-4A8896039B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6.3B | UNEMPLOYMENT BY SEX, OCCUPATION AND INDUSTRY, 1962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11DDC-2094-4E5A-BDCA-747AD95957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AD7B-4CB8-4F1F-A8D0-56F0E6EFC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42E2-1ABD-422A-8BAE-AD21BC3E2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A719-86A1-4ECA-B398-5113ABE5D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C949-E617-4C7D-AC99-119FDD0F9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6436-33F8-4360-BFCC-31040CF08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8FE9-C32C-4EFB-971C-50DB8D776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8651-81F0-48E9-A41D-905D92EB4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365B-B784-4CCA-BD9B-61B1D2F61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8DCA-70E5-4745-99DD-C938CD312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D6C0-6007-4BD5-B3A4-07DB9A71F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A394-2281-47CA-B2F1-D28CFB88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8E38-3C43-410C-82F2-56C87500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C3FD8-B1D5-4C5E-9C9D-27F815FF1C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6.3b | Unemployment rates among females working in health services, but not hospitals, are higher than for females overall; this has not always been tr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5" descr=""/>
          <p:cNvPicPr/>
          <p:nvPr/>
        </p:nvPicPr>
        <p:blipFill>
          <a:blip r:embed="rId1"/>
          <a:stretch/>
        </p:blipFill>
        <p:spPr>
          <a:xfrm>
            <a:off x="406440" y="1397160"/>
            <a:ext cx="8331120" cy="49780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09480" y="137160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verage annual unemployment rate within industry (percen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9T15:25:35Z</dcterms:created>
  <dc:creator>Kristy</dc:creator>
  <dc:description>16.3b | Unemployment rates among females working in health services, but not hospitals, are higher than for females overall; this has not always been true</dc:description>
  <dc:language>en-US</dc:language>
  <cp:lastModifiedBy>Jia Yao</cp:lastModifiedBy>
  <dcterms:modified xsi:type="dcterms:W3CDTF">2013-09-06T15:28:52Z</dcterms:modified>
  <cp:revision>2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6.3b | Unemployment rates among females working in health services, but not hospitals, are higher than for females overall; this has not always been true</vt:lpwstr>
  </property>
</Properties>
</file>