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AF4-CDAE-4829-AB1C-0307925F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976-6F7B-471B-8B90-40FC45E0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631-52CA-4DCB-9383-8D1DEC09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52C-1A02-4714-98F0-6804614E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BA0-964D-4A51-AED1-9929865E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219-AA4D-4DFE-A56B-E90807CE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747-2D40-4E37-A9E4-7A3BCE73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C28-85BE-4C38-9E34-A9D3E1C8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053-EC9E-4BB0-A2DE-62FC6724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69D-F295-410C-BA6A-FD081EB4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25E-CC10-467A-89EF-354A105A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C9B-3F64-4585-B050-27D370A2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2249-19FF-4F12-9D49-420B9ED61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6Z</dcterms:modified>
  <cp:revision>37</cp:revision>
  <dc:subject/>
  <dc:title>PowerPoint Presentation</dc:title>
</cp:coreProperties>
</file>