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61A-D186-4E57-92E5-6940B4A4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F01E-D42C-48B6-AF01-79FB2B51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E1E3-1066-49E8-BCF9-ED54BB15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2080-F5AA-4783-95F9-D1A7672D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A7E-1CF5-403E-B95D-FACDCEE2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D25-00D8-44F4-9A6A-8BFB321A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E8A-8521-4ACE-BF12-FF4DC9A6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E97F-0E67-4080-AF1D-C6F7AA64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B870-124A-479E-A5FF-3A9D224F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2322-5ED6-4B04-AE2E-E520276F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B7A-6CC1-4280-8FEE-2757AB63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17E3-3BB8-4643-B4A5-DAE506F5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1716-5111-493A-96E4-046CC4A2D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69880" y="0"/>
            <a:ext cx="800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3Z</dcterms:modified>
  <cp:revision>37</cp:revision>
  <dc:subject/>
  <dc:title>PowerPoint Presentation</dc:title>
</cp:coreProperties>
</file>