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CA02-B9F1-43E6-9DCB-23E8AADF13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7.2A | ALTERNATIVE MEASURES OF PRICE INFLATION FOR HEART ATTACK TREATMENT, 1983-199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F901-C524-4AC1-ADFF-0675846428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F121-D9B2-41D6-AED2-9525A154E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3084-1E80-4841-90F6-5F1BA70E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5C0C-CC1E-4BF4-B82B-79B0D866E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0D41-78F8-4BED-87A0-5F4B75E47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8DF0-6903-4C95-BE01-B589BC17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7087-4D2D-43B2-A87A-9CBECFCA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C80D-FEAB-4EA1-A1A7-A0F79148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8F27-67C5-4690-8229-10B578A08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1332-5FE6-459C-A2A6-AB09C398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A2F3-C99E-4068-8569-C44DFF2E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A79B-E165-4AC9-A9A5-F96B85A8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4712-C9F6-4A67-97B1-347ECB48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2579-5F7E-407F-809E-F3CDC643B9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7.2a | The price of heart attack treatment rose by anywhere from under 10 percent to more than 35 percent depending on how prices are measu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788320" cy="47498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3716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: 1983=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573120" y="579600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utler DM, M McClellan, JP Newhouse and D Remler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ricing Heart At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reatments. Medical Care Output and Productivit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National Bureau of Econom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earch. http://www.nber.org/chapters/c7634.pdf (accessed August 9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15:16:56Z</dcterms:created>
  <dc:creator>Kristy</dc:creator>
  <dc:description>17.2a | The price of heart attack treatment rose by anywhere from under 10 percent to more than 35 percent depending on how prices are measured</dc:description>
  <dc:language>en-US</dc:language>
  <cp:lastModifiedBy>Jia Yao</cp:lastModifiedBy>
  <dcterms:modified xsi:type="dcterms:W3CDTF">2013-09-06T15:31:43Z</dcterms:modified>
  <cp:revision>81</cp:revision>
  <dc:subject/>
  <dc:title>17.1 Net Present Value of Lifetime Earnings and Stock of Health for American Newborns, by Sex and Race/Ethnicity,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7.1 Net Present Value of Lifetime Earnings and Stock of Health for American Newborns, by Sex and Race/Ethnicity, 2005</vt:lpwstr>
  </property>
  <property fmtid="{D5CDD505-2E9C-101B-9397-08002B2CF9AE}" pid="3" name="SlideDescription">
    <vt:lpwstr>17.2a | The price of heart attack treatment rose by anywhere from under 10 percent to more than 35 percent depending on how prices are measured</vt:lpwstr>
  </property>
</Properties>
</file>