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A27-519D-48FC-AF28-01ABBEEE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06D-9AD6-4356-90EC-BA437E60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BCFB-7728-4911-804F-CE268E08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388D-E9F9-47F9-A120-71A911E6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2C6-77E7-46A0-A5C9-A00A6E7B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7A0-BBBC-4460-A7E8-67054D0E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1595-0D5F-4B08-B1F9-909AAAC2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859-A589-4DA3-B43C-D774A94A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5A91-442A-457E-BCD5-2888C762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4D7C-F660-449C-8D45-877712DC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4501-039E-446F-9A19-35755887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1999-E048-46FF-9A0F-7AB8559A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8879-78AD-4C2E-A935-B6EA6D964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240" y="76320"/>
            <a:ext cx="906444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4Z</dcterms:modified>
  <cp:revision>37</cp:revision>
  <dc:subject/>
  <dc:title>PowerPoint Presentation</dc:title>
</cp:coreProperties>
</file>