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3C21-951B-4130-80BB-AEA426863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1 | NET PRESENT VALUE OF LIFETIME EARNINGS AND STOCK OF HEALTH FOR AMERICAN NEWBORNS, BY SEX AND RACE/ETHNICITY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FF53-6C82-4ECC-8DCC-943C33674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233-F57E-491A-B170-78FC936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BAA-379E-4E20-90DA-DC234840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FEF-12B5-4122-A4A8-90142034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7B4-EBCA-4D39-A724-B50DF0FA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AA7-4104-4E58-B8D3-2A82AF33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573-EAB7-4A39-B56F-817DA347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F1C-723B-43BC-8B46-FF8FAC56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7B0-9296-434A-A9A9-FEBC6E43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CA1-3363-4F70-918C-D0547C91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5B2-F9EF-48BA-B96A-7733744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5F8-D45A-4B64-9209-0B133EC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D5A-8258-47C2-AF8D-C2CE7934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C71F-A81F-4CC8-BD57-C453CC046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1 | The average American’s stock of health is several multiples of their lifetime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using 3 percent discount rate (millions of 2005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1 | The average American’s stock of health is several multiples of their lifetime earnings</dc:description>
  <dc:language>en-US</dc:language>
  <cp:lastModifiedBy>Jia Yao</cp:lastModifiedBy>
  <dcterms:modified xsi:type="dcterms:W3CDTF">2013-09-06T15:31:18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1 | The average American’s stock of health is several multiples of their lifetime earnings</vt:lpwstr>
  </property>
</Properties>
</file>