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4D1-E159-4129-B70E-9E006F2D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C4B-3C32-4C75-96E5-B6DF30C7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747-F750-49E7-ACDB-B65A76B4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B3D-6416-48DD-8251-8513CBAF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144-BBF2-4EF2-9C8A-9138F5B2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D7D-4694-4D36-8977-D091EC94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D2D-3310-4946-948A-FB5485F7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C6B-472B-4749-8F80-C985237D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F5E-3FBC-4EF5-B5F8-D7040C2F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448-1625-46B8-B5B1-F3A20D77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487-F929-49C4-92A9-38310126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EFE-E7FD-4790-8FA8-CD16D9BF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8989-2D71-49AB-90CB-34B43D27C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20520"/>
            <a:ext cx="73357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0Z</dcterms:modified>
  <cp:revision>37</cp:revision>
  <dc:subject/>
  <dc:title>PowerPoint Presentation</dc:title>
</cp:coreProperties>
</file>