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08A0F-BA1A-45B2-8FA4-04ABBB586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65C36-0ECF-40FF-94E9-0B3F32C50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F172C-18B4-42E8-96FD-F06A41F27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7D642-52EA-4FC2-94C7-BD9140343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743C5-4257-4BB2-89D3-093D57772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C5D2C-F757-4100-80BE-04421BE79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035B1-951B-4B1F-9511-F711EE9A0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70701-1241-47FD-AD2A-B50F67E31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1D009-2C47-4573-811F-A724B0911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E6EC8-F4B0-4C90-AE62-C474D9115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84740-CC1C-4F5F-B5CC-BEE7EEFF4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9C90D-9C51-4055-98E0-3389EE58D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48CC2-24BE-48A1-A4ED-7C85FFC684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12600" y="304920"/>
            <a:ext cx="9131400" cy="62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9:41Z</dcterms:modified>
  <cp:revision>37</cp:revision>
  <dc:subject/>
  <dc:title>PowerPoint Presentation</dc:title>
</cp:coreProperties>
</file>