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53C0-8FC5-4101-8276-C0F7BB124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4 | SOCIAL BURDEN OF POOR HEALTH IN AMERICA, 1963-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9CB5-BDB0-4ED4-9D7D-FF592FF00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C009-05FD-4F19-95CC-F37C260B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49A2-C8BF-4FBF-9386-051D47A2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AD5E-4D6B-4BFA-BA08-A231625A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7341-2BCF-4D68-8A40-DA2A4C79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5111-EA69-42DF-A679-A1EEF90B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52A1-DD51-4003-A54C-53696FBD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7C8B-E285-461B-92B1-4A89B0D2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293E-1050-43A0-9AFF-D81878A5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F732-0320-4FAF-A27E-BC04B446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E6C-6C08-4C94-933B-5ECCC82D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1910-ED51-48CE-ABB5-F674D6F6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E659-B35F-4EB6-9E4D-F8F0DF6B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BF22-02A1-4654-B65C-8042E4CD1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4a | The economic burden of illness has risen since 1963 even though loss related to premature death and morbidity have decl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09480" y="16002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conomic Burden of Illness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09480" y="571500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losses = national health expenditur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rbidity losses = lost earnings due to illnes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rtality losses = lost earnings due to premature death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4a | The economic burden of illness has risen since 1963 even though loss related to premature death and morbidity have declined</dc:description>
  <dc:language>en-US</dc:language>
  <cp:lastModifiedBy>Jia Yao</cp:lastModifiedBy>
  <dcterms:modified xsi:type="dcterms:W3CDTF">2013-09-06T15:31:24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4a | The economic burden of illness has risen since 1963 even though loss related to premature death and morbidity have declined</vt:lpwstr>
  </property>
</Properties>
</file>