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0FD-4BB8-4158-97A0-CDB5E1F8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492-1B19-4241-80D3-4350A990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A12-0D38-4E91-8F7F-19D8F23B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BDB-6E43-49D5-9471-C116E4D2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ABD-B78B-4466-BF2F-955F9E11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34B-4536-4A7B-A74D-B5E7AECF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214-85D6-4A88-A20F-2867F918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E0C-65B6-4597-825E-B7220003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DED-0573-411A-BFC9-8241D3AD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0869-7531-4752-8F6D-C9EDA6F8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1B1-0F60-4941-B5BF-4380856E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EEC-5400-43A3-8826-40BA8EE4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90E8-4AEF-416F-812A-31FCFA3E4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304920"/>
            <a:ext cx="9131400" cy="62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1Z</dcterms:modified>
  <cp:revision>37</cp:revision>
  <dc:subject/>
  <dc:title>PowerPoint Presentation</dc:title>
</cp:coreProperties>
</file>