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93E9-6F95-46F6-B742-20C5130A6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1 | NET PRESENT VALUE OF LIFETIME EARNINGS AND STOCK OF HEALTH FOR AMERICAN NEWBORNS, BY SEX AND RACE/ETHNICITY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8B2B-781F-4568-828D-6B35516E0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140-BF36-4A19-A974-5CBF8687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195-7775-4273-AE7F-DD3FB3BD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7C9-CF8E-42D5-A17A-88ED8717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481-9A68-4EC3-8492-20ACDB5F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065-CD5D-4D70-A98C-8FFE5B9C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46D-1302-478B-AF28-119DFDF0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8F0-252A-4A5B-AFE2-C3DE6494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01B-1076-46F5-B4A4-82BEAE80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345-53F3-4132-96B2-D88D8AAF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E38-D0A9-4B50-8774-4E516BBD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DA8-ED01-4641-AB67-ADCE6F8C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CBC-DE2F-4F19-9794-5C5B7CA6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2DC8-25E1-40FF-B73C-2EF3D29A5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1 | The average American’s stock of health is several multiples of their lifetime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using 3 percent discount rate (millions of 2005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1 | The average American’s stock of health is several multiples of their lifetime earnings</dc:description>
  <dc:language>en-US</dc:language>
  <cp:lastModifiedBy>Jia Yao</cp:lastModifiedBy>
  <dcterms:modified xsi:type="dcterms:W3CDTF">2013-09-06T15:31:18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1 | The average American’s stock of health is several multiples of their lifetime earnings</vt:lpwstr>
  </property>
</Properties>
</file>