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2405-F64F-4D80-AB71-08F8A22F6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2A | ALTERNATIVE MEASURES OF PRICE INFLATION FOR HEART ATTACK TREATMENT, 1983-199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382C-EA1A-4678-9864-E3293DB07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9B2-7BB2-4669-A08F-29638199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ADB-9B76-455B-926E-6319CEFD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38B-FBE9-4316-9683-8AA28501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819-035C-4E98-99BC-4207C52C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511-2E09-4ACF-8B4E-EDCD6A27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1AA-5323-4E67-9D63-B4974A0D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A67-E097-4F44-8A25-A4E2F598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AB1-B529-42A1-B5ED-5F60060C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7BD-66F9-4F52-86B7-C44202FF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679-DAF4-4078-B72D-EE046501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7A0-13E7-484B-9E4A-EBCF1957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132-88CC-424B-BF9D-7A338E67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9D1A-7E11-4BE9-AEBD-9FD167DC8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2a | The price of heart attack treatment rose by anywhere from under 10 percent to more than 35 percent depending on how prices are meas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7883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983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73120" y="57960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M McClellan, JP Newhouse and D Rem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icing Heart At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reatments. Medical Care Output and Productiv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ational Bureau of 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arch. http://www.nber.org/chapters/c7634.pdf (accessed August 9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a | The price of heart attack treatment rose by anywhere from under 10 percent to more than 35 percent depending on how prices are measured</dc:description>
  <dc:language>en-US</dc:language>
  <cp:lastModifiedBy>Jia Yao</cp:lastModifiedBy>
  <dcterms:modified xsi:type="dcterms:W3CDTF">2013-09-06T15:31:43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a | The price of heart attack treatment rose by anywhere from under 10 percent to more than 35 percent depending on how prices are measured</vt:lpwstr>
  </property>
</Properties>
</file>