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3E4-FD3C-4829-B679-8F1010111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6C4A-1DDA-48ED-B4DB-517B8DCEF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CFC-2A01-49A3-A6CF-6C84513A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FED-C9F0-4140-ABE2-E6357A5D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1E0-C9A0-4E26-82C6-A8466C34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804-B9E3-42E0-BAE3-BB046C5F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88A-23E1-426A-BD17-1F1AF7F6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DDE-CB93-4D0A-91D9-2107212F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551-55C8-4954-96C2-924C9370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19C-B36F-4142-B1A0-5F7EBCEC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075-9937-4BDC-810E-170E94BF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B2F-78EC-440F-850A-E85A513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6E2-19AB-4D00-AF8D-B17747E1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F80-741F-4F5A-B494-DFC814C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603D-717B-4E5D-8509-5D8AF0722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b | In willingness-to-pay terms, the social burden of illness has declined since 1963 even though medical spending has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cial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willingness-to-pay value of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b | In willingness-to-pay terms, the social burden of illness has declined since 1963 even though medical spending has increased</dc:description>
  <dc:language>en-US</dc:language>
  <cp:lastModifiedBy>Jia Yao</cp:lastModifiedBy>
  <dcterms:modified xsi:type="dcterms:W3CDTF">2013-09-06T15:31:45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b | In willingness-to-pay terms, the social burden of illness has declined since 1963 even though medical spending has increased</vt:lpwstr>
  </property>
</Properties>
</file>