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14BE-FE0C-4CDB-89AC-251C8AED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89D-D6B2-4F08-9E1B-E691A165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154F-97AD-42F8-8DB3-248D967E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54E-D36F-47D4-8FEF-6C63D569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207-7A92-4377-8504-903B0BB0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D93F-B952-4459-BA69-325190BE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9DA-39A4-4688-8ED9-BBE74B51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B7E7-20EA-4352-9F24-9BE68ADE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783-8EE1-4290-88AB-5C68DE2B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B08-288C-419F-9F4D-F86071DE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EF46-7245-48D7-A00A-36D0546B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CD10-7C85-41ED-9961-51333AA0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D309-C019-4392-B08D-800001424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69880" y="0"/>
            <a:ext cx="800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3Z</dcterms:modified>
  <cp:revision>37</cp:revision>
  <dc:subject/>
  <dc:title>PowerPoint Presentation</dc:title>
</cp:coreProperties>
</file>