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CF26-A2B2-4915-B848-C676DA847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925D-0E0A-45D6-9D25-E4C104AE4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DA1D-B331-45F9-A642-8B298CD96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FBFB-794B-463A-9610-0C2D2CF78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B782-8CFE-48E0-A6F6-8596A5780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C3ED-C45F-4E39-B885-2F4FABA71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12E0-97D6-47C6-825C-7D4E437D3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C75A-46CD-4B13-AA62-3C35AE410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5B86-17E2-4732-BFBA-C797F4B05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1A94-EC59-4C36-861C-BF796CCF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F267-8A4E-4110-B978-9D95E5DF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70A3-1106-46D8-B7D1-BC3E1CAE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AD79F-8B8C-44A7-9FBD-8FF0038756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65240" y="0"/>
            <a:ext cx="881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9:42Z</dcterms:modified>
  <cp:revision>37</cp:revision>
  <dc:subject/>
  <dc:title>PowerPoint Presentation</dc:title>
</cp:coreProperties>
</file>