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CFA4-07EB-40F9-A4A3-2AAE17F1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91B7-5262-40C7-9F3D-264AD4C1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278E-0F68-489F-878B-A0EC26A3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FB77-AA53-417C-892A-E7561B69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CCB4-D378-4BF7-BD33-116E6CF3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AD10-362C-4080-98CE-FF684EF3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C76E-91FE-45A8-9EF4-B900BD92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5107-83D3-46E3-BDCC-6FE5072B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4558-8A15-4D07-BA5A-42A1EE7E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BDE6-1E69-483A-BF4B-B2C3EF81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B91A-1EE2-472A-808E-3BCB372F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E7AC-9EAD-429F-A07C-C336218C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604A-CAE0-4828-9EC8-9080EA7B3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3080" y="152280"/>
            <a:ext cx="89978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6Z</dcterms:modified>
  <cp:revision>37</cp:revision>
  <dc:subject/>
  <dc:title>PowerPoint Presentation</dc:title>
</cp:coreProperties>
</file>