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1D4-CECA-4DC3-BC5F-A85D29C2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701-489B-4C5E-B9C0-2056E519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5FB-014B-4A63-AC6A-27031F18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CCD-5381-4054-896A-3037DD7A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AFC-F40A-4B5C-B2F1-7CCA01BB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3E6-C657-4D57-985B-38D653B6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93D-1BE0-4BB2-B6FE-EC371A31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2B6-D33E-48DA-9879-CCE4E7A7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010-B336-4B76-921F-A357B65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2FC-ACF9-4B19-BC96-B76BACA1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DA3-7C7A-4722-85A8-0C24C748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6AA-29EF-427E-B343-ADF58006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BD31-9979-460E-A2CD-5B21D4C5F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20520"/>
            <a:ext cx="73357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0Z</dcterms:modified>
  <cp:revision>37</cp:revision>
  <dc:subject/>
  <dc:title>PowerPoint Presentation</dc:title>
</cp:coreProperties>
</file>