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5F49-F146-42B6-8755-79726B6A3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7.2B | Reduction in Daily Cost of Therapy 24 Months After Patent Ex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E84C-AE0E-4203-8E29-C98F8001B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7DD-46BA-49BE-A51E-005EBDED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3DC-1FA0-4FA4-A431-6DDB5DD8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F23-9086-4E0B-8E77-A11AA24B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608-C4A7-4811-B848-706E6D22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1BF-CBF6-460B-97A7-CF906074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3EF-5BB9-4FC8-BECB-3946104C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BE3-B8DA-4365-9A6F-6FFCB778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5B9-5007-4131-BCE1-0F7E28C2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193E-31A3-41F4-B49A-9A52335A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3B7-86F6-4631-BE19-EF99D902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F45-1A1E-4094-9112-1C833691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398-A45D-4AFE-9A9B-7DA7D40C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C62C-176C-415F-A86C-E2F4557BB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19566" r="0" b="0"/>
          <a:stretch/>
        </p:blipFill>
        <p:spPr>
          <a:xfrm>
            <a:off x="592200" y="1523880"/>
            <a:ext cx="7959600" cy="4386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2b | After patent expiration, there has been a 51 percent reduction in the daily cost of therapy after 24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62120" y="588024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Berndt ER and M Aitken. A Different Perspective: The AARP Sponsored Schondelmeyer-Purvis Studies.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caring Seniors: The AARP Drug-Price 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American Enterprise Institute. Washington DC.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b | After patent expiration, there has been a 51 percent reduction in the daily cost of therapy after 24 months</dc:description>
  <dc:language>en-US</dc:language>
  <cp:lastModifiedBy>Jia Yao</cp:lastModifiedBy>
  <dcterms:modified xsi:type="dcterms:W3CDTF">2013-09-06T15:31:20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b | After patent expiration, there has been a 51 percent reduction in the daily cost of therapy after 24 months</vt:lpwstr>
  </property>
</Properties>
</file>