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A90D-2C36-4969-B1BD-5278A433D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B | TOP 29 PHARMACEUTICAL INNOVATIONS BY COUNTRY OF ORIGIN, 1968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72B6-BD26-4352-AB4A-3EF76FBDE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7F7-679D-4DF0-9851-6DF385A6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F5F-C6C5-4397-8956-0E29B404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C49-C73C-40B1-9F48-B224D7D7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357-0B6C-44DC-891C-2E23ABE0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0BA-8614-4214-8740-7819DE88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BC1-EBC4-435D-A519-451344C3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56E-B9EC-4EA3-AA65-79531A32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7EB-FF6C-49DC-9F5A-9929A8CD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FDB-36B0-415A-B476-0E0B716B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0DF-F130-4116-8C41-DAD474F3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3E7-663E-4233-9C44-8590FF1D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C70-7ED4-492E-961D-48092E4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AE4D-EDBF-4099-9132-271FF97CB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1b | The U.S. also is responsible for more major pharmaceutical innovations than the EU and Switzerlan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87883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68160" y="160020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29 pharmaceutical innovations, 1968-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4840" y="5203800"/>
            <a:ext cx="84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More than one country shares the credit for some innovations. Population figures are for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b | The U.S. also is responsible for more major pharmaceutical innovations than the EU and Switzerland combined</dc:description>
  <dc:language>en-US</dc:language>
  <cp:lastModifiedBy>Jia Yao</cp:lastModifiedBy>
  <dcterms:modified xsi:type="dcterms:W3CDTF">2013-09-06T15:33:53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b | The U.S. also is responsible for more major pharmaceutical innovations than the EU and Switzerland combined</vt:lpwstr>
  </property>
</Properties>
</file>