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EE520-AA79-40DA-8308-DBC4FBAAA2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8.1A | TOP MEDICAL INNOVATIONS BY COUNTRY OF ORIGIN, 1975-200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A8BDB-63B4-4103-82C4-BF5677311A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A15A-32C7-4703-BD44-33B2D8A30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11CE-6BDC-4A03-8ECC-F39A1930F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2413-576E-4765-B83C-5671E925C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DE79-7B9D-4479-835D-7375116CB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D033-3C50-4B1E-86DC-9F119CB37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9395-98BD-47B1-9FC8-CEA8051FD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0F7C-760C-450F-A2DB-0D81AF231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8B5D-F743-4894-8EAE-DB2DE556C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D0C3-BAEB-477B-A71A-FA490B777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EB9C-EA2B-4C29-B1BD-0DFF978DE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D0F2-028C-4755-9B59-D1ABACFF7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D06A-304F-49B3-BD8C-893135483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24617-CC67-4C55-B9CC-0EC1989A87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8.1a | The U.S. has less than two-thirds the population of EU and Switzerland, but has produced about 50 percent more top medical innov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-50760" y="1549440"/>
            <a:ext cx="92455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49800" y="1600200"/>
            <a:ext cx="405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top medical innovations, 1975-2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541080" y="5759280"/>
            <a:ext cx="839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Whitman G and R Rand. Bending the Productivity Curve: Why America Leads th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orld in Medical Innovation. Cato Insitute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Policy Analysi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 654. November 18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9. http://www.cato.org/pubs/pas/pa654.pdf (accessed August 10, 201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5T17:43:19Z</dcterms:created>
  <dc:creator>Kristy</dc:creator>
  <dc:description>18.1a | The U.S. has less than two-thirds the population of EU and Switzerland, but has produced about 50 percent more top medical innovations</dc:description>
  <dc:language>en-US</dc:language>
  <cp:lastModifiedBy>Jia Yao</cp:lastModifiedBy>
  <dcterms:modified xsi:type="dcterms:W3CDTF">2013-09-06T15:33:51Z</dcterms:modified>
  <cp:revision>5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8.1a | The U.S. has less than two-thirds the population of EU and Switzerland, but has produced about 50 percent more top medical innovations</vt:lpwstr>
  </property>
</Properties>
</file>