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E90-CADB-467F-8561-CD7F7A63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D46E-4203-44E9-9E35-B8D8421A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8CA-362C-43D5-AF51-01204AEA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B773-4C63-4904-8A41-D3C8874E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D52-8973-4A61-B98C-58B2043D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5337-6AE0-4F4D-B803-91FD9BD6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A54-3259-44D2-9E7F-A20D2990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57F1-0306-4346-BB9C-71B17447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FD0-DF33-4D87-BFA4-9ED8BFBE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E84-ABCB-401C-8B91-D96714AC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B1C1-436B-4E35-A7FD-889E1610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8B8-7490-4675-8917-5C14777E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FACF-1595-417B-B8E3-068BCFD86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9320" y="117360"/>
            <a:ext cx="909468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2Z</dcterms:modified>
  <cp:revision>37</cp:revision>
  <dc:subject/>
  <dc:title>PowerPoint Presentation</dc:title>
</cp:coreProperties>
</file>