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2B1F-CD9A-4807-9B51-DFF488B58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A | DISTRIBUTION OF PHARMACEUTICAL R&amp;D EXPENDITURES AMONG TOP 10 OECD NATIONS FUNDING PHARMACEUTICAL R&amp;D, BY COUNTRY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E585-9267-4CB5-B651-3C36C9211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F4C-C972-43D0-BF2C-B1F093CA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ADB-6589-4787-BAC8-AAD4575E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D6B-9B6B-4D22-AC0D-20AA5A98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899-A862-451C-836A-1B598B4A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347-E4FA-48ED-8741-6EBEBF41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A3C-00B8-4CDD-A069-21A6A984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A7E-C620-41EA-BBC0-B7BA42E5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407-9D33-4FC3-9982-3EE0805B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FA0-3B44-43A8-B471-BCCF0B6C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B22-2F76-468E-BA27-725934CA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B02-6FB8-4227-AC02-F5AF0D55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91D-4D34-48D7-B77D-483FAAA7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13FD-5A47-4C24-9EE6-72F887A28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a | Among the top 10 global funders of pharmaceutical R&amp;D, the U.S. accounts for more than half to two-thirds of total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509840" y="4724280"/>
            <a:ext cx="58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p 10 global funders of pharmaceutical  research and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ranked by 2006 R&amp;D expenditures in U.S. dollars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56640" y="137160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aggregate R&amp;D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47840" y="5486400"/>
            <a:ext cx="79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not reported for selected years in selected countries. Shares are of summed totals for countries that reported d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a | Among the top 10 global funders of pharmaceutical R&amp;D, the U.S. accounts for more than half to two-thirds of total spending</dc:description>
  <dc:language>en-US</dc:language>
  <cp:lastModifiedBy>Jia Yao</cp:lastModifiedBy>
  <dcterms:modified xsi:type="dcterms:W3CDTF">2013-09-06T15:33:55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a | Among the top 10 global funders of pharmaceutical R&amp;D, the U.S. accounts for more than half to two-thirds of total spending</vt:lpwstr>
  </property>
</Properties>
</file>