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105-E7F8-4945-8537-CD87FD5D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CEC-FFFC-4C9B-A620-745A19A8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1E2-ED33-4AC6-8DF4-D6E2F095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AAE-18FD-439C-BDD7-1812B184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973-CBA5-4F78-8451-D5C3673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4C8-170F-4717-BD74-95BF4F08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44C-4785-45D1-8040-2FAEA697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771-342A-40E8-B560-601A4E77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5C4-1D19-4EEE-9C3B-08FFE6A0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FA2-179E-4121-8F9B-94977A5F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839-C3B3-4D43-86DE-B5D098BB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0AB-37C0-494B-8FDE-9F7758CF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D668-AA35-4838-B5FD-0EB817098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4920" y="22320"/>
            <a:ext cx="85629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9Z</dcterms:modified>
  <cp:revision>37</cp:revision>
  <dc:subject/>
  <dc:title>PowerPoint Presentation</dc:title>
</cp:coreProperties>
</file>