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47C3-14AD-4166-9E6D-46541026F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B | PHARMACEUTICAL PRODUCTS AS A SHARE OF U.S. EXPORTS, IMPORTS, AND NET TRADE BALANCE, 199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1B3C-FBF0-4966-BB6D-1A27D07F7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AC4-C7AC-48FE-9288-085FAA2C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936-E490-447B-B8EF-2ACEE03A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C1B-D957-407E-8171-C18EE32E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B24-E117-4113-8F69-B69A4283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373-4E96-431C-9C6E-875F411A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6ED-5DF3-46E3-93AC-E390E297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9E6-C9EB-4458-92C6-E9CD3F3B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E7A-C08A-4440-B715-D055F856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F447-E147-4F45-B5C1-C026D86C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5C6-F081-4F53-A35D-F49CA1E1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BD3-56F5-4745-B03C-51E536DA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98C-7562-44C0-A47B-8E094FD6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6021-DB2B-485E-B8AA-6BFA62E21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3b | The health sector contributes a relatively small share of the U.S. trade imbalance, but it appears to be gr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3520" y="137160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alance of imports over exports as a percentage of U.S. net trade bal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b | The health sector contributes a relatively small share of the U.S. trade imbalance, but it appears to be growing</dc:description>
  <dc:language>en-US</dc:language>
  <cp:lastModifiedBy>Jia Yao</cp:lastModifiedBy>
  <dcterms:modified xsi:type="dcterms:W3CDTF">2013-09-06T15:34:0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b | The health sector contributes a relatively small share of the U.S. trade imbalance, but it appears to be growing</vt:lpwstr>
  </property>
</Properties>
</file>