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FED-0A92-4BE2-9AFF-82B4E8C8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53C-E1BD-4D57-993F-60C6BD82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38E-85C6-426B-8856-3D5AEB2C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980-7363-4C67-9089-D16DA7E1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C9C-941B-44B0-AA30-0F3C6ACB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E79-5512-4250-A4E4-A64FC4FC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ED0-330A-448A-8E5A-3A1446EA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8F7-3780-44BF-BDE1-BAF5408A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EE9-52C1-4376-9C4D-5840DBCB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32B-D6D6-43C8-BA21-412B00BD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FA3-B7CD-47B0-8EA4-1245C0F9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CB8-BE3B-4085-8829-4333AA1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56BD-645C-411C-9206-C334C0C9D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19040"/>
            <a:ext cx="9085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0Z</dcterms:modified>
  <cp:revision>37</cp:revision>
  <dc:subject/>
  <dc:title>PowerPoint Presentation</dc:title>
</cp:coreProperties>
</file>