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D9F5-EFCC-4C00-A2CB-4E26163BC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B | TOP 29 PHARMACEUTICAL INNOVATIONS BY COUNTRY OF ORIGIN, 1968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0FAB-732C-4D84-A9D5-584949DEE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180-2DD9-4B0D-BD03-122187C8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B27-2EC4-4CF1-9F36-4B607EF0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130-4017-442A-8D59-0C366751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85A-CAA3-45BA-BCE7-9A470DE0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AE7-3E96-4AC2-81E0-825FAC12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CAD-5D3C-4495-B721-1C284C2B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9DF-356B-4940-8255-3F87DE77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E67-69B2-4E7D-8395-6803A552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AB3-0A7E-45E2-83B2-06F1078F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BE0-29A9-451A-B038-B58B52F8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2559-5E57-49CE-8E67-651CAC46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F67-9DAC-406C-A622-1224B1BA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3287-CAED-4195-A46C-BC7DC0664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1b | The U.S. also is responsible for more major pharmaceutical innovations than the EU and Switzerlan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87883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68160" y="160020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29 pharmaceutical innovations, 1968-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4840" y="5203800"/>
            <a:ext cx="84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More than one country shares the credit for some innovations. Population figures are for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b | The U.S. also is responsible for more major pharmaceutical innovations than the EU and Switzerland combined</dc:description>
  <dc:language>en-US</dc:language>
  <cp:lastModifiedBy>Jia Yao</cp:lastModifiedBy>
  <dcterms:modified xsi:type="dcterms:W3CDTF">2013-09-06T15:33:53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b | The U.S. also is responsible for more major pharmaceutical innovations than the EU and Switzerland combined</vt:lpwstr>
  </property>
</Properties>
</file>