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99F2-2E6A-4D2E-8F24-1806C67D2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B | PHARMACEUTICAL PRODUCTS AS A SHARE OF U.S. EXPORTS, IMPORTS, AND NET TRADE BALANCE, 199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25A0-CEF0-45B6-AF79-7094B520B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FAB-B0FF-485F-BA1D-CF26619F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A97-5587-4053-8473-1BB90E59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423-786A-49CA-8864-469D49B9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B85-5D5A-4040-B4BA-E212B0B1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DF5-4670-4D21-A303-643D81ED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3A6-8828-4F88-88FA-97577DBB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FA2-34C5-4B9E-B580-2483A054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589-6DFD-480B-AF23-02950036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21B-8152-4299-ACF9-52947BC5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A29-5E47-49C1-ACDF-CD768EF3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E83-021F-48B2-8F44-68AD730C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321-1124-4D49-AA16-1CE85252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D793-8F39-438D-BA8D-4D4E67434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3b | The health sector contributes a relatively small share of the U.S. trade imbalance, but it appears to be g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3520" y="13716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lance of imports over exports as a percentage of U.S. net trade 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b | The health sector contributes a relatively small share of the U.S. trade imbalance, but it appears to be growing</dc:description>
  <dc:language>en-US</dc:language>
  <cp:lastModifiedBy>Jia Yao</cp:lastModifiedBy>
  <dcterms:modified xsi:type="dcterms:W3CDTF">2013-09-06T15:34:0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b | The health sector contributes a relatively small share of the U.S. trade imbalance, but it appears to be growing</vt:lpwstr>
  </property>
</Properties>
</file>