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D8E-7B46-43D5-9703-72F208A8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A81-3BAC-4B41-BEA3-C07483B7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76D-FE0B-452A-BC59-44E3E536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6B8-B183-4413-971D-ACDC83CE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5F4A-2668-4E35-AB0B-26573691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BBD-D1A6-46A7-9C01-ADC5E0DD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769-6E97-4D4A-B277-28C6FD2F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3D7-E617-4365-AEC6-12422C88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CAE-9067-4AA1-8B11-87EA232D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C83-A723-474B-8007-5035213A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9BD-C9E5-4352-AFCC-0C22470B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76B-52E3-44CB-95A9-9BF7C0A4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3331-B7AE-47BF-8914-C4BC05236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4920" y="22320"/>
            <a:ext cx="85629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9Z</dcterms:modified>
  <cp:revision>37</cp:revision>
  <dc:subject/>
  <dc:title>PowerPoint Presentation</dc:title>
</cp:coreProperties>
</file>