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1BA21-A165-46CD-B018-D8A511BF8C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8.2B | PER CAPITA PHARMACEUTICAL R&amp;D EXPENDITURES AMONG TOP 10 OECD NATIONS FUNDING PHARMACEUTICAL R&amp;D, BY COUNTRY, 1980, 1990, 2000 AND 200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B8440-5864-4BF7-9076-6DC9013B0F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3EAA-3F62-46A4-92CA-C6552FBFA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C24E-B3ED-497C-B178-B2C580B5E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AE5B-C452-4AA2-A4A3-58F2450D3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B862-FE6A-47EA-8B0A-FBA7D36CD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1A48-BF60-41A6-B3AB-F56CD53E3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12A9-74DA-4490-A5DF-DD534A753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CD1C-C2B8-47E8-9015-138DD3DD6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5656-AE24-4EAB-9715-31BF74A1E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F490-0846-42EF-8E65-4F7699420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1E45-189D-4EAA-BA79-8AD1753A5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74A9-B4C5-4369-8090-F5316782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EE3C-8384-4EED-B0B0-434DFC7F5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4FE11-07F5-470A-9956-06942799B1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8.2b | On a per capita basis, U.S. spending on pharmaceutical R &amp; D is exceeded only by Denma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5597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15600" y="1523880"/>
            <a:ext cx="553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 capita pharmaceutical R&amp;D expenditures (U.S. dollars, PPP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641160" y="622764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5T17:43:19Z</dcterms:created>
  <dc:creator>Kristy</dc:creator>
  <dc:description>18.2b | On a per capita basis, U.S. spending on pharmaceutical R &amp; D is exceeded only by Denmark</dc:description>
  <dc:language>en-US</dc:language>
  <cp:lastModifiedBy>Jia Yao</cp:lastModifiedBy>
  <dcterms:modified xsi:type="dcterms:W3CDTF">2013-09-06T15:33:57Z</dcterms:modified>
  <cp:revision>5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8.2b | On a per capita basis, U.S. spending on pharmaceutical R &amp; D is exceeded only by Denmark</vt:lpwstr>
  </property>
</Properties>
</file>