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1CBD-DA7F-4426-9323-C4E73EA62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552E-182D-4F3F-8ED6-8FE82AA11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F16-9356-4FDC-B1E4-55967668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E46-0C8C-4AE1-867D-41E9950B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6DC-DF77-42FB-9ECF-B01DC35F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1B8-CE4C-4672-A5E3-0E075876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169-54E0-42A4-8FC9-D7A14CDC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627-F9CF-4A02-AA07-9BC194E1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A88-C897-47CA-A360-EC87A948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DEB-C4D2-491D-8F4E-3B5C3336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3E8-1F2B-4533-8F40-CB223DC0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29D-46DE-4D2B-A19E-2F8C7F3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F86-49BB-4D6E-B3FD-27B1EDCB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ECF-3884-4C0C-AE1F-3091A605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312E-5E5E-4F22-BB09-225F3CD28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1_a.png"/>
          <p:cNvPicPr/>
          <p:nvPr/>
        </p:nvPicPr>
        <p:blipFill>
          <a:blip r:embed="rId1"/>
          <a:stretch/>
        </p:blipFill>
        <p:spPr>
          <a:xfrm>
            <a:off x="1219320" y="5716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5238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11a--State Health Rankings, 2009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676520" y="582480"/>
            <a:ext cx="57909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5b | State Health Rankings, 2009 (1=Best)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638280" y="57592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/>
  <dc:language>en-US</dc:language>
  <cp:lastModifiedBy>Jia Yao</cp:lastModifiedBy>
  <dcterms:modified xsi:type="dcterms:W3CDTF">2013-09-06T15:41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/>
  </property>
</Properties>
</file>