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B5B3-6821-4089-A9BC-302998B0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C0D0-36A5-4AC0-8E9D-13561D02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64FE-F4F8-4C4F-B7D8-9A9CF348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B91D-FFED-48D1-8E0C-D2537854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E11A-8CE6-4AFB-83B0-2EBE0D84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4A70-1FA2-4DD2-BF4F-2165E118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3676-ED0D-41CA-9B5A-A0283716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4708-76E1-4407-A9D6-EA88F521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E921-7CBE-41C2-956A-75E23B61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7A7D-7B24-4A75-8FF9-2C5092B7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8A69-5F2D-48D6-9571-D654EC2B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1ECC-F2E6-41A2-AD72-AE80C77B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BB7C-F110-4A10-857F-2204798BD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2560" y="228600"/>
            <a:ext cx="9038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2Z</dcterms:modified>
  <cp:revision>39</cp:revision>
  <dc:subject/>
  <dc:title>PowerPoint Presentation</dc:title>
</cp:coreProperties>
</file>