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4FF0-AF02-4A25-8173-C9324CA50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10CC-6510-4C21-9FCE-CF21D3EE8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2DF9-149B-4BC6-85E2-95D54D768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B2B8-B23D-45D7-9706-CC7980FE0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CEF6-2563-458B-AEEC-BF3583415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A526-A0C0-4186-A146-730340143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30E8-4E2D-4681-9ACD-CDDFD98EB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D47A-6200-4436-BEA6-F0BFACB93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0010-8464-4406-A2B1-6BE3AC8DF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CFE3-D332-4197-ADE5-56BDF5AE3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FE41-8131-4357-A7A1-69E66FD5E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523F-C6CC-4BE9-8729-F264CA8D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B0C77-644B-46FE-BD9B-91CA908174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3360" y="1295280"/>
            <a:ext cx="90172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47Z</dcterms:modified>
  <cp:revision>39</cp:revision>
  <dc:subject/>
  <dc:title>PowerPoint Presentation</dc:title>
</cp:coreProperties>
</file>