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75E-96FA-439D-8008-200791F0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020-89D2-4DEA-88C9-00756EFB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620-D0C6-4FB7-BD10-B7BAC1D6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B3F-A096-41CE-B3F6-7CB9FCF5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A1B1-240C-4E41-B8C0-CB7AC2C4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BD3-26C5-468F-ACB9-79CFED74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9DB-9F02-4478-B386-1BB5E28A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D402-8842-4649-BF54-987EC300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D809-7ABB-4A2E-A0D9-292601ED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0A9-30B7-4F95-BAE6-42BE9B18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B314-FA9F-44B5-9168-73EBD1D5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04C0-1F99-4F60-9938-2AD20C9B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5723-B49B-47CE-97C5-338AC88D9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8920" y="49320"/>
            <a:ext cx="89028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7Z</dcterms:modified>
  <cp:revision>39</cp:revision>
  <dc:subject/>
  <dc:title>PowerPoint Presentation</dc:title>
</cp:coreProperties>
</file>