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136B-7E27-45C6-8FAF-A416EE088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27FA-0F87-496F-AF0A-7542CBB6A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4BB-2E6E-4047-BEA4-21FA78AA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BBE-3D19-4B4E-B2DE-E964CAC8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DA3-0C98-4425-952A-7779852B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B63-145C-44C5-9263-3EBB2818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F1C-D2DA-4E4D-8CFB-CFF83DFA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AB3-76D5-4397-9CF3-DB1EE34D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CDE-55FC-4307-80F5-1E21669F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356-4F98-4753-8707-F85CBF84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082-1478-4467-9131-3AA9582D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6A2-2AEF-4BD4-B5AD-CA7CBC88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06E-2905-46EC-9528-BEE45B0D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6B7-FF83-4D1E-A110-C3B9AAC5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200F-C21C-4233-B0F8-259A39718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6b.png"/>
          <p:cNvPicPr/>
          <p:nvPr/>
        </p:nvPicPr>
        <p:blipFill>
          <a:blip r:embed="rId1"/>
          <a:stretch/>
        </p:blipFill>
        <p:spPr>
          <a:xfrm>
            <a:off x="1447920" y="38088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19280" y="43344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c | Percent of adults age 15 and older who are daily smokers, United States,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77360" y="5495760"/>
            <a:ext cx="861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-Specific Prevalence of Cigarette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Smokeless Tobacco Use Among Adults --- United States, 2009.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rtality and Morbid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ekly Repo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ovember 5, 2010 / 59(43);1400-14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dc.gov/mmwr/preview/mmwrhtml/mm5943a2.ht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8:54Z</dcterms:created>
  <dc:creator>Jia Yao</dc:creator>
  <dc:description/>
  <dc:language>en-US</dc:language>
  <cp:lastModifiedBy>Jia Yao</cp:lastModifiedBy>
  <dcterms:modified xsi:type="dcterms:W3CDTF">2013-09-10T20:49:20Z</dcterms:modified>
  <cp:revision>1</cp:revision>
  <dc:subject/>
  <dc:title>PowerPoint Presentation</dc:title>
</cp:coreProperties>
</file>