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78B-EF16-4CD1-9041-BCB4F607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1A4-5129-4394-9756-542222F1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565-2811-474F-AE82-0ED917A3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508-0656-4477-9524-7BCE99FC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F31-7DF7-48E1-A5FE-673FD66B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556-E83B-4F4B-94B5-E1090036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557-EDF7-48DA-B838-69B0337F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F1F-073C-4B2D-B2AD-8D118C5D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47F-7E51-48CB-8124-8422723D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DF2-74EF-472A-8184-06F40583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5FA-C1E9-47DB-B90D-12AE051F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404-DE4F-4E2C-A4C0-29838A74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7565-1492-4256-92B8-91D7CD4E2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8963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4Z</dcterms:modified>
  <cp:revision>37</cp:revision>
  <dc:subject/>
  <dc:title>PowerPoint Presentation</dc:title>
</cp:coreProperties>
</file>