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E20C4-8741-40CB-8718-941F395B76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9.10 | INFANT MORTALITY INDEX (US=100) BY NUMBER OF WEEKS OF GESTA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C2DFA-28A3-4DC0-A7DC-B2C28F1909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809A-ACCA-496B-8808-75630C858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C337-2AF0-42AE-9919-DAFAAA2C1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369F-A30C-4BE5-B3B1-837A05E61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394F-8AB9-4916-8E30-3DF68E3E8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4842-9B66-4559-B23A-3F695A821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859F-B5DD-48B3-800F-C99557FFC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626B-6F7C-465B-A0D8-F38AE48D2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FF0D-EC65-4CC5-9717-70A39C0F4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1709-623D-416C-9A8B-BB102E35B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9AD4-3C02-4204-910E-DA587B10B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DFB7-D228-457F-A7BA-C5CC2C993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FDFD-DBF4-4A6A-8E08-19A053712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B8041-9F57-4FFB-81EA-F12DB8D7B5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9.10 | Except for Sweden and Norway, the U.S. generally leads to world in saving the lives of premature inf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330120" y="1244520"/>
            <a:ext cx="8483760" cy="436896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500040" y="5375160"/>
            <a:ext cx="853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Note: countries listed (left to right) from best to worst for infants with the shortest gestation perio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2209680" y="144792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fant mortality index (U.S. = 1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>
            <a:off x="500040" y="5764320"/>
            <a:ext cx="7963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MacDorman MS and TJ Mathews. Behind International Rankings of Infan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rtality: How the U.S. Compares with Europe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National Center for Health Statistic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Data Brief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. 23. Hyattsville MD. National Center for Health Statistics 2009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7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6:26:20Z</dcterms:created>
  <dc:creator>Kristy</dc:creator>
  <dc:description>19.10 | Except for Sweden and Norway, the U.S. generally leads to world in saving the lives of premature infants</dc:description>
  <dc:language>en-US</dc:language>
  <cp:lastModifiedBy>Jia Yao</cp:lastModifiedBy>
  <dcterms:modified xsi:type="dcterms:W3CDTF">2013-09-06T15:41:14Z</dcterms:modified>
  <cp:revision>658</cp:revision>
  <dc:subject/>
  <dc:title>19.1a  Cost per Life Year Gained from Increases in Health Spending in the United States, by Age, 1960-20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9.1a  Cost per Life Year Gained from Increases in Health Spending in the United States, by Age, 1960-2000</vt:lpwstr>
  </property>
  <property fmtid="{D5CDD505-2E9C-101B-9397-08002B2CF9AE}" pid="3" name="SlideDescription">
    <vt:lpwstr>19.10 | Except for Sweden and Norway, the U.S. generally leads to world in saving the lives of premature infants</vt:lpwstr>
  </property>
</Properties>
</file>