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5E0D-ED89-4932-9FC9-7F1F41FC9F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8B | MEDICAL MALPRACTICE PAYMENTS RELATIVE TO TOTAL NHE AND EXPENDITURES ON PHYSICIAN SERVI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F82D-3C59-435C-B41F-338DA55D91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DB20-B9E8-405D-ADDB-B4514F36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6306-FE8A-4357-A65F-E424F8C9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AC5F-F066-4C56-A10F-FB053848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108B-5760-4DFA-BCD9-A4028D3A7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D160-58B0-4080-9B42-2E3704AC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6C09-63B8-437F-8045-0F21F0DB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8228-7A8C-4EF2-B1E0-6B6F16FE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24C8-3EEF-48BD-ADC8-BD77022E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1F4C-1671-449F-BE3D-ED2C0C0F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0C53-A49C-4C23-8A5C-4B0E6020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AE2A-F76E-411B-99D0-9C7ED936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63EE-332A-4D1C-9972-50E459C9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7421-B9E4-4B54-9152-88A111A3A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8b | Medical liability payments as a share of total or physician spending peaked in the 1970’s and have declined through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6002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dical Malpractice Payments per $100 of Expendi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8b | Medical liability payments as a share of total or physician spending peaked in the 1970’s and have declined through 2009</dc:description>
  <dc:language>en-US</dc:language>
  <cp:lastModifiedBy>Jia Yao</cp:lastModifiedBy>
  <dcterms:modified xsi:type="dcterms:W3CDTF">2013-09-06T15:41:07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8b | Medical liability payments as a share of total or physician spending peaked in the 1970’s and have declined through 2009</vt:lpwstr>
  </property>
</Properties>
</file>