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B1C-CA46-4817-8ADA-75B3288F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B6C-E7CB-49CE-9489-27408861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22A-9F04-41C2-AAB4-67824EDF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C17-93BD-47DF-90F4-2C231250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466C-7EA0-414F-AE92-033FA5F6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66A-62B0-42D8-92A6-9733540B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E24C-8B81-4E70-AF54-F01B8D7D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06C-3335-4B47-A4CF-467A7796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B8C-859E-4C1D-8305-04090287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F2D-5C49-422E-ABCF-2BE4BDE2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185-1286-4F12-9691-978433C3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09E-D445-4EC0-A78A-95FC8716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47FB-24C3-41E2-A610-69A5A8728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1Z</dcterms:modified>
  <cp:revision>37</cp:revision>
  <dc:subject/>
  <dc:title>PowerPoint Presentation</dc:title>
</cp:coreProperties>
</file>