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C404-CF5F-463C-B284-53B33ECE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9856-39FD-4292-A960-7A59E2CF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28EC-EFC4-4900-89B8-3D9DE033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6DAF-61E1-458B-950D-A9A8FB9D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CF34-8008-4D50-B151-1FB85CD4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E8A6-C245-46C5-8634-77CC2A10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1966-B8C0-4959-977C-DE9BF096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E40-A842-4891-BBFE-9D21F5B9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03B3-269D-4A50-A659-A4B20986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CB01-5852-485F-BBF4-1012D3C5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EFBC-4ACB-4283-AD3F-CCCAF992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8FB6-8FAE-4929-8153-F1EAADF5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1316-77DF-4DF9-BEDA-753912A9E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12840" y="54000"/>
            <a:ext cx="860256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5Z</dcterms:modified>
  <cp:revision>40</cp:revision>
  <dc:subject/>
  <dc:title>PowerPoint Presentation</dc:title>
</cp:coreProperties>
</file>