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46AB-F411-4FC7-91F4-CD81CE909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7B | PHARMACEUTICAL WHOLESALE PRICE INDEXES, RELATIVE TO U.S. PRICES (US=100)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396C-E560-417A-829C-F9BF1C1864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6EDF-D0D2-441F-BC7C-841F7718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188E-F345-46E2-A0BB-2F5578DC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1A35-4120-47BA-8E33-9D10376C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11BE-9494-4EC6-A5CD-2071CA10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3A4D-BEC6-4FF8-BD2C-F624C0BB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A649-AA1C-47E8-A293-4B329E51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9D65-59B0-4914-B596-26DA34D2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5049-A3BB-436A-86D7-307C5FAF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0E3-284E-4C0C-941B-32B400DD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465D-EB6D-4446-AADB-31AC74F2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126-A181-497F-B433-1BF9D315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289-53E1-48CD-BABE-78F15513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A8D5-9B72-436D-84B5-60F68A74C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7b | Manufacturer’s prices generally are higher in the U.S., but U.S. pharmaceuticals are generally more affordable due to higher incom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eutical price indexes: 100=U.S. (20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64920" y="6019920"/>
            <a:ext cx="74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Danzon PM and MF Furukawa. International Prices and Availability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euticals in 2005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221–3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7b | Manufacturer’s prices generally are higher in the U.S., but U.S. pharmaceuticals are generally more affordable due to higher incomes </dc:description>
  <dc:language>en-US</dc:language>
  <cp:lastModifiedBy>Jia Yao</cp:lastModifiedBy>
  <dcterms:modified xsi:type="dcterms:W3CDTF">2013-09-06T15:41:03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7b | Manufacturer’s prices generally are higher in the U.S., but U.S. pharmaceuticals are generally more affordable due to higher incomes </vt:lpwstr>
  </property>
</Properties>
</file>