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67A5-CCBD-402A-9E2F-E3E24228C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B | YEARS OF POTENTIAL LIFE LOST BEFORE AGE 70 PER 100,000 POPULATION VS. HEALTH SPENDING PER PERSON, U.S. STAT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0E2C-7E6B-4818-B651-FCD37E574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A22-48BB-41D3-8351-43A936AD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A7B-E162-4A84-956C-3130E515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A92-AC60-48E9-9B3E-835C80A3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F1E-1CAA-4927-BAE2-358E171C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311-4AE0-4BDA-A3CA-54183FC3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DCE-3658-4D94-A5C5-290DC5F4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4B3-27BF-4881-BE8F-F5D27DB6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59B-7F12-4E59-ACD4-44D92B83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11F-5992-4C37-B16F-6753D268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ECA-0332-4CDB-84F5-FB0FD3E2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129-A91C-4094-9B2A-BF2814D5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231-44CB-4338-BD3A-66E22B4C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5C97-046A-44D8-BB4C-FD1D82A4F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b | But there also are wide differences in years lost due to premature death across states even at identical health spending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243000" y="1397160"/>
            <a:ext cx="8761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286000" y="5943600"/>
            <a:ext cx="55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resident in 2004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b | But there also are wide differences in years lost due to premature death across states even at identical health spending levels</dc:description>
  <dc:language>en-US</dc:language>
  <cp:lastModifiedBy>Jia Yao</cp:lastModifiedBy>
  <dcterms:modified xsi:type="dcterms:W3CDTF">2013-09-06T15:40:4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b | But there also are wide differences in years lost due to premature death across states even at identical health spending levels</vt:lpwstr>
  </property>
</Properties>
</file>