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C6A-4488-4C7E-B6BD-992D3303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41B-566D-4F73-890B-18DBA98A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7A3-5BA6-4373-A610-BCFC7C3C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00B-437F-4D77-A9C3-11F148AF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626-5CBD-4920-9FE6-F42C1266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E2C-3635-48F4-879B-76AD77A4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563-9DE3-485C-826A-B249915C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DE1-FF1D-40E2-B34E-882C2A13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2B5-790D-47E6-A133-FF7763F1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2F2-1FA5-4FE7-817F-DC5A4B71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CF5-B658-4739-AD98-76181623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6F5-B66C-4C04-8AED-0AE7591E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E000-468E-40B8-AC0A-7B954F879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3480" y="1066680"/>
            <a:ext cx="90770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6Z</dcterms:modified>
  <cp:revision>37</cp:revision>
  <dc:subject/>
  <dc:title>PowerPoint Presentation</dc:title>
</cp:coreProperties>
</file>