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C3A-A09D-4E67-BB69-1B177642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FEA-6601-4863-B577-72DA9E5D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15E-E26A-49FC-BD47-94424865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F49-34E4-4B04-8AE6-FDF1AEE1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E6E-CD2A-40FB-B524-ACE89A33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3C7-DE0C-494C-9C89-DDB75013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4C5-D747-497A-8B5D-24C598A5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F85-15F9-45AC-B567-44C23797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599-3624-4B0D-8FCE-2F322DC5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4CB-6304-44C7-B43D-BF87F4D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EC2-637A-47E6-8BA1-446F169E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EF4-4D8E-42EF-9397-7840A190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F572-5B5E-4A28-93F2-07ECF6FB2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3Z</dcterms:modified>
  <cp:revision>38</cp:revision>
  <dc:subject/>
  <dc:title>PowerPoint Presentation</dc:title>
</cp:coreProperties>
</file>