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721-F42C-4D01-8C6E-097F4AC6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AEC-2D21-4DFB-8927-71ACA0E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E9A-B460-4070-B2ED-F0639F67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239-04B4-4F1D-9A3D-728BFC8C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DF5-70C9-4F49-80B4-584D3091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7DE-72CA-4824-ACAE-073DA2E6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754-0D62-4140-BBF6-A289AA77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897-A22B-44F2-9F0F-A39AB532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532-3D08-4F7B-83D1-A87C0041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0FE-7FD8-4578-A4FF-9C0E0B5A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08A-9469-49C1-BD7C-4DDE9A16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7CE-DAA3-45E8-AC75-37EB8906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9C4C-9D99-4338-B5C9-45AF77D88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0Z</dcterms:modified>
  <cp:revision>37</cp:revision>
  <dc:subject/>
  <dc:title>PowerPoint Presentation</dc:title>
</cp:coreProperties>
</file>