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A0BE3-4EDC-4EE0-9AF0-B931EC7651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5A | PER CAPITA DOCTOR VISITS, DENTIST VISITS, ACUTE HOSPITAL DAYS AND PHARMACEUTICAL GRAMS IN G7 COUNTRIES, 200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2EC0B-FE16-4282-966A-6B800DE552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3730-C866-46F7-8760-4BC9B6D33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E7BA-1D1A-4C27-A74F-A3753C2D7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802B-DDEE-4DE7-8CF1-122199BF0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16AA-86B7-4243-84FF-B7BB849D2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32A9-6B7A-4E7B-9A7B-FB527338E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4B88-DC7E-41E2-A686-6089635EC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2E52-538B-4BE1-99BA-C0BCD8D58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1D01-1368-469E-ADAA-6A1D43025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CDF9-CD9F-46AD-95B1-11CF39FA6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81F3-85E7-43B5-98B1-CA174702F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889E-06AC-414E-BF6E-EA0E6A810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699F-E0D0-4747-8276-E74F7E9D1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79717-43A8-42D3-BA5B-4B7777521D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5a | Relative to G7, the U.S. generally has lower utilization of acute care services such as doctor and hospital care, but not pharmaceutic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320840"/>
            <a:ext cx="8559720" cy="458136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533520" y="1447920"/>
            <a:ext cx="51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centage indexes: 100=U.S. rate of use (2006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715320" y="5851440"/>
            <a:ext cx="45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figures for pharmaceuticals are for 2005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674280" y="623736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5a | Relative to G7, the U.S. generally has lower utilization of acute care services such as doctor and hospital care, but not pharmaceuticals</dc:description>
  <dc:language>en-US</dc:language>
  <cp:lastModifiedBy>Jia Yao</cp:lastModifiedBy>
  <dcterms:modified xsi:type="dcterms:W3CDTF">2013-09-06T15:40:52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5a | Relative to G7, the U.S. generally has lower utilization of acute care services such as doctor and hospital care, but not pharmaceuticals</vt:lpwstr>
  </property>
</Properties>
</file>