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F0BA-B14F-46A3-9DEF-3031E6997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2A | YEARS OF POTENTIAL LIFE LOST BEFORE AGE 70 PER 100,000 POPULATION VS. HEALTH SPENDING PER PERSON IN SELECTED INDUSTRIALIZED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EAE3-49B0-4F92-9354-AC43DE5E0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EB5B-43CE-48ED-994A-3C88C340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9C55-6F0D-41B6-BB2D-51FDDA7B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DD2F-D5CB-461B-946F-D9FA27D2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B0C7-F33E-4183-96E0-AC6445A5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8755-EEFD-4F8A-A621-78EC84CD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EA6D-060F-4EEA-8881-6EF78891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FDFA-D471-442C-89BF-B91B4310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9B43-EDD6-4A5D-8E74-7251E416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C8EE-0A59-4B27-B726-6B5E751C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33D0-F8B9-4601-B7B3-445FCCED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C986-0696-4DA1-ABEE-91300FF0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6E1F-21D9-46FC-9BC3-7E9DEFAD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7CD5-EAE1-490C-BC77-2824F58CF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2a | Years lost due to premature death are much higher in the U.S. than most other industrialized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01520" y="1549440"/>
            <a:ext cx="88646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914400" y="5780160"/>
            <a:ext cx="69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pending per person (U.S. purchasing power parity, 2006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2a | Years lost due to premature death are much higher in the U.S. than most other industrialized nations</dc:description>
  <dc:language>en-US</dc:language>
  <cp:lastModifiedBy>Jia Yao</cp:lastModifiedBy>
  <dcterms:modified xsi:type="dcterms:W3CDTF">2013-09-06T15:40:38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2a | Years lost due to premature death are much higher in the U.S. than most other industrialized nations</vt:lpwstr>
  </property>
</Properties>
</file>