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F23-CEFA-4647-B087-C0826CC4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647-4CC1-4C23-957B-7A4F87BD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0A9-3E8C-43DA-A268-5A0C5934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C09-8CDE-4342-A3EC-259201C1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498-AD30-4D97-8EF5-27A9C7D4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BD4-D557-43D1-9CEE-87781760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7EC-2025-4A91-9218-C1C2C35F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4345-5BD8-4B6C-A22B-CF61B07D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FC3-8D9C-480A-834F-946545F1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AC5-7244-4424-8065-C00422BA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9DE-41A0-4EF4-B660-B23975A3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918-BB96-4509-A70A-BB149EC7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D86D-DB56-433F-96F0-766409E3C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412920"/>
            <a:ext cx="90756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8Z</dcterms:modified>
  <cp:revision>39</cp:revision>
  <dc:subject/>
  <dc:title>PowerPoint Presentation</dc:title>
</cp:coreProperties>
</file>