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DE8-1D95-4D3D-A37A-A0AE0A96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707-EA57-4FF3-9BAE-0024C0FE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A93-68F6-4EC8-BE55-624E2BF1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199-81A8-4D1D-A1D9-0E7578CE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B01-E285-4B35-A5C7-4083700A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C96-39E4-43B3-9FBD-CD8D91F9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C40-6A0D-47F1-9327-BB0F58BE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C0F-83C1-48F9-A8C6-8F0B75F8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A4E-42FD-4C8F-9152-B17CA452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233-99AD-42C2-AA3F-21BF58B4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439-3963-412F-B17A-075975B0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637-43D4-477E-A566-F880E014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AD70-6471-48AC-87AD-93BB9B861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6920" y="0"/>
            <a:ext cx="461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9Z</dcterms:modified>
  <cp:revision>38</cp:revision>
  <dc:subject/>
  <dc:title>PowerPoint Presentation</dc:title>
</cp:coreProperties>
</file>