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0FB84-E7B8-4D99-8F66-B90E9C59B4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1B | COST PER LIFE YEAR AND "QUALITY-ADJUSTED" LIFE YEAR GAINED FROM INCREASED HEALTH SPENDING IN THE UNITED STATES, 1987-20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5D6D5-6997-4D23-8B54-8C151F5E51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7D5B-C2FC-4A53-BDD8-0A4A729B5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CC85-DD7D-4987-AA38-8B9E7FCC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4A42-BD06-444E-B966-FB2EF7CCA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D805-2F49-461A-ADE7-9C7CE73A2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DBBF-F2DF-4A64-BC77-456C58FA0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FA35-4385-4B26-AA68-8BD28AA00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0A60-D3C0-4555-9157-5113C5DA2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8F73-048D-45D5-9D61-2FC9D2997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B07B-49C6-4916-A129-391A2CD48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6E71-FD4A-408E-AF48-E644FF2A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D6FE-3F50-4F2B-B88E-31F8E40E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6791-40D0-4D10-94FB-D677E9FC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63810-63EE-478D-9432-8AFE1937E3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1b | On average, increases in U.S. health spending appear to have provided reasonable value for the mone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320840"/>
            <a:ext cx="85597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820800" y="1371600"/>
            <a:ext cx="37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st per life year gained (2000 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625680" y="6029280"/>
            <a:ext cx="807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Cutler DM, A Rosen and S Vijan. The Value of Medical Spending in the Uni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es, 1960-2000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The New England Journal of Medicin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6; 355(9):920–28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640440" y="5105520"/>
            <a:ext cx="786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spending per year of life gained is defined by the change in spending o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ch decade divided by the change over the decade in expected years of life at th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ges show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1b | On average, increases in U.S. health spending appear to have provided reasonable value for the money</dc:description>
  <dc:language>en-US</dc:language>
  <cp:lastModifiedBy>Jia Yao</cp:lastModifiedBy>
  <dcterms:modified xsi:type="dcterms:W3CDTF">2013-09-06T15:40:36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1b | On average, increases in U.S. health spending appear to have provided reasonable value for the money</vt:lpwstr>
  </property>
</Properties>
</file>