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8FA6-9034-46AF-88FD-ABB8BA7A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B18F-CC80-43A2-AD6E-897D5B1F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BBA5-7148-482E-86FC-EEAAC8F20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4D8F-96DA-4006-A732-384D41CE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42F7-871E-4D00-929B-BC20F836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9FC3-17EF-4935-A833-E991ADBA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35B5-ACA7-47A8-82CC-3FB3A235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B73C-F4FB-4027-B8B4-D497FB2E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E3C7-E4EE-4D16-8622-3B840F6D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CA07-CE1F-46B7-8564-3D49AB98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33D1-D454-498F-8CEB-DD92F640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011E-3F6D-497E-9006-CE773CF8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092D-D577-4A8E-A33D-2A8AA9929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7240" y="76320"/>
            <a:ext cx="9086760" cy="67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50Z</dcterms:modified>
  <cp:revision>39</cp:revision>
  <dc:subject/>
  <dc:title>PowerPoint Presentation</dc:title>
</cp:coreProperties>
</file>