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147C-87CE-4D78-AB9D-A2039B682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734E-C9CB-427C-90F7-4C9BB1CCA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A0F-E21F-451C-9EA6-50A39DAF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4C1-E776-4C48-8992-B744251E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291-DDDB-4B06-B34B-DFC28E2C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15F-D2EE-4489-BFCF-7BFEA7F4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2E0-8C71-4EBE-BE55-F237FB1D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74E-DB14-48E9-8E14-4B26A5AA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150-1D43-47D9-8A80-6FCD5898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B9C-F1DC-42F3-9D8E-E6571DB9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C99-A046-447A-BC5D-329A5340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FCE-6DC3-4660-8551-A9EA2CFD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341-7ECA-4BF3-8F58-36BD5305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0AC-49E5-4D8D-8C1E-B2CADB94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3A14-E5E3-4CC5-B1D9-CAF629014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obesity/data/adult.html" TargetMode="External"/><Relationship Id="rId3" Type="http://schemas.openxmlformats.org/officeDocument/2006/relationships/hyperlink" Target="http://www.cdc.gov/obesity/data/ad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7.png"/>
          <p:cNvPicPr/>
          <p:nvPr/>
        </p:nvPicPr>
        <p:blipFill>
          <a:blip r:embed="rId1"/>
          <a:stretch/>
        </p:blipFill>
        <p:spPr>
          <a:xfrm>
            <a:off x="762120" y="4572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876240" y="5047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3720" y="6067440"/>
            <a:ext cx="71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2009 State Obesity Rates, available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erweight and Obesity.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cdc.gov/obesity/data/adult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7:58Z</dcterms:created>
  <dc:creator>Jia Yao</dc:creator>
  <dc:description/>
  <dc:language>en-US</dc:language>
  <cp:lastModifiedBy>Jia Yao</cp:lastModifiedBy>
  <dcterms:modified xsi:type="dcterms:W3CDTF">2013-09-10T20:48:40Z</dcterms:modified>
  <cp:revision>1</cp:revision>
  <dc:subject/>
  <dc:title>PowerPoint Presentation</dc:title>
</cp:coreProperties>
</file>