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0300-48EF-4314-8920-9FB00219F5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4A | PER CAPITA GDP AND HEALTH EXPENDITURES, OECD COUNTRIES, 20 LARGEST OECD COUNTRIES, 200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9E3E-91F7-499D-AED2-015CD384E0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5CDA-A4E0-4745-92F7-43D0C9AF5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318D-8E47-462B-907A-04063244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1FCD-8E3E-4C67-B4F9-CBEFF8185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BB4E-2535-4D12-87F7-35F8AB3AE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EC2F-BEC0-406D-8F15-5921B8C2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C022-3E19-44A8-83C6-88F072E6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F45C-B8CA-41DF-A3ED-1E5E0859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D14A-7B82-41B0-B37D-E7C31614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CC52-7642-4674-BD5B-437FB986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84DB-53FD-4560-A893-9AD10E27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5CF3-2FC5-4FCD-AEFF-80C8F1BD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F949-317D-4315-8880-69DD8765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88F3-C359-4524-8F38-B9140B5FB7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4a | The conventional wisdom is that U.S. health spending is far above its expected level given the nation’s per person GD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01520" y="1320840"/>
            <a:ext cx="8864640" cy="5283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1722960" y="5867280"/>
            <a:ext cx="57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DP per person (U.S. purchasing power parity, 2004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4a | The conventional wisdom is that U.S. health spending is far above its expected level given the nation’s per person GDP </dc:description>
  <dc:language>en-US</dc:language>
  <cp:lastModifiedBy>Jia Yao</cp:lastModifiedBy>
  <dcterms:modified xsi:type="dcterms:W3CDTF">2013-09-06T15:40:47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4a | The conventional wisdom is that U.S. health spending is far above its expected level given the nation’s per person GDP </vt:lpwstr>
  </property>
</Properties>
</file>