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F15C-7AE4-43DC-A909-02B679843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.3a | Total Rates of Reimbursement for Noncapitated Medicare per Enroll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artmouthatlas.org/downloads/reports/Spending_Brief_022709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D10F-941C-4B34-B3D4-2CF575AB8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9FB-DD98-483A-B32E-1EF84C34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DAD-2F2B-4908-9FE7-F44BFBFA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BB7D-2CE2-4536-9EAB-50DE87B2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A6A-CD16-4A36-AE47-2DAD6BFA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572-0902-4B36-95CB-D6E46D05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277-F35F-46A6-9C81-9A8F1F99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74A-5A97-43E7-ABAE-ED125B7B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60C-CECC-4808-B1C5-AA2042F1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568D-B4D0-4EEE-8F44-DA1B4043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AB7-BBD8-4923-8B93-DDF82CEB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729-6F27-495E-BACA-BF3ADE8F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8E2-6DDA-463D-BF91-1BCFACB8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53DC-B0B8-4145-88D9-FD9463FA6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3a | Medicare reimbursements per enrollee vary substantially across hospital market area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772400" y="1371600"/>
            <a:ext cx="114300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66560" y="5791320"/>
            <a:ext cx="81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isher E, D Goodman, J Skinner and K Bronn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Care Spending, Qualit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d Outcome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rtmouth Institute for Health Policy and Clinical Pract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over NH. February 27,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01680" y="1143000"/>
            <a:ext cx="830880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6858000" y="1168560"/>
            <a:ext cx="18288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3a | Medicare reimbursements per enrollee vary substantially across hospital market areas in the U.S.</dc:description>
  <dc:language>en-US</dc:language>
  <cp:lastModifiedBy>Jia Yao</cp:lastModifiedBy>
  <dcterms:modified xsi:type="dcterms:W3CDTF">2013-09-06T15:40:43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3a | Medicare reimbursements per enrollee vary substantially across hospital market areas in the U.S.</vt:lpwstr>
  </property>
</Properties>
</file>