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722A-6EC3-447D-80A6-9CEB71D72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2 | INDEX OF AGE-STANDARDIZED DEATH RATE PER 100,000 (100=US) FOR MORTALITY AMENABLE TO HEALTH CARE (BOTH SEXES COMBINED) IN 19 OECD COUNTRIES, 2002-20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484B-8A60-47AE-A781-26A317E8E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B5A-83D4-4862-B51C-33D712E3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6F6-E217-46AA-A13A-F8708BAA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A32A-6D7F-40FF-8571-28543DAE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C0B-2BEB-4086-973B-70549DA2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3E29-1528-4C86-A336-310E536A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E05-355E-419B-AA03-CBC8CF34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746-F119-4EFB-B3CE-14FDD0D9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AA67-4DF2-4D28-BFBA-4FE916A3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A3AD-B196-4294-B367-88F7CE30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16E-3989-480B-B6FC-C19704F8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C3E9-C97E-45EC-8F47-AFD8C2D3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D4BA-CED2-4C74-A79E-3DECB1D8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610A-B2E2-4B7A-8638-C68445053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2 | Compared to many other OECD countries, the U.S. has a higher death rate from conditions amenable to health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244520"/>
            <a:ext cx="87120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914400" y="138276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 (U.S. = 100) of standardized death rate per 100,000 (ages 0-74), 2002-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3520" y="5897520"/>
            <a:ext cx="85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Nolte E and CM McKee. Measuring the Health of Nations: Updating an Earl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ysi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58–7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2 | Compared to many other OECD countries, the U.S. has a higher death rate from conditions amenable to health care</dc:description>
  <dc:language>en-US</dc:language>
  <cp:lastModifiedBy>Jia Yao</cp:lastModifiedBy>
  <dcterms:modified xsi:type="dcterms:W3CDTF">2013-09-06T15:41:2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2 | Compared to many other OECD countries, the U.S. has a higher death rate from conditions amenable to health care</vt:lpwstr>
  </property>
</Properties>
</file>