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7CCA-0BBE-4FC5-B581-3021E25053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6A | SPECIALISTS AS A PERCENT OF PRACTICING PHYSICIANS IN G7 COUNTRIES, 1994, 2000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C941-1DB5-46DE-BBD8-80AF37173F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1A87-85DE-43BE-B17A-8D585880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DB4A-971D-4522-B972-B07B48CD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97B5-72A9-4B2B-BCC4-968ED3C6B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4254-8A02-4EC0-9182-E2B21D98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8DD1-43E0-464F-90D5-92EE14B3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1B4D-2977-4873-B7B8-34208CA3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31FF-A70A-4D39-9FA8-46EBB7FA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CB73-A512-4836-9D59-1F29A997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45E5-D5F2-4447-9F69-C8529868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5CBC-600F-4E73-99B3-6491E79D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3019-C2B6-4C4D-A878-FBEA2CAE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A504-729A-49F0-A8CE-F1CBB0C0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B72A-CE84-4D26-8820-6A198DC56F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6a |  The U.S. is not alone in relying heavily on specialty physician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497808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144792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alists as a percentage of practicing physici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37920" y="629460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6a |  The U.S. is not alone in relying heavily on specialty physician care</dc:description>
  <dc:language>en-US</dc:language>
  <cp:lastModifiedBy>Jia Yao</cp:lastModifiedBy>
  <dcterms:modified xsi:type="dcterms:W3CDTF">2013-09-06T15:40:57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6a |  The U.S. is not alone in relying heavily on specialty physician care</vt:lpwstr>
  </property>
</Properties>
</file>