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3EDB-4F00-4BCD-8B7B-F60117825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C | COMPARATIVE INDICATORS OF MEASLES, DPT AND FLU VACCIN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A1E2-4AE6-48EB-AF41-7E5048ECB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D44-D818-440A-943C-56C4F485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170-CB9A-453D-A6F8-8E1868E8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8C8-3811-4148-810A-B73CCB7B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AFF-A64B-4850-832C-980D657B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2AC-8CC3-4524-A492-81D44611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658-5665-4ACC-84E8-012CB8EC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393-E69B-4488-99EE-4D2BFE3B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0F7-469C-4D0F-90BB-C805827A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DDC-C949-4AE5-BCBB-21575304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21B-CBBD-4FA9-A14E-8E5D50E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454-32DA-4999-8763-1C55AFEB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655-14A2-4213-ACDB-1ECD53A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BF59-7711-4688-9006-CFB7660DB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c | Immunization rates in the U.S. are generally comparable with those in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88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c | Immunization rates in the U.S. are generally comparable with those in other G7 nations</dc:description>
  <dc:language>en-US</dc:language>
  <cp:lastModifiedBy>Jia Yao</cp:lastModifiedBy>
  <dcterms:modified xsi:type="dcterms:W3CDTF">2013-09-06T15:40:5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c | Immunization rates in the U.S. are generally comparable with those in other G7 nations</vt:lpwstr>
  </property>
</Properties>
</file>