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BED7-6BB7-4337-A899-DF27BD97A6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4B | FITTED REGRESSION LINE FOR HEALTH EXPENDITURES PER CAPITA AND GDP PER CAPITA, OECD COUNTRIES WITH SUBNATIONAL COMPONENTS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180F-946F-4A64-99BA-DD45D1D6B9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B7FD-BF53-451D-B266-466081FCB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6ED0-39C2-49F9-98B0-C48E6560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03C4-799B-481B-AD17-C104822BB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12A3-4AD8-4522-A2B2-8D21FFCDD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84E0-3B62-4542-A26C-BCC45394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F9FC-ED2B-4C03-B8A2-BEF026A3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FB8E-94D3-455B-BB19-F155356C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4B71-FE3C-4E51-91DA-059F316B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E702-13BC-4B03-BD03-16371122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F034-42D7-4CC7-892F-2683A1E8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DD62-0F32-4CD7-BC42-70C7C05A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3060-A06B-4343-97DE-CC89477C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9E7A-E27D-4021-8B19-F1A0FC6BE1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4b | Once sub-national areas are taken into account, U.S. health spending is almost exactly where it is expected to be given U.S. GD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0"/>
          <p:cNvSpPr/>
          <p:nvPr/>
        </p:nvSpPr>
        <p:spPr>
          <a:xfrm>
            <a:off x="674280" y="1676520"/>
            <a:ext cx="67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spending per person (US purchasing power parity, 2004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4b | Once sub-national areas are taken into account, U.S. health spending is almost exactly where it is expected to be given U.S. GDP</dc:description>
  <dc:language>en-US</dc:language>
  <cp:lastModifiedBy>Jia Yao</cp:lastModifiedBy>
  <dcterms:modified xsi:type="dcterms:W3CDTF">2013-09-06T15:40:50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4b | Once sub-national areas are taken into account, U.S. health spending is almost exactly where it is expected to be given U.S. GDP</vt:lpwstr>
  </property>
</Properties>
</file>