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521-B02D-49A9-88DB-C33E4468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FB7-0A30-4D9C-9BC2-709948F2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F704-3D07-4542-87D2-D2C2C3F1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069-A738-4B45-B9F2-C2E3BE4B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F89-4DF7-48BA-A878-CFB5466D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EDE-25BD-4112-9463-EA0012E0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5CD-B345-4972-B137-DCB6C33A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2EE-56EB-44F0-B9B4-2C2AD21A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174-E2B7-483C-8686-B4C0400F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DC9-05F6-4C8C-88CD-795A2FCF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B05-2500-4CD7-B80B-84EAAD48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325-4732-48D9-977B-52FC05A8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A9CF-4D2E-4BB7-92A6-6C3D67B66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7Z</dcterms:modified>
  <cp:revision>37</cp:revision>
  <dc:subject/>
  <dc:title>PowerPoint Presentation</dc:title>
</cp:coreProperties>
</file>