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1A6-C6DD-4E4E-8629-A55BC342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B96-D129-466E-810A-C43AE026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128-8615-46CB-802D-FC1ECC58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39D-E19E-4C9E-8E0D-1FAB0688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2AA-9CAB-43EA-8CB5-04F7F154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520-50CF-42DB-BE98-D5C5FFFE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94B-F24A-45BC-8A50-E7F50005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B05-29EB-4F93-A98D-EAC82557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6A8-7E4B-431D-960F-1BB34A09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DCC-1BC5-42DA-8261-7D7F6553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5D1-4C45-4F88-9379-EC62184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B76-7D45-4F84-9AC6-EB79AB5C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5980-C713-4F34-AF31-907F4626F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2Z</dcterms:modified>
  <cp:revision>39</cp:revision>
  <dc:subject/>
  <dc:title>PowerPoint Presentation</dc:title>
</cp:coreProperties>
</file>