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AD9-D165-4FA4-A51C-913DE576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E74-A151-4939-B648-EF178123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2C3-01D5-44FE-A1E7-0A2B551A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57E2-4157-437E-8BC7-1C827D68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F33-FC7C-4D77-85C1-D9DE33F5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68C-7A85-43C7-9996-17AFEB2D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B11-9330-4B21-9ACB-1712B2DD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C56-AAA3-4D7E-ABE4-D95639B1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359-195E-432A-B692-5BBAA010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2C7-C143-4FB1-8759-7C2412E7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8CA2-D813-4B40-BC84-4F85B385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3CB-1334-46D0-B80F-DC978F73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6A59-8FA7-4BFB-B7D1-74BEA3862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7000" y="304920"/>
            <a:ext cx="9090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2Z</dcterms:modified>
  <cp:revision>37</cp:revision>
  <dc:subject/>
  <dc:title>PowerPoint Presentation</dc:title>
</cp:coreProperties>
</file>