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94B7-1347-47B8-9BFA-2027B9247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1B | EUROPEAN CANCER SCREENING RATES AS A PERCENT OF U.S. RATES FOR SELECTED CANCERS, BY A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C546-9320-4FA1-8D23-372709403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5DF-9A5E-41DB-98A7-D1DFB124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A742-C0A8-423B-BE42-891E1628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AE7B-4512-43C9-A64A-0E33EC98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41F-FDFA-4927-B5F2-E45584EC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67D-AC82-4F1D-9CE8-1E2C7AE5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2414-3320-422E-B00E-94B53C34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0BD-CE63-4BE8-8525-DA7A4B5D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E623-1FA9-4E68-8FB9-309D77B7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664-4727-4AB8-A911-5B3AC05B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4D7-3DC2-46DE-AFA3-EFCB8DF0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B8F7-F79B-470B-A7E1-D02946D5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F56-B78D-4267-93F3-3B89F924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3332-1A83-4128-9DCE-2669DF585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1b | Despite a larger uninsured population, cancer screening rates for adults 50 and older are much higher in the U.S. than in Eur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5238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ropean cancer screening rates as a percentage of U.S. r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75920" y="5827680"/>
            <a:ext cx="77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 D.H. Howard, L.C. Richardson and K.E. Thorpe, Cancer Screening and 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United States and Europ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009; 28(6):1838-4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1b | Despite a larger uninsured population, cancer screening rates for adults 50 and older are much higher in the U.S. than in Europe</dc:description>
  <dc:language>en-US</dc:language>
  <cp:lastModifiedBy>Jia Yao</cp:lastModifiedBy>
  <dcterms:modified xsi:type="dcterms:W3CDTF">2013-09-06T15:41:18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1b | Despite a larger uninsured population, cancer screening rates for adults 50 and older are much higher in the U.S. than in Europe</vt:lpwstr>
  </property>
</Properties>
</file>