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7D142-9070-46E9-A48F-67052E29F9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3B | COMPONENTS OF ANNUAL MEDICARE SPENDING PER BENEFICIARY, BY QUINTILE OF CARE INTENSITY, ???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4C32C-7189-466B-88EE-1D92A1CEFB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F846-3FB5-465A-9EB1-8E7ADC16A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511A-D3EF-4094-9877-815848B06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D58D-422D-45E0-A1F1-42FCD2AC6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CA44-AE9F-462A-8D65-55B234529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9466-49EC-4C37-8F39-A616E09A2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F5CE-7D0D-4054-BBF3-67294CDDD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3824-94A0-44B4-9FAA-1EE7F99E3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F0A2-65FF-45F4-96BA-B267ED02C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16ED-FA78-436C-9DAC-DC624E7D2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5492-17CE-41DD-B38D-A759221D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D547-758B-4E50-877B-8FD804DD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AE4F-A2C9-4E9F-AF5A-08126964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9CABB-4343-4972-8A20-70783373BA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3b |  Differences in income, race or health factors explain less than half of the spending differences across reg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4216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740160" y="1295280"/>
            <a:ext cx="683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nual per capita Medicare spending (dollar difference from Quintile 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3301200" y="3638520"/>
            <a:ext cx="24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uintile of care intens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533520" y="4037040"/>
            <a:ext cx="8354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vertical bars show the proportion of the difference in spending between regions i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ch of the four top care-intensity quintiles and the regions in the lowest quintile tha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n be explained by differences in patients' race, income, health factors (self-reporte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alth, presence or absence of diabetes, blood pressure, body-mass index, and smoking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istory), and regional factors. All models control for age, sex, and urban or rural residen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9"/>
          <p:cNvSpPr/>
          <p:nvPr/>
        </p:nvSpPr>
        <p:spPr>
          <a:xfrm>
            <a:off x="556560" y="5791320"/>
            <a:ext cx="795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Sutherland JM, ES Fisher and JS Skinner. Getting Past Denial—The High C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f Health Care in the United States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New England Journal of Medicin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9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61:1227–3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3b |  Differences in income, race or health factors explain less than half of the spending differences across regions</dc:description>
  <dc:language>en-US</dc:language>
  <cp:lastModifiedBy>Jia Yao</cp:lastModifiedBy>
  <dcterms:modified xsi:type="dcterms:W3CDTF">2013-09-06T15:40:45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3b |  Differences in income, race or health factors explain less than half of the spending differences across regions</vt:lpwstr>
  </property>
</Properties>
</file>