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DB7-5CDB-4E30-99EE-5F444D3D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1E8-F41D-4557-9C39-57211E1F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7BE-BBE8-4FA2-B591-26926945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EE2-271B-450C-A558-5985E7DE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E8A-8588-4349-ABDE-0D4E7E5D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D06-87A4-4DD4-A67F-0C9DF680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778-8EF3-4276-B61A-7EB96AC4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414-5296-4A66-854B-B93ECB3D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34A-9258-4E31-B2B4-A7772C68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3A8-DC85-4B32-97C1-7A12B34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130-CBB4-4AD3-A251-FD31FB17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0E6-9059-4D6A-B93D-B1305F8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716B-7F10-4686-8CD7-4AE0B7A4F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5Z</dcterms:modified>
  <cp:revision>39</cp:revision>
  <dc:subject/>
  <dc:title>PowerPoint Presentation</dc:title>
</cp:coreProperties>
</file>