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D86-0BB8-4645-9004-5368DEB1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5D7-676E-4F16-BF99-D17121E4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139-3992-40B1-B3B3-AD6CF589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D3D-5E32-4F64-A19D-649C1F9B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8E4-2F16-4708-B4B3-A68E09ED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262-F35D-4EEE-84E9-DB20D4B8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C53-3969-4970-B516-22AC6BBC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B9C-2070-409E-A9D7-DD031691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E04-2E31-4BD5-BA17-ECA40C72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230-C2E1-4EC4-BFB5-83E2BCDF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709-4082-4592-A74B-07D97782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806-AB19-489B-9053-6C0CB017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F21E-3054-4238-8F6E-47117EDD9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317600"/>
            <a:ext cx="90248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7Z</dcterms:modified>
  <cp:revision>37</cp:revision>
  <dc:subject/>
  <dc:title>PowerPoint Presentation</dc:title>
</cp:coreProperties>
</file>