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04D2-7B45-4250-8608-6D01E4E2E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4A | MALE OBESITY RATE, FEMALE OBESITY RATE AND ADULT SMOKING RATE, G7 COUN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A9BC-DBDE-44B7-A0CD-F92D11B81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859-7D05-4B8B-A260-4F2F994F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560-195A-4E52-B6FA-806100BC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46A-3212-49C6-B2D6-0597ADFB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F9E-15C9-42A2-951E-8BF59953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1D4-B3A9-4B1B-9811-5B9AA228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B7B-9AF5-44C1-960F-406E191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E3F-778B-4BEF-B521-CDD046FD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1A4-4B98-40B7-A65D-3620E02A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C6E-E865-4355-82E9-B5143D17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0FF-A4FD-4858-85EC-F792FE5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569-7211-4DBB-8CDB-C4C5512D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193-794E-4B1A-A74E-C0DEFC67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6AD4-2247-4A6B-95AC-BECDB65F8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4a | The U.S. has far higher obesity rates but much lower smoking rates than its major G7 compet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Adults Age 15 and 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311840" y="586728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measured obesity rate.  SR = self-reported obesity r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4a | The U.S. has far higher obesity rates but much lower smoking rates than its major G7 competitors</dc:description>
  <dc:language>en-US</dc:language>
  <cp:lastModifiedBy>Jia Yao</cp:lastModifiedBy>
  <dcterms:modified xsi:type="dcterms:W3CDTF">2013-09-06T15:41:2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4a | The U.S. has far higher obesity rates but much lower smoking rates than its major G7 competitors</vt:lpwstr>
  </property>
</Properties>
</file>