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6646-6465-4C95-B512-30F0DEE40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5A | SELECTED MEASURES OF HEALTH SYSTEM PERFORMANCE, BY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B9F8-D67E-46F7-8223-B8BD81FB4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70A-26BD-4BE8-AE57-339FFEE0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8C9-2CC1-4867-AF8B-EF90254C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7C7-C3D0-4E44-8CAC-794E797F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A78-DE7F-4631-A7EF-689957EC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AEE-0A6E-4B2A-AFC0-6A6F1082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B79A-2B66-4F94-B690-1FA84A0E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77B-AEEB-4758-B255-5EEC7A02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A96-C2C6-4AC7-A5F6-4C80BA36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E17-1501-4328-B361-BEFC0460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50C-103C-4C3F-A06A-CA578E48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5695-70E9-4911-867A-BD3A3A88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D08-0EB0-4E69-9A9D-8C947A9F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6C23-51BF-47D7-BCC2-9A679BED1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5a | There are large differences in health system performance across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38280" y="563868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ted Health Found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’s Health Rankings 2009: 20th Annivers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americashealthrankings.org/2009%5Creport%5CAHR2009%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%20Report.pdf (accessed June 15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130644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: 100=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5a | There are large differences in health system performance across states</dc:description>
  <dc:language>en-US</dc:language>
  <cp:lastModifiedBy>Jia Yao</cp:lastModifiedBy>
  <dcterms:modified xsi:type="dcterms:W3CDTF">2013-09-06T15:41:3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5a | There are large differences in health system performance across states</vt:lpwstr>
  </property>
</Properties>
</file>