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6F4-2842-4D76-9E0C-84C53170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5D7-8B35-44FA-859B-43A8AF73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6C0-4E61-466D-9ED3-B91D034C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2DEE-0F02-4549-8FA6-7AF75480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87E-4CA7-46DE-B831-907592AE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35E-5196-4763-9A98-9D7FE013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5A1-4D35-4095-BC9F-A395AB29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D26-9D61-41EC-863D-D8CD673D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438-BDC6-49F5-83FE-D6F1DC6D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ECF-020D-48C6-93C9-4A420702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F51-3D1A-4C45-9B3B-53D171FB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5FD-01A2-4B1E-A670-4B91FEC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92F6-E581-4AD2-989B-237B3AE09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228600"/>
            <a:ext cx="900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1Z</dcterms:modified>
  <cp:revision>39</cp:revision>
  <dc:subject/>
  <dc:title>PowerPoint Presentation</dc:title>
</cp:coreProperties>
</file>