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8FD9-4E21-4852-92AC-61D17FB4C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A | PER CAPITA DOCTOR VISITS, DENTIST VISITS, ACUTE HOSPITAL DAYS AND PHARMACEUTICAL GRAMS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CF51-F7F2-4336-8268-9A7570F03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EEBE-ED67-4E53-A2F0-B744DB42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D072-B16D-4AE9-8A89-6A9EE0D1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8578-BBBA-4BDC-9131-2C35ACFD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506A-68C3-4CC1-84CF-DE1F0C41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F1EC-AE63-478A-BDFE-7F3691D5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B02-44B9-4B14-BDDE-F0A2496D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DFA6-1186-4FB7-AA2C-7AFDFDCE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105F-69BB-4B89-B018-0A896D4C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99F-DDC1-4446-9162-803185D3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C123-19CB-41D7-A1BD-1BA291C8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281-D472-4402-9428-7AE33BCB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3727-6CDC-4149-BAA0-D5FDFB00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00F4-9711-4E67-92BC-A6E9134F5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a | Relative to G7, the U.S. generally has lower utilization of acute care services such as doctor and hospital care, but not pharmaceutic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4581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4479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715320" y="5851440"/>
            <a:ext cx="45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figures for pharmaceuticals are for 200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a | Relative to G7, the U.S. generally has lower utilization of acute care services such as doctor and hospital care, but not pharmaceuticals</dc:description>
  <dc:language>en-US</dc:language>
  <cp:lastModifiedBy>Jia Yao</cp:lastModifiedBy>
  <dcterms:modified xsi:type="dcterms:W3CDTF">2013-09-06T15:40:5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a | Relative to G7, the U.S. generally has lower utilization of acute care services such as doctor and hospital care, but not pharmaceuticals</vt:lpwstr>
  </property>
</Properties>
</file>