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39D-2FD4-46EC-BE4D-EDA4B917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40E-FFC2-4C7E-8AF5-E37428F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E73-C61C-4D54-81C1-F5CA56BE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444-63CC-4CE2-B14A-41E69746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218-3154-49B5-B5E7-612841F1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DE9-BB1B-4561-865A-D753F799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7D1-2373-4F5F-A356-C0E0FC3A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AE0-04D1-4E18-A3AF-C10ECA79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0AE-0D18-4D08-9D5E-96E93C6E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65B-F872-48AF-B487-7FA29495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E4D-4017-4950-B3AC-7DEE46FD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7D3-7789-46C1-A0C7-64E9A009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00E7-88BD-4C69-AA7F-9DA21C32C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480" y="1066680"/>
            <a:ext cx="9077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6Z</dcterms:modified>
  <cp:revision>37</cp:revision>
  <dc:subject/>
  <dc:title>PowerPoint Presentation</dc:title>
</cp:coreProperties>
</file>