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FC20-0BE6-417C-84ED-1ABD35078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D92A-F206-44C0-B219-4D7351AD1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BB6-D36F-40F6-9BA2-66E2BB13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92D-4586-4155-869D-A152E134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35D-E399-464E-8B5F-F7AB8A2F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F8A-D782-4FE5-B733-24DC2EC2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4BD-7E99-4516-A8E7-1A1FCB5D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1C1-05F0-45B8-A0E1-5D534471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48E-0CA5-4AC2-9221-3EDCD96E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965-2FA9-4E9D-9105-1AC8F5D6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7A9-5F05-4095-B74D-8E807BC0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EBE-60B0-4573-9032-C243DBD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51E-15E0-4318-8B9B-0622DFEB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277-2126-4EE7-BB60-CDF70808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C546-C74B-4F6B-A126-49C74CF73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1_a.png"/>
          <p:cNvPicPr/>
          <p:nvPr/>
        </p:nvPicPr>
        <p:blipFill>
          <a:blip r:embed="rId1"/>
          <a:stretch/>
        </p:blipFill>
        <p:spPr>
          <a:xfrm>
            <a:off x="1219320" y="5716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5238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11a--State Health Rankings, 2009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676520" y="582480"/>
            <a:ext cx="57909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5b | State Health Rankings, 2009 (1=Best)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638280" y="57592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/>
  <dc:language>en-US</dc:language>
  <cp:lastModifiedBy>Jia Yao</cp:lastModifiedBy>
  <dcterms:modified xsi:type="dcterms:W3CDTF">2013-09-06T15:41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/>
  </property>
</Properties>
</file>