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A46-CFC8-4B42-830E-2F33530D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BC9-F6C3-4D85-B790-7C34CCFB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20D2-3DB8-475E-B3C0-7402EEA3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AA7-7537-41BD-8FC5-3700390E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0610-F45F-45F1-9620-32597D76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D71-0A3E-4324-8423-FB412EBC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4F9-3D7E-48EC-B6F4-590079C2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1645-8B44-4105-84EB-FF545D21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80C-8861-4608-9293-ABC71277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CD6-7B55-4E1B-A19B-F5CA3ECD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D12-0DF9-44C5-A331-22B8C328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4D8-9C7A-4659-B049-55CE3D21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F87C-500C-464D-B245-1BE3E7E73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2Z</dcterms:modified>
  <cp:revision>39</cp:revision>
  <dc:subject/>
  <dc:title>PowerPoint Presentation</dc:title>
</cp:coreProperties>
</file>