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D4A-D660-42BD-8145-7622B421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15E-1BDB-4259-AD89-A80E5AE6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E91-6720-47C3-848C-7BDA4090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2B3-D3D5-4EA8-9F38-C6D083DB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641-88E5-437E-BFE7-491F9B74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144-7629-4A3A-AE32-5617F68A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86BD-E32F-440D-94B0-3EA78810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747-6721-47BC-9AE0-4EE50B5B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1C2-ED58-4F58-98AF-A8AF307F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921-3CAE-4DF2-8CE4-3EE3919E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198-5AC4-44EF-A221-D7CA7AFC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2BBA-ED86-44A5-9C1C-4BDEFE37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E88A-5421-4455-BFA1-D3F816897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0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8Z</dcterms:modified>
  <cp:revision>37</cp:revision>
  <dc:subject/>
  <dc:title>PowerPoint Presentation</dc:title>
</cp:coreProperties>
</file>