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9C0A-7836-478A-AF92-C620DE068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25B5-6B07-4038-9E1D-E6A64694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A5BE-DF7E-4B7B-AA32-9C6EDCB65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297D-4FC5-4D14-8EF9-63E0BB09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910A-A04D-4817-A67B-D1019240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9B79-C64A-4B05-B504-CBA95143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6C29-1E44-480A-B144-1101DA54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72CB-F837-483F-BEA9-620DEF29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91DA-52DA-4F26-B2F5-39852F3B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AB0D-B500-4175-8C1A-7E531168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DBD7-CF39-41C9-B709-681D3FB3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3990-21BA-4CA8-A16B-54553161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E226-21A9-4DA3-95E9-8AE5BE1091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8400" y="412920"/>
            <a:ext cx="9075600" cy="59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8Z</dcterms:modified>
  <cp:revision>39</cp:revision>
  <dc:subject/>
  <dc:title>PowerPoint Presentation</dc:title>
</cp:coreProperties>
</file>