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295-6EE0-42D7-8951-73F91E7A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D4C-8013-4AC7-AF57-9FCAD9AD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F91-DF24-4661-B135-2E18ABEA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F0D-B10A-4ED9-8545-8F45A187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D6C-B191-4423-A153-98138697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789-CFC5-46F1-BEA7-1859252D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817-7EF8-4238-A45A-818E024B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344-0188-4844-9554-ED1E3046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F3F-477A-4304-BEC4-1C3ABC23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D25-B97F-4FE6-9FF1-AADB1AC4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2E9-E4E4-4EF9-9B35-568B028F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DC0-DF3D-4569-8C66-7FA7170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7E91-F990-4E50-84E7-5EBF1FEA4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867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0Z</dcterms:modified>
  <cp:revision>39</cp:revision>
  <dc:subject/>
  <dc:title>PowerPoint Presentation</dc:title>
</cp:coreProperties>
</file>