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152-175B-4D4F-A32C-AA41A5A0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35C-F527-4083-9A87-F14D4913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8F4-EA2F-471A-9288-8A879AEF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B7B-ECD7-48D4-B01E-D899AB7D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165-11EF-4296-836B-9A644B75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D69-ED6C-45D4-9F94-0D325CE5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6F1-0740-4B32-B7D7-1A32CFBD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40D-9FD9-4B41-87AB-723D1C58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B29-B065-4F86-B735-9DCD6E67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339-1AB4-4FD3-AD88-6F5843F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751-E622-4E72-A345-7C77258D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FAB-CAC7-4648-8A29-11B4F276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FC36-1102-47F4-A2E2-31FC9058D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480" y="380880"/>
            <a:ext cx="913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6Z</dcterms:modified>
  <cp:revision>39</cp:revision>
  <dc:subject/>
  <dc:title>PowerPoint Presentation</dc:title>
</cp:coreProperties>
</file>