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C847-1F5F-4EC2-9A02-4EED21472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B | MAJOR DETERMINANTS OF LIFE EXPECTANCY AT BI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DA02-4661-4B3C-B8D4-613B4EF00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105-9270-4FF4-894E-EF9CA599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245-76E2-40A2-9FCB-C35A5EAA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F79-B3A1-4FAB-A318-6C226E11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F52-6499-45F5-87D3-7B7EDF7D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483-906D-48E7-976E-9C9571A0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182-695F-4B62-BC34-CA1811F7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2F6-FD9A-459F-AF16-2C6F1BB4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4F1-31C5-4C00-85EF-37B3E5F8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E07-1F42-439F-9477-A8EF67F0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DE6-F3E5-44DF-A766-86100167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AC3-44B9-4F67-931F-5EB846C4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0F0-DDF2-4DEF-8A99-553A2D73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E91F-0B75-4EB6-B7D3-657B0964D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x.doi.org/10.1787/24085850013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b | Other determinants of life expectancy at birth are of equal or greater importance than the availability of doctors and nur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 change in life expectancy at birth per 10 percent change in f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0160" y="5759280"/>
            <a:ext cx="831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Joumard, I., et al.  (2008), "Health Status Determinants: Lifestyle, Environmen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Care Resources and Efficiency",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Economics Department Working Pap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627, OECD Publishing. doi: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0.1787/2408585001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b | Other determinants of life expectancy at birth are of equal or greater importance than the availability of doctors and nurses</dc:description>
  <dc:language>en-US</dc:language>
  <cp:lastModifiedBy>Jia Yao</cp:lastModifiedBy>
  <dcterms:modified xsi:type="dcterms:W3CDTF">2013-09-06T15:41:1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b | Other determinants of life expectancy at birth are of equal or greater importance than the availability of doctors and nurses</vt:lpwstr>
  </property>
</Properties>
</file>