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5B89F-58B6-4073-9677-4FF4EF5065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9.11B | EUROPEAN CANCER SCREENING RATES AS A PERCENT OF U.S. RATES FOR SELECTED CANCERS, BY AG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BEF41-D2AB-40B1-B023-63C52024B4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BC67-0D5A-4AEC-A6A1-A36C30FAC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F048-D4C2-4C90-8FB1-3EAD0492C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9252-08B3-44F2-BC7D-693334863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726B-7152-401B-B208-3EE58C415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89C2-A51D-4C53-BFA9-6F3BC9F0C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3CE1-F982-4190-88E4-07C6BFF5D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064F-745C-4814-AA7B-371536901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D7A7-9FD0-4739-9433-DADAC4365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954C-DEC2-4229-B70C-C911C9786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6A56-8D15-4152-A42E-E4AEADEA9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F90B-02C4-4C4E-9C62-FE1E93BD0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089B-D1CE-4221-BE69-878CC24CF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DC0E9-9E87-4868-897D-818430B128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9.11b | Despite a larger uninsured population, cancer screening rates for adults 50 and older are much higher in the U.S. than in Europ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244520"/>
            <a:ext cx="8331120" cy="566424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609480" y="1523880"/>
            <a:ext cx="693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uropean cancer screening rates as a percentage of U.S. rat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475920" y="5827680"/>
            <a:ext cx="77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 D.H. Howard, L.C. Richardson and K.E. Thorpe, Cancer Screening and A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the United States and Europe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Health Affair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2009; 28(6):1838-47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6:26:20Z</dcterms:created>
  <dc:creator>Kristy</dc:creator>
  <dc:description>19.11b | Despite a larger uninsured population, cancer screening rates for adults 50 and older are much higher in the U.S. than in Europe</dc:description>
  <dc:language>en-US</dc:language>
  <cp:lastModifiedBy>Jia Yao</cp:lastModifiedBy>
  <dcterms:modified xsi:type="dcterms:W3CDTF">2013-09-06T15:41:18Z</dcterms:modified>
  <cp:revision>658</cp:revision>
  <dc:subject/>
  <dc:title>19.1a  Cost per Life Year Gained from Increases in Health Spending in the United States, by Age, 1960-20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9.1a  Cost per Life Year Gained from Increases in Health Spending in the United States, by Age, 1960-2000</vt:lpwstr>
  </property>
  <property fmtid="{D5CDD505-2E9C-101B-9397-08002B2CF9AE}" pid="3" name="SlideDescription">
    <vt:lpwstr>19.11b | Despite a larger uninsured population, cancer screening rates for adults 50 and older are much higher in the U.S. than in Europe</vt:lpwstr>
  </property>
</Properties>
</file>