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62D3-F9FB-4D41-9AB3-1F4A77E87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B | ESTIMATED DEATHS IN UNITED STATES, BY UNDERLYING CAUSE, 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B148-C78A-43D0-836C-06FEDA259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ABE-F6BC-46DC-85C5-B4E4E66B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156-9690-4EB6-8872-E7A67485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44A-9C61-4A41-8FCC-65746E45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541-61F2-4F9F-AE35-669A26E4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30E-827A-47CD-9544-AC0A9344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6B5-9348-4A43-8ABD-E34C9E29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54A-1310-4268-81C9-CC64EF98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977-E76C-405A-B053-3CD5B1DC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A0B-3AFD-4421-BCDC-AF42C3C0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ED4-6C84-4045-BFE5-EA927A7B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F28-9E87-4891-9B3D-19E9307B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8EC-9EB3-4A28-ADF2-4F965A45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BBDC-3B81-461E-AEF8-0FED643D4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b | Changes in behavior/lifestyle would have a sizable impact on mortality rates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90169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518148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U.S. death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b | Changes in behavior/lifestyle would have a sizable impact on mortality rates in the U.S.</dc:description>
  <dc:language>en-US</dc:language>
  <cp:lastModifiedBy>Jia Yao</cp:lastModifiedBy>
  <dcterms:modified xsi:type="dcterms:W3CDTF">2013-09-06T15:41:2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b | Changes in behavior/lifestyle would have a sizable impact on mortality rates in the U.S.</vt:lpwstr>
  </property>
</Properties>
</file>