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0F4-FCCD-4263-8C45-B4864F80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C37D-7814-4205-B493-2D5DCBFD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0377-9785-47EA-8E4B-6BC6F67B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A3F-82F2-403C-AEC9-455103B3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521-DA10-4DF4-9B0B-C733F129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86D-0D42-43A1-8953-48402AD3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398-ED49-45E5-A6DB-3C08E1D8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548-1D49-4D3F-9FA4-3D5CB61A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217-F71F-4552-8A45-F0F98E3D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D5A-1096-40C5-82A5-987D321C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807-CCCB-404B-80F8-DF9D6947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C95-9C25-4B7F-8599-3504B62A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13F8-F3A5-42DA-86D1-F2EEF6B7E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8920" y="49320"/>
            <a:ext cx="89028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7Z</dcterms:modified>
  <cp:revision>39</cp:revision>
  <dc:subject/>
  <dc:title>PowerPoint Presentation</dc:title>
</cp:coreProperties>
</file>