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E96B-EC5C-4A72-81C8-00DD4CB0A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2A | YEARS OF POTENTIAL LIFE LOST BEFORE AGE 70 PER 100,000 POPULATION VS. HEALTH SPENDING PER PERSON IN SELECTED INDUSTRIALIZED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170B-B0E7-47C4-AE29-ACEFBEE43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89E3-5EF2-4483-8B9C-B6524458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9CF-2B6B-485E-BFBB-DB7A6D89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553-DB36-45A8-84C1-4F0FACDD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4B06-C384-469B-8F21-842FAD81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3BA-DB05-4ACC-B08E-58C27D08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86C-973D-41E9-8BC8-11CAD2C8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6C0E-9BB5-4245-B678-AEB39206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E91-1BC0-4D7C-936B-DF74E349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A18B-2D01-444D-B2A3-0F8FC727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456-73D2-45EF-A146-E3426ACC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F9C-3CE2-485E-900E-12A7FB1D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704-99A0-40C6-8813-E52A5732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0CC6-2500-4FBB-909A-6217FAFB5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2a | Years lost due to premature death are much higher in the U.S. than most other industrializ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01520" y="1549440"/>
            <a:ext cx="88646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914400" y="5780160"/>
            <a:ext cx="69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person (U.S. purchasing power parity, 2006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2a | Years lost due to premature death are much higher in the U.S. than most other industrialized nations</dc:description>
  <dc:language>en-US</dc:language>
  <cp:lastModifiedBy>Jia Yao</cp:lastModifiedBy>
  <dcterms:modified xsi:type="dcterms:W3CDTF">2013-09-06T15:40:38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2a | Years lost due to premature death are much higher in the U.S. than most other industrialized nations</vt:lpwstr>
  </property>
</Properties>
</file>