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84A-8D9F-42FE-9CD0-8AEFCCEC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1A3-A9BB-4673-8EA3-31CB45E9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253-9E8C-4EAD-B160-405818C5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9A4-F4AE-4147-BBE6-01539BB8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6D0-0D59-4226-B524-536785F7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D43-3E97-498C-AA0F-D3814355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7DF-2F6E-4536-B67D-2D8EF9F7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5F8-D46D-494E-892C-5B02EC05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EBE-05CC-4856-80DA-5B84F82D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A55-25A7-49E1-9912-1A4617B5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F96-B528-4913-A5A1-FCB1B0EA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D4C-019A-4BD3-A65B-2FD1EA0F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A813-AD55-4461-8A05-DA0408262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2560" y="228600"/>
            <a:ext cx="90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2Z</dcterms:modified>
  <cp:revision>39</cp:revision>
  <dc:subject/>
  <dc:title>PowerPoint Presentation</dc:title>
</cp:coreProperties>
</file>