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04A3-F87A-4EB7-B1A5-4753F6E70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3B8F-325F-42A9-8F3D-29B148FC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875F-9D81-40BB-A718-1ADF201D4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B78A-24F9-41A9-973B-9D029071C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C4B7-B76A-4232-820F-E315B3C6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60FB-319F-40F2-96C9-C3F2E9D1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B527-68AF-4D0B-91D7-9265452F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3951-0FBB-4FCF-A9E0-17E0320A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A9A3-0642-459D-8BDE-E69E937A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CEBD-8D26-4EE0-9450-DEE37E43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45C3-629C-46F5-828F-CD568BCA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2B02-5E76-4177-8D7A-F657FDAB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D38D-8C88-49CF-8E68-B78E419328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5Z</dcterms:modified>
  <cp:revision>39</cp:revision>
  <dc:subject/>
  <dc:title>PowerPoint Presentation</dc:title>
</cp:coreProperties>
</file>