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34B0-D12F-4961-8988-6DBB66BC9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8ED9-BA6C-4DB8-A793-74A045C56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3039-16B8-4298-97ED-645519BFA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ECDE-6BEB-4FC9-BC6B-982CAEEC9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F582-42FB-4F3D-B8DB-E954B9F18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6E0F-8E13-46B2-AA0D-117B1E690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6F04-2D9C-423D-B002-0F0748B98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4A69-7248-40A1-B15B-72F7E48D1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B8B9-5E56-4754-9BC7-8AFEDAD2C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4FEA-3DC5-4928-8D4F-C65A13B0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BD4C-0BCB-45D7-B84D-976A5EAB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5303-E5D5-4AE6-A9D1-68769433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11F3E-7054-4C56-A504-2550D9D876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9360" y="152280"/>
            <a:ext cx="912528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2:07Z</dcterms:modified>
  <cp:revision>37</cp:revision>
  <dc:subject/>
  <dc:title>PowerPoint Presentation</dc:title>
</cp:coreProperties>
</file>