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A510-484C-4C5A-9DAE-FFD2F02FC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B | MEDICAL MALPRACTICE PAYMENTS RELATIVE TO TOTAL NHE AND EXPENDITURES ON PHYSICIAN SERVI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457E-61A5-4820-AEB4-E8EBDE4B6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F4F-305B-47C1-93F1-60AA6B0A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46A-D1FA-48A4-941F-AC0CC6BA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8F8-AB98-46AF-BBB7-E138EF15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94C-759D-4506-B84C-8AA526BE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53D-7FA8-42E2-BF09-27865062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534-11D3-4EF5-B594-AABD6ED9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C22-A089-42E1-BF8F-87BF7C78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890-0185-489D-A4DC-93832AC3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39C-B4AF-4B94-8CDD-EEB631E1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B69-499D-416C-A050-FE664B89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805-FD7B-4C27-9C0A-55A47FDE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816-4DE7-47CF-B2EF-BA71477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0FAF-E680-45BC-94D2-0A054FFA9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b | Medical liability payments as a share of total or physician spending peaked in the 1970’s and have declined through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l Malpractice Payments per $100 of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b | Medical liability payments as a share of total or physician spending peaked in the 1970’s and have declined through 2009</dc:description>
  <dc:language>en-US</dc:language>
  <cp:lastModifiedBy>Jia Yao</cp:lastModifiedBy>
  <dcterms:modified xsi:type="dcterms:W3CDTF">2013-09-06T15:41:0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b | Medical liability payments as a share of total or physician spending peaked in the 1970’s and have declined through 2009</vt:lpwstr>
  </property>
</Properties>
</file>