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7774-1441-44E4-B340-D1FBB5A0C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2 | INDEX OF AGE-STANDARDIZED DEATH RATE PER 100,000 (100=US) FOR MORTALITY AMENABLE TO HEALTH CARE (BOTH SEXES COMBINED) IN 19 OECD COUNTRIES, 2002-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1999-DFC1-46BA-9274-20330355B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805-7D72-4A27-A336-49750EC0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B2B-168E-428A-8047-FC2CD364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81A-1BD9-45BA-96C6-BC884527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3B5-F8DA-4388-B751-08FA69EB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33E-913E-4D68-89FE-3D569B87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D34-A5D6-4020-872A-4EA7FBA4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3EA-2CF4-4F50-9C30-86D59972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F20-F32F-4744-9704-395DA370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A52-25F9-434A-80B5-C599DD1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417-3B4C-477C-86F5-49976638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501-D139-45C4-B482-20582712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8E2-E049-498D-88E5-73426AF1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A118-E436-4544-94C7-D2D893A9F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2 | Compared to many other OECD countries, the U.S. has a higher death rate from conditions amenable to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7120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914400" y="1382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 (U.S. = 100) of standardized death rate per 100,000 (ages 0-74), 2002-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5897520"/>
            <a:ext cx="85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lte E and CM McKee. Measuring the Health of Nations: Updating an Ear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58–7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2 | Compared to many other OECD countries, the U.S. has a higher death rate from conditions amenable to health care</dc:description>
  <dc:language>en-US</dc:language>
  <cp:lastModifiedBy>Jia Yao</cp:lastModifiedBy>
  <dcterms:modified xsi:type="dcterms:W3CDTF">2013-09-06T15:41:2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2 | Compared to many other OECD countries, the U.S. has a higher death rate from conditions amenable to health care</vt:lpwstr>
  </property>
</Properties>
</file>