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BB1-4360-4530-A796-A7833B52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739-3B25-4950-8149-99636226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0A2-9697-4C51-90D1-C5FB463B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4CB-7248-4E3E-AA6D-AB4AB014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4BF-AF9F-4ED6-AC73-5FE53903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0EA-26C4-46EC-8BD6-961D110F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DCB-0E3D-409A-9A4F-E705964D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405-429F-4D0E-AFE8-9D3FDA35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F3D-82C3-42A3-929A-FD737B92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477-EB64-46A6-B478-915FD654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BFF-1203-44AE-ADCA-9C3335DE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503-314D-4029-B278-C61FEC4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7EFB-2AE7-454F-AA47-70513A4AC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53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4Z</dcterms:modified>
  <cp:revision>40</cp:revision>
  <dc:subject/>
  <dc:title>PowerPoint Presentation</dc:title>
</cp:coreProperties>
</file>