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E5B-EFC1-4C5B-8B7D-732EF6BF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08D-6BC6-4FAC-BB49-B877B019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9BF-F451-4399-A1C7-D3F1DFCC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FD5-11F3-4D0D-827A-1EB49D09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5CB-5D6E-4B2F-860B-D7820421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A0B-A0CB-484E-AC1F-9A49DDC2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431-B59A-4131-AA28-1970002F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3F9-1805-43C3-B40D-5C987D37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3FD-2402-4325-9AF5-F50A0D95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3AF-55C1-4AFD-AE14-248E58E7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3C1-15BD-4382-960A-44347020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773-4219-4F05-854A-2139243A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F1E1-3E1A-4C92-B103-DAA011681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52560"/>
            <a:ext cx="890748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3Z</dcterms:modified>
  <cp:revision>37</cp:revision>
  <dc:subject/>
  <dc:title>PowerPoint Presentation</dc:title>
</cp:coreProperties>
</file>