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C1A2-9A41-47E6-A3EB-25B67F038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E6E0-C534-43FD-840E-45E7583D0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EAE-ADAD-4E41-AEF7-FEE2DA31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CBC-2B7C-4127-884A-45A398AD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F5B-7377-4CC8-A9D5-E40F25B4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EC8-7A7A-4EB8-94D3-282F6E8E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216-24A4-4FE2-854B-BA1F1462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574-5611-41C7-A6CC-C05AFB4F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A2A-7281-4F65-8001-BF75CACC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790-2176-484A-B4A8-C5617734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D4D-A1CC-4530-836B-6519E12C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131-BC0F-4771-B2AD-8604E642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00C-5F93-4412-9D7D-5111FA46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EC0-9FE6-49DD-98EF-FFE2EF53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03EE-D1CE-4881-9B6E-E06625C7B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6b.png"/>
          <p:cNvPicPr/>
          <p:nvPr/>
        </p:nvPicPr>
        <p:blipFill>
          <a:blip r:embed="rId1"/>
          <a:stretch/>
        </p:blipFill>
        <p:spPr>
          <a:xfrm>
            <a:off x="1447920" y="380880"/>
            <a:ext cx="6819840" cy="51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19280" y="43344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c | Percent of adults age 15 and older who are daily smokers, United States,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77360" y="5495760"/>
            <a:ext cx="861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-Specific Prevalence of Cigarette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Smokeless Tobacco Use Among Adults --- United States, 2009.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rtality and Morbid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eekly Repo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ovember 5, 2010 / 59(43);1400-140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dc.gov/mmwr/preview/mmwrhtml/mm5943a2.ht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8:54Z</dcterms:created>
  <dc:creator>Jia Yao</dc:creator>
  <dc:description/>
  <dc:language>en-US</dc:language>
  <cp:lastModifiedBy>Jia Yao</cp:lastModifiedBy>
  <dcterms:modified xsi:type="dcterms:W3CDTF">2013-09-10T20:49:20Z</dcterms:modified>
  <cp:revision>1</cp:revision>
  <dc:subject/>
  <dc:title>PowerPoint Presentation</dc:title>
</cp:coreProperties>
</file>