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8F3-5C88-48B4-BD5A-0183D6E3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BF3F-486E-4D13-B6DF-D20C8989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F840-9AD5-49A8-B521-7714E0D8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4A2-C674-4598-B55A-1DA2B77E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D334-E8E5-4083-A8AF-F0A30854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563-8BD2-45E0-A950-0FC3865E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CB0-7919-4D9F-8229-CF57DB84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9B76-32E5-4E43-9996-1C158D93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E0F-1B13-430D-999E-140D8827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C097-8061-4F0F-92B6-7306C07E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9968-5298-4D1E-9FF1-FDFADE53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3773-65F1-4441-A8D0-8C0EB019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B89D-0E32-444C-8E8D-25AA7B2C5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8400" y="228600"/>
            <a:ext cx="9007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51Z</dcterms:modified>
  <cp:revision>39</cp:revision>
  <dc:subject/>
  <dc:title>PowerPoint Presentation</dc:title>
</cp:coreProperties>
</file>