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C4A4-6041-4897-AAF3-F4916675C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A | LIFE EXPECTANCY AT BIRTH WITH AND WITHOUT DEATHS RELATED TO VIOL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D9E4-0C79-4DB3-8366-895AC2BC7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7DB-C986-43C7-AED3-3BCC37B1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4E0-47E1-404F-B3C0-E0EA884E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AEE-CCD2-49A1-A1ED-3FE97A42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E10-66D2-4921-8836-A6C124C4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722-285B-4F34-9009-8E2BDCF2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28F-5644-4915-8834-82D75C2D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C8A-8ADC-4E3A-8A28-CE338444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842-564B-488F-83FE-627EB0D3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2E2-A232-40BE-B680-164ADC4F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A86-380C-45E3-B7DE-BC859C0D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E78-ABAA-4DCE-B6A9-49A574F2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92C-F026-4575-843B-57D0885F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FCBA-9D4A-46AE-8102-55C6EF6ED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a | Once higher-than-average U.S. rates of violent deaths have been taken into account, the U.S. leads the world in life expect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5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588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 Life Expectancy at Birth, 1980-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61880" y="541008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47840" y="44197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Countries are ordered by standardized life expectancy derived by assigning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the mean OECD fatal injury rate for the period shown; figures in parentheses denote ranking on unstandardized life expectancy at bir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a | Once higher-than-average U.S. rates of violent deaths have been taken into account, the U.S. leads the world in life expectancy</dc:description>
  <dc:language>en-US</dc:language>
  <cp:lastModifiedBy>Jia Yao</cp:lastModifiedBy>
  <dcterms:modified xsi:type="dcterms:W3CDTF">2013-09-06T15:41:1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a | Once higher-than-average U.S. rates of violent deaths have been taken into account, the U.S. leads the world in life expectancy</vt:lpwstr>
  </property>
</Properties>
</file>