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E83F-48ED-4100-B7F2-4AFE55789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C15C-9F6C-456A-9A3D-62734F1B4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CC0F-1A90-43A8-94C1-AC253BA99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4D4D-82F2-4E86-BB3C-E3BA9F1E0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07AC-0F98-4A72-BCEB-7A0D9CF22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B2C9-B32D-410F-B558-33C2819F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99E4-91E2-4D44-B6E1-54611CB18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563F-F770-4505-A797-646F29682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8B17-7943-44CD-B840-4734A86D0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881F-B122-431D-95E8-D784DE00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3F0D-2AD3-4A30-A79E-37890727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7E20-5E92-4259-800A-5286846D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764DD-472A-44EE-A039-B00C97C475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7000" y="304920"/>
            <a:ext cx="90900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22Z</dcterms:modified>
  <cp:revision>37</cp:revision>
  <dc:subject/>
  <dc:title>PowerPoint Presentation</dc:title>
</cp:coreProperties>
</file>