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453B-8228-47D8-9406-59F466080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6823-A0C4-4B4B-8666-3DB447C3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BB8F-08E7-403D-968F-1ABC52406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F26C-550C-49C0-9577-F6C491A11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E749-8A58-4413-9D59-1D37CBB7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C872-2999-4034-A61E-911AB96B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61EF-281B-4FA1-B8B1-A2BA4155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56AE-B29A-469C-B17E-22D91BAF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250B-46C8-4077-93AA-8A051ECA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22E6-D133-4823-8B88-A5142623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2F1D-BED5-4444-8AA4-DB1D0264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D1D9-1E87-4DF5-9D6B-D7DA10C1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0F6B-4C30-44E7-BA42-EFB245AE82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0360" y="304920"/>
            <a:ext cx="89632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4Z</dcterms:modified>
  <cp:revision>37</cp:revision>
  <dc:subject/>
  <dc:title>PowerPoint Presentation</dc:title>
</cp:coreProperties>
</file>