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596-D733-4F76-BC9C-DBE240D2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548-87E3-4E5D-83EE-F6B9D9C3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66B-E603-44B0-BC4C-D645A4A3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EC0-9224-4B8C-AF3B-332DCF73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A5A-91E2-4281-BD18-42F6C9B5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043-138C-4ABD-AB9B-46693ABC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776-DFBF-489C-BDDB-50E058EE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262-F23E-459E-8485-6A8FE243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EB5-1E65-4823-BA17-14923A04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1B4-1E37-49B1-A766-B45EE43D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195-0475-4201-A74C-DE9AB366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DB3-82C3-4C88-9B78-FABB2B80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5DC7-582D-49CF-8401-45833DFD0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1Z</dcterms:modified>
  <cp:revision>39</cp:revision>
  <dc:subject/>
  <dc:title>PowerPoint Presentation</dc:title>
</cp:coreProperties>
</file>