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DD7-08E1-4193-9125-66FC9B2A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A7F-DC78-4255-8EF8-2AA3AD73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C75-2875-40B3-8D77-5F567B43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22E-C04E-421A-8E12-DCF73519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A23-44F2-450D-8CC2-2DD56876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617-D8FE-46B7-B8FD-961B4169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CA9-79E3-4F27-89F3-6DFFCC7F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FEA-5549-4B6B-9929-6C130870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39C-3460-4F87-8997-4F0614F2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A25-DEBD-45F6-BA6E-BB014740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E08-15BF-45D6-A7E7-559DDDCB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86B-259F-472A-B165-BC458FD3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F26F-E0D8-4F60-B14A-4258F0165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42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0Z</dcterms:modified>
  <cp:revision>37</cp:revision>
  <dc:subject/>
  <dc:title>PowerPoint Presentation</dc:title>
</cp:coreProperties>
</file>