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ADF7-97DF-4B1A-807A-7F8521275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3B | COMPONENTS OF ANNUAL MEDICARE SPENDING PER BENEFICIARY, BY QUINTILE OF CARE INTENSITY, ???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54B2-79D9-4887-818F-A33E4F4B0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BF1-EE4F-419D-8F29-CFABB0DB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9569-8386-4D18-AE6C-DFED7B71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D856-FF46-4646-B399-31B33878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6408-FBA1-433D-96DB-9B1094A7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FE86-2B53-4322-AAD8-6617F6EC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CB2-B372-4D04-971D-4F73B8CA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34D-D5DC-4F17-AF78-6256F7AF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011-D575-4E2A-B08D-F7A4E3F4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460-48B2-408E-B858-E370E8B4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4596-703B-40E2-90DF-A91DFBB7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64C-CDD6-45B8-9B2B-886340BC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2DCF-2B7F-4862-A30D-AF1B451F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8563-2670-497C-A00A-55769FB91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3b |  Differences in income, race or health factors explain less than half of the spending differences across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21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40160" y="1295280"/>
            <a:ext cx="68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per capita Medicare spending (dollar difference from Quintile 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301200" y="363852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intile of care inten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33520" y="4037040"/>
            <a:ext cx="835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ertical bars show the proportion of the difference in spending between regions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of the four top care-intensity quintiles and the regions in the lowest quintile th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explained by differences in patients' race, income, health factors (self-repor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, presence or absence of diabetes, blood pressure, body-mass index, and smok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tory), and regional factors. All models control for age, sex, and urban or rural resid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56560" y="5791320"/>
            <a:ext cx="795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Sutherland JM, ES Fisher and JS Skinner. Getting Past Denial—The High C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Health Care in the United State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ew England Journal of Medicin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61:1227–3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3b |  Differences in income, race or health factors explain less than half of the spending differences across regions</dc:description>
  <dc:language>en-US</dc:language>
  <cp:lastModifiedBy>Jia Yao</cp:lastModifiedBy>
  <dcterms:modified xsi:type="dcterms:W3CDTF">2013-09-06T15:40:4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3b |  Differences in income, race or health factors explain less than half of the spending differences across regions</vt:lpwstr>
  </property>
</Properties>
</file>