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FBC9-C613-45ED-9558-AAA37ADE0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78E0-78E4-4564-81A7-29704672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C920-94BA-41DA-A566-E7F46BC6A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44E1-8F64-436F-A008-49F78520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129E-B3DD-4562-84BB-5E62359D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8C32-9C3A-46E6-9387-DF34C40E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A947-063B-4865-B2E6-80EBB47A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88FA-55AD-4713-9839-E8433CB3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EDCF-D9E9-474C-80CF-0BF7C79D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B928-05E0-410B-82F6-968035C4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DA2E-7740-47C8-AF79-5D1973B5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3977-9784-4DE9-A5B3-D7B7B649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90EB-527A-4D96-B8D6-6B3F741ED9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6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1Z</dcterms:modified>
  <cp:revision>39</cp:revision>
  <dc:subject/>
  <dc:title>PowerPoint Presentation</dc:title>
</cp:coreProperties>
</file>