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ECEA-BE29-437B-8C38-B5C01CBD08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A | COST PER LIFE YEAR AND "QUALITY-ADJUSTED" LIFE YEAR GAINED FROM INCREASED HEALTH SPENDING IN THE UNITED STATES, 1987-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5FDD-21AA-48D4-8C10-30EE9A8E9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3377-1FC8-4717-B47D-89A03CFC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243F-9210-43E3-B480-7FB21E80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2D2A-62CF-4208-BFE8-F865C3C3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2B23-0E39-4B86-A761-A48147E8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E977-AE04-408C-B9AD-D19FF661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A89B-29B5-4E81-8473-113A7BE8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4008-D95F-42BB-A6EF-65AB84A7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C75E-8217-4F27-BA6A-4FFC30BF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A562-3DE0-4DF4-8521-EC6B78CF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B31E-1C7A-4529-BCEF-A2ADD970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14F1-796A-4AD4-BA7A-9B1C3F9A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F89F-80D3-4D00-B61B-FDA40846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15E1-7D20-43C1-AF7E-C61B687D1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9.1a |  Even after accounting for the resources spent to add a year of healthy life, U.S. health spending appears to provide good value for mon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05600" y="1600200"/>
            <a:ext cx="48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t per life year gained, 1987-2000 (2000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31720" y="5759280"/>
            <a:ext cx="851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utler DM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 Health Report Card for the Nation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HE Presentation. June 6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6. http://healtheconomics.us/conference/2006/plenaries/powerpoint/cutlermadis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 (accessed August 18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a |  Even after accounting for the resources spent to add a year of healthy life, U.S. health spending appears to provide good value for money</dc:description>
  <dc:language>en-US</dc:language>
  <cp:lastModifiedBy>Jia Yao</cp:lastModifiedBy>
  <dcterms:modified xsi:type="dcterms:W3CDTF">2013-09-06T15:40:3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a |  Even after accounting for the resources spent to add a year of healthy life, U.S. health spending appears to provide good value for money</vt:lpwstr>
  </property>
</Properties>
</file>