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F22C0-268E-4991-BCA0-4442F8737D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15A | SELECTED MEASURES OF HEALTH SYSTEM PERFORMANCE, BY ST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26C52-C408-48B5-BCC7-4CA91020A3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6B95-E656-467F-8199-57CA6390A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E0E0-7625-41DC-858E-DDC30CAD6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2639-C91C-4D83-A074-57FC82E2F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C82D-91F3-4D6A-A582-1D3A8E307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4143-7DA1-4B47-A276-6A764A744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CDC8-9E2D-4E42-A1BD-1D1C4B6DB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B187-380B-4F30-AB35-9A9A2A0E3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812B-5109-4530-BB50-623739500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ACCE-FCD0-4BAA-A6F7-9922FB71B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F676-2820-43D7-B1C2-DB0DECD94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0935-908C-488D-B6BC-00F8AB4C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60D5-5B13-4593-9125-5AAD24AA9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8E514-C94B-4D1A-B687-3700CF32B6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19.15a | There are large differences in health system performance across st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331120" cy="505476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638280" y="5638680"/>
            <a:ext cx="8177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United Health Foundation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America’s Health Rankings 2009: 20th Anniversar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Edit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http://www.americashealthrankings.org/2009%5Creport%5CAHR2009%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nal%20Report.pdf (accessed June 15, 2010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609480" y="130644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dexes: 100=U.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15a | There are large differences in health system performance across states</dc:description>
  <dc:language>en-US</dc:language>
  <cp:lastModifiedBy>Jia Yao</cp:lastModifiedBy>
  <dcterms:modified xsi:type="dcterms:W3CDTF">2013-09-06T15:41:32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15a | There are large differences in health system performance across states</vt:lpwstr>
  </property>
</Properties>
</file>