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0B24-A1CD-4BB5-B3F0-D3CA49DAF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EB82-7BFD-4E6C-BD66-AF082952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87EF-6ACA-420B-8827-2B88102B2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0475-13E6-4369-823E-DC6BEDA00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E806-26EA-4873-9336-317847BF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B05C-5FE9-44CF-A102-9CD6C6EC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2BC8-3677-4601-A2C5-3E8ADBA1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7F9A-3450-49C1-920E-E2CC6C76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EB8F-7E2B-4EDE-952E-732F1CDC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D72E-A7D7-4A00-8868-3263CA64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C619-1445-4EBF-AF2F-DA0D7E33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DC2C-6AC0-4D15-BCEE-8CB7A986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6B2C-2494-42EF-BFAB-58576D1C7A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2600" y="0"/>
            <a:ext cx="911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1Z</dcterms:modified>
  <cp:revision>37</cp:revision>
  <dc:subject/>
  <dc:title>PowerPoint Presentation</dc:title>
</cp:coreProperties>
</file>