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5DA-BD49-4061-979D-7B16E0FA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CDB-5F92-4769-9BD6-15CF46AC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2B4-4F46-4517-BC9D-8AEB172B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77F-EE2B-4751-96CB-FA569B8E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A9D-38D2-41F8-8BD8-F8F9B374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990-DF58-4FB2-811B-7E654CD5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BCA-B404-4138-BEDD-4A53E562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197-4F34-4DDE-819F-86CF717F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5F3-779A-48DC-A3A3-A9217F55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411-E70F-4562-B388-D1700544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B95-2CC4-4F9E-B9B6-CD509DC1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73A-145A-4A87-B77B-C1AD64B2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1FBD-4962-41B9-8EE5-F9C68648B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295280"/>
            <a:ext cx="9017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7Z</dcterms:modified>
  <cp:revision>39</cp:revision>
  <dc:subject/>
  <dc:title>PowerPoint Presentation</dc:title>
</cp:coreProperties>
</file>