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DDDA7-0898-4D10-B2EB-A036E8ECFD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7B | PHARMACEUTICAL WHOLESALE PRICE INDEXES, RELATIVE TO U.S. PRICES (US=100), 200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8ED79-6603-4532-BEB9-583436459F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6CC6-4361-470C-A90A-FD3E520AD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CB29-ECA7-4035-BD51-BDB93E975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DC6E-4CF8-4BB5-A87E-5E2A798BD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523D-F3EA-416E-B4E3-635999749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9900-3C2F-439B-ABC4-06CA026AB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69C7-9848-4DD9-95D0-CDEF6B531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36B5-CAC8-4A41-AD5C-48918E734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CB25-12E9-4ADB-B05A-6F5998C06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04F3-9B3A-4B40-B70B-C1A220454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F605-AFF0-4279-B2AE-065B763DD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DF80-77D8-4845-A908-C416E97B9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5BD3-D935-4359-BDAD-206E3A466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CFB22-C009-49C7-9CDF-0A53084043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7b | Manufacturer’s prices generally are higher in the U.S., but U.S. pharmaceuticals are generally more affordable due to higher incom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74984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609480" y="1447920"/>
            <a:ext cx="57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harmaceutical price indexes: 100=U.S. (2005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664920" y="6019920"/>
            <a:ext cx="740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Danzon PM and MF Furukawa. International Prices and Availability of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harmaceuticals in 2005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Health Affair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8; 27(1):221–33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7b | Manufacturer’s prices generally are higher in the U.S., but U.S. pharmaceuticals are generally more affordable due to higher incomes </dc:description>
  <dc:language>en-US</dc:language>
  <cp:lastModifiedBy>Jia Yao</cp:lastModifiedBy>
  <dcterms:modified xsi:type="dcterms:W3CDTF">2013-09-06T15:41:03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7b | Manufacturer’s prices generally are higher in the U.S., but U.S. pharmaceuticals are generally more affordable due to higher incomes </vt:lpwstr>
  </property>
</Properties>
</file>