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9656-7DC6-4D68-85E1-87CC98446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C | COMPARATIVE INDICATORS OF MEASLES, DPT AND FLU VACCIN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63EB-8F4E-41E6-BF64-5CA0D1E2B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A8B-9F3F-4583-876A-272F5B2A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D91-FD12-4CBD-89A1-A8CDCBBC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006-BCBD-470C-914E-5732D017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DBAB-1ADF-4F93-A992-28B9BC32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360-A305-4EAB-BA38-3C77CB02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912-4E96-4705-B31C-E0F44959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661-4C5E-4731-8E83-1DC7A433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A44-CA83-42BD-A783-A4F022C9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619-34EF-46C4-B028-462569A9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7B5-3B2D-4E35-8238-3A02BEEE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BAD-79EF-4D52-9C62-6CD207EE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393-82B2-4A45-9E24-C56582EE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2039-3808-411E-A928-460DA065D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c | Immunization rates in the U.S. are generally comparable with those in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88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c | Immunization rates in the U.S. are generally comparable with those in other G7 nations</dc:description>
  <dc:language>en-US</dc:language>
  <cp:lastModifiedBy>Jia Yao</cp:lastModifiedBy>
  <dcterms:modified xsi:type="dcterms:W3CDTF">2013-09-06T15:40:5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c | Immunization rates in the U.S. are generally comparable with those in other G7 nations</vt:lpwstr>
  </property>
</Properties>
</file>