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998F-7761-4DCC-9996-9540FB3FB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3FD3-5331-4964-A707-69366AF3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B03D-AFA4-4C10-BF45-F5657C455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9E3A-0B0B-45D2-BAF2-64B883926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C4DF-AF23-449C-99FC-16C617BA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1821-E027-444C-9337-EACB4B65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0D3E-2B24-4647-81A0-BBBCF5FF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3FB5-C13B-4930-8597-AA3505C6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F2E4-D8E3-4245-8405-4CC1F379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1410-56E5-4DB1-B78B-9237286C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4F4A-0066-4F3C-B7C1-56FCA84F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8175-F150-4686-9374-91E37360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D6A3-F033-4BC0-8E63-9DF58A55D0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203480"/>
            <a:ext cx="8958240" cy="44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6Z</dcterms:modified>
  <cp:revision>39</cp:revision>
  <dc:subject/>
  <dc:title>PowerPoint Presentation</dc:title>
</cp:coreProperties>
</file>