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F60E-9690-41AD-AFF6-A15031B48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38E9-E794-4BC6-B126-5A7BE9F3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6009-3A1F-4B81-82E2-7156CF0E5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EA3B-97F5-47F3-9B9B-30CC860FA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52CD-58F0-4E5C-B7A1-BE463C23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FD03-F8A9-4A1D-BB13-280911A7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2F83-63F2-457F-94FF-30457AA3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378F-1A63-436E-9CFD-85D88E54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67ED-9E3C-46DD-8AF3-AAD7D8CB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5777-E72E-418B-9D7F-ED4B814E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BD45-43E6-4FA8-BAFC-3A28279B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5E83-6A1A-4CE3-97AD-F4E5F655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6095-18C3-4F36-AF20-D3EDBE401B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04840"/>
            <a:ext cx="914400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6:42Z</dcterms:modified>
  <cp:revision>20</cp:revision>
  <dc:subject/>
  <dc:title>PowerPoint Presentation</dc:title>
</cp:coreProperties>
</file>