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0D5-DBB5-430F-8123-128363F0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BB3-9E06-4C3F-8B39-42B46BAB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68B-5665-4BB0-AA29-AB78BF56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A8C-CBAD-45D9-9677-2E3FABEB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D01-8D36-44A0-AE93-3B3B2652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6DBE-A16C-4735-BAA7-A01D8902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6ED-5AD2-4F7C-86CA-B1D1B730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094-3A71-4A76-9410-D56C625D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A47-5BC4-4E54-80D1-E9B79E12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58E-E7EA-4200-9F03-DD18BAD0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D5A-10A7-4CA7-87C3-1E997F41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353-FA0F-4E3E-ADE2-6144F4C4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FFCD-E3C3-483E-8294-441F12E88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54200" y="0"/>
            <a:ext cx="76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6Z</dcterms:modified>
  <cp:revision>20</cp:revision>
  <dc:subject/>
  <dc:title>PowerPoint Presentation</dc:title>
</cp:coreProperties>
</file>