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217-D259-41B2-BF88-D0420028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274-F621-4C81-B274-851B4F3D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FC8-27ED-40DC-89DE-02528194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383-4BA2-4B72-BC23-700CB0EC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812-C4ED-4392-8DBF-B832CCCC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D99-2E53-430F-967C-C8D5AC63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DDB-1436-44F0-A685-16BD66E9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398-0BEF-4F8C-B5EA-4EC08E78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E75-E796-4347-B76C-5267BAFF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6C2-52A6-4AB3-B4C1-9ABC0A62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3F1-24A1-4C27-BC4F-E94E0A0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0EC-3425-4A01-9685-17473885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D6D9-236A-433D-A6F0-DE54A599E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0440" y="0"/>
            <a:ext cx="69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7Z</dcterms:modified>
  <cp:revision>20</cp:revision>
  <dc:subject/>
  <dc:title>PowerPoint Presentation</dc:title>
</cp:coreProperties>
</file>