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3E8E1-EEFE-40A3-9801-022A17D657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7.3A | TOTAL GOVERNMENT EXPENDITURES ON HEALTH CARE AS A PERCENT OF GDP: 1929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E89BC-3DEC-4818-8591-B4DFB23C60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FC51-D42D-47F4-9ABB-2A1D5E01A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5FEE-967B-4588-A867-ECD1BDC95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93E4-12EB-4CDA-B1E4-C8BF281FD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3463-30E8-4FAD-892F-933999EE9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2E52-C682-4FEF-8646-624142CA4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C5AB-6FAC-4252-9A17-0D88DEE6B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1DA9-AA77-4F33-98AB-3E656ACA6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831B-B272-472D-8D0E-537D30C8F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BF41-06EC-4C33-84B8-11D8F5146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7810-8742-4B99-A9A9-247B303D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1FB6-C3B3-4FE4-8E61-15058680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F3CE-DC46-46CE-A6C8-7DD70056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DF228-59C9-4075-AE2B-6729AC59FD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7.3a | Rapid growth in the health care sector has been a major factor in the rising share of total national output purchased for services since 1948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54160" y="1473120"/>
            <a:ext cx="8940600" cy="4292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533520" y="1295280"/>
            <a:ext cx="5943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GD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7T13:24:03Z</dcterms:created>
  <dc:creator>Kristy</dc:creator>
  <dc:description>7.3a | Rapid growth in the health care sector has been a major factor in the rising share of total national output purchased for services since 1948</dc:description>
  <dc:language>en-US</dc:language>
  <cp:lastModifiedBy>Jia Yao</cp:lastModifiedBy>
  <dcterms:modified xsi:type="dcterms:W3CDTF">2013-09-06T14:09:52Z</dcterms:modified>
  <cp:revision>30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7.3a | Rapid growth in the health care sector has been a major factor in the rising share of total national output purchased for services since 1948</vt:lpwstr>
  </property>
</Properties>
</file>