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9307-51F9-4EC7-B0B5-E311FD450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3B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8AEF-09DE-42C1-810E-A92E8592A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16C-08FA-47C7-8C65-154AC14D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004D-6EB8-479A-BD0C-A05726EE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D7B-B865-4F59-8AF2-E2BF40B6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3A5-572B-43DE-8A28-9733E11A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122B-A46C-4F25-A9C5-9ECEAC6E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E31B-2C09-4BBD-A5B8-2682CCF3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422B-2B72-4FF4-829A-EB9BA551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32A-2259-4900-96B6-34C81366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77E-773E-437C-8ED5-563BED71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287-C1DE-48F9-85ED-FBC7B3F8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360F-F7E8-4542-81A5-7446D731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3CAC-C863-4BBD-910E-7826ACDA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5200-292E-4AA4-9CC5-A1A87C45B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3b | As a producing industry, the value added by health services has grown more rapidly than for goods or non-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295280"/>
            <a:ext cx="594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alue added as percentage of private industry output (based on current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3b | As a producing industry, the value added by health services has grown more rapidly than for goods or non-health services</dc:description>
  <dc:language>en-US</dc:language>
  <cp:lastModifiedBy>Jia Yao</cp:lastModifiedBy>
  <dcterms:modified xsi:type="dcterms:W3CDTF">2013-09-06T14:09:54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3b | As a producing industry, the value added by health services has grown more rapidly than for goods or non-health services</vt:lpwstr>
  </property>
</Properties>
</file>