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624F-0875-4EF5-AFEF-14D59CC4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02F-358C-44C6-ADFC-4593F3E5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B230-7A83-4D6D-A352-FD6AC150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AE14-1E68-406F-BF4E-E1049A91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0970-7C76-4563-BB07-E7E958DF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443-28A2-4F82-8EE7-BDB0C1DF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E9A9-C8B7-4169-9466-CBB4E9A5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1902-F2E0-4548-8E52-2C3AD7D8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B90-0A8F-4982-ADAA-90130BDF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F34-31C2-45BB-8CAE-F7A8C0B5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8CA7-CF74-4037-BB66-8BE259C1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C752-F903-47D3-834F-66C27D52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F6EF-AE7D-42BC-A182-9C6B6D969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3120" y="0"/>
            <a:ext cx="853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30Z</dcterms:modified>
  <cp:revision>20</cp:revision>
  <dc:subject/>
  <dc:title>PowerPoint Presentation</dc:title>
</cp:coreProperties>
</file>