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1E1E-7B2D-48D0-AA64-1D42D255A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2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B07F-DFA1-4744-A2A9-171E0B6B9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481-30F1-450C-A0FF-1ACA8E99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165-3B0B-4857-9BA7-75FA5DD4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05C-AB35-4021-8C60-2D0B333D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6D8-62E4-4E34-A1F4-F791F8B1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49C-313D-4CC0-A372-D1D7607D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657-83C9-4FA8-B139-49BA9807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B52-BC3C-4A82-915C-699E8F82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252-01B6-42A1-BC15-7BED39B5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8CA-0D13-459C-90FC-56C7136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123-7C79-4270-A0CC-0306EF1B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DBA-610E-4A87-9C79-D2588AC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A19-189E-447F-8B7F-C72203E7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FE93-E281-49E4-8736-9340DC475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2 | Most tax-exempt firms are voluntary non-profit agencies; government accounts for only about 10 percent in most  sub-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09480" y="6018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Medicare and Medicaid are categorized as government health plans. Percentages for health plan enrollment sum to more than 100% due to duplicate cove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2 | Most tax-exempt firms are voluntary non-profit agencies; government accounts for only about 10 percent in most  sub-sectors</dc:description>
  <dc:language>en-US</dc:language>
  <cp:lastModifiedBy>Jia Yao</cp:lastModifiedBy>
  <dcterms:modified xsi:type="dcterms:W3CDTF">2013-09-06T14:09:50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2 | Most tax-exempt firms are voluntary non-profit agencies; government accounts for only about 10 percent in most  sub-sectors</vt:lpwstr>
  </property>
</Properties>
</file>