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D27-E8CE-4B8A-93B7-D4C16B2F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8BD-63CC-4015-B44F-A13AB91E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FFE-E47F-4241-A1C0-D926ABF3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E8E-9D65-4EA2-B00E-E179AC3A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F546-C30B-4C84-BD4E-03D71BC4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D4A-0C76-411C-AF66-F061F3C0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4DC-E845-47D0-914C-4662EE9A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A77B-821F-4E64-B0AF-4BC87B64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AD4-8318-4050-B864-FFFF644B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2C57-B634-4935-AB9E-F1F680DC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BFB9-21DE-4129-BDB4-E66CA078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A7A-B483-4349-82B1-298DB0A8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7295-5FDD-4D04-9E52-40432E871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0440" y="0"/>
            <a:ext cx="696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7Z</dcterms:modified>
  <cp:revision>20</cp:revision>
  <dc:subject/>
  <dc:title>PowerPoint Presentation</dc:title>
</cp:coreProperties>
</file>