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6157-8860-490D-8079-1165F99C8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0A3C-54ED-4F49-8EC0-8B2E3D0F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712A-5A05-49AB-B650-F06BB8CB3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47D7-C6B8-4948-AC16-B575EA21C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1F30-517E-49D3-B585-E0CAD5B1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7D63-8899-4CA0-B7CF-F48EC8DC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91C4-99A0-420B-A757-C15F2DD7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6611-E46D-4B72-AC9A-A8E30A71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97DB-24B6-4952-8213-1CA8CDB1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AC08-0414-428B-84B1-C053A861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844B-6291-4E10-959C-E6DEC2A0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B987-A718-47BE-9B85-E661B9E3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4BAB-9768-4540-A9A4-7B989EB0BA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04840"/>
            <a:ext cx="914400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42Z</dcterms:modified>
  <cp:revision>20</cp:revision>
  <dc:subject/>
  <dc:title>PowerPoint Presentation</dc:title>
</cp:coreProperties>
</file>