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0700-30A2-4BDF-B009-44FA3FDF2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A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C329-CF07-42AA-A9AF-B741AC59B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6A1-1CE4-4563-9FBC-F451ADF2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5D2-904A-4C87-AE71-7B7BC3EE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5EF3-3714-43E8-A552-7F54B8EF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087-1D32-4E90-9F40-C21BE259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A5F-677F-4BBC-A85D-D776B799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6E5-5E70-411C-B256-3D189274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016-7893-48EF-90ED-2393F90A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C83-FD7F-44EF-A577-77CBE191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9F9-B640-4D95-B87C-9EC08DD2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7FC-B6B4-48F9-9FAE-6847C9C2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4C9-34FE-45C0-92DE-625F902B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01D-9004-458D-88F7-E3259F0A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6C55-9D5C-4F62-A56E-95A61F1A3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7.3a | Rapid growth in the health care sector has been a major factor in the rising share of total national output purchased for services since 194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a | Rapid growth in the health care sector has been a major factor in the rising share of total national output purchased for services since 1948</dc:description>
  <dc:language>en-US</dc:language>
  <cp:lastModifiedBy>Jia Yao</cp:lastModifiedBy>
  <dcterms:modified xsi:type="dcterms:W3CDTF">2013-09-06T14:09:52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a | Rapid growth in the health care sector has been a major factor in the rising share of total national output purchased for services since 1948</vt:lpwstr>
  </property>
</Properties>
</file>