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8E4D-875A-4E40-AB57-0942791A3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1 | SHARE OF TOTAL HEALTH SERVICES INDUSTRIES REVENUES GENERATED BY TAX-EXEMPT FIRMS, BY INDUSTRY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F707-F1E1-472F-A6E4-D1ED31A27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BC97-AD3C-4F3B-BD92-CF91B80D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A456-DDA0-4A18-81C8-6EF08C58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4208-59F1-4A6B-B351-0B64BF67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18C9-F628-4538-B88D-08D2937A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853-D23A-41B6-852E-FD08D821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D34-CB51-4A85-BB9F-64692953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42EA-1255-4440-BFDA-03F1EDD4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55A-FB97-4228-94B0-C7FDCE1C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2568-C000-41C6-987F-B66B1FD0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20E-1BAC-4D69-89E8-EE55E4A4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A65E-DC7B-4357-8B82-06EAF889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76FA-7C14-4BFD-8CE2-1D43B3BA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EADB-AE1D-4C03-8BD2-DA9353CEA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1 | Public and non-profit owners dominate the hospital sector and provide a large fraction of nursing home and home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1 | Public and non-profit owners dominate the hospital sector and provide a large fraction of nursing home and home health care</dc:description>
  <dc:language>en-US</dc:language>
  <cp:lastModifiedBy>Jia Yao</cp:lastModifiedBy>
  <dcterms:modified xsi:type="dcterms:W3CDTF">2013-09-06T14:09:47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1 | Public and non-profit owners dominate the hospital sector and provide a large fraction of nursing home and home health care</vt:lpwstr>
  </property>
</Properties>
</file>