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4455-43A4-48B7-BAB5-FB396AE8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CDFE-B968-45D5-83FD-69A074FF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4EE1-B928-41F1-A6ED-BCD01D0C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5E85-2964-4DA2-B512-B40D4B16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CFBF-0D67-49DB-86C2-9196F056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19B3-A8C6-47BC-A54F-8F933CD6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D649-4667-49E8-BA4F-D070A1EA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1CC0-03E9-4D6B-B40A-21F52F21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C4B8-AF73-4746-B699-7D218899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3B08-3D22-46A9-B37F-D00D881D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3364-0CDA-4812-8CD6-661F59E0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1200-A1B5-43E7-9AC2-9D55631F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0BF6-8736-4462-9F34-5C606F202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54200" y="0"/>
            <a:ext cx="76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26Z</dcterms:modified>
  <cp:revision>20</cp:revision>
  <dc:subject/>
  <dc:title>PowerPoint Presentation</dc:title>
</cp:coreProperties>
</file>