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06B9-2393-472F-8351-D8A455D60A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3B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B42F-6284-4B94-B10D-980C99DEC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39E6-A884-4C67-8E9F-05E2CAE1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2DF2-A2A5-410A-96C3-D5D043E1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E9EF-7816-4818-8D9B-D4A29F53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8B14-1FBD-465B-9E6B-38B45349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5AD-2AF7-4059-8DFE-61D006FA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8F44-9C3A-4B0E-ADF8-0E172E88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1EE-28A9-408D-B4DB-91E95B46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D1CB-BD65-44A4-8F5C-295DF84C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20AC-964A-4177-8C84-DFBE96EF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51E1-FE98-4601-8860-E360744E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0404-F70F-46B1-AD45-43C1D197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C224-C2EF-46A0-AD79-611CF6A5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88D4-D152-4484-A30C-F29AFDA70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3b | As a producing industry, the value added by health services has grown more rapidly than for goods or non-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295280"/>
            <a:ext cx="594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alue added as percentage of private industry output (based on current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3b | As a producing industry, the value added by health services has grown more rapidly than for goods or non-health services</dc:description>
  <dc:language>en-US</dc:language>
  <cp:lastModifiedBy>Jia Yao</cp:lastModifiedBy>
  <dcterms:modified xsi:type="dcterms:W3CDTF">2013-09-06T14:09:54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3b | As a producing industry, the value added by health services has grown more rapidly than for goods or non-health services</vt:lpwstr>
  </property>
</Properties>
</file>