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5532-5356-46C3-9150-C7726C177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F062-9237-4DFB-B1D7-82F2D1AAB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A | COMPONENTS OF PERSONAL CONSUMPTION EXPENDITUR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9DC-9361-458C-9A6D-D348F77F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80A-B49B-4E28-A7FD-A8EF9F08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11C-ED59-449E-84E9-FCAC5B2E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6A9-E35E-4C05-90FD-30930E5C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6EC0-44AA-423F-B340-9D819AFA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DC6D-872F-4DA8-8E46-52953890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88FC-9097-479A-B530-DA662830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4289-F442-4435-BE8B-197F9F1E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B892-CE7F-4A49-AB3C-BBEAF42D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5D06-8F60-40E6-B4DF-40B7FAAF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CC81-8D87-4ED0-B53F-6AB65C90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A2E-A5FB-41FB-ADCA-9F5074BA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FDA6-0A11-48D1-9E84-2CB0F6FB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2067-44C0-4C56-8F43-CACD79D1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5956-F1A5-4A53-8556-7AFD97FE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4589-3F3C-4E01-920B-0D3BD214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C0F7-584B-4CAB-ACAD-70465308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5A0-4A59-4E04-9A62-BE616017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0D5-24D2-4268-B978-589E3A1C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235-6F04-4A0D-9FF8-BD0CD230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AE6-9D5F-44F2-89D5-3F622DC6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6B8-AEF8-4A45-9C79-634E4D3F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9BF-C372-4A76-9D89-10B7547F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0F0-207B-4641-852A-6EA3423A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CF82-2943-4A44-B118-448CE1059F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42CD-F017-4603-BE8F-5FF879E036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a |</a:t>
            </a: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lth care is the second largest component of personal consumption spending by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5289120" y="563868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sonal consumption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$10.1 Trillion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42756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a | Health care is the second largest component of personal consumption spending by families</dc:description>
  <dc:language>en-US</dc:language>
  <cp:lastModifiedBy>Jia Yao</cp:lastModifiedBy>
  <dcterms:modified xsi:type="dcterms:W3CDTF">2013-09-06T14:06:0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a | Health care is the second largest component of personal consumption spending by families</vt:lpwstr>
  </property>
</Properties>
</file>