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E6E-F408-47CC-A22D-1C8401DA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3E5-85F0-43A0-8C01-5337F97E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D08-9F52-4515-B472-C064F08D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73D-AB2F-4AD2-A82C-76A15A55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0DB-7DF8-4510-8E2B-319BD8A0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D73-A6F5-4726-976C-14A1BFE8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39C-15B1-4F5F-92AB-43ED689A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2F9-C8B6-40C8-8B4A-4B71791E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AB8-A908-49CE-8AC5-6029E0D3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4CD-F41B-4EAB-B8F2-6C9B4BF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EAF-CFCC-4CCB-A48A-9CFDCE5F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092-464E-46A3-8392-DB96ADD8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5659-6284-4DD7-8213-557BE4FE5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6Z</dcterms:modified>
  <cp:revision>20</cp:revision>
  <dc:subject/>
  <dc:title>PowerPoint Presentation</dc:title>
</cp:coreProperties>
</file>