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1C89-9328-43F9-8473-466C278A2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B |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1313-72F7-422F-989D-13DC0DACE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D2D-3DD2-4E3E-B2FD-DD564923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93A-774B-4DA3-A1BC-948EF6C8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838-2A2B-4D85-B552-669350A1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F3C-F333-447D-B0DB-030524E0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D595-AB3E-4D9F-8F94-50FDE589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EF81-62C2-4DC5-BD59-5C0D8525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823B-C5CB-44B0-9E6E-26D30EDF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26ED-D624-4393-A045-971CE12B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2ECE-EEC1-4298-ACFE-FBF7BCB2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E28A-7A48-436C-90FD-894F7C77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2052-2C80-46B3-9C0A-0DB75032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29C-F02A-46F7-A934-8D4E6127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DE68-5917-4B07-8D87-27B36758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CDB5-5B7E-40E4-8CCC-4C41DEBF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7930-031C-4D97-93CC-B58A136A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0A8A-666E-469E-99DA-03350903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8BE1-2A5C-4559-BE6D-39B6A3B2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779-7091-40BB-920A-5110CE3C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9CB-4067-4BAB-A5FA-E249B90C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126-6E11-4241-A614-798CB80D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BD9-816F-41FA-BDF4-3B858F2F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A6F-3D6A-4E91-9AEB-9F81C60C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D7D-9330-4D83-AD12-A7D60FB4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97E-2426-4F55-9638-5BF8EF78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3AC3-85B3-488D-A9A1-7D57394D23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1BD1-4B15-4D9F-B3C0-4EAD71452F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b | Real household spending on health has increased much more rapidly in elderly households than i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207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b | Real household spending on health has increased much more rapidly in elderly households than in non-elderly households</dc:description>
  <dc:language>en-US</dc:language>
  <cp:lastModifiedBy>Jia Yao</cp:lastModifiedBy>
  <dcterms:modified xsi:type="dcterms:W3CDTF">2013-09-23T17:01:3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b | Real household spending on health has increased much more rapidly in elderly households than in non-elderly households</vt:lpwstr>
  </property>
</Properties>
</file>