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DD7-4CDA-4AE9-A349-84B76F78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1193-A213-4DD7-8EEE-729751B5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4E3-1D0E-4526-B6A4-401F5388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041-0E2E-4599-9AEE-6E75831E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EF3-55C3-4327-9C7B-AEAB4333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177-C66A-4724-8546-BCE2C31B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21DB-BF84-4423-A4EF-8748C764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3475-8819-42D3-AE54-9DCFCAD4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F23-B396-4BB6-A45D-4270B4AA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DAD-6ABB-48B9-A38F-83B45511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9939-0988-4072-9E3E-20CBD8FB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3DF-172F-447B-A3B4-4481D042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6ACC-7F40-4E5A-9F17-FE27DD136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0Z</dcterms:modified>
  <cp:revision>20</cp:revision>
  <dc:subject/>
  <dc:title>PowerPoint Presentation</dc:title>
</cp:coreProperties>
</file>