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6C8D4-14BD-4E96-B657-BFB6CE4C5E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6.5 | PERCENT WITHOUT COVERAGE, BY SINGLE YEAR OF AGE, MARCH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EA154-35E7-47EC-8EF2-5FE47A824A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4DF3-9832-497D-9D54-2524DFD38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9893-677C-4324-B2A5-0DF4A6A45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824D-808E-4140-A9E8-5C4AFD61B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6B83-84F0-4D36-8688-20CD230FB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5CE6-3DAC-4660-B847-5C5ACC16F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A76F-C241-48CD-999A-4F5001DA3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97FA-A3BC-4FA6-B4AD-807DAC3BB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8ABD-868A-4C6F-B471-6A6D15A0E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B20F-4133-4523-ACAD-DF60F59B0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1993-8436-447B-A5F6-A22280F0A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9704-26D3-4564-9771-D5A0C27A7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4731-1887-49F4-A22B-992780744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3C0D4-5C7F-4CC2-BC96-A7BAD4B1E9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6.5 | The probability of being uninsured is far higher among young adul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863640"/>
            <a:ext cx="8331120" cy="5511600"/>
          </a:xfrm>
          <a:prstGeom prst="rect">
            <a:avLst/>
          </a:prstGeom>
          <a:ln w="0">
            <a:noFill/>
          </a:ln>
        </p:spPr>
      </p:pic>
      <p:pic>
        <p:nvPicPr>
          <p:cNvPr id="50" name="TextBox 1" descr=""/>
          <p:cNvPicPr/>
          <p:nvPr/>
        </p:nvPicPr>
        <p:blipFill>
          <a:blip r:embed="rId2"/>
          <a:stretch/>
        </p:blipFill>
        <p:spPr>
          <a:xfrm>
            <a:off x="450720" y="914400"/>
            <a:ext cx="2981520" cy="512640"/>
          </a:xfrm>
          <a:prstGeom prst="rect">
            <a:avLst/>
          </a:prstGeom>
          <a:ln w="0">
            <a:noFill/>
          </a:ln>
        </p:spPr>
      </p:pic>
      <p:sp>
        <p:nvSpPr>
          <p:cNvPr id="51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4T11:52:14Z</dcterms:created>
  <dc:creator>Kristy</dc:creator>
  <dc:description>6.5 | The probability of being uninsured is far higher among young adults</dc:description>
  <dc:language>en-US</dc:language>
  <cp:lastModifiedBy>Jia Yao</cp:lastModifiedBy>
  <dcterms:modified xsi:type="dcterms:W3CDTF">2013-09-06T14:06:25Z</dcterms:modified>
  <cp:revision>260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6.5 | The probability of being uninsured is far higher among young adults</vt:lpwstr>
  </property>
</Properties>
</file>