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2239-F49B-4C6E-968E-BB888610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B15-A933-4D6C-8302-DBE0921E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A1F-CA78-4E53-B7F8-F65A664E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C79-59A5-49C2-9959-8AF8F60B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A68-D514-4659-89E0-66C3F00E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3EB-546D-42A6-988D-0A766275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450-276F-461E-A3D2-CAA60A4C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C87-1C23-4D87-BD91-300E9310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56E-8FC4-4ADA-B005-1D6E7931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C31-5C73-41E2-BEE7-627269A8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5D8-FBC6-4D55-B41F-7C677C0C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916-CA2C-4486-83A7-4FF3DB5A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39D7-8859-43C8-97D3-BA0B6621C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6Z</dcterms:modified>
  <cp:revision>18</cp:revision>
  <dc:subject/>
  <dc:title>PowerPoint Presentation</dc:title>
</cp:coreProperties>
</file>