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3F6E-8CBA-4FB4-8DAB-63D246AB9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3B | MAJOR COMPONENTS OF HOUSEHOLD EXPENDITURES, HIGH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D6E9-C3AA-4A95-B208-C5212E755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9DB-1FAD-4761-AE76-B4338D06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C89-B4D1-4B3B-BB84-5B751136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BCA-D4B2-4301-91F0-A8B04622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ED3-976B-4499-AAD6-4738AFCD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448-0F81-45AE-BCB7-0FA3E7CB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32A-800C-499B-8E12-A0E76718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0E4-D082-4CE4-913E-B72EBFA2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BB5-843D-464D-A3B8-D31EC8F4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BDC-B869-4BB9-87B2-7FED4F41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E9C-5F1C-428C-B492-AB0CBA10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723-1DDF-4023-B6E5-872A1142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80A-8AFA-49D1-8710-6549B221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AD68-87F9-4C0A-869B-AF9B06CF0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b | Direct health expenditures constitute less than 1 in 20 dollars spent by the high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97160"/>
            <a:ext cx="855972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b | Direct health expenditures constitute less than 1 in 20 dollars spent by the highest income families</dc:description>
  <dc:language>en-US</dc:language>
  <cp:lastModifiedBy>Jia Yao</cp:lastModifiedBy>
  <dcterms:modified xsi:type="dcterms:W3CDTF">2013-09-06T14:06:19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b | Direct health expenditures constitute less than 1 in 20 dollars spent by the highest income families</vt:lpwstr>
  </property>
</Properties>
</file>