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32B2-3EF4-4EA4-8F4B-EE3180DB2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EA12-2549-491C-B7DF-019A5BEC2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b | Publicly Financed Share of Personal Health Expenditures for Children, Adults and the Elderly, 1965, 1977, 1987, 1996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1A4-E5B7-434C-BFB2-B79EFB75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4AC-47BD-49AC-AD94-3F8DC06E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3B3-39D8-44BB-AC2F-171693B7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116-FD6E-4FD6-9B02-138189A3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1B68-4547-4A08-92D8-2C2AE1E5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E596-48BE-4DC3-9C1D-08E61F07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B657-06F5-477E-989D-0D59A5ED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7556-BBD8-480F-80A7-65644676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B2D2-3A89-41B5-BDF6-3EDBED4C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1ADF-CCD5-47A0-AA82-524CA8CB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E480-42BB-4489-BEBB-83C5514B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D80-D912-4834-BA74-47F7333E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B666-C38F-4365-8EC4-FBFC63A5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5AA6-7860-4E47-828C-7EDE5FCD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4AFB-77F6-42A0-A812-935A2DA5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6753-5B3A-481A-92BA-7FBC28B3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8B41-18D7-4297-8DEF-C9409D00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F07-7A14-427A-91BF-7F73FD64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B97-9AC5-4DF2-8DAD-9E82E508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E37-1A46-4B6B-BA77-B5B95EA5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D2A0-0745-4C76-9549-30FC7EA0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560-04CB-4914-BF5F-467074D3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41C-2A80-43FF-AE9A-4A51A8C1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45C-6ECA-4CCB-9BF7-13A4493E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1797-0244-4D94-AAB1-BB404AECC2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21A6-FA14-4451-A83F-B8707DF0D7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b | The elderly depend most heavily on publicly-provided health care, which covers about two thirds of their medical co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457200" y="5562720"/>
            <a:ext cx="81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public insurance includes Medicare.  Since a portion of Medicare spending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d through voluntary premium payments, the entire amount should not be view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taxpayer-financed spending even though Medicare is categorized as a Federal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nding in the standard National Health Expenditure Accounts framewor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b | The elderly depend most heavily on publicly-provided health care, which covers about two thirds of their medical costs </dc:description>
  <dc:language>en-US</dc:language>
  <cp:lastModifiedBy>Jia Yao</cp:lastModifiedBy>
  <dcterms:modified xsi:type="dcterms:W3CDTF">2013-09-06T14:06:23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b | The elderly depend most heavily on publicly-provided health care, which covers about two thirds of their medical costs </vt:lpwstr>
  </property>
</Properties>
</file>