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096C-22F8-4F8B-BF46-15B8C4B2AB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8A | HEALTH CARE SPENDING AS A SHARE OF AVERAGE ANNUAL PERSONAL CONSUMPTION EXPENDITURES, BY HOUSEHOLDER AGE, 1984, 1996,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A328-CAF7-4AF9-86EF-5B0EDE1A30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6F77-0E52-43B6-9C7E-4F58BD19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640A-0E6E-4F5E-A12C-7460A91B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ABDC-E4D7-4BB4-AEF1-9C3DA76F7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5764-4C78-4B97-BF19-590D8F4DD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B049-F990-405C-92B3-D6ED07C9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6B0D-6C22-460B-BE76-766C62F6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EF03-0813-42BE-BFB9-B37BDB06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F3BC-A2E8-4815-A185-BBE62C8B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8C39-6060-410B-906F-A33267A9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6CCD-2195-4078-93BC-387913DD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3CD3-B299-4A1D-9E39-BB844E07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96C1-D098-48E8-88D6-21BF195A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CD05-D59B-4571-B04A-1CD52BD738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8a | The share of consumption spending devoted to health has grown faster in elderly households than non-elderly househol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2235240"/>
          </a:xfrm>
          <a:prstGeom prst="rect">
            <a:avLst/>
          </a:prstGeom>
          <a:ln w="0">
            <a:noFill/>
          </a:ln>
        </p:spPr>
      </p:pic>
      <p:pic>
        <p:nvPicPr>
          <p:cNvPr id="50" name="Chart 6" descr=""/>
          <p:cNvPicPr/>
          <p:nvPr/>
        </p:nvPicPr>
        <p:blipFill>
          <a:blip r:embed="rId2"/>
          <a:stretch/>
        </p:blipFill>
        <p:spPr>
          <a:xfrm>
            <a:off x="406440" y="3149640"/>
            <a:ext cx="8331120" cy="1854000"/>
          </a:xfrm>
          <a:prstGeom prst="rect">
            <a:avLst/>
          </a:prstGeom>
          <a:ln w="0">
            <a:noFill/>
          </a:ln>
        </p:spPr>
      </p:pic>
      <p:pic>
        <p:nvPicPr>
          <p:cNvPr id="51" name="Chart 7" descr=""/>
          <p:cNvPicPr/>
          <p:nvPr/>
        </p:nvPicPr>
        <p:blipFill>
          <a:blip r:embed="rId3"/>
          <a:stretch/>
        </p:blipFill>
        <p:spPr>
          <a:xfrm>
            <a:off x="406440" y="4521240"/>
            <a:ext cx="8483400" cy="238752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8a | The share of consumption spending devoted to health has grown faster in elderly households than non-elderly households</dc:description>
  <dc:language>en-US</dc:language>
  <cp:lastModifiedBy>Jia Yao</cp:lastModifiedBy>
  <dcterms:modified xsi:type="dcterms:W3CDTF">2013-09-06T14:06:34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8a | The share of consumption spending devoted to health has grown faster in elderly households than non-elderly households</vt:lpwstr>
  </property>
</Properties>
</file>