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861-43B4-4D19-8238-4D751376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907-B6CB-49FB-9428-C038966B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4D2-3593-4B5B-91F9-08497DC4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463-B8C6-45E9-812A-EE8FC90F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705-856F-4FAB-80B2-3D7283B0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B54-BC77-4D86-AF58-0605E3BD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497-4464-4B80-B762-A0EDD754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F34-BB65-44F1-886F-CDF16B50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070-9A76-4D27-A79E-92DC69A5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F65-AD22-4F47-92AB-4FF8D782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8AB-ABB3-4E41-9293-191CEE45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F4F-84F5-4334-BB63-2FB4CA90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BB55-E796-4DE9-893B-06EA8158F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202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3Z</dcterms:modified>
  <cp:revision>18</cp:revision>
  <dc:subject/>
  <dc:title>PowerPoint Presentation</dc:title>
</cp:coreProperties>
</file>