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39D9-B4BF-4F5C-A499-EEDE0A6692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6 | NUMBER OF UNINSURED AND PERCENT WITHOUT HEALTH INSURANCE, 1940-20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Tahoma"/>
              </a:rPr>
              <a:t>Source: Author’s estimates based on CPS, HIAA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B088-F0A3-4C42-A952-7CBA5F560B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F94D-1812-456D-9582-476FBCAE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5BB7-247B-4131-A4A9-94E61FB5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D6BC-1882-47B8-8153-AB26131D7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07A9-5EC6-4C5B-90D7-269C65CEB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3442-912D-49F1-94B2-99266C8A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F2EE-21BD-4B16-858B-FFA3DF7B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D861-47CD-49B6-AE39-688C4715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D5BB-E200-4450-AE0A-F05CCDB9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86E6-D2BE-4A26-91A8-E1E7A94B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367F-0C76-4B0A-84C9-12F4506E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0F02-5688-4578-A7D7-9AE8110E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A154-BC06-4982-9281-05F3B70E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636F-ABBF-4821-ADA1-8DA24CB516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6 | The risk of being uninsured has declined by more than 80 percent between 1940 and 201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863640"/>
            <a:ext cx="8331120" cy="551160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1066680" y="914400"/>
            <a:ext cx="2286000" cy="5126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325440" y="5943600"/>
            <a:ext cx="865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e: Figures simulate the gross number of uninsured as if measured by today’s Curren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pulation Survey. No adjustments have been made for the 10 to 20% overcounting o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nsured by the CP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TextBox 1" descr=""/>
          <p:cNvPicPr/>
          <p:nvPr/>
        </p:nvPicPr>
        <p:blipFill>
          <a:blip r:embed="rId3"/>
          <a:stretch/>
        </p:blipFill>
        <p:spPr>
          <a:xfrm>
            <a:off x="4979880" y="914400"/>
            <a:ext cx="3140280" cy="5126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6 | The risk of being uninsured has declined by more than 80 percent between 1940 and 2010 </dc:description>
  <dc:language>en-US</dc:language>
  <cp:lastModifiedBy>Jia Yao</cp:lastModifiedBy>
  <dcterms:modified xsi:type="dcterms:W3CDTF">2013-09-06T14:06:28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6 | The risk of being uninsured has declined by more than 80 percent between 1940 and 2010 </vt:lpwstr>
  </property>
</Properties>
</file>