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6416-A232-4989-B14E-AD07C98EA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3A | MAJOR COMPONENTS OF HOUSEHOLD EXPENDITURES, LOW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85EB-CF90-44FB-8F6A-D7D3D5649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EAD-0118-4566-A757-FFFE24CB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93D-476C-4E82-81D8-EC439AA3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8CB-7E2D-434B-8F23-CBBBF8E8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ACF-8893-4A2C-85A2-55840B2C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BA1A-3D17-4CDE-B11E-7D25BA2C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B82-DA18-43B7-A31E-5E3107BE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1D1-0D64-4F84-8D7E-0ADC25FD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064-CFB7-4569-BB18-E4BAE307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26A-6B91-48F7-B8D4-2AFF45AF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9C5-9964-4228-85F4-65583AC3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C86-731F-4E6F-8E63-66BCE83D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9D0-A0DE-49CD-92E7-FF99D84D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4877-6B37-49CB-814E-268D70659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a | Direct health expenditures constitute only 1 in 16 dollars spent by the low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a | Direct health expenditures constitute only 1 in 16 dollars spent by the lowest income families</dc:description>
  <dc:language>en-US</dc:language>
  <cp:lastModifiedBy>Jia Yao</cp:lastModifiedBy>
  <dcterms:modified xsi:type="dcterms:W3CDTF">2013-09-06T14:06:17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a | Direct health expenditures constitute only 1 in 16 dollars spent by the lowest income families</vt:lpwstr>
  </property>
</Properties>
</file>