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9D4-B625-4C2D-B646-9C69E0DC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508-0E66-463B-A924-3A354618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212-74FA-4A6F-ADA8-2ABD30B4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63C-81C1-4173-96D3-CDA263B4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2E8-1F7B-4981-8DCB-6DEE9E39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C71-4177-4B61-80DB-DD3A341C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6F3-73C2-4638-9816-A6087567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272-0F60-4B8D-BC1B-FC66FD05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5FA-C0F9-4765-91F4-4AB5D746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1B3-AC9D-436D-A7D0-268E26A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077-6422-4593-9648-4E6BB982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241-A293-4E5C-890D-C89104A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EC0C-F475-4D40-A1FF-B500DCBD3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8Z</dcterms:modified>
  <cp:revision>20</cp:revision>
  <dc:subject/>
  <dc:title>PowerPoint Presentation</dc:title>
</cp:coreProperties>
</file>