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AAD-E156-4BA7-BB12-7C7742DF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EDA-2926-4F0C-97BD-6564F483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462-E0EF-43CA-9F97-5943B75A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E4C-273B-4334-A398-5644FAEE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B62-4F9D-4949-BF8A-4F900AC9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04F-46C4-458D-B2C3-4943E7A6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AB9-7F54-4B76-9C38-3BDB7F9E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799-2748-4B48-AB67-4F2FB3DA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880-D8BC-46BB-8D5A-5DDC02DB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5E1-4D27-49ED-9D94-56AE8163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5E9-A593-4E8C-93BD-C84CAF21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469-23B4-41C8-93EA-3E04F746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21B6-88E5-43AB-A64C-0C81CD7E3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0Z</dcterms:modified>
  <cp:revision>18</cp:revision>
  <dc:subject/>
  <dc:title>PowerPoint Presentation</dc:title>
</cp:coreProperties>
</file>