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B4C50-2928-40F3-B3C0-AFEC7FDFD4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39745-D95C-49D6-ACD8-C965D9EA52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6.2B | HEALTH SPENDING RELATIVE TO TOTAL SPENDING, HOUSEHOLDS, BUSINESSES AND GOVERNMENT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E97D-BB44-4758-A104-B5126061E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D5D8-0038-4D7D-A890-F4A961E36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2395-ED93-49B5-9712-4B0B19084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CCE1-483D-4DC5-A4AD-5615A9BDB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83068-5464-4D44-96E0-C7D88B68E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35A10-D652-45CD-A2A6-F7B6668D7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6BDF7-D159-4F20-9A66-A297B87C0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8EDC9-926F-4F9F-8C55-F6E230444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B9B00-CCE9-4363-8C51-B6EA00F57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EA2AD-2A90-4029-873D-B6E94BC77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52FA7-1F7E-48FE-AC00-9372FE84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4143-DB58-48EB-B567-D6EE67A24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DA9E1-3A36-410D-B8B3-0D0D7F47C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D80AC-F04A-4A0B-8472-BFB72F9B5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30785-0987-43EE-A1B8-464616B5E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1E7BC-082C-4B03-81D7-21B837838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50ECF-CDFB-4BA6-BE45-8636F0096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16CD-9566-4764-8DF8-06211E57D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7BA0-E21B-4AA6-9A4C-DDB5B5866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47CF-C2D8-4F1D-B7B5-05C3E2A56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8452-6391-4FF3-ACDD-B9CC8B21B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19EF-2F39-4D92-82FB-4C3F5DD41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CE34-B36D-4B91-B670-17E0DA25C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F835-A253-450C-8D83-F24CA006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5DA77-DAB8-42ED-8CA5-A4AF127ADF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05B2F-B31A-46A2-A3F6-E71BDA11A3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055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2b | Business-paid health care has increased modestly relative to wages and salaries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406440" y="558720"/>
            <a:ext cx="833112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TextBox 1"/>
          <p:cNvSpPr/>
          <p:nvPr/>
        </p:nvSpPr>
        <p:spPr>
          <a:xfrm>
            <a:off x="457200" y="91440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atio: sponsor-paid  health spending to totals shown (dolla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6"/>
          <p:cNvSpPr/>
          <p:nvPr/>
        </p:nvSpPr>
        <p:spPr>
          <a:xfrm>
            <a:off x="479520" y="556272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In the framework of “health sponsors,” business health expenditures include the private employer share of health insurance premiums for workers and dependents, Medicare Part A and workers’ compensation, and industrial in-plant health service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7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2b | Business-paid health care has increased modestly relative to wages and salaries  </dc:description>
  <dc:language>en-US</dc:language>
  <cp:lastModifiedBy>Jia Yao</cp:lastModifiedBy>
  <dcterms:modified xsi:type="dcterms:W3CDTF">2013-09-06T14:06:15Z</dcterms:modified>
  <cp:revision>26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2b | Business-paid health care has increased modestly relative to wages and salaries  </vt:lpwstr>
  </property>
</Properties>
</file>