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60D-5643-447A-9933-9DFBE08D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5B6-E493-4109-894B-583F2297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05C-6BD3-426A-952E-EAFC0712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FBB-E4F1-4AE4-AA81-3F9C1E48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D3E-C25D-4D75-BF39-4374E37F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AE9-212D-464A-8FEE-E4146390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B28-7619-41A9-B757-D57E836F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6E9-32A9-4BF7-9A4B-3113721D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FA1-FE73-4CCA-8D67-0D21B74A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A82-A812-4037-8ADE-44877D60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E5E-151E-4DAC-9DD9-8178E585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DFE-63C9-4E6B-8487-EB8BDE22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B291-70F1-4B00-BB02-396A587B0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4920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1Z</dcterms:modified>
  <cp:revision>20</cp:revision>
  <dc:subject/>
  <dc:title>PowerPoint Presentation</dc:title>
</cp:coreProperties>
</file>