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BAA-266A-4367-829E-4D140851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41E-CB30-4D6A-A83A-FA1D01CA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4EA-5389-4C6C-933B-CAF216E7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FCB-D785-4CB6-A96D-6E17CDE3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E26-8204-4AB1-BCC4-CBA9746C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6D0-0140-4FA5-BA4D-D04203E7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57B-98AB-4B63-A0B9-2C6E3EF6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274-A04A-4C04-816A-93DB2202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A42-A98B-427B-A083-C2704796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F91-A791-4547-BBE5-3D84318F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2A8-B233-41D7-9DDA-5338C055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B493-C216-48EA-9FAA-B42FA5E7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898F-E858-4B3E-BE12-B25A0AE46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9072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9Z</dcterms:modified>
  <cp:revision>20</cp:revision>
  <dc:subject/>
  <dc:title>PowerPoint Presentation</dc:title>
</cp:coreProperties>
</file>