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168DA-49AF-4035-970B-A64DED737E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822BA-EAE4-414A-9F14-FF2D0F458C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6.9B | RATIO OF HEALTH SPENDING PER CAPITA FOR ELDERLY RELATIVE TO NON-ELDERLY IN SELECTED INDUSTRIALIZED COUNTRIES, 1960, 1984, AND 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2B00-7825-4B79-A8E1-62E62F762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6F11-2CA0-4007-A82B-2A4B9FAA4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380A-8138-457F-A4EE-2270C0C2A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2FD0-4BE2-4134-A08F-79D3F8A64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9E1E5-EA2A-4EA0-B3D3-10E2F64B9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1C5BB-DF76-4452-AAB6-768C7F650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EF60E-CCAF-47C5-A543-DCFC2521F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B268E-DA89-4AEB-9C30-EABA9168D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D96F4-161B-4B35-8F28-58A9CDC89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76934-C6EE-4021-992F-066B477D3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D5648-BD01-4DAD-BC61-23C2B919E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FF78-8620-4EEE-A7FB-21471F3B9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1A905-93FD-4C3B-ACB5-D67E175A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B79F5-D379-4DE4-9968-21683D14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9BE5A-1EED-417C-8F61-293C8E713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77588-65C7-46B6-B44F-6C4A5569A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F1E34-BF19-49AA-ABC2-31AEACB9D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98D0-944C-4363-A059-F642A7CB3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D90C-7C20-4787-AD85-9396B4E36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8211-AAAD-4C49-A055-C5D0084FF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AA9E-A711-42C6-8585-F468BD3B9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314E-E86A-4743-8A65-44F3F1384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E446-B1AA-447E-B51E-14BE8E39E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F3D0-EE46-4D2A-9FC0-B4C730E1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BDBE9-E783-43E0-93D9-FE770A6B0B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CE047-346A-4CE6-ADC0-236CFD03B8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9b | The ratio of annual health spending for elderly relative to non-elderly is similar in U.S. and other countr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457200" y="6027840"/>
            <a:ext cx="79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641160" y="622764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9b | The ratio of annual health spending for elderly relative to non-elderly is similar in U.S. and other countries</dc:description>
  <dc:language>en-US</dc:language>
  <cp:lastModifiedBy>Jia Yao</cp:lastModifiedBy>
  <dcterms:modified xsi:type="dcterms:W3CDTF">2013-09-06T14:06:41Z</dcterms:modified>
  <cp:revision>26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9b | The ratio of annual health spending for elderly relative to non-elderly is similar in U.S. and other countries</vt:lpwstr>
  </property>
</Properties>
</file>