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9339-4D26-4FE5-A0C3-EF1865D9F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3A | MAJOR COMPONENTS OF HOUSEHOLD EXPENDITURES, LOWEST INCOME FAMILIES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2DA1-FFD3-4A0B-A162-D4CB14EB4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87EE-D0C3-48E6-9BF7-972ACA3E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4FFC-373B-4C28-AD32-F50D0E18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4FC8-6072-4E10-ACF1-0CFBD3B2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B370-C083-4CEB-A99B-8C5E5012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80E8-FF81-4A66-B193-8A61F4C9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AFCC-5D7C-44B3-8DA0-0747CA6D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AEFC-4816-45E3-805B-01BCFAEF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78B0-0ED0-453F-8461-E90D5503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34BD-CAEB-409E-ADBF-47A5FC1A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69DC-47E2-4E63-98DD-C7B76290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1B0E-7EA5-405C-BD40-CCD38D37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5C53-C8FB-4C1D-80D1-4F3849F7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B1E4-E28C-43C1-9AC0-623F58760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3a | Direct health expenditures constitute only 1 in 16 dollars spent by the lowest income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24452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676520" y="6324480"/>
            <a:ext cx="64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jor Components of Household Expenditures (ranked by size in 200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3a | Direct health expenditures constitute only 1 in 16 dollars spent by the lowest income families</dc:description>
  <dc:language>en-US</dc:language>
  <cp:lastModifiedBy>Jia Yao</cp:lastModifiedBy>
  <dcterms:modified xsi:type="dcterms:W3CDTF">2013-09-06T14:06:17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3a | Direct health expenditures constitute only 1 in 16 dollars spent by the lowest income families</vt:lpwstr>
  </property>
</Properties>
</file>