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813A-0DD6-4E63-8B8A-A324CB1AA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50CE-3B74-4F73-A2DF-10C28152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3FED-F4A6-425C-9A35-5BA45D470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D3DA-1D50-4B22-8A7A-6CA4700C7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E8F6-C308-434F-8EA8-51170C0A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CF0A-9026-4BFD-BEBB-425B6008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C507-80CB-49B5-8428-D3BC4B93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966E-FBFE-42D4-BDA7-66C16FBE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5B16-62B2-4343-B5B2-A218CE9F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A7D2-697E-4FD0-B4E0-AD7D6FF2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395A-8996-4600-995A-D58FCAF6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912A-D9EE-4B81-A37C-7DDBE3C8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D636-1307-4745-AC91-6B040F9F8F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7920"/>
            <a:ext cx="9002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2Z</dcterms:modified>
  <cp:revision>18</cp:revision>
  <dc:subject/>
  <dc:title>PowerPoint Presentation</dc:title>
</cp:coreProperties>
</file>