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99E-FF07-4B54-8E6D-FB7334CF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854-F872-4A1B-974D-7406CFDC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A5F-8FF2-432A-9E04-7B2CC9D9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45F-F7A9-40E7-91BF-F99130D4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D9E-325D-42FF-8537-79F39D79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CEA-260B-42EF-A50A-7F19BA4A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7C2-EEEE-4C2E-BEA2-6CCC801A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F2F-0E90-46A9-9372-E905714E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018-6B6F-4888-BB67-502FB01A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456-44DA-4073-B62B-022F9260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876-9231-4021-A23B-4968DE39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AB6-A64D-412D-83F4-7698E57E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4D30-77E4-457D-9F99-CE6734E22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6Z</dcterms:modified>
  <cp:revision>20</cp:revision>
  <dc:subject/>
  <dc:title>PowerPoint Presentation</dc:title>
</cp:coreProperties>
</file>