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6F7C-64F4-4B6F-B3A5-A12F78D91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0135-3B37-4BAC-AEE6-2FD0E1DAC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b | Publicly Financed Share of Personal Health Expenditures for Children, Adults and the Elderly, 1965, 1977, 1987, 1996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EBE5-BB88-4964-A406-3F3109D0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29AF-5EB5-43F5-8A41-AFE380C2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A29-56FD-4DA3-BD3D-83F4E4E0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4B63-B7A4-4297-8E35-0DCE975D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EAC1-78BC-449F-A1B7-70C1B26F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F1AA-CB23-4A68-AC2D-2541C354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9F3C-CA86-415D-B4BA-FA8BE968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E860-247D-4B01-903F-740A115A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BCE6-ED63-4185-9DF8-E2561951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182F-3F56-48D2-A9A1-CB885765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3B14-911D-4AF3-A856-F4C837DE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4A5E-34E3-4A07-A7AA-B8FCA64F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F2C1-452C-40DF-993B-5FB86903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EA61-CE3A-4105-B618-405A0985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FF3A-9407-453C-A4A9-96E78A0B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32D4-B40A-44D6-A497-9041EF42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B159-E957-4503-BB3B-CEC6B8EF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D43-143D-4E73-8E8D-E7FBC2B6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E323-09E5-4BD4-9DDD-FBB7D2A9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3E1-10C7-46A1-BD66-C1C74042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2D06-EFD8-4196-ADE3-8EB5A07A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2028-3529-458A-8058-B81AE6D1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579F-25EE-4D81-82E8-7C44D662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D70-970B-405C-84E2-1DB7FAFE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0853-BA2B-401A-A4C5-35BAFEF75E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4B2B-D8E0-4320-B82F-D88B4FD2B3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b | The elderly depend most heavily on publicly-provided health care, which covers about two thirds of their medical cos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457200" y="5562720"/>
            <a:ext cx="81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public insurance includes Medicare.  Since a portion of Medicare spending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id through voluntary premium payments, the entire amount should not be view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taxpayer-financed spending even though Medicare is categorized as a Federal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nding in the standard National Health Expenditure Accounts framewor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b | The elderly depend most heavily on publicly-provided health care, which covers about two thirds of their medical costs </dc:description>
  <dc:language>en-US</dc:language>
  <cp:lastModifiedBy>Jia Yao</cp:lastModifiedBy>
  <dcterms:modified xsi:type="dcterms:W3CDTF">2013-09-06T14:06:23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b | The elderly depend most heavily on publicly-provided health care, which covers about two thirds of their medical costs </vt:lpwstr>
  </property>
</Properties>
</file>