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372-D3E5-47F4-B86A-38D0E0F2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035-EC66-46CF-BF3A-FB2CA608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FE3-05FC-4898-9BEB-51A851E1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B12-EC34-4E07-A646-9D8890AA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3B6-1B58-43BF-979A-1DE46727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54C-1D8C-4BEF-AA20-7D675D44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366-80AD-4147-A90F-C96D4334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BBE-82A8-4F75-BBCA-AC7090EB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0DF-7415-4A08-AC18-F25E37FE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392-3D47-4DAB-8BAA-8D75AC8E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2C7-8EA8-426D-BB81-B004C63E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44E-301D-488A-BF76-3659DE49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04F7-05E8-4DD3-A1BE-57E48ECD9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3Z</dcterms:modified>
  <cp:revision>20</cp:revision>
  <dc:subject/>
  <dc:title>PowerPoint Presentation</dc:title>
</cp:coreProperties>
</file>