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EDD6-0CD2-4E0D-8D0B-15728905F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F811-1E0F-42CC-88E3-653D7CF6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C2AB-3B5D-426E-B11C-65AB8AAE8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AFB1-58A0-45B6-894D-5384C9C6E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F807-DBEC-4113-AE19-248FC05B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AEE4-59EB-4CD3-930D-1B33FB02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8AF4-9045-47BA-BCB8-8E8F3A7D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0345-AB6F-44A7-A9C9-16141682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B38A-0529-4813-955D-670D3EF8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CE32-6401-4DC2-BF0F-9A9BB66A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3507-91C1-4415-BCCB-7AB3602B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5B3D-D589-4F9F-8468-7FE2A25D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DCD9-27BA-4089-9413-41A9AA78AA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9200" y="326880"/>
            <a:ext cx="9064800" cy="615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9Z</dcterms:modified>
  <cp:revision>20</cp:revision>
  <dc:subject/>
  <dc:title>PowerPoint Presentation</dc:title>
</cp:coreProperties>
</file>