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356-878E-49DD-90A8-2C3D8090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9CA-8049-41F0-970D-3B8052C5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BCE-69C5-4333-A9EF-5F9754A6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E61-E37A-4174-BC79-D535CCFE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D8D-DDF0-4A8E-8A83-AB743F4E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EC1-7D2F-42AC-B084-532DCA40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5D2-B2AF-4324-97D7-B57E4167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F71-40A1-4A37-9F3A-D3DB0529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074-2C4B-4A2A-9810-53F55D4D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80A-BAF7-4345-B94B-49AD1D74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6B2-E172-41AA-B9A8-F1347AE0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2FE-7184-4A26-8809-9E34C99F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5527-A177-40E7-862C-E84E92D48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20520"/>
            <a:ext cx="9117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0Z</dcterms:modified>
  <cp:revision>20</cp:revision>
  <dc:subject/>
  <dc:title>PowerPoint Presentation</dc:title>
</cp:coreProperties>
</file>