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24EF-228C-4B27-A10F-6AB08E48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2CF8-9080-4B85-AE3D-6F14856A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0EF3-04BE-4C17-937C-710C7A81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3E6-506F-4F3C-BE08-70E12BF4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B992-FF00-4604-8BF9-880440F4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D31-1CD4-4A11-AAD1-6399A636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A68-327A-418E-9BBF-7A25125A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483-441E-4AA6-AE15-CF0751A4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8133-070E-4E1F-9DE9-9BEB6BFB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8F3B-7064-43F5-8DDF-ACE09454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12CF-E155-466E-A7A4-E6A804E6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610B-9896-4B69-B052-D2CC191F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9C39-1FFB-429D-B171-4EFB017C3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0Z</dcterms:modified>
  <cp:revision>18</cp:revision>
  <dc:subject/>
  <dc:title>PowerPoint Presentation</dc:title>
</cp:coreProperties>
</file>