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6BA1-CA7A-4CCB-824A-F7611B330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3B | MAJOR COMPONENTS OF HOUSEHOLD EXPENDITURES, HIGH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EAF9-FF09-436F-93C0-3BD2A0055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924-8BD3-48D5-99DA-33445D63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CA3-81B2-4969-BA6A-2EAEE8D3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07CE-641B-42D2-801B-29AA3244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574-7A21-4810-B18D-8A707CC1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6BC-F14C-4597-B203-3BCB41E5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AC8-65B9-439A-A8F7-7E17686C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868-C2EB-490E-87F5-442F2B14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4AE-BEFA-4F13-85D9-AD8EA6EE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0E9-8216-471B-9118-C58ACB5A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AD8-C2A9-4191-A3B5-E6F3A09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4EE-D003-47E4-ADA8-A428A5C2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703-CDB9-4651-9721-F4FCCFC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0F04-EB7B-48A0-B4FB-9B6D1814C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b | Direct health expenditures constitute less than 1 in 20 dollars spent by the high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97160"/>
            <a:ext cx="855972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b | Direct health expenditures constitute less than 1 in 20 dollars spent by the highest income families</dc:description>
  <dc:language>en-US</dc:language>
  <cp:lastModifiedBy>Jia Yao</cp:lastModifiedBy>
  <dcterms:modified xsi:type="dcterms:W3CDTF">2013-09-06T14:06:19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b | Direct health expenditures constitute less than 1 in 20 dollars spent by the highest income families</vt:lpwstr>
  </property>
</Properties>
</file>