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013B-9E30-48D4-8BB7-401DB8113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6 | NUMBER OF UNINSURED AND PERCENT WITHOUT HEALTH INSURANCE, 1940-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Tahoma"/>
              </a:rPr>
              <a:t>Source: Author’s estimates based on CPS, HIAA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82C4-DDF1-4A08-AAC0-62B68F25B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DF96-3595-49BB-9F3C-9D2EC853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BFC-F013-4E5C-894B-7BD9CE45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07FE-FC86-41B4-AE53-94AFD29A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FD91-6017-4384-89D8-0693162B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DE9C-637F-48EC-A239-4575E3E3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997-912C-4C0F-AA67-0E690EC5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156A-CB89-4123-803F-ABDF3CCB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967-D995-47D6-92A7-1FE693EA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0B8-7D30-41D4-B0FA-A86F4D9A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F035-D005-424C-AEC9-EA401E24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C9D8-FCA6-45DF-B237-AB868E3C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A3B-EFBE-4B92-8767-62B0EF4A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6A54-B799-4129-9E2E-ADC84D60F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6 | The risk of being uninsured has declined by more than 80 percent between 1940 and 201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5116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228600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325440" y="5943600"/>
            <a:ext cx="865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: Figures simulate the gross number of uninsured as if measured by today’s Curre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pulation Survey. No adjustments have been made for the 10 to 20% overcounting o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nsured by the CP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TextBox 1" descr=""/>
          <p:cNvPicPr/>
          <p:nvPr/>
        </p:nvPicPr>
        <p:blipFill>
          <a:blip r:embed="rId3"/>
          <a:stretch/>
        </p:blipFill>
        <p:spPr>
          <a:xfrm>
            <a:off x="4979880" y="914400"/>
            <a:ext cx="3140280" cy="512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6 | The risk of being uninsured has declined by more than 80 percent between 1940 and 2010 </dc:description>
  <dc:language>en-US</dc:language>
  <cp:lastModifiedBy>Jia Yao</cp:lastModifiedBy>
  <dcterms:modified xsi:type="dcterms:W3CDTF">2013-09-06T14:06:28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6 | The risk of being uninsured has declined by more than 80 percent between 1940 and 2010 </vt:lpwstr>
  </property>
</Properties>
</file>