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29683-1861-4F0F-9F2F-88D709F0E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45483-6F0B-4E43-ADC0-58C4B46B4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15CF8-506A-44B7-9610-36E94A83B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2F2D8-0599-4A45-B7AF-E843F69AF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EA357-DD96-47C9-8080-57256CB81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154F4-6313-4FAA-9ABD-0F89EEABB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C3E01-9B56-4CAC-876E-28A07060A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11496-D1DE-4F0D-AB41-8A0218A4E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9E595-9E46-4C62-B9E9-47753C635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EC70A-B4FF-44F5-B6AE-03A69DA58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35BFE-24FD-4794-90D2-2779F0444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5B549-D717-4D7A-B759-F09E44162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13251-91BA-465D-8650-C8E0C391AA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58680"/>
            <a:ext cx="9120240" cy="672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5:03Z</dcterms:modified>
  <cp:revision>18</cp:revision>
  <dc:subject/>
  <dc:title>PowerPoint Presentation</dc:title>
</cp:coreProperties>
</file>