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A87-739B-4AAA-818C-0B299ED2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ED7-2FDE-43A1-AB1F-DE2E88DA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4FC-3845-4C3E-8666-8C50536F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91D-09B2-4F2A-AE44-0DB3489F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F73-938E-4E79-872F-C640FEDD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0B83-4513-4A15-97EE-AB1D808B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BFA-BB41-4AC8-A43A-CF92676E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4711-5A74-4731-956E-7C67F0BE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115-74EE-405A-ABCE-A4781834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362-AD32-49E3-B931-EAA3EC95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B655-E1DD-4EB5-8E1E-30AB0C2A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02C-BE9F-494C-9EED-4D0A6971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FC44-68DC-4D20-A91C-C94709048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0Z</dcterms:modified>
  <cp:revision>20</cp:revision>
  <dc:subject/>
  <dc:title>PowerPoint Presentation</dc:title>
</cp:coreProperties>
</file>