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3778-E064-4F93-BD28-F18A8703E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0DB9-DF74-456E-8675-A02A016F4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2B | HEALTH SPENDING RELATIVE TO TOTAL SPENDING, HOUSEHOLDS, BUSINESSES AND GOVERNMENT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48C1-1BDD-4871-9973-AABB258F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65D-F7EA-45F2-8465-5F7FF31F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1D72-61D9-4E4C-8C96-E62FE0B1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39E1-E1F0-4E6D-AF54-F7E50381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1F6E-9303-4614-B763-0FB3F9B0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3C7D-77FD-480B-8C57-F4BDAA35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72AA-3724-46A0-BB20-E3422B5D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F329-E5CC-4CC4-8483-EE60F594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30B3-2EDA-40D7-A92E-7B73DDE9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DCCA-99AF-4F41-9F80-8702F3CD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6A6D-C407-415B-B435-7C707DF9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43AF-52E7-4B34-A3DE-93BD982B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AB63-5FEB-4AB3-B300-2D40B2F5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8467-9662-4337-ABDE-0F7AC95F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2C0A-7E18-45C0-B3C0-FC2C3267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A723-D993-4E89-B332-22D5FB1F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EAC1-2A77-4B19-A604-7A808E34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A7AD-024F-4CD5-8CE2-8CB779B3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0318-406B-4F22-8E18-B443D757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C17B-66D7-43AB-BE6F-C882534F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773D-2744-4C02-A35E-35D9752D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AD37-78D1-43A4-988C-603670A1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DABE-4FD6-4131-B152-82DC4A17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2E65-6476-4E5B-9FAC-B6F91BEE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1543-C136-4D96-9565-87138DCBC2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7884-77B7-409D-BCCE-3DA1CA58EA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2b | Business-paid health care has increased modestly relative to wages and salarie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406440" y="558720"/>
            <a:ext cx="833112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457200" y="914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atio: sponsor-paid  health spending to totals shown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479520" y="55627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In the framework of “health sponsors,” business health expenditures include the private employer share of health insurance premiums for workers and dependents, Medicare Part A and workers’ compensation, and industrial in-plant health servic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2b | Business-paid health care has increased modestly relative to wages and salaries  </dc:description>
  <dc:language>en-US</dc:language>
  <cp:lastModifiedBy>Jia Yao</cp:lastModifiedBy>
  <dcterms:modified xsi:type="dcterms:W3CDTF">2013-09-06T14:06:15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2b | Business-paid health care has increased modestly relative to wages and salaries  </vt:lpwstr>
  </property>
</Properties>
</file>