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4656-6EE5-48D4-AC91-5B9676CD8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8AB1-824E-420A-89B0-7F552F7F5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4E12-3E77-4DD4-8960-FB912EE7C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F5B5-3A76-4DDD-8177-84A293580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CB75-38DB-4947-83E4-222E98C32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3654-C361-4B46-90EC-DB876C680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3800-2809-49B4-AF06-F99606EAE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28B1-3FA4-4272-B0CF-52044490F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DDC0-42F7-4CAD-827A-5047135EF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C5F4-90E4-4AE3-86D8-21310824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9BAC-83C8-465C-B783-6896E02D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22FD-CEE5-4D69-9120-C92A9CE4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838D9-4E60-4988-93A2-68070F6681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249200" y="0"/>
            <a:ext cx="6643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11Z</dcterms:modified>
  <cp:revision>20</cp:revision>
  <dc:subject/>
  <dc:title>PowerPoint Presentation</dc:title>
</cp:coreProperties>
</file>