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A609-4AD5-48F0-858A-80DF17AAA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CAEF-7D36-43F5-9557-617E1C25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ABBB-4547-4F79-83F2-4D6B1AB03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7994-D3D1-4863-833D-66FFB1888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FBAB-65E6-4CE9-8D31-E3D71F24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CE83-D127-4B07-B403-C8A0DAB7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FBE2-C944-48C2-922F-611B668C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F0CD-427D-4126-A845-617352A4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57A4-E2BE-4540-BB59-8CDCB7F8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7354-4A9E-438C-A95B-4A520C18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2947-EFF9-4CDE-A2ED-0AB47D96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F6A1-B066-4AC4-935A-1ECFE588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A668-7655-441F-98D2-6757C71FD7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44600" y="0"/>
            <a:ext cx="465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4Z</dcterms:modified>
  <cp:revision>14</cp:revision>
  <dc:subject/>
  <dc:title>PowerPoint Presentation</dc:title>
</cp:coreProperties>
</file>