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2D984-B6FD-40F1-873E-322DA609CC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DAAD6-4514-4DA4-9320-5D600F7F11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5F2F-D07E-4CC5-8FDE-38929BB91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AA6F-F28F-444E-BC2D-A5562D663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5456-9548-4F22-B5AE-FC6916C8D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9AE6-34BC-462D-81E3-A49ABF5E2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90E2-1A71-401B-8DD2-AA24A5638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9940-7D53-4A29-9681-0F0FA7B87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09AF-13BD-4FC9-9E62-DAAF0925B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535C-5878-4D51-B824-BC0D9B37D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1F4B-E5DB-48F2-9DE0-5CE133674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09AE-48E4-4EB2-BA49-009DCB72A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F3AC-3DD3-412E-B23F-D99E7CCEF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5C89-73B2-4BA7-8F86-2AECA6B5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1CAB4-1E7D-43E4-A09A-8F7F51E0EE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1066680" y="-4680"/>
            <a:ext cx="70056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30Z</dcterms:modified>
  <cp:revision>14</cp:revision>
  <dc:subject/>
  <dc:title>PowerPoint Presentation</dc:title>
</cp:coreProperties>
</file>