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CB0-0F39-477B-B439-C087B5D0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358-8126-47AC-8F73-6B0BA90C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9CB-9F0F-4641-A654-B29F2F65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ED50-9CA5-402E-A1AC-FD8656C2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46D-2931-46AD-AA48-D33C7AA6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CC0-AD5F-48A0-96E5-6411D159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225-B3B3-4518-94D1-E57CDC04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693-EE63-43C1-B964-1DBE1CA6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F42-05E3-4138-944D-FDC45E36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686-7F57-4BCD-8C4F-AC686761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650-FAFA-41C7-8C43-71F2ABA8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76AA-9811-4B05-A243-B7A11D21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ABDE-F222-4997-A35F-3A26FFEC9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520" y="304920"/>
            <a:ext cx="912348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3Z</dcterms:modified>
  <cp:revision>14</cp:revision>
  <dc:subject/>
  <dc:title>PowerPoint Presentation</dc:title>
</cp:coreProperties>
</file>