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6BD-F0F4-4F5F-80ED-F93F851E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7A7-FCD0-4C09-824D-D7989BAF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864-1B3D-4FA3-98A2-19E25D33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7B4-ED68-498D-BB83-03006BA1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0D7-854A-4D92-A179-DCC895BC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0CB-B5FC-4CF9-A749-28F7964A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F77-757D-4D73-9AE9-675DC18A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10D-BFAD-4906-8552-5C6BD982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6EB-256B-40BE-AA94-CD55A29D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DFF-C952-4CE2-94F0-37F316C4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0C1-F796-40D0-8D5D-4CF42BF5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9D8-2290-4F19-8246-7FAF345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71F9-66B5-4960-9863-E08EBEA17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9Z</dcterms:modified>
  <cp:revision>14</cp:revision>
  <dc:subject/>
  <dc:title>PowerPoint Presentation</dc:title>
</cp:coreProperties>
</file>