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1524-2676-4841-857A-50659D4416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7C | HEALTH CARE EXPENDITURES AS A PERCENT OF STATE AND LOCAL GOVERNMENT EXPENDITURES FOR THE HIGHEST AND LOWEST STATES (EXCLUDING FEDERAL FUNDS)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E79B-A813-4D57-B69E-C54923EB80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C6EA-48D5-4C58-B221-910FA12C7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115A-CF60-48D9-815F-81E3B821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E187-DC1D-4F83-988B-47AFBF686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D2F5-4AEC-42E2-B5F6-A341446B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E7EF-C422-4323-A458-0D0157F7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4257-60ED-4494-89E3-3BE4F9B6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4539-E649-43FF-A1C8-4D505195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2516-7763-4330-9DF5-CEB25033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2403-3452-4F5A-848C-E1F4D918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316A-57B3-414F-9C49-B89C0CBB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976B-E09B-45C9-96AB-B4564D09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12B7-8749-4EC8-B42A-A56F9114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261E-1E78-4925-8FE8-92E9874CCB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7c | If Federal funds are excluded, the Medicaid share of state expenditures is much smaller, but varies by a factor of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12640" y="1092240"/>
            <a:ext cx="8224920" cy="2387520"/>
          </a:xfrm>
          <a:prstGeom prst="rect">
            <a:avLst/>
          </a:prstGeom>
          <a:ln w="0">
            <a:noFill/>
          </a:ln>
        </p:spPr>
      </p:pic>
      <p:pic>
        <p:nvPicPr>
          <p:cNvPr id="50" name="Chart 4" descr=""/>
          <p:cNvPicPr/>
          <p:nvPr/>
        </p:nvPicPr>
        <p:blipFill>
          <a:blip r:embed="rId2"/>
          <a:stretch/>
        </p:blipFill>
        <p:spPr>
          <a:xfrm>
            <a:off x="512640" y="2997360"/>
            <a:ext cx="8301240" cy="3149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286000" y="5486400"/>
            <a:ext cx="586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edicaid percentage of total state/local government expenditures, excluding federal funds (200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563400" y="6213600"/>
            <a:ext cx="821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National Association of State Budget Officer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tate Expenditure Report Fiscal Year 2008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asbo.org/Publications/StateExpenditureReport/tabid/79/Default.aspx (accessed June 15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7c | If Federal funds are excluded, the Medicaid share of state expenditures is much smaller, but varies by a factor of 4</dc:description>
  <dc:language>en-US</dc:language>
  <cp:lastModifiedBy>Jia Yao</cp:lastModifiedBy>
  <dcterms:modified xsi:type="dcterms:W3CDTF">2013-09-06T13:59:48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7c | If Federal funds are excluded, the Medicaid share of state expenditures is much smaller, but varies by a factor of 4</vt:lpwstr>
  </property>
</Properties>
</file>