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084F-9375-49F9-8DE3-852F9FF62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6 | TOTAL GENERAL GOVERNMENT EXPENDITURES AND PUBLIC EXPENDITURES ON HEALTH AS A PERCENT OF GDP FOR SELECTED INDUSTRIALIZED COUNTRIES, 199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2E43-9154-4F9A-9B97-20E5BCFB4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570-FEDB-4BE9-9660-AE944D02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009-8E65-45BF-B66A-7C279039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FE3-5C89-4923-A0B6-BAC62243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963-06D2-440B-9900-BB35A3A9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77B-5D87-4532-9D0B-340CCEE1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273-94EF-41AA-93FF-E22B5D33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34D-BEDF-430B-87DC-2618C16F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3F0-764C-4AA9-8EF9-302CBF70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091-ED6A-485C-A2AF-30483D08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797-DC09-49AE-82A7-B020042E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EC6-A661-4389-A152-5BE86971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088-589B-43E2-8808-DA1A2E07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3141-A135-4B5A-9AB2-62A8FA831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6 | Lifetime Medicare benefits grew fastest for low income workers, yet even for high income workers, net lifetime benefits exceed $3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96800" y="1092240"/>
            <a:ext cx="833112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47560" y="5867280"/>
            <a:ext cx="806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teuerle CE and S Rennan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ocial Security and Medicare Taxes and Benefits Over a Lifetime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rban Institute. January 2011. http://www.taxpolicycenter.org/UploadedPDF/social-security-medicare-benefits-over-lifetime.pdf (accessed June 10, 201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7560" y="150480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t lifetime Medicare benefits (own benefits minus own taxes paid), 2004 dollars in thous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6 | Lifetime Medicare benefits grew fastest for low income workers, yet even for high income workers, net lifetime benefits exceed $30,000</dc:description>
  <dc:language>en-US</dc:language>
  <cp:lastModifiedBy>Jia Yao</cp:lastModifiedBy>
  <dcterms:modified xsi:type="dcterms:W3CDTF">2013-09-06T13:59:43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6 | Lifetime Medicare benefits grew fastest for low income workers, yet even for high income workers, net lifetime benefits exceed $30,000</vt:lpwstr>
  </property>
</Properties>
</file>