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80D6-B330-4209-AC65-08F564EA2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A | REAL PER CAPITA TOTAL GOVERNMENT EXPENDITURES AND GOVERNMENT EXPENDITURES ON HEALTH CARE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C4F0-4735-4D9A-91D1-19E5A00C8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F83-48E7-4CE6-89A0-8CCCA409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1C1-D75B-4A2A-BAB8-37B67848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9E4-1C64-499D-9C02-E90A2FCB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54F-B821-457F-87B9-3A44CCD4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250-4583-4DE5-BB6F-04505F21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269-6FAF-45F4-8C17-8C5424A6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60D-D0DA-497A-8D0A-432965D0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064-D35E-4DFB-A0D3-B33A2ABD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301-605E-470A-AF54-31C1E62D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07B-6FA9-44E2-9814-277FD18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946-2858-46EB-B77E-EEFE4252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F9A-943F-4B6F-B91C-503964BD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3C95-B684-4D40-A42F-EDE62AF05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a | Real government spending on health has increased 30-fold in the past half century; the increase is 17-fold in per capita ter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8240" y="1447920"/>
            <a:ext cx="65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dexes of real government spending on health using chained GDP deflator: 1960=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.a | Real government spending on health has increased 30-fold in the past half century; the increase is 17-fold in per capita terms. </dc:description>
  <dc:language>en-US</dc:language>
  <cp:lastModifiedBy>Jia Yao</cp:lastModifiedBy>
  <dcterms:modified xsi:type="dcterms:W3CDTF">2013-09-06T14:00:47Z</dcterms:modified>
  <cp:revision>15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.a | Real government spending on health has increased 30-fold in the past half century; the increase is 17-fold in per capita terms. </vt:lpwstr>
  </property>
</Properties>
</file>