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D2B9-3376-4176-BE32-0539EDB35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E6A3-A714-47E1-A98C-8C9CF9F4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B74E-F1A5-4456-A4D4-E5D2BB52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6E79-AD68-400A-AEF5-B4B6BA148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035D-6162-40AE-A064-0119C258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E1E7-222C-420B-B07A-77CFCC35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455D-A4D8-4638-8B10-E3D3E04D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6D5F-65C5-41F6-B96B-AE721E24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F3F1-186F-441E-A0F0-2974696F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2FA2-5B34-4B70-AC17-88977EFD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1F6F-147B-4B65-84CC-D0A78EBA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F81A-F969-49C8-97A9-A8456F70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B2A6-9FC7-4777-8A16-C8BE57278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363680"/>
            <a:ext cx="912816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6Z</dcterms:modified>
  <cp:revision>16</cp:revision>
  <dc:subject/>
  <dc:title>PowerPoint Presentation</dc:title>
</cp:coreProperties>
</file>