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1E80-8CA6-42D8-AF71-0C59554CE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4 | PUBLIC SPENDING AS A PERCENT OF TOTAL PERSONAL HEALTH CARE EXPENDITURES,  BY SELF-REPORTED HEALTH STATUS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DE32-EC56-455B-996E-127574078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23E-9F8B-44CF-A223-0C89E4FC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1775-8935-4BD1-A002-D3922DD0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ED3-3BDB-48FD-B27D-AC64AA9C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451-5789-48F5-B523-FA4FC123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E03-E3AE-415B-B62B-8AA97AA5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32E-D002-42B3-BABC-FBF21B43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B70-0FD1-46A9-B7E5-B0552E4B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D3A-38AD-49AD-81A0-5F1CC355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030-EABA-42BF-8C6F-484F6810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95A-CA00-47B7-ABCF-DD3F41C1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6ADD-ABB6-4EFF-A79F-45747CB1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BBA-DD72-4EAA-B3C2-B51EE247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1BE4-8D82-4B43-A5A8-D2361DF13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4 |  The share of health spending covered by government increases as physical or mental health status dec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3285720" y="548640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lf-reported health status,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838080" y="1523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4 |  The share of health spending covered by government increases as physical or mental health status declines</dc:description>
  <dc:language>en-US</dc:language>
  <cp:lastModifiedBy>Jia Yao</cp:lastModifiedBy>
  <dcterms:modified xsi:type="dcterms:W3CDTF">2013-09-06T13:59:37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4 |  The share of health spending covered by government increases as physical or mental health status declines</vt:lpwstr>
  </property>
</Properties>
</file>