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22A7-9FD1-4848-871B-0A5538F7C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A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21E8-740D-48FC-99D5-7321348BD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7E8-5F28-4B86-825F-C0957921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8EE-8390-439F-AAA7-46131E9D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396-7F6A-41ED-A106-DCCC5B62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14E-3A94-49B9-BFCA-CFBB8788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34E-B256-46EB-8701-DE573B35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92F-BBCC-465B-8629-AD31A50F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9ED1-F39C-4C2D-9645-1B7DE82A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C34-5AD6-4AFE-AB6A-D1E07C9D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7BC-D8F6-4E44-8C65-C57AA526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4E3-DB49-4061-81C3-0CE6497A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CF0-B410-41FE-9511-48AAE8F2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F81-A8F1-495A-A4A2-6AFBDA6D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BA8D-9FA0-4C8E-ABF2-AD46A8C74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a | The U.S. share of GDP devoted to tax-financed health spending is comparable to that of its G7 competi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6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819520" y="5867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7 members ranked by size of 2007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a | The U.S. share of GDP devoted to tax-financed health spending is comparable to that of its G7 competitors.</dc:description>
  <dc:language>en-US</dc:language>
  <cp:lastModifiedBy>Jia Yao</cp:lastModifiedBy>
  <dcterms:modified xsi:type="dcterms:W3CDTF">2013-09-06T13:59:3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a | The U.S. share of GDP devoted to tax-financed health spending is comparable to that of its G7 competitors.</vt:lpwstr>
  </property>
</Properties>
</file>