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C22A-BACE-4E07-87F0-050CD36ABB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2A | FEDERAL, STATE, AND LOCAL EXPENDITURES, BY MAJOR PURPOSE, AS PERCENTAGES OF GDP, 1959, 1989 AND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BF71-1A77-4C23-901D-00FF9CF9FF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02AE-5B57-4F2B-9D44-99D1FB694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751B-55FF-4B22-B6CC-848D9571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FC1A-3C19-42C4-8C95-A69E3843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62C0-F084-4A4C-A8ED-BED45D6E6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48D2-529B-49B8-837D-ED521BE1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3698-39C5-419E-8069-6AB61269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7D95-2FBB-41CF-B7E4-8B1FE4A2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BE3C-90D1-4EF3-965A-8CB3F15D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E385-3EE5-49D6-B3D9-F4CA5B8B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5700-8DD8-412C-A285-D3AB7FF7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0332-1CEB-4394-9A3B-C8A2386B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4FFC-D226-471D-9B40-AC9705E8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5CEE-93E2-4B77-9D26-7BED628FB9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2a | Government health spending has been the fastest growing major component of government budgets over the past 50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48340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flipH="1">
            <a:off x="533520" y="6019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 this chart shows the 7 largest functional areas of federal, state and local budgets in 2010, rank-ordered by size in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2a | Government health spending has been the fastest growing major component of government budgets over the past 50 years</dc:description>
  <dc:language>en-US</dc:language>
  <cp:lastModifiedBy>Jia Yao</cp:lastModifiedBy>
  <dcterms:modified xsi:type="dcterms:W3CDTF">2013-09-06T13:59:30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2a | Government health spending has been the fastest growing major component of government budgets over the past 50 years</vt:lpwstr>
  </property>
</Properties>
</file>