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06D5-FC4D-417A-902E-CBCEF238C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B | FEDERAL HEALTH EXPENDITURES WITH TRANSFER ADJUSTMENTS AS A PERCENTAGE OF TOTAL FEDERAL, STATE AND LOCAL HEALTH EXPENDITURES, 1929-20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D242-13BE-42B8-A1FB-098C33663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3E3-73A6-428E-9370-508B0FAA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BF4-286E-44E5-9B8C-6704F6C6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ED0-EB5E-44DC-A6D7-643C37AD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8CA-167E-4EF1-AF90-17C6F436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011-3B53-4813-9A04-7ABC8662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649-882B-4AF4-AC3E-6B122113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8A6-FB02-4754-905F-04040A57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66F-FE33-4BCD-992F-B304C3B4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12D-FEBB-4A89-983E-D3109DE2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098-CE6A-4D41-B810-ED62E58D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7EF-31BF-4623-A2A0-A2BF5F57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D78-11B9-4455-9002-EA82C480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E81A-D755-4F50-914E-B7FC6803A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b | Taking into account Federal transfers to states for health, the Federal share of government health spending exceeds 70 perc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4440" y="1676520"/>
            <a:ext cx="45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ederal percentage of total government health expendi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b | Taking into account Federal transfers to states for health, the Federal share of government health spending exceeds 70 percent </dc:description>
  <dc:language>en-US</dc:language>
  <cp:lastModifiedBy>Jia Yao</cp:lastModifiedBy>
  <dcterms:modified xsi:type="dcterms:W3CDTF">2013-09-06T13:59:32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b | Taking into account Federal transfers to states for health, the Federal share of government health spending exceeds 70 percent </vt:lpwstr>
  </property>
</Properties>
</file>