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1C9B-D5EB-4872-99F2-CAE9208E8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76CB-0EE7-4AB7-BFB2-E5A82DB76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351-7D9C-4DFE-A178-6BBC95C3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695-1B71-417D-BFEF-2A093BEA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70B-12BF-4048-AEE8-232368FA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B70-AA59-44C3-A452-FB610AC9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A4D-825C-4F45-896E-564DE710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AFE-9819-4A8D-86C4-D5E2828F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312-E961-46EA-A46F-C3C4ACFD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707-27F6-42CE-AF04-877E8CD4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5F2-EFA9-4181-9537-2BB8FF91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4F9-9203-408E-A072-4A3548BF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D27-660A-43DB-AB28-1032E6E7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D41-D253-41DB-9B2A-0E48B556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E11B-3DAE-431F-8414-D4FFBF050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b | Between 1966 and 2007, all of the increase in the size of government was attributable to growth in tax-financed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vernment spending as a percentage of G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flipH="1">
            <a:off x="457200" y="57913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figures include debt service, but the entire amount appears under non-health spending. If allocated by shares of spending, this would increase government health spending and reduce non-health spend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b | Between 1966 and 2007, all of the increase in the size of government was attributable to growth in tax-financed health care</dc:description>
  <dc:language>en-US</dc:language>
  <cp:lastModifiedBy>Jia Yao</cp:lastModifiedBy>
  <dcterms:modified xsi:type="dcterms:W3CDTF">2013-09-06T13:59:2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b | Between 1966 and 2007, all of the increase in the size of government was attributable to growth in tax-financed health care</vt:lpwstr>
  </property>
</Properties>
</file>