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DD36-4FA2-445C-8520-C07FE0CC0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A | PUBLIC SPENDING AS A PERCENT OF TOTAL PERSONAL HEALTH CARE EXPENDITURES, BY FAMILY INCOME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66DC-61EA-4EB6-B6AB-CF0BD8665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9BA-95D9-4502-8203-C3FA491D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23A-B0DF-42D3-82A0-76C828C7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EC8-8738-4A48-A91D-E287E862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153-21D5-49C0-8321-5BAF27A7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D82-B83B-4B70-B520-8FD51771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37DC-A188-45E5-B597-E2EC96C3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6C9-4598-42C6-A4A1-3AFAF2D2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D26-6C98-431C-BE65-FD9F9F17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359-C4D5-4D92-8353-60D3C800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10C-392B-4FCA-ADE1-60BE2F0C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1DD-A5F2-4E7E-A62F-557456BC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26F-36C6-4E94-AE1C-A1B641B3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4086-2C93-4DBB-AD64-3242984C0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a | While the public share of health expenses rises as income declines, nearly half of spending for families above 400% of poverty is tax-financ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5343480"/>
            <a:ext cx="49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federal poverty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33520" y="1447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a | While the public share of health expenses rises as income declines, nearly half of spending for families above 400% of poverty is tax-financed </dc:description>
  <dc:language>en-US</dc:language>
  <cp:lastModifiedBy>Jia Yao</cp:lastModifiedBy>
  <dcterms:modified xsi:type="dcterms:W3CDTF">2013-09-06T13:59:39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a | While the public share of health expenses rises as income declines, nearly half of spending for families above 400% of poverty is tax-financed </vt:lpwstr>
  </property>
</Properties>
</file>