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C3D2-1F3B-43B0-BD60-99D0C9725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AA1C-78F4-4D2F-9D89-223FC2DCA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CD9C-B02B-4CEB-9DA9-39B8E1D25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1E11-778D-401A-86E0-E9CD4B19D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8F9C-9D4A-4065-9147-0E2777DB0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7433-877B-45C9-8AAF-8A271B3A3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07E9-C829-4CE6-93DE-2B3F5C13D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F06E-2C6F-4C02-A6FB-7B4207C4D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EF36-BCDC-4CB6-96C9-E25A1F26B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A90C-9908-42BC-9216-F15FDB926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5991-7AA0-4257-BF46-9D23EFA30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644B-49C8-4E73-B083-EBC8C44A8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034D3-699B-41EC-8D7C-41DB1C3489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109440" y="1143000"/>
            <a:ext cx="89251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3:35Z</dcterms:modified>
  <cp:revision>14</cp:revision>
  <dc:subject/>
  <dc:title>PowerPoint Presentation</dc:title>
</cp:coreProperties>
</file>