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784-5D4A-410F-9DFE-E9B187F7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45D-AFD6-4EF7-94F6-67EF8B23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FAA-BD50-4A15-A670-675858B5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246-D4A1-4FAC-AE86-31FDDC00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FAC-00ED-4F00-8964-DBED50C5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4977-4FE9-46CB-A0DD-A9F5FC23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184-CADB-43BB-BE5B-9A7AAD9F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39C-7003-4A9C-B03F-6FB07B5C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CAE-9EDA-460D-9320-04EBAE2C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FAF7-ED2B-434D-AE8E-17D3703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699-7838-4784-9C2C-048AB515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DBE-239F-45FB-B9E9-3A7C377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E718-5EB6-4019-9C92-A4235EE72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35000"/>
            <a:ext cx="9118440" cy="65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55Z</dcterms:modified>
  <cp:revision>14</cp:revision>
  <dc:subject/>
  <dc:title>PowerPoint Presentation</dc:title>
</cp:coreProperties>
</file>