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5142-6DBD-40E6-B7A6-B4644CF5E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5A | PUBLIC SPENDING AS A PERCENT OF TOTAL PERSONAL HEALTH CARE EXPENDITURES, BY FAMILY INCOME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F2A4-201F-47C6-A74C-4E957EEFD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091-24EF-4E42-8F91-41406FC0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6D7-5AF1-4725-9EFD-DA99B1FB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D7AE-66AD-4A57-A6CB-19DA0CBD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87F-6370-4D95-9C84-B73F909A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696-5B48-4AC1-9A2F-C5F0DC78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2C82-82AE-4553-B0F4-215F9825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8F3-54EB-4DCB-90F4-71E026DA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8CF-658C-4149-9A05-FC22FDE2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014-1BE4-4EFC-B184-2DA7AFCA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79A-8DB0-40D9-BEB6-95A83B9C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83C-BDCC-4177-A80D-180DA07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931-64B1-4B71-8D67-E858E9D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06CC-5AC0-49B3-8DE6-5AA8DBCAD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5a | While the public share of health expenses rises as income declines, nearly half of spending for families above 400% of poverty is tax-financ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981080" y="5343480"/>
            <a:ext cx="49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mily income as a percentage of federal poverty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3352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5a | While the public share of health expenses rises as income declines, nearly half of spending for families above 400% of poverty is tax-financed </dc:description>
  <dc:language>en-US</dc:language>
  <cp:lastModifiedBy>Jia Yao</cp:lastModifiedBy>
  <dcterms:modified xsi:type="dcterms:W3CDTF">2013-09-06T13:59:39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5a | While the public share of health expenses rises as income declines, nearly half of spending for families above 400% of poverty is tax-financed </vt:lpwstr>
  </property>
</Properties>
</file>