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A189-310D-4D13-951C-C2AB1BA95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872E-0B96-4B61-8318-BA954DD38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1E5-F7E3-42E3-897B-BA35BDE0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D36-B863-41F9-BADF-20F4213E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E19-8A0F-4F6A-AD6F-08899130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799-E274-4809-9E64-6D83DC8E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B4B-FFB5-4B8F-9028-06F0D1B5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1B4-1575-4201-87F5-0F9A664F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A06-3B79-4D58-9222-D6A4A9E8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162-5C28-4926-9AFB-B7A74CCD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693-B890-4EC6-8F52-0DA64CBB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4A5A-20C2-41CB-BF73-406B3AF2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D61-58B1-4A39-B2C0-968C568C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D17-3C09-4666-871C-A017E8AE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DF83-ED4E-46A8-ABD6-7B6D3575F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b | Between 1966 and 2007, all of the increase in the size of government was attributable to growth in tax-financed health c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29528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Government spending as a percentage of GD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flipH="1">
            <a:off x="457200" y="57913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 figures include debt service, but the entire amount appears under non-health spending. If allocated by shares of spending, this would increase government health spending and reduce non-health spending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b | Between 1966 and 2007, all of the increase in the size of government was attributable to growth in tax-financed health care</dc:description>
  <dc:language>en-US</dc:language>
  <cp:lastModifiedBy>Jia Yao</cp:lastModifiedBy>
  <dcterms:modified xsi:type="dcterms:W3CDTF">2013-09-06T13:59:28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b | Between 1966 and 2007, all of the increase in the size of government was attributable to growth in tax-financed health care</vt:lpwstr>
  </property>
</Properties>
</file>