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CEB6-D63A-495D-B8AB-D58BC8201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8A3B-C010-4881-99FC-C67E7C81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7C8B-DB2A-4F61-99DF-157066BA1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24C2-C013-49F6-B492-1DC82E1C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9874-58C2-425B-9EEA-451A2301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5421-8A85-4FAA-898C-A6C49593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ACD3-2827-43A7-A6C4-80988DF9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E53F-A0ED-46FF-B637-C28307C1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CD8B-7383-4E2E-A546-ABC225A2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3F53-C950-4BF1-8EBD-363D6F16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774D-B70A-4511-85A1-6C5E757F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3013-F3FC-43F2-8157-F1B0E0AE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ED3A-5448-46B8-A740-075B690ECC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82440"/>
            <a:ext cx="9144000" cy="669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29Z</dcterms:modified>
  <cp:revision>14</cp:revision>
  <dc:subject/>
  <dc:title>PowerPoint Presentation</dc:title>
</cp:coreProperties>
</file>