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8148-C41E-4032-98D8-AF4E1D94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A483-3C3B-4F5A-B92B-C6ACA3D1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1E35-E506-43BD-9CD3-FACCDD54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0DED-5134-4AFC-8D01-E93D9C131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1790-2160-41FE-BC2E-72A11F4A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C27D-7C5A-497D-A2FA-D6A9C529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70B4-340F-4748-A0C3-11318D86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0FDD-E19C-4CB5-96D7-79AC05F2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AA0F-B472-4404-9684-B2E9CAD1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DDF6-AA54-45E6-ABC4-1C446AFA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4EF5-FF94-405F-8D44-6A4196D0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2C14-D420-4917-845D-2EFD945F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A3DA-2D67-4083-A334-95E42126B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127080"/>
            <a:ext cx="9144000" cy="66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6T21:59:59Z</dcterms:created>
  <dc:creator>Jia Yao</dc:creator>
  <dc:description/>
  <dc:language>en-US</dc:language>
  <cp:lastModifiedBy>Jia Yao</cp:lastModifiedBy>
  <dcterms:modified xsi:type="dcterms:W3CDTF">2013-09-06T22:01:57Z</dcterms:modified>
  <cp:revision>1</cp:revision>
  <dc:subject/>
  <dc:title>PowerPoint Presentation</dc:title>
</cp:coreProperties>
</file>