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52B9-1897-4C44-AD13-80CAB3AED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2A | FEDERAL, STATE, AND LOCAL EXPENDITURES, BY MAJOR PURPOSE, AS PERCENTAGES OF GDP, 1959, 1989 AND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CD6A-F5FF-42C5-8E6F-9E82F7C01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1EB-8CF3-4D4F-BE9A-EE07605C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9AA-8E09-4667-BE92-51285B43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7FA-261A-444C-BB84-90FAE012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891-9500-4EA1-8C27-DC98172E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F74-89B3-47BB-80AE-B5E8CC84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23F-0C9F-4A7E-911A-2CAFDB0F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FA2E-B604-4922-AE91-123C6FA8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F6A-A4B7-4B0B-B74F-3E932973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03A-FADE-4D18-8906-6C5DDACE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154-0E53-490F-A272-10E77C63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2B81-FBE9-4E7F-B332-7EF3DCD1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92A5-CEE0-4544-867F-ECD5B96A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0A42-48F4-4613-ACE2-9944BC914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2a | Government health spending has been the fastest growing major component of government budgets over the past 50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483400" cy="5207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 flipH="1">
            <a:off x="533520" y="6019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this chart shows the 7 largest functional areas of federal, state and local budgets in 2010, rank-ordered by size in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2a | Government health spending has been the fastest growing major component of government budgets over the past 50 years</dc:description>
  <dc:language>en-US</dc:language>
  <cp:lastModifiedBy>Jia Yao</cp:lastModifiedBy>
  <dcterms:modified xsi:type="dcterms:W3CDTF">2013-09-06T13:59:30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2a | Government health spending has been the fastest growing major component of government budgets over the past 50 years</vt:lpwstr>
  </property>
</Properties>
</file>