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81ED-6455-4A6B-8DF9-B0E82E6CD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C | HEALTH CARE EXPENDITURES AS A PERCENT OF STATE AND LOCAL GOVERNMENT EXPENDITURES FOR THE HIGHEST AND LOWEST STATES (EX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AB58-EF48-44E6-A2AF-A802179961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816-5102-48DC-B39E-89EE1C4D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CB4-C24E-4A02-9CCB-F875635E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506-A90E-4B71-BAC5-AB162079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426-76B7-4216-ACC8-C20B8D6A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B9B-8787-425C-B4F8-3BBC361A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4A4-3B98-4F43-A0B0-2D042529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237-69E4-4940-BB97-844BB506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C13-9BD9-45CF-BCB2-3BA485F9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751-E691-46FA-B777-A17DDC44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324-30B8-4FD5-B5C3-A45139C8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81B-2CC7-4783-818E-C9C01327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260-DFCC-43EC-91DC-2DF925E0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D69F-DD9F-4DEF-B993-2BB8F0CDD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c | If Federal funds are excluded, the Medicaid share of state expenditures is much smaller, but varies by a factor of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512640" y="1092240"/>
            <a:ext cx="8224920" cy="23875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512640" y="2997360"/>
            <a:ext cx="8301240" cy="314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286000" y="548640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ex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c | If Federal funds are excluded, the Medicaid share of state expenditures is much smaller, but varies by a factor of 4</dc:description>
  <dc:language>en-US</dc:language>
  <cp:lastModifiedBy>Jia Yao</cp:lastModifiedBy>
  <dcterms:modified xsi:type="dcterms:W3CDTF">2013-09-06T13:59:4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c | If Federal funds are excluded, the Medicaid share of state expenditures is much smaller, but varies by a factor of 4</vt:lpwstr>
  </property>
</Properties>
</file>