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054-A5F9-42E3-8990-E2EF6EF3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294-1352-4A99-B934-630B391F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CD52-5B83-4A17-A42B-D58E6262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E482-BCF4-4D8B-ADCE-EFA18BFB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0BF-C9A5-414A-ADEA-886AB39C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9A4-BC12-464C-98DC-D294B5FF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3D6-A965-4883-9C35-9753F5B2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C50-B7B8-4300-B8E7-35671CB0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0D7-ECFB-403C-9FE6-CB0F58AD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CB1-4A75-4A3A-A19F-F46B0D1E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908-BE4C-4303-84FB-B4ACF9F4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96F-0D11-48F8-A8FF-D3B5A811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29E7-FD21-434E-9480-5247D0536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4Z</dcterms:modified>
  <cp:revision>14</cp:revision>
  <dc:subject/>
  <dc:title>PowerPoint Presentation</dc:title>
</cp:coreProperties>
</file>