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5753-1AEB-4059-A541-DB7FABDCC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1A | REAL PER CAPITA TOTAL GOVERNMENT EXPENDITURES AND GOVERNMENT EXPENDITURES ON HEALTH CARE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DF18-9CCB-4BE0-BAE1-377FF0291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C0F-9832-4A23-8652-26B59EA7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9657-64BB-4018-B2DD-481C447E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0E4-7DB1-4E5B-B3BA-2B12DB57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39D-91F2-4D03-BF69-2F0645BF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376-945E-4715-A9AE-CC0503BC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B31-17BF-410D-AAF9-05ECF1BF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C20-926F-4C02-8D85-FCF7CDC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277-7B94-4832-A3FA-FD6FE7BE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44F-C63E-4250-9BD7-07617CB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201-2B2E-49B4-9C80-AA374480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6A71-9CEC-457F-88B4-47277EA9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A47-A6E7-400E-8CAB-54E3606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F41-6E69-4B31-9036-E652B9B75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1a | Real government spending on health has increased 30-fold in the past half century; the increase is 17-fold in per capita te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28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68240" y="1447920"/>
            <a:ext cx="657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dexes of real government spending on health using chained GDP deflator: 1960=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1.a | Real government spending on health has increased 30-fold in the past half century; the increase is 17-fold in per capita terms. </dc:description>
  <dc:language>en-US</dc:language>
  <cp:lastModifiedBy>Jia Yao</cp:lastModifiedBy>
  <dcterms:modified xsi:type="dcterms:W3CDTF">2013-09-06T14:00:47Z</dcterms:modified>
  <cp:revision>15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1.a | Real government spending on health has increased 30-fold in the past half century; the increase is 17-fold in per capita terms. </vt:lpwstr>
  </property>
</Properties>
</file>