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F35C-7AA2-4FB5-A17B-0E4ABA42C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6 | TOTAL GENERAL GOVERNMENT EXPENDITURES AND PUBLIC EXPENDITURES ON HEALTH AS A PERCENT OF GDP FOR SELECTED INDUSTRIALIZED COUNTRIES, 199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8486-0337-4AAF-A2EC-089F1D2B2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943-C6D7-4554-B2AC-4C05F01F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1C8F-E5F6-40DB-960E-E62E87CC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5A12-B601-4927-BD9A-ECD24281C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8A1-744F-447D-A297-06E4F493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97E-A8A8-497E-B2B0-9358D7DD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803-FDB4-42A5-9AF4-1B4AE184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95C-0734-4A7C-900C-DC2ED78F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130-6E29-447E-8568-E5F380C4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140-95E2-4954-8305-AD99E9D8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B3C-D838-4156-8F7E-A753720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3A1-4068-4521-8D7E-09A245DC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592-1F93-4EA3-AA70-F42AB832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4272-EB02-430F-A729-38F6CF00D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6 | Lifetime Medicare benefits grew fastest for low income workers, yet even for high income workers, net lifetime benefits exceed $30,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96800" y="1092240"/>
            <a:ext cx="8331120" cy="4597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47560" y="5867280"/>
            <a:ext cx="806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teuerle CE and S Rennan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Social Security and Medicare Taxes and Benefits Over a Lifetime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rban Institute. January 2011. http://www.taxpolicycenter.org/UploadedPDF/social-security-medicare-benefits-over-lifetime.pdf (accessed June 10, 201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47560" y="1504800"/>
            <a:ext cx="746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et lifetime Medicare benefits (own benefits minus own taxes paid), 2004 dollars in thous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6 | Lifetime Medicare benefits grew fastest for low income workers, yet even for high income workers, net lifetime benefits exceed $30,000</dc:description>
  <dc:language>en-US</dc:language>
  <cp:lastModifiedBy>Jia Yao</cp:lastModifiedBy>
  <dcterms:modified xsi:type="dcterms:W3CDTF">2013-09-06T13:59:43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6 | Lifetime Medicare benefits grew fastest for low income workers, yet even for high income workers, net lifetime benefits exceed $30,000</vt:lpwstr>
  </property>
</Properties>
</file>