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8F0-03B2-494B-92BF-64DA390E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296-B0EF-489C-8A23-2FCB5F02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118-FCF7-40D9-8661-071209CC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B89-3352-4233-A6F0-81315E3F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D54-0320-4B84-80F6-70A5201F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6CC-6F19-4B42-9AE6-5CAD5E7F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B182-2713-424B-A7E2-7A7530B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ABC-AED6-4231-B7D9-CCF2075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33D-498C-42BC-9C0D-E1EE3C20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A85-A2D0-43FF-BF78-8DBE1EAB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5C9-02F5-45A5-8515-86FC6397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C74-0499-4880-B0D0-CF71488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0E16-ED5D-4AC5-B6B8-7B7694588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363680"/>
            <a:ext cx="91281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6Z</dcterms:modified>
  <cp:revision>16</cp:revision>
  <dc:subject/>
  <dc:title>PowerPoint Presentation</dc:title>
</cp:coreProperties>
</file>