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D1D78-F2CC-4848-8D93-9A4408A7AC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5.4 | PUBLIC SPENDING AS A PERCENT OF TOTAL PERSONAL HEALTH CARE EXPENDITURES,  BY SELF-REPORTED HEALTH STATUS, FOR THE U.S. CIVILIAN NON-INSTITUTIONALIZED POPULATION, 200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46D91-EEB0-42C0-9D31-50DA798F6A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8BD1-A06A-433E-B3BB-42EA8C5CE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B940-8446-4FE0-A54A-6ECC3914C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EE00-D735-4D7F-AA07-17370C795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BED6-76F9-4710-80D6-CFF10D35F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715D-23B4-45B3-986B-29BC284FF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1AA1-F7B8-4DD5-840B-79B928974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595D-9807-4566-AF48-FDED45A65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5BEC-2037-4188-A50A-8D6F59ED9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D42A-CB88-41D4-BD20-B2179AD0F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B482-C227-4E84-AF00-F96581A01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CDF1-E136-47E3-8DC1-9E374F02C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7E63-245C-4A01-87A9-E72A7890C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6EE68-4D5C-471F-B160-6B2FDE0BFC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5.4 |  The share of health spending covered by government increases as physical or mental health status decli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244520"/>
            <a:ext cx="8331120" cy="513072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3285720" y="5486400"/>
            <a:ext cx="259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Self-reported health status, 200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614520" y="5853240"/>
            <a:ext cx="7951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: Seldon TM and M Sing. The Distribution of Public Spending for Health Care in the United States, 2002.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Health Affairs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eb Exclusive 2008; 27:5w349–w359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ttp://content.healthaffairs.org/cgi/reprint/27/5/w349 (accessed June 14, 2010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4"/>
          <p:cNvSpPr/>
          <p:nvPr/>
        </p:nvSpPr>
        <p:spPr>
          <a:xfrm>
            <a:off x="838080" y="1523880"/>
            <a:ext cx="647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centage of personal health spending paid by government (200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7"/>
          <p:cNvSpPr/>
          <p:nvPr/>
        </p:nvSpPr>
        <p:spPr>
          <a:xfrm rot="16200000">
            <a:off x="-2305440" y="3503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6T16:55:16Z</dcterms:created>
  <dc:creator>Kristy</dc:creator>
  <dc:description>5.4 |  The share of health spending covered by government increases as physical or mental health status declines</dc:description>
  <dc:language>en-US</dc:language>
  <cp:lastModifiedBy>Jia Yao</cp:lastModifiedBy>
  <dcterms:modified xsi:type="dcterms:W3CDTF">2013-09-06T13:59:37Z</dcterms:modified>
  <cp:revision>156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5.4 |  The share of health spending covered by government increases as physical or mental health status declines</vt:lpwstr>
  </property>
</Properties>
</file>