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3BC4-35FC-40D2-80E1-0316ED47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1CD8-AE70-49E6-963E-44AF8689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5BE6-17CE-41FF-A3CF-E0F93BF95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37A2-1DC9-464A-8E1B-A72167521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E09D-8B12-4DC6-BE04-8BCCA5CE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65E9-EACC-4B6B-A067-A12A6B55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58A7-B4D1-449E-9DAB-05D813CA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6BC9-31A6-474E-AA20-15975699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8B72-AD6C-4816-BD99-914A0AF6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C3AC-8A4C-442B-98F5-808C066E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D036-EA78-46B3-986B-E9AE529A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BAD7-5E6E-4A97-BE4E-16ADC88C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BF9A-9698-4D57-91C1-582B512CC9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244600" y="0"/>
            <a:ext cx="465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4Z</dcterms:modified>
  <cp:revision>14</cp:revision>
  <dc:subject/>
  <dc:title>PowerPoint Presentation</dc:title>
</cp:coreProperties>
</file>