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FCC8-0D37-449C-84B1-26931C86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D76-D922-4360-81F2-9E084617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BD6-AB04-40E4-9B1B-954C11E2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75C-5794-421F-AFF5-D2234991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A3C-6A55-437C-A3B6-72B7E1D8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6A0-F2C6-47A6-9BD0-C7EA6FD1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95D-9489-4E5A-B3E8-F011265E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D56-E1BF-4D43-9381-6B27937E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7C3C-006C-40FD-8AB8-325C638B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30A-4ADF-40C4-924D-1807EC14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70F-482D-40AD-AF46-59B6B98D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C17-F86E-4D30-BA7A-84538CAC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CAD6-B9C7-4154-B4B9-CC56DA71A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0"/>
            <a:ext cx="90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2Z</dcterms:modified>
  <cp:revision>14</cp:revision>
  <dc:subject/>
  <dc:title>PowerPoint Presentation</dc:title>
</cp:coreProperties>
</file>