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FF92-229A-40AC-B9B7-4FCAA0F02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891B-2571-4A37-A71F-B68AC9A75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37B-E87A-4B95-A161-3DB57324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2AE-4DAF-4DA4-884F-F0ECA9E0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A38-DB20-44BF-AB72-D07AF1EF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807-BD5B-44F6-9292-F9071605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60B-DC36-4026-B3AC-31C2799B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AC0-7575-4830-B8BF-6B210CA3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011-B7FA-4392-87D5-32AE9DB2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CA6-7EC5-4C3E-8EA8-C0E405B4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69F-637E-4D4A-8F62-E921C5F6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E12-BDE1-4789-A2C6-0FF852CA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F37-8B9E-4210-8236-CAF92278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5BBD-6DE0-45E7-896C-920952CC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BD15-202A-45FA-938F-2E44C99C6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66680" y="-4680"/>
            <a:ext cx="70056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0Z</dcterms:modified>
  <cp:revision>14</cp:revision>
  <dc:subject/>
  <dc:title>PowerPoint Presentation</dc:title>
</cp:coreProperties>
</file>