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593-BAC7-446B-840A-38474602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D4F-7D2F-4D3D-A760-DDB07B6F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E1EC-1116-450E-B912-D1B0C44C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F0C-84AC-4D9C-8B0F-5CA59C34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71E0-4B4F-44AF-9953-6FF389A4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5A7-02B7-4F5D-B6A8-C8B29A2F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26D-C27B-451E-84F8-008D36BF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0D0-9B0A-466B-AC61-499764A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70C4-B78F-4A2C-BD21-893266B7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53A-FAF5-40E4-A39B-E0A73AA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82B-BD0B-4A26-9F92-B2DC604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34D-D36E-46BF-8778-EAA04FCC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45E5-C4E8-40C6-912E-DB80D075A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95560"/>
            <a:ext cx="90964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8Z</dcterms:modified>
  <cp:revision>18</cp:revision>
  <dc:subject/>
  <dc:title>PowerPoint Presentation</dc:title>
</cp:coreProperties>
</file>