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D8BF-EA76-4A8F-8B63-52C77CD1F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560B-2C9F-44E7-ABE1-9DB5F081ED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96A-1879-4553-95CB-B5A51799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D6E-E32D-442E-ADA5-AFD17D2C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D7D-8E16-4CDE-98FE-EB5393A4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42F-755F-4861-8D68-99D24911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6C9-02F1-46E1-82B2-68EBAA5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55F-A453-4D16-B987-1E902212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5F5A-5AAB-4EF8-A504-B8523A66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F00-0E31-41C7-A9DD-645E81A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DAB-BAFF-4871-B16F-9261C18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4ED-658F-458F-9C9D-20E00A7E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3C4E-4F9F-444B-B28C-CAE6E0C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607-7227-4B45-B3D7-6FFF142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4192-CF2F-4184-AB38-103418342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aas4064.asadmin.duke.edu:60620/results/C/Users/lc135/conovermapchart5_9.pn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6419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143000" y="685800"/>
            <a:ext cx="693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.9--Medicaid expenditures as a percent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le 2"/>
          <p:cNvSpPr/>
          <p:nvPr/>
        </p:nvSpPr>
        <p:spPr>
          <a:xfrm>
            <a:off x="1104840" y="609480"/>
            <a:ext cx="6934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7a | Medicaid expenditures as a percentage of total state government expenditures, FY200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63400" y="6213600"/>
            <a:ext cx="821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National Association of State Budget Officers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tate Expenditure Report Fiscal Year 2008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www.nasbo.org/Publications/StateExpenditureReport/tabid/79/Default.aspx (accessed June 15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/>
  <dc:language>en-US</dc:language>
  <cp:lastModifiedBy>Jia Yao</cp:lastModifiedBy>
  <dcterms:modified xsi:type="dcterms:W3CDTF">2013-09-06T13:59:4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/>
  </property>
</Properties>
</file>