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799-1C20-4986-80B1-F1C763A9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2BD-BBA2-4821-B58B-D7570AA7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7E7-81A5-49AE-B2EF-EB2AE01E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99-0365-40D0-A8DB-A7ED5A9C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AF25-15D5-4BFB-9E6C-E2897EED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6E31-0BF3-4A81-A475-BD87D22D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405-0B99-4D44-B56D-BA907852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3DB-6FE8-4466-A8BD-9E23061C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C29A-A614-4FDF-BF5E-E0CC7A1E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21B6-7A0D-4382-8D36-FF3FF5C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8C6B-54DF-4FDF-93F0-8D950D9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D01F-EB3C-42A7-9817-A0EE173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967-AA79-443A-B85B-C5BE93AE5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520" y="304920"/>
            <a:ext cx="912348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23Z</dcterms:modified>
  <cp:revision>14</cp:revision>
  <dc:subject/>
  <dc:title>PowerPoint Presentation</dc:title>
</cp:coreProperties>
</file>