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9FAA-9876-4456-824F-DC843C59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49A-B49D-4EDD-99B2-CED4A919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6FE-7CE0-425F-A8B3-78CE151B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14F-3286-47C8-B8CE-CD0352FE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9536-5B14-42F2-88AB-F8D16832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073-C7B1-4536-B803-FAA4F953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C935-45CB-4205-B666-2B9F599C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26C9-B40C-419F-8FBA-CD42CD8E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B3D-B802-46DA-91B1-3BA214FC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FE4-2813-4F6D-9D3A-AE87D514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367-27E3-4E84-A4CE-21B5F043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62F-C6F8-4818-A3B7-EBB73746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290B-DD85-45C9-9FE2-1F8A1A9B0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6Z</dcterms:modified>
  <cp:revision>14</cp:revision>
  <dc:subject/>
  <dc:title>PowerPoint Presentation</dc:title>
</cp:coreProperties>
</file>