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5E4C-2E7A-4C1D-91D6-913DD0B14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F75B-454E-42BF-81CC-92D08F43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46B6-C45F-428B-B72A-7483749ED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C063-3EF1-447C-8F66-A2B2DEA3F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C130-FC44-4F59-A188-64F0509B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8D27-EE85-4807-BECE-C9DE4725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0180-7018-431E-85C0-D2F52BE9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88E5-1A90-47CD-95A2-772F4CB8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FCA3-DED9-48A2-8BDB-F90364EC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4FE5-2DA2-4F1E-86F7-E4D4A8A2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B7BC-9951-47C7-A920-6302D523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E167-DFB6-436D-AEA6-A016E7F6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8FD0-533A-4D1B-8FA4-CEDDADCF81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09440" y="1143000"/>
            <a:ext cx="8925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5Z</dcterms:modified>
  <cp:revision>14</cp:revision>
  <dc:subject/>
  <dc:title>PowerPoint Presentation</dc:title>
</cp:coreProperties>
</file>