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D845-4BB2-49CB-BA93-BB30458DF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B | FEDERAL HEALTH EXPENDITURES WITH TRANSFER ADJUSTMENTS AS A PERCENTAGE OF TOTAL FEDERAL, STATE AND LOCAL HEALTH EXPENDITURES, 1929-20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D1CB-96E4-4E8B-BD4B-0CD417699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61B-9222-45E3-8C4A-6873BE36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871-71A0-4B7B-AD6D-49A6ECA2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60F-7FD9-4BC9-9AC8-45584EA7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E57-00F6-4DCE-9F8A-F5C1ADD1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F5D-073D-4540-A359-B44C91E6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5CD-EBA2-41CD-8918-F17E599A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6EA-495E-4885-AC17-9C9844B2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797-93C6-4691-981C-0A3F97D9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E7A-61F0-4D4A-B374-D59FCB1A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080C-DA81-490C-883D-EF5990B7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F9BB-15FA-4334-BED2-4A465D5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A4E-5DB2-49F4-BF92-8647B639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4A2B-53D3-45F5-AEB7-E352D87E3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b | Taking into account Federal transfers to states for health, the Federal share of government health spending exceeds 70 perc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9716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84440" y="1676520"/>
            <a:ext cx="459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ederal percentage of total government health expendi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b | Taking into account Federal transfers to states for health, the Federal share of government health spending exceeds 70 percent </dc:description>
  <dc:language>en-US</dc:language>
  <cp:lastModifiedBy>Jia Yao</cp:lastModifiedBy>
  <dcterms:modified xsi:type="dcterms:W3CDTF">2013-09-06T13:59:32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b | Taking into account Federal transfers to states for health, the Federal share of government health spending exceeds 70 percent </vt:lpwstr>
  </property>
</Properties>
</file>