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CE34-782E-49E2-8F14-9F6F93798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, SELECTED STATES, 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34F-4EF3-4915-AF64-3115401BD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918-1DDC-4F47-8B35-E181D48E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28AD-8898-4C7A-9B72-E60A657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DDE-B2B4-4A26-8F77-5A56A0FB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8FD-230A-4C2B-BCA0-303E0B10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F03-4895-4675-A65A-F423CC1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6F7E-FB9D-4567-A8DC-F6925E23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4DE-0099-46BE-9C1C-3A19E4F9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C99-33DC-4893-84C2-BFCAEDCD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FDB-4C20-4B8F-A03F-ABA82385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CAA-409D-4497-AD90-3C7D5E01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78BB-EF02-4182-878E-F797AA8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548-EB78-42D2-9418-E283DA5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B500-D9DE-4E2D-881D-59101EC8D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b | Federal Medicaid and CHIP spending per poor person varies widely by state, the amount does not decline as state income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23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057400" y="58672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tates ranked by size of 2008 per capita 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b | Federal Medicaid and CHIP spending per poor person varies widely by state, the amount does not decline as state income rises</dc:description>
  <dc:language>en-US</dc:language>
  <cp:lastModifiedBy>Jia Yao</cp:lastModifiedBy>
  <dcterms:modified xsi:type="dcterms:W3CDTF">2013-09-06T13:59:41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b | Federal Medicaid and CHIP spending per poor person varies widely by state, the amount does not decline as state income rises</vt:lpwstr>
  </property>
</Properties>
</file>