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5E83-2713-4A16-AB6A-BE843BFE0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B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F734-D20C-43F1-90AD-C4D837C06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C11-259A-48D6-8F32-5D8EF48C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5DF-2160-4995-A32B-A8D609E1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7BC-8675-402A-BCFF-29533207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55B-92D7-4DFE-BB8F-6422D4E8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804-43EB-40B4-BBDD-BCFC3E9A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7B1-BB34-4816-A742-1CA86578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BA1-3842-412A-8686-A564220D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ACE-11F8-42AD-A45B-D7BF2A4C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E0D-7B13-4FD6-AFEF-CAA1199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1E9-7332-4470-8B19-D521F99B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327-1553-4082-B925-571C4E6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E99-DE07-4F9E-80F2-45CD7827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8522-4E82-4689-9899-99ABB9E0C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b | In the G7, U.S. has the highest share of government spending devoted to health , but the lowest public share of total health spe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8276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b | In the G7, U.S. has the highest share of government spending devoted to health , but the lowest public share of total health spending </dc:description>
  <dc:language>en-US</dc:language>
  <cp:lastModifiedBy>Jia Yao</cp:lastModifiedBy>
  <dcterms:modified xsi:type="dcterms:W3CDTF">2013-09-06T14:00:0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b | In the G7, U.S. has the highest share of government spending devoted to health , but the lowest public share of total health spending </vt:lpwstr>
  </property>
</Properties>
</file>