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476-0F2A-4E70-8B97-03C3B71C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051-A6ED-4256-9240-77B28133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927-8820-411C-9193-04AF6E34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23DE-BA18-41EB-BE72-7781AD68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C5E-E511-484A-B997-B7207A9D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F64-0F0E-4BBD-B1DB-5C35E18A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8EB-29A2-4C6B-BD70-176644AB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0470-AF81-47F3-8F54-AD865B5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4D0-2864-40DA-A533-40A4FD4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298-FA88-47EF-8D7C-E5845532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4B2-51E6-49AC-BC81-F26EB63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D983-65E7-411D-B6C6-7994A5F6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F094-7C8B-474D-8C12-B2C08CEF2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9200"/>
            <a:ext cx="914400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1Z</dcterms:modified>
  <cp:revision>14</cp:revision>
  <dc:subject/>
  <dc:title>PowerPoint Presentation</dc:title>
</cp:coreProperties>
</file>