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FE9-8E58-4E79-9B0F-24A9B0ADD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3A | TOTAL GENERAL GOVERNMENT EXPENDITURES AND PUBLIC EXPENDITURES ON HEALTH AS A PERCENT OF GDP FOR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C1DD-080B-4C20-BB5F-6427B4B192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290-E652-434F-946C-BDA23D23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22C-DA3C-47B5-89C3-AEFD6DFA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0DF-264C-4A32-A6C1-952F66D5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694-26DD-4978-AEAC-079823C15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FF22-466A-419C-A381-05BBDE3C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DBCC-CC7C-4AB3-90FB-305D5FC7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B9B-5F0C-4A12-84FE-79938264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854-D88F-4FCC-B516-247948AA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52B4-A22C-4BE0-820E-553C28C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FA7-C85A-4D77-9E90-20520CC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79C-1D0A-497D-B6FD-072AE87B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63A-839F-4E51-B5F0-98674362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F5A7-49CE-41E1-AB32-2742DD911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3a | The U.S. share of GDP devoted to tax-financed health spending is comparable to that of its G7 competi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967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2819520" y="5867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G7 members ranked by size of 2007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637920" y="639288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3a | The U.S. share of GDP devoted to tax-financed health spending is comparable to that of its G7 competitors.</dc:description>
  <dc:language>en-US</dc:language>
  <cp:lastModifiedBy>Jia Yao</cp:lastModifiedBy>
  <dcterms:modified xsi:type="dcterms:W3CDTF">2013-09-06T13:59:34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3a | The U.S. share of GDP devoted to tax-financed health spending is comparable to that of its G7 competitors.</vt:lpwstr>
  </property>
</Properties>
</file>