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EF51-8BF3-4A32-8514-9762FAC99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7B | MEDICAID EXPENDITURES AS A PERCENT OF STATE AND LOCAL GOVERNMENT EXPENDITURES FOR THE HIGHEST AND LOWEST STATES (INCLUDING FEDERAL FUNDS)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EA64-D77C-4918-8F5D-D1668F2484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57AC-64D5-489A-AD05-5E142AA2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EA7D-C391-4747-AD0B-B9AB630B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407-386B-4F6F-AF96-B2DEB8E3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ED5-5785-41FE-98A0-60715974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ACB-BDAC-4398-AF80-A7AA0427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C2D2-354A-433C-B74E-524ECA85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396F-55BE-4F43-B599-1CEFC804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B4B-13C7-491F-BDB9-6A631483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B9DA-4572-4FB6-A713-36A72E99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B1F-1B36-48C3-89A2-DAE311A0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2EB7-ECD3-4FDB-99BC-D61159EE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D48-F3D9-4251-9F2B-68793605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2574-1124-4596-B326-97892CF56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7b | The Medicaid share of state spending varies by a factor of 3 across st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88800" y="863640"/>
            <a:ext cx="8425080" cy="2616120"/>
          </a:xfrm>
          <a:prstGeom prst="rect">
            <a:avLst/>
          </a:prstGeom>
          <a:ln w="0">
            <a:noFill/>
          </a:ln>
        </p:spPr>
      </p:pic>
      <p:pic>
        <p:nvPicPr>
          <p:cNvPr id="50" name="Chart 4" descr=""/>
          <p:cNvPicPr/>
          <p:nvPr/>
        </p:nvPicPr>
        <p:blipFill>
          <a:blip r:embed="rId2"/>
          <a:stretch/>
        </p:blipFill>
        <p:spPr>
          <a:xfrm>
            <a:off x="388800" y="3149640"/>
            <a:ext cx="8196480" cy="307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2057400" y="5334120"/>
            <a:ext cx="55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edicaid percentage of total state/local government expenditures, including federal funds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7b | The Medicaid share of state spending varies by a factor of 3 across states </dc:description>
  <dc:language>en-US</dc:language>
  <cp:lastModifiedBy>Jia Yao</cp:lastModifiedBy>
  <dcterms:modified xsi:type="dcterms:W3CDTF">2013-09-06T13:59:46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7b | The Medicaid share of state spending varies by a factor of 3 across states </vt:lpwstr>
  </property>
</Properties>
</file>