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38F3-0B3B-486A-938C-A4753E7F1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D041-154F-4A37-B022-30891EAE1CD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2a | AVERAGE TAX SUBSIDY AND TAX SUBSIDY AS A PERCENT OF PREMIUMS, BY INCOME CLASS: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A0C2-E29C-41A3-A2B6-932D0581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6A0-9465-4A18-83FA-5D1AD785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A02C-8870-4601-B444-1F5E46E5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3F35-C7ED-4BEE-AC0D-0FF7B5C1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5C50-A36F-41E7-A846-D59397A0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7DB5-D87E-4081-AE2D-6E3ACE21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2FC9-5C96-4E40-A6B8-0834CCE5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F29A-6EFB-4154-A3AB-CBDF352C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D474-1BEF-4355-85B4-B4914137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94D4-B840-4AFD-B452-ED1CB366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03AF-FE6E-446B-BD2C-7D217D20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5007-0C3F-4C8E-BE27-95402F8C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928D-2C27-419F-A7AC-D43E75D8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252C-006F-430A-A07C-0323433F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80FB-03EE-49F9-A659-5A38ACEE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F0F9-DD3E-4B8F-9473-47CA1148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8836-7872-4217-942A-BBF49E18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C1B0-8557-4BDC-9C17-A3E9DABC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29ED-6EFC-4320-86E5-F81EBBE8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8439-307D-4738-A340-F96852C9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974-569D-4FC2-92B5-793E3C16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C3AF-4585-496F-8C5E-D5BA12F5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1EAF-7317-4B5A-844C-DAF7DDCB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B22A-4D27-4D2E-8914-87C7EF04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9A12-49DE-4F81-97BA-0CDBBEBAF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D4B5-E6DA-4EBA-8033-B02325E106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2a | Higher income families get a substantially higher subsidy from the employer tax exclusion compared to low income famili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406440" y="787320"/>
            <a:ext cx="836928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114840" y="5867280"/>
            <a:ext cx="96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Burman L, S Khitatrakun and S Goodell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ax Subsidies for Private Health Insuranc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o Benefits and at What Cost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bert Wood Johnson Foundation. 2009 Upda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ceton. July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2a | Higher income families get a substantially higher subsidy from the employer tax exclusion compared to low income families</dc:description>
  <dc:language>en-US</dc:language>
  <cp:lastModifiedBy>Jia Yao</cp:lastModifiedBy>
  <cp:lastPrinted>2002-05-16T21:44:34Z</cp:lastPrinted>
  <dcterms:modified xsi:type="dcterms:W3CDTF">2013-09-06T13:50:01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2a | Higher income families get a substantially higher subsidy from the employer tax exclusion compared to low income families</vt:lpwstr>
  </property>
</Properties>
</file>