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D7F9-577C-4A23-A39E-B1F4A7F85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CF0E-09C3-4B5E-A4B2-38B1393E27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2b | TAX SUBSIDY AND PREMIUM AS A PERCENT OF AFTER-TAX INCOME, BY INCOME CLASS: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195-427A-49E8-A56F-3259DC97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A6D-3714-4B3F-88A8-4B42A47F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8BEB-53B0-4AD8-9323-35BE4F6E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6FC-B989-46D3-93A1-7D96C44D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4AB4-2C0C-41E7-A748-EB2F1AFE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4125-8B13-4ECE-A692-74D0F272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B687-A451-4094-8D57-2991BAB5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F76F-9EA3-4706-B9DC-DD8A1F0D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9548-9E2E-499E-9050-6A657E3B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2A8D-630B-4F48-8D99-B4C2506C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1A41-4267-469E-9A2B-E676E8BF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A9F-8D19-4458-8DDD-D95707E5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02AA-81CE-4CF0-8AC2-9A702959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682F-88D8-485C-A2B8-E439871F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62B1-FC9B-49E5-B33F-86320FA8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04AC-13AA-441F-96F4-054E5A77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E9D8-CCE5-4229-BE2F-971C583E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9F8-2E03-4A61-AFBF-89DB7719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E55-D64E-4158-A0FF-914AB1D5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38E-64B4-419F-91E5-838527F4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EDE-A0B6-426D-A168-94B1573A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CF5-0C38-4D86-9698-3BEF9092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05B-FB17-4CED-ADD8-2284CC44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8DA-A65D-4221-AF15-FE487DC1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1814-39BB-4D67-99BA-D45FFC470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81C1-6196-41DC-8496-4624F1452D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2b | The share of income needed for health insurance rises sharply as income declines; the tax exclusion mitigates this only slightl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44600" y="787320"/>
            <a:ext cx="852156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1240" y="5867280"/>
            <a:ext cx="9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Burman L, S Khitatrakun and S Goodel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x Subsidies for Private Health Insuran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o Benefits and at What Cost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bert Wood Johnson Foundation. 2009 Upd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ceton. July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2b | The share of income needed for health insurance rises sharply as income declines; the tax exclusion mitigates this only slightly</dc:description>
  <dc:language>en-US</dc:language>
  <cp:lastModifiedBy>Jia Yao</cp:lastModifiedBy>
  <cp:lastPrinted>2002-05-16T21:44:34Z</cp:lastPrinted>
  <dcterms:modified xsi:type="dcterms:W3CDTF">2013-09-06T13:50:43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2b | The share of income needed for health insurance rises sharply as income declines; the tax exclusion mitigates this only slightly</vt:lpwstr>
  </property>
</Properties>
</file>