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84B7-52AF-4E55-92A3-27238FB179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4C8B-D8BE-46B0-BD64-197C9BB9B1B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3b | HEALTH INSURANCE BENEFITS OFFER RATES AND TAKE-UP RATES, BY SIZE OF FIRM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2D6F-4735-415D-A5A9-392CD75A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D7AB-BCC5-4D5E-B147-5A04A87E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8D3C-F062-4E3C-B3B7-49164277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28C0-4A60-4F39-9757-3A056322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BCD9-84CC-4716-9CD2-12AE8AB9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CD1F-7496-4230-BF43-D0F521A7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5912-D3FE-4DF3-88EB-F4AAA196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8114-DFD5-4D9B-A297-033C226F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8939-0562-47F4-97E8-F01AA50C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1B60-975C-433E-BF17-AAACB870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D3E9-348B-441D-A295-051F550F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9AA-2179-45EF-9FC8-B7CE3B3B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5BF7-5105-4DEF-A165-6AC35111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611D-3960-4FA1-84B9-84E1F00D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AA98-E969-4886-8728-258D681D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7C45-BAF6-485F-A322-BAABBAB7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BEB7-A680-424D-9A94-C24E47FE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96A6-A0EB-41D9-A7D4-0B95F5F6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7BE-5E9E-45DF-AA12-BE735538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BD8D-B177-49B4-9442-DA397A4C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5057-DFD0-47BB-9534-9D68625F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5502-A7B0-4F94-AC95-D4FB658D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512B-28D4-4CA3-AD36-6EF17BFF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A73-3BF5-4EB2-B003-C1FFAFBC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E159-C812-4AE0-8AFA-BDD1F6F89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F17A-6112-4C31-B49D-A59E61B9CB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3b | Among all industries, health care and retail trade have the lowest rates of offering health plans, reflecting their large number of small firm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01520" y="787320"/>
            <a:ext cx="9045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2840040" y="838080"/>
            <a:ext cx="3463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(201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3b | Among all industries, health care and retail trade have the lowest rates of offering health plans, reflecting their large number of small firms</dc:description>
  <dc:language>en-US</dc:language>
  <cp:lastModifiedBy>Jia Yao</cp:lastModifiedBy>
  <cp:lastPrinted>2002-05-16T21:44:34Z</cp:lastPrinted>
  <dcterms:modified xsi:type="dcterms:W3CDTF">2013-09-06T13:50:06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3b | Among all industries, health care and retail trade have the lowest rates of offering health plans, reflecting their large number of small firms</vt:lpwstr>
  </property>
</Properties>
</file>