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2641-B905-47E6-9C14-9480DF0F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0DC7-8B12-44B2-9ECA-73020678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ADEA-5E12-4847-9534-D8DE11B7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6A78-5E88-45C8-A1DF-10857AAB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2C2B-F2D0-40A0-95AE-CB5580DB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6BE5-8521-47E1-B13F-444A0D56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804B-CCB6-438C-BCFF-18B6E5EF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0284-7B63-4389-818D-8EECB7CE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1C04-7E58-44E1-B976-6A101AB0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F766-9C6F-4252-BA1C-46B6FF7C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62F7-4358-4DF4-BEAD-ECB4820C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93FB-2FC7-48C6-9E17-61429AA8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8D18-153F-4574-9CD5-BA8FC773A8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8600" y="25560"/>
            <a:ext cx="871848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9Z</dcterms:modified>
  <cp:revision>14</cp:revision>
  <dc:subject/>
  <dc:title>PowerPoint Presentation</dc:title>
</cp:coreProperties>
</file>