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A8A-C8E8-400D-BD4D-CF098AC6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FC6-8320-44B5-AB02-0CBE44D9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F5F-D42C-476B-AF8B-DEC5D1DD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8E2-2BC1-41C8-8EA9-69C84616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DA0-D3C0-4C71-BC3C-3F575E6D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FB4-3952-46E2-89B3-18EBD794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679-2868-42A7-8254-29A87126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9A7-CCE0-4BB9-9271-CAC2F6FA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8E1-9374-4339-9D99-AA67054E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899-33D4-47C4-B350-C4DD2243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96C-2077-468C-AEBC-AC4B3ED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9C1-5264-482A-898C-CDAFA007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7D01-8234-4CB4-BD69-C08D4AC42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8Z</dcterms:modified>
  <cp:revision>14</cp:revision>
  <dc:subject/>
  <dc:title>PowerPoint Presentation</dc:title>
</cp:coreProperties>
</file>