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A1C2-BF80-44ED-8299-0EFC704D7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ED37-058F-44E0-BB9A-0906AA36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8617-D9D2-4B9A-8F10-ADA3ECF7E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96B3-E350-4E41-A4BB-E469848E1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99F7-7464-41CD-9B4C-85991081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868C-1D2C-4AA9-AFD6-BDDC995B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FE9B-4564-4278-804D-5806ED36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E80C-B667-489C-9B2D-BFE689CD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03BC-9464-421D-A260-D970843A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BE37-4B40-4FA2-9DB4-23728D1D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9D82-28E7-4F53-9897-3A629637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A292-C58D-4CA4-BE7F-69BDAA17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D8FA-CC08-486C-9535-4382085080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4Z</dcterms:modified>
  <cp:revision>12</cp:revision>
  <dc:subject/>
  <dc:title>PowerPoint Presentation</dc:title>
</cp:coreProperties>
</file>