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A7A-6ADC-4CBF-8B83-99675850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315-B197-49EB-B8EC-CC89E350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E04-090B-464A-BF58-9EC23771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E5B-7A1B-4EB5-AC58-B649701A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C1B-AFD7-4EA3-AA1C-BF61FB40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38B-D525-4CB9-A083-C8264C45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5B9-76A9-42B2-9A7B-90287117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001-A939-4C9A-89F7-4E5888FC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E2A-79C0-4077-AFB3-22CF7886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E96-5F1A-455C-8F5E-DF4B477A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7D7-7320-4F1F-BD02-D97C6170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EA9-7B28-48E3-A409-AF8B37B9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A725-E7D4-4033-8C34-FC23E0656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3680"/>
            <a:ext cx="90946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0Z</dcterms:modified>
  <cp:revision>12</cp:revision>
  <dc:subject/>
  <dc:title>PowerPoint Presentation</dc:title>
</cp:coreProperties>
</file>