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BA4D-F202-4961-9FAE-B12A4212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7ED6-AA6A-4541-8AF8-B71A3491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B909-B184-4D1B-A726-40C0A2B6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29BF-03F1-4F74-9EA7-A60E6297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81E9-4D82-4963-A982-FECFAB36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E45C-75AC-47E2-A3CF-1A7B1EEF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C46E-2CA0-479B-9EF6-8E16FF33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57A5-0976-4FA8-B575-58112BD6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61D4-658E-4EA7-A922-52E10775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9DC9-3B49-4E1C-8830-30BA4EFC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7D2B-4544-4C3B-ADB0-46C7907A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EE52-8781-4EE7-9F67-3443660E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C5DD-ADAD-4204-91ED-2EE2EFD29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5440"/>
            <a:ext cx="911556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6Z</dcterms:modified>
  <cp:revision>14</cp:revision>
  <dc:subject/>
  <dc:title>PowerPoint Presentation</dc:title>
</cp:coreProperties>
</file>