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E3C-D223-4F48-8971-004F7520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BA1-2B00-4509-8AC1-678FD348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563-0440-4ED1-B4F9-AC72B70A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2F3-962E-48BA-AD58-976CDEF8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242-2AC1-4E1E-98FB-1B1506FA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0E9-6B76-415E-9678-8A7EBB1E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E38-C036-4EC8-99F3-DD51A5DE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03C-CE6C-4AD6-A6F5-923FACF8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466-48DE-4F1C-8B21-F505F09E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328-139A-41C3-BBCF-C1DD1C67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C1D-CBCB-4DA8-911C-54D07A6D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F76-00D9-4642-B764-D5515DC3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1861-F189-433A-BADE-F47CB0900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68200"/>
            <a:ext cx="9090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5Z</dcterms:modified>
  <cp:revision>14</cp:revision>
  <dc:subject/>
  <dc:title>PowerPoint Presentation</dc:title>
</cp:coreProperties>
</file>