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AED8D-48D0-437E-A512-43328E7C2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57E52-A560-4124-BDCD-BA2A50334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78B79-8A0D-4410-9599-2BFF8CEF8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7BF78-9F30-43C3-91A1-0A52059DD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74D88-E8A2-4DFD-8C54-600ABA17B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66956-EA81-431C-A7C2-33BF9B87B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3BAC6-D348-407A-B478-BD0D1D9EC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BBCDB-D3E7-44D8-9879-8C3274239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D10B4-5953-45B2-BB98-9DC675581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D7000-1C5C-4BBC-AD9C-4B6C0C9A9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F6C83-A996-4AA0-BFF4-76B523DA5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6379E-1937-4E9D-8188-6EE803CC4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C1F8F-1867-49D9-A293-2592611B30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136440"/>
            <a:ext cx="9144000" cy="658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2:12Z</dcterms:modified>
  <cp:revision>12</cp:revision>
  <dc:subject/>
  <dc:title>PowerPoint Presentation</dc:title>
</cp:coreProperties>
</file>