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E06C-542F-468A-B6A4-E6F6A0B2E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10DC-9042-4841-8725-0C5270BA24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a | HEALTH INSURANCE BENEFITS OFFER RATES, BY SIZE OF FIRM, 1999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63C-229B-4F88-AB1D-0E0BA100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A3C-E2F1-4264-ABD6-E1CE9B83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AFE-16FA-476A-821E-D808D994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E29-A2B1-4EF9-9235-6E022781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3A78-D44D-41EE-9A10-91CD29A4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D627-EDA1-4E36-A410-09FE375B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9203-B64F-4F87-994C-A0A12F68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1D7B-4D07-4315-A9A5-99A7D68B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0571-E86D-4719-9906-735495E6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1AE5-AD0C-41EA-BC7B-1130CA9B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F2E3-5CC3-4445-BAD8-2387447A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C74-7249-41DC-9437-FDD61090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745C-691C-4329-96EE-7D4AA183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952A-51C9-4675-8F2C-B8AB8764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B73A-712D-4360-AF2F-75031133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7235-477D-4904-B949-7E029CC0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6574-59AB-477C-A224-93EE94D8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39E-DCB5-4603-9C26-8DE1EF72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EBC-8DE1-4410-9968-C1AC179F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7C0-C7D2-42FE-B08E-35EAED6E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C43-AF73-4624-B38D-44C3BE1C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DD5-F399-4C15-803C-820DC279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C20-98A4-407C-ABD9-23630F27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4CD-8804-47A3-8445-ADD9921D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2868-965C-4EB1-87C5-E43779BAA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D7A4-27BB-48ED-AF89-FA685986C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a | The percentage of the very smallest firms offering health benefits has been below 60 percent for more than a decad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49400" y="787320"/>
            <a:ext cx="90453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a | The percentage of the very smallest firms offering health benefits has been below 60 percent for more than a decade</dc:description>
  <dc:language>en-US</dc:language>
  <cp:lastModifiedBy>Jia Yao</cp:lastModifiedBy>
  <cp:lastPrinted>2002-05-16T21:44:34Z</cp:lastPrinted>
  <dcterms:modified xsi:type="dcterms:W3CDTF">2013-09-06T13:50:08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a | The percentage of the very smallest firms offering health benefits has been below 60 percent for more than a decade</vt:lpwstr>
  </property>
</Properties>
</file>