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0122-2E1A-4272-A63D-14FE6CEE7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41BC-F38C-43CC-960D-5E818D1BD8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3a | HEALTH INSURANCE BENEFITS OFFER RATES AND TAKE-UP RATES, BY SIZE OF FIRM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194-407D-4DC6-8E94-FFA965BB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42AE-3C2A-47B1-A808-1AA9B550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EEB7-AB73-422B-A8F8-F80F0D43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7FC4-A6C3-4818-BC94-DCF17E0A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DD04-E561-4067-A892-5AD98552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3199-7044-4F8B-BFD1-D1362100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FA16-18D7-4120-99F4-FFD2947F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611A-295A-407D-8453-93B07055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7491-9355-4AC7-9844-ED359D62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4205-38FE-418A-B6D4-47063EC8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E5C2-C40E-4888-B31E-2F6DC1DD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F79-D029-45CA-8E3A-14F049DA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9026-CB5E-4DF0-BB7C-4C28EFCF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91F5-7847-48E3-9452-D0C3515A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2FC1-51E1-4F85-8C1F-7F19F671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DE0A-2381-4EF8-A0CF-1F01C10D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2B14-D91F-4C4D-A72D-A1D4F032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9EC5-D076-48F9-A2B0-D4E8D041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9A8-DB66-4C92-83CB-529FD5F5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127D-EF9B-4084-985C-C6764BEE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D25C-673B-4489-9DF0-DD794193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963F-B61A-44AA-ADB9-925AA00E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5F3-7F70-4A3E-86D6-2770AD02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A07D-FD45-474B-9A76-07F620B1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ACDF-0EDC-4BB5-91A0-BA5B8BEA7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7EDA-7285-4E76-9A7F-27F3B6A2E4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3a | Under two-thirds of small firms offer health plans, but the share of workers eligible and participating in such plans is similar to large firm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9045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3a | Under two-thirds of small firms offer health plans, but the share of workers eligible and participating in such plans is similar to large firms</dc:description>
  <dc:language>en-US</dc:language>
  <cp:lastModifiedBy>Jia Yao</cp:lastModifiedBy>
  <cp:lastPrinted>2002-05-16T21:44:34Z</cp:lastPrinted>
  <dcterms:modified xsi:type="dcterms:W3CDTF">2013-09-06T13:50:05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3a | Under two-thirds of small firms offer health plans, but the share of workers eligible and participating in such plans is similar to large firms</vt:lpwstr>
  </property>
</Properties>
</file>