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8B5F-78A1-44C0-B2C0-9AEBEC88DE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8958-8FE9-4909-AE38-18D4F78D675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2a | AVERAGE TAX SUBSIDY AND TAX SUBSIDY AS A PERCENT OF PREMIUMS, BY INCOME CLASS: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2DA8-8C13-49B1-B4D0-1A1E72AD0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CE41-C959-43FB-B67D-F7F36DA1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EE68-93A3-440B-9450-C422AB3AE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0D82-147B-4646-B022-F5D2EBB16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3C7A-7548-4592-A65C-49243DBD9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0969-AD9B-49EA-B54D-E71C1BE3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005E-AEBD-4B6B-A49B-17EB5690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FCC9-07E1-40CB-8660-286CE961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847E-C360-41DB-8F18-8610898A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81E9-D006-4CA8-AFB9-5D9A81EB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C8C4-0008-4401-BCF7-DFB16ACD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AAB5-255A-4A3A-AE02-73140BC5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FE76-A362-493E-9D4D-A0326C99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4141-08A5-4709-B635-D84F4AC2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52F0-76AA-4563-848C-08EB4F0A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B3DA-8C59-4CD8-AE3D-FF18835D5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D1B5-DEFD-432D-B845-ED25904DE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BE15-20BA-434B-93B4-BF2E8762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071B-1017-45AE-B7C2-5B63B925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480F-0C13-4D58-8C69-A7793196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9E28-75F2-4147-B9B5-220505A5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C165-1046-4DA2-87F3-F37618EF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672F-3292-4714-B24B-6467CC7F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3BC4-A750-45F5-B884-3E4751A8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A1B8-FCF0-44A3-8F76-09122D1BA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FF29-E3D2-4B1B-AA33-D9A600FA67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2a | Higher income families get a substantially higher subsidy from the employer tax exclusion compared to low income familie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406440" y="787320"/>
            <a:ext cx="836928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114840" y="5867280"/>
            <a:ext cx="96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Burman L, S Khitatrakun and S Goodell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ax Subsidies for Private Health Insuranc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ho Benefits and at What Cost?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bert Wood Johnson Foundation. 2009 Updat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ceton. July 2009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2a | Higher income families get a substantially higher subsidy from the employer tax exclusion compared to low income families</dc:description>
  <dc:language>en-US</dc:language>
  <cp:lastModifiedBy>Jia Yao</cp:lastModifiedBy>
  <cp:lastPrinted>2002-05-16T21:44:34Z</cp:lastPrinted>
  <dcterms:modified xsi:type="dcterms:W3CDTF">2013-09-06T13:50:01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2a | Higher income families get a substantially higher subsidy from the employer tax exclusion compared to low income families</vt:lpwstr>
  </property>
</Properties>
</file>