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A75-298F-44BF-8D50-9DE710CE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C1E-F17D-413F-B34C-87FE0D8A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D2C-1C55-4B77-B9EE-A8C97DAE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8B0-284D-429B-B49B-CD071766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0FE-A379-4BC4-AAAD-35C5A724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59F-2C96-42C9-8F8E-8F13E7BF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71B-147A-4A25-BB38-023D44BF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79D-6984-4C9B-9C25-17F9FAE3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33B-9537-4355-BBD0-499248AF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E7C-F06B-4BF0-8ED0-4602839F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DC4-D82E-4A4A-A14A-C6BD114E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C70-79E1-4A71-8BF4-142CD281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81E0-BCA1-4668-BB7D-60DC6688D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048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1Z</dcterms:modified>
  <cp:revision>12</cp:revision>
  <dc:subject/>
  <dc:title>PowerPoint Presentation</dc:title>
</cp:coreProperties>
</file>