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C0A7-9038-402A-96B5-78AB0B693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47B2-0304-4468-B370-B9A5A0E80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E46D-10CA-408E-93C4-A04812597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EEFB-0A4D-44FC-A2AB-BD2AC67BF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5A99-F16A-4963-A665-2584DEC94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012C-5069-4151-9A18-603322BDD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5534-D341-45D3-A491-B077BBAA7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CFD4-6E38-4F8B-838D-40AE7AF0D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07CE-6629-4A24-9C65-595C2AB2B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C793-81D0-4EB8-B545-DF54F6DC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B6A8-03D9-4935-9CCC-EC6BF0A6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C363-00E0-4C82-8495-3C963D07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31BCD-5927-4738-AC5B-BBDEF92D1C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7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2:14Z</dcterms:modified>
  <cp:revision>12</cp:revision>
  <dc:subject/>
  <dc:title>PowerPoint Presentation</dc:title>
</cp:coreProperties>
</file>