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FD2C-E9D0-4600-941E-EC500AE31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37EE-F92D-4650-A7E5-6285D1C5EF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a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0F3-F437-4860-84A4-8E599C33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943-B635-4E5D-B7E8-F79F319E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170-AF49-4FBD-8195-19F72955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3F3-F78E-4F90-A738-A4C7112F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7F4B-581E-4DE9-A344-EEBC582B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1B32-679D-43E8-87AF-4BB2E8AD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74C5-C79A-487A-BB83-B662BC75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8AD8-7E15-47C4-A0D9-57BC958B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F4F2-D575-492F-8924-CED46982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3F65-7873-47F8-B0F6-6677D557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2E22-3C85-4777-9A58-0532BDC4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46C-AFEA-4A7F-BBE4-B7A5B69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F5AB-5FB9-4FC5-A398-A17F426F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32FC-E102-4534-AE2A-CEFE1017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815D-A410-4A0F-9215-EBE402BB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FE31-F314-4684-88A2-093F5C84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E02C-905A-4DA9-908E-15B4FEAC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E19-E7AC-419C-A49B-6770EB27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313-EFC9-4BC3-BBB1-D4F01937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899-09B5-471F-9416-CC65F3B6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1E3-0703-4122-A04E-C69DD42F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C7D-04BD-4D62-A0B1-8FC66D8F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8F1-63D2-4435-85A9-08CB32D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B38-422D-429C-8A02-3A88DC3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6E9C-F65B-4AB3-B785-59ED63B9F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AE39-C4D7-4D18-8DB0-C48F17EBD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a | Over six decades, both health and non-health supplements to wages and salaries have grown dramatically relative to worker p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a | Over six decades, both health and non-health supplements to wages and salaries have grown dramatically relative to worker pay</dc:description>
  <dc:language>en-US</dc:language>
  <cp:lastModifiedBy>Jia Yao</cp:lastModifiedBy>
  <cp:lastPrinted>2002-05-16T21:44:34Z</cp:lastPrinted>
  <dcterms:modified xsi:type="dcterms:W3CDTF">2013-09-06T13:49:57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a | Over six decades, both health and non-health supplements to wages and salaries have grown dramatically relative to worker pay</vt:lpwstr>
  </property>
</Properties>
</file>