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3030-1849-4D48-9EB8-995FFF457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076E-2028-4FE9-8613-E817D02CD9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1b | EMPLOYER CONTRIBUTIONS FOR HEALTH INSURANCE AS A PERCENT OF ALL EMPLOYER-PAID FRINGE BENEFIT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80B-D11F-443D-8ACF-EC9655BE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A15-58A7-401C-9B01-B8FAA896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15C9-83AA-4F11-9FE2-975032B8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98A2-B02A-49D0-8BB8-7DACE464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247C-EE51-4BDF-B272-E7B52B6D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DAC6-CCD5-41F1-AD7F-CBFC5AB3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457B-F8A9-4618-80A6-2C624E84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A42E-CECC-4F44-83EC-C2D0BFD3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FDB4-4D7B-4027-B2D6-DF21A5EB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1AA9-B5E1-4413-B7CD-5766D6EF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4650-96F4-40CD-A995-5EA67FA8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1C5-E2E3-44F8-99F2-541A8E47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450A-1F61-4931-9D44-0CC6E104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AB41-2734-4974-B482-8C7A4D50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CE52-CB9E-4F30-BD00-832CDAC8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41F9-2040-4B57-A6D0-C4388AAD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2307-BF2A-4859-90BB-C1FDFE2B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4D4F-4E78-4CE8-ABE4-4A948534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462-C93E-47A9-A5AF-713CEBA7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A3C7-4090-48D5-BABA-B178C344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C99-885A-4281-8455-9120FE6D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B34-39B3-4767-AC3C-BEDDE7F8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010-B224-42E4-AA21-3A6949AE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B60-C612-4564-BE14-2D950040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B0F6-D24A-435C-891D-159E49DE0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877B-70B1-42A3-A22A-0908E4DE75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1b | Health-related employer contributions have absorbed a growing share of supplements, now accounting for nearly half the total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1b | Health-related employer contributions have absorbed a growing share of supplements, now accounting for nearly half the total</dc:description>
  <dc:language>en-US</dc:language>
  <cp:lastModifiedBy>Jia Yao</cp:lastModifiedBy>
  <cp:lastPrinted>2002-05-16T21:44:34Z</cp:lastPrinted>
  <dcterms:modified xsi:type="dcterms:W3CDTF">2013-09-06T13:49:59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1b | Health-related employer contributions have absorbed a growing share of supplements, now accounting for nearly half the total</vt:lpwstr>
  </property>
</Properties>
</file>