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A9A3-4912-4A58-9A25-0980908CC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5068-0882-4563-B874-63E574B394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b | HEALTH INSURANCE BENEFITS ENROLLMENT RATES, BY FIRM SIZE: 1999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5F7-B163-4117-9FBF-0C7A3768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05C-3926-4ECB-A06E-C4605F1E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F0E-CDEC-4D2F-8A37-E03388C5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227-6E00-4247-A682-A782E783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0075-6DBF-4900-9158-330345D6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8BC7-8A03-4C72-85E6-8AFBF949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097C-8207-4F9A-A943-3A10B824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C675-1B9C-48D0-873A-986DE903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A4B1-A283-4E79-95B5-01637884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6FB5-F189-435A-8809-C0CACF8C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EC22-3FD3-488B-BCB6-8A557DBF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B75-E2B9-42C6-9745-B4741485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BA23-982F-465E-8096-CCE3A40B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40EF-43D9-481C-B7EE-700419D7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CE91-0849-4C36-8ED4-84895700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FD87-4BCD-4FF9-881B-D1F4D458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3682-6F3D-42EB-9D81-B78AE6E5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2CB-C920-4ACE-A810-6CAD79C4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A19-BDED-406D-BCF1-B116CD28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864-254E-4AC4-AE35-E72A10D1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F03-3811-4C58-910B-455CE436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29A7-A05A-4A93-A358-866D866B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426-B2CC-41AA-B9D1-428DB292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92B-264A-43BC-BA0D-CBA67064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1373-107E-4F5A-896D-BA85F6439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3E0F-CB12-4A49-B235-3E13ED7F0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b | Over the past decade, the percentage of employees in health benefits plans has declined in nearly all firm-size categor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b | Over the past decade, the percentage of employees in health benefits plans has declined in nearly all firm-size categories</dc:description>
  <dc:language>en-US</dc:language>
  <cp:lastModifiedBy>Jia Yao</cp:lastModifiedBy>
  <cp:lastPrinted>2002-05-16T21:44:34Z</cp:lastPrinted>
  <dcterms:modified xsi:type="dcterms:W3CDTF">2013-09-06T13:50:0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b | Over the past decade, the percentage of employees in health benefits plans has declined in nearly all firm-size categories</vt:lpwstr>
  </property>
</Properties>
</file>