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6E6-9895-4FB3-9AEE-715A87C9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1A4-CC78-4A58-AD5E-DE8FB2F7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667-A8A9-49F7-9745-18716318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C88-6A64-4562-8379-15F0F35E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4F5-A1C2-4893-9E39-6226FA06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494-9D42-48B6-A245-2699F0D2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13F-A7AE-4EAD-A3BD-9BB91722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04D-4A8C-4445-AD3E-5741E830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243-D646-4B20-90ED-3AB03813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828-6D73-4F8F-908D-64DB1060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206-824B-4108-99B9-2A55117A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A82-60F9-487A-B4CD-FCF807B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9D83-4846-4CF1-B35D-884B733DD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0Z</dcterms:modified>
  <cp:revision>6</cp:revision>
  <dc:subject/>
  <dc:title>PowerPoint Presentation</dc:title>
</cp:coreProperties>
</file>