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685-78BB-435B-A486-D6BF2DB3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8C5-5B05-4595-BE69-210DE528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D57-E78B-44B0-961A-2E0F9A10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AEA-1FEA-4C4F-B1AA-15C8D65F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AFA-C84A-42A6-B4A6-2AFB3369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A67B-85B6-4D7B-B9DB-9897BF71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6DC-99BF-4F17-A8AC-D8488AC3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BB0-7614-4215-BC82-A177E06F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76D3-FC43-4DAB-97D1-1659A7D6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EE16-212B-4E22-A848-B455777D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AC85-0F41-423C-9776-B0BA968C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C95-5D7E-4FAB-B544-DAFD3C7F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9D5E-DB59-495C-8EA4-84A08F51B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4520" y="0"/>
            <a:ext cx="899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1Z</dcterms:modified>
  <cp:revision>8</cp:revision>
  <dc:subject/>
  <dc:title>PowerPoint Presentation</dc:title>
</cp:coreProperties>
</file>