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2DE-BB99-4444-A6A3-FE15644E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F65-4EF1-4EEC-9951-F8113A94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07E-623A-4DDA-9E21-71172881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D63-3A3C-473D-B2A0-B86964EF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D98-8C65-470C-B301-443247AE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9F6-50FE-46E0-918A-9E8FA165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C5A-D910-46E5-B122-AD3628B8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D60-DE38-4AB4-9EEB-0F42C0D8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757-BBC5-4416-8CF1-42116888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04D-68CA-4A39-9FB5-60D150FE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E93-AF4B-4F40-96E6-E7EF5963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F9D-B288-4FD6-93E1-E77B8D79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FB55-B5C6-489F-A63D-6F19F7937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598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4Z</dcterms:modified>
  <cp:revision>8</cp:revision>
  <dc:subject/>
  <dc:title>PowerPoint Presentation</dc:title>
</cp:coreProperties>
</file>