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C9B-39C7-481B-90EF-E1181770C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19F4-6441-4417-A2E0-DEF5DA3992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a | Health Spending, by Source of Financing, 20 Largest OECD Nation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27E-9437-4293-ADD0-BA0C99B8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8F5-0278-4F3F-A9C9-1B4051C2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813-EB2E-4C48-A7CC-D83BA295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40D-EA43-4A48-ABAB-273E48C3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F750-41E6-48A6-A851-00D7F459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E97B-8857-488A-A0B4-ADC087CD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0D13-0C96-45C1-8F37-1779D17D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29FC-D838-49E6-AE64-B3892E71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A4EC-B9BA-4EDF-9F72-955FE04C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8A23-55F3-479C-9563-233C226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F7A1-84C9-4F43-AA87-9C02E49B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FF2-48E0-4A3F-958C-81B92BB3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4676-1959-43EA-8F9E-C6EA318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7175-F5E9-4604-A6A7-DF58159B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EBC8-E331-403A-9C43-63C7B456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E1FB-A0D1-4CE0-A65D-1FE7711F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0434-BD22-40F3-AD12-A634F88A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4CC-BE97-4A2C-B84F-20F6FAA1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8D1-12F0-4546-82A1-2655A593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D83-25A5-4A30-82D3-9B1773C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88D-C064-478A-A3A2-355B9BD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B08-9A66-47B6-A92E-F04F652B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3EB-DF85-44B3-9CB1-2BD338D1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7BE-690D-40BD-8FBA-44B7ECE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F646-BB7B-487E-BBBA-A527942F9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AE5F-1304-4661-B0AC-790564E90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a | Among the 20 largest economies in the OECD, the U.S. has the fourth lowest percent of health costs paid for out-of-poc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91960" y="787320"/>
            <a:ext cx="856008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495520" y="601992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untries ranked by out-of-pocket share of total health spend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a | Among the 20 largest economies in the OECD, the U.S. has the fourth lowest percent of health costs paid for out-of-pocket</dc:description>
  <dc:language>en-US</dc:language>
  <cp:lastModifiedBy>Jia Yao</cp:lastModifiedBy>
  <cp:lastPrinted>2002-05-16T21:44:34Z</cp:lastPrinted>
  <dcterms:modified xsi:type="dcterms:W3CDTF">2013-09-04T21:03:59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a | Among the 20 largest economies in the OECD, the U.S. has the fourth lowest percent of health costs paid for out-of-pocket</vt:lpwstr>
  </property>
</Properties>
</file>