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3EE5-2BC8-43FB-9AFB-566049F9A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2ADF-FFA7-42A9-B096-C9CBCE12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2191-E683-451A-AD4D-BA2C367DF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B05B-F1FC-45E7-9A73-75508DD1A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20E2-A186-4179-AB73-393105F6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39E6-8FA0-454F-AFE3-4D505205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8CC4-A9A6-45E1-B8A4-29DB6908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EE1B-2F13-438F-90BA-F276EA98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EF34-7D38-4A0E-9153-730CA588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2EAE-3B49-4243-AD17-4BA12E04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E20B-93BF-4399-B59A-F17F6096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C2C2-350B-4975-A220-6984A563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03A6-56AD-43DA-8AA8-971A1522AF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23920"/>
            <a:ext cx="9137520" cy="64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31Z</dcterms:modified>
  <cp:revision>10</cp:revision>
  <dc:subject/>
  <dc:title>PowerPoint Presentation</dc:title>
</cp:coreProperties>
</file>