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265D-69F2-4DC2-9413-4D6B5B652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5DE8-37F9-458E-9DA9-AEF2C9DDE37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1b | Percentage Distribution of Personal Health Expenditures, by Sponsor, 1987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39A6-DFA0-4874-830C-1A735220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AE68-4683-4B1D-AF58-4851489C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C2C4-B5CC-4E05-9ADA-BABEF0E7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D4EB-5CD5-42DC-B09E-88639C17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3359-224E-4C7A-868E-76D89337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E027-D38C-493E-B6F7-9AE91087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2699-355B-479C-BBC2-0A14A76F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5E1D-B03C-4627-836A-46F8C3EA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5E9B-F8FE-472F-B549-C25A2981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B4DF-D826-4C4F-9D78-B2EDB3EF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3FF8-528F-4213-99A0-E299ECD5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0182-FACF-4C88-AB30-9F371DEC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B241-8A49-4481-A93F-E47C0C92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C475-532D-49D6-ACBA-DA606DCE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836E-0270-4BB6-8794-00F869C8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FD48-520C-424C-AAF3-C70E42F1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0CEA-4ACD-4541-8F12-0050C0A9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18C2-ED96-4648-BAB5-750DED8E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FAA5-597B-4953-B0F0-EE305D49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B2B2-B5B8-45C6-9B4A-5E344ADD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A3EE-4BFE-4021-A237-82ADF7D0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AEEE-7707-4A2F-8E75-72430583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45E7-29A2-40D7-9926-4115B9DC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F360-2E72-4D6A-8AC1-8D8D881C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F121-D789-448D-BF0A-2B3148943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9721-5CA1-496A-814A-A4506CD202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81000" y="787320"/>
            <a:ext cx="906624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1b | Accounting for each sponsor’s share of health revenues results in a much more stable federal share of spending over 2 decad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1b | Accounting for each sponsor’s share of health revenues results in a much more stable federal share of spending over 2 decades</dc:description>
  <dc:language>en-US</dc:language>
  <cp:lastModifiedBy>Jia Yao</cp:lastModifiedBy>
  <cp:lastPrinted>2002-05-16T21:44:34Z</cp:lastPrinted>
  <dcterms:modified xsi:type="dcterms:W3CDTF">2013-09-04T21:03:42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1b | Accounting for each sponsor’s share of health revenues results in a much more stable federal share of spending over 2 decades</vt:lpwstr>
  </property>
</Properties>
</file>