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A3F3-7A05-4B87-9BB4-DF1E24D99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A616-51F9-49F2-9379-B49FED1E15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1a | Percentage Distribution of Personal Health Expenditures, by Sector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D15D-9F34-49A1-AA18-6051395F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591-82D1-4AA2-BEDE-3C947DD0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590-4A43-47FF-B3BC-4FE649E4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14D-7F90-4BD4-BF36-B44AEFAF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23A1-6B88-4BF5-86D9-DF4942BF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FAF9-85CF-4ACE-83C2-9A36B8B6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E82F-AC6B-41FE-928F-68BC0C0D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744D-17D1-4908-8B6F-6C9F46B3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1112-0655-4959-9013-331DDE53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8460-5742-4313-A154-0F5A682E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6762-82BA-4B68-878B-90F1925E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EBC-9C3F-4792-B0C2-937BD61E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99A3-F6F7-4B74-8EBD-2605517D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3AF8-FE42-445C-BCDC-3DF11FA5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09CD-B176-4B2E-B518-442185E0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E46D-6ECB-48FD-A7CF-8FA4911D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4BCE-BAAE-474D-A395-18699DD6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C1F-146F-4DB7-81DE-96D579E9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6B85-E4CC-4D7F-9F64-327A3C4F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A8F-5304-492C-808E-D011C00A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32E-1C2F-454B-B395-93C0D053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45F3-29A0-4B91-A9F2-4A72088C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B3C-D074-4CF2-9B54-9AFF7A30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17C-63BD-4139-83C5-BEE774DD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93EC-D0C5-4853-AFF9-B87E89EDD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7404-28CC-48AF-B79E-12F468F8E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1a | Since 1965, the growing federal share of personal health care expenditures has displaced private and state health spending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Straight Connector 5"/>
          <p:cNvSpPr/>
          <p:nvPr/>
        </p:nvSpPr>
        <p:spPr>
          <a:xfrm flipV="1">
            <a:off x="152388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traight Connector 6"/>
          <p:cNvSpPr/>
          <p:nvPr/>
        </p:nvSpPr>
        <p:spPr>
          <a:xfrm flipV="1">
            <a:off x="3429000" y="152388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Straight Connector 9"/>
          <p:cNvSpPr/>
          <p:nvPr/>
        </p:nvSpPr>
        <p:spPr>
          <a:xfrm flipV="1">
            <a:off x="2514600" y="121932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traight Connector 12"/>
          <p:cNvSpPr/>
          <p:nvPr/>
        </p:nvSpPr>
        <p:spPr>
          <a:xfrm flipV="1">
            <a:off x="441972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traight Connector 15"/>
          <p:cNvSpPr/>
          <p:nvPr/>
        </p:nvSpPr>
        <p:spPr>
          <a:xfrm flipV="1">
            <a:off x="533412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traight Connector 16"/>
          <p:cNvSpPr/>
          <p:nvPr/>
        </p:nvSpPr>
        <p:spPr>
          <a:xfrm flipV="1">
            <a:off x="6324480" y="1523520"/>
            <a:ext cx="0" cy="44197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traight Connector 17"/>
          <p:cNvSpPr/>
          <p:nvPr/>
        </p:nvSpPr>
        <p:spPr>
          <a:xfrm flipV="1">
            <a:off x="723888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traight Connector 19"/>
          <p:cNvSpPr/>
          <p:nvPr/>
        </p:nvSpPr>
        <p:spPr>
          <a:xfrm flipV="1">
            <a:off x="4038480" y="1523520"/>
            <a:ext cx="0" cy="342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22"/>
          <p:cNvSpPr/>
          <p:nvPr/>
        </p:nvSpPr>
        <p:spPr>
          <a:xfrm>
            <a:off x="4273200" y="2133720"/>
            <a:ext cx="40730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dicare and Medicaid begin (196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Box 1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1a | Since 1965, the growing federal share of personal health care expenditures has displaced private and state health spending </dc:description>
  <dc:language>en-US</dc:language>
  <cp:lastModifiedBy>Jia Yao</cp:lastModifiedBy>
  <cp:lastPrinted>2002-05-16T21:44:34Z</cp:lastPrinted>
  <dcterms:modified xsi:type="dcterms:W3CDTF">2013-09-04T21:03:4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1a | Since 1965, the growing federal share of personal health care expenditures has displaced private and state health spending </vt:lpwstr>
  </property>
</Properties>
</file>