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4D9-A02D-4372-8EB3-092B6AD2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FAE-E658-4141-A883-D0CCF206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B98-6DEE-44B2-B9E8-F153F605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7D7-B39F-46E0-AA8D-B426F772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5D9-F704-4B7C-A15E-0D4F7F7B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946-F553-472B-BEC5-E6A2264D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913-D8A7-4EB2-A37D-2A55A305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3CF-A244-46C3-ACA1-C544EAFA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961-8BB9-40F5-A30E-F0EE08AE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71B-EA70-457B-B015-ED5C17E9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7D5-33ED-46DD-9FC9-5AF3AB4B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5B6-358F-4693-9D0B-48F7F561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D632-58E3-46A4-9BF3-FA256EB39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560" y="609480"/>
            <a:ext cx="9118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5Z</dcterms:modified>
  <cp:revision>10</cp:revision>
  <dc:subject/>
  <dc:title>PowerPoint Presentation</dc:title>
</cp:coreProperties>
</file>