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E4F0-1718-47E7-8DB3-5820D6599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F63F-C55A-425F-A1E6-AB84EF475A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a | Federal and State Expenditures for Health Benefit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795-1DDD-4ED6-A3EC-FE572AF9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737-75D0-46D1-8FFA-29836F5B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2E9-42C6-4BAE-B62A-DF2A5FDB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495-59FA-4E87-9954-79385436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13D9-F6A4-44EA-AFD2-2F31B33A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E304-193F-475F-A6FA-50EE2C45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EB90-2617-40B8-8D9D-70062DE8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93B9-F550-4C5A-96D3-672F0EC6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EE90-D0A0-4995-9C07-E543B655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ED3D-0139-4DBB-811A-160D5D78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9DCC-7608-4FDE-B796-E7272D7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578-5E83-49CE-B440-67905632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0C04-9430-4A4F-BCAD-83BA0301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8937-655B-4BD8-AC34-57A6616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49B9-52C1-4E9E-81ED-73A143D3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A944-B2B7-4651-B5F5-A4BFD340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56B2-7F71-49ED-9D4D-FF1E9DB6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908-2911-44E9-8C6F-D57E48B9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6E6-783D-4E41-8F19-3ABA510C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D15-853C-4370-802E-D3CA5E57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9CD-06C5-4A47-9C1F-10BFE9D0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48F-987E-42AE-A8DE-B9695FC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7B1-B379-4396-A59B-0A5A15BF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35C-0DBC-42A3-8539-70EF08C0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E284-C0A1-49DB-9B7A-7BD395EA9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F172-7E3B-4484-BCAD-1CFA7D9B3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a | More than 90 percent of tax expenditures used to subsidize health care relate to the tax exclusion for employee health benefi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635040"/>
            <a:ext cx="9198000" cy="657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a | More than 90 percent of tax expenditures used to subsidize health care relate to the tax exclusion for employee health benefits</dc:description>
  <dc:language>en-US</dc:language>
  <cp:lastModifiedBy>Jia Yao</cp:lastModifiedBy>
  <cp:lastPrinted>2002-05-16T21:44:34Z</cp:lastPrinted>
  <dcterms:modified xsi:type="dcterms:W3CDTF">2013-09-04T21:03:5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a | More than 90 percent of tax expenditures used to subsidize health care relate to the tax exclusion for employee health benefits</vt:lpwstr>
  </property>
</Properties>
</file>