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A5E-6AEE-4B99-9FCE-9B56BD1C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EDB-66B5-49A2-AED1-5784749F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413-C790-4A07-A1DE-22AFA476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E228-3092-4F70-933E-ADCB38FA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B0F-8BDB-450E-BA1E-7948B943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123-53C4-4677-B6A2-AA850346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65D-D20C-4C07-94A3-7E30CCEC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600-477B-4AD4-BE21-4D138E29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7F2-3C7E-46DF-9154-909647FD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A8EC-A14B-43E8-A53B-EA674811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651-7643-4D83-BB7D-63700459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4C04-CFF0-461A-A437-53B9E156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05D8-E26A-4580-92B4-168FBAE6A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24000"/>
            <a:ext cx="914400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5Z</dcterms:modified>
  <cp:revision>8</cp:revision>
  <dc:subject/>
  <dc:title>PowerPoint Presentation</dc:title>
</cp:coreProperties>
</file>