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D11F-0DCE-4FA4-9A46-BAEEE7C20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8698-170B-4408-AFD3-6C47EC22FF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6b | Out-of-Pocket Share of National Health Expenditures in G7 Member Countries, Selected Years, 1960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C1D-D07C-40AB-8A7F-EF937149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293-52D7-4BD8-83FE-BE603D44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382-C98C-4696-88DB-5EAA69D5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0C9-0687-4714-9D77-7213F9C6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5602-B611-4E03-995A-7089A248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3041-4A0C-4DA7-9DB7-E9569692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ABCA-397D-4AA0-8DAE-D23BC82F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F288-270F-4D16-9C53-2B702591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849B-48EE-494E-A977-B8636AC7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3794-CF5A-4A65-A06B-DD1D6F7D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F340-18CF-474D-BB27-34BBCEE6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507-9B3F-4EFF-8462-2038F3D9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C9D4-D24F-49AC-9B79-103F48F1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FEA7-3CC2-434F-A784-A1892E9A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F997-32D7-47E7-A2BA-2FBEDE47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F4A8-FEFC-45DC-98E0-D9165C9D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D98D-9160-449C-95BD-E9AA4F27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FB3-5DED-42E5-BA96-6FD5DC74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1FF-74EE-4092-9667-306F15E3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494-FA40-460F-B696-2B5E1012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52F-D893-4E80-829B-A500A047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FA1-FF8E-4CD6-98DC-C8B116FA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2EE-91A8-4A64-93AD-17795086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955-5275-42C6-B602-F78E5265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5F20-C236-4F9A-A4DF-9360E5CC2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BEEC-21F3-4896-84F8-31611AB78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6b | The U.S. in the past relied far more on out-of-pocket spending compared to its competitors, but that is much less true toda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93400" y="639288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Version: June 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6b | The U.S. in the past relied far more on out-of-pocket spending compared to its competitors, but that is much less true today</dc:description>
  <dc:language>en-US</dc:language>
  <cp:lastModifiedBy>Jia Yao</cp:lastModifiedBy>
  <cp:lastPrinted>2002-05-16T21:44:34Z</cp:lastPrinted>
  <dcterms:modified xsi:type="dcterms:W3CDTF">2013-09-04T21:04:01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6b | The U.S. in the past relied far more on out-of-pocket spending compared to its competitors, but that is much less true today</vt:lpwstr>
  </property>
</Properties>
</file>