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F5E3-AF23-4D44-BB93-16055B594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5166-4E59-455F-83F4-1AA1FF1E7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8A20-6FED-47A9-81CB-6578F9DB0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0FAA-4F5E-4C8A-A11B-7DB38C33C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5F4F-59C1-4310-B937-663155A58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07E8-88D9-46EE-9088-9CDF08672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4212-D7FC-484E-858B-6C606B074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99B2-A97E-4A50-AD4F-C316EF548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E7E1-9C13-4390-9610-92254BA2A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B426-D36B-4FD9-8127-4BADEBB8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C672-2FA6-4608-8D81-CFB27DEA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8100-D28B-472E-BFC0-DCF80FFC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40561-E061-45AC-BBCF-2713D15F7E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30320"/>
            <a:ext cx="9144000" cy="65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28Z</dcterms:modified>
  <cp:revision>10</cp:revision>
  <dc:subject/>
  <dc:title>PowerPoint Presentation</dc:title>
</cp:coreProperties>
</file>