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5979-BAF5-4E48-BCEF-1222DD94D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3A9F-FB62-41EE-9BA1-20209A06D9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3a | Personal Health Expenditures as a Percentage of GDP, by Source of Payment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2400-FEC0-412A-A9A9-969DF2BC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A6C-BF8C-4459-A0A5-53C06F50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442D-1624-4F2F-BFC3-A3C31BCE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20A5-CC53-429E-8A9C-DA9B10A7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3CB7-057C-40A3-B7AE-AB335985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5E70-0BCF-429D-BD84-CC19356E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C115-69D6-4F95-9FAE-58E9D609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2EB0-497A-48EF-8216-70AE31FD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4322-D287-4C11-A106-A2C7C8C9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96FB-BDA1-4A08-857F-43188068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215C-B2AE-46C1-AB21-38A6853F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FB29-115D-4DFA-AFFE-72B5786C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2BB7-230B-4177-BB15-CF7EC92A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ED9F-F22D-4D71-AA06-A074A21B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E667-2B89-48A5-9BF2-2108C07F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408B-EBB8-4996-8044-C83D614C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B0C8-BB49-496E-956A-367770FC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3B5A-F92F-4B31-AB64-6A9BF254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4D41-4C31-414C-AB4B-BEAFEDD4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97D-9A6B-40FC-B00A-D2DE6B8C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DE72-1F4A-4D06-8101-92E5816F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341-5802-4FFB-8E6F-888F035C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95F2-2A2C-4BDE-BFE9-E7BFFC87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148C-1D21-4100-9C5E-FC563AA0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86EB-DA44-4E30-9BE7-6EC89DDB7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674E-4AA5-4236-A149-28DD3BBF2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3a | Since 1949, all of the growth in the personal health spending </a:t>
            </a:r>
            <a:br>
              <a:rPr sz="2400"/>
            </a:b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share of GDP has come from increased payments by third part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4273200" y="1600200"/>
            <a:ext cx="40730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dicare and Medicaid begin (196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3" name="Straight Arrow Connector 6"/>
          <p:cNvCxnSpPr>
            <a:stCxn id="92" idx="1"/>
          </p:cNvCxnSpPr>
          <p:nvPr/>
        </p:nvCxnSpPr>
        <p:spPr>
          <a:xfrm flipH="1">
            <a:off x="4038120" y="1784160"/>
            <a:ext cx="235440" cy="44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4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3a | Since 1949, all of the growth in the personal health spending share of GDP has come from increased payments by third parties</dc:description>
  <dc:language>en-US</dc:language>
  <cp:lastModifiedBy>Jia Yao</cp:lastModifiedBy>
  <cp:lastPrinted>2002-05-16T21:44:34Z</cp:lastPrinted>
  <dcterms:modified xsi:type="dcterms:W3CDTF">2013-09-04T21:03:48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3a | Since 1949, all of the growth in the personal health spending share of GDP has come from increased payments by third parties</vt:lpwstr>
  </property>
</Properties>
</file>