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373-F184-4C7B-8D00-C77F9317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C71-41D1-4C15-9BA8-A0FB24F3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BE5-79D1-40AC-B7C0-183CB7E7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7FE-725A-44D9-8FF4-B20E5B33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9B4-6B0A-436E-8C12-CA421467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44B-8B1F-4E31-B2A1-6BB7E7BA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E4D-24EE-4F78-9487-046BDAF8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052-CC8D-4216-8285-32116693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CBB-40E8-4E0F-B8DE-54A2DC81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E45-74FF-4442-B264-0CBF39F6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424-A659-45EB-AD6E-F72ABDE2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DAB-AB30-4B15-BE7A-C2E37CCB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386A-27B2-45C0-8111-0161CBADC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0"/>
            <a:ext cx="899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7Z</dcterms:modified>
  <cp:revision>8</cp:revision>
  <dc:subject/>
  <dc:title>PowerPoint Presentation</dc:title>
</cp:coreProperties>
</file>