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E9D4-AA1D-4A1F-896B-7D8D20B3C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A74F-83FF-4F58-9A4F-F6019379D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75F3-122A-4387-A80B-6A0EC572C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427B-327D-447D-BD04-88574258B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5A31-5CC0-4A10-A15C-4B0689DF7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03D1-2616-4F0D-87F6-6BCFC96C4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9815-D653-4C27-B290-77F7B5B97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0EB0-A52F-4EAD-926C-262AD87B9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EC10-7E63-44F3-A9B9-D0B9CF692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5BDA-7B73-4CB8-B100-40AC6E6F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5F0B-6C3C-44F1-8DEA-102F591F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D3AF-6254-47E8-831D-7CF53BC6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8FDAB-CD97-4323-9286-0079B13BDA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7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35Z</dcterms:modified>
  <cp:revision>12</cp:revision>
  <dc:subject/>
  <dc:title>PowerPoint Presentation</dc:title>
</cp:coreProperties>
</file>