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1EEE-F49E-4723-864C-299919E77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36BC-2576-4B66-A8EC-26CB199885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8a | Major Sources of Payment for Personal Health Care Expenditures, by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81AC-32B2-4D83-9FDE-54443E3E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4836-56C0-4F00-8387-D5759568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EC0-D080-4FBF-A27E-F3FB946F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FD4-E08E-45DA-8958-17739D09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FFEC-6D3C-4DF2-A8EC-1F5E7D35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D982-BAEF-4314-9869-6C4519CF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83A8-DCE6-4609-AAC7-46681DB4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2ADD-FF0E-4F30-81ED-F12E2E46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DF0A-8966-4645-ADED-25F39C51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EAB3-1237-48FC-9DF4-7A4E5FFB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13F2-4543-4D70-BE7E-609A0C8B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4BA7-484C-4C09-AE6C-9F2C1184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CA0E-167C-44B3-B23A-9AB2A75C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F4ED-39ED-4079-B8ED-10390B1B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4493-81BC-42AB-A4FF-8A26E84D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9711-C23D-4BC5-BD39-0DE64A02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8B2F-085F-44FE-BDBA-5A4F59A1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BB98-919E-4919-A4C6-7669243F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BF95-9381-4A57-AA0A-7A792E2E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C98-F165-4E2D-9150-4A514732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BCE-A85C-4F31-84AF-3BB760A1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F67A-DBF9-4D14-8A15-FC38723C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C094-5B26-4F03-B955-BEB3F49B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AF0-10A3-4052-9C6E-2FFFC0AB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ABA4-26D3-49F8-8E16-8F12F95F3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E79F-99F3-4693-A77F-FBC5CB644E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8a | Less than one eighth of Medicare spending is financed through beneficiary premiums, but this varies greatly by componen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8a | Less than one eighth of Medicare spending is financed through beneficiary premiums, but this varies greatly by component</dc:description>
  <dc:language>en-US</dc:language>
  <cp:lastModifiedBy>Jia Yao</cp:lastModifiedBy>
  <cp:lastPrinted>2002-05-16T21:44:34Z</cp:lastPrinted>
  <dcterms:modified xsi:type="dcterms:W3CDTF">2013-09-04T21:04:1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8a | Less than one eighth of Medicare spending is financed through beneficiary premiums, but this varies greatly by component</vt:lpwstr>
  </property>
</Properties>
</file>