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1623-7E68-4803-A609-F26D06EFE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9211-9E06-4D2D-866A-3A4B5CC36A7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4b | Alternative Measures of the Government Role in Financing Health Care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8AC9-8039-4E7B-A39D-46CCAE121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D3A1-6E3D-4C8B-8553-C7C5DD2C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5FD2-E0BA-458E-85E5-01B811C5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DDCF-EE8B-4F71-8FF9-DD18BD8F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9D35-D02D-4978-8956-97419FD4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0F02-A872-48A6-8B19-D4039A07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FE8D-DA81-46FD-AEF0-A9BFE780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F9CD-8E91-4429-8337-23DE0FB8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637B-CE0D-45BC-9FEF-C99A91B1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7E75-6828-470B-BBC9-4F410B48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F7D6-F764-4D2E-A7DA-2AF70DB7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F4EE-2C19-441C-A6CD-A6476F4C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8170-3D98-493C-B945-C73A27EF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A364-310F-413D-932B-ECACFE3A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D694-69AE-4036-9360-41992301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CF8C-7938-430C-B0E7-86AC9DE6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E0D5-D5FE-4BF9-B35D-D1EB50AD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5995-333E-4590-822C-3F08CD86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D563-13A1-42B5-8E0B-8B51EDD6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029B-DDC9-4F52-B68A-859734E6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FF10-E902-4700-AF82-AC2F5CD3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768A-4D48-4563-B330-941AE28A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6EFE-BF77-484B-B28D-509D5861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930F-EE76-4A9F-8623-107F2A96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EE36-4209-4A76-A96E-BF90A804E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60B0-3D26-4FE0-A027-C87DB7FB7A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4b | Failure to account for health-related tax subsidies substantially understates the government share of national health spending (NHE)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7120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4b | Failure to account for health-related tax subsidies substantially understates the government share of national health spending (NHE) </dc:description>
  <dc:language>en-US</dc:language>
  <cp:lastModifiedBy>Jia Yao</cp:lastModifiedBy>
  <cp:lastPrinted>2002-05-16T21:44:34Z</cp:lastPrinted>
  <dcterms:modified xsi:type="dcterms:W3CDTF">2013-09-04T21:03:54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4b | Failure to account for health-related tax subsidies substantially understates the government share of national health spending (NHE) </vt:lpwstr>
  </property>
</Properties>
</file>