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F072-50E0-4C13-B90F-66BF537FE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5B37-4697-4FA8-950F-6C834699C6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5b | Percentage Distribution of Personal Health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8C3-0192-4149-A8AE-24D0182C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F77-2FF5-4F8C-A5EF-D291C90F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144-19D5-40C3-B32C-445DCCB1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A66-6AC2-4923-8A41-106747C5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007B-4527-4416-A39C-C8520E5F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FE08-3C9B-4276-A725-B0496B9F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191B-958F-4523-8870-B224AA0E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9AB0-80D9-4683-90CD-8263975A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A201-3AFE-440D-99A3-DBCCCDCE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D7F4-8FFE-4B05-B3F8-D66E756F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CBE8-735B-4486-A0DE-DB00DEBF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DAB-2DE4-479D-AF44-4843E11B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16D1-541A-454E-8B56-675B392E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2135-85A8-4F9E-AE4E-C64A484A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966F-55B1-463D-89DE-158A6CAD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5C42-0A82-44D0-8BCE-235462F4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1E6C-A26A-4C77-8493-4864ECEA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D9C-8942-4D28-ABCF-20432DE8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393-BCDA-41A8-B7BC-6E07C2FF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600-F1A9-4892-AD73-08B69651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BC8-996D-4958-9C26-758248BF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3BC-4D62-452C-A164-E2060446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642-6DA3-4ED7-B7D8-E1D27CAC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9DA-EC41-4E4B-8953-86EA6E97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54D4-C595-4657-B1A3-46D8F925D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A715-524B-4737-B87E-CCAC3649E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b |The out-of-pocket share of spending has declined much more rapidly for hospital and physician care than other health services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b |The out-of-pocket share of spending has declined much more rapidly for hospital and physician care than other health services </dc:description>
  <dc:language>en-US</dc:language>
  <cp:lastModifiedBy>Jia Yao</cp:lastModifiedBy>
  <cp:lastPrinted>2002-05-16T21:44:34Z</cp:lastPrinted>
  <dcterms:modified xsi:type="dcterms:W3CDTF">2013-09-04T21:03:5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b |The out-of-pocket share of spending has declined much more rapidly for hospital and physician care than other health services </vt:lpwstr>
  </property>
</Properties>
</file>