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B0CE-56BC-4407-9917-CBC754BF9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B2E4-6B5D-4DEB-8712-6A6FF4DF3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84D7-DC3F-46FD-8FD2-60621D619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5482-BA8E-479B-B2A2-DB0564E8C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8840-CCA8-48BD-8A5A-297F4FD67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6CC5-7385-415B-8217-F3E7C4889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6188-57C8-4153-8242-470ABF945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735D-ACA1-4C8A-AFD6-8C9D4D39A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DF1D-E316-4B3E-871E-20B6C2945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47CE-46C9-46D4-AAC2-B1C88D723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C0A0-8F3B-42B8-A087-A318ED473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6FA3-3679-49B1-BB64-694D301A4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3A465-7FC7-4007-AA18-864B9B3618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76320"/>
            <a:ext cx="9123480" cy="67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22Z</dcterms:modified>
  <cp:revision>8</cp:revision>
  <dc:subject/>
  <dc:title>PowerPoint Presentation</dc:title>
</cp:coreProperties>
</file>