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45A0-06EC-470B-BD0F-4CF43E786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D11C-4D7D-4038-AD58-D96E1FA4AC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b | Percentage of Personal Health Care Expenditures Paid by Medicaid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81A-3712-4825-996C-DEE7DE16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B74-4003-422E-A05A-6405DAD5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E28-1197-4600-B1C8-61C5FA66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704D-580A-4C71-AB45-A6A37315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C4DD-2346-46DC-A6B8-11A907E4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BE2D-18B2-4706-9052-40F07847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2579-2B82-48FD-9663-65B56661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8169-34BD-4D57-8337-E038A805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3E6D-F48D-4F24-8709-0DC13DAC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E7BB-3BC2-4070-8664-0D9EB242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777C-E221-4AE6-8AF2-9DDAE2C9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6F5-8169-4A8F-902B-C5B8E5E4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D6C6-8B29-4601-B704-B77EBE70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8031-E7A1-4C1E-9613-AF7B71C1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6FC8-51FD-4777-83A0-5A46880F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7F26-95DB-4339-BEBD-03273B2E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7FF3-876B-43CF-929D-D38BB72F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B7F-E8A5-4976-80CE-825DFEC5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970-70CC-4FF8-8C37-7128AFAA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7C6-8483-45BE-9E67-A3D17AE5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CD27-C922-4DE3-B033-A6258227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C68-61FB-44AA-B1C1-FC493D9E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758-F9DE-4C32-B3DF-89A8BB66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E5C5-379A-4B36-9ED2-D90DF132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1222-21DE-49A9-B56B-A665920A0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FD9F-2631-4E4A-BFB1-5F3893A8D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b | Medicaid covers about two fifths of the nation’s long term care spending, but a much smaller share of acute care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b | Medicaid covers about two fifths of the nation’s long term care spending, but a much smaller share of acute care spending</dc:description>
  <dc:language>en-US</dc:language>
  <cp:lastModifiedBy>Jia Yao</cp:lastModifiedBy>
  <cp:lastPrinted>2002-05-16T21:44:34Z</cp:lastPrinted>
  <dcterms:modified xsi:type="dcterms:W3CDTF">2013-09-04T21:04:0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b | Medicaid covers about two fifths of the nation’s long term care spending, but a much smaller share of acute care spending</vt:lpwstr>
  </property>
</Properties>
</file>