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385-775C-4479-9FA6-3A1C9B37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DD3-0881-491D-BDD2-C44EE716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133-7832-4549-9D30-496F7097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FCA-118F-4F84-BE27-77CD0C9E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599-B8C2-4567-8D2C-E001B0F7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F36-31C7-4B19-BB31-E1A46FE0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C50-5F90-49E5-BEFE-39F55898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4AB-D056-4018-B454-5F5DBC39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8E3-2E5C-40AA-831C-43839E14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F5FB-E4B0-4005-8CC9-DDA7CC1F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566-1B5D-45C6-BF42-CDAF15F8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C9C-5208-419B-ADE3-8B11A0CA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9D9F-80FF-46A4-94D2-66935416E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57200" y="7920"/>
            <a:ext cx="824076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6Z</dcterms:modified>
  <cp:revision>8</cp:revision>
  <dc:subject/>
  <dc:title>PowerPoint Presentation</dc:title>
</cp:coreProperties>
</file>