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DDDA-EC5E-4955-A49F-7D1FCE8F5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437B-9690-438F-B6EB-E09B464FC4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9a | Sources of Payment for Persons, by Insurance Statu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387-202E-48B8-A7F7-84633E73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0B2C-A215-42BD-AD8A-FA4E2D11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0642-CE00-4CD9-8527-B1B29BBD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7FA-DEA5-4DF5-B9A2-7DC11294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B2FE-8341-46B0-857E-1F7F019D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3D3B-3C16-4986-B6A3-32B79495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5800-754E-4996-91CB-9DD50AA0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33DD-68B6-4C89-BA68-83D3E806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90C1-F633-4D74-B001-FC6252F3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5877-64B6-46F8-898C-25DD5DAC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9692-D1C0-40E4-9CC7-E5533A4E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E99-60A5-41EE-A97F-E298F175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B4DD-C42A-4122-8ECF-22BB077B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7A2D-4A98-4C9F-94D2-35589B4F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22EE-98AE-4074-BE0F-0A0FC0FD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F980-A97D-4A64-8194-8AF03F6F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EE25-8EEB-499E-954D-1D626289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F956-072B-41A4-9388-9B7A5723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49C-C8CB-4C21-A0F3-43014077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E727-2955-4CA1-8AEB-AF45C393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203-344E-4899-B1C8-F794A821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3F4-755F-4E74-AC5B-449DD89F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151D-DE4B-4210-9FD8-01098CD9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6B9E-CB0A-4CAC-B74D-461A7E02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B267-0ECA-4915-9356-CB2AD73E4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B3CF-77A2-4CF2-B22A-F8FFBE70B1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9a | Out-of-pocket spending is similar among the uninsured and privately insured, but the former receive much more subsidized car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028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380880" y="5610240"/>
            <a:ext cx="8553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Hadley J, J Holahan, T Coughlin and D Miller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vering the Uninsured in 2008: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tailed Examination of Current Costs and Sources of Payment, and Incremental Co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f Expanding Cover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Prepared for the Kaiser Commission on Medicaid and the Uninsured. Kaiser Commission on Medicaid and the Uninsured. Washington DC. August 200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9a | Out-of-pocket spending is similar among the uninsured and privately insured, but the former receive much more subsidized care</dc:description>
  <dc:language>en-US</dc:language>
  <cp:lastModifiedBy>Jia Yao</cp:lastModifiedBy>
  <cp:lastPrinted>2002-05-16T21:44:34Z</cp:lastPrinted>
  <dcterms:modified xsi:type="dcterms:W3CDTF">2013-09-04T21:04:14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9a | Out-of-pocket spending is similar among the uninsured and privately insured, but the former receive much more subsidized care</vt:lpwstr>
  </property>
</Properties>
</file>