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C79C-B9D9-4ED4-A2BC-806A6B9023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7638-8ACC-4A28-A967-4ECE5337186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2b | Percentage Distribution of Health Insurance Coverage, by Type and Age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9D3A-7E0F-4A4C-9454-B28A40BD3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5ABF-31F0-4558-8466-2FA92C4C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48EA-5B57-4E9E-AB41-0027E2979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5DA2-DF60-45C3-B44E-5BE738FF8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4478-6F0B-463A-A9FE-DF61DCCE5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0E2A-53CD-4D65-8FEB-E7AA6D6D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B9E4-35F8-4FAE-88D9-D1437A97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4E95-3223-46E0-ABBA-26C3FB8A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D6A3-3F87-4B0E-9E1A-2FD4CDF2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8B1B3-7137-4582-804A-DA2BB72E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9355-82E0-4CC1-9277-AAD59BB8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EAEA-270A-4E84-AB00-BFC1BF20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F8B9-8728-4BAB-B2FD-357D11E0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E17A-66A3-44F6-8E3D-E2EC4D61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C305-4ABE-4587-9B3B-D877C3B2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84143-FD34-4BA9-981C-66C2EEFD9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2DFB-917C-4E20-B08B-234C5CEAB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6FFC-F0A9-480E-86CA-5E13A02E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517A-D216-45A6-90E7-78D9ACA9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8A6D-280C-4839-BC84-8B25BF14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268F-0A18-47CF-BF72-46631305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3C50-9AFF-4767-BF93-7CD721F3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877C-1B8B-49A1-84DF-0C85818D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86CD-6678-422E-B323-AD3615DE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4C51-0DD1-4BAE-82AB-21D65823E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9C7E-F27D-4D0B-B35E-BB91157FE7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2b | Children and the elderly rely much more on public health insurance than adults under age 65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58760" y="70488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457200" y="61722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e: figures add to more than 100% for each age category due to individuals with more than one form of health insurance coverag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2b | Children and the elderly rely much more on public health insurance than adults under age 65</dc:description>
  <dc:language>en-US</dc:language>
  <cp:lastModifiedBy>Jia Yao</cp:lastModifiedBy>
  <cp:lastPrinted>2002-05-16T21:44:34Z</cp:lastPrinted>
  <dcterms:modified xsi:type="dcterms:W3CDTF">2013-09-04T21:03:47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2b | Children and the elderly rely much more on public health insurance than adults under age 65</vt:lpwstr>
  </property>
</Properties>
</file>