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C620-1604-4944-8A30-77DB72EDC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C44F-530C-430B-94CC-743168CDC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1BD5-80BB-4724-B895-C2A674FEF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81E2-889D-4D8A-ADB7-4BEA8C6F2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1FB7-706A-4C6C-9DE2-3DEA474F1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14AB-4D10-4741-921B-B49A3CA66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0ED9-913B-4CBE-8BC6-221040809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2792-691B-44BF-975F-A1E197E3D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5728-3D25-4A2E-A909-A04333FD4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7494-7707-48B1-B015-78E7DC569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3BAA-6973-4E7A-8295-C510261E3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E753-C5DE-4B1B-9D1F-4B9B33B8C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792C8-9BAC-412A-A5FA-B7F4B54EE0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4520" y="0"/>
            <a:ext cx="8994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21Z</dcterms:modified>
  <cp:revision>8</cp:revision>
  <dc:subject/>
  <dc:title>PowerPoint Presentation</dc:title>
</cp:coreProperties>
</file>