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26C-B2EB-4256-9A2F-CA3A451A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5E46-7469-4890-99F3-78CE81EE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15F9-5F90-4C6F-ABF5-529526F3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0146-FA05-4016-9355-DEAB92B7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CAC-16BE-40A9-8C1B-9C32868F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E06F-D21B-4DB2-9CD8-DA0FF12F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896-7126-414F-946E-1D4FECFE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AFD0-8E60-48F8-8A48-6CB3B717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45A-D7AC-4198-BE57-AFED609A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E69-F670-492B-9282-2F9F7C22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D25E-DB95-4456-AA0D-328F6792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24E1-F257-482F-8711-AC536B44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668D-72C9-4418-83E3-94F0DADBC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9Z</dcterms:modified>
  <cp:revision>10</cp:revision>
  <dc:subject/>
  <dc:title>PowerPoint Presentation</dc:title>
</cp:coreProperties>
</file>