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5B8-C355-407F-9F38-C1AA3A58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664-1F5F-4FB7-A021-550F7262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7A4-5215-4985-8D6D-85C92011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D02-55DF-4D4D-8983-CF3FCE02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344-935F-41F6-8267-324913D0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0E9-BDA0-432D-ABDB-845D02E6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C42-4084-45DE-AA0A-A838C7D3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568-576E-4DEB-BCFE-E3A88ABF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5CA-6A28-4EF8-BC9A-E65EE58B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BAB-62F3-42E1-B5DF-B14D2C6A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DED-250E-4FC8-8015-554AE571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874-FFDB-430D-A08A-F64DA2F0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E967-423F-437D-ACFB-C655884FE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0"/>
            <a:ext cx="899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7Z</dcterms:modified>
  <cp:revision>8</cp:revision>
  <dc:subject/>
  <dc:title>PowerPoint Presentation</dc:title>
</cp:coreProperties>
</file>