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413-AEA3-48E1-98D2-A07EC697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CBD-7403-428D-B310-98CB04C4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499-C137-4A50-B857-87AB90FE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BDD-E9D5-4E57-9173-96F3EA9B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674-CB2F-43D9-A939-4C827A68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62A-648C-46C8-AA0E-07D97562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8D6C-2137-4596-8E0A-491B9A7A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0D8-9779-4CFB-B09F-F547030F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F04-DA60-43C3-A974-31167AC7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DF41-1A30-45AD-80B2-D62F9D55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EE7-EF62-4F6A-9D8C-1B798620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69F-5028-4F29-B174-4342E2E9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A17C-2647-4497-8DD4-529FEE343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57200" y="7920"/>
            <a:ext cx="824076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6Z</dcterms:modified>
  <cp:revision>8</cp:revision>
  <dc:subject/>
  <dc:title>PowerPoint Presentation</dc:title>
</cp:coreProperties>
</file>