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3DAD-6675-496A-A8F5-31D02BC8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76D0-B9AD-4223-9183-8828008B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310D-1E83-4AAE-863D-40A22C0C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3A7A-CB4B-404B-B036-B375B595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492A-5B6B-4655-912B-E9E2FD9A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BB96-CF41-454D-AD73-EDAEAA0F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E3A9-AB2E-4538-B919-840D13DF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E90A-4646-4BEC-BFAA-241AC441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DEDB-A603-444E-9E73-8FA2E2E7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0751-5026-4F17-90D2-B025A938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3E65-931C-4291-A4D8-C2B5BCDA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C3EC-AC46-40F9-A7B9-5F53067B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0E85-6F14-4272-9612-BAAAFE793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4Z</dcterms:modified>
  <cp:revision>8</cp:revision>
  <dc:subject/>
  <dc:title>PowerPoint Presentation</dc:title>
</cp:coreProperties>
</file>