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AF58-6D16-4A58-BADF-C0C26EB98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441E-D5C6-45A0-A105-B8E22743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54C9-065A-409E-B1AB-FFC290CA9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CDF7-96C9-4EAE-96B8-1390A5D26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D460-8D35-4A44-B856-4CA9F1E2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12E5-3252-46B0-919F-356517DF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3999-4365-4F06-81E3-9C8B1524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0DA1-DBA1-4466-91AA-ED0B167C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322D-9160-45CE-A86F-E5BBC027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C889-3C71-4C13-B680-A3AB0EB3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4666-C3E3-4122-8AC4-51B5648C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CA29-C767-4A94-941C-48663A37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AEAA-8057-4373-A0C2-A55FE7D49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30320"/>
            <a:ext cx="9144000" cy="65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8Z</dcterms:modified>
  <cp:revision>10</cp:revision>
  <dc:subject/>
  <dc:title>PowerPoint Presentation</dc:title>
</cp:coreProperties>
</file>