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13E7-A986-4322-9812-A99A6DC7E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C245-A61E-4F15-9F68-26232DE853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a | Health Spending, by Source of Financing, 20 Largest OECD Nation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009-26E1-41DC-927F-92316E78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F87-A9B1-4C98-B6B4-3863326E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DE8-B144-44C2-9B9C-7503C45F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691-E1F1-48E8-9108-940A7FA9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CBC5-731D-456B-8960-FFC66F95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0AD3-8500-4744-9917-A0FB2412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09E1-9644-4580-AAD7-376A2F3A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EEB4-3E7B-4B70-B11E-37E5653F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4133-213E-4ABC-8A27-86F8D202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2B29-9D53-4FD7-8E51-E1E5D6A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1AF3-77D3-4DBF-BD92-EC615F7F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D47-F781-4208-8581-58D438CF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F1DD-EB99-44EE-BBC2-FB42759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34F9-AEF9-48FD-8D1C-D873A089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F7D6-7BC5-4633-A0D0-A6481F42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B387-55A8-472F-B222-23ABFAF4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649B-F25D-42C9-B5CD-201CF7F7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FC9-CA44-4FC7-B2EE-D23871AD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3CA-B2A9-4717-916F-296CBE08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930-63DC-4A7C-8E71-FA91D304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7B2-B9D6-4509-83E5-838C27E4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782-4FCC-4B19-8C45-5B7B6C22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739-FEA6-4FE4-A0A4-C06DE914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C8E-3043-4930-B99E-7FDED4E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F189-BB2D-4652-8DA4-2A246EB76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D093-246A-4BFD-B731-F1B697505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a | Among the 20 largest economies in the OECD, the U.S. has the fourth lowest percent of health costs paid for out-of-poc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91960" y="787320"/>
            <a:ext cx="856008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495520" y="601992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untries ranked by out-of-pocket share of total health spend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a | Among the 20 largest economies in the OECD, the U.S. has the fourth lowest percent of health costs paid for out-of-pocket</dc:description>
  <dc:language>en-US</dc:language>
  <cp:lastModifiedBy>Jia Yao</cp:lastModifiedBy>
  <cp:lastPrinted>2002-05-16T21:44:34Z</cp:lastPrinted>
  <dcterms:modified xsi:type="dcterms:W3CDTF">2013-09-04T21:03:59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a | Among the 20 largest economies in the OECD, the U.S. has the fourth lowest percent of health costs paid for out-of-pocket</vt:lpwstr>
  </property>
</Properties>
</file>