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FCB-A8D2-42F9-B40C-81FA32FA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D95-13B4-4812-8ADF-4F76BBD8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658-8301-4503-B1DB-53DFB9D3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FC7-C79A-4BA6-B299-657DC002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887-8FA6-4FE8-935D-5E3F65FB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C47-6101-4AA8-83C9-8FE86E4B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99B-7C8B-4C42-9F28-511E4DF2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36A-3C98-4C41-AD05-8F046D0F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D80-FB8F-41EA-96FF-E8DDE034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FD6-6C74-4FFE-9E73-3BB4D57F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9CD7-F92C-46FA-A5BB-BC28FBB2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8E6-5537-4365-8313-39422664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1E35-D41A-4C73-A91F-E52107EBE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3920"/>
            <a:ext cx="913752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1Z</dcterms:modified>
  <cp:revision>10</cp:revision>
  <dc:subject/>
  <dc:title>PowerPoint Presentation</dc:title>
</cp:coreProperties>
</file>