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5B8-6740-40E0-B2A7-4CFF1298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2EB-97AC-442D-90EC-290B3796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F83-DCD5-47B9-BB3D-7819B511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1B0-2735-4CA3-8481-4883FBEE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7C2-86F6-4C88-8AC0-D8EF8600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10F-A3FD-4812-97E8-6C30226A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513-CBBE-47E0-8962-634A1A41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A18-9C5A-4E2C-8DF9-276C778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E51-A850-4760-BC1F-BBBE574C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267-F1B7-4090-BE53-ECED8A60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920-0A07-43EF-B56C-C1462F48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4E8-1DBD-4BA4-A12F-80DEA17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BBC2-2BD3-4613-A3A6-4B133C5DF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23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3Z</dcterms:modified>
  <cp:revision>10</cp:revision>
  <dc:subject/>
  <dc:title>PowerPoint Presentation</dc:title>
</cp:coreProperties>
</file>