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6DC4-1281-4435-94CE-018EB24EF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D1D1-0942-420D-9D67-B1793B761B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7a | Distribution of Elderly and Disabled Enrollees and Expenditures under Medicaid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D5DC-107C-4129-9327-A8F26D3F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F229-B48B-4B72-AE9A-F8A7F93F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B605-9C95-4A8D-9AD6-577BACB2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CD94-A662-49DB-83A9-0B369EF3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6E2F-6A1E-41FF-B27B-BCCE2336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20F4-D34B-409E-9D66-B47FCBEF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A724-5C5D-456D-B400-974DE351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74C2-3A55-41DF-BD03-C81B7F94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DA9F-698D-42B5-B43C-F21538EA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4073-AFB4-4AB3-BA09-E3B5BBF9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8CE8-BC95-486E-AF65-BFE430B0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FA4E-1CA1-4C1F-86F1-C3228479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362C-68BC-4EA0-98C7-74497D3C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3CDA-FCC0-4297-BC01-8EC325CC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C9CE-3B4E-4E57-8006-BA52D3ED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E33D-72AA-43A1-B488-FE112FC3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9973-9AAF-4E94-8379-E7059ABB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A19-B3BB-4A19-AB41-DD26DE13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706B-2B93-4DCB-994D-839661F1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C265-D989-46F2-88DD-50491A4B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F9F4-F0E3-4BAA-9D0D-0911CCC0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E499-EB2B-4B21-A9F8-94274742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0F21-DB07-4932-BA76-7E21702A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C23D-5868-4039-8C79-59B53123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62AA-AD83-4ECB-AB02-94ECA10DB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D6DA-AA9F-481E-9D85-5FF212125F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7a | The elderly and disabled constitute one quarter of Medicaid enrollees, but more than three quarters of Medicaid spend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609480" y="5867280"/>
            <a:ext cx="815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Kaiser Commission on Medicaid and the Uninsured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edicaid: A Primer.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ey Information on Our Nation’s Health Coverage Program for Low-Income People. June 2010. http://www.kff.org/medicaid/upload/7334-04.pdf (accessed October 13, 2010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7a | The elderly and disabled constitute one quarter of Medicaid enrollees, but more than three quarters of Medicaid spending</dc:description>
  <dc:language>en-US</dc:language>
  <cp:lastModifiedBy>Jia Yao</cp:lastModifiedBy>
  <cp:lastPrinted>2002-05-16T21:44:34Z</cp:lastPrinted>
  <dcterms:modified xsi:type="dcterms:W3CDTF">2013-09-04T21:04:03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7a | The elderly and disabled constitute one quarter of Medicaid enrollees, but more than three quarters of Medicaid spending</vt:lpwstr>
  </property>
</Properties>
</file>