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EB95-28C5-4BB7-965D-1744C67C3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F259-AAF5-4828-A88A-D8F5DD1907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b | Percentage Distribution of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1F0-819D-46DB-9A96-2A21D177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7D3-7335-4C0F-8C45-077992E9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71D-F6A1-4C74-BBFD-32022B6E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5A4-A58E-4F4D-8AA6-D74569B0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D099-2338-4095-BA3A-C5684BD9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3D94-81B0-4BF1-BC4F-B2E303CA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25DB-0824-4568-8C48-B489814C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9362-5284-40D2-A522-6936A763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36C8-1362-4C0B-992C-5A32B70B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6906-FA66-4A83-890E-5B288BF7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C41D-1ADF-4FC5-8C99-6D45CFA7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8EC-C14E-42F6-8786-339778A2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97AF-1CDC-4A46-A952-A9C12137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E21D-8CEA-43A4-A6E2-49E12BF5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69FF-EB03-4B7C-B47E-817C4937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56C1-DFAF-4059-9B5A-86BF4DC1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84DA-9831-4510-96AE-5F40F0F4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D4E-2718-4A43-8D35-B3C8D5E6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AFB-F1FB-4460-84D4-1D7757F3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51D-B054-4BAE-9198-DB147813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F88-31C0-4187-A3C5-C4F761D5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160-A391-4ABF-9DB2-0B355000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471-F8B6-4FB5-B674-B68C63ED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5F5-3D33-49BE-8CF5-E664E960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B043-0FDA-4837-8A82-083614D72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D6FC-86C4-42BA-9B91-3258623A2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b | Nearly two-thirds of health expenditures for persons uninsured all year are subsidized through taxes or private charit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368280" y="787320"/>
            <a:ext cx="886464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09480" y="5610240"/>
            <a:ext cx="85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b | Nearly two-thirds of health expenditures for persons uninsured all year are subsidized through taxes or private charity</dc:description>
  <dc:language>en-US</dc:language>
  <cp:lastModifiedBy>Jia Yao</cp:lastModifiedBy>
  <cp:lastPrinted>2002-05-16T21:44:34Z</cp:lastPrinted>
  <dcterms:modified xsi:type="dcterms:W3CDTF">2013-09-04T21:04:16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b | Nearly two-thirds of health expenditures for persons uninsured all year are subsidized through taxes or private charity</vt:lpwstr>
  </property>
</Properties>
</file>