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B13-EDD6-4950-BF88-6D3D0B99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752-771D-4EA5-8832-535DD794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DFF-8E80-436F-A11E-93CA9659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F96-31BA-46FF-AB19-1AF442C3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EB4-6553-41D5-91CA-73F80D0E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FFF-5565-4BE6-9161-D340C8CC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741-DF1F-4675-8589-20C38BB5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66B-995F-483D-8140-19E53CDC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220-228F-4978-AF90-70DAB82B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94A-1581-413D-9C45-0394447E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EE2-E90F-4CD7-9A69-70B62A4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551-0ECD-4508-8C33-CDA3758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2AF5-0859-4BFC-B5ED-132DF9B69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632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2Z</dcterms:modified>
  <cp:revision>8</cp:revision>
  <dc:subject/>
  <dc:title>PowerPoint Presentation</dc:title>
</cp:coreProperties>
</file>