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AD0-FF34-479F-A40F-3E9CF1E5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8C9-CD63-4676-A774-0714DB51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6CB-F463-4BD5-88D4-A1587582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E69-C615-4321-AC6B-3CA87A9D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EF7-8A5D-422C-AD43-B55A7D35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1AD-C4F9-4ED9-82FA-7CFF3018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4A7-C1F2-4A04-83E1-B5720C12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E82-28E1-4148-BEBC-A0268E6F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CAA-6F2A-44BA-BE27-642746B2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956-D80F-4039-8CB5-E395A7A8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081-0955-4303-9E2A-562CE151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A11-BE26-46EF-B8DD-F2035732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9595-4F94-4CAE-A6A4-677E7FB6B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9Z</dcterms:modified>
  <cp:revision>8</cp:revision>
  <dc:subject/>
  <dc:title>PowerPoint Presentation</dc:title>
</cp:coreProperties>
</file>