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D5D3-B211-425E-9F15-08A3BC75C0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E847-F649-4B16-AB88-D42F6CD2401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1a | Percentage Distribution of Personal Health Expenditures, by Sector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6681-B9F0-4FE6-83B9-58190ECF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17D8-D340-460B-9C24-7FB47B73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71BF-E81A-497F-9457-6241B7C9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F973-6D90-4460-B3C2-D31DB125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B35B-9637-4BD6-8C05-B847F80E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2442-B320-4A95-B9C0-0EA789D1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4EDC-D21D-4F65-AB13-207A9FEC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9049-DE1B-4241-8430-30240EB7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4DD0-CE40-4379-8EB1-28B307B4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7A11-E9F0-455A-A94C-DB5FB26A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695F-E7F1-4820-B9E9-2FFF4BFB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061F-29DF-4C4B-A0B1-337DF216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B7EB-19FF-40CC-A220-4C8BC123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AD1D-909F-4C1A-ACDF-1971330F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C6B6-AFA6-4958-B430-A27D17AA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123A-2168-442A-BBEC-9606DF2B5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647E-46F4-4F74-827C-6EF2E0F9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DD77-8968-425C-816C-0D21025B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F7EC-CE90-45DF-A721-13CA7BA1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462A-1183-4FD0-8F88-74E6BCB5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1667-120D-4BA1-B627-203CFDC0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51A8-9106-4A5C-A271-EE0E5175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4EAC-94EF-47D2-BB2A-2CFB4D81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D1C1-1B6D-4B48-B520-58CFC2ED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E29C-BD9E-4ADC-9684-782941634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287B-BEC9-43A0-9FED-6CFEA33BDD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1a | Since 1965, the growing federal share of personal health care expenditures has displaced private and state health spending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Straight Connector 5"/>
          <p:cNvSpPr/>
          <p:nvPr/>
        </p:nvSpPr>
        <p:spPr>
          <a:xfrm flipV="1">
            <a:off x="1523880" y="1523880"/>
            <a:ext cx="0" cy="4267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Straight Connector 6"/>
          <p:cNvSpPr/>
          <p:nvPr/>
        </p:nvSpPr>
        <p:spPr>
          <a:xfrm flipV="1">
            <a:off x="3429000" y="152388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Straight Connector 9"/>
          <p:cNvSpPr/>
          <p:nvPr/>
        </p:nvSpPr>
        <p:spPr>
          <a:xfrm flipV="1">
            <a:off x="2514600" y="121932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Straight Connector 12"/>
          <p:cNvSpPr/>
          <p:nvPr/>
        </p:nvSpPr>
        <p:spPr>
          <a:xfrm flipV="1">
            <a:off x="4419720" y="1523880"/>
            <a:ext cx="0" cy="4267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Straight Connector 15"/>
          <p:cNvSpPr/>
          <p:nvPr/>
        </p:nvSpPr>
        <p:spPr>
          <a:xfrm flipV="1">
            <a:off x="5334120" y="1523880"/>
            <a:ext cx="0" cy="4267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Straight Connector 16"/>
          <p:cNvSpPr/>
          <p:nvPr/>
        </p:nvSpPr>
        <p:spPr>
          <a:xfrm flipV="1">
            <a:off x="6324480" y="1523520"/>
            <a:ext cx="0" cy="441972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Straight Connector 17"/>
          <p:cNvSpPr/>
          <p:nvPr/>
        </p:nvSpPr>
        <p:spPr>
          <a:xfrm flipV="1">
            <a:off x="7238880" y="1523880"/>
            <a:ext cx="0" cy="4267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Straight Connector 19"/>
          <p:cNvSpPr/>
          <p:nvPr/>
        </p:nvSpPr>
        <p:spPr>
          <a:xfrm flipV="1">
            <a:off x="4038480" y="1523520"/>
            <a:ext cx="0" cy="3429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Box 22"/>
          <p:cNvSpPr/>
          <p:nvPr/>
        </p:nvSpPr>
        <p:spPr>
          <a:xfrm>
            <a:off x="4273200" y="2133720"/>
            <a:ext cx="407304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dicare and Medicaid begin (196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Box 1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1a | Since 1965, the growing federal share of personal health care expenditures has displaced private and state health spending </dc:description>
  <dc:language>en-US</dc:language>
  <cp:lastModifiedBy>Jia Yao</cp:lastModifiedBy>
  <cp:lastPrinted>2002-05-16T21:44:34Z</cp:lastPrinted>
  <dcterms:modified xsi:type="dcterms:W3CDTF">2013-09-04T21:03:40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1a | Since 1965, the growing federal share of personal health care expenditures has displaced private and state health spending </vt:lpwstr>
  </property>
</Properties>
</file>