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65F0-1AD6-4EF5-804E-073DB80B0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196B-73A8-4CF9-93E6-2BBDD1104D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b | Percentage Distribution of Personal Health Expenditures, by Sponsor, 198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061-34D3-46A1-A8F5-0A68E312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F75-22BD-4262-B07D-E7E8F3DC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5A4-5EDF-4431-91D5-BBF745C7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723-2790-48E1-84A1-C3BBCB98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6D8A-DD3E-4F30-B310-D4F3EF2C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79DA-17D3-4DF9-B39D-1712C0A7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60C4-CD2A-49B9-8068-A774C386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7F68-5779-4BD6-BA4D-20D14594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DD1E-3430-46D9-A311-CCEC866A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2EF6-B3CA-463F-875A-FF1FDC7D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AD56-FE6B-44B2-AC37-401EEC9E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B73-BB33-44FB-BD5B-C2F088F2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7EEA-236D-4DAF-AA89-1C3E4465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DF80-43C0-4271-B6AB-D54241C2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4EF0-BF0D-460E-941E-6F76588C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A4DB-D43B-4AFD-AB8D-FEF79DE7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A6E0-9ACC-42ED-A086-999B8BD3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3B4-EAE2-4AF3-9788-6609A08B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F01-6453-4CA1-A1BC-486E9FA1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421-A6D9-4937-9049-FE6DBB00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DC1-5684-4E94-93AC-58D6097D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B0B-6CA0-41F4-8E59-FA6E8C65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F3E-DFCF-4A07-8985-46A32BFB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9D5-F154-45D9-85E4-69B27C5A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BBB9-D657-4483-A6F3-C3CBFD3D8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C953-297D-44A1-BE41-D7C7F782F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81000" y="787320"/>
            <a:ext cx="906624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b | Accounting for each sponsor’s share of health revenues results in a much more stable federal share of spending over 2 decad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b | Accounting for each sponsor’s share of health revenues results in a much more stable federal share of spending over 2 decades</dc:description>
  <dc:language>en-US</dc:language>
  <cp:lastModifiedBy>Jia Yao</cp:lastModifiedBy>
  <cp:lastPrinted>2002-05-16T21:44:34Z</cp:lastPrinted>
  <dcterms:modified xsi:type="dcterms:W3CDTF">2013-09-04T21:03:4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b | Accounting for each sponsor’s share of health revenues results in a much more stable federal share of spending over 2 decades</vt:lpwstr>
  </property>
</Properties>
</file>