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5541-1110-4CEB-BE64-32470DF1E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5BE8-76A3-49C2-83C7-C09B88761C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5b | Percentage Distribution of Personal Health Expenditures, by Major Source of Financing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ED4D-2FC9-45AF-8F04-DDA82B45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05A-E83B-4445-82E4-5DC9DC28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79FC-8991-484D-A2F8-F75FEDC1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596C-ACF1-43E2-93DA-574D5E63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4A84-83B9-4D98-A407-DA5EA0D1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3C09-8AF7-4F05-9D9A-7F13FB81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C03C-7EC4-4958-A71F-7AFF401B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74C2-CA0F-4A80-B513-9AD498D6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A264-F3FE-4335-8681-4A7E868E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4483-749D-4A8B-8D6F-7598BF6C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CFA8-66C3-4112-B7BA-85084295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8B6-4A5B-4A18-817C-2B54FACC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6C07-E8C4-4606-993D-3FB0187D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4D19-B37B-4D5A-9744-51DE7BD2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9708-9330-4965-A04F-B2639C13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2875-84C2-45D9-8186-A8FD7CC7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B05E-D7D3-40A1-81BE-6F117515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77E-243A-4384-A8DA-E3F0B02C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76A-5C7A-46E8-A6E7-C46EADE4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1C2-9D87-47FC-9719-EE04DFEA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4AC-26C8-4785-9004-85A522C3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EF6-3E97-4DBB-88C8-F3DBC08B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5DC-D520-4D82-B8A9-091013F6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2F97-CAE1-4BD8-92BF-53922761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EEA7-A64B-47B4-A2D7-4E5F83F33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4468-B5FA-4740-848B-84088F5ECC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5b |The out-of-pocket share of spending has declined much more rapidly for hospital and physician care than other health services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5b |The out-of-pocket share of spending has declined much more rapidly for hospital and physician care than other health services </dc:description>
  <dc:language>en-US</dc:language>
  <cp:lastModifiedBy>Jia Yao</cp:lastModifiedBy>
  <cp:lastPrinted>2002-05-16T21:44:34Z</cp:lastPrinted>
  <dcterms:modified xsi:type="dcterms:W3CDTF">2013-09-04T21:03:5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5b |The out-of-pocket share of spending has declined much more rapidly for hospital and physician care than other health services </vt:lpwstr>
  </property>
</Properties>
</file>