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447D-F6B4-4DBA-8946-2FD3C30EC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1CE8-9A37-4CD4-9294-BA20753FD9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b | Out-of-Pocket Share of National Health Expenditures in G7 Member Countries, Selected Years, 196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71A-B9C1-4352-BC65-BE3621F5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D79-55F6-4D6C-8CD2-EED65519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E05-9274-4E73-9267-B889F991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2E3-0E7E-4BD4-BD4C-AD6E4F42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08DF-6F09-4F63-BF24-FB5E6161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CD41-B7A8-45DF-8E47-F6CEF52A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7B72-AE6F-4907-894A-545CDE2A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DE88-9AC3-4BEF-8991-48D11EF3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50F2-E604-4BAD-A3A9-D3603D2F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E708-C479-40BE-92BC-954CB157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79BD-8C35-49C5-BD33-A6C8EBFA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BB4-CC99-424E-B9DF-42E6B2A6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5C79-AE2D-4885-B786-CE14890A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C57F-9C2B-4572-8138-B403E42F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DC61-633E-4A98-B7BA-6C96D358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D496-A7F3-4909-B23C-9DB3CB97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3803-F56F-4AE6-92C9-956FAE23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86F-7B03-4CE5-B74E-2DAFC76B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3DD-7AFD-4044-906F-819E8425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28C-6D74-49B3-804E-80E96819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2BD-3946-4FD3-BE67-68681009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C75-DE29-4A19-BF36-B19C0A7B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FF6-1F82-4883-BCFD-CA29C547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9EA-3983-443B-A13C-1F33A560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8BA7-F924-4FB8-8CE8-166128CAC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B24B-7BC4-46FE-9067-E5B76B3FF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b | The U.S. in the past relied far more on out-of-pocket spending compared to its competitors, but that is much less true tod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b | The U.S. in the past relied far more on out-of-pocket spending compared to its competitors, but that is much less true today</dc:description>
  <dc:language>en-US</dc:language>
  <cp:lastModifiedBy>Jia Yao</cp:lastModifiedBy>
  <cp:lastPrinted>2002-05-16T21:44:34Z</cp:lastPrinted>
  <dcterms:modified xsi:type="dcterms:W3CDTF">2013-09-04T21:04:01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b | The U.S. in the past relied far more on out-of-pocket spending compared to its competitors, but that is much less true today</vt:lpwstr>
  </property>
</Properties>
</file>