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FEA-A6A1-4F8C-9E2C-332B7E05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EBB-7DF1-4F18-81AD-74EA65B0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FFB-6804-48A3-9FE4-860D800E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72B-A6D4-4C6F-BBAC-A55C86E0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8E5-B99F-4379-A77C-57FDE813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F56-0A50-4C08-9347-272DCF08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28B1-500B-4AA4-A0C2-6E624A49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928-7B85-41DA-95FE-EE89E445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A85-F6D3-4FA7-A043-8F1473DF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CD0-DF95-4255-BE6C-E91775F7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9B2D-BB73-4D65-9A0E-C4087FCE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356-0EA3-42E1-82F1-3C41DC0B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C3BD-15CC-44F6-91BD-48BEAAB76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5Z</dcterms:modified>
  <cp:revision>12</cp:revision>
  <dc:subject/>
  <dc:title>PowerPoint Presentation</dc:title>
</cp:coreProperties>
</file>