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95C2-1625-456F-98F0-17038004AF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667E-F90B-4B81-8B37-D29D4C0AA6D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3.3a | Personal Health Expenditures as a Percentage of GDP, by Source of Payment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8582-B916-4E11-AAE7-7E167B1A7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B129-34F9-4F5F-B431-BE22E12E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9C3E-F2B3-47F7-AB90-D1B29B866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D14B-34FA-4628-9705-2B521DB40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93DA-404C-4727-8FF5-12601243A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F7F6-A00F-4C53-A1C9-E4B8D9BB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DDF6-6293-4221-A826-DDDF11E2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ED3D-C375-480C-9B15-35EC20B4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4353-26C0-4889-8771-DB528E4A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1895-BD43-472D-B8CB-899FE2A1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B160-E497-4579-B722-1D94897C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46EB-B0DA-49D3-A239-224F72D0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8CD7-92E3-46FF-A7DA-5B94EA92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3C21-DA8D-4EC4-99FB-B8006E86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E57B-8D7D-45F9-B45F-89F8839C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9F03-945B-435E-B129-6AE6689E4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E04A-5262-411B-AE6C-FBD96B581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947D-EC2E-4EB4-8325-CD5DAB09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3E65-559D-415D-A88D-227DA2F1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245C-46D5-41A7-97BB-83541EB2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5478-1BEE-4D71-AE31-C3AB5BDF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22D2-3FFD-441B-8B06-3EFAC1DD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196D-541C-47E4-860A-DB8127DA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909D-C721-4838-8AE9-FE5D46C8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A08E-1319-459F-93A0-5EDC86BE1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3884-09B7-4A6D-9B9A-70C1655E47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3a | Since 1949, all of the growth in the personal health spending </a:t>
            </a:r>
            <a:br>
              <a:rPr sz="2400"/>
            </a:b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share of GDP has come from increased payments by third partie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4273200" y="1600200"/>
            <a:ext cx="407304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dicare and Medicaid begin (1966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93" name="Straight Arrow Connector 6"/>
          <p:cNvCxnSpPr>
            <a:stCxn id="92" idx="1"/>
          </p:cNvCxnSpPr>
          <p:nvPr/>
        </p:nvCxnSpPr>
        <p:spPr>
          <a:xfrm flipH="1">
            <a:off x="4038120" y="1784160"/>
            <a:ext cx="235440" cy="44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4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3a | Since 1949, all of the growth in the personal health spending share of GDP has come from increased payments by third parties</dc:description>
  <dc:language>en-US</dc:language>
  <cp:lastModifiedBy>Jia Yao</cp:lastModifiedBy>
  <cp:lastPrinted>2002-05-16T21:44:34Z</cp:lastPrinted>
  <dcterms:modified xsi:type="dcterms:W3CDTF">2013-09-04T21:03:48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3a | Since 1949, all of the growth in the personal health spending share of GDP has come from increased payments by third parties</vt:lpwstr>
  </property>
</Properties>
</file>