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63A6-D60A-430F-9B34-BF107DA2BE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2EB5-95E4-4AD7-86CC-CD9DAA92789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3.3b | Percentage Distribution of Personal Health Expenditures, by Source of Payment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A9BE-3D68-4FB3-B902-3892F6345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E3CC-EB6E-4B20-AF6D-67B3DC85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1DC0-C3AF-4C5F-ADA9-B78890D3D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7BDB-826B-47CB-97DF-4C689A578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87C0-52CA-4347-94CD-A4E8C1EE3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3C92-C93A-4C9D-A0A8-3AED8181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AA0A-B01E-4BE5-A028-51DBEAE0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1F41-E7AC-44FA-B950-11F991C5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1C0F-1A13-4442-A489-2699C01D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B83E-B238-4195-9BC1-8A608426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7F8D-CB2D-44F5-BF22-1FA7FECB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3A21-70EA-46D4-B000-AB5E0B04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3369-7CF4-4597-A656-241FFE4F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DF9A-D06E-4988-AE26-A5F13845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C705-35D2-46B4-B91E-15BB1F34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7E79-7133-4B18-A372-DEBC20C6D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D58E-27AF-461F-A312-487F4F44A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B138-D238-4BD8-8D99-59222041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1EBF-75B7-4EF1-A914-19126377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F3F2-ECA3-44A4-ABDA-910FE62B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D82E-97E0-4A48-BCE6-F07A09D8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A401-2DAE-469C-8675-1FA730BB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E7E6-FBA8-4B0B-B5FA-BF7B73F0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E4FF-08D4-495F-B7BF-7C86844A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A321-5D8D-4EF8-974A-4ED8E8D2C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366B-35FF-4B20-8783-123AED1A20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3b | Tax-financed health spending expanded more rapidly than private health insurance after 1965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cxnSp>
        <p:nvCxnSpPr>
          <p:cNvPr id="92" name="Straight Arrow Connector 5"/>
          <p:cNvCxnSpPr/>
          <p:nvPr/>
        </p:nvCxnSpPr>
        <p:spPr>
          <a:xfrm flipH="1" flipV="1">
            <a:off x="4038120" y="5028480"/>
            <a:ext cx="53424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93" name="Straight Connector 6"/>
          <p:cNvSpPr/>
          <p:nvPr/>
        </p:nvSpPr>
        <p:spPr>
          <a:xfrm flipV="1">
            <a:off x="2514600" y="1219320"/>
            <a:ext cx="0" cy="4572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Straight Connector 7"/>
          <p:cNvSpPr/>
          <p:nvPr/>
        </p:nvSpPr>
        <p:spPr>
          <a:xfrm flipV="1">
            <a:off x="1523880" y="1371600"/>
            <a:ext cx="0" cy="4572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Straight Connector 8"/>
          <p:cNvSpPr/>
          <p:nvPr/>
        </p:nvSpPr>
        <p:spPr>
          <a:xfrm flipV="1">
            <a:off x="3429000" y="1371600"/>
            <a:ext cx="0" cy="4572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Straight Connector 9"/>
          <p:cNvSpPr/>
          <p:nvPr/>
        </p:nvSpPr>
        <p:spPr>
          <a:xfrm flipV="1">
            <a:off x="4343400" y="1523520"/>
            <a:ext cx="0" cy="43434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Straight Connector 14"/>
          <p:cNvSpPr/>
          <p:nvPr/>
        </p:nvSpPr>
        <p:spPr>
          <a:xfrm flipV="1">
            <a:off x="6248520" y="1523520"/>
            <a:ext cx="0" cy="44960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Straight Connector 15"/>
          <p:cNvSpPr/>
          <p:nvPr/>
        </p:nvSpPr>
        <p:spPr>
          <a:xfrm flipV="1">
            <a:off x="7238880" y="1523880"/>
            <a:ext cx="0" cy="464832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Straight Connector 12"/>
          <p:cNvSpPr/>
          <p:nvPr/>
        </p:nvSpPr>
        <p:spPr>
          <a:xfrm flipV="1">
            <a:off x="5334120" y="1523520"/>
            <a:ext cx="0" cy="43434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Box 11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3b | Tax-financed health spending expanded more rapidly than private health insurance after 1965</dc:description>
  <dc:language>en-US</dc:language>
  <cp:lastModifiedBy>Jia Yao</cp:lastModifiedBy>
  <cp:lastPrinted>2002-05-16T21:44:34Z</cp:lastPrinted>
  <dcterms:modified xsi:type="dcterms:W3CDTF">2013-09-04T21:03:50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3b | Tax-financed health spending expanded more rapidly than private health insurance after 1965</vt:lpwstr>
  </property>
</Properties>
</file>