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4183-6320-4620-98E5-675C46303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0381-110A-46E9-BAA2-15B669097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8BF0-2F74-4D62-B9E6-EBFBFECD9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9D68-7E91-4FB5-BEFD-3A3137578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0727-F5E7-4A0A-900B-1F020E53C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E4EB-5AAB-44F1-A01A-99FA216F6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CFBC-FF3F-4E25-AD3A-D73DE5035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B215-CF8A-45CA-8E58-4ADAAC27C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3686-ACAD-4B75-A7D6-9B1C03D14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828C-F42F-42EA-8449-6815A68B6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EA0B-8FF8-4D02-A864-6FAC08327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A26C-3A54-477A-8284-017529D73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2C7A4-058C-4CFD-82C4-D91A5E7BDA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343080"/>
            <a:ext cx="91440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6:59:10Z</dcterms:modified>
  <cp:revision>6</cp:revision>
  <dc:subject/>
  <dc:title>PowerPoint Presentation</dc:title>
</cp:coreProperties>
</file>