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519E-9B72-4C71-B4F9-D5C4EAB53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EEC5-6902-41C0-AA25-DA3F49DD3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60A1-C916-4B60-8760-E2A04A26E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0D14-096D-49BD-8A39-EF1782E7A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0B68-45DD-454C-97F5-ECC5D2F7E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094F-FDD8-4752-91D4-4F2C0FA43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0FB8-5FE3-4E3A-BDF8-6738F7361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60C4-063D-42C7-A145-8EABEC0AE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7A42-509A-41C5-B5D4-B83965A8A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D9F6-043C-4851-A1D5-15EFCE5C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35DA-B905-4D5A-841B-39587B86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D89C-40B6-48A7-8252-1ECDFF2F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AB3E8-B404-4197-AB5F-93020CDAAA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9080" y="0"/>
            <a:ext cx="9105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0:06Z</dcterms:modified>
  <cp:revision>10</cp:revision>
  <dc:subject/>
  <dc:title>PowerPoint Presentation</dc:title>
</cp:coreProperties>
</file>