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4BE9-B397-486C-8EDC-3BAC7C0BA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A91E-4C1E-4C76-9AC2-36FFD261CA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a |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9F6-1A3D-44C7-8FE7-4F81CC31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275-C949-4E42-8994-8B2481F1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1C9-F075-43B2-9407-9C9FAF97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B62-88C2-417A-BD61-DCB29E8A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F3F5-18B1-48C0-B6C0-7F506B39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613F-0D55-44B2-B57A-29FA66D8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FCA8-C5E1-4523-93FA-DC7E9C02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F77E-75AE-40C4-A064-2161B1A9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69FB-D443-4F8E-933B-462B6CE7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B89-B294-4B5B-B0F6-329F311B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4288-A1C4-42AB-886A-7AE54A89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C71-4B76-4F48-A4B7-1FA5BD95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FB42-1CC3-49C3-B520-413222D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1E28-DD59-4C92-894E-C4B75D9C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A776-E28F-4DF7-A0EB-DB04AB5F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A0A9-AD1F-481A-9F9D-4104877A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FC2C-36E0-427D-B351-A341798D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B1B-FF6B-458C-A7EC-3A80B78D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43C-5D87-4FCF-8366-BF90626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AB9-9979-4E79-8F79-30C90D69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28C-89D4-47FA-95D1-ED7119FE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1ED-DE6E-456A-BC55-D7724357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E08-87AB-47F9-853C-FE681F9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8B1-EB13-4F60-AE8D-7D56DFB9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AD43-5DEB-41F1-8720-8582C9A06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1C75-DF3D-45C3-AD67-4723C440F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a | Out-of-pocket spending is similar among the uninsured and privately insured, but the former receive much more subsidized car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028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80880" y="5610240"/>
            <a:ext cx="855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a | Out-of-pocket spending is similar among the uninsured and privately insured, but the former receive much more subsidized care</dc:description>
  <dc:language>en-US</dc:language>
  <cp:lastModifiedBy>Jia Yao</cp:lastModifiedBy>
  <cp:lastPrinted>2002-05-16T21:44:34Z</cp:lastPrinted>
  <dcterms:modified xsi:type="dcterms:W3CDTF">2013-09-04T21:04:1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a | Out-of-pocket spending is similar among the uninsured and privately insured, but the former receive much more subsidized care</vt:lpwstr>
  </property>
</Properties>
</file>