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F063-8A7F-4B5E-80A8-A1F0AA63A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A877-D95E-44D2-ACAC-1600A0C5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75D2-1CD6-47D6-8A74-6BC1444EB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58DF-C0C9-4172-B001-9CCC1B0E3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2119-248D-4FB0-8558-BC7A12D2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7BB2-E633-48A1-9DB2-E7E7D1B5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109E-C386-4552-90AC-F6466876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5971-474E-4F71-A9CC-E7E70B2C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2A2D-D4B2-4911-BB64-375A5398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DFB2-AA87-4DF3-9853-46137300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FBA9-DF49-4423-A241-4E901A68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D6FE-E8FC-49C1-ADB2-DA59AC04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05BE-1DA4-4723-8557-F17BF1EFE1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9840" y="228600"/>
            <a:ext cx="9004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4:30Z</dcterms:modified>
  <cp:revision>39</cp:revision>
  <dc:subject/>
  <dc:title>PowerPoint Presentation</dc:title>
</cp:coreProperties>
</file>