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41F-9473-4C11-8C9E-893770F4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9AC-99BF-4993-8A17-3A723EE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0DE-EF81-46AE-92D6-9DA8AC52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955-19F4-456B-9DDC-3D767508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B94-A831-40E6-A8A3-4C4D4FE8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BA0-E2DA-44F2-AB95-95FCF4F7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844-1CBF-470B-A512-B6AA999F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218-4B9A-45D0-8A71-92A194BA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116-79C6-4767-9ABA-1CE3122B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AD7-D21E-45CE-A844-89F822F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83C-E730-4A0B-A877-DEFF0CD4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21F-974A-4BF4-B9B9-4F521020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8EEA-F531-42F8-8ECF-F6ADF42EB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1Z</dcterms:modified>
  <cp:revision>43</cp:revision>
  <dc:subject/>
  <dc:title>PowerPoint Presentation</dc:title>
</cp:coreProperties>
</file>