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6CAA-F028-42D3-A7D1-6B6AF0B03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6A | UNFUNDED LIABILITIES DUE TO MEDICARE AND SOCIAL SECUR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A55E-35EC-4766-A7A1-906FBBA9A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4A0-A8B5-49E8-85EB-1D8B25DA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DE6-BB86-4158-BC48-160726D8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F1F-9D4D-4A18-A027-F4554896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963-6FCE-4302-9F8C-9637CE9F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1F2-7B4F-4693-822E-D92AE3AB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CD6-5FD9-4AF7-9BED-CAE58835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262-3F31-489F-8269-591AABA5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6C7-0F8F-4D37-ADDA-4C702F26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C1E-6A09-4163-A496-9F4C8495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A2FC-3661-40EB-834A-106FC804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366-D263-4D18-AA55-E261C9EE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0A0-C208-476B-AE8D-72C4FAEE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556C-2E62-4D68-BC01-1D0E10CAF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a | Even assuming the health law works as intended, unfunded liabilities for entitlements will exceed $80 trillion over the long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48340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present value of unfunded liabilities (trillions of 2009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9596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or Medicare Part B, Medicare Part D and Medicaid, unfunded liabilities are calcu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suming the 2010 share of GDP represents current willingness to pay for these programs. 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rease in spending above this share is calculated as an unfunded liability for which hig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axes must be paid eventu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b | Even assuming the health law works as intended, unfunded liabilities for entitlements will exceed $80 trillion over the long run</dc:description>
  <dc:language>en-US</dc:language>
  <cp:lastModifiedBy>Jia Yao</cp:lastModifiedBy>
  <dcterms:modified xsi:type="dcterms:W3CDTF">2013-09-23T19:14:26Z</dcterms:modified>
  <cp:revision>6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b | Even assuming the health law works as intended, unfunded liabilities for entitlements will exceed $80 trillion over the long run</vt:lpwstr>
  </property>
</Properties>
</file>