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6DF1-0A53-4D52-A73E-B5E9F6FF28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8C | RATIO OF ELDERLY PER CAPITA HEALTH SPENDING TO AVERAGE ANNUAL EARNINGS OF PRODUCTION WORKERS IN SELECTED INDUSTRIALIZED COUNTRIES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E2AE-956B-4793-AADE-5C970826E2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4231-E440-4F12-982E-BEE14467A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C406-512C-4197-90D2-3191AC53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F610-730E-48DE-ADB0-1CD79618D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5754-2A14-4496-A7F6-A70B76122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D403-FF4C-4E13-90C2-F5CBE3F1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13F0-6B1E-497A-B36B-009F751F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EBDF-0D49-48EC-889A-056509A5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D2A2-A70D-4CEF-9BAD-362A02FB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8B4F-6E48-49F4-B64B-751FF1E7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0049-23FF-4DF0-99CE-F262EC68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F9F2-A917-4362-96A1-AEDFF2F1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2AF8-7DB4-4AA9-B506-A645DEB8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9CCD-F1BE-4056-BAE5-FFB613A41F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8c | Relative to competitors, U.S. health spending per elderly person is a much higher share of average manufacturing compen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8258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47840" y="1643040"/>
            <a:ext cx="839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lderly health spending as a percentage of average annual compensation in manufacturing (200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8c | Relative to competitors, U.S. health spending per elderly person is a much higher share of average manufacturing compensation</dc:description>
  <dc:language>en-US</dc:language>
  <cp:lastModifiedBy>Jia Yao</cp:lastModifiedBy>
  <dcterms:modified xsi:type="dcterms:W3CDTF">2013-09-23T19:14:39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8c | Relative to competitors, U.S. health spending per elderly person is a much higher share of average manufacturing compensation</vt:lpwstr>
  </property>
</Properties>
</file>