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9F52-344D-4448-9D9E-D8A7C9C6B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C | RATIO OF HEALTH-RELATED UNFUNDED LIABILITIES TO U.S. GDP AND HOUSEHOLD NET WORTH IN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2C10-C9C0-4B08-BDA5-AEC6A1DA7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9C7-A6AE-4790-A0BC-65E1DF7F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2DD-810C-4B14-9256-71211745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1C2-FC9B-4C13-82B3-58E9EDB6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809-CAAA-48E5-B975-E9C16164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A63-2124-48C3-8C5F-7A802869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890-0827-4987-903B-1D42CAD7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23F-3E05-484A-A22E-1720F570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880-EC9D-4B88-9188-F3D1E382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315-1529-4FE5-9715-32FA1322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487-929A-4D97-B80F-D5A2FD74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7DF-3801-4927-BE92-9FD5CD2B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D37-1CA9-41FF-B6DC-2F619128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6566-EDCE-4713-8500-8038F6FC3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c | Health-related unfunded liabilities alone are  at least double national income; in the long run, they exceed current U.S.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2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55480" y="1405080"/>
            <a:ext cx="1600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 of unfunded liabilities for Medicare and Medicaid relative to measure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2680" y="60372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funded liabilities calculated as of January 1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c | Health-related unfunded liabilities alone are  at least double national income; in the long run, they exceed current U.S. net worth</dc:description>
  <dc:language>en-US</dc:language>
  <cp:lastModifiedBy>Jia Yao</cp:lastModifiedBy>
  <dcterms:modified xsi:type="dcterms:W3CDTF">2013-09-23T19:14:3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c | Health-related unfunded liabilities alone are  at least double national income; in the long run, they exceed current U.S. net worth</vt:lpwstr>
  </property>
</Properties>
</file>