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45DC-B942-4182-A8ED-FF1D5F3D2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7C67-5318-4597-A4FB-07A0A1D68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F7C3-8703-48D9-AF8D-790E755E4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2224-3A16-4109-976A-34096B9FF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CFF7-E4A5-46E3-AFE2-10E016B4E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D86A-2698-4C7C-A3A7-53F65E30B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6926-D8AE-4DB2-93D6-BA239756D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9F71-CC9F-4311-A6F9-A2144AF24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B8FB-05A7-4689-B4EC-C04F3079C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9FA2-153F-426E-AF19-8F37074A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9897-7ACD-49B2-B274-6D59D6CF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285C-D35D-4C5A-9FDB-84A2804C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87EFF-1973-4C16-B63A-F19EDBF4B9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01520" y="1447920"/>
            <a:ext cx="89409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16Z</dcterms:modified>
  <cp:revision>41</cp:revision>
  <dc:subject/>
  <dc:title>PowerPoint Presentation</dc:title>
</cp:coreProperties>
</file>