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6B3E-B6FD-4F2C-B5EA-63ADD6C0AA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A | AGE DEPENDENCY RATIO IN G7 COUNTRIES, 1960, 1984 AND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CE75-3854-4FD8-B21F-E0CE1D482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8DD1-1C6E-4B1E-9B73-27F8CAE9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4308-11CD-4DC0-BF2F-4030DB08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5624-A19B-4781-87EB-6E7FBD44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8FC2-4C35-4260-9345-EF1BE633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7438-9986-4D56-A630-7A4B7881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B95B-45DD-4296-8D5D-CC6EE48F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F84E-1880-4DB7-BFAC-D0A4766A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9B54-58C4-4909-8C5C-E7A1E536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573F-3BFC-4B41-B8B2-1C5F0170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C0B1-F7AB-4BF0-A800-120C9CAB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08DA-56B8-4A90-B7C5-7885AA3A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8D2-1EB4-49A7-B30D-0AE9A194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432A-BA77-468B-9C4C-3386538A0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a Over the past half century, the elderly dependency ratio in the U.S. has risen, but is lower than ratios in other industrialized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lderly persons (age 65 and older) per 100 persons age 15-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a Over the past half century, the elderly dependency ratio in the U.S. has risen, but is lower than ratios in other industrialized nations</dc:description>
  <dc:language>en-US</dc:language>
  <cp:lastModifiedBy>Jia Yao</cp:lastModifiedBy>
  <dcterms:modified xsi:type="dcterms:W3CDTF">2013-09-23T19:14:36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a Over the past half century, the elderly dependency ratio in the U.S. has risen, but is lower than ratios in other industrialized nations</vt:lpwstr>
  </property>
</Properties>
</file>