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A29-EBDC-4C31-9424-1B0509F6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F74-818E-4867-9C03-86ABA3C9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4BC-CC76-41FD-B5B1-EC52750D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69A-46FE-4602-9014-046A90D3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519-8885-433E-AFC9-E779E471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30B-D482-4174-965F-34F70989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7FE-A3EE-459C-AF65-A148C919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404-5094-4DB0-BA22-55460780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8E1-B708-4FEB-A2F9-E8B4137D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72F-582E-49E4-807F-03B1B4D7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E59-BCFA-42CD-9D3D-BADB7B33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60E-C68E-4CD8-BE6F-9C564B0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ABAB-5244-4950-86EA-C49224667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9074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0Z</dcterms:modified>
  <cp:revision>43</cp:revision>
  <dc:subject/>
  <dc:title>PowerPoint Presentation</dc:title>
</cp:coreProperties>
</file>