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D3B-84E6-4D93-A584-E66BF4BB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2C1-7314-4592-9319-533383BB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13F-22C7-408A-94FB-AC6C6FC3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57D-5F94-45CF-B2B4-200E7CC5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A13-6E0C-49CE-A625-844F5CDB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85F-D442-496C-A8CC-B03906B6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8BE-57FA-4D9B-9E6A-14A6F9EA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2E1-B713-4A63-B2C8-1683A8D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B4C-BC48-4A1C-90D8-262457FB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054-211D-4A8F-8F4D-6DC25A3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528-9943-48D8-A905-E053346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850-0733-4F9D-B867-1BB5F30B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FE13-A52B-45ED-8EC6-E942CBB8D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4240" y="990720"/>
            <a:ext cx="897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9Z</dcterms:modified>
  <cp:revision>43</cp:revision>
  <dc:subject/>
  <dc:title>PowerPoint Presentation</dc:title>
</cp:coreProperties>
</file>