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066-12DE-4022-8D84-5DBD5513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4B2-DB95-4795-B9BC-C8448F5B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8BC-8A68-46D0-982E-37F5EAC2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C63-17AE-4D58-86BD-EE1272A2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E78-0EE1-4004-8E5F-F34C5CD4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675-8794-4F0E-96D2-B0B18635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D2A-1786-4061-8BD7-2C504962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289-8099-4B1C-B014-25E2DCD3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AC1-4461-4E23-B072-13AC4F84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05A-58E2-4D96-A208-E683ECA6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983-AF4D-462C-9A29-2A7A3044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8E4-3D94-46B4-ADD1-3788367A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F51B-FDAF-4166-BBA0-530BA09AC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2Z</dcterms:modified>
  <cp:revision>39</cp:revision>
  <dc:subject/>
  <dc:title>PowerPoint Presentation</dc:title>
</cp:coreProperties>
</file>