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00A-25C8-42E2-933A-BF923A78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6CB-1A79-43C1-98D7-3C37E66F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EED-7C7C-4EBE-9755-64CDB757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6AF-DCB4-4CC2-B1A8-1899E803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509-5E98-4EAC-83D0-76A6F475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8E9-073B-4E92-ABC6-82EDCF33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769-5A91-4D83-B0F1-BEB49348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324-8317-4D77-A19A-C28A4E4C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2BA-A570-40DE-A72D-75AE0DEB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1D4-EE8E-4B3C-9CA6-7068F3CC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2C9-2C44-46F4-95F7-30C24F85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BB5-5F10-443B-A9E8-14D00D12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0E34-D549-4412-ABE2-BB3647A2B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2Z</dcterms:modified>
  <cp:revision>45</cp:revision>
  <dc:subject/>
  <dc:title>PowerPoint Presentation</dc:title>
</cp:coreProperties>
</file>