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F7A0-5EC2-4097-B21F-EED564CCE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469E-5538-4703-8C07-F79A58DC5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9a | General Government Expenditures as a Percentage of GDP, 1993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7E1-BDC8-49A4-AF1A-631D753C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A19-937C-41AF-A5AF-C16DF3D6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AFA-D0DD-419E-8E52-8148DB12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6E0-1150-479E-8E68-421EA623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3C82-CDA1-4D44-AE64-5EF8D437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6426-133C-4995-AD6B-F960C5CE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F466-808D-4049-A0A0-21CE22BA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D2AF-409D-41DF-8BAA-186F0A37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15EC-9119-4EF5-9516-A8443F32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A13C-81D5-4298-8080-D02BF597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B5B6-F882-44EF-9C28-9036084C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AA3-5002-4E24-9735-2186E4AA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EECA-66A3-4F35-95A8-9E617DB5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1CE4-F9BC-4107-82A8-5CACC38A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39B4-58FB-4D0F-9F7D-E78FB3E6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F183-56CC-4177-BD1C-4B1D5928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9485-7DA9-4A31-A230-DC6671DD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AA1-8287-4E29-87AD-95987596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8A7-FEFC-4E93-99B7-ADB5242E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999-D2A7-4B64-A9F8-293DCB77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CE8-FC85-44D7-91E4-688C897F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B55-B012-4741-A053-6A20E3E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DDC-EEFC-449A-8ACC-7009C42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658-5E02-45AC-82BA-D1DF055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77D0-5F20-4A36-B110-FE07AA5F83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A3C2-EE56-4F30-A833-34EA65F0F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a | U.S. has a lower burden of government relative to its major G7 competi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380880" y="1924200"/>
            <a:ext cx="8377200" cy="493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209680" y="57913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eneral government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a | U.S. has a lower burden of government relative to its major G7 competitors </dc:description>
  <dc:language>en-US</dc:language>
  <cp:lastModifiedBy>Jia Yao</cp:lastModifiedBy>
  <dcterms:modified xsi:type="dcterms:W3CDTF">2013-09-23T19:14:4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a | U.S. has a lower burden of government relative to its major G7 competitors </vt:lpwstr>
  </property>
</Properties>
</file>