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51923-4E9B-405F-86E0-F194E8415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93E29-0F86-46EE-BB77-B1C04F734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6E103-24A1-415D-8447-2FA11DD25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5BABF-E756-452D-88FB-A1CFE1285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AEB74-7C4F-4827-86A7-F8A56CD75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7DF6E-BB41-42D7-8CA0-8033B287F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67E91-74BE-4DAC-B324-A667C5B61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2DB02-D5DE-4164-B43B-0613DFF57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06046-051F-4516-8551-7C47DA2F6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66673-CE7E-4D12-B912-C737CA571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B715B-CEC2-41CF-8104-5D3B554DA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57B80-5A48-4E75-A9A9-1DFA87AF5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9D330-BC3D-4F9B-901D-F9A168EF25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65160" y="1676520"/>
            <a:ext cx="901368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3:26Z</dcterms:modified>
  <cp:revision>45</cp:revision>
  <dc:subject/>
  <dc:title>PowerPoint Presentation</dc:title>
</cp:coreProperties>
</file>