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230E-E687-4863-8867-DB5358A18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b | Projected Year of Medicare Hospital Insurance Trust Fund Insolvency, 199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BA07-7E7C-4765-A4A8-1C7B3A172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DB2-D1B3-4205-974C-9E15014A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F17-319D-4C4E-B726-2A3B7BA4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C68-F675-4F91-A027-075D810B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E42-EFA7-49C9-8FA2-20990D6E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ED2-1F22-45C2-AB0E-F4EC95B0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769-4A95-4AD5-AED0-BFE91084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51A-1A44-41B8-9589-3FFDC07C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482-46B3-45AF-81B9-D4FAD48B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74C-8290-49E9-A6B7-0F06F777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C96-D6CE-413A-951E-AF8EA9CA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DA9-9363-424D-A97B-4870C0A3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633-01E7-4487-9BB4-F20AD4C6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6246-C93C-46D5-8465-BF56E533F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3b | Projections of Medicare Trust Fund insolvency have changed considerably over the ye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25680" y="1447920"/>
            <a:ext cx="65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ed year of Medicare Hospital Insurance Trust Fund insolv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85800" y="60199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ar of Medicare Trustees’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b | Projections of Medicare Trust Fund insolvency have changed considerably over the years </dc:description>
  <dc:language>en-US</dc:language>
  <cp:lastModifiedBy>Jia Yao</cp:lastModifiedBy>
  <dcterms:modified xsi:type="dcterms:W3CDTF">2013-09-23T19:14:1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b | Projections of Medicare Trust Fund insolvency have changed considerably over the years </vt:lpwstr>
  </property>
</Properties>
</file>