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9D94-3D0D-40D1-99FA-8E97A675E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F9FA-5743-41A2-8308-F168B5EA8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2 | Components of Health Expenditure Growth, 1966-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0D66-CB9B-435F-85F1-3B89A61C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A217-6F97-4EDB-8757-F43DE1BC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8F74-4614-42B5-82B6-38D49D85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F1FF-2CFA-4299-BB4E-A575F3E0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0A68-D6B0-43EC-8A0C-D3893DA7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00C7-0D5D-446C-86D2-AF0833CA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4C5C-E2AA-4151-89AA-BEC38717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8996-3FD5-4A3B-AA8B-126387BB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5CB3-CC9E-4D35-AE1D-FC85138E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F080-8029-438F-979C-9ABC829D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0B93-21D8-411E-86BC-BC982AEB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73F4-DEC8-4243-9709-12497A16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96E9-905D-441F-8C0D-68DF0204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FB19-0C1F-4957-AA05-B8252237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575D-3F3D-4132-8E23-E5FE44D3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8BFA-444D-4B54-A519-5D2390D8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9973-465F-4743-A9F2-9D521144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D7FD-1F86-4E5F-871B-A2142FE2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03C6-ADBA-4BF9-86BD-8462FE36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F20E-CD44-4AE8-8A48-3FAC8A34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B591-7817-47E5-B3B4-CFC1E94D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9D59-7F0E-41B7-84C4-F561A1DD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05EA-C4DC-462F-A13C-1685F553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3305-AB14-440E-BBD8-5244E69C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FB0E-8D13-403D-A52A-B76D5A00DB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713D-6A32-4BB9-883B-CE3CF0B5A7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2 | The role of technology on health spending growth per person is sizable regardless of the time-frame and assumptions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2 | The role of technology on health spending growth per person is sizable regardless of the time-frame and assumptions used</dc:description>
  <dc:language>en-US</dc:language>
  <cp:lastModifiedBy>Jia Yao</cp:lastModifiedBy>
  <dcterms:modified xsi:type="dcterms:W3CDTF">2013-09-23T19:14:1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2 | The role of technology on health spending growth per person is sizable regardless of the time-frame and assumptions used</vt:lpwstr>
  </property>
</Properties>
</file>