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CF6-07AE-4E42-BE18-2E07E8BE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FF23-528F-40C4-B90A-2E335118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8E32-1269-48DA-8DCE-1B5DFF04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247-DB33-4E86-B1E6-FEB74003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ABE-95A4-4122-81F0-9629A532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FA9-2040-49EA-9BE3-125558BD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FA2-8293-44F2-83DA-B9CE2024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035D-B804-4448-A602-0DB4438D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2A9-6BBE-448F-A52A-02D359E8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1CD-5C2A-4E4E-9B1F-2D1A3240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8BC7-37F1-4B7C-B838-27989251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628F-D842-463D-8C14-47A246AD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AA99-267D-4719-96B7-59B22C5B7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5440" y="1371600"/>
            <a:ext cx="903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7Z</dcterms:modified>
  <cp:revision>41</cp:revision>
  <dc:subject/>
  <dc:title>PowerPoint Presentation</dc:title>
</cp:coreProperties>
</file>