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953-CB5B-43B5-BBCF-746B0DA8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B65-4557-4C50-8D50-9956CD5F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7FE-4343-42E5-BD6A-4FF5F374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DF5-E626-43B4-8F38-7C399AC4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372-9C24-4F8E-AEE1-2B597791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A4B-6517-4ED9-8515-A21521AC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4007-D6B8-4E32-9DFF-3E40C92B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783-8E7E-4A00-BFAD-92A45848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DC0-2C93-430B-9D28-23D5A20F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DE0-0860-4118-879D-A91D761F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A64-FBCE-4630-AD5A-9136B83C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504-EBB6-4BCB-910A-44C162CF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1FA4-AD6E-4FE5-9311-D50A9912C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3360" y="152280"/>
            <a:ext cx="90172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7Z</dcterms:modified>
  <cp:revision>45</cp:revision>
  <dc:subject/>
  <dc:title>PowerPoint Presentation</dc:title>
</cp:coreProperties>
</file>