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6869-5715-4A06-927D-4F21A61E9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3B37-5635-44BE-830F-734DFDB3A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958-9249-4642-A218-5D134C15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C97-4DC5-4AEA-AEA3-6C755F25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68B-6B49-487C-9EB5-4AB9620F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F53-7678-40F8-99E1-0C436672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A7A-252C-4592-A078-B9897E62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119-2599-477E-8680-B39C3485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B70-1FF0-49A4-9D4B-DD7674F6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3458-B6D6-4C6C-B5C4-313E4D9A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8F9-AEBE-41A4-9D4B-A445FBDE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B96-F32E-4CBD-B5D6-FCBD76AF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155-4B18-44D8-A24A-B9F834A5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ED0-6537-400A-A196-96EA613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AA94-764A-4C1D-8568-2ED3F65F7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b The funding shortfall for major entitlements will amount to more than one third of taxable payroll within eight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788320" cy="5429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143000"/>
            <a:ext cx="1600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unfunded public sector liability as a percentage of taxable payro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5715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unding shortfalls for Medicaid, Medicare Part B and Medicare Part D are calculated assuming the share of federal revenues devoted to these programs in 2007 represents societal willingness-to-pay for them. All figures based on CBO’s alternative fiscal scena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a The funding shortfall for major entitlements will amount to more than one third of taxable payroll within eight decades</dc:description>
  <dc:language>en-US</dc:language>
  <cp:lastModifiedBy>Jia Yao</cp:lastModifiedBy>
  <dcterms:modified xsi:type="dcterms:W3CDTF">2013-09-23T19:14:28Z</dcterms:modified>
  <cp:revision>6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a The funding shortfall for major entitlements will amount to more than one third of taxable payroll within eight decades</vt:lpwstr>
  </property>
</Properties>
</file>