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968E-FE10-4EB4-A06F-3E2E5862D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0DA0-ABB5-475D-8710-DD03CC388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a | Inflation-Adjusted Per Capita Expenditures, by Type (chained 2005 doll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70C-A680-4E78-BBF6-38EB1254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F12-18C4-4FA6-BA16-47A557CB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0C5-1857-47B4-B071-DE022D5F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6F6-6F29-4AB4-B188-466F26DF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225F-C0DB-45A7-B361-C337E1DE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52D9-CB47-44D4-8995-E449AA66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867F-6AAB-404D-A82A-CB1622DD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1F8B-D1FA-4183-B6D2-C51E41E2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A116-B982-424F-B1A2-B6A4A69E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1E35-D1F8-4097-80F4-4FFDEEE0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0092-63DF-4CFF-BD53-A5F01785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C52-7234-44B3-80BB-CB0E0D47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A41E-D3AD-4985-A60D-577CE8B2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DFB8-8E68-4E5A-80C2-DEA4689E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3715-A6CB-4233-8548-956AB0C3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EF18-C89F-48E5-8F49-511D2899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281B-50E5-499C-9B30-47CC09C5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F5A-109C-4827-BB92-246A2653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5000-8740-4848-9EA8-ACC38EA6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9FF-9FA0-41D0-9CFD-F302C345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C42-5CCE-4243-9FA5-3E1DAE45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B9C-751C-40A4-9064-91E5C211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696E-D81B-42A3-A7AF-6E4FC117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FC7-6984-4D4B-9551-2C2F8F7A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26D2-5CED-41A3-B8A3-2A5598B09C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F5AF-1E7F-4DD1-A72F-135BA8E91E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4a | Despite rising health spending and taxes, non-health personal spending per capita more than tripled from 1929 t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a | Despite rising health spending and taxes, non-health personal spending per capita more than tripled from 1929 to 2009</dc:description>
  <dc:language>en-US</dc:language>
  <cp:lastModifiedBy>Jia Yao</cp:lastModifiedBy>
  <dcterms:modified xsi:type="dcterms:W3CDTF">2013-09-23T19:14:18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a | Despite rising health spending and taxes, non-health personal spending per capita more than tripled from 1929 to 2009</vt:lpwstr>
  </property>
</Properties>
</file>