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9810-62EC-49F8-8CBF-7ACB1CCE7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3a | Annual Excess Cost  Growth in Per Capita Health Spending, 1975-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945C-E149-4FDD-A17C-B50F4C653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B10-858A-4DEE-BB09-1C65044B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9AB4-0890-4593-A770-A07DA432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CE6-2AAF-4F6A-B051-3113BBED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0D4-FA09-4DF3-B4E8-7E70D878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CBD-DD2A-4C74-BC36-B6191E6A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F81-FE6C-4B1E-9405-7C891A49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883-1E24-4205-84B7-4B969681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C0D-4C1E-47FF-93BE-03E9CD69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631-F48D-4854-A6D1-0DC4412B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C405-44F3-4B8D-B206-01D0ECAA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9CB-D7E1-407C-B039-B14FC62F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012-3EDB-47B0-ADB8-B24E3264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0C4D-7F76-4270-B95F-F5D53284B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3a | Measured over long time periods, annualized growth in health costs  in excess of growth in GDP appears to be decli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5597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03080" y="1219320"/>
            <a:ext cx="69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excess cost  growth in per capita health spending, by starting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22360" y="4648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that per capita health spending is adjusted for changes in age and gender. Also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 ending year after 2000 is 2007, not 2005. Thus, 5 year excess growth star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year 2000 is for 2000-2007; 10 year excess growth starting in year 1995 is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95-2007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22360" y="5848200"/>
            <a:ext cx="861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Caldis, Todd G. The Long-Term Projection Assumptions for Medicare and Aggrega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tional Health Expenditures. Centers for Medicare and Medicaid Services, Office of th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tuary, National Health Statistics Group, May 12, 200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3a | Measured over long time periods, annualized growth in health costs  in excess of growth in GDP appears to be declining </dc:description>
  <dc:language>en-US</dc:language>
  <cp:lastModifiedBy>Jia Yao</cp:lastModifiedBy>
  <dcterms:modified xsi:type="dcterms:W3CDTF">2013-09-23T19:14:1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3a | Measured over long time periods, annualized growth in health costs  in excess of growth in GDP appears to be declining </vt:lpwstr>
  </property>
</Properties>
</file>