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83F-D8DB-4532-A199-2CDC5E31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812-E0EF-4657-B062-15797DA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2AE-00F8-49CF-8BE4-725FBBAC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5EA-4031-4391-9589-01C952F6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38F-F8C1-4CD7-8ABF-B010EB08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AD4-70A7-451E-A9BA-6ACFC5BF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A86-ECCF-48B6-85E6-A21B1C08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F75-3ECB-4560-9CF6-4309CDC8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D5A-55C3-4099-AED9-4D63107A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2D9-FCBF-4C50-B9F1-84CD1596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F6E-4697-439B-9775-06A0F515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B4D-04EB-4E65-B14A-8F2D6BFA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F670-74EB-4489-8708-6BB564BEA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1000" y="1066680"/>
            <a:ext cx="898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8Z</dcterms:modified>
  <cp:revision>40</cp:revision>
  <dc:subject/>
  <dc:title>PowerPoint Presentation</dc:title>
</cp:coreProperties>
</file>