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A7B5-6A80-4245-AB1F-DAC12DF8D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4290-AF96-4EE7-8B52-22315536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84D0-CFD5-43AE-B107-FCA798CE5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550B-38A6-44A6-B25E-A5EC99AF8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18DB-82AE-4E07-85FC-9BFA72B4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AE79-9FBF-44D8-A544-4920FEA2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8A83-AF2F-44E2-B633-D326FD9F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F49E-9D70-4836-9AF3-07B2F1F5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9851-EB69-4E3C-910A-25B7CDDE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9D14-C069-440C-9662-CE9042FD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C412-77BD-4E00-8433-B7996560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5E0B-040E-44A4-82B2-5CB59AD9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32DE-F21F-481D-88E0-55CA07BEB7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47600"/>
            <a:ext cx="914400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1Z</dcterms:modified>
  <cp:revision>43</cp:revision>
  <dc:subject/>
  <dc:title>PowerPoint Presentation</dc:title>
</cp:coreProperties>
</file>