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8F39-5C8E-4F29-9F52-BAC87187F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A | INCREASE IN MANDATORY FEDERAL HEALTH SPENDING AS A PERCENTAGE OF GDP, 2010-20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2409-D6B3-41AD-A4A9-90AE76CCF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B84-39F9-453A-88F8-B073C8BA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DD5-A435-47CF-BDCD-DEEAF298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792-9381-4AF3-969A-4314A274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665-DFC7-4699-832F-49EDBEAD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A60-2699-47F4-9F46-FCF4C16B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8B4-8506-499B-B14C-9EA1012F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003-5D42-42F3-BF77-CA21CA14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4D3-1628-4BCD-8ECF-F7F31F10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E1A-7DF1-41FB-8533-A2685AC1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42A-D9FB-4DC5-BD68-A26138DF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83B-6854-416B-BAE7-56C395D6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CD6-A833-44BB-A990-AA8BA69B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79CF-5C17-4B72-9AA0-916488D01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0.7a | The projected 75-year increase in mandatory federal health spending exceeds revenues from the three largest sources of federal tax reven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2548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5720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a | The projected 75-year increase in mandatory federal health spending exceeds revenues from the three largest sources of federal tax revenue</dc:description>
  <dc:language>en-US</dc:language>
  <cp:lastModifiedBy>Jia Yao</cp:lastModifiedBy>
  <dcterms:modified xsi:type="dcterms:W3CDTF">2013-09-23T19:14:3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a | The projected 75-year increase in mandatory federal health spending exceeds revenues from the three largest sources of federal tax revenue</vt:lpwstr>
  </property>
</Properties>
</file>