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D346-8982-4770-B19A-48687C99F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FC74-3711-4948-9F2B-4E732E807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7A0-81D3-4EB6-9104-F919DA5D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8E8-7161-4DF1-82BC-4D179733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4A4-15FC-4700-9103-6FC3BF67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3EF-5A96-44B9-A93A-7C1B810F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F4A-69E8-4E27-BB8C-60098AA0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8EB-C992-4A6C-901D-6903D1C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8B1-3340-422F-B1B1-E3FBDF35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850-1062-4F9D-B6ED-6ED5E793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30E-3DDD-4D6D-A1EB-6959247B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62A-151D-404D-A2C5-A9F560FB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769-B4FE-4BE8-BF62-F4B5C7F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003-DC5C-47A0-8554-46E3E45E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2822-47A6-466B-8B74-1E11141CE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b The funding shortfall for major entitlements will amount to more than one third of taxable payroll within eigh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788320" cy="542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143000"/>
            <a:ext cx="160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unfunded public sector liability as a percentage of taxable pay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571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unding shortfalls for Medicaid, Medicare Part B and Medicare Part D are calculated assuming the share of federal revenues devoted to these programs in 2007 represents societal willingness-to-pay for them. All figures based on CBO’s alternative fiscal scen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a The funding shortfall for major entitlements will amount to more than one third of taxable payroll within eight decades</dc:description>
  <dc:language>en-US</dc:language>
  <cp:lastModifiedBy>Jia Yao</cp:lastModifiedBy>
  <dcterms:modified xsi:type="dcterms:W3CDTF">2013-09-23T19:14:28Z</dcterms:modified>
  <cp:revision>6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a The funding shortfall for major entitlements will amount to more than one third of taxable payroll within eight decades</vt:lpwstr>
  </property>
</Properties>
</file>