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76FB-B9BE-48B0-A819-E212E4705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D176-B9E6-4967-BC13-030886BE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08AC-E4C7-4982-813D-9EFDBC071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17DE-929C-4C48-B0B9-64ED7AB7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3316-5EDA-4D39-92F5-EF31CCD2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9478-C419-432E-8DE9-9922BF8E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066F-F0AF-40AC-B9B1-ADBA3DCE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942F-6ACF-4B13-9C8B-202E32FB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69C9-267F-4D56-B5F7-ED8212DF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4EF2-6766-49D9-BA1D-92C1E159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C3EA-3A16-4B91-8593-BC38C6BA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C33B-F5FC-4093-A86D-F27C261D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E344-5D20-452F-B025-0248D185F3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42920" y="1066680"/>
            <a:ext cx="88581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4Z</dcterms:modified>
  <cp:revision>39</cp:revision>
  <dc:subject/>
  <dc:title>PowerPoint Presentation</dc:title>
</cp:coreProperties>
</file>