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9BE-1CA3-4FCA-A9B8-CD291D15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5FB-9489-4FFA-9D3C-2CF643A1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B37-9091-4B5D-B2F2-D9FF80A8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86B-1696-4D84-A3CE-AC026AEA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0A0-03D0-4D4D-9682-7FA722AA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969-255A-47E2-9430-ECCE83F1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E16-38CE-48DE-A871-1A3147BE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A71-DD18-4BCF-BB69-B7354F98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DC6-6F8F-4AAA-8FF2-F6A90053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EE5-913A-42B3-B3B6-7F531CA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2B0-5B8C-4A1E-8D11-9CFC0790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569-3ABC-4B05-95D6-1AE66D4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9D69-F868-4998-849F-F60B493F9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2Z</dcterms:modified>
  <cp:revision>39</cp:revision>
  <dc:subject/>
  <dc:title>PowerPoint Presentation</dc:title>
</cp:coreProperties>
</file>