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896B9-5DD0-484D-A06D-3D776B2EEE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0.3a | Annual Excess Cost  Growth in Per Capita Health Spending, 1975-200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24F8D-5FFC-4A2D-8F6C-CA5D1DBA76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8DFC-F62A-4D3A-8201-EC052D73E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1CE7-C2FA-4AAF-B0CC-F122DF738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6F3F-196A-4B28-A42B-284D71D9D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9617-93E1-4E61-A8F9-9D8F91750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5BF1-F679-411A-9CBA-87AE3322B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1E28-AF76-4EBF-8BDC-C936FABC1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ED8F-AF6D-472B-AE10-15362EA3E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3325-59B4-419E-8FB7-E6555214A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DB32-1713-41C6-95E7-3D3AD0A41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811B-A7E7-4B51-B6FD-52801F22B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5BC0-B3EF-47DE-83B0-93906F0B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5A68-B1E9-41B4-BB44-687154DF2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E514E-80CD-4680-A373-7FD9B6B822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3a | Measured over long time periods, annualized growth in health costs  in excess of growth in GDP appears to be declin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559720" cy="56642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703080" y="1219320"/>
            <a:ext cx="699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nual excess cost  growth in per capita health spending, by starting y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522360" y="46483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 that per capita health spending is adjusted for changes in age and gender. Also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 ending year after 2000 is 2007, not 2005. Thus, 5 year excess growth star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year 2000 is for 2000-2007; 10 year excess growth starting in year 1995 is fo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995-2007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522360" y="5848200"/>
            <a:ext cx="8612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Caldis, Todd G. The Long-Term Projection Assumptions for Medicare and Aggregat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ational Health Expenditures. Centers for Medicare and Medicaid Services, Office of th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ctuary, National Health Statistics Group, May 12, 2009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3a | Measured over long time periods, annualized growth in health costs  in excess of growth in GDP appears to be declining </dc:description>
  <dc:language>en-US</dc:language>
  <cp:lastModifiedBy>Jia Yao</cp:lastModifiedBy>
  <dcterms:modified xsi:type="dcterms:W3CDTF">2013-09-23T19:14:14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3a | Measured over long time periods, annualized growth in health costs  in excess of growth in GDP appears to be declining </vt:lpwstr>
  </property>
</Properties>
</file>