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5261-9EBB-4157-ADBB-D3A695B6F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B | NUMBER OF COVERED WORKERS PER SOCIAL SECURITY BENEFICIARY, 1960-20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C641-8D30-428D-939C-E7DD6D916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864-AF6A-4A93-BE6B-D19277AC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BC6-A186-4837-8420-53480A74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A19-8EF3-4688-9121-28E1C7C2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039-9565-45E0-8025-CBD9EFC9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127-4CC2-4D1E-9D72-C1F30E82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D0B-AD09-4C32-B9D3-9A49C20F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3C7-E6BA-4BBE-B259-12A421E7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F77-EE75-428E-98E0-E0B4FE70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64F-866E-4D24-BA02-82A890B6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379-80B1-487A-8435-AD0C7024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2FB-4682-449B-A062-C4C67ECB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BE9-8D44-4EB9-9F8E-306F4938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6569-0E66-4805-B591-EBA7D62F1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b | The number of covered workers per Social Security beneficiary is expected to decline even under the most optimistic assum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overed workers per OASDI benefici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0280" y="5934240"/>
            <a:ext cx="747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ocial Security Administration. Table IV.B2.- Covered Workers and Beneficiaries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lendar Years 1945-2090. Available at: http://ssa.gov/OACT/tr/2012/lr4b2.htm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accessed September 1, 2013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b | The number of covered workers per Social Security beneficiary is expected to decline even under the most optimistic assumptions</dc:description>
  <dc:language>en-US</dc:language>
  <cp:lastModifiedBy>Jia Yao</cp:lastModifiedBy>
  <dcterms:modified xsi:type="dcterms:W3CDTF">2013-09-23T19:14:37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b | The number of covered workers per Social Security beneficiary is expected to decline even under the most optimistic assumptions</vt:lpwstr>
  </property>
</Properties>
</file>