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E499-0C1A-48F9-8AED-8BB534FCA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4AA8-82CE-430D-9C6A-81A44680C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a | Inflation-Adjusted Per Capita Expenditures, by Type (chained 2005 doll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340-72FD-434B-B7EF-F82D1998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CFF-3987-4910-8B15-61E12AC3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571-9F30-4EC8-8C76-5D92BD07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DEB-6B8E-4D01-98F9-AC2C18FF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0EFF-3101-419F-80D4-26289177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DE83-BC58-4761-8A55-5ACA7E43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0C86-E8CF-4AB0-88A5-3AC96D72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E268-DA30-4554-A605-F0CE1B33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4056-7793-4777-93E4-2A963C1B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44E7-54AD-44F0-835D-5F6C19A7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35D0-6884-410D-973A-CE69B24B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934-F181-4D9A-98BF-19426514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E307-82AA-435E-BBCD-61EFDA7F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09F7-1153-400E-BAB1-D2B34B9A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6A70-2C83-4034-98E4-4C639016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E04E-974B-43E7-8170-CB7E728B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66CD-9157-41DB-B288-B73420AB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EFF-EF2E-4CFC-8C8B-21991CD9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ACD-F49D-4281-8D76-FE5BE86D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F64-B225-4A06-A769-5A442A0E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C87-DDCB-4ACE-AAC8-D02413DD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65F-10A7-4455-A5FC-D14054B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3D9-B32F-433F-8911-F16BC37B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B8B-9A96-4EB6-8227-00B362E1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30FC-A2FA-4830-9343-3DC2F3FC3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7952-8B9E-446C-98CB-734C30949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4a | Despite rising health spending and taxes, non-health personal spending per capita more than tripled from 1929 t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a | Despite rising health spending and taxes, non-health personal spending per capita more than tripled from 1929 to 2009</dc:description>
  <dc:language>en-US</dc:language>
  <cp:lastModifiedBy>Jia Yao</cp:lastModifiedBy>
  <dcterms:modified xsi:type="dcterms:W3CDTF">2013-09-23T19:14:18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a | Despite rising health spending and taxes, non-health personal spending per capita more than tripled from 1929 to 2009</vt:lpwstr>
  </property>
</Properties>
</file>