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909-D98F-4F69-B37C-C540F74D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C290-8090-4FD1-9A0B-C2A6F7CF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4CF-BAF1-4EFD-BD5D-7140B37C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6E8-6C6A-441E-9DA4-904A02B6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4310-09A1-4E36-BC1D-95F6E24B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F0D-937B-4A5D-BBB0-FD6C9DD7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DABB-A92F-4197-8669-DC636CFC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59B-E68A-4803-9399-AAC51D10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79B-40FC-4083-AE9E-CB4ECF96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038-E60D-40F6-85DD-8C893B20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5F7-ECAF-4261-B45D-F7309DF0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887-1B4A-409A-94D7-998F5292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A42A-9787-40E3-8EDE-82CBA5FF8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3360" y="152280"/>
            <a:ext cx="90172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7Z</dcterms:modified>
  <cp:revision>45</cp:revision>
  <dc:subject/>
  <dc:title>PowerPoint Presentation</dc:title>
</cp:coreProperties>
</file>