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7767-C115-4274-A911-6DA024AD8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5a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Low, Median and High Estimates, 2000-20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61BE-7C2B-49A6-BC81-3587C797A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44F-3CB7-4FAD-A50F-8A49045B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93A-F93A-44D0-85BF-47B22665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A24-FAC8-401C-9B46-4D3717BF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D74-C329-472E-8C09-A9998F06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454-87AA-4737-9270-6F07FD19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129-F19E-48B5-9098-14FFDB04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949-BEE0-4CD4-AB56-172B3FFD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5EE-04DD-498F-B62B-C10D6068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1EC-4117-4C09-856E-9C4D7D5F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0B2-0A04-4AA4-8E1B-C76F6C12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72C-189F-4E9C-A597-6CBE329F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757-2768-4B70-9567-582996CD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F387-FFC4-4EBE-BA1B-60BD14CFB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5a | There is a huge amount of uncertainty in 75-year forecasts of Medicare or other health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7840" y="5786280"/>
            <a:ext cx="85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Lee, Ronald and Timothy Miller. An Approach to Forecasting Health Expenditure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pplication to the U.S. Medicare System. Health Services Research, Volume 37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5, October 20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21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74920" y="4429080"/>
            <a:ext cx="79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low and high estimates encompass a 95 percent probability interval. Giv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ertainty in future population, future health status, and growth in health-status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ed per-beneficiary spending, the actual level of future spending is expected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within this interval 95 percent of the t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a | There is a huge amount of uncertainty in 75-year forecasts of Medicare or other health spending</dc:description>
  <dc:language>en-US</dc:language>
  <cp:lastModifiedBy>Jia Yao</cp:lastModifiedBy>
  <dcterms:modified xsi:type="dcterms:W3CDTF">2013-09-23T19:14:2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a | There is a huge amount of uncertainty in 75-year forecasts of Medicare or other health spending</vt:lpwstr>
  </property>
</Properties>
</file>