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7460-8038-4A53-86AB-3A0F29473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26CE-1981-473E-B18C-719B8BBEDF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9b | Government Health Spending (all levels) as Percentage of GDP, 2002 and 20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ahoma"/>
              </a:rPr>
              <a:t>Source: Kotlikoff and Hagist, Who’s Going Broke? Comparing Healthcare Costs in Ten OECD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ahoma"/>
              </a:rPr>
              <a:t>NBER Working Paper 1183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11D7-ABC6-41F7-84D9-064A5A86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2F84-C0FA-400A-AF50-D3007497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5573-DAE0-467A-955F-54406C60E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3099-3A91-4657-8919-8A4F93E1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15E7-26C2-4E7D-986B-71745C050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AC38-0F41-4579-9CC5-A4E3F774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F3A2-A06D-4470-AF89-448FDD6E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79A4-7A03-4123-B73E-31D5CC9C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C8C6-BD04-4F05-9E5A-6F173451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697B-7DA3-418E-98FA-00671623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6497-B178-4D64-A682-24571578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0FB3-D7ED-411A-B4F1-CB856147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F34D-87D3-4956-8D58-28CB1E1F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19A4-9662-4C0D-903E-F9D60F30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2A28-E2BD-4B51-A457-83EA7618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5FC1-EA2F-4CD2-AD4B-0631A573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C4DE-FD28-490D-943E-CF9FDD7C0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8FDD-1C76-4552-99B6-4A71EB03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28BB-ECDD-4F05-BAE9-44440FA9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3D52-2E1D-4729-BDCE-D270D498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5EBE-C79A-4373-AFF1-4CC5BAE9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134D-EE55-4DBA-AAC2-2A8D4789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BB09-4504-4F48-AE33-B1AED2CC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A09F-C019-42B8-B0EA-9AE0FE52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519A-FD72-4B92-B0D0-BF3209C4CE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FE05-79A4-4725-BEDB-1BF6D88FE0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380880" y="1397160"/>
            <a:ext cx="8377200" cy="49273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447840" y="5715000"/>
            <a:ext cx="869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igures calculated assuming age-adjusted health benefit rates grow at historic rates for 60 yea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9b | But rapid growth in government-paid health care threatens to eradicate this margin of advan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2286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76720" y="6095880"/>
            <a:ext cx="79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gist C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L Kotlikoff. Who’s Going Broke? Comparing Healthcare Costs 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n OECD Countrie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BER Working Pap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. 11833. December 200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2209680" y="5334120"/>
            <a:ext cx="5486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overnment health spending (all levels) as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9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9b | But rapid growth in government-paid health care threatens to eradicate this margin of advantage</dc:description>
  <dc:language>en-US</dc:language>
  <cp:lastModifiedBy>Jia Yao</cp:lastModifiedBy>
  <dcterms:modified xsi:type="dcterms:W3CDTF">2013-09-23T19:14:4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9b | But rapid growth in government-paid health care threatens to eradicate this margin of advantage</vt:lpwstr>
  </property>
</Properties>
</file>