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FA37-F5AC-42C5-AC8D-B875C6AA6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E74D-F22E-429F-B4DC-D1EA307E1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9a | General Government Expenditures as a Percentage of GDP, 1993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E55-34D3-4B84-ACB2-3BB9825F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7DC-53E9-4749-8BFC-95EA7D50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C38-9735-487A-947F-EB5F64DA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F4B-5AAA-4ADE-A392-3D36D85A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E4A1-0895-4410-9ECE-53A46017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E414-9CA0-4132-B0DA-EC3A8B69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5B93-DC44-4443-8AE2-A0BB3E72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EA32-C6D9-46BC-8F0D-D0754FBE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14D1-19BE-447E-ABE3-5B37C264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7DBA-9B23-4264-8CF3-97E8C189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8D68-68F3-4939-8F1C-8835149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BC7-8A70-438B-A315-05838ACA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4D77-7465-4173-885C-513E9B97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EAB1-061C-43C7-9925-F226B09F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CC08-82F1-400E-94DB-EDF9E31C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4FF0-1829-4DAC-9429-9ECA1DB8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6718-F2BE-4507-A7C2-653E885C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072-36EC-4403-BFC1-F499EF61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103-58C0-4FC4-9B93-549EB936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EF6-DC25-45E4-A666-BFC79C91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5B0-26B1-42E0-B01E-B429D503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375-7947-4674-8C9C-8EB73BB5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871-CE29-495D-8CAC-3188C5A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52B-18E5-4AA3-8AF2-BEDD6D53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ED6C-DF10-434E-87AC-B4CFAA089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3238-A25E-4976-90A0-4DE60888F5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a | U.S. has a lower burden of government relative to its major G7 competi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380880" y="1924200"/>
            <a:ext cx="8377200" cy="4933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209680" y="57913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eneral government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a | U.S. has a lower burden of government relative to its major G7 competitors </dc:description>
  <dc:language>en-US</dc:language>
  <cp:lastModifiedBy>Jia Yao</cp:lastModifiedBy>
  <dcterms:modified xsi:type="dcterms:W3CDTF">2013-09-23T19:14:4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a | U.S. has a lower burden of government relative to its major G7 competitors </vt:lpwstr>
  </property>
</Properties>
</file>