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4A70E-8E36-4E94-817B-76173018F8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20.6A | UNFUNDED LIABILITIES DUE TO MEDICARE AND SOCIAL SECURIT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6C00B-FACA-4564-8D4D-ECFEC14944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9451-0ED8-47E3-832A-E7C1F46F1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0C3B-752B-4DC1-A4B8-AB6289E16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A443-D173-49EC-8452-7ECC77868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B496-9EB6-4360-8058-FF5C38678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81AD-3026-4228-80C2-5B80BA877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A839-94CA-4025-8581-055A464FF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6D98-2669-4484-92F6-CDBA63D45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24FC-2302-4371-AE98-895D774C3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45FD-F42B-4E6A-B3A5-7410C5365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68E0-DB47-49D2-A535-26AA526A0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FF7F-EB28-43A5-A442-047921873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BF14-8E12-4E05-AF1A-AA7E414AE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1C4DA-9363-4315-8F69-3D4F0B3E22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20.6a | Even assuming the health law works as intended, unfunded liabilities for entitlements will exceed $80 trillion over the long ru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244520"/>
            <a:ext cx="8483400" cy="5130720"/>
          </a:xfrm>
          <a:prstGeom prst="rect">
            <a:avLst/>
          </a:prstGeom>
          <a:ln w="0">
            <a:noFill/>
          </a:ln>
        </p:spPr>
      </p:pic>
      <p:sp>
        <p:nvSpPr>
          <p:cNvPr id="50" name="TextBox 1"/>
          <p:cNvSpPr/>
          <p:nvPr/>
        </p:nvSpPr>
        <p:spPr>
          <a:xfrm>
            <a:off x="533520" y="1447920"/>
            <a:ext cx="16002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et present value of unfunded liabilities (trillions of 2009 dollar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1"/>
          <p:cNvSpPr/>
          <p:nvPr/>
        </p:nvSpPr>
        <p:spPr>
          <a:xfrm>
            <a:off x="533520" y="5295960"/>
            <a:ext cx="80769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ote: for Medicare Part B, Medicare Part D and Medicaid, unfunded liabilities are calculat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ssuming the 2010 share of GDP represents current willingness to pay for these programs. An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crease in spending above this share is calculated as an unfunded liability for which high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taxes must be paid eventually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5:46:42Z</dcterms:created>
  <dc:creator>Kristy</dc:creator>
  <dc:description>20.6b | Even assuming the health law works as intended, unfunded liabilities for entitlements will exceed $80 trillion over the long run</dc:description>
  <dc:language>en-US</dc:language>
  <cp:lastModifiedBy>Jia Yao</cp:lastModifiedBy>
  <dcterms:modified xsi:type="dcterms:W3CDTF">2013-09-23T19:14:26Z</dcterms:modified>
  <cp:revision>64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20.6b | Even assuming the health law works as intended, unfunded liabilities for entitlements will exceed $80 trillion over the long run</vt:lpwstr>
  </property>
</Properties>
</file>