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1AC-10DF-4E85-8F58-D37275CE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633-58E8-43DB-BFA8-674788E9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526-B4A4-4DC6-9C6D-2B2DD5EF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94D-E5BE-49FB-B9B0-A0012212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376-0C87-43F9-9393-075501B1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E04-05E9-4AE3-824D-C5B03732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89D-12FA-49DA-904D-A96F68D9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F7D-DA31-4599-8FB7-5BDC9310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9CA-CA43-4A3C-903F-A20116A4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68C-A246-434D-BB19-34811063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25D-909C-4A00-9F38-F8044072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E73-F480-448C-ADCB-0D864947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47A5-4E9F-423D-AE5C-5CA9C351F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2120"/>
            <a:ext cx="913608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3Z</dcterms:modified>
  <cp:revision>39</cp:revision>
  <dc:subject/>
  <dc:title>PowerPoint Presentation</dc:title>
</cp:coreProperties>
</file>