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DAD9-4095-4718-A44D-87CC2FA5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88A7-81CB-41CC-82CE-89A3DA15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92E-BE62-4A85-9B0D-E0C36184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758-1F2B-4495-A664-8499F6D5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3040-8B38-4293-BA81-1F0F94E9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3C23-0E07-453E-8EF8-6375027F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339-4854-425B-ABCF-C79D779A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A57-6FE1-4BC6-9326-7B3F64BD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1CF6-D1D4-455D-9B09-939A64BE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D8D-04E5-4F39-BB65-BD3AD407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69D1-E9DF-4B49-B6B2-95237127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BB8-D841-4240-A91A-D870E5F9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63C6-9AE9-47CB-8126-B692474D1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5480" y="0"/>
            <a:ext cx="461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8Z</dcterms:modified>
  <cp:revision>38</cp:revision>
  <dc:subject/>
  <dc:title>PowerPoint Presentation</dc:title>
</cp:coreProperties>
</file>