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7714-172F-4149-9B2C-C7DEC2C3B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8185-FEB6-4196-9B2D-30C8BFDDD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20.1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EEF-713A-4F79-999E-F4B79BE8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F4C-4151-4F8B-B6E3-71F76A69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582-3F7A-4FBD-A935-DCE62DB5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A8A-6D22-4E6B-99B5-2B374997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2B48-8809-4107-972F-0297AC87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A608-7B51-400D-BF70-43A16C0F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E56D-2B17-42BE-B6C4-5C6CA3B2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CF2F-AD02-44BE-A467-3E61A51C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9EBE-E4F7-40D6-8CFF-EE55DB6D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9472-1B4F-4FCF-8852-3803BD18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EB87-86E2-49F7-ACDC-E354147D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01F-2786-49F8-9102-CCE4A59A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7DEC-63CA-41A3-B498-25C4727C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3F81-C12A-4755-BE9A-59D6252F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A92E-0EC1-417A-A537-735658A6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A972-AFCD-4C07-95C6-1A4E3650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737B-0BD6-4212-BF3A-D98F26BB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EAE-86D6-46D0-BB6B-A92C9DC2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CFD-97D0-4633-9C6D-ADBE9BF5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0CF-A391-4886-896D-5C1C0A6B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332-CDA9-4EF1-8787-27EE2E79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82E-1132-4131-82CD-82AB565F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CEB-BC4E-453C-9551-87E8F064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122-D69A-4F1D-B10B-D094E64E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3EF7-77D9-4A8F-A798-66DE39CC40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3CB0-4CB7-4B1B-B927-5252CEB1F1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1 | At historical growth rates, the amount of health-related benefits per dollar of wages and salaries will quadruple over the next 75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1 | At historical growth rates, the amount of health-related benefits per dollar of wages and salaries will quadruple over the next 75 years</dc:description>
  <dc:language>en-US</dc:language>
  <cp:lastModifiedBy>Jia Yao</cp:lastModifiedBy>
  <dcterms:modified xsi:type="dcterms:W3CDTF">2013-09-23T19:14:0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1 | At historical growth rates, the amount of health-related benefits per dollar of wages and salaries will quadruple over the next 75 years</vt:lpwstr>
  </property>
</Properties>
</file>