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C88A-3ABD-4F78-8D3D-D44F6FEBE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B | PER CAPITA SPENDING ON NONHEALTH GOODS AND SERVICES, ASSUMING "MODEST" ALTERNATIVE EXCESS COST GROWTH RATES IN REAL NHE PER CAPITA, 2009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6D3C-FBE9-4E4D-B2A6-358EF1BA6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9B8-EE07-4266-B4CD-7780549B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3AB-FBA1-49E1-A634-D92A1891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1F0-32B2-4189-8B89-8536931F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5D3-2A2D-4880-90CF-E856CD09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31C-F265-4C32-9086-18144A52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6A3-74FA-4324-9DCB-2024321A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CBE-E00E-49FE-91D1-190038D2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A3B-59F6-42ED-934E-0B8E99D1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FA9-22E4-4F81-854D-5ED0F5C6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777-C531-4C3C-8B45-DBF89D41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001-5934-4250-9ADD-CF7E94D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CCB-366C-456D-BC3A-A6BA05F3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AAB5-B43E-46B1-8927-F4307C5BE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4b | Non-health GDP per person could decline within 5 decades if excess cost growth continues at historical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n-health GDP per capita (2010 dollars using adjusted CP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905120" y="3200400"/>
            <a:ext cx="4267080" cy="4572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irst year non-health GDP per capita dec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V="1">
            <a:off x="4267080" y="2742840"/>
            <a:ext cx="53424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8"/>
          <p:cNvCxnSpPr/>
          <p:nvPr/>
        </p:nvCxnSpPr>
        <p:spPr>
          <a:xfrm flipV="1">
            <a:off x="4799520" y="2590200"/>
            <a:ext cx="229320" cy="61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0"/>
          <p:cNvCxnSpPr/>
          <p:nvPr/>
        </p:nvCxnSpPr>
        <p:spPr>
          <a:xfrm flipV="1">
            <a:off x="5105520" y="2209320"/>
            <a:ext cx="121968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b | Non-health GDP per person could decline within 5 decades if excess cost growth continues at historical levels</dc:description>
  <dc:language>en-US</dc:language>
  <cp:lastModifiedBy>Jia Yao</cp:lastModifiedBy>
  <dcterms:modified xsi:type="dcterms:W3CDTF">2013-09-23T19:14:2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b | Non-health GDP per person could decline within 5 decades if excess cost growth continues at historical levels</vt:lpwstr>
  </property>
</Properties>
</file>