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3D8-91ED-4E96-BE0B-DE2959FA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CBD-719D-4FD9-B7C9-7546131A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95D-B003-4839-A017-DE735974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707-0B10-44EC-8E38-6AD08853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A2C-32D1-4888-B398-A254861B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8D8-578C-439B-8E62-EDD6B29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CF1-1574-41ED-8022-ACEC715A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C45-5CF8-428F-ACC0-C813BAF6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E5F-CD62-41DE-B179-91873AB4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10C-B78A-4E5C-B77D-C9B1F1BA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A05-3C0C-461C-94DA-F11DA021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1E7-EEB4-4337-A282-1B013483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97BA-DC16-49C2-9B4C-13912EA45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9031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9Z</dcterms:modified>
  <cp:revision>39</cp:revision>
  <dc:subject/>
  <dc:title>PowerPoint Presentation</dc:title>
</cp:coreProperties>
</file>