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BD7C-B64D-4464-AAB2-C197BA7D6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A | AGE DEPENDENCY RATIO IN G7 COUNTRIES, 1960, 1984 AND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238A-63D6-4833-9553-2926857AD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1D0-C3BD-4F88-8A7C-D8AF3ADE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7D4-3D30-43D6-86D4-80E50F67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F71-BE75-40F1-B096-32CA4B5B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5B3-CB6D-4B5D-824D-E05D1069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83E-4022-412B-A5EB-4393DCB6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7A0-31A4-4A20-8AD9-6B00567F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903-FA41-45FA-A73C-46CFF6B4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36C-8669-422D-A4D4-258A9A7F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344-F19B-48A6-805F-798636C7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EFB-AE32-45FB-A2D2-F286C3D9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041-AFA2-4B5F-8466-992C291C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F18-FD57-4730-8238-91B77A89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A4E3-E3A2-4D2A-9812-ABBBE408C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a Over the past half century, the elderly dependency ratio in the U.S. has risen, but is lower than ratios in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derly persons (age 65 and older) per 100 persons age 15-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a Over the past half century, the elderly dependency ratio in the U.S. has risen, but is lower than ratios in other industrialized nations</dc:description>
  <dc:language>en-US</dc:language>
  <cp:lastModifiedBy>Jia Yao</cp:lastModifiedBy>
  <dcterms:modified xsi:type="dcterms:W3CDTF">2013-09-23T19:14:3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a Over the past half century, the elderly dependency ratio in the U.S. has risen, but is lower than ratios in other industrialized nations</vt:lpwstr>
  </property>
</Properties>
</file>