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9D336-63B9-4559-BE5C-17A097C9F2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0.8C | RATIO OF ELDERLY PER CAPITA HEALTH SPENDING TO AVERAGE ANNUAL EARNINGS OF PRODUCTION WORKERS IN SELECTED INDUSTRIALIZED COUNTRIES, 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14B89-3654-4DD7-BE11-44E450A773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9D83-7FB3-440D-815A-544A77A97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383A-70C8-45E9-A375-19541B9D7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7BFE-7688-4713-8002-172184FD2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21E2-DFCE-4E1D-B9B4-4F3A7F921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582C-8A1D-4C3A-8BF3-E3669504E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4CFA-F4F1-415F-87E0-6FEC4AD3A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31AE-1DC6-443B-BF4A-2BB61426E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B8DA-1F56-4D74-A2FD-CE008D9BB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1862-DB61-4CFE-8A7F-A3D89B0D4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6063-6415-4ED5-B93C-09F259860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94B5-D522-4266-9683-D37DDB59E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2692-C917-46EC-8A9A-A72E4B5CB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957AC-7B68-45B3-9B10-60FC47ECEA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8c | Relative to competitors, U.S. health spending per elderly person is a much higher share of average manufacturing compens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8258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447840" y="1643040"/>
            <a:ext cx="839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Elderly health spending as a percentage of average annual compensation in manufacturing (2007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8c | Relative to competitors, U.S. health spending per elderly person is a much higher share of average manufacturing compensation</dc:description>
  <dc:language>en-US</dc:language>
  <cp:lastModifiedBy>Jia Yao</cp:lastModifiedBy>
  <dcterms:modified xsi:type="dcterms:W3CDTF">2013-09-23T19:14:39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8c | Relative to competitors, U.S. health spending per elderly person is a much higher share of average manufacturing compensation</vt:lpwstr>
  </property>
</Properties>
</file>