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8902-0B3B-4DE5-B90A-284034DAF0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5c | If 1 percent excess growth persists, almost 90 percent of GDP increases  will be devoted to health care by 20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F6C0-F3F3-43EC-9E91-5F1DB461F7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E686-95BB-4363-B65C-A0269396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9A6E-70EB-4C0F-99F9-51D6E5DD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11CA-97F3-44AA-8E7A-4BA2C2F44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9EC2-397F-41C2-B14C-1FC5B8D29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C5E3-A87A-46A3-9BE2-77DF664E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B01F-EAD0-49D8-9998-6D734B95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EE0B-DB26-4D03-8EED-028DC1CC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5D0B-37BC-4747-A8FA-23723ADF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7462-3F71-45D3-B25C-EDD158B5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FBA6-3768-4D8E-AD7B-7DEA3A07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A1A6-0153-46AA-BC82-04483AF0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3962-903B-4732-AAC5-E666B84D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6711-E62A-4F12-97D2-1640686CF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5c | If 1 percent excess growth persists, almost 90 percent of GDP increases  will be devoted to health care by 208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15920"/>
            <a:ext cx="8331120" cy="5054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9528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are of increase in inflation-adjusted GDP per capita devoted to health c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5T19:35:40Z</dcterms:created>
  <dc:creator>Jia Yao</dc:creator>
  <dc:description/>
  <dc:language>en-US</dc:language>
  <cp:lastModifiedBy>Jia Yao</cp:lastModifiedBy>
  <dcterms:modified xsi:type="dcterms:W3CDTF">2013-09-25T19:36:19Z</dcterms:modified>
  <cp:revision>1</cp:revision>
  <dc:subject/>
  <dc:title>20.5c | If 1 percent excess growth persists, almost 90 percent of GDP increases  will be devoted to health care by 2085</dc:title>
</cp:coreProperties>
</file>