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53B7-A916-4DB9-9265-1C33D8DC3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3C7A-15A5-4546-AF14-E5FA12FD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8990-36DA-4E1C-B7B2-20761C7B3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4D98-53A4-498C-8B78-D9DBEA1A7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AC36-2F62-4766-B414-CFF70FB5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BB28-E9FA-400A-8542-7DC78356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A202-4D0B-4820-BF5B-E3407415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73D6-8B1B-46BF-A877-15BBC715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3D98-9EA5-42EF-8667-3130FB7D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8DCF-50B8-4C6B-899E-E808AB86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446A-7B32-4202-8974-69A9F205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2785-3822-4D49-AD0D-CB0F0D55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71E0-751C-48A2-928A-4F8523ECEC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11240"/>
            <a:ext cx="9144000" cy="66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2Z</dcterms:modified>
  <cp:revision>45</cp:revision>
  <dc:subject/>
  <dc:title>PowerPoint Presentation</dc:title>
</cp:coreProperties>
</file>