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1B36-1EE4-4FC8-88C3-98C7A1D5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AA6-5FDF-480B-B56D-5BF5CE64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99A-AB6E-4B6A-BBF2-95C28688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FAC-E05F-4633-8574-D7F2C5A9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E1C-541E-4B74-84E4-046B7693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484-1731-471B-906A-40D1EA60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CC5-1C44-49BD-91A2-B2EE58E2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C1F-1C3F-42CD-9325-3E2620E4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4C5-99B1-4756-A3E5-EA60E883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971-EA78-46D3-937A-650C7CA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3FD-0BC0-444A-B33E-834C6CC3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C2C-1499-4FBA-B7EB-327DE19C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B2C6-6BCF-434D-8C63-1F7B1A305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1000" y="1066680"/>
            <a:ext cx="898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8Z</dcterms:modified>
  <cp:revision>40</cp:revision>
  <dc:subject/>
  <dc:title>PowerPoint Presentation</dc:title>
</cp:coreProperties>
</file>