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D4BF-218D-4CA1-A122-32E5C1129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7A56-C001-4EA1-9D0A-C6A106DF6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CA1-0CEA-462E-9A28-6791F6BF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D59-193C-40CA-AA7C-3FE8AAD0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DE2-D177-436E-A35B-35D4CA6D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546-B068-4608-A5D2-F938570C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F64C-DA80-4D49-86BF-D68ABC14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FDCB-61D0-489E-AA5C-03CBBA6D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D82D-EE99-407E-9673-056B5400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7F98-4997-407C-B0CA-47250D29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51B5-C3DB-4DE3-A7AB-A6BC3F82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D1C2-5E25-494F-9A09-3305A348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9DFF-88B8-4C08-B5C6-4ED851F0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E41-D4E7-49FB-90DC-82D61097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0191-5454-4AFC-9E19-985AA54A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ACA0-46F9-4BD0-A82F-370488F3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A82A-1347-4596-AD33-BFFBB8EB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CBB6-F268-4999-AB88-7F1CE8E0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701C-6E2D-447D-B3C6-911BDF74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162-B8E1-4CF4-818A-BF34738D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CFA-2AFB-47CC-9B3E-2F851E67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2A8-10CC-434C-ABFA-38666A48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24C-66E4-4DD2-84B0-4EC6D28E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42E-9076-4568-B7E4-E0E2E7E8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1D4-29C2-4EA5-848A-668AC6AC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5E9-C525-4BE3-9795-A9450232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0644-B500-4738-98F0-A75BE545CE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FC37-FFF3-4A26-AAB6-82DE4D32C0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25:08Z</dcterms:created>
  <dc:creator>Jia Yao</dc:creator>
  <dc:description/>
  <dc:language>en-US</dc:language>
  <cp:lastModifiedBy>Jia Yao</cp:lastModifiedBy>
  <dcterms:modified xsi:type="dcterms:W3CDTF">2013-09-03T18:50:13Z</dcterms:modified>
  <cp:revision>4</cp:revision>
  <dc:subject/>
  <dc:title>1.5b Since 1960, growth in inflation-adjusted health costs per U.S. resident fell below the rise in non-health costs per capita only 7 times</dc:title>
</cp:coreProperties>
</file>