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6CAB-6B6B-404E-B9CB-F8741651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5528-D25A-4B84-A967-E459AEE9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25FC-4EF9-4037-AC5F-BA470E1F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E564-65E9-4E1F-A957-A3B0EF04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1C5B-1374-407D-9065-1B5DDBDD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445E-E7FD-475D-884A-4BFE78B3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D30A-5075-41F9-BDE2-6135737A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09A0-2AD1-41F2-ACA0-84EDCF71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ED66-A354-40E3-B49C-287A0281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D4C5-5404-490D-85FE-CB60DEFE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0A17-0C78-43F1-B20B-A9429CAC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34C8-4D3A-48D3-B64E-292AE3B3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69EB-15B7-4BDC-A76C-33EE9392D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240" y="228600"/>
            <a:ext cx="903744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6:54Z</dcterms:modified>
  <cp:revision>4</cp:revision>
  <dc:subject/>
  <dc:title>1.1a | In constant dollars, national health spending increased more than 60-fold over the past 8 decades, real GDP grew far less in this period</dc:title>
</cp:coreProperties>
</file>