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BCA5-CDFB-41F1-97FC-6809ED92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AC3D-EDF4-48DA-A742-A6BBF80A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C552-F206-4624-907C-A287F998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B3DA-BA8D-4BEC-832B-85BE9E25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0426-D5B8-4CCB-ABDE-68C98E02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F84F-2C5A-49BB-A260-D9D6A7BD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1D5D-314D-493B-A27E-3FE20B5B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3292-44C4-4ED3-AF70-286662C7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CA7C-ABA2-4228-AA2D-FD6B4D12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625F-0E0A-4484-995C-6F35C4EB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D94F-50AA-405F-9F6D-6A65F3DF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A829-E40C-43EF-9D64-1E55EB53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8F44-C780-4F71-B6A5-3F8E2193E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0200"/>
            <a:ext cx="914400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7:42Z</dcterms:modified>
  <cp:revision>5</cp:revision>
  <dc:subject/>
  <dc:title>1.1a | In constant dollars, national health spending increased more than 60-fold over the past 8 decades, real GDP grew far less in this period</dc:title>
</cp:coreProperties>
</file>