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07886-E9F5-4C30-85FD-F236657813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B8303-4769-4EC4-9C2A-DFABD2A809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f7f7f"/>
                </a:solidFill>
                <a:latin typeface="Arial Narrow"/>
              </a:rPr>
              <a:t>1.1a | TOTAL REAL NATIONAL HEALTH EXPENDITURES OF THE UNITED STATES, 1929-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9CE0C-F057-4685-9660-F2F002F16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510BE-74C4-4CC4-AED9-037D8F657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97FA8-92B4-409B-94EB-7C03A0082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54EFD-2EC6-4D9E-86AF-018325D4E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287DE-2694-4B6F-A462-B1C741873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614BF-2451-47EF-B34B-432E15462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CCD6D-9D8F-41AC-BB67-B2352A457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08D57-BDFA-456C-A664-8BD244208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4A096-790B-45F5-8772-EFC4A0C63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BACB4-2584-4530-829E-1015A6206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FB23E-AA1C-4F8A-AE9E-DE50EB205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56D60-3D65-4CD5-95BD-3A3B17B8D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25504-5CCC-4FE7-928C-F730AD2E6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D02A8-1374-4B89-9CC0-E6AA53BB4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91F5D-8B17-458B-82F8-CB08A0EC8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64112-52FF-4E01-B63E-85627FAAE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E952C-77E3-4471-AE97-000EA2A9F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F175E-F7D9-444B-B9D6-ED80E62F7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D5F71-3C40-4EDE-9BFE-616C5B233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128ED-0713-4FC1-B8AB-085043CEA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5348D-D0C6-4A95-BCEC-B8B23894E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F32FA-1DB3-4C22-A417-C0194BCFD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90E94-A2DA-48BA-9F14-0ED461F84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1F267-9175-473E-9D7C-021FA066A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C3C24-9AD3-4A4D-B8B0-4C213725921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429F6-F0B2-458B-BDAC-DF4BC8BD3A7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Object 3" descr=""/>
          <p:cNvPicPr/>
          <p:nvPr/>
        </p:nvPicPr>
        <p:blipFill>
          <a:blip r:embed="rId1"/>
          <a:stretch/>
        </p:blipFill>
        <p:spPr>
          <a:xfrm>
            <a:off x="-50760" y="787320"/>
            <a:ext cx="9198000" cy="61214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8390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7f7f"/>
                </a:solidFill>
                <a:latin typeface="Arial Narrow"/>
              </a:rPr>
              <a:t>1.1a | In constant dollars, national health spending increased more than 60-fold over the past 8 decades, real GDP grew far less in this perio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3"/>
          <p:cNvSpPr/>
          <p:nvPr/>
        </p:nvSpPr>
        <p:spPr>
          <a:xfrm rot="16200000">
            <a:off x="-2305440" y="37324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03T15:05:56Z</dcterms:created>
  <dc:creator>Jia Yao</dc:creator>
  <dc:description/>
  <dc:language>en-US</dc:language>
  <cp:lastModifiedBy>Jia Yao</cp:lastModifiedBy>
  <dcterms:modified xsi:type="dcterms:W3CDTF">2013-09-03T18:50:56Z</dcterms:modified>
  <cp:revision>1</cp:revision>
  <dc:subject/>
  <dc:title>1.1a | In constant dollars, national health spending increased more than 60-fold over the past 8 decades, real GDP grew far less in this period</dc:title>
</cp:coreProperties>
</file>