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AF97A-1D1C-498A-AA9D-9E31EC377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B85C5-288D-46FA-BF56-320260EF3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F9555-30A2-4FC6-827D-F0D639972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803D2-D939-4700-AD8A-E4A8D0C0E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1C780-C1DA-45B5-95F3-8F6843C7E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EFBB6-FFA0-4CF4-A1D1-65E685A85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F7376-C6CC-4BBC-B613-48D727E79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C4F7A-588F-4FBD-8D6A-0C422ABDB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D0E1C-B098-4363-8F94-4552C7D2C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BD135-9463-49F8-AAE9-6F313B4B2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31EB7-70CD-4A08-8F44-63B29AA76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DF95B-8AEC-4C15-8459-4F6D306FD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DAB33-EA77-4FA6-B1F8-5E29AF40A2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160200"/>
            <a:ext cx="9144000" cy="653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4T18:58:10Z</dcterms:created>
  <dc:creator>7Copy</dc:creator>
  <dc:description/>
  <dc:language>en-US</dc:language>
  <cp:lastModifiedBy>Jia Yao</cp:lastModifiedBy>
  <dcterms:modified xsi:type="dcterms:W3CDTF">2013-09-03T18:47:42Z</dcterms:modified>
  <cp:revision>5</cp:revision>
  <dc:subject/>
  <dc:title>1.1a | In constant dollars, national health spending increased more than 60-fold over the past 8 decades, real GDP grew far less in this period</dc:title>
</cp:coreProperties>
</file>