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68B3-60EF-48B8-9AC2-800401E09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E86C-867E-479C-A733-81B198E5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D437-6991-4441-A6DA-2E7185E2A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0595-E23A-457F-B9E0-6EDA87C82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B72C-113D-478A-9564-F189ABF4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03A3-F119-4745-BEF2-3230314B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2FAE-34DB-45B4-9577-D321D992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FE5D-E7BA-4687-9ABB-43A331E9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9092-2BB7-4A9D-8BE2-979A0D6B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BA51-6CC3-42E9-BE29-36B1E720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883C-6260-4575-9B02-9E962F10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159A-DCEE-498A-B196-02180185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DBE3-E187-4517-8281-4BF1E7F7B8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0240" y="228600"/>
            <a:ext cx="903744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8:58:10Z</dcterms:created>
  <dc:creator>7Copy</dc:creator>
  <dc:description/>
  <dc:language>en-US</dc:language>
  <cp:lastModifiedBy>Jia Yao</cp:lastModifiedBy>
  <dcterms:modified xsi:type="dcterms:W3CDTF">2013-09-03T18:46:54Z</dcterms:modified>
  <cp:revision>4</cp:revision>
  <dc:subject/>
  <dc:title>1.1a | In constant dollars, national health spending increased more than 60-fold over the past 8 decades, real GDP grew far less in this period</dc:title>
</cp:coreProperties>
</file>