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9CB2-F568-4A8B-8369-D6B2F8799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251B-ABEA-43E6-AED2-AD62C42E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D302-81E2-45A3-8591-00F0EEA5F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E7E0-04F8-4BF1-A5FA-B55F53BAF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2C7F-0DCB-4E81-BADA-4C7CE05D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95F0-EA32-4611-A046-B9762B1F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5AA3-00F1-460E-A70A-6AC93B33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B3A6-6708-4F61-8531-BB5C39A9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8ACB-F386-4FDB-BD4F-A1F3F20C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ACB3-BB12-4D9E-94BE-F3819B27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C98F-16CD-40CF-AF42-31357F14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EA5A-5E88-46CC-A2AD-2D24B12C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E472-7A2E-483E-B85D-BCF5A40A20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0240" y="228600"/>
            <a:ext cx="903744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8:58:10Z</dcterms:created>
  <dc:creator>7Copy</dc:creator>
  <dc:description/>
  <dc:language>en-US</dc:language>
  <cp:lastModifiedBy>Jia Yao</cp:lastModifiedBy>
  <dcterms:modified xsi:type="dcterms:W3CDTF">2013-09-03T18:46:54Z</dcterms:modified>
  <cp:revision>4</cp:revision>
  <dc:subject/>
  <dc:title>1.1a | In constant dollars, national health spending increased more than 60-fold over the past 8 decades, real GDP grew far less in this period</dc:title>
</cp:coreProperties>
</file>