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BB78-D63D-4030-8E4C-43C11B91D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397B-2E54-458A-A2EC-7234703DC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b | REAL NATIONAL HEALTH EXPENDITURES PER CAPITA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AF8-C9B4-4133-863E-FF8ED08B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B074-C2A6-4E43-B4D0-E3C3951B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50F-10AC-406E-A1CB-9C5FA036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61FC-F44C-4456-8624-CB74E7C0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DE2E-AE00-4338-8843-05D283A6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6939-DF8C-4852-BF53-5F3157A0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4F45-BFC6-4C0D-B928-B3FB56F6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40E7-9E4E-4F87-95AC-21C47D21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F360-0541-4FA2-82D6-C5054F28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C86F-F11C-4977-B962-BCBC6E5E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BE37-A141-48C2-B03C-7AA2B072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87F-5E29-4A49-84A7-0BEDF620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1FF8-C790-4949-A4A8-FEE58906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1BC7-3056-4296-BF16-00DA34CC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4401-F37E-476C-8821-52197EC6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586F-0477-4F55-8718-9F1FCC11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81F7-694B-4AE5-AD11-26EF30EB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220-F8C0-4B5E-8117-5C9A69F2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FA1-9398-4AB7-8FB5-F10D52B1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16E-8995-41FD-89E4-CA08346F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55FB-5E71-41DB-B003-0759D613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B0FC-D524-4DD3-971F-FFDC1202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B041-06D3-4052-9A29-84C8B6B6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0C7-7819-44EF-A824-71D6C77E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608B-B522-486A-B089-0F451B254A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F3AB-5A56-45F7-8F44-0CCF1EFA4A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b | Even in per capita terms, real health spending grew about 25-fold in just 80 years, while GDP per capita quint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25:08Z</dcterms:created>
  <dc:creator>Jia Yao</dc:creator>
  <dc:description/>
  <dc:language>en-US</dc:language>
  <cp:lastModifiedBy>Jia Yao</cp:lastModifiedBy>
  <dcterms:modified xsi:type="dcterms:W3CDTF">2013-09-03T18:50:13Z</dcterms:modified>
  <cp:revision>4</cp:revision>
  <dc:subject/>
  <dc:title>1.5b Since 1960, growth in inflation-adjusted health costs per U.S. resident fell below the rise in non-health costs per capita only 7 times</dc:title>
</cp:coreProperties>
</file>