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24304-1B41-4627-B656-249C341A9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07F0A-2F94-4395-ABE0-B81A77A0D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78852-E3E0-43DA-AA78-DD04BCA38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B2A4C-4C40-48E2-A983-BFE383DAB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89D47-A615-4830-AFB7-84488318F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C4CE0-2327-4218-AF08-D36D6677C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C6CB5-BE1D-46F2-BED9-2B3E75584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98965-7FB4-43F1-A2E7-972853BAA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78C7C-8DDA-4A63-856E-36E8F8D81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CD251-1851-4F42-BD23-56E8D44D2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EAEEF-A161-4C8C-A0FD-84DAA7548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B95AA-AF2A-4E85-9D3E-47C024D60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ADEFB-9D1B-49E0-941E-8FF163BEF0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30240" y="228600"/>
            <a:ext cx="9037440" cy="63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4T18:58:10Z</dcterms:created>
  <dc:creator>7Copy</dc:creator>
  <dc:description/>
  <dc:language>en-US</dc:language>
  <cp:lastModifiedBy>Jia Yao</cp:lastModifiedBy>
  <dcterms:modified xsi:type="dcterms:W3CDTF">2013-09-03T18:46:54Z</dcterms:modified>
  <cp:revision>4</cp:revision>
  <dc:subject/>
  <dc:title>1.1a | In constant dollars, national health spending increased more than 60-fold over the past 8 decades, real GDP grew far less in this period</dc:title>
</cp:coreProperties>
</file>