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DEBA-4042-496D-8650-69D0E3A24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A08D-C263-4771-90DB-A3D75FA521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b | REAL NATIONAL HEALTH EXPENDITURES PER CAPITA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7291-4097-4671-B3BF-1B1F3F60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544D-3D73-4C75-AD50-0DBB532D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3738-7788-4C36-A9A8-AE528880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5193-7A57-4E6B-93E2-A603B106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20F9-1CF9-41C9-9534-9CC91C6E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3867-F96F-4DBD-AC7B-CA23647B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B1CE-DB61-4191-837A-825F4085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41B7-068A-4F20-A5AA-E0E01982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913A-1610-471D-BFD4-FAFBCFFC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F57F-3DE7-4F06-B119-302D1730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F9B8-DEA8-465F-A80E-657790BE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D6A3-9421-4289-B1D5-14E1C620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4C5F-431C-4E01-B8C2-E24A80A6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2E1F-83DC-42A3-A6A4-F8FECFAB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D712-4565-4905-A1D7-667F5709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7BC6-1712-4B03-9925-0D938927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CE53-C044-4975-96C2-1B2EF6DF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6D9E-D7E3-4B3D-901E-39B8DB71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F996-FA93-43EB-9917-7D6A8527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59A2-A56A-4064-8B19-B856BDA8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CD8D-2857-4638-AE22-F61F4346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AF23-2745-4EDB-8FF1-D7D00719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20F1-6AD7-4580-A056-7D30129C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9B53-4422-4C14-9D38-68C3405E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284F-600C-452E-8802-72272FB7DB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C186-7FD3-4504-B12F-107B07F4B6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b | Even in per capita terms, real health spending grew about 25-fold in just 80 years, while GDP per capita quintup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25:08Z</dcterms:created>
  <dc:creator>Jia Yao</dc:creator>
  <dc:description/>
  <dc:language>en-US</dc:language>
  <cp:lastModifiedBy>Jia Yao</cp:lastModifiedBy>
  <dcterms:modified xsi:type="dcterms:W3CDTF">2013-09-03T18:50:13Z</dcterms:modified>
  <cp:revision>4</cp:revision>
  <dc:subject/>
  <dc:title>1.5b Since 1960, growth in inflation-adjusted health costs per U.S. resident fell below the rise in non-health costs per capita only 7 times</dc:title>
</cp:coreProperties>
</file>