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B960-9072-4244-BC29-793CBCB1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07AD-F66B-4CC1-8A74-2C292B7B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B233-0F61-4140-85CD-DE055E31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80BC-8545-4D5E-AFE2-36342114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1DAB-2C78-455F-9ECA-3A541703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3E4F-69FB-40F0-BFC0-4ECC4E23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C523-D6FE-445A-B21D-257AED83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35BF-4457-4738-A1D5-D815C45D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E05A-A8D1-43F2-9C4D-E6CB8368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BEEC-026F-48EF-97F4-1A87106C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7ADC-61E8-41CB-A210-515091C5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C6EB-FCE4-4E20-9DD5-A325B6EF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84BB-007D-4B7C-8625-D0D13E42A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0200"/>
            <a:ext cx="914400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7:42Z</dcterms:modified>
  <cp:revision>5</cp:revision>
  <dc:subject/>
  <dc:title>1.1a | In constant dollars, national health spending increased more than 60-fold over the past 8 decades, real GDP grew far less in this period</dc:title>
</cp:coreProperties>
</file>