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B4E8-6883-4F60-88A9-E734F15B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9F43-F31E-461E-8815-77CFF477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7B1F-414A-4589-B521-72688B04E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57E2-5D0D-45F3-8F65-EDE731B5B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0170-7805-4100-A40C-67C7813C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15E7-2EB1-435C-8A3B-057465EB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95BE-E049-48D1-87D2-F55B0936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160E-16AE-4B5F-9F93-FA8E22E8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ECE9-384E-42EF-9806-44BE11B6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E890-9196-4CCE-BF03-4EB696AB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0A91-5B6D-4909-9083-538D1F04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5FE6-C1D8-45F4-A8CB-CBE2B3FF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2B1A-E70F-4B5A-8D63-57121D6D53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60200"/>
            <a:ext cx="9144000" cy="653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8:58:10Z</dcterms:created>
  <dc:creator>7Copy</dc:creator>
  <dc:description/>
  <dc:language>en-US</dc:language>
  <cp:lastModifiedBy>Jia Yao</cp:lastModifiedBy>
  <dcterms:modified xsi:type="dcterms:W3CDTF">2013-09-03T18:47:42Z</dcterms:modified>
  <cp:revision>5</cp:revision>
  <dc:subject/>
  <dc:title>1.1a | In constant dollars, national health spending increased more than 60-fold over the past 8 decades, real GDP grew far less in this period</dc:title>
</cp:coreProperties>
</file>